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7D2-93CA-4EB9-BA89-DB98C1EB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B91-92A1-4C6D-A469-5041A2F5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5B1-FDE4-4F59-ACA7-81022CF7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DF6-00E9-44CF-A7C2-637A9A90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ACDF-218E-4D6A-8D42-FC26F394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7102-7347-4DF7-8FBB-3570BADB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2D8E-ACD6-49E3-B9CC-A7FBFCE4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A96B-B913-43C1-A7DD-753C559C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7572-A5F7-4E8A-AEA6-0C472D20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5E49-554B-4F4F-84A0-89D90D2C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D899-AAA7-4F2C-987F-3CAE60FF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935-BDAD-49D4-B94C-0645913E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0910-B8A7-4694-902B-BB2015C5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B0D3-6927-4391-B9E4-E024E01C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E00A-3F0C-4383-BC97-B0618DC7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EB5C-C335-4425-997A-A6A4A6CA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49C2-BE98-40B1-BB0D-415B0C49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D246A-DB35-4AE2-A6C8-AD2D676D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D622B-8FFA-4B2A-AD44-08832C94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37E72-45AF-46DE-B254-8A4F5BFC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DA3EA-8DD1-4071-A47B-1717BB86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E3DE4-1D33-4330-9B36-E54B1A40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D11-3828-4EA3-B6BE-07B663F2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6571A-59AD-4EE6-9ABD-1B3B537E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F0D1-7F1D-48B2-94D8-F9EB2914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2B638-072B-4B4F-A192-B3C7E4F2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F0B10-DEB9-4E7D-AF11-8D06650C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BBE2D-378C-4F8E-B6BD-5E92A87F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EA57B-04B3-483F-8AEE-087F8B1C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6A3C4-736B-40F9-9D62-AF53FA88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E81A8-0A67-4151-A715-6B9FDBDF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CAC6F-E04F-4F6A-A32B-441623C7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ECE78-007B-429B-ABBD-D07C91BF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838-9B01-40F8-9E09-3C6C3221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24688-3944-41EC-AC57-1994ADD5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98D2B-A0FF-40CF-A3D9-952E897A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65526-8F05-4045-96A6-6AAEC2B1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11691-7C11-4D07-917C-D657A2BA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0569D-3505-4FD9-8247-31B0FDCC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E9080-0687-49F5-9DA0-1F7340DD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90909-038A-4B56-AC28-03AAE793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EDE55-EAD7-4904-B7AE-76C64BEC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A8C26-93C5-4B87-A7F0-6E5350FE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B63B4-128F-436C-933F-C198CA51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90B-89AD-4C87-A90E-714E5A0E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544DD-957F-4E88-A8EC-CBBFA6BC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351A0-E058-49D8-BA84-A35EE4BE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38C44-0226-4EE0-9D99-98083AF2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40441-8152-4560-826E-862504CD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F35E3-ACCB-4297-AE91-7AD59491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93924-6210-45E5-B949-70538AD3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881E6-BD9C-4A01-BAF5-EC75E44A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921B3-A4DE-4D45-A1E5-AFAF552F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F1587-9258-425D-8282-9ABF24EB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7FE9A-617E-4C8E-B734-F64DC54A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CE8-C14E-42E2-B6C9-E7A00BAF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4DE8E-591E-43E7-B349-EF695D26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5CE36-6545-4B27-B64D-4E94077A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681C8-DDB6-49AA-9E0B-6361CC36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49CF6-C86F-4B6F-BB24-EAB8FE50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54AA3-3C97-4FC1-90EF-1A4F5230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ABF10-6966-4916-832C-C5349526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83F61-AE32-4C7B-BE9C-2E102613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CA6B9-69E5-410F-AB70-80A6BDCB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6ED29-34AA-4C53-A21E-C5A0D565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8FB4F-D7E3-4299-B204-685A03E5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0B7-CE48-4810-B7BF-16E21095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A5DEC-91A7-4FC9-8FDB-66E5B554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40FD4-50F1-453F-BA0B-D5F8B05E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A5F55-62CE-4155-B556-110CA25F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42C76-4BEF-4848-8C44-172D1154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4A409-0DC6-46FC-8295-6DE596A3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A9303-5413-4A1A-B4E0-3A17FB54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50E51-F7C2-48C6-80F5-9FC62FFC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91DA4-FDC0-4F65-AEF1-CD4C20C1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25602-5E0D-4D75-B5C3-B3F310C5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FB096-1F89-4E37-8407-E5E3E62E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6FD-68CC-45FF-A25F-52AFA84C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CDAAE-B0BF-4DDD-88D7-3088F15D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73463-7A99-46F6-8949-4C6C1592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368C2-AB4D-4970-B849-F8B728D4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4B7B4-2E35-4F44-961D-A8BFF0E6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F9560-D128-420A-8B45-08138795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780-D3A0-4565-B6A6-D5CC444D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C344-AACA-4E3C-BDE3-0C7C37739ED6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FE88-137C-4FDF-8AF7-5C788C0261CC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A646-63CD-4D8E-8B00-7317310A6960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1F2F-7478-4ED6-BBE0-CA0B34B58ECE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48B9-F390-4EDF-8784-B8EB1EFC6D64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F846-3108-4FB3-BEB2-8F1295ED1AD9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02BC-AD16-488E-8C3D-7A8380CD5653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2"/>
          <p:cNvSpPr/>
          <p:nvPr/>
        </p:nvSpPr>
        <p:spPr>
          <a:xfrm>
            <a:off x="468360" y="2662200"/>
            <a:ext cx="5688000" cy="3240000"/>
          </a:xfrm>
          <a:prstGeom prst="rect">
            <a:avLst/>
          </a:prstGeom>
          <a:noFill/>
          <a:ln w="15840">
            <a:solidFill>
              <a:srgbClr val="165d8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ndara"/>
                <a:ea typeface="华文楷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Candara"/>
                <a:ea typeface="华文楷体"/>
              </a:rPr>
              <a:t>大家好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华文楷体"/>
              </a:rPr>
              <a:t>!</a:t>
            </a:r>
            <a:r>
              <a:rPr b="1" lang="zh-CN" sz="1800" spc="-1" strike="noStrike">
                <a:solidFill>
                  <a:srgbClr val="000000"/>
                </a:solidFill>
                <a:latin typeface="Candara"/>
                <a:ea typeface="华文楷体"/>
              </a:rPr>
              <a:t>我是来自一年级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  <a:ea typeface="华文楷体"/>
              </a:rPr>
              <a:t>14</a:t>
            </a:r>
            <a:r>
              <a:rPr b="1" lang="zh-CN" sz="1800" spc="-1" strike="noStrike">
                <a:solidFill>
                  <a:srgbClr val="000000"/>
                </a:solidFill>
                <a:latin typeface="Candara"/>
                <a:ea typeface="华文楷体"/>
              </a:rPr>
              <a:t>班的孟令宣。我是一个阳光快乐的男孩，我学习认真、刻苦、努力，成绩良好；我乐于助人，关心集体，总是积极主动地为班级做一些力所能及的事情。今天，我能荣幸地担当升旗手，是老师对我的信任，是同学们对我的鼓励，我一定会当好升旗手。我相信，这次升旗仪式的经历会给我留下一段美好的回忆。今后，我会更加努力，不辜负老师和同学们对我的鼓励和期望，为班级争光，为自己的人生添彩！谢谢大家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图片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377720"/>
          </a:xfrm>
          <a:prstGeom prst="rect">
            <a:avLst/>
          </a:prstGeom>
          <a:ln w="0">
            <a:noFill/>
          </a:ln>
        </p:spPr>
      </p:pic>
      <p:sp>
        <p:nvSpPr>
          <p:cNvPr id="337" name="矩形 1"/>
          <p:cNvSpPr/>
          <p:nvPr/>
        </p:nvSpPr>
        <p:spPr>
          <a:xfrm>
            <a:off x="2050920" y="1676520"/>
            <a:ext cx="4105440" cy="1104840"/>
          </a:xfrm>
          <a:prstGeom prst="rect">
            <a:avLst/>
          </a:prstGeom>
          <a:noFill/>
          <a:ln w="15840">
            <a:solidFill>
              <a:srgbClr val="165d8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andara"/>
                <a:ea typeface="华文楷体"/>
              </a:rPr>
              <a:t>光荣升旗手孟令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andara"/>
                <a:ea typeface="华文楷体"/>
              </a:rPr>
              <a:t>一年级（</a:t>
            </a:r>
            <a:r>
              <a:rPr b="1" lang="en-US" sz="2800" spc="-1" strike="noStrike">
                <a:solidFill>
                  <a:srgbClr val="ffff00"/>
                </a:solidFill>
                <a:latin typeface="Candara"/>
                <a:ea typeface="华文楷体"/>
              </a:rPr>
              <a:t>14</a:t>
            </a:r>
            <a:r>
              <a:rPr b="1" lang="zh-CN" sz="2800" spc="-1" strike="noStrike">
                <a:solidFill>
                  <a:srgbClr val="ffff00"/>
                </a:solidFill>
                <a:latin typeface="Candara"/>
                <a:ea typeface="华文楷体"/>
              </a:rPr>
              <a:t>）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324000" y="2708280"/>
            <a:ext cx="3311280" cy="385920"/>
          </a:xfrm>
          <a:prstGeom prst="rect">
            <a:avLst/>
          </a:prstGeom>
          <a:noFill/>
          <a:ln w="15840">
            <a:solidFill>
              <a:srgbClr val="165d8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ndara"/>
                <a:ea typeface="华文楷体"/>
              </a:rPr>
              <a:t>敬爱的老师、亲爱的同学们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图片 7" descr="IMG_3180.JPG"/>
          <p:cNvPicPr/>
          <p:nvPr/>
        </p:nvPicPr>
        <p:blipFill>
          <a:blip r:embed="rId2"/>
          <a:srcRect l="0" t="12479" r="0" b="0"/>
          <a:stretch/>
        </p:blipFill>
        <p:spPr>
          <a:xfrm>
            <a:off x="6215040" y="2071800"/>
            <a:ext cx="26622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6:17:28Z</dcterms:created>
  <dc:creator>shenying</dc:creator>
  <dc:description/>
  <dc:language>en-US</dc:language>
  <cp:lastModifiedBy>Bill Gates</cp:lastModifiedBy>
  <dcterms:modified xsi:type="dcterms:W3CDTF">2017-05-30T12:25:04Z</dcterms:modified>
  <cp:revision>23</cp:revision>
  <dc:subject/>
  <dc:title>PowerPoint 演示文稿</dc:title>
</cp:coreProperties>
</file>