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2.gif" ContentType="image/gif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D927-7AEB-4DA1-A429-C49A17B6B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122B-792F-4394-9815-ABF4EFD65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9BFB-B075-4887-A737-524F1C879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9D38-7EA1-4182-A75B-366E2A3C0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20E01-E139-4640-93F3-99D9DE7B7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C7D1B-82B1-4C57-8C5B-CA626FF5A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2C8AB-031A-49B4-8192-A23782450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A8613-56AF-4331-BFDF-64BC49BF6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B5EB0-1DB6-44E7-A1B3-93015B2E1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52B10-DB8A-4128-89C5-42D99C895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2F3E1-5983-4640-8545-21B90573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223F-FFBD-4E4F-A04E-13F55BFA1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0ADB5-71E8-498E-92A8-5882753F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F4D77-F08D-44F1-A0B8-1E083F4E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86E66-5163-4B8F-BC72-51B5D914B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F3F4C-BBD4-4685-A350-7378C98EF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30842-1FE7-4E3A-A84D-DEC92D7D9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6E7A-6C21-49EA-B5EF-C5FF3EBA6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32D6-CDA2-44E7-AE39-DAFF91CA2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F7E8-4DF2-4600-9155-8BE9771BF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1EE1-947B-4B8A-A714-679680ABB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6345-9F0C-4F7B-B6A4-F8CB5C0B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90DC-51E9-423C-ABBC-C55F003C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4812-F635-4F64-88AF-101E8B25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artoon2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C8330-1E61-4D73-A690-76EE95CC47F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cartoon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ABC19-1B82-4E6E-AB65-D5E6A986373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方正粗倩简体"/>
                <a:ea typeface="方正粗倩简体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升旗手：三（</a:t>
            </a:r>
            <a:r>
              <a:rPr b="1" lang="en-US" sz="4400" spc="-1" strike="noStrike">
                <a:solidFill>
                  <a:srgbClr val="ff0000"/>
                </a:solidFill>
                <a:latin typeface="楷体"/>
                <a:ea typeface="楷体"/>
              </a:rPr>
              <a:t>10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）张淑佳</a:t>
            </a:r>
            <a:r>
              <a:rPr b="1" lang="zh-CN" sz="4400" spc="-1" strike="noStrike">
                <a:solidFill>
                  <a:srgbClr val="ff0000"/>
                </a:solidFill>
                <a:latin typeface="方正粗倩简体"/>
                <a:ea typeface="方正粗倩简体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4500720" y="3027960"/>
            <a:ext cx="415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"/>
              </a:rPr>
              <a:t>我是三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"/>
              </a:rPr>
              <a:t>1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"/>
              </a:rPr>
              <a:t>）班的张淑佳，我是一个积极上进的女孩，兴趣爱好广泛，跳舞、唱歌都是我的拿手好戏。身为班长的我经常帮助学习有困难的同学，也是老师的好帮手！站在国旗下，是我的荣幸，是老师和同学们给我的机会，我一定会珍惜，努力当好升旗手这个职位，谢谢大家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图片 2" descr="张淑佳1"/>
          <p:cNvPicPr/>
          <p:nvPr/>
        </p:nvPicPr>
        <p:blipFill>
          <a:blip r:embed="rId1"/>
          <a:stretch/>
        </p:blipFill>
        <p:spPr>
          <a:xfrm rot="5400000">
            <a:off x="814320" y="1857240"/>
            <a:ext cx="4133880" cy="309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4572000" y="2956680"/>
            <a:ext cx="406728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我是三（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10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）班的赵浩卓，今天能站在这里，我感到无比自豪，我要感谢老师和同学们对我的信任。我成绩优异，每学期都是三好学生。我上课举手发言积极，还积极参加学校组织的活动，围棋、足球、篮球、画画都是我的爱好。我一定会当好这个升旗手，不辜负老师和同学们对我的期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457200" y="2746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升旗手：三（</a:t>
            </a:r>
            <a:r>
              <a:rPr b="1" lang="en-US" sz="4400" spc="-1" strike="noStrike">
                <a:solidFill>
                  <a:srgbClr val="ff0000"/>
                </a:solidFill>
                <a:latin typeface="楷体"/>
                <a:ea typeface="楷体"/>
              </a:rPr>
              <a:t>10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） 赵浩卓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图片 1" descr="赵浩卓"/>
          <p:cNvPicPr/>
          <p:nvPr/>
        </p:nvPicPr>
        <p:blipFill>
          <a:blip r:embed="rId1"/>
          <a:stretch/>
        </p:blipFill>
        <p:spPr>
          <a:xfrm>
            <a:off x="1403280" y="1484280"/>
            <a:ext cx="2968560" cy="412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5:05:40Z</dcterms:created>
  <dc:creator/>
  <dc:description/>
  <dc:language>en-US</dc:language>
  <cp:lastModifiedBy>Administrator</cp:lastModifiedBy>
  <dcterms:modified xsi:type="dcterms:W3CDTF">2016-04-12T08:28:35Z</dcterms:modified>
  <cp:revision>6</cp:revision>
  <dc:subject/>
  <dc:title> 升旗手：三（6）沈文茜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