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A316-EAFF-4DBB-A33F-5330DDB3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FF3D-1DFB-448B-8EDC-DE258317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63C-EF04-4B67-8824-B83B0F35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CC0-FDA4-43D4-BCCA-B4CA23707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EC10-BEC0-40CB-AFBF-0978FA0C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08A62-CF8A-4099-BA36-1129256D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CF55-2F81-4DC2-B799-7F8BBAC3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7D65-341A-457D-A089-C587EAF6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8437-F4FA-42E3-A321-567BFFCA9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6038-8A6F-4F35-B8E7-7CA62278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BBAC-C42B-417D-80C6-6FF10690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4B9C-252A-4650-9C58-8873D7CA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F615-6B8D-4E39-877C-EBA5996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ABE6-5B34-4EE2-A0E0-67E08EBA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4B79-9C53-4B1E-AA9D-C1698055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5283-12E3-4FE5-98AB-3C39B570E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B13E7-6608-443C-A66E-713C2FCB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C7FF-0DBF-478F-ADDF-FB102832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E7C6-2EAA-43CB-B5E8-E5053C2E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B29-6CD0-4975-B28C-B6593F39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652-4C60-47A3-8B3F-5575FE44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6F45-C220-4144-869B-79FE1FB1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2FF-E8CB-4B1A-A49B-C2B1F6EC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083C-234C-4CA6-8E7A-1D86AB4E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artoon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A71B-BC96-494D-888E-13246C9B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artoo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3284-591F-47EF-97DC-782805849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内容占位符 15" descr=""/>
          <p:cNvPicPr/>
          <p:nvPr/>
        </p:nvPicPr>
        <p:blipFill>
          <a:blip r:embed="rId1"/>
          <a:stretch/>
        </p:blipFill>
        <p:spPr>
          <a:xfrm>
            <a:off x="4929120" y="1000080"/>
            <a:ext cx="3741840" cy="44337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1311120" y="358920"/>
            <a:ext cx="59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升旗手：六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班   金昊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4" descr="DSC_0421 (2)"/>
          <p:cNvPicPr/>
          <p:nvPr/>
        </p:nvPicPr>
        <p:blipFill>
          <a:blip r:embed="rId2"/>
          <a:stretch/>
        </p:blipFill>
        <p:spPr>
          <a:xfrm>
            <a:off x="1311120" y="1000080"/>
            <a:ext cx="4008600" cy="46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45:26Z</dcterms:created>
  <dc:creator>keke</dc:creator>
  <dc:description/>
  <dc:language>en-US</dc:language>
  <cp:lastModifiedBy>hp</cp:lastModifiedBy>
  <dcterms:modified xsi:type="dcterms:W3CDTF">2016-09-11T13:25:45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