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99F-3397-4626-9890-231C3FB8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1D0-B6D3-441C-BBE8-DB2412BE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E04-0F8D-49CC-89ED-FF266437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EB2-D0AA-4B21-8DD0-67D26B87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BA8-C2C6-4AC8-9459-1DE490A0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472-AA95-4F68-BAD9-48E1533E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F00-8AB9-4143-B171-BC0009F3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2BB-7609-4722-8778-4F21C8D2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BAB-36F7-448F-8439-0539118E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4D8-794F-4E51-AFC1-845378AB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FE3-34E1-41A2-BBFF-31CA5A23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EE7-54E2-491A-A98A-CE4C76D1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FB8B-8271-4027-B10C-6A9D351CF1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052"/>
          <p:cNvSpPr/>
          <p:nvPr/>
        </p:nvSpPr>
        <p:spPr>
          <a:xfrm>
            <a:off x="539640" y="3274920"/>
            <a:ext cx="4199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是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班的徐灏钦。我兴趣广泛，乐观向上，曾多次获得三好学生，四好少年等荣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高任鸟飞，海阔凭鱼跃。我将怀着一颗感恩的心沐浴着和煦的春风茁壮成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标题 205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056" descr=""/>
          <p:cNvPicPr/>
          <p:nvPr/>
        </p:nvPicPr>
        <p:blipFill>
          <a:blip r:embed="rId2"/>
          <a:srcRect l="18263" t="26672" r="31162" b="19592"/>
          <a:stretch/>
        </p:blipFill>
        <p:spPr>
          <a:xfrm>
            <a:off x="5054760" y="1355760"/>
            <a:ext cx="40892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6T12:07:00Z</dcterms:created>
  <dc:creator>asus</dc:creator>
  <dc:description/>
  <dc:language>en-US</dc:language>
  <cp:lastModifiedBy>Administrator</cp:lastModifiedBy>
  <dcterms:modified xsi:type="dcterms:W3CDTF">2017-03-01T06:05:07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