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5.png" ContentType="image/png"/>
  <Override PartName="/ppt/media/image2.gif" ContentType="image/gif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255-066D-46CC-9499-76D351D8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530-EF1C-49A7-B86C-9C92DE75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30C-64A7-4C86-8984-2678A439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C6B-A2A9-4F40-A849-52430AD9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992E-08C4-43A8-B4EC-80438EFC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E30E-4278-4208-AC09-98767606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62BE-68BB-4487-96FF-5AE93B4C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5A68-BE1E-450E-A4B7-F0401C19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8172-995C-4874-AF1E-58E8487D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7471-5B02-47D6-B6AD-C0229B04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A290-7D25-4B9D-A5A7-08230A68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74C-7164-407D-91AE-CE297ECB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FEDA-B450-4E58-9463-5B7394A2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3E8D-A847-40B6-AA2C-F0AAC804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EB46-441B-4835-8DC3-FD0DD0DD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AD29-0E80-4C7A-8CBE-7469F8DE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95EC-4F4C-4CAB-8930-69A81980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B1A-C7CC-4CBD-8483-7AF64928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276-7D5C-4D98-A4C8-59526C0A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0CF3-55E6-46B7-A58F-C708DCA8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2872-7D1D-4814-99D6-F570853F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DEA-D047-4DF6-9E25-A073F857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A3B2-3A5D-41DA-91FA-8700E5F4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03B-B85A-4C45-923E-5A96294E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artoon2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8E8F-2B6C-4EBA-939B-D38FBEF2C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artoon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ABD9-FF52-4545-94A8-C85021FFC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升旗手：六（</a:t>
            </a:r>
            <a:r>
              <a:rPr b="1" lang="en-US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）吕娅 刘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211640" y="3238200"/>
            <a:ext cx="38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吕娅心地善良、自信开朗。在学校，她成绩优秀，是老师的得力助手；在家里，她能够帮助父母做一些力所能及的事。她兴趣爱好广泛，擅长画画和跆拳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SC_0085"/>
          <p:cNvPicPr/>
          <p:nvPr/>
        </p:nvPicPr>
        <p:blipFill>
          <a:blip r:embed="rId1"/>
          <a:stretch/>
        </p:blipFill>
        <p:spPr>
          <a:xfrm>
            <a:off x="466560" y="1844640"/>
            <a:ext cx="3673800" cy="3241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235080" y="1643040"/>
            <a:ext cx="38955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4357800" y="3217680"/>
            <a:ext cx="43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刘佳是一个性格开朗、乐于助人的阳光女孩，她成绩优秀，乐于助人，当同学有不会的题目时，她总能耐心指导。学习之余，她还积极参加各项活动。她体育也很好，跑步、跳绳都是她的强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457200" y="274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升旗手：六（</a:t>
            </a:r>
            <a:r>
              <a:rPr b="1" lang="en-US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） 吕娅、刘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00032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45:26Z</dcterms:created>
  <dc:creator>keke</dc:creator>
  <dc:description/>
  <cp:keywords/>
  <dc:language>en-US</dc:language>
  <cp:lastModifiedBy>Apple</cp:lastModifiedBy>
  <dcterms:modified xsi:type="dcterms:W3CDTF">2016-04-12T08:38:14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</Properties>
</file>