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type.wav" ContentType="audio/x-wav"/>
  <Override PartName="/ppt/media/chimes.wav" ContentType="audio/x-wav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78B-1106-443D-84FF-A8FD6272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4B3-CC4A-4CD9-AE61-4786A7D9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5D6-3AF4-4FBC-888B-1EFBDC06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0D4-8384-4FA5-89EF-18430104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771-E41A-40A2-AD49-4DE4D444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BCF-0DB6-4EF8-9881-C227B69B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615-A55A-4383-B46C-6ABD7791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6B1-3D57-4D61-AB74-362535C2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95F-CF29-426F-8855-AB22A681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81C-2124-4DE3-B376-494697C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CB1-4312-4322-89D2-A54884D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DFD-1126-432E-887F-61BE156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3C3C-4655-4D03-BE8D-4C5618906B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62064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比例的基本性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4292640"/>
            <a:ext cx="618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春江小学   丁雅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084720" y="1699920"/>
            <a:ext cx="1890360" cy="2724480"/>
            <a:chOff x="6084720" y="1699920"/>
            <a:chExt cx="1890360" cy="2724480"/>
          </a:xfrm>
        </p:grpSpPr>
        <p:sp>
          <p:nvSpPr>
            <p:cNvPr id="45" name=""/>
            <p:cNvSpPr/>
            <p:nvPr/>
          </p:nvSpPr>
          <p:spPr>
            <a:xfrm>
              <a:off x="6516360" y="3720960"/>
              <a:ext cx="13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6050520" y="231012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84720" y="2207880"/>
              <a:ext cx="1890360" cy="1523520"/>
              <a:chOff x="6084720" y="2207880"/>
              <a:chExt cx="1890360" cy="1523520"/>
            </a:xfrm>
          </p:grpSpPr>
          <p:sp>
            <p:nvSpPr>
              <p:cNvPr id="48" name=""/>
              <p:cNvSpPr/>
              <p:nvPr/>
            </p:nvSpPr>
            <p:spPr>
              <a:xfrm>
                <a:off x="6084720" y="2207880"/>
                <a:ext cx="1890360" cy="1523520"/>
              </a:xfrm>
              <a:prstGeom prst="triangle">
                <a:avLst>
                  <a:gd name="adj" fmla="val 32745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07160" y="2207880"/>
                <a:ext cx="0" cy="152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742080" y="3500280"/>
              <a:ext cx="215640" cy="215280"/>
              <a:chOff x="6742080" y="3500280"/>
              <a:chExt cx="215640" cy="215280"/>
            </a:xfrm>
          </p:grpSpPr>
          <p:sp>
            <p:nvSpPr>
              <p:cNvPr id="51" name=""/>
              <p:cNvSpPr/>
              <p:nvPr/>
            </p:nvSpPr>
            <p:spPr>
              <a:xfrm>
                <a:off x="6742080" y="35002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957720" y="3500280"/>
                <a:ext cx="0" cy="215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539640" y="501336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你能根据图中的数据写出比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9144000" cy="4549680"/>
            <a:chOff x="0" y="0"/>
            <a:chExt cx="9144000" cy="4549680"/>
          </a:xfrm>
        </p:grpSpPr>
        <p:grpSp>
          <p:nvGrpSpPr>
            <p:cNvPr id="55" name=""/>
            <p:cNvGrpSpPr/>
            <p:nvPr/>
          </p:nvGrpSpPr>
          <p:grpSpPr>
            <a:xfrm>
              <a:off x="971640" y="907920"/>
              <a:ext cx="3498480" cy="3641760"/>
              <a:chOff x="971640" y="907920"/>
              <a:chExt cx="3498480" cy="36417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947960" y="3409560"/>
                <a:ext cx="266400" cy="328320"/>
                <a:chOff x="1947960" y="3409560"/>
                <a:chExt cx="266400" cy="3283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947960" y="3409560"/>
                  <a:ext cx="2664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14360" y="3409560"/>
                  <a:ext cx="0" cy="3283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971640" y="907920"/>
                <a:ext cx="3498480" cy="2860200"/>
                <a:chOff x="971640" y="907920"/>
                <a:chExt cx="3498480" cy="28602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971640" y="907920"/>
                  <a:ext cx="3498480" cy="2860200"/>
                </a:xfrm>
                <a:prstGeom prst="triangle">
                  <a:avLst>
                    <a:gd name="adj" fmla="val 27926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947600" y="907920"/>
                  <a:ext cx="0" cy="2829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2054160" y="3846240"/>
                <a:ext cx="212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6cm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1446840" y="1819080"/>
                <a:ext cx="1886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cm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6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4365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观察这些比例，你有什么发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60280"/>
            <a:ext cx="39261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3 : 6 = 2 :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 : 4 = 3 :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3 : 2 = 6 :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 : 3 = 4 :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00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要求：独立思考后，小组长组织组员轮流交流，推荐一人作代表发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45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应用比例的基本性质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下面的两个比能否组成比例。如能组成比例，把组成的比例写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.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.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0.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0.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 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 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 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 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141720"/>
            <a:ext cx="64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.8              0.5            0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789360"/>
            <a:ext cx="61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.6             0.25           0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581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.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.8 = 0.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595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5229360"/>
            <a:ext cx="712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987640" y="2421000"/>
            <a:ext cx="1223640" cy="216000"/>
            <a:chOff x="2987640" y="2421000"/>
            <a:chExt cx="1223640" cy="216000"/>
          </a:xfrm>
        </p:grpSpPr>
        <p:sp>
          <p:nvSpPr>
            <p:cNvPr id="75" name=""/>
            <p:cNvSpPr/>
            <p:nvPr/>
          </p:nvSpPr>
          <p:spPr>
            <a:xfrm>
              <a:off x="2987640" y="2421000"/>
              <a:ext cx="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87640" y="2421000"/>
              <a:ext cx="12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11280" y="2421000"/>
              <a:ext cx="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332000" y="2133720"/>
            <a:ext cx="4391280" cy="360000"/>
            <a:chOff x="1332000" y="2133720"/>
            <a:chExt cx="4391280" cy="360000"/>
          </a:xfrm>
        </p:grpSpPr>
        <p:sp>
          <p:nvSpPr>
            <p:cNvPr id="79" name=""/>
            <p:cNvSpPr/>
            <p:nvPr/>
          </p:nvSpPr>
          <p:spPr>
            <a:xfrm>
              <a:off x="1332000" y="213372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2000" y="2133720"/>
              <a:ext cx="4391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23280" y="213372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39640" y="537372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假设两个比能组成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805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应用比例的基本性质，计算外项的积是否等于内项的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56536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4172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4724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练习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应用比例的基本性质，判断下面哪几组的两个比可以组成比例。把组成的比例写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79280" y="3500280"/>
            <a:ext cx="9359640" cy="814320"/>
            <a:chOff x="179280" y="3500280"/>
            <a:chExt cx="9359640" cy="814320"/>
          </a:xfrm>
        </p:grpSpPr>
        <p:sp>
          <p:nvSpPr>
            <p:cNvPr id="89" name=""/>
            <p:cNvSpPr/>
            <p:nvPr/>
          </p:nvSpPr>
          <p:spPr>
            <a:xfrm>
              <a:off x="7608960" y="3527280"/>
              <a:ext cx="33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79280" y="3500280"/>
              <a:ext cx="9359640" cy="814320"/>
              <a:chOff x="179280" y="3500280"/>
              <a:chExt cx="9359640" cy="814320"/>
            </a:xfrm>
          </p:grpSpPr>
          <p:sp>
            <p:nvSpPr>
              <p:cNvPr id="91" name=""/>
              <p:cNvSpPr/>
              <p:nvPr/>
            </p:nvSpPr>
            <p:spPr>
              <a:xfrm>
                <a:off x="6291000" y="3549600"/>
                <a:ext cx="338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179280" y="3500280"/>
                <a:ext cx="9359640" cy="814320"/>
                <a:chOff x="179280" y="3500280"/>
                <a:chExt cx="9359640" cy="814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79280" y="3611160"/>
                  <a:ext cx="9359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</a:rPr>
                    <a:t>（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9 12</a:t>
                  </a: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</a:rPr>
                    <a:t>和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2 15</a:t>
                  </a: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</a:rPr>
                    <a:t>（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.4  2</a:t>
                  </a: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</a:rPr>
                    <a:t>和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7 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2200" y="3500280"/>
                  <a:ext cx="338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：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88840" y="3538080"/>
                  <a:ext cx="338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：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" name=""/>
          <p:cNvGrpSpPr/>
          <p:nvPr/>
        </p:nvGrpSpPr>
        <p:grpSpPr>
          <a:xfrm>
            <a:off x="250920" y="1268280"/>
            <a:ext cx="9456120" cy="1162440"/>
            <a:chOff x="250920" y="1268280"/>
            <a:chExt cx="9456120" cy="1162440"/>
          </a:xfrm>
        </p:grpSpPr>
        <p:sp>
          <p:nvSpPr>
            <p:cNvPr id="97" name=""/>
            <p:cNvSpPr/>
            <p:nvPr/>
          </p:nvSpPr>
          <p:spPr>
            <a:xfrm>
              <a:off x="250920" y="1471680"/>
              <a:ext cx="820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14 21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和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6  9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68480" y="1379520"/>
              <a:ext cx="33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435280" y="1268280"/>
              <a:ext cx="4271760" cy="1162440"/>
              <a:chOff x="5435280" y="1268280"/>
              <a:chExt cx="4271760" cy="1162440"/>
            </a:xfrm>
          </p:grpSpPr>
          <p:sp>
            <p:nvSpPr>
              <p:cNvPr id="100" name=""/>
              <p:cNvSpPr/>
              <p:nvPr/>
            </p:nvSpPr>
            <p:spPr>
              <a:xfrm>
                <a:off x="5994000" y="1393560"/>
                <a:ext cx="337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5435280" y="1268280"/>
                <a:ext cx="4271760" cy="1162440"/>
                <a:chOff x="5435280" y="1268280"/>
                <a:chExt cx="4271760" cy="116244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6217920" y="1268280"/>
                  <a:ext cx="1284120" cy="1157400"/>
                  <a:chOff x="6217920" y="1268280"/>
                  <a:chExt cx="1284120" cy="11574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6351120" y="1268280"/>
                    <a:ext cx="11509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217920" y="1722240"/>
                    <a:ext cx="10792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330600" y="1844640"/>
                    <a:ext cx="576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5435280" y="1274760"/>
                  <a:ext cx="1171440" cy="1155960"/>
                  <a:chOff x="5435280" y="1274760"/>
                  <a:chExt cx="1171440" cy="115596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5455800" y="1274760"/>
                    <a:ext cx="11509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435280" y="1727280"/>
                    <a:ext cx="7207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435280" y="1851120"/>
                    <a:ext cx="576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6803640" y="1490760"/>
                  <a:ext cx="17287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</a:rPr>
                    <a:t>和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7276680" y="1292400"/>
                  <a:ext cx="1728720" cy="1116360"/>
                  <a:chOff x="7276680" y="1292400"/>
                  <a:chExt cx="1728720" cy="111636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276680" y="1292400"/>
                    <a:ext cx="17287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451280" y="1827360"/>
                    <a:ext cx="1008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421040" y="1868400"/>
                    <a:ext cx="503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"/>
                <p:cNvSpPr/>
                <p:nvPr/>
              </p:nvSpPr>
              <p:spPr>
                <a:xfrm>
                  <a:off x="7845120" y="1436760"/>
                  <a:ext cx="338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：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049960" y="1501920"/>
                  <a:ext cx="1657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2100240" y="1373040"/>
              <a:ext cx="33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400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要求：同桌合作，每人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题，完成后同桌互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27280" y="1484280"/>
            <a:ext cx="1223640" cy="216000"/>
            <a:chOff x="2627280" y="1484280"/>
            <a:chExt cx="1223640" cy="216000"/>
          </a:xfrm>
        </p:grpSpPr>
        <p:sp>
          <p:nvSpPr>
            <p:cNvPr id="120" name=""/>
            <p:cNvSpPr/>
            <p:nvPr/>
          </p:nvSpPr>
          <p:spPr>
            <a:xfrm>
              <a:off x="2627280" y="1484280"/>
              <a:ext cx="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7280" y="1484280"/>
              <a:ext cx="12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0920" y="1484280"/>
              <a:ext cx="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79640" y="1197000"/>
            <a:ext cx="2304720" cy="360000"/>
            <a:chOff x="1979640" y="1197000"/>
            <a:chExt cx="2304720" cy="360000"/>
          </a:xfrm>
        </p:grpSpPr>
        <p:sp>
          <p:nvSpPr>
            <p:cNvPr id="124" name=""/>
            <p:cNvSpPr/>
            <p:nvPr/>
          </p:nvSpPr>
          <p:spPr>
            <a:xfrm>
              <a:off x="1979640" y="119700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79640" y="1197000"/>
              <a:ext cx="2304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360" y="119700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43640" y="1339920"/>
            <a:ext cx="1223640" cy="216000"/>
            <a:chOff x="6443640" y="1339920"/>
            <a:chExt cx="1223640" cy="216000"/>
          </a:xfrm>
        </p:grpSpPr>
        <p:sp>
          <p:nvSpPr>
            <p:cNvPr id="128" name=""/>
            <p:cNvSpPr/>
            <p:nvPr/>
          </p:nvSpPr>
          <p:spPr>
            <a:xfrm>
              <a:off x="6443640" y="1339920"/>
              <a:ext cx="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43640" y="1339920"/>
              <a:ext cx="12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67280" y="1339920"/>
              <a:ext cx="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6000" y="1052640"/>
            <a:ext cx="2304720" cy="360000"/>
            <a:chOff x="5796000" y="1052640"/>
            <a:chExt cx="2304720" cy="360000"/>
          </a:xfrm>
        </p:grpSpPr>
        <p:sp>
          <p:nvSpPr>
            <p:cNvPr id="132" name=""/>
            <p:cNvSpPr/>
            <p:nvPr/>
          </p:nvSpPr>
          <p:spPr>
            <a:xfrm>
              <a:off x="5796000" y="105264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6000" y="1052640"/>
              <a:ext cx="2304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00720" y="105264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732720" y="3645000"/>
            <a:ext cx="863640" cy="144360"/>
            <a:chOff x="6732720" y="3645000"/>
            <a:chExt cx="863640" cy="144360"/>
          </a:xfrm>
        </p:grpSpPr>
        <p:sp>
          <p:nvSpPr>
            <p:cNvPr id="136" name=""/>
            <p:cNvSpPr/>
            <p:nvPr/>
          </p:nvSpPr>
          <p:spPr>
            <a:xfrm>
              <a:off x="6732720" y="3645000"/>
              <a:ext cx="0" cy="1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2720" y="3645000"/>
              <a:ext cx="8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6360" y="3645000"/>
              <a:ext cx="0" cy="1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940360" y="3357720"/>
            <a:ext cx="2304720" cy="360000"/>
            <a:chOff x="5940360" y="3357720"/>
            <a:chExt cx="2304720" cy="360000"/>
          </a:xfrm>
        </p:grpSpPr>
        <p:sp>
          <p:nvSpPr>
            <p:cNvPr id="140" name=""/>
            <p:cNvSpPr/>
            <p:nvPr/>
          </p:nvSpPr>
          <p:spPr>
            <a:xfrm>
              <a:off x="5940360" y="335772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0360" y="3357720"/>
              <a:ext cx="2304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45080" y="335772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411280" y="3645000"/>
            <a:ext cx="1223640" cy="215640"/>
            <a:chOff x="2411280" y="3645000"/>
            <a:chExt cx="1223640" cy="215640"/>
          </a:xfrm>
        </p:grpSpPr>
        <p:sp>
          <p:nvSpPr>
            <p:cNvPr id="144" name=""/>
            <p:cNvSpPr/>
            <p:nvPr/>
          </p:nvSpPr>
          <p:spPr>
            <a:xfrm>
              <a:off x="2411280" y="364500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11280" y="3645000"/>
              <a:ext cx="12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34920" y="364500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3357720"/>
            <a:ext cx="2304720" cy="360000"/>
            <a:chOff x="1763640" y="3357720"/>
            <a:chExt cx="2304720" cy="360000"/>
          </a:xfrm>
        </p:grpSpPr>
        <p:sp>
          <p:nvSpPr>
            <p:cNvPr id="148" name=""/>
            <p:cNvSpPr/>
            <p:nvPr/>
          </p:nvSpPr>
          <p:spPr>
            <a:xfrm>
              <a:off x="1763640" y="335772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3640" y="3357720"/>
              <a:ext cx="2304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8360" y="3357720"/>
              <a:ext cx="0" cy="36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8200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哪一组中的四个数可以组成比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把组成的比例写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2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0"/>
            <a:ext cx="19098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练一练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14172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要求：独立思考完成，完成后在小组内交流自己的想法。小组长将组员不同的做法记录在本子上，准备大组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28600" y="609480"/>
            <a:ext cx="9216720" cy="3933000"/>
            <a:chOff x="228600" y="609480"/>
            <a:chExt cx="9216720" cy="3933000"/>
          </a:xfrm>
        </p:grpSpPr>
        <p:grpSp>
          <p:nvGrpSpPr>
            <p:cNvPr id="155" name=""/>
            <p:cNvGrpSpPr/>
            <p:nvPr/>
          </p:nvGrpSpPr>
          <p:grpSpPr>
            <a:xfrm>
              <a:off x="446040" y="2295360"/>
              <a:ext cx="3887640" cy="878760"/>
              <a:chOff x="446040" y="2295360"/>
              <a:chExt cx="3887640" cy="87876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861840" y="2295360"/>
                <a:ext cx="2289240" cy="780480"/>
                <a:chOff x="861840" y="2295360"/>
                <a:chExt cx="2289240" cy="7804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861840" y="2311560"/>
                  <a:ext cx="647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：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503440" y="2295360"/>
                  <a:ext cx="647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：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446040" y="2409840"/>
                <a:ext cx="388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8   2=24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05320" y="2135160"/>
              <a:ext cx="3456000" cy="1355040"/>
              <a:chOff x="4405320" y="2135160"/>
              <a:chExt cx="3456000" cy="13550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4405320" y="2135160"/>
                <a:ext cx="2448000" cy="1313640"/>
                <a:chOff x="4405320" y="2135160"/>
                <a:chExt cx="2448000" cy="13136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692600" y="2799000"/>
                  <a:ext cx="10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4405320" y="2135160"/>
                  <a:ext cx="2448000" cy="1313640"/>
                  <a:chOff x="4405320" y="2135160"/>
                  <a:chExt cx="2448000" cy="13136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4405320" y="2135160"/>
                    <a:ext cx="24480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4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（  ）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765680" y="2684520"/>
                    <a:ext cx="12254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15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5844960" y="2411640"/>
                <a:ext cx="936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=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49840" y="2179800"/>
                <a:ext cx="1311480" cy="1310400"/>
                <a:chOff x="6549840" y="2179800"/>
                <a:chExt cx="1311480" cy="13104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549840" y="2179800"/>
                  <a:ext cx="107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4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565680" y="2725920"/>
                  <a:ext cx="1295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5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565680" y="2827440"/>
                  <a:ext cx="505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446040" y="609480"/>
              <a:ext cx="784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、根据比例的基本性质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在括号里填上合适的数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8600" y="3664080"/>
              <a:ext cx="5327640" cy="878400"/>
              <a:chOff x="228600" y="3664080"/>
              <a:chExt cx="5327640" cy="878400"/>
            </a:xfrm>
          </p:grpSpPr>
          <p:sp>
            <p:nvSpPr>
              <p:cNvPr id="173" name=""/>
              <p:cNvSpPr/>
              <p:nvPr/>
            </p:nvSpPr>
            <p:spPr>
              <a:xfrm>
                <a:off x="228600" y="3778200"/>
                <a:ext cx="532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.5  3=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  ）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3.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36680" y="3664080"/>
                <a:ext cx="64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93680" y="3678120"/>
                <a:ext cx="6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476600" y="3664080"/>
              <a:ext cx="4968720" cy="878400"/>
              <a:chOff x="4476600" y="3664080"/>
              <a:chExt cx="4968720" cy="878400"/>
            </a:xfrm>
          </p:grpSpPr>
          <p:sp>
            <p:nvSpPr>
              <p:cNvPr id="177" name=""/>
              <p:cNvSpPr/>
              <p:nvPr/>
            </p:nvSpPr>
            <p:spPr>
              <a:xfrm>
                <a:off x="4476600" y="3778200"/>
                <a:ext cx="4968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8 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   ）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=3.6   9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67080" y="3664080"/>
                <a:ext cx="6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5680" y="3664080"/>
                <a:ext cx="6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048120" y="243828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2209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8862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3886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87692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1.5×3.4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5.1           5.1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Arial"/>
              </a:rPr>
              <a:t>÷3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1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68840" y="4941720"/>
            <a:ext cx="447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48×9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432   432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Arial"/>
              </a:rPr>
              <a:t>÷3.6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2:15:36Z</dcterms:created>
  <dc:creator>user</dc:creator>
  <dc:description/>
  <dc:language>en-US</dc:language>
  <cp:lastModifiedBy>红蔷薇1983</cp:lastModifiedBy>
  <dcterms:modified xsi:type="dcterms:W3CDTF">2013-03-11T06:56:52Z</dcterms:modified>
  <cp:revision>56</cp:revision>
  <dc:subject/>
  <dc:title>幻灯片 1</dc:title>
</cp:coreProperties>
</file>