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92D-7E32-4961-92C6-8DE773F8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413-79D0-4AA0-B843-27C16B5A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FBD-2AFF-43B7-8ADE-CACC2F7E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B78-18E8-4C72-ACDA-DAB15689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9189-DDAE-40FE-A2DE-83CA60D0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F68D-8769-409B-A810-BF4AEDBB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101-A9BC-485D-BE6B-3EE50F03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88AC-F9F7-440E-AF51-55CEFA2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1D7E-ECD5-4E39-9BF2-8FDF4695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8A47-C88D-4317-899B-67F8F378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FBD-4266-49E7-82EC-6C14733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869-ECD9-496E-A7F4-AA4E5175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9BA7-1631-4766-9576-6B78C7B2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9440-5421-4FCA-8D78-A901346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6277-B575-48F6-9AA7-503AA04E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80D-AF45-4D34-964C-DE8DF0CD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76A-F9FD-4FE2-A752-0684ED79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2726B-9647-406C-BBAE-B50A35FB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3C92D-AF98-4715-92C4-AC36316D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C4AF8-A39C-4922-A2D5-4E875265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1078B-5BF4-42F6-AA71-659CC76C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A4304-13FD-4ACB-9784-935A262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E46-06EB-4E02-A44A-2DE84B5A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5D05E-B0E6-4EAC-BB87-DE466204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69CC4-D3C4-4007-B1FE-41B91232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FADD3-9E87-4EEA-9A9A-B3DA63D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B5567-33C2-42EA-8129-D3E5A5A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A7358-25A3-4786-8F1D-75709B8F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A0049-696C-4DDD-8429-8A16DAC6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DA6D4-44CD-47D6-A6F9-5EA22F40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0CD-E1DF-491F-97A9-9ED11DEA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C25-E58D-4DED-B959-F1E67D12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6A2-F4D3-4BCD-A9BF-E48164AC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F0A-C23F-4E41-A9F6-CE0716F9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CDA-D756-490D-81DB-C7F5172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5A0-7F2D-4A51-88F5-1C837D5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86BA-073C-4B9D-A04D-059B796CFF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D1DC-5C14-4700-9E20-F98DE44A55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95D-1F99-4DB1-8F20-5699AEE3491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79640" y="1795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1800" y="2133720"/>
            <a:ext cx="41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Arial"/>
              </a:rPr>
              <a:t>公 因 数 和 最 大 公 因 数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观察这些数的公因数，说说两个数的公因数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6438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公因数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公因数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公因数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公因数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公因数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5327640" cy="2887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82920" y="16286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阅读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速写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所有因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立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伴说说找一个数因数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前一题方法上再次快速写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所有因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797360"/>
            <a:ext cx="25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立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6093000"/>
            <a:ext cx="5327640" cy="576000"/>
          </a:xfrm>
          <a:prstGeom prst="wedgeRectCallout">
            <a:avLst>
              <a:gd name="adj1" fmla="val -56287"/>
              <a:gd name="adj2" fmla="val -20523"/>
            </a:avLst>
          </a:prstGeom>
          <a:solidFill>
            <a:srgbClr val="e6a8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5994360"/>
            <a:ext cx="717480" cy="86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834800" y="333360"/>
            <a:ext cx="2763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哪种纸片能将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长方形正好铺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6028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3080" y="260280"/>
            <a:ext cx="1297080" cy="129708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9800" y="1197000"/>
            <a:ext cx="17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5440" y="33336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67640" y="1484280"/>
            <a:ext cx="1152360" cy="1009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60360" y="1773360"/>
            <a:ext cx="936720" cy="93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0360" y="458136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60360" y="270972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3645000"/>
            <a:ext cx="936720" cy="93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1773360"/>
            <a:ext cx="936360" cy="93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581360"/>
            <a:ext cx="93636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2709720"/>
            <a:ext cx="93636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3645000"/>
            <a:ext cx="936360" cy="93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1773360"/>
            <a:ext cx="936720" cy="93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458136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270972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3645000"/>
            <a:ext cx="936720" cy="93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771560"/>
            <a:ext cx="93636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579920"/>
            <a:ext cx="93636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2708280"/>
            <a:ext cx="93636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3643200"/>
            <a:ext cx="93636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77156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457992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3640" y="270828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364320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38920" y="177156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38920" y="457992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270828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38920" y="364320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1773360"/>
            <a:ext cx="5618160" cy="37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5518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551808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7080" y="55166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920" y="5877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6360" y="5877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308720" y="177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08720" y="4076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7440" y="55166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9080" y="33577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0040" y="602136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÷6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600" y="602136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÷6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27795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独立思考，可以在练习纸上画画，写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和同伴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76360" y="6093000"/>
            <a:ext cx="5327640" cy="576000"/>
          </a:xfrm>
          <a:prstGeom prst="wedgeRectCallout">
            <a:avLst>
              <a:gd name="adj1" fmla="val 57060"/>
              <a:gd name="adj2" fmla="val -33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4800" y="333360"/>
            <a:ext cx="2763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哪种纸片能将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长方形正好铺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260280"/>
            <a:ext cx="936720" cy="93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3080" y="260280"/>
            <a:ext cx="1222200" cy="122256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9800" y="1197000"/>
            <a:ext cx="17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5440" y="33336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67640" y="1484280"/>
            <a:ext cx="1152360" cy="1009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58920" y="1773360"/>
            <a:ext cx="5545080" cy="367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54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5445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5445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58920" y="5877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587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308720" y="177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4076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7440" y="55166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3440" y="33577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80040" y="602136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÷8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70600" y="602136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÷8=4…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1773360"/>
            <a:ext cx="122544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2997360"/>
            <a:ext cx="122544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4221000"/>
            <a:ext cx="1225440" cy="122580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1773360"/>
            <a:ext cx="122580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2997360"/>
            <a:ext cx="122580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221000"/>
            <a:ext cx="1225800" cy="122580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1773360"/>
            <a:ext cx="122544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2997360"/>
            <a:ext cx="122544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1225440" cy="122580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1773360"/>
            <a:ext cx="122544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2997360"/>
            <a:ext cx="1225440" cy="122544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4221000"/>
            <a:ext cx="1225440" cy="1225800"/>
          </a:xfrm>
          <a:prstGeom prst="rect">
            <a:avLst/>
          </a:prstGeom>
          <a:solidFill>
            <a:srgbClr val="e6a8d1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93080" y="5707080"/>
            <a:ext cx="852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47720" y="260280"/>
            <a:ext cx="5118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哪些边长是整厘米数的正方形纸片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铺满这个长方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773360"/>
            <a:ext cx="5834160" cy="388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24680" y="1759320"/>
            <a:ext cx="675360" cy="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41960" y="5670360"/>
            <a:ext cx="51372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566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566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221120" y="5911560"/>
            <a:ext cx="1970280" cy="3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9600" y="5941080"/>
            <a:ext cx="2166840" cy="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380360" y="177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80360" y="422100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7440" y="55166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20720" y="33577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020000" y="5707080"/>
            <a:ext cx="852480" cy="1150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1773360"/>
            <a:ext cx="6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2492280"/>
            <a:ext cx="58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独立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组长组织在小组里交流，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整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的结果后选好代表发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7000" y="378000"/>
            <a:ext cx="5118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哪些边长是整厘米数的正方形纸片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铺满这个长方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小组里交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78720" y="404640"/>
            <a:ext cx="6240240" cy="1191240"/>
          </a:xfrm>
          <a:prstGeom prst="rect">
            <a:avLst/>
          </a:prstGeom>
          <a:solidFill>
            <a:srgbClr val="e6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要边长的厘米数既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6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能铺满这个长方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120" y="404640"/>
            <a:ext cx="7822080" cy="1191240"/>
          </a:xfrm>
          <a:prstGeom prst="rect">
            <a:avLst/>
          </a:prstGeom>
          <a:solidFill>
            <a:srgbClr val="bef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公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6165720"/>
            <a:ext cx="6940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公因数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1773360"/>
            <a:ext cx="5834160" cy="388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4680" y="1759320"/>
            <a:ext cx="675360" cy="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041960" y="5670360"/>
            <a:ext cx="51372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566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566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221120" y="5911560"/>
            <a:ext cx="1970280" cy="3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9600" y="5941080"/>
            <a:ext cx="2166840" cy="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380360" y="177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0360" y="422100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7440" y="55166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720" y="33577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624480" y="76500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一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公因数有哪些？你能有序地找一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989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独立思考，在练习纸上</a:t>
            </a:r>
            <a:r>
              <a:rPr b="0" lang="zh-CN" sz="2400" spc="-1" strike="noStrike">
                <a:solidFill>
                  <a:srgbClr val="ff5050"/>
                </a:solidFill>
                <a:latin typeface="华文行楷"/>
                <a:ea typeface="华文行楷"/>
              </a:rPr>
              <a:t>有序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写写，同伴交流、碰撞自己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组长在此组织交流同伴间想法，</a:t>
            </a:r>
            <a:r>
              <a:rPr b="0" lang="zh-CN" sz="2400" spc="-1" strike="noStrike">
                <a:solidFill>
                  <a:srgbClr val="ff5050"/>
                </a:solidFill>
                <a:latin typeface="华文行楷"/>
                <a:ea typeface="华文行楷"/>
              </a:rPr>
              <a:t>汇总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组内方法，选定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名代表发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55640" y="2997360"/>
            <a:ext cx="284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0000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隶书"/>
              </a:rPr>
              <a:t>碰撞智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ff0000"/>
                  </a:gs>
                  <a:gs pos="100000">
                    <a:srgbClr val="99cc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869000"/>
            <a:ext cx="56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欣赏的眼光发现他组的闪光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智慧的头脑给别组提点金点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学习的心态完善自己的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621800" y="549360"/>
            <a:ext cx="57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可以用下图表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公因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36720" y="328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4680" y="1700280"/>
            <a:ext cx="16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6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因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63960" y="1700280"/>
            <a:ext cx="16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因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7800" y="270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7800" y="36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5080" y="3357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0720" y="35733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47640" y="2565360"/>
            <a:ext cx="4032360" cy="252108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6000" y="2492280"/>
            <a:ext cx="4032360" cy="252108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3640" y="5300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公因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4508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5800" y="328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01800" y="2708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5800" y="40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96440" y="306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3440" y="2708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3080" y="263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68720" y="378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9440" y="39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592360" cy="847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043640" y="907920"/>
            <a:ext cx="71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因数上画“   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因数上画“    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80000" y="981000"/>
            <a:ext cx="502920" cy="432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98100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0920" y="1700280"/>
          <a:ext cx="8424720" cy="2735280"/>
        </p:xfrm>
        <a:graphic>
          <a:graphicData uri="http://schemas.openxmlformats.org/drawingml/2006/table">
            <a:tbl>
              <a:tblPr/>
              <a:tblGrid>
                <a:gridCol w="842760"/>
                <a:gridCol w="841320"/>
                <a:gridCol w="843120"/>
                <a:gridCol w="857160"/>
                <a:gridCol w="828720"/>
                <a:gridCol w="841320"/>
                <a:gridCol w="843120"/>
                <a:gridCol w="842760"/>
                <a:gridCol w="841680"/>
                <a:gridCol w="84276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1555920" y="4581360"/>
            <a:ext cx="52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公因数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8000" y="1700280"/>
            <a:ext cx="863640" cy="647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184464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5080" y="3645000"/>
            <a:ext cx="57636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184464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700280"/>
            <a:ext cx="863640" cy="647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84720" y="2565360"/>
            <a:ext cx="863640" cy="647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1700280"/>
            <a:ext cx="863640" cy="647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1700280"/>
            <a:ext cx="863640" cy="647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700280"/>
            <a:ext cx="863640" cy="647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08360" y="270828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184464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844640"/>
            <a:ext cx="5745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90560" y="4581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74560" y="4581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3800" y="4581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63560" y="544500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大公因数是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2580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08360" y="1844640"/>
            <a:ext cx="5745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1844640"/>
            <a:ext cx="5745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95280" y="4581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02:23Z</dcterms:created>
  <dc:creator>xjk</dc:creator>
  <dc:description/>
  <dc:language>en-US</dc:language>
  <cp:lastModifiedBy>USER</cp:lastModifiedBy>
  <dcterms:modified xsi:type="dcterms:W3CDTF">2013-03-11T03:25:19Z</dcterms:modified>
  <cp:revision>66</cp:revision>
  <dc:subject/>
  <dc:title>幻灯片 1</dc:title>
</cp:coreProperties>
</file>