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4.wmf" ContentType="image/x-wmf"/>
  <Override PartName="/ppt/media/image2.png" ContentType="image/png"/>
  <Override PartName="/ppt/media/image3.png" ContentType="image/png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95D96-983C-4A59-9322-CD0DAE47A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495E3-F791-4EFF-BF02-F35B7400C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36CEC-19F1-46EC-A391-A16A3E625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27A9F-66C8-404E-A72D-2F5D1B9B6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AB081-3DAB-4736-A0AA-7B61A6BC3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C1864-8C8E-418F-9A00-88F390D67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E4622-3F8F-4F89-8E8B-45E27100B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1F06-213F-40B8-9335-968755446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19AA-8ADF-4F55-8FCA-CD8466628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3229-E7E6-44D2-88B9-C6FB687CD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6283-DC75-4C31-8B04-95BC4678C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3774C-EB92-452E-86EA-EE18F4AFD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F2F64-38B5-4FB0-B5A9-A8CBF7A70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5546A-D5D3-4A94-9CE7-E4032DFD8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B1536-CD75-4C29-BB18-39258B9DE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88335-31A0-4441-8594-7242C5462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A43FC-1BDB-4DBC-BDB2-32B61ADA8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B3489-4FB7-4E48-BE60-BB7FDA67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969F-E331-4B15-B5FE-3561F3388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04801-1E9B-48F7-A631-EB9E86A7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9C8AE-09C1-4C34-A6DB-43AC1791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C0411-24E5-4668-9F68-CA2D5765E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B4FA3-C92B-4600-8CA6-845CFB578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0D2A9-A1C1-4236-BF5C-827B46687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F1FB-888D-4C0B-A7F5-98F992A1C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55CE-6DC2-4A5E-82C4-CE48748FA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5B6B-610A-41CC-BBA9-DAF48E92F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0E15-E767-47AD-9D0D-40D0E08E3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CC62-528E-4536-AD33-46271B16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C971-2B7B-41E4-A2E9-AD4CEEC2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8BBE-5E6F-4D85-953C-9C9C55C0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E3362-55DD-446A-8E7E-BDA543B0A8B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9400" y="-84960"/>
            <a:ext cx="2431800" cy="2252880"/>
            <a:chOff x="7169400" y="-84960"/>
            <a:chExt cx="2431800" cy="225288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9400" y="-84960"/>
              <a:ext cx="2431800" cy="2252880"/>
              <a:chOff x="7169400" y="-84960"/>
              <a:chExt cx="2431800" cy="225288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9400" y="-84960"/>
                <a:ext cx="2431800" cy="2252880"/>
                <a:chOff x="7169400" y="-84960"/>
                <a:chExt cx="2431800" cy="225288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2680"/>
                  <a:ext cx="24444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2600" y="520560"/>
                  <a:ext cx="42948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9840" y="283320"/>
                  <a:ext cx="80640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9600" y="-24840"/>
                  <a:ext cx="12106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8600" y="1421640"/>
                  <a:ext cx="26964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040" y="1276560"/>
                  <a:ext cx="28872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4800"/>
                  <a:ext cx="28872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3120" y="215640"/>
                  <a:ext cx="28548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69C52-E65F-4ED4-8A9E-DE90AA2DD8E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Picture 4" descr="edc15de7683aa114b83820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2031840" y="1706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WordArt 7"/>
          <p:cNvSpPr txBox="1"/>
          <p:nvPr/>
        </p:nvSpPr>
        <p:spPr>
          <a:xfrm>
            <a:off x="1476360" y="1052640"/>
            <a:ext cx="62643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数运算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3" name="TextBox 1"/>
          <p:cNvSpPr/>
          <p:nvPr/>
        </p:nvSpPr>
        <p:spPr>
          <a:xfrm>
            <a:off x="2484360" y="328464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春江中心小学 张丽华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285840" y="1071720"/>
            <a:ext cx="757692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1214280" y="571680"/>
            <a:ext cx="585792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矩形 10251"/>
          <p:cNvSpPr txBox="1"/>
          <p:nvPr/>
        </p:nvSpPr>
        <p:spPr>
          <a:xfrm>
            <a:off x="2124000" y="1989000"/>
            <a:ext cx="511200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谢谢指导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4"/>
          <p:cNvSpPr/>
          <p:nvPr/>
        </p:nvSpPr>
        <p:spPr>
          <a:xfrm>
            <a:off x="179280" y="981000"/>
            <a:ext cx="8460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列式解答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做一朵绸花用     米绸带。小芳做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朵这样的绸花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共用绸带多少米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 Box 53"/>
          <p:cNvSpPr/>
          <p:nvPr/>
        </p:nvSpPr>
        <p:spPr>
          <a:xfrm>
            <a:off x="3132000" y="1758960"/>
            <a:ext cx="44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 Box 53"/>
          <p:cNvSpPr/>
          <p:nvPr/>
        </p:nvSpPr>
        <p:spPr>
          <a:xfrm>
            <a:off x="6483240" y="1733400"/>
            <a:ext cx="44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Box 1"/>
          <p:cNvSpPr/>
          <p:nvPr/>
        </p:nvSpPr>
        <p:spPr>
          <a:xfrm>
            <a:off x="1187280" y="332748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2+2+2=6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（米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Box 7"/>
          <p:cNvSpPr/>
          <p:nvPr/>
        </p:nvSpPr>
        <p:spPr>
          <a:xfrm>
            <a:off x="4859280" y="4281480"/>
            <a:ext cx="30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3×2=6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（米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Box 8"/>
          <p:cNvSpPr/>
          <p:nvPr/>
        </p:nvSpPr>
        <p:spPr>
          <a:xfrm>
            <a:off x="4788000" y="332748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2×3=6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（米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横卷形 9"/>
          <p:cNvSpPr/>
          <p:nvPr/>
        </p:nvSpPr>
        <p:spPr>
          <a:xfrm>
            <a:off x="203040" y="-39600"/>
            <a:ext cx="2160720" cy="1008000"/>
          </a:xfrm>
          <a:prstGeom prst="horizontalScroll">
            <a:avLst>
              <a:gd name="adj" fmla="val 12500"/>
            </a:avLst>
          </a:prstGeom>
          <a:solidFill>
            <a:srgbClr val="ff99cc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黑体"/>
                <a:ea typeface="黑体"/>
              </a:rPr>
              <a:t>热身运动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4"/>
          <p:cNvSpPr/>
          <p:nvPr/>
        </p:nvSpPr>
        <p:spPr>
          <a:xfrm>
            <a:off x="179280" y="981000"/>
            <a:ext cx="8460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列式解答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做一朵绸花用     米绸带。小芳做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朵这样的绸花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共用绸带多少米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 Box 53"/>
          <p:cNvSpPr/>
          <p:nvPr/>
        </p:nvSpPr>
        <p:spPr>
          <a:xfrm>
            <a:off x="3132000" y="1758960"/>
            <a:ext cx="44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 Box 53"/>
          <p:cNvSpPr/>
          <p:nvPr/>
        </p:nvSpPr>
        <p:spPr>
          <a:xfrm>
            <a:off x="6483240" y="1733400"/>
            <a:ext cx="44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53"/>
          <p:cNvSpPr/>
          <p:nvPr/>
        </p:nvSpPr>
        <p:spPr>
          <a:xfrm>
            <a:off x="2967120" y="1708200"/>
            <a:ext cx="8539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.8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Box 49"/>
          <p:cNvSpPr/>
          <p:nvPr/>
        </p:nvSpPr>
        <p:spPr>
          <a:xfrm>
            <a:off x="395280" y="350028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0.8+0.8+0.8=2.4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（米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TextBox 50"/>
          <p:cNvSpPr/>
          <p:nvPr/>
        </p:nvSpPr>
        <p:spPr>
          <a:xfrm>
            <a:off x="5006880" y="4281480"/>
            <a:ext cx="37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3×0.8=2.4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（米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TextBox 51"/>
          <p:cNvSpPr/>
          <p:nvPr/>
        </p:nvSpPr>
        <p:spPr>
          <a:xfrm>
            <a:off x="5010120" y="3489480"/>
            <a:ext cx="347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0.8×3=2.4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（米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横卷形 8"/>
          <p:cNvSpPr/>
          <p:nvPr/>
        </p:nvSpPr>
        <p:spPr>
          <a:xfrm>
            <a:off x="203040" y="-39600"/>
            <a:ext cx="2160720" cy="1008000"/>
          </a:xfrm>
          <a:prstGeom prst="horizontalScroll">
            <a:avLst>
              <a:gd name="adj" fmla="val 12500"/>
            </a:avLst>
          </a:prstGeom>
          <a:solidFill>
            <a:srgbClr val="ff99cc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黑体"/>
                <a:ea typeface="黑体"/>
              </a:rPr>
              <a:t>热身运动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AutoShape 19"/>
          <p:cNvSpPr/>
          <p:nvPr/>
        </p:nvSpPr>
        <p:spPr>
          <a:xfrm rot="5400000">
            <a:off x="4030200" y="1010880"/>
            <a:ext cx="505080" cy="4321080"/>
          </a:xfrm>
          <a:custGeom>
            <a:avLst/>
            <a:gdLst>
              <a:gd name="textAreaLeft" fmla="*/ 0 w 505080"/>
              <a:gd name="textAreaRight" fmla="*/ 182520 w 505080"/>
              <a:gd name="textAreaTop" fmla="*/ 112680 h 4321080"/>
              <a:gd name="textAreaBottom" fmla="*/ 4208400 h 432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894"/>
                </a:lnTo>
                <a:cubicBezTo>
                  <a:pt x="10800" y="9794"/>
                  <a:pt x="16200" y="10694"/>
                  <a:pt x="21600" y="10694"/>
                </a:cubicBezTo>
                <a:cubicBezTo>
                  <a:pt x="16200" y="10694"/>
                  <a:pt x="10800" y="11594"/>
                  <a:pt x="10800" y="1249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 Box 21"/>
          <p:cNvSpPr/>
          <p:nvPr/>
        </p:nvSpPr>
        <p:spPr>
          <a:xfrm>
            <a:off x="3994200" y="35672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米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Rectangle 50"/>
          <p:cNvSpPr/>
          <p:nvPr/>
        </p:nvSpPr>
        <p:spPr>
          <a:xfrm>
            <a:off x="971640" y="260280"/>
            <a:ext cx="7057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做一朵绸花用      米绸带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2" name="Group 57"/>
          <p:cNvGrpSpPr/>
          <p:nvPr/>
        </p:nvGrpSpPr>
        <p:grpSpPr>
          <a:xfrm>
            <a:off x="3780000" y="189000"/>
            <a:ext cx="831240" cy="968040"/>
            <a:chOff x="3780000" y="189000"/>
            <a:chExt cx="831240" cy="968040"/>
          </a:xfrm>
        </p:grpSpPr>
        <p:sp>
          <p:nvSpPr>
            <p:cNvPr id="183" name="Text Box 53"/>
            <p:cNvSpPr/>
            <p:nvPr/>
          </p:nvSpPr>
          <p:spPr>
            <a:xfrm>
              <a:off x="4059000" y="189000"/>
              <a:ext cx="44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" name="Line 54"/>
            <p:cNvSpPr/>
            <p:nvPr/>
          </p:nvSpPr>
          <p:spPr>
            <a:xfrm>
              <a:off x="3780000" y="707760"/>
              <a:ext cx="79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" name="Text Box 55"/>
            <p:cNvSpPr/>
            <p:nvPr/>
          </p:nvSpPr>
          <p:spPr>
            <a:xfrm>
              <a:off x="3924000" y="636480"/>
              <a:ext cx="687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6" name="Rectangle 72"/>
          <p:cNvSpPr/>
          <p:nvPr/>
        </p:nvSpPr>
        <p:spPr>
          <a:xfrm>
            <a:off x="2122560" y="2637000"/>
            <a:ext cx="4321080" cy="215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Rectangle 74"/>
          <p:cNvSpPr/>
          <p:nvPr/>
        </p:nvSpPr>
        <p:spPr>
          <a:xfrm>
            <a:off x="179280" y="836640"/>
            <a:ext cx="8460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芳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朵这样的绸花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共用绸带几分之几米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8" name="Group 75"/>
          <p:cNvGrpSpPr/>
          <p:nvPr/>
        </p:nvGrpSpPr>
        <p:grpSpPr>
          <a:xfrm>
            <a:off x="2124000" y="2637000"/>
            <a:ext cx="4321080" cy="215640"/>
            <a:chOff x="2124000" y="2637000"/>
            <a:chExt cx="4321080" cy="215640"/>
          </a:xfrm>
        </p:grpSpPr>
        <p:sp>
          <p:nvSpPr>
            <p:cNvPr id="189" name="Rectangle 76"/>
            <p:cNvSpPr/>
            <p:nvPr/>
          </p:nvSpPr>
          <p:spPr>
            <a:xfrm>
              <a:off x="3421080" y="2637000"/>
              <a:ext cx="431640" cy="21564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Rectangle 77"/>
            <p:cNvSpPr/>
            <p:nvPr/>
          </p:nvSpPr>
          <p:spPr>
            <a:xfrm>
              <a:off x="3852720" y="2637000"/>
              <a:ext cx="432000" cy="21564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" name="Rectangle 78"/>
            <p:cNvSpPr/>
            <p:nvPr/>
          </p:nvSpPr>
          <p:spPr>
            <a:xfrm>
              <a:off x="4284720" y="2637000"/>
              <a:ext cx="431640" cy="21564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2" name="Rectangle 79"/>
            <p:cNvSpPr/>
            <p:nvPr/>
          </p:nvSpPr>
          <p:spPr>
            <a:xfrm>
              <a:off x="4716360" y="2637000"/>
              <a:ext cx="431640" cy="21564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Rectangle 80"/>
            <p:cNvSpPr/>
            <p:nvPr/>
          </p:nvSpPr>
          <p:spPr>
            <a:xfrm>
              <a:off x="5148000" y="2637000"/>
              <a:ext cx="432000" cy="21564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" name="Rectangle 81"/>
            <p:cNvSpPr/>
            <p:nvPr/>
          </p:nvSpPr>
          <p:spPr>
            <a:xfrm>
              <a:off x="5581440" y="2637000"/>
              <a:ext cx="432000" cy="21564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5" name="Rectangle 82"/>
            <p:cNvSpPr/>
            <p:nvPr/>
          </p:nvSpPr>
          <p:spPr>
            <a:xfrm>
              <a:off x="6013440" y="2637000"/>
              <a:ext cx="431640" cy="21564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" name="Rectangle 83"/>
            <p:cNvSpPr/>
            <p:nvPr/>
          </p:nvSpPr>
          <p:spPr>
            <a:xfrm>
              <a:off x="2989080" y="2637000"/>
              <a:ext cx="432000" cy="21564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" name="Rectangle 84"/>
            <p:cNvSpPr/>
            <p:nvPr/>
          </p:nvSpPr>
          <p:spPr>
            <a:xfrm>
              <a:off x="2555640" y="2637000"/>
              <a:ext cx="432000" cy="21564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8" name="Rectangle 85"/>
            <p:cNvSpPr/>
            <p:nvPr/>
          </p:nvSpPr>
          <p:spPr>
            <a:xfrm>
              <a:off x="2124000" y="2637000"/>
              <a:ext cx="431640" cy="21564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9" name="Group 87"/>
          <p:cNvGrpSpPr/>
          <p:nvPr/>
        </p:nvGrpSpPr>
        <p:grpSpPr>
          <a:xfrm>
            <a:off x="2124000" y="2637000"/>
            <a:ext cx="1297080" cy="215640"/>
            <a:chOff x="2124000" y="2637000"/>
            <a:chExt cx="1297080" cy="215640"/>
          </a:xfrm>
        </p:grpSpPr>
        <p:sp>
          <p:nvSpPr>
            <p:cNvPr id="200" name="Rectangle 88"/>
            <p:cNvSpPr/>
            <p:nvPr/>
          </p:nvSpPr>
          <p:spPr>
            <a:xfrm>
              <a:off x="2124000" y="2637000"/>
              <a:ext cx="431640" cy="21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1" name="Rectangle 89"/>
            <p:cNvSpPr/>
            <p:nvPr/>
          </p:nvSpPr>
          <p:spPr>
            <a:xfrm>
              <a:off x="2555640" y="2637000"/>
              <a:ext cx="432000" cy="21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2" name="Rectangle 90"/>
            <p:cNvSpPr/>
            <p:nvPr/>
          </p:nvSpPr>
          <p:spPr>
            <a:xfrm>
              <a:off x="2989080" y="2637000"/>
              <a:ext cx="432000" cy="21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03" name="AutoShape 91"/>
          <p:cNvSpPr/>
          <p:nvPr/>
        </p:nvSpPr>
        <p:spPr>
          <a:xfrm rot="5400000">
            <a:off x="2591280" y="1809000"/>
            <a:ext cx="360360" cy="1295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4" name="Group 97"/>
          <p:cNvGrpSpPr/>
          <p:nvPr/>
        </p:nvGrpSpPr>
        <p:grpSpPr>
          <a:xfrm>
            <a:off x="2268360" y="1484280"/>
            <a:ext cx="1230480" cy="720720"/>
            <a:chOff x="2268360" y="1484280"/>
            <a:chExt cx="1230480" cy="720720"/>
          </a:xfrm>
        </p:grpSpPr>
        <p:sp>
          <p:nvSpPr>
            <p:cNvPr id="205" name="Text Box 93"/>
            <p:cNvSpPr/>
            <p:nvPr/>
          </p:nvSpPr>
          <p:spPr>
            <a:xfrm>
              <a:off x="2556000" y="1484280"/>
              <a:ext cx="43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6" name="Line 94"/>
            <p:cNvSpPr/>
            <p:nvPr/>
          </p:nvSpPr>
          <p:spPr>
            <a:xfrm>
              <a:off x="2268360" y="1859040"/>
              <a:ext cx="7923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" name="Text Box 95"/>
            <p:cNvSpPr/>
            <p:nvPr/>
          </p:nvSpPr>
          <p:spPr>
            <a:xfrm>
              <a:off x="2484360" y="183672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8" name="Text Box 96"/>
            <p:cNvSpPr/>
            <p:nvPr/>
          </p:nvSpPr>
          <p:spPr>
            <a:xfrm>
              <a:off x="3059280" y="1700280"/>
              <a:ext cx="43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米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09" name="Rectangle 108"/>
          <p:cNvSpPr/>
          <p:nvPr/>
        </p:nvSpPr>
        <p:spPr>
          <a:xfrm>
            <a:off x="36360" y="3943440"/>
            <a:ext cx="8496360" cy="22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学习要求：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在图中涂色表示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朵绸花一共用绸带几分之几米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在方框里列出算式，并算出得数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小组交流算法，准备全班交流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圆角矩形 1"/>
          <p:cNvSpPr/>
          <p:nvPr/>
        </p:nvSpPr>
        <p:spPr>
          <a:xfrm>
            <a:off x="38160" y="4005360"/>
            <a:ext cx="8494560" cy="22064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with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with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5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横卷形 16"/>
          <p:cNvSpPr/>
          <p:nvPr/>
        </p:nvSpPr>
        <p:spPr>
          <a:xfrm>
            <a:off x="203040" y="-100080"/>
            <a:ext cx="2160720" cy="1008000"/>
          </a:xfrm>
          <a:prstGeom prst="horizontalScroll">
            <a:avLst>
              <a:gd name="adj" fmla="val 12500"/>
            </a:avLst>
          </a:prstGeom>
          <a:solidFill>
            <a:srgbClr val="ff99cc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黑体"/>
                <a:ea typeface="黑体"/>
              </a:rPr>
              <a:t>小试身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3" name="Picture 18" descr=""/>
          <p:cNvPicPr/>
          <p:nvPr/>
        </p:nvPicPr>
        <p:blipFill>
          <a:blip r:embed="rId1"/>
          <a:stretch/>
        </p:blipFill>
        <p:spPr>
          <a:xfrm>
            <a:off x="203040" y="920880"/>
            <a:ext cx="3549960" cy="2820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1" descr=""/>
          <p:cNvPicPr/>
          <p:nvPr/>
        </p:nvPicPr>
        <p:blipFill>
          <a:blip r:embed="rId2"/>
          <a:srcRect l="0" t="0" r="79375" b="0"/>
          <a:stretch/>
        </p:blipFill>
        <p:spPr>
          <a:xfrm>
            <a:off x="5330880" y="3157560"/>
            <a:ext cx="2259000" cy="10634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2" descr=""/>
          <p:cNvPicPr/>
          <p:nvPr/>
        </p:nvPicPr>
        <p:blipFill>
          <a:blip r:embed="rId3"/>
          <a:srcRect l="0" t="0" r="55258" b="0"/>
          <a:stretch/>
        </p:blipFill>
        <p:spPr>
          <a:xfrm>
            <a:off x="285840" y="3643200"/>
            <a:ext cx="3744720" cy="192096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7" name="Group 57"/>
          <p:cNvGrpSpPr/>
          <p:nvPr/>
        </p:nvGrpSpPr>
        <p:grpSpPr>
          <a:xfrm>
            <a:off x="3286080" y="3500280"/>
            <a:ext cx="1287000" cy="968400"/>
            <a:chOff x="3286080" y="3500280"/>
            <a:chExt cx="1287000" cy="968400"/>
          </a:xfrm>
        </p:grpSpPr>
        <p:sp>
          <p:nvSpPr>
            <p:cNvPr id="218" name="Text Box 53"/>
            <p:cNvSpPr/>
            <p:nvPr/>
          </p:nvSpPr>
          <p:spPr>
            <a:xfrm>
              <a:off x="3509280" y="3500280"/>
              <a:ext cx="891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Arial"/>
                </a:rPr>
                <a:t>（）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9" name="Line 54"/>
            <p:cNvSpPr/>
            <p:nvPr/>
          </p:nvSpPr>
          <p:spPr>
            <a:xfrm>
              <a:off x="3286080" y="4019400"/>
              <a:ext cx="12258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" name="Text Box 55"/>
            <p:cNvSpPr/>
            <p:nvPr/>
          </p:nvSpPr>
          <p:spPr>
            <a:xfrm>
              <a:off x="3509280" y="3948120"/>
              <a:ext cx="106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Arial"/>
                </a:rPr>
                <a:t>（）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1" name="TextBox 3"/>
          <p:cNvSpPr/>
          <p:nvPr/>
        </p:nvSpPr>
        <p:spPr>
          <a:xfrm>
            <a:off x="-230040" y="920880"/>
            <a:ext cx="125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TextBox 29"/>
          <p:cNvSpPr/>
          <p:nvPr/>
        </p:nvSpPr>
        <p:spPr>
          <a:xfrm>
            <a:off x="4097160" y="1073160"/>
            <a:ext cx="125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TextBox 4"/>
          <p:cNvSpPr/>
          <p:nvPr/>
        </p:nvSpPr>
        <p:spPr>
          <a:xfrm>
            <a:off x="3203640" y="22860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看图填空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4" name="Picture 33" descr=""/>
          <p:cNvPicPr/>
          <p:nvPr/>
        </p:nvPicPr>
        <p:blipFill>
          <a:blip r:embed="rId4"/>
          <a:stretch/>
        </p:blipFill>
        <p:spPr>
          <a:xfrm>
            <a:off x="4522680" y="1657440"/>
            <a:ext cx="3643560" cy="10652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4" descr=""/>
          <p:cNvPicPr/>
          <p:nvPr/>
        </p:nvPicPr>
        <p:blipFill>
          <a:blip r:embed="rId5"/>
          <a:stretch/>
        </p:blipFill>
        <p:spPr>
          <a:xfrm>
            <a:off x="316080" y="2309760"/>
            <a:ext cx="3535200" cy="209520"/>
          </a:xfrm>
          <a:prstGeom prst="rect">
            <a:avLst/>
          </a:prstGeom>
          <a:ln w="0">
            <a:noFill/>
          </a:ln>
        </p:spPr>
      </p:pic>
      <p:sp>
        <p:nvSpPr>
          <p:cNvPr id="226" name="TextBox 2"/>
          <p:cNvSpPr/>
          <p:nvPr/>
        </p:nvSpPr>
        <p:spPr>
          <a:xfrm>
            <a:off x="1692360" y="3357720"/>
            <a:ext cx="7189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TextBox 17"/>
          <p:cNvSpPr/>
          <p:nvPr/>
        </p:nvSpPr>
        <p:spPr>
          <a:xfrm>
            <a:off x="4143240" y="3929040"/>
            <a:ext cx="1143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相加。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8" name="对象 1"/>
              <p:cNvSpPr txBox="1"/>
              <p:nvPr/>
            </p:nvSpPr>
            <p:spPr>
              <a:xfrm>
                <a:off x="2484360" y="609480"/>
                <a:ext cx="267012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3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对象 2"/>
              <p:cNvSpPr txBox="1"/>
              <p:nvPr/>
            </p:nvSpPr>
            <p:spPr>
              <a:xfrm>
                <a:off x="2484360" y="1413000"/>
                <a:ext cx="28400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0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4443480" y="11383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对象 6"/>
              <p:cNvSpPr txBox="1"/>
              <p:nvPr/>
            </p:nvSpPr>
            <p:spPr>
              <a:xfrm>
                <a:off x="2538360" y="2205000"/>
                <a:ext cx="260532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对象 7"/>
              <p:cNvSpPr txBox="1"/>
              <p:nvPr/>
            </p:nvSpPr>
            <p:spPr>
              <a:xfrm>
                <a:off x="2398680" y="3068640"/>
                <a:ext cx="291168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4" name="Rectangle 10"/>
          <p:cNvSpPr/>
          <p:nvPr/>
        </p:nvSpPr>
        <p:spPr>
          <a:xfrm>
            <a:off x="324000" y="-27000"/>
            <a:ext cx="7705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回顾：分数与整数相乘，可以怎样计算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297000" y="4202280"/>
            <a:ext cx="8532720" cy="128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小组学习：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黑体"/>
                <a:ea typeface="黑体"/>
              </a:rPr>
              <a:t>、先独立思考，再在小组内交流自己的想法；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500" spc="-1" strike="noStrike">
                <a:solidFill>
                  <a:srgbClr val="000000"/>
                </a:solidFill>
                <a:latin typeface="黑体"/>
                <a:ea typeface="黑体"/>
              </a:rPr>
              <a:t>、各组选派代表用简洁的数学语言面向全体同学进行交流分享。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圆角矩形 9"/>
          <p:cNvSpPr/>
          <p:nvPr/>
        </p:nvSpPr>
        <p:spPr>
          <a:xfrm>
            <a:off x="38160" y="4005360"/>
            <a:ext cx="8494560" cy="22064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4443480" y="11383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Rectangle 10"/>
          <p:cNvSpPr/>
          <p:nvPr/>
        </p:nvSpPr>
        <p:spPr>
          <a:xfrm>
            <a:off x="324000" y="-100080"/>
            <a:ext cx="7705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回顾与反思：分数与整数相乘，可以怎样计算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0" name="Picture 37" descr=""/>
          <p:cNvPicPr/>
          <p:nvPr/>
        </p:nvPicPr>
        <p:blipFill>
          <a:blip r:embed="rId1"/>
          <a:stretch/>
        </p:blipFill>
        <p:spPr>
          <a:xfrm>
            <a:off x="2187720" y="4873680"/>
            <a:ext cx="3429000" cy="12128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8" descr=""/>
          <p:cNvPicPr/>
          <p:nvPr/>
        </p:nvPicPr>
        <p:blipFill>
          <a:blip r:embed="rId2"/>
          <a:stretch/>
        </p:blipFill>
        <p:spPr>
          <a:xfrm>
            <a:off x="2163600" y="3357720"/>
            <a:ext cx="3321360" cy="11206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9" descr=""/>
          <p:cNvPicPr/>
          <p:nvPr/>
        </p:nvPicPr>
        <p:blipFill>
          <a:blip r:embed="rId3"/>
          <a:stretch/>
        </p:blipFill>
        <p:spPr>
          <a:xfrm>
            <a:off x="2273400" y="2104920"/>
            <a:ext cx="3174840" cy="9446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0" descr=""/>
          <p:cNvPicPr/>
          <p:nvPr/>
        </p:nvPicPr>
        <p:blipFill>
          <a:blip r:embed="rId4"/>
          <a:stretch/>
        </p:blipFill>
        <p:spPr>
          <a:xfrm>
            <a:off x="2192400" y="741240"/>
            <a:ext cx="3336840" cy="1069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324000" y="1700280"/>
            <a:ext cx="8459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华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朵这样的绸花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共用绸带几分之几米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900000" y="476280"/>
            <a:ext cx="70581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做一朵绸花用      米绸带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6" name="Group 6"/>
          <p:cNvGrpSpPr/>
          <p:nvPr/>
        </p:nvGrpSpPr>
        <p:grpSpPr>
          <a:xfrm>
            <a:off x="3276720" y="404640"/>
            <a:ext cx="831240" cy="968400"/>
            <a:chOff x="3276720" y="404640"/>
            <a:chExt cx="831240" cy="968400"/>
          </a:xfrm>
        </p:grpSpPr>
        <p:sp>
          <p:nvSpPr>
            <p:cNvPr id="247" name="Text Box 7"/>
            <p:cNvSpPr/>
            <p:nvPr/>
          </p:nvSpPr>
          <p:spPr>
            <a:xfrm>
              <a:off x="3555720" y="404640"/>
              <a:ext cx="44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Line 8"/>
            <p:cNvSpPr/>
            <p:nvPr/>
          </p:nvSpPr>
          <p:spPr>
            <a:xfrm>
              <a:off x="3276720" y="923760"/>
              <a:ext cx="79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Text Box 9"/>
            <p:cNvSpPr/>
            <p:nvPr/>
          </p:nvSpPr>
          <p:spPr>
            <a:xfrm>
              <a:off x="3420720" y="852480"/>
              <a:ext cx="687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50" name="Rectangle 10"/>
          <p:cNvSpPr/>
          <p:nvPr/>
        </p:nvSpPr>
        <p:spPr>
          <a:xfrm>
            <a:off x="684360" y="2565360"/>
            <a:ext cx="77054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学习要求：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在方框里独立列出算式并计算！做完后小组交流完善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对象 2"/>
              <p:cNvSpPr txBox="1"/>
              <p:nvPr/>
            </p:nvSpPr>
            <p:spPr>
              <a:xfrm>
                <a:off x="3500280" y="4786200"/>
                <a:ext cx="1428840" cy="104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5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WordArt 7"/>
          <p:cNvSpPr txBox="1"/>
          <p:nvPr/>
        </p:nvSpPr>
        <p:spPr>
          <a:xfrm>
            <a:off x="2700360" y="260280"/>
            <a:ext cx="3024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男生女生向前冲</a:t>
            </a:r>
            <a:endParaRPr b="0" lang="en-US" sz="2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53" name="Picture 7" descr=""/>
          <p:cNvPicPr/>
          <p:nvPr/>
        </p:nvPicPr>
        <p:blipFill>
          <a:blip r:embed="rId1"/>
          <a:stretch/>
        </p:blipFill>
        <p:spPr>
          <a:xfrm>
            <a:off x="571680" y="1000080"/>
            <a:ext cx="707220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0T04:30:25Z</dcterms:created>
  <dc:creator>21cnjy</dc:creator>
  <dc:description>21cnjy</dc:description>
  <cp:keywords>21cnjy</cp:keywords>
  <dc:language>en-US</dc:language>
  <cp:lastModifiedBy>微软用户</cp:lastModifiedBy>
  <dcterms:modified xsi:type="dcterms:W3CDTF">2017-09-14T04:32:28Z</dcterms:modified>
  <cp:revision>177</cp:revision>
  <dc:subject>21cnjy</dc:subject>
  <dc:title>21cnjy</dc:title>
</cp:coreProperties>
</file>