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146-CE10-45C1-889C-3C3B90C9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B2E-8290-4FE3-A74B-7EA9963B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633-F0A4-4DA7-B3CC-8A48667E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956-3117-4489-B28D-980B1219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8B3-2109-4E8A-8C10-728AD0B3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D89-8DB7-4ECE-A666-43CFEC90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822-AF8D-4284-B2D2-212A88D6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72F-0B00-4457-A99B-3459F41E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E5B-51E6-47CD-BA37-C7DCB1DF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2DF-C0BB-42DC-B246-89971FEB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43E-3B19-43C0-BFD7-C9F85165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7C5-F420-4475-BD42-93284AE0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6770-AC26-46FF-8C27-DC66FEF04C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36840" y="5218200"/>
            <a:ext cx="4892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六小学 五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379600" cy="3733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2782800" cy="3962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876920" y="380880"/>
            <a:ext cx="3733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你知道吗？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3505320" cy="3810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90520" y="9144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班的节水标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5029200"/>
            <a:ext cx="8077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节水、惜水、爱水，从我做起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3-24T03:05:3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