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03B3-6EA1-412D-9896-3957FEE1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3D4D-0B74-42D9-8CC8-A2707F9A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AFD2-1124-4658-9FCB-5D6A4863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F01F-D9B4-4146-8464-410C8B22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7A7-386B-4AA5-BACC-65D94ED6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E9A1-0B34-4CD3-8754-309461DD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1EF0-90DC-4674-802C-FF6727E3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47CF-8A88-4954-B40F-5ABC136F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59BD-CB18-48C0-B8B0-ED40A8A9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66B-569E-4238-ADD7-8C3E54E9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9D19-9350-4E41-853C-A36D3278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9BF-EBAD-4C2C-8FF7-76E474D3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EFAA-2E5F-43DD-AC7B-1255AC01DF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吴琳赟</cp:lastModifiedBy>
  <dcterms:modified xsi:type="dcterms:W3CDTF">2016-03-29T05:58:40Z</dcterms:modified>
  <cp:revision>27</cp:revision>
  <dc:subject/>
  <dc:title>幻灯片 1</dc:title>
</cp:coreProperties>
</file>