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72A0-8F6E-4C5F-954A-0584A272598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8A1A-6117-405D-BD7F-6AD10D6E949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1B95-D91A-4BE2-BFCB-610F8AFA3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7283-A103-41AA-8BC0-889A7228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FDE4-33E7-470D-B798-3066B2663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7737-BEA3-4720-99F1-B6106768F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B171-0638-4AFD-9D64-7667BD41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788C-9D6B-4E4E-8F80-5869C7C4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BBBE-F17C-4801-8F3B-24B3054D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4FA4-9C48-498B-9015-4154C9ED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B99C-52DD-4A32-BE47-0C84B716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F277-D1B3-40F0-9A01-809605A8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6128-30F8-45B4-BCAF-EAF35B50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9590-B42B-4C1F-9FAD-ED7ACEA7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D56D-445A-4267-9E08-758BA48D4FB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4" descr="封面2.jpg"/>
          <p:cNvPicPr/>
          <p:nvPr/>
        </p:nvPicPr>
        <p:blipFill>
          <a:blip r:embed="rId1"/>
          <a:stretch/>
        </p:blipFill>
        <p:spPr>
          <a:xfrm>
            <a:off x="428760" y="285840"/>
            <a:ext cx="8501040" cy="6072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85880" y="2071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19</a:t>
            </a: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、云雀的心愿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4" descr="洪水1.jpg"/>
          <p:cNvPicPr/>
          <p:nvPr/>
        </p:nvPicPr>
        <p:blipFill>
          <a:blip r:embed="rId1">
            <a:lum bright="38000"/>
          </a:blip>
          <a:stretch/>
        </p:blipFill>
        <p:spPr>
          <a:xfrm>
            <a:off x="0" y="928800"/>
            <a:ext cx="9144000" cy="60735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85880" y="2214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们飞呀飞，飞到一条大河的上空。只见大河的水位很高，浑黄的河水像脱缰的野马，咆哮着向下游冲去。有几处河堤被冲垮了，一些村庄淹没在洪水之中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0" y="-214200"/>
            <a:ext cx="18050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4" descr="洪水1.jpg"/>
          <p:cNvPicPr/>
          <p:nvPr/>
        </p:nvPicPr>
        <p:blipFill>
          <a:blip r:embed="rId1">
            <a:lum bright="38000"/>
          </a:blip>
          <a:stretch/>
        </p:blipFill>
        <p:spPr>
          <a:xfrm>
            <a:off x="0" y="928800"/>
            <a:ext cx="9144000" cy="60735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85880" y="2214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们飞呀飞，飞到一条大河的上空。只见大河的水位很高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浑黄的河水像脱缰的野马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咆哮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着向下游冲去。有几处河堤被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冲垮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了，一些村庄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淹没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在洪水之中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0" y="-214200"/>
            <a:ext cx="19288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4" descr="洪水1.jpg"/>
          <p:cNvPicPr/>
          <p:nvPr/>
        </p:nvPicPr>
        <p:blipFill>
          <a:blip r:embed="rId1">
            <a:lum bright="38000"/>
          </a:blip>
          <a:stretch/>
        </p:blipFill>
        <p:spPr>
          <a:xfrm>
            <a:off x="0" y="928800"/>
            <a:ext cx="9144000" cy="60735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妈妈，妈妈，大河里的水怎么这么凶猛啊？”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云雀妈妈叹了一口气：“唉，上游的森林被砍光了，‘森林水库’没有了，到了汛期，大河里的水就会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泛滥成灾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”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142800" y="213840"/>
            <a:ext cx="48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泛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滥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成灾    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滥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竽充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918360" y="4287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乱砍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滥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4"/>
          <p:cNvSpPr/>
          <p:nvPr/>
        </p:nvSpPr>
        <p:spPr>
          <a:xfrm>
            <a:off x="2214720" y="1857240"/>
            <a:ext cx="6500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流水漫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不加选择，不加节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浮泛不合实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1428840"/>
            <a:ext cx="10000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214200" y="2571480"/>
            <a:ext cx="4829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泛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滥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成灾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滥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竽充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1490040" y="26431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乱砍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滥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4"/>
          <p:cNvSpPr/>
          <p:nvPr/>
        </p:nvSpPr>
        <p:spPr>
          <a:xfrm>
            <a:off x="4572000" y="1285920"/>
            <a:ext cx="4572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流水漫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不加选择，不加节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浮泛不合实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10000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2" descr="11.jpg"/>
          <p:cNvPicPr/>
          <p:nvPr/>
        </p:nvPicPr>
        <p:blipFill>
          <a:blip r:embed="rId1">
            <a:lum bright="78000"/>
          </a:blip>
          <a:stretch/>
        </p:blipFill>
        <p:spPr>
          <a:xfrm>
            <a:off x="357120" y="214200"/>
            <a:ext cx="8418600" cy="64296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004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“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孩子，森林也是可以蓄水的呀。森林的树冠就像一把把大伞，可以挡住一部分雨水，不让它们直接冲刷地面。树干上的苔藓和树下的枯枝败叶也可以吸收一部分雨水。森林里土壤的蓄水能力就更大了，剩下来的雨水渗进土壤，大都能够被储存起来。你看，森林不就是一座大水库吗？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2" descr="11.jpg"/>
          <p:cNvPicPr/>
          <p:nvPr/>
        </p:nvPicPr>
        <p:blipFill>
          <a:blip r:embed="rId1">
            <a:lum bright="78000"/>
          </a:blip>
          <a:stretch/>
        </p:blipFill>
        <p:spPr>
          <a:xfrm>
            <a:off x="357120" y="214200"/>
            <a:ext cx="8418600" cy="64296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004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“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孩子，森林也是可以蓄水的呀。森林的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树冠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就像一把把大伞，可以挡住一部分雨水，不让它们直接冲刷地面。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树干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上的苔藓和树下的枯枝败叶也可以吸收一部分雨水。森林里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土壤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的蓄水能力就更大了，剩下来的雨水渗进土壤，大都能够被储存起来。你看，森林不就是一座大水库吗？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2" descr="11.jpg"/>
          <p:cNvPicPr/>
          <p:nvPr/>
        </p:nvPicPr>
        <p:blipFill>
          <a:blip r:embed="rId1">
            <a:lum bright="78000"/>
          </a:blip>
          <a:stretch/>
        </p:blipFill>
        <p:spPr>
          <a:xfrm>
            <a:off x="357120" y="214200"/>
            <a:ext cx="8418600" cy="64296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004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孩子，森林也是可以蓄水的呀。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森林的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树冠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就像一把把大伞，可以挡住一部分雨水，不让它们直接冲刷地面。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树干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上的苔藓和树下的枯枝败叶也可以吸收一部分雨水。森林里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土壤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的蓄水能力就更大了，剩下来的雨水渗进土壤，大都能够被储存起来。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你看，森林不就是一座大水库吗？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2" descr="11.jpg"/>
          <p:cNvPicPr/>
          <p:nvPr/>
        </p:nvPicPr>
        <p:blipFill>
          <a:blip r:embed="rId1">
            <a:lum bright="78000"/>
          </a:blip>
          <a:stretch/>
        </p:blipFill>
        <p:spPr>
          <a:xfrm>
            <a:off x="357120" y="214200"/>
            <a:ext cx="8418600" cy="64296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4240" y="1999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云雀妈妈擦去头上的汗水说：“那是因为森林也是一个巨大的空调器。夏天，林子里枝叶茂密，挡住了强烈的太阳光，自然就凉快些；冬天，由于树木的遮挡，林子里的热量不容易散失，所以就暖和些。你看，森林像不像空调器？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2" descr="11.jpg"/>
          <p:cNvPicPr/>
          <p:nvPr/>
        </p:nvPicPr>
        <p:blipFill>
          <a:blip r:embed="rId1">
            <a:lum bright="78000"/>
          </a:blip>
          <a:stretch/>
        </p:blipFill>
        <p:spPr>
          <a:xfrm>
            <a:off x="357120" y="214200"/>
            <a:ext cx="8418600" cy="64296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14240" y="1999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云雀妈妈擦去头上的汗水说：“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那是因为森林也是一个巨大的空调器。夏天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林子里枝叶茂密，挡住了强烈的太阳光，自然就凉快些；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冬天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由于树木的遮挡，林子里的热量不容易散失，所以就暖和些。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你看，森林像不像空调器？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840" y="2643120"/>
            <a:ext cx="8215560" cy="350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树</a:t>
            </a: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冠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uān guàn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） 暖</a:t>
            </a: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和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é huo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）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空</a:t>
            </a: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调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器（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iáo   diào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埋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怨（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án mái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）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挨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近（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āi   ái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）          淹</a:t>
            </a: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没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i   mo)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树</a:t>
            </a: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干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ān   gàn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）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381400" cy="1886040"/>
          </a:xfrm>
          <a:prstGeom prst="rect">
            <a:avLst/>
          </a:prstGeom>
          <a:ln w="0">
            <a:noFill/>
          </a:ln>
        </p:spPr>
      </p:pic>
      <p:sp>
        <p:nvSpPr>
          <p:cNvPr id="52" name="直接连接符 8"/>
          <p:cNvSpPr/>
          <p:nvPr/>
        </p:nvSpPr>
        <p:spPr>
          <a:xfrm>
            <a:off x="7571520" y="4143240"/>
            <a:ext cx="71640" cy="7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接连接符 11"/>
          <p:cNvSpPr/>
          <p:nvPr/>
        </p:nvSpPr>
        <p:spPr>
          <a:xfrm flipV="1">
            <a:off x="6571440" y="4428720"/>
            <a:ext cx="71640" cy="82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6"/>
          <p:cNvSpPr/>
          <p:nvPr/>
        </p:nvSpPr>
        <p:spPr>
          <a:xfrm>
            <a:off x="3309480" y="7858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请给红色的字选择正确的读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7"/>
          <p:cNvSpPr/>
          <p:nvPr/>
        </p:nvSpPr>
        <p:spPr>
          <a:xfrm>
            <a:off x="7724880" y="4295880"/>
            <a:ext cx="71280" cy="7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2" descr="11.jpg"/>
          <p:cNvPicPr/>
          <p:nvPr/>
        </p:nvPicPr>
        <p:blipFill>
          <a:blip r:embed="rId1">
            <a:lum bright="78000"/>
          </a:blip>
          <a:stretch/>
        </p:blipFill>
        <p:spPr>
          <a:xfrm>
            <a:off x="357120" y="214200"/>
            <a:ext cx="8418600" cy="64296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785808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链接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一亩树林的作用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一亩树林一天能吸收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7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公斤二氧化碳，放出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9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公斤氧气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一亩树林一个夏季可蒸发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吨水，一年达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00~500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吨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一亩树林一年可吸收各种灰尘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2~60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吨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一亩树林一个月可以吸收有毒气体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公斤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一亩有林地比一亩无林地多蓄水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吨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一亩防风林可保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多亩农田免受风灾。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其中，有几条都是围绕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森林具有净化空气的作用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，请你把它们挑出来，以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森林也是一个巨大的空气净化器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开头，像云雀妈妈那样有条理地说一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4" descr="封面2.jpg"/>
          <p:cNvPicPr/>
          <p:nvPr/>
        </p:nvPicPr>
        <p:blipFill>
          <a:blip r:embed="rId1"/>
          <a:stretch/>
        </p:blipFill>
        <p:spPr>
          <a:xfrm>
            <a:off x="353880" y="285840"/>
            <a:ext cx="8501040" cy="60721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85880" y="571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云雀的心愿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标题 1"/>
          <p:cNvSpPr/>
          <p:nvPr/>
        </p:nvSpPr>
        <p:spPr>
          <a:xfrm>
            <a:off x="857160" y="25002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Calibri"/>
              </a:rPr>
              <a:t>把沙漠变成绿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3840" y="2643120"/>
            <a:ext cx="8215560" cy="350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树</a:t>
            </a: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冠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guā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guàn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） 暖</a:t>
            </a: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和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é 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huo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）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空</a:t>
            </a: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调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器（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tiáo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diào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埋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怨（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má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mái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）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挨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近（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āi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ái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）          淹</a:t>
            </a: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没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i   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mo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树</a:t>
            </a: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干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ān   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gàn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）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381400" cy="1886040"/>
          </a:xfrm>
          <a:prstGeom prst="rect">
            <a:avLst/>
          </a:prstGeom>
          <a:ln w="0">
            <a:noFill/>
          </a:ln>
        </p:spPr>
      </p:pic>
      <p:sp>
        <p:nvSpPr>
          <p:cNvPr id="58" name="直接连接符 8"/>
          <p:cNvSpPr/>
          <p:nvPr/>
        </p:nvSpPr>
        <p:spPr>
          <a:xfrm>
            <a:off x="7571520" y="4143240"/>
            <a:ext cx="71640" cy="7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11"/>
          <p:cNvSpPr/>
          <p:nvPr/>
        </p:nvSpPr>
        <p:spPr>
          <a:xfrm flipV="1">
            <a:off x="6571440" y="4143240"/>
            <a:ext cx="71640" cy="82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6"/>
          <p:cNvSpPr/>
          <p:nvPr/>
        </p:nvSpPr>
        <p:spPr>
          <a:xfrm>
            <a:off x="3309480" y="7858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请给红色的字选择正确的读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18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们飞呀飞，飞到一片沙漠的上空。一阵狂风刮过，地上的黄沙漫天飞舞，迷得他们睁不开眼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9288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2" descr="117903372474696964.jpg"/>
          <p:cNvPicPr/>
          <p:nvPr/>
        </p:nvPicPr>
        <p:blipFill>
          <a:blip r:embed="rId1"/>
          <a:stretch/>
        </p:blipFill>
        <p:spPr>
          <a:xfrm>
            <a:off x="285840" y="214200"/>
            <a:ext cx="8597880" cy="65008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004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们飞呀飞，飞到一片沙漠的上空。一阵狂风刮过，地上的黄沙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漫天飞舞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迷得他们睁不开眼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3" descr="117903372474696964.jpg"/>
          <p:cNvPicPr/>
          <p:nvPr/>
        </p:nvPicPr>
        <p:blipFill>
          <a:blip r:embed="rId1"/>
          <a:stretch/>
        </p:blipFill>
        <p:spPr>
          <a:xfrm>
            <a:off x="357120" y="214200"/>
            <a:ext cx="8429760" cy="6357960"/>
          </a:xfrm>
          <a:prstGeom prst="rect">
            <a:avLst/>
          </a:prstGeom>
          <a:ln w="0">
            <a:noFill/>
          </a:ln>
        </p:spPr>
      </p:pic>
      <p:sp>
        <p:nvSpPr>
          <p:cNvPr id="66" name="标题 1"/>
          <p:cNvSpPr/>
          <p:nvPr/>
        </p:nvSpPr>
        <p:spPr>
          <a:xfrm>
            <a:off x="428760" y="2714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Calibri"/>
              </a:rPr>
              <a:t>       “</a:t>
            </a:r>
            <a:r>
              <a:rPr b="1" lang="zh-CN" sz="4000" spc="-1" strike="noStrike">
                <a:solidFill>
                  <a:srgbClr val="ffff00"/>
                </a:solidFill>
                <a:latin typeface="Calibri"/>
              </a:rPr>
              <a:t>这里的风沙真讨厌！”小云雀埋怨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      “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孩子，以前这里也是一片茂密的森林。后来由于人们乱砍滥伐，树木越来越少。土地失去了森林的保护，就慢慢地变成了贫瘠的沙漠。”妈妈心疼地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928800" y="500040"/>
            <a:ext cx="752472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500040" y="357120"/>
            <a:ext cx="8215200" cy="614376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1204200" y="5716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乱砍滥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图片 3" descr="117903372474696964.jpg"/>
          <p:cNvPicPr/>
          <p:nvPr/>
        </p:nvPicPr>
        <p:blipFill>
          <a:blip r:embed="rId2"/>
          <a:stretch/>
        </p:blipFill>
        <p:spPr>
          <a:xfrm>
            <a:off x="357120" y="214200"/>
            <a:ext cx="8429760" cy="6357960"/>
          </a:xfrm>
          <a:prstGeom prst="rect">
            <a:avLst/>
          </a:prstGeom>
          <a:ln w="0">
            <a:noFill/>
          </a:ln>
        </p:spPr>
      </p:pic>
      <p:sp>
        <p:nvSpPr>
          <p:cNvPr id="73" name="标题 1"/>
          <p:cNvSpPr/>
          <p:nvPr/>
        </p:nvSpPr>
        <p:spPr>
          <a:xfrm>
            <a:off x="428760" y="1928880"/>
            <a:ext cx="8072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      “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孩子，以前这里也是一片茂密的森林。后来由于人们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乱砍滥伐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，树木越来越少。土地失去了森林的保护，就慢慢地变成了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贫瘠的沙漠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。”妈妈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心疼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地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3T04:13:42Z</dcterms:created>
  <dc:creator>蒋青月</dc:creator>
  <dc:description/>
  <dc:language>en-US</dc:language>
  <cp:lastModifiedBy>jiang</cp:lastModifiedBy>
  <dcterms:modified xsi:type="dcterms:W3CDTF">2018-05-15T13:25:12Z</dcterms:modified>
  <cp:revision>15</cp:revision>
  <dc:subject/>
  <dc:title>19、云雀的心愿</dc:title>
</cp:coreProperties>
</file>