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26B-4C6C-4961-A7B7-301D62C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54E-586D-4997-A825-4F13E9B5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58E9A-AEC0-4354-B776-2D21D54E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2872-6F2C-4F77-963D-8408BEDD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593E-B7A0-4A9B-9C89-88C5C29D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976F-FEC8-44BB-8600-C88B543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1DEF7-9B16-475C-A89D-5CBBB9B0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13DEC-DE8D-416E-90C4-B50F043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60563-A192-43F5-92F0-9A6311F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2423B-388B-48DC-A4D1-0853515D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23F3A-B7D9-4A57-A2CF-D8B0E5AB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9629D-E201-4F84-A91A-59FCFECD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E84-926A-468D-B5B3-390D6C78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3806-0FF0-4029-8FEE-BC512E8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59A6D-DC8B-4E27-9172-8D1C2F7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BFA52-2487-4174-882E-8E3BACB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8CB1A-5C69-478C-B573-41A81641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6BC17-90E4-45B6-847F-C4BBFB0C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94C1E-923D-45AE-BA03-256F887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79542-0C53-4116-9772-9DA0507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9B219-A3D0-418A-87E7-188D6C6C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3D835-20E9-4F20-B487-B3B56C66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6B976-29CC-418B-8250-8B088CA5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EE1-8A21-4ED9-8469-38985D25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85522-4AC9-4B80-B344-FBA7A3AA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CA682-2638-42C1-A5E0-57871092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91A2A-7970-4622-BD62-7E2D899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7CF90-7B05-4C0A-88FC-D39C6A7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D0D8-7D3A-4721-AC1C-0EFF63E0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FD0AB-983C-4E80-A403-00078A93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26EC2-3092-46B7-BF34-A97C94D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D5906-2FB8-455E-807E-BBE30A6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20A2E-598A-42AD-8836-2015AC2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6F267-E3B3-4347-8F6E-37AE8D9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E52-E30D-4806-A5BC-620AA863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7544A-A5C7-4A5E-A862-6D77D37A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5FCD3-0497-4634-B519-F8707C9E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10EEF-2A3E-4C06-AA18-792A7E6F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E82A3-7ED7-44CA-A496-832EAAAB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7F00D-355B-44C6-A908-7251FAB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6BA01-0F9D-4983-BE7E-0CC4816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B35EE-82BD-4AF1-B377-ED7819B1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19504-ACA1-4BB9-BA96-5D0FF02C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296D4-7488-43D3-ACAF-72274D5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883D8-ACA7-4359-93A9-8A77FF65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A0CC-E427-42A0-B3E2-92BF489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B14A2-9CAA-488D-B19A-D68E8F8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12128-E04E-43B3-B5DD-998A3DD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53167-3700-4643-BE32-ABF3F17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4A99E-5D38-4F7E-BD8C-FDA4C390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93A32-E595-421C-91FD-84F780BB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174D-DBD7-4847-BC03-91E137F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E4F-6F13-43F0-9B71-58E479B9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A26A-19F4-4627-8B75-0201418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3C1-E622-4505-95E5-2768F18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FEBA-D5E2-4076-89E4-ABEA986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ECB-51F0-448A-99BA-D7E02F65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6FA6-AE30-49AD-A366-5E102F7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E7D0-FBF1-4E78-B4CE-8968F71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1C12-370E-4599-AE99-6C26D1CF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045C-7431-4905-B1BE-A3525E2D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D87E-ADE6-4FE8-ABA0-642550BB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D09E-4712-4484-9171-23723C4E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CAF2-DD49-47A2-AACB-A93B61C9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78A3-479A-42E8-95C8-B23A07F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E315-E22A-4176-A14D-E16A990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1D3D-BB24-48BA-B8C0-E816C78B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C2A-5D6F-47BB-BEAB-BE12F22E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53C2-D9FE-4428-82EB-4EA11C60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CCAF-C416-42C5-9E9C-06CCAEC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5B56-CB1E-44E5-9F93-86529CE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43AE-685C-4B34-83FE-26E81BC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5269-B732-464A-9CAB-7FB3E0B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CAC1-8BE4-4A58-A0D6-9193BF32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F1B7-4740-4C8E-9AE7-3C64C192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9186-D03A-4840-83A5-03932606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940E-8992-4538-B474-6CA6CD8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C9E1-37DB-4F0A-B2CC-78C4F34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D93-A7A2-4F96-87F8-37C98AD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0A22-A4DA-45EE-B617-067CDFF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D215-D0C8-4628-AA3A-2B95663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2899-C61B-48C5-B6AB-FB3F462C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E886-43D5-4FD4-9DB7-1DBCE91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BFCE-1CE6-4C01-8806-F478784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FDE6-A09F-465B-B769-6DD5914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CA5B-5036-4721-81BB-31A80B5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1CF4-319F-4799-A403-938BA335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0E9F-DF91-49B0-BB3E-4A8EE8B6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0846D-2BFD-4488-8E23-4BBE926C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910-C8CF-4BB8-9276-B8287BB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581A-ADCE-4015-86A8-57CAE8D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AC35-C255-4BAE-82FB-ADD0F407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8D8E-42AD-4E5B-92D3-E89B1515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EFFDD-CC20-41A9-B156-6799D4F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71EB-756F-4881-BE12-F81E48A5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B8AA-7F52-4799-B959-14BF8E3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598B6-86E5-4C56-83A1-95A832A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901F-8168-4621-82F3-DF46F27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CE81-A686-492E-B283-8F34E2D0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87F0-275A-4D3A-B393-E44FF822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1EC-7D17-49F3-B1A6-5B4EB8E0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15AA-9A12-4FDD-B089-C019825B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8ACE-7DB4-450C-94AC-823E1D00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1AAE9-9362-4031-8770-A27DC522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7E65-8503-4281-A000-EB51693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416C-7B17-42D6-AE43-C9B5EC9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1BDA9-E7CF-4E3F-B931-28592CB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D308A-ADD8-4A61-9D42-A876B7A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8A36-5FB4-4EFB-AD05-1470583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94D4-DD7E-488E-A179-4C8900A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2CF8-FF4C-40F5-912C-BE3B09D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C5-0FD8-4823-9928-B02BED0A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8A39-CA9B-4B3E-A399-01EE7FB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36B1-EAFD-4A2E-8F65-756C2C23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074F-4600-43DE-9669-A00729CF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D442-16E4-4FE6-934B-CF1DC4F0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16AB-D168-40A6-9D7B-D51A08B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1630D-9690-4D87-B23B-D266E4B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216D-834F-4363-90E6-1AE5401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6585-5228-49B7-A888-CA7222D9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3376-9B57-4DD2-A7C8-4A78D9F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9255-69D4-46AB-9EF9-A4FDB05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C28-1097-4137-B3BC-E93D69A2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2EA2-A4F7-47F4-8BC1-D9BB496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1A3C-F033-4DE2-A9DD-B777E6D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97B5A-21E6-4789-99D5-0D099F91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0FA55-93EF-48BC-B002-230A49FA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3FB0-E3DF-48C9-943C-6ED54C88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1BCD0-49B4-498E-9228-D6F520CE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B1CE-1D56-463F-B6A3-2829889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33DB-CB27-4295-B269-DCD26CEC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83E29-B3B8-4CDC-8DB9-8EFD7D6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48A73-ECB4-4FA6-A66D-138E4212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A3A-7C9A-4520-86E5-1A49592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D077-6925-43CE-BF98-BC43F85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C542E-5FE6-4D10-B182-E4333E4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5D325-0035-4CAF-ADF0-269BFD3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4CA22-7ACF-4D0F-86CA-B7E7DCC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13CC-5039-4DDF-B6DC-B9BEB1E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ACAC-1731-4BBA-BCF9-2444EA33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A2650-DB40-4FD8-9150-0DD1BA1E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58342-190A-4191-8D73-034B18B9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1888-EFCA-40DE-A024-7D5004C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4D6C-02C2-4A40-B1BB-EE1DD1D7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B48-21CD-4A19-A7F9-CCF3CCCE36BF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00EB-CD90-474D-9C99-443F8269877C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B82-C5AF-4306-B9A7-EE8C1F31C78A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5B4-8399-4D3A-A9AC-E67509209D5F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0240" y="0"/>
            <a:ext cx="9177120" cy="6924600"/>
            <a:chOff x="-30240" y="0"/>
            <a:chExt cx="917712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2320" y="7920"/>
              <a:ext cx="916632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08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4480" y="0"/>
              <a:ext cx="7884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1080" y="2706840"/>
              <a:ext cx="9142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4640" y="-629280"/>
              <a:ext cx="74880" cy="803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7520" y="-1352520"/>
              <a:ext cx="74880" cy="804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0240" y="0"/>
              <a:ext cx="7416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8440" y="3362400"/>
              <a:ext cx="445680" cy="0"/>
            </a:xfrm>
            <a:prstGeom prst="line">
              <a:avLst/>
            </a:prstGeom>
            <a:ln w="1584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3920" y="3359160"/>
              <a:ext cx="364680" cy="1440"/>
            </a:xfrm>
            <a:prstGeom prst="line">
              <a:avLst/>
            </a:prstGeom>
            <a:ln w="1584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06080" y="3357720"/>
              <a:ext cx="102600" cy="136440"/>
            </a:xfrm>
            <a:prstGeom prst="pie">
              <a:avLst/>
            </a:prstGeom>
            <a:noFill/>
            <a:ln w="936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547200" y="3362400"/>
              <a:ext cx="112320" cy="133200"/>
            </a:xfrm>
            <a:prstGeom prst="pie">
              <a:avLst/>
            </a:prstGeom>
            <a:noFill/>
            <a:ln w="9360">
              <a:solidFill>
                <a:srgbClr val="3d3d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584-BD81-488D-AF91-96055FE9CE34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1BBF-DF40-416A-A528-64A02F997F29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298-CA42-4AD4-BFCE-B3FDA99C05FD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E12-C170-4458-A9FA-BB21B1021CA4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684-F4B8-455A-ABFC-09FDD224229D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07B9-9BA9-4C93-8198-ACBDFBC54728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8EEA-165A-4408-AE5C-A5AC6DA520F1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d3d3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d3d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d3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D00-63A3-4548-8225-B8F9313EBCF3}" type="slidenum">
              <a:rPr b="0" lang="zh-CN" sz="14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1880640" y="0"/>
            <a:ext cx="1826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天游峰的扫路人</a:t>
            </a:r>
            <a:endParaRPr b="1" lang="en-US" sz="54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48400" cy="475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自读要求：</a:t>
            </a:r>
            <a:endParaRPr b="0" lang="en-US" sz="4000" spc="-1" strike="noStrike">
              <a:solidFill>
                <a:srgbClr val="3d3d3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—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走进字里行间，看看你认识了一位怎样的扫路人？作者是从哪些方面来描写扫路人的？读读想想、圈圈画画，也可以在旁边写下你的体会，还可以和同桌交流一下。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68360" y="549360"/>
            <a:ext cx="45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我循声迎了上去，及至到了眼前，才看清是一位精瘦的老人。他身穿一套褪色的衣服，足蹬一双棕色的运动鞋，正用一把竹扫帚清扫着路面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68360" y="54936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着淡淡的星光，我仔细打量了他：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瘦削的脸，面色黝黑，淡淡的眉毛下，一双慈善的眼睛炯炯有神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3"/>
          <p:cNvGrpSpPr/>
          <p:nvPr/>
        </p:nvGrpSpPr>
        <p:grpSpPr>
          <a:xfrm>
            <a:off x="395280" y="404640"/>
            <a:ext cx="5040000" cy="5056920"/>
            <a:chOff x="395280" y="404640"/>
            <a:chExt cx="5040000" cy="5056920"/>
          </a:xfrm>
        </p:grpSpPr>
        <p:sp>
          <p:nvSpPr>
            <p:cNvPr id="547" name="Text Box 4"/>
            <p:cNvSpPr/>
            <p:nvPr/>
          </p:nvSpPr>
          <p:spPr>
            <a:xfrm>
              <a:off x="395280" y="404640"/>
              <a:ext cx="5029200" cy="106884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6600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cc6600"/>
                  </a:solidFill>
                  <a:latin typeface="Arial"/>
                </a:rPr>
                <a:t>　</a:t>
              </a:r>
              <a:r>
                <a:rPr b="1" lang="zh-CN" sz="3200" spc="-1" strike="noStrike">
                  <a:solidFill>
                    <a:srgbClr val="3d3d3d"/>
                  </a:solidFill>
                  <a:latin typeface="Arial"/>
                </a:rPr>
                <a:t>我循声迎了上去</a:t>
              </a:r>
              <a:r>
                <a:rPr b="1" lang="zh-CN" sz="1400" spc="-1" strike="noStrike">
                  <a:solidFill>
                    <a:srgbClr val="3d3d3d"/>
                  </a:solidFill>
                  <a:latin typeface="Arial"/>
                </a:rPr>
                <a:t>，</a:t>
              </a:r>
              <a:r>
                <a:rPr b="1" lang="zh-CN" sz="3200" spc="-1" strike="noStrike">
                  <a:solidFill>
                    <a:srgbClr val="3d3d3d"/>
                  </a:solidFill>
                  <a:latin typeface="Arial"/>
                </a:rPr>
                <a:t>及至到了眼前，才看清是一位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精瘦</a:t>
              </a:r>
              <a:r>
                <a:rPr b="1" lang="zh-CN" sz="3200" spc="-1" strike="noStrike">
                  <a:solidFill>
                    <a:srgbClr val="3d3d3d"/>
                  </a:solidFill>
                  <a:latin typeface="Arial"/>
                </a:rPr>
                <a:t>的老人。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他身穿一套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褪色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衣服，足蹬一双棕色的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运动鞋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正用一把竹扫帚清扫着路面。</a:t>
              </a: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395280" y="3905280"/>
              <a:ext cx="5040000" cy="155628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借着淡淡的星光，我仔细打量了他：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瘦削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脸，面色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黝黑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淡淡的眉毛下，一双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慈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眼睛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炯炯有神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3200" spc="-1" strike="noStrike">
                <a:solidFill>
                  <a:srgbClr val="3d3d3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285840" y="1214280"/>
            <a:ext cx="5029200" cy="5814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引我进了他的小屋，为我沏了一杯浓茶。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250920" y="2076480"/>
            <a:ext cx="5473440" cy="764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累，不累，我每天早晨扫上山，傍晚扫下山，扫一程，歇一程，再把好山好水看一程。”他说得轻轻松松，自在悠闲。</a:t>
            </a:r>
            <a:endParaRPr b="1" lang="en-US" sz="44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6920" y="692280"/>
            <a:ext cx="46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如今游客多，您老工作挺累吧？” 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357120" y="357120"/>
            <a:ext cx="3643560" cy="10688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摇摇头，伸出了七个指头，然后悠然地说：“按说，我早该退休了。可我实在离不开这里：喝的是雪花泉的水，吃的是自己种的大米和青菜，呼吸的是清爽的空气，而且还有花鸟作伴，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我能舍得走吗？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357120" y="357120"/>
            <a:ext cx="3643560" cy="10688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人摇摇头，伸出了七个指头，然后悠然地说：“按说，我早该退休了。可我实在离不开这里：喝的是雪花泉的水，吃的是自己种的大米和青菜，呼吸的是清爽的空气，而且还有花鸟作伴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舍得走吗？</a:t>
            </a:r>
            <a:r>
              <a:rPr b="1" lang="zh-CN" sz="3200" spc="-1" strike="noStrike">
                <a:solidFill>
                  <a:srgbClr val="060606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395280" y="1484280"/>
            <a:ext cx="5400720" cy="13129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d3d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3d3d3d"/>
                </a:solidFill>
                <a:latin typeface="楷体_GB2312"/>
              </a:rPr>
              <a:t>我紧紧抓住他的双手说：</a:t>
            </a:r>
            <a:r>
              <a:rPr b="1" lang="zh-CN" sz="40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d3d3d"/>
                </a:solidFill>
                <a:latin typeface="楷体_GB2312"/>
              </a:rPr>
              <a:t>30</a:t>
            </a:r>
            <a:r>
              <a:rPr b="1" lang="zh-CN" sz="4000" spc="-1" strike="noStrike">
                <a:solidFill>
                  <a:srgbClr val="3d3d3d"/>
                </a:solidFill>
                <a:latin typeface="楷体_GB2312"/>
              </a:rPr>
              <a:t>年后，我再来看您！</a:t>
            </a:r>
            <a:r>
              <a:rPr b="1" lang="zh-CN" sz="40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"/>
          <p:cNvSpPr/>
          <p:nvPr/>
        </p:nvSpPr>
        <p:spPr>
          <a:xfrm>
            <a:off x="3733920" y="3992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47640" y="12682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天游峰——武夷山的第一险峰。九百多级石梯，像一根银丝从空中抛下来，在云雾中飘飘悠悠，仿佛风一吹就能断掉似的。那天，我终于顺着这根银丝上了峰顶，心里好不得意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395280" y="3213000"/>
            <a:ext cx="4464000" cy="1190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楷体_GB2312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年后，我照样请您喝茶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说罢，老人朗声大笑。  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95280" y="1484280"/>
            <a:ext cx="4464000" cy="106884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d3d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3d3d3d"/>
                </a:solidFill>
                <a:latin typeface="楷体_GB2312"/>
              </a:rPr>
              <a:t>我紧紧抓住他的双手说：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d3d3d"/>
                </a:solidFill>
                <a:latin typeface="楷体_GB2312"/>
              </a:rPr>
              <a:t>30</a:t>
            </a:r>
            <a:r>
              <a:rPr b="1" lang="zh-CN" sz="3200" spc="-1" strike="noStrike">
                <a:solidFill>
                  <a:srgbClr val="3d3d3d"/>
                </a:solidFill>
                <a:latin typeface="楷体_GB2312"/>
              </a:rPr>
              <a:t>年后，我再来看您！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IMG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642960" y="357120"/>
            <a:ext cx="79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d3d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如今游客多，您老工作挺累吧？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不累，不累，我每天早晨扫上山，傍晚扫下山，扫一程，歇一程，再把好山好水看一程。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71680" y="2786040"/>
            <a:ext cx="79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d3d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您老有６０岁了吧？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按说，我早该退休了。可我实在离不开这里：喝的是雪花泉的水，吃的是自己种的大米和青菜，呼吸的是清爽的空气，而且还有花鸟作伴，我能舍得走吗？</a:t>
            </a:r>
            <a:r>
              <a:rPr b="1" lang="zh-CN" sz="3200" spc="-1" strike="noStrike">
                <a:solidFill>
                  <a:srgbClr val="3d3d3d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857160" y="5729400"/>
            <a:ext cx="7489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d3d"/>
                </a:solidFill>
                <a:latin typeface="Arial"/>
                <a:ea typeface="宋体"/>
              </a:rPr>
              <a:t>　 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“３０年后，我再来看您！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３０年后，我照样请您喝茶！”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0" y="1844640"/>
            <a:ext cx="5905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充满自信、豁达开朗的笑声，一直伴随我回到住地。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0" y="1844640"/>
            <a:ext cx="590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游峰的扫路人，我想对您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667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23744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IM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765000"/>
            <a:ext cx="914400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作业（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题二选一）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“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30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年后，当作者来到天游峰，会是怎样的一番情景呢？”请同学们展开想象，学习文中抓住外貌、语言、动作等描写人物的方法，续写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30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年后的情景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学习课文通过侧面描写以及抓住人物的外貌、动作、神态、语言等进行描写的方法，写你熟悉的一个人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6969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阅读相关的文章：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峨眉铺路人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守林人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、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挑山工</a:t>
            </a:r>
            <a:r>
              <a:rPr b="1" lang="en-US" sz="4000" spc="-1" strike="noStrike">
                <a:solidFill>
                  <a:srgbClr val="3d3d3d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  <a:ea typeface="宋体"/>
              </a:rPr>
              <a:t>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14200" y="1173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d3d3d"/>
                </a:solidFill>
                <a:latin typeface="Arial"/>
              </a:rPr>
              <a:t>天游峰</a:t>
            </a:r>
            <a:r>
              <a:rPr b="1" lang="zh-CN" sz="3600" spc="-1" strike="noStrike">
                <a:solidFill>
                  <a:srgbClr val="3d3d3d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d3d3d"/>
                </a:solidFill>
                <a:latin typeface="Arial"/>
              </a:rPr>
              <a:t>武夷山的第一险峰。九百多级石梯，像一根银丝从空中抛下来，在云雾中飘飘悠悠，仿佛风一吹就能断掉似的。那天，我终于顺着这根银丝上了峰顶，心里好不得意。</a:t>
            </a:r>
            <a:endParaRPr b="1" lang="en-US" sz="3600" spc="-1" strike="noStrike">
              <a:solidFill>
                <a:srgbClr val="3d3d3d"/>
              </a:solidFill>
              <a:latin typeface="Arial"/>
            </a:endParaRPr>
          </a:p>
        </p:txBody>
      </p:sp>
      <p:pic>
        <p:nvPicPr>
          <p:cNvPr id="520" name="Picture 3" descr="12250191308208"/>
          <p:cNvPicPr/>
          <p:nvPr/>
        </p:nvPicPr>
        <p:blipFill>
          <a:blip r:embed="rId1"/>
          <a:stretch/>
        </p:blipFill>
        <p:spPr>
          <a:xfrm>
            <a:off x="4214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214200" y="117360"/>
            <a:ext cx="357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d3d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游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武夷山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第一险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九百多级石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像一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银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空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抛</a:t>
            </a:r>
            <a:r>
              <a:rPr b="1" lang="zh-CN" sz="3600" spc="-1" strike="noStrike">
                <a:solidFill>
                  <a:srgbClr val="3d3d3d"/>
                </a:solidFill>
                <a:latin typeface="Arial"/>
              </a:rPr>
              <a:t>下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云雾中飘飘悠悠，仿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一吹就能断掉似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那天，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顺着这根银丝上了峰顶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心里好不得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3d3d3d"/>
              </a:solidFill>
              <a:latin typeface="Arial"/>
            </a:endParaRPr>
          </a:p>
        </p:txBody>
      </p:sp>
      <p:pic>
        <p:nvPicPr>
          <p:cNvPr id="522" name="Picture 3" descr="12250191308208"/>
          <p:cNvPicPr/>
          <p:nvPr/>
        </p:nvPicPr>
        <p:blipFill>
          <a:blip r:embed="rId1"/>
          <a:stretch/>
        </p:blipFill>
        <p:spPr>
          <a:xfrm>
            <a:off x="42148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2"/>
          <p:cNvSpPr/>
          <p:nvPr/>
        </p:nvSpPr>
        <p:spPr>
          <a:xfrm>
            <a:off x="3733920" y="3992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47640" y="12682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d3d3d"/>
                </a:solidFill>
                <a:latin typeface="Arial"/>
              </a:rPr>
              <a:t>我抬头望了望在暮色中顶天立地的天游峰，上山九百多级，下山九百多级，一上一下一千八百多级。那层层叠叠的石阶，常常使游客们气喘吁吁，大汗淋漓，甚至望而却步，半途而返。</a:t>
            </a:r>
            <a:endParaRPr b="1" lang="en-US" sz="40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IMG_0394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571680" y="428760"/>
            <a:ext cx="324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我抬头望了望在暮色中顶天立地的天游峰，上山九百多级，下山九百多级，一上一下一千八百多级。那层层叠叠的石阶，常常使游客们气喘吁吁，大汗淋漓，甚至望而却步，半途而返。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1116000" y="378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IMG_0394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571680" y="428760"/>
            <a:ext cx="3240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抬头望了望在暮色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顶天立地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的天游峰，上山九百多级，下山九百多级，一上一下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千八百多级</a:t>
            </a:r>
            <a:r>
              <a:rPr b="1" lang="zh-CN" sz="3200" spc="-1" strike="noStrike">
                <a:solidFill>
                  <a:srgbClr val="3d3d3d"/>
                </a:solidFill>
                <a:latin typeface="Arial"/>
              </a:rPr>
              <a:t>。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层层叠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石阶，常常使游客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气喘吁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汗淋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甚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望而却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半途而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116000" y="3789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534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游峰——武夷山的第一险峰。九百多级石梯，像一根银丝从空中抛下来，在云雾中飘飘悠悠，仿佛风一吹就能断掉似的。那天，我终于顺着这根银丝上了峰顶，心里好不得意。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3640" y="3716280"/>
            <a:ext cx="838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d3d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抬头望了望在暮色中顶天立地的天游峰，上山九百多级，下山九百多级，一上一下一千八百多级。那层层叠叠的石阶，常常使游客们气喘吁吁，大汗淋漓，甚至望而却步，半途而返。</a:t>
            </a:r>
            <a:endParaRPr b="0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天游峰4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285840" y="214200"/>
            <a:ext cx="3929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抬头望了望在暮色中顶天立地的天游峰，上山九百多级，下山九百多级，一上一下，一千八百多级。那层层叠叠的石阶，常常使游客们气喘吁吁，大汗淋漓，甚至望而却步，半途而返。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可是这位老人，每天都要一级一级扫上去，再一级一级扫下来         我不禁倒抽了一口气。</a:t>
            </a:r>
            <a:endParaRPr b="1" lang="en-US" sz="3000" spc="-1" strike="noStrike">
              <a:solidFill>
                <a:srgbClr val="3d3d3d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268360" y="55897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1" lang="en-US" sz="3200" spc="-1" strike="noStrike">
              <a:solidFill>
                <a:srgbClr val="3d3d3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8:28:35Z</dcterms:created>
  <dc:creator>123</dc:creator>
  <dc:description/>
  <cp:keywords/>
  <dc:language>en-US</dc:language>
  <cp:lastModifiedBy>微软用户</cp:lastModifiedBy>
  <cp:lastPrinted>1899-12-30T00:00:00Z</cp:lastPrinted>
  <dcterms:modified xsi:type="dcterms:W3CDTF">2015-04-01T00:24:42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