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1E1E-1D42-45EF-9D02-9AF609AD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86D-046F-4F70-894E-23964E00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20B-5111-4461-874D-0D78B5E9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C50-9F5C-4241-90AF-40F95F1A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FF1-1D8A-4736-A410-930FB6DD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81C9-4D31-4CD6-A19D-00018787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D5A-9C58-4318-BCDA-F6237DE3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096-55D8-4B0D-8D0C-35DC6D3E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563B-FD6E-4744-8F88-E5A25A31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8C1-99D3-4648-9BA8-4D02E7C7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EC2B-4A1B-4EAF-B52B-10B0E7D9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8CB2-1F12-4416-91E8-076F9960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F333-BC0C-4628-83B5-8F59C47C02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5805360"/>
            <a:ext cx="1854360" cy="78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6769440" cy="489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627280" y="3429000"/>
            <a:ext cx="504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放飞蜻蜓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62064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苏教版 三年级语文下册第六册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7934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陶行知将蜻蜓小心地翻过去，指着它的尾巴说：“你们看，它的尾巴是一节节的，又细又长。它用尾巴保持平衡，调整方向。据说，在它饿极时，会将自己的尾巴吃去一截。不过，以后又会长出来。”接着他又指指蜻蜓的头部对孩子们说：“它的眼睛很大，结构很复杂，是由成千上万的小眼睛构成的，可以看清四面八方的虫子…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孩子们入神地听着。陶行知用商量的口吻说：“把它放了，好不好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90792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说着，就把蜻蜓还给了翠贞。翠贞看着小伙伴们，孩子们纷纷说：“放了它，放了它，让它回家去！”翠贞张开小手将蜻蜓往上一送，蜻蜓展开翅膀向空中飞去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765000"/>
            <a:ext cx="86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置作业（二选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查资料，还有哪些像蜻蜓这样的人类朋友？走出教室、走出校园，向更多的人宣传保护它们。（可以小小组合作写倡议书、办手抄报、写标语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试着用对话形式写一写习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保护青蛙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1052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思考：课文主要讲了一个什么故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3584160"/>
            <a:ext cx="766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课文主要讲了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陶行知先生看见一群孩子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就和他们一起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后孩子们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179280" y="115920"/>
            <a:ext cx="8785440" cy="5938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907920"/>
            <a:ext cx="73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读要求：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声读课文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，想一想：从他们的对话中，你对蜻蜓有了哪些了解？在课文中找一找，做上标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停下脚步，慈爱地抚摸着翠贞的小辫子问：“翠贞，你知道蜻蜓吃什么吗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翠贞想了一下，回答道：“吃虫子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“吃露水。”一个男孩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们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嘴八舌地抢着说：“吃草。”“吃树叶。”“吃泥土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陶先生拉着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们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坐在田埂上，说：“还是翠贞说得对。苍蝇、蚊子、水里的孑孓，它都吃。你们说蜻蜓是不是我们的好朋友？”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620640"/>
            <a:ext cx="867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我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点点头。陶行知从翠贞手里取过蜻蜓，高高举起。阳光下，蜻蜓的眼睛一闪一闪的，尾巴一撅一撅的。陶先生又问：“蜻蜓的尾巴有什么用，谁知道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蜻蜓用尾巴在河里点水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尾巴是掌握飞行方向的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60480"/>
            <a:ext cx="88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陶行知将蜻蜓小心地翻过去，指着它的尾巴说：“你们看，它的尾巴是一节节的，又细又长。它用尾巴保持平衡，调整方向。据说，在它饿极时，会将自己的尾巴吃去一截。不过，以后又会长出来。”接着他又指指蜻蜓的头部对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们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：“它的眼睛很大，结构很复杂，是由成千上万的小眼睛构成的，可以看清四面八方的虫子…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们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入神地听着。陶行知用商量的口吻说：“把它放了，好不好？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976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71640" y="83664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620640"/>
            <a:ext cx="77788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它的尾巴是一节节的，又细又长。它用尾巴保持平衡，调整方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它的眼睛很大，结构很复杂，是由成千上万的小眼睛构成的，可以看清四面八方的虫子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189000"/>
            <a:ext cx="8640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停下脚步，慈爱地抚摸着翠贞的小辫子问：“翠贞，你知道蜻蜓吃什么吗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翠贞想了一下，回答道：“吃虫子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“吃露水。”一个男孩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孩子们七嘴八舌地抢着说：“吃草。”“吃树叶。”“吃泥土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7934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1484280"/>
            <a:ext cx="80643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陶先生又问：“蜻蜓的尾巴有什么用，谁知道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蜻蜓用尾巴在河里点水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尾巴是掌握飞行方向的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zourujuan</dc:creator>
  <dc:description/>
  <dc:language>en-US</dc:language>
  <cp:lastModifiedBy>USER</cp:lastModifiedBy>
  <dcterms:modified xsi:type="dcterms:W3CDTF">2011-05-18T22:17:12Z</dcterms:modified>
  <cp:revision>723</cp:revision>
  <dc:subject/>
  <dc:title>幻灯片 1</dc:title>
</cp:coreProperties>
</file>