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466-A13E-4145-87FE-C3E47D87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936-8F17-4BF4-B3AB-45F13BC2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F669-6306-47C1-A278-C478A9F4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CD5-4506-4821-A1A9-7397D129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839-5F67-4CB6-B8B5-D4F98343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A6E-697F-44AA-8A6D-EEF69BF7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171-5755-48B8-BF78-7D597D76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BC3-DCDE-47A8-8D54-0E2EBBF7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007-DB17-4772-8F32-D9CAD3E3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AD3-59F5-4418-9B1B-EF18EBD4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3BA-2827-4BD0-8903-2D6ED53E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9BD-9225-41D0-9ECA-B68A9203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A51B-3715-4B50-A6F5-C505A92EFB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8-02-23T07:03:28Z</dcterms:modified>
  <cp:revision>29</cp:revision>
  <dc:subject/>
  <dc:title>幻灯片 1</dc:title>
</cp:coreProperties>
</file>