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1124-C1D1-44FA-BD19-505992AB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0C2-CD47-458F-9CDD-C833E27E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237D-3CD3-4CC9-B022-31B46A97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3590-5808-471B-A2E5-BE99A1A4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863-0330-41AD-A28F-7F57FDBB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493F-66A5-455E-B35C-E9E1F555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809A-4BDD-4614-BB23-04BCC363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9C9-9DCD-4F50-8E03-EAAA2B22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2D7-A8FB-48D0-B189-E127FEB4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DD6-6C0A-45CF-B793-CBEF3F3B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79B8-DD0F-4A8B-9D94-A1053F98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C75-04E3-42C7-9355-C5CDDAC1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B61F-44DF-4DC5-B3DE-9F1B3501B4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8-02-23T07:03:28Z</dcterms:modified>
  <cp:revision>29</cp:revision>
  <dc:subject/>
  <dc:title>幻灯片 1</dc:title>
</cp:coreProperties>
</file>