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0FBC-DFD4-4890-9CB0-72140DB46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F286-6B35-4A00-A1EC-F63BDC84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2DED-6C67-4353-BCFE-81DAE3485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DB3F-DBED-4C5C-B4A4-57E4E6540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6C44-C859-4373-839F-261731B8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D956-6C6E-40D5-9271-63C3A44B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8B48-E179-4B4D-B2CD-A1138456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FDE7-4177-4A7C-861E-5015C7D8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15AE-8E68-47A1-84BA-0FBE49C2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8453-EFF2-4991-B42D-EEE382E5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6415-9B78-42F9-9E74-DE9FAECB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7EAC-BDB0-42B4-AB04-6018AB7A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2481-B4F3-456D-A432-BC070DD5D6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常州市中小学、幼儿园推荐申报教师专业技术资格人员信息表操作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92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“常州市中小学、幼儿园推荐申报教师专业技术资格人员信息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xls”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从“所在学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开始粘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899640" y="2565360"/>
            <a:ext cx="2303640" cy="194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0" b="1639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76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在 “附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常州市中小学、幼儿园推荐申报教师专业技术资格人员信息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xls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按要求填写其他部分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16720" y="2563920"/>
            <a:ext cx="2376360" cy="165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职称多元评价报名工作仍采用从”江苏省中小学教职工信息管理系统” 导出数据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着教育信息化发展，越来越多的教育人事工作将依托”江苏省中小学教职工信息管理系统”的数据在网上开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职工信息管理系统中数据的准确性、完整性和及时性将越来越影响工作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工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校使用“江苏省中小学教职工信息管理系统”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导出所有自主申报职称人员信息，并按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 》样式进行编辑、排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打开江苏省中小学教职工信息管理系统，使用学校信息库管理员账号登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319120" y="6093000"/>
            <a:ext cx="48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址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9280" y="4221000"/>
            <a:ext cx="107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522936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登录后，点击“教职工信息浏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1115640" y="4797360"/>
            <a:ext cx="576360" cy="649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19280" y="292428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将每页改为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00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00720" y="3860640"/>
            <a:ext cx="576000" cy="2592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11280" y="314172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勾选学校择优推荐的申报人员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050560" y="5084640"/>
            <a:ext cx="792360" cy="136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1280" y="443700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选中的教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76360" y="1268280"/>
            <a:ext cx="287280" cy="5113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35280" y="213372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选择所有红框内的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551664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067280" y="6021360"/>
            <a:ext cx="576000" cy="50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42920" y="4653000"/>
            <a:ext cx="7129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右击“文件下载”，选择“目标另存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500720" y="2420640"/>
            <a:ext cx="1511280" cy="2160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11280" y="4724280"/>
            <a:ext cx="712944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另存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后，从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开始选中所有数据，并复制它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1116000" y="2060280"/>
            <a:ext cx="3384720" cy="2663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7:47:16Z</dcterms:created>
  <dc:creator>水虎远</dc:creator>
  <dc:description/>
  <dc:language>en-US</dc:language>
  <cp:lastModifiedBy>Administrator</cp:lastModifiedBy>
  <dcterms:modified xsi:type="dcterms:W3CDTF">2018-02-23T07:03:28Z</dcterms:modified>
  <cp:revision>29</cp:revision>
  <dc:subject/>
  <dc:title>幻灯片 1</dc:title>
</cp:coreProperties>
</file>