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4B2-5768-4640-9005-4E168951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A0C1-C8F1-45CE-8D37-FA13C7F5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3F0B-B9FC-4483-81FA-51B0BE9A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D827-8C27-4A29-95CE-BD3DE4C9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B2C1-E3F8-4FF4-84B6-2D9B0C08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182A-7158-415D-B95D-2EAA3007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FE3A-5591-4BCF-BFB8-CD507F60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818B-6895-4BEF-A9CA-334127AE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FF27-77E4-4520-AA4B-F0EB26DA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055E-ADA2-407D-9E18-512D9692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7608-53CE-4E50-95AC-ED214A8B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A807-4CE6-4651-8D81-0AF70FB0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4087-9D1B-4B5D-B7E1-165BD032B5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Administrator</cp:lastModifiedBy>
  <dcterms:modified xsi:type="dcterms:W3CDTF">2018-02-23T07:03:28Z</dcterms:modified>
  <cp:revision>29</cp:revision>
  <dc:subject/>
  <dc:title>幻灯片 1</dc:title>
</cp:coreProperties>
</file>