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CDC9-E240-4B0D-A341-DFDB6559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B47F-7221-40C8-8DEB-88F143D8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FF4E-A7AB-45EF-96B0-B72F644D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5FA0-0725-4DC8-8023-06DCF30F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DF70-EF61-4162-B811-22B557A8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81E4-1E1C-49D1-A3A8-449E608D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930F-F051-4CBA-8BF8-2E25675C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CA3B-A20D-4BB6-992E-003AD937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728D-571B-4B13-97C9-655B9D00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476B-FCC1-4F8F-B8BB-51675734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8059-570B-40BB-B0CA-AD979373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E9F9-F7F7-4D60-ABE6-7CF41D54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7D9E-5F1A-434F-9247-B36C52F9BE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》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Administrator</cp:lastModifiedBy>
  <dcterms:modified xsi:type="dcterms:W3CDTF">2018-02-23T07:03:28Z</dcterms:modified>
  <cp:revision>29</cp:revision>
  <dc:subject/>
  <dc:title>幻灯片 1</dc:title>
</cp:coreProperties>
</file>