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15.png" ContentType="image/png"/>
  <Override PartName="/ppt/media/image8.jpeg" ContentType="image/jpeg"/>
  <Override PartName="/ppt/media/image29.jpeg" ContentType="image/jpeg"/>
  <Override PartName="/ppt/media/image9.png" ContentType="image/png"/>
  <Override PartName="/ppt/media/image31.gif" ContentType="image/gif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25.png" ContentType="image/png"/>
  <Override PartName="/ppt/media/image4.jpeg" ContentType="image/jpeg"/>
  <Override PartName="/ppt/media/image10.wmf" ContentType="image/x-wmf"/>
  <Override PartName="/ppt/media/image6.wmf" ContentType="image/x-wmf"/>
  <Override PartName="/ppt/media/image11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2A0-63B7-4FA4-BF3F-B7432356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017-4C59-4CAE-B4EA-11A7DD87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69A6C-714C-4DF3-9F70-AD4B32F3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C7E278-BF50-4DC6-B23E-A260BB9D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ECEBB-FFAF-416B-A8BD-53864048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35F87-46EE-42FD-A3EC-CDA4286C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F9741-7A2C-4684-86C2-C4CC9AF1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44E80-A5F7-4C59-8CF7-46301F91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7F80A-A3FA-400A-8995-32E3B241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B4BBB-378E-4AFA-91EB-46C6739DB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A6ADC-D0BE-45E8-8052-4619CA3E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C25E6-FD2C-45BD-9A5C-62029E25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A6E8-4151-4506-A43F-A53F949E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276B5-B120-4AC9-A13E-089E98AA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4A8C1-6F2D-4941-9F8B-AB083380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A0CF8-AB89-4AAA-AA1D-77B17A02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B7982-04A4-474C-A3FE-1A0D84EA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668C9-9919-466C-8DB0-FFB5F4EF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0C65E-0D3A-40FB-8ECE-18A57659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BF268-9D72-43FE-A22C-484BBAC4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7D01B-6711-49EC-B10D-90C86B1B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89BC3-3AC9-4223-8865-68292574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690E4-87BC-4497-B87D-72659B34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6CF-AA06-42C7-8692-0383A8375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A4AAD-7969-4DF3-985A-892EB616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72305-2046-48E0-A243-04412006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86147-4F53-40E3-9730-9546AE5C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3DB1A-0A2D-4309-8CF7-E4186429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AFDA5-DDF4-49AB-A310-D6C65A3E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F58CA-3BEC-4C3E-B0DD-14044D3E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722A8-5265-4C0E-8198-A566C47C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67358-EFD8-4D27-9001-04481E51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66002-6E1F-4CA9-B690-835C2983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005E7-D5F7-4AC1-9FFE-1968C3F5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2BFC-96F7-4388-BAD3-3E248B2E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A9A97-B826-4369-9044-AB8CD576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1C724-19F7-4DBF-AE11-F1FB2031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821A9-C0C5-469A-8792-234930EB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06CB-B1C3-4A2D-8E2E-E3C08B01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3832-B305-43C6-8583-FD9048DC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5415-F06F-4FC7-B1E9-BF60ACAB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C184-707A-413D-BBBD-C165783A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884B-6576-4FEF-9AB4-FE0BDFC0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35F8-60F1-4B2B-B79C-EF84BBC4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0540-839C-4B42-90ED-AFCABDB9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1C64-4712-4BFF-BED3-FD2C83A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39EA-0042-4977-AA97-F0EE215B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A9ED-CADF-4C7F-A9D4-E125361B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42D7-E0CB-4C9C-9F33-EECD9423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C0E5C-3D10-433A-89BE-ED6FFCAA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89C0-C55E-4B4B-A6D4-D0ADF099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CDD69-6FFC-43AA-B2D7-C8A6C86A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B85C-D26A-47D5-87A4-4B2CC98D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2D34-6011-41B9-883E-B62EDAD4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D164-DC28-4951-9CF2-15339A5F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F59-0A05-42B3-A801-5A15C4B4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629C6-1661-4EC0-BCD9-7D76120B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F2E64-F29A-4B1F-8DFC-D9F3C4E4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E15A-8F1B-4354-91D1-1E1FA7BA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C6FC-0538-44A0-98B7-92595678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8215-D788-4D71-BD63-10613740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3B316-D81C-4B6B-938C-5033DD64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F2A4-C3C1-4AD6-B214-8F50A608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EF1AE-EA22-4A5F-B02B-03672F74E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2F658-FFF8-42CB-B6D0-16A88154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E817-6D7F-494C-8CDC-F9318B20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9ADD-E8A2-4052-A0D4-A7462CE0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7F4D4-447F-42F1-AF7A-9E45C897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882C6-0DC7-45D1-94D0-505CA521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C3172-BA78-4E81-B9F3-A899C1EB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DCA43-7972-4E49-8495-15977BBC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08E80-B75E-4B25-B108-82E82F16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0965B-69C2-4630-9043-AD0B018A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453F-66AA-4430-B8C0-3F5E2740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A2436-3A66-48AD-B17E-CA1C9DF8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D9EB-5B59-4B20-A116-2128991F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7D54B-75EE-4E0D-B3A2-D953ED81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9E7-D5A2-462C-B7DD-A535D8E4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54D0-571C-4231-9BF7-9BE74473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2E2D4-A07C-4916-BDB4-42BE62A6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20DD8-B800-428D-A284-7A0923C9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209A1-E35E-4270-B974-0B0A2A11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DA805-1042-44C7-ABF5-85D58B56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E9C9E-2FC4-49F7-9977-F95966B9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36A8D-A261-4478-B9E7-849098E3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A5A4E-892D-4DBE-AE3D-FF2CE702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4F83A-FD18-4AA3-8DD1-BFA3A8FF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7F9C3-BD5D-4FD4-A3E1-83FF1516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294-CF1F-42DC-9FC6-EF3E09D6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20313-2A93-466A-BE27-840B9D1AA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1A842-2A1C-4159-A1DF-157FFAFEF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6FE83-4826-4554-AA7A-4907A902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410E5-3A4A-4DEF-B41A-DE7E2744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1449A-C52B-482A-9FB7-607B6426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862D4-EEB5-4C62-8364-1DC57394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74735-F9EF-42F2-8B8B-24BBC005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0364D-25EA-4003-90FE-18A4699D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8C8A4-1104-439F-B7D7-F1676DF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82E60-8DB4-44F3-9DAD-01A315A5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BAA-3751-48BF-BFDA-636F797D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0E1D0-5CDF-4FCD-9858-19A6CD25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840B0-7581-4527-8D9B-34BE01114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133F6-0EDF-4C27-A8CC-B3618A303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523A8-BD44-4C1B-A33C-4B39A7C0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5F435-AE67-4972-812B-05F85982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0C77D-5EF8-4B49-96A5-0C7AA3B7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7B2E4-B0A0-4E9D-B93E-37947A88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4CF86-1DAD-48BA-AA96-5EDBA316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B4771-6134-4CB0-BFD4-43C76B97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23807-EE3C-4CD8-9A31-F3E1D5BD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817E-A0FE-4916-B70B-D25F3385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E7931-687A-4449-A1DD-4DD29DC2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896E-4F1C-4F85-BCB8-07FC8296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A0C32-CF16-4C2A-A794-C05A35AE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BD9A1-2DCC-4A52-9E89-2EE4D21EF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8F38C-F1B4-490A-BE92-936E150E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8927B-4E08-4019-94E3-349A9457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36766-8971-4DAA-9449-503E0605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E4A83-C0A8-4728-93C9-DBA85A98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1B258-B419-4015-9967-3BE97F4C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A64D7-6098-47B6-86E2-41CC6AFD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115-E03E-47C0-8C3F-145D297F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777AA-FDD5-469E-8428-BE9E3040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93E7E-E913-4A06-BDEB-D20D2981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75004-5DB0-4A86-B853-83793CBA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6D0F3-8143-4A8E-B811-4E6F9189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267C6-74BE-4FAC-8C04-A6D4F4C8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6344A-3C5F-445B-8192-793FD08E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E190E-BF71-4794-AE79-30B68871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7B7D5-3497-4906-9358-BBCC7EC3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6F317-58D0-4EC9-ABFE-39D8C073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91A15-D475-46CC-8466-7EE70FCB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8835-22E4-4389-855E-2B8CA91FFD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BAA4-CCA0-4509-8428-B2B411A82E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C5EF-4939-46AE-A4C4-828CE7785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BCD2-9870-40C9-967D-106EB7493E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8769-E65A-4B73-9343-124019D5C4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8ACA-4E0C-4716-8C22-B7972969C2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A701-375F-44EC-AA3F-01BE97D0AA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1A9A-7104-48A4-B474-F870BA4B06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677F-D94A-4468-9B04-685D3CECA7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CED3-6A48-4126-9C59-22325AF2F9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E2AB-02FB-413D-B6D7-9048907EB8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7AF5-33A6-49FC-B7C9-1471F68C62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zhyz.gdzh.gov.cn/resource/picture/gifdh/dwl/fdl/z.htm" TargetMode="External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图片 3073" descr="复件 2e237c06a971085d03088152"/>
          <p:cNvPicPr/>
          <p:nvPr/>
        </p:nvPicPr>
        <p:blipFill>
          <a:blip r:embed="rId1"/>
          <a:stretch/>
        </p:blipFill>
        <p:spPr>
          <a:xfrm>
            <a:off x="0" y="0"/>
            <a:ext cx="1504800" cy="6858000"/>
          </a:xfrm>
          <a:prstGeom prst="rect">
            <a:avLst/>
          </a:prstGeom>
          <a:ln w="0">
            <a:noFill/>
          </a:ln>
        </p:spPr>
      </p:pic>
      <p:pic>
        <p:nvPicPr>
          <p:cNvPr id="452" name="图片 3074" descr="复件 2e237c06a971085d03088152"/>
          <p:cNvPicPr/>
          <p:nvPr/>
        </p:nvPicPr>
        <p:blipFill>
          <a:blip r:embed="rId2"/>
          <a:stretch/>
        </p:blipFill>
        <p:spPr>
          <a:xfrm>
            <a:off x="7639200" y="0"/>
            <a:ext cx="1504800" cy="68580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94920" y="762120"/>
            <a:ext cx="61945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钢铁是怎样炼成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3076"/>
          <p:cNvSpPr/>
          <p:nvPr/>
        </p:nvSpPr>
        <p:spPr>
          <a:xfrm>
            <a:off x="3809880" y="30481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----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尼古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奥斯特洛夫斯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组合 1228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2" name="矩形 1229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矩形 12291"/>
            <p:cNvSpPr/>
            <p:nvPr/>
          </p:nvSpPr>
          <p:spPr>
            <a:xfrm>
              <a:off x="0" y="0"/>
              <a:ext cx="91346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4" name="图片 1229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矩形 12293"/>
            <p:cNvSpPr/>
            <p:nvPr/>
          </p:nvSpPr>
          <p:spPr>
            <a:xfrm>
              <a:off x="701640" y="811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矩形 12294"/>
            <p:cNvSpPr/>
            <p:nvPr/>
          </p:nvSpPr>
          <p:spPr>
            <a:xfrm>
              <a:off x="1260360" y="811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矩形 12295"/>
            <p:cNvSpPr/>
            <p:nvPr/>
          </p:nvSpPr>
          <p:spPr>
            <a:xfrm>
              <a:off x="3500280" y="811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8" name="图片 12296" descr=""/>
            <p:cNvPicPr/>
            <p:nvPr/>
          </p:nvPicPr>
          <p:blipFill>
            <a:blip r:embed="rId2"/>
            <a:stretch/>
          </p:blipFill>
          <p:spPr>
            <a:xfrm>
              <a:off x="1206360" y="1952640"/>
              <a:ext cx="35892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图片 12297" descr=""/>
            <p:cNvPicPr/>
            <p:nvPr/>
          </p:nvPicPr>
          <p:blipFill>
            <a:blip r:embed="rId3"/>
            <a:stretch/>
          </p:blipFill>
          <p:spPr>
            <a:xfrm>
              <a:off x="1206360" y="1952640"/>
              <a:ext cx="35892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矩形 12298"/>
            <p:cNvSpPr/>
            <p:nvPr/>
          </p:nvSpPr>
          <p:spPr>
            <a:xfrm>
              <a:off x="1565280" y="189072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12299"/>
            <p:cNvSpPr/>
            <p:nvPr/>
          </p:nvSpPr>
          <p:spPr>
            <a:xfrm>
              <a:off x="1547640" y="2440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12300"/>
            <p:cNvSpPr/>
            <p:nvPr/>
          </p:nvSpPr>
          <p:spPr>
            <a:xfrm>
              <a:off x="1547640" y="296244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12301"/>
            <p:cNvSpPr/>
            <p:nvPr/>
          </p:nvSpPr>
          <p:spPr>
            <a:xfrm>
              <a:off x="5678640" y="292572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矩形 12302"/>
            <p:cNvSpPr/>
            <p:nvPr/>
          </p:nvSpPr>
          <p:spPr>
            <a:xfrm>
              <a:off x="6588000" y="29257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12303"/>
            <p:cNvSpPr/>
            <p:nvPr/>
          </p:nvSpPr>
          <p:spPr>
            <a:xfrm>
              <a:off x="6821640" y="296244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12304"/>
            <p:cNvSpPr/>
            <p:nvPr/>
          </p:nvSpPr>
          <p:spPr>
            <a:xfrm>
              <a:off x="1547640" y="35370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12305"/>
            <p:cNvSpPr/>
            <p:nvPr/>
          </p:nvSpPr>
          <p:spPr>
            <a:xfrm>
              <a:off x="1547640" y="40687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矩形 12306"/>
            <p:cNvSpPr/>
            <p:nvPr/>
          </p:nvSpPr>
          <p:spPr>
            <a:xfrm>
              <a:off x="4302000" y="40323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矩形 12307"/>
            <p:cNvSpPr/>
            <p:nvPr/>
          </p:nvSpPr>
          <p:spPr>
            <a:xfrm>
              <a:off x="4527720" y="406872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矩形 12308"/>
            <p:cNvSpPr/>
            <p:nvPr/>
          </p:nvSpPr>
          <p:spPr>
            <a:xfrm>
              <a:off x="1547640" y="46180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12309"/>
            <p:cNvSpPr/>
            <p:nvPr/>
          </p:nvSpPr>
          <p:spPr>
            <a:xfrm>
              <a:off x="4761000" y="45813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12310"/>
            <p:cNvSpPr/>
            <p:nvPr/>
          </p:nvSpPr>
          <p:spPr>
            <a:xfrm>
              <a:off x="4994280" y="461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12311"/>
            <p:cNvSpPr/>
            <p:nvPr/>
          </p:nvSpPr>
          <p:spPr>
            <a:xfrm>
              <a:off x="5913360" y="45813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矩形 12312"/>
            <p:cNvSpPr/>
            <p:nvPr/>
          </p:nvSpPr>
          <p:spPr>
            <a:xfrm>
              <a:off x="6137280" y="461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12313"/>
            <p:cNvSpPr/>
            <p:nvPr/>
          </p:nvSpPr>
          <p:spPr>
            <a:xfrm>
              <a:off x="6597720" y="45813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矩形 12314"/>
            <p:cNvSpPr/>
            <p:nvPr/>
          </p:nvSpPr>
          <p:spPr>
            <a:xfrm>
              <a:off x="6821640" y="461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矩形 12315"/>
            <p:cNvSpPr/>
            <p:nvPr/>
          </p:nvSpPr>
          <p:spPr>
            <a:xfrm>
              <a:off x="7740720" y="45813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矩形 12316"/>
            <p:cNvSpPr/>
            <p:nvPr/>
          </p:nvSpPr>
          <p:spPr>
            <a:xfrm>
              <a:off x="7964640" y="46180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12317"/>
            <p:cNvSpPr/>
            <p:nvPr/>
          </p:nvSpPr>
          <p:spPr>
            <a:xfrm>
              <a:off x="1547640" y="519444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0" name="文本框 12318"/>
          <p:cNvSpPr/>
          <p:nvPr/>
        </p:nvSpPr>
        <p:spPr>
          <a:xfrm>
            <a:off x="2411280" y="189000"/>
            <a:ext cx="446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主人公大事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文本框 12319"/>
          <p:cNvSpPr/>
          <p:nvPr/>
        </p:nvSpPr>
        <p:spPr>
          <a:xfrm>
            <a:off x="179280" y="1268280"/>
            <a:ext cx="871380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因和神父的矛盾被学校开除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在发电厂工作并偷了德军中尉的手枪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巧遇冬妮娅并互产生好感；因救朱赫来被抓，出狱后在冬妮娅家避难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92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年参加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宋体"/>
              </a:rPr>
              <a:t>日托摩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战役，头部受伤，右眼失明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组合 1331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63" name="矩形 13314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矩形 13315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5" name="图片 13316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文本框 13317"/>
          <p:cNvSpPr/>
          <p:nvPr/>
        </p:nvSpPr>
        <p:spPr>
          <a:xfrm>
            <a:off x="324000" y="260280"/>
            <a:ext cx="8569080" cy="54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和冬妮娅参加共青团活动并发生争执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向丽达学习文化并互产生好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参加筑路，并和冬妮娅有了不愉快的偶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名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P77—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在筑路中得肺炎兼伤寒，回医院养病（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第</a:t>
            </a: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  <a:ea typeface="宋体"/>
              </a:rPr>
              <a:t>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；患急性风湿症回乡治病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重遇丽达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车祸受伤重回疗养院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组合 1433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68" name="矩形 14338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14339"/>
            <p:cNvSpPr/>
            <p:nvPr/>
          </p:nvSpPr>
          <p:spPr>
            <a:xfrm>
              <a:off x="0" y="0"/>
              <a:ext cx="9135000" cy="685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图片 14340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矩形 14341"/>
            <p:cNvSpPr/>
            <p:nvPr/>
          </p:nvSpPr>
          <p:spPr>
            <a:xfrm>
              <a:off x="1782000" y="2377080"/>
              <a:ext cx="21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14342"/>
            <p:cNvSpPr/>
            <p:nvPr/>
          </p:nvSpPr>
          <p:spPr>
            <a:xfrm>
              <a:off x="1782000" y="3195360"/>
              <a:ext cx="2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14343"/>
            <p:cNvSpPr/>
            <p:nvPr/>
          </p:nvSpPr>
          <p:spPr>
            <a:xfrm>
              <a:off x="1782000" y="4014000"/>
              <a:ext cx="2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14344"/>
            <p:cNvSpPr/>
            <p:nvPr/>
          </p:nvSpPr>
          <p:spPr>
            <a:xfrm>
              <a:off x="2806920" y="5058360"/>
              <a:ext cx="1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14345"/>
            <p:cNvSpPr/>
            <p:nvPr/>
          </p:nvSpPr>
          <p:spPr>
            <a:xfrm>
              <a:off x="4328640" y="5084280"/>
              <a:ext cx="18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矩形 14346"/>
            <p:cNvSpPr/>
            <p:nvPr/>
          </p:nvSpPr>
          <p:spPr>
            <a:xfrm>
              <a:off x="4840920" y="5058360"/>
              <a:ext cx="180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矩形 14347"/>
            <p:cNvSpPr/>
            <p:nvPr/>
          </p:nvSpPr>
          <p:spPr>
            <a:xfrm>
              <a:off x="4966560" y="5084280"/>
              <a:ext cx="2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14348"/>
            <p:cNvSpPr/>
            <p:nvPr/>
          </p:nvSpPr>
          <p:spPr>
            <a:xfrm>
              <a:off x="5985000" y="5084280"/>
              <a:ext cx="180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14349"/>
            <p:cNvSpPr/>
            <p:nvPr/>
          </p:nvSpPr>
          <p:spPr>
            <a:xfrm>
              <a:off x="6497280" y="5084280"/>
              <a:ext cx="2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矩形 14350"/>
            <p:cNvSpPr/>
            <p:nvPr/>
          </p:nvSpPr>
          <p:spPr>
            <a:xfrm>
              <a:off x="8027640" y="5084280"/>
              <a:ext cx="2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文本框 14351"/>
          <p:cNvSpPr/>
          <p:nvPr/>
        </p:nvSpPr>
        <p:spPr>
          <a:xfrm>
            <a:off x="324000" y="549360"/>
            <a:ext cx="8532720" cy="57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在海边想自杀，最终战胜自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高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170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认识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达雅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并帮助她脱离家庭，和达雅结婚，身体状况下降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双目失明，全身瘫痪，开始文学创作，作品出版，重返工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（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名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P76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宋体"/>
              </a:rPr>
              <a:t>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2" descr="图片1fjfjkfgk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矩形 15362"/>
          <p:cNvSpPr txBox="1"/>
          <p:nvPr/>
        </p:nvSpPr>
        <p:spPr>
          <a:xfrm>
            <a:off x="1332000" y="0"/>
            <a:ext cx="655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保尔四次“死里逃生”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84" name="文本框 15363"/>
          <p:cNvSpPr/>
          <p:nvPr/>
        </p:nvSpPr>
        <p:spPr>
          <a:xfrm>
            <a:off x="468360" y="1268280"/>
            <a:ext cx="8497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与波兰白军的战斗中保尔的腿受伤病得了伤寒。   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尔在骑兵部队的战斗中，一颗炸弹在保尔身边炸响，头部受了重伤。     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繁重紧张的肃反工作击倒了有着伤病的保尔，不得不离开岗位，回家养病；  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铁路快修完时，保尔得了伤寒和大叶性肺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图片 1" descr="图片1h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文本框 16386"/>
          <p:cNvSpPr/>
          <p:nvPr/>
        </p:nvSpPr>
        <p:spPr>
          <a:xfrm>
            <a:off x="1692360" y="1557360"/>
            <a:ext cx="712764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一方面推动情节发展，增强情节的曲折性，展现保尔坎坷不平的人生经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另一方面展现了保尔顽强的生命力，钢铁般的坚强意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17409" descr="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8" name="矩形 17410"/>
          <p:cNvSpPr txBox="1"/>
          <p:nvPr/>
        </p:nvSpPr>
        <p:spPr>
          <a:xfrm>
            <a:off x="2556000" y="2349360"/>
            <a:ext cx="3960720" cy="13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人  物  评  价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18433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sp>
          <p:nvSpPr>
            <p:cNvPr id="590" name="矩形 18434"/>
            <p:cNvSpPr/>
            <p:nvPr/>
          </p:nvSpPr>
          <p:spPr>
            <a:xfrm>
              <a:off x="0" y="0"/>
              <a:ext cx="9143280" cy="68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矩形 18435"/>
            <p:cNvSpPr/>
            <p:nvPr/>
          </p:nvSpPr>
          <p:spPr>
            <a:xfrm>
              <a:off x="0" y="0"/>
              <a:ext cx="9143280" cy="6857280"/>
            </a:xfrm>
            <a:prstGeom prst="rect">
              <a:avLst/>
            </a:prstGeom>
            <a:solidFill>
              <a:srgbClr val="b4d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图片 18436" descr=""/>
            <p:cNvPicPr/>
            <p:nvPr/>
          </p:nvPicPr>
          <p:blipFill>
            <a:blip r:embed="rId1"/>
            <a:stretch/>
          </p:blipFill>
          <p:spPr>
            <a:xfrm>
              <a:off x="0" y="6474600"/>
              <a:ext cx="300816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图片 18437" descr=""/>
            <p:cNvPicPr/>
            <p:nvPr/>
          </p:nvPicPr>
          <p:blipFill>
            <a:blip r:embed="rId2"/>
            <a:stretch/>
          </p:blipFill>
          <p:spPr>
            <a:xfrm>
              <a:off x="0" y="5347080"/>
              <a:ext cx="682308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图片 18438" descr=""/>
            <p:cNvPicPr/>
            <p:nvPr/>
          </p:nvPicPr>
          <p:blipFill>
            <a:blip r:embed="rId3"/>
            <a:stretch/>
          </p:blipFill>
          <p:spPr>
            <a:xfrm>
              <a:off x="0" y="941760"/>
              <a:ext cx="115344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图片 18439" descr=""/>
            <p:cNvPicPr/>
            <p:nvPr/>
          </p:nvPicPr>
          <p:blipFill>
            <a:blip r:embed="rId4"/>
            <a:stretch/>
          </p:blipFill>
          <p:spPr>
            <a:xfrm>
              <a:off x="6809760" y="5347080"/>
              <a:ext cx="233352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图片 18440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96704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矩形 18441"/>
            <p:cNvSpPr/>
            <p:nvPr/>
          </p:nvSpPr>
          <p:spPr>
            <a:xfrm>
              <a:off x="1933920" y="178128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矩形 18442"/>
            <p:cNvSpPr/>
            <p:nvPr/>
          </p:nvSpPr>
          <p:spPr>
            <a:xfrm>
              <a:off x="3156480" y="178128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矩形 18443"/>
            <p:cNvSpPr/>
            <p:nvPr/>
          </p:nvSpPr>
          <p:spPr>
            <a:xfrm>
              <a:off x="5609520" y="178128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矩形 18444"/>
            <p:cNvSpPr/>
            <p:nvPr/>
          </p:nvSpPr>
          <p:spPr>
            <a:xfrm>
              <a:off x="6832800" y="178128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矩形 18445"/>
            <p:cNvSpPr/>
            <p:nvPr/>
          </p:nvSpPr>
          <p:spPr>
            <a:xfrm>
              <a:off x="7447680" y="178128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矩形 18446"/>
            <p:cNvSpPr/>
            <p:nvPr/>
          </p:nvSpPr>
          <p:spPr>
            <a:xfrm>
              <a:off x="70092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矩形 18447"/>
            <p:cNvSpPr/>
            <p:nvPr/>
          </p:nvSpPr>
          <p:spPr>
            <a:xfrm>
              <a:off x="131544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矩形 18448"/>
            <p:cNvSpPr/>
            <p:nvPr/>
          </p:nvSpPr>
          <p:spPr>
            <a:xfrm>
              <a:off x="192708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矩形 18449"/>
            <p:cNvSpPr/>
            <p:nvPr/>
          </p:nvSpPr>
          <p:spPr>
            <a:xfrm>
              <a:off x="315360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矩形 18450"/>
            <p:cNvSpPr/>
            <p:nvPr/>
          </p:nvSpPr>
          <p:spPr>
            <a:xfrm>
              <a:off x="4376160" y="269352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矩形 18451"/>
            <p:cNvSpPr/>
            <p:nvPr/>
          </p:nvSpPr>
          <p:spPr>
            <a:xfrm>
              <a:off x="5602680" y="269352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矩形 18452"/>
            <p:cNvSpPr/>
            <p:nvPr/>
          </p:nvSpPr>
          <p:spPr>
            <a:xfrm>
              <a:off x="6214680" y="269352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矩形 18453"/>
            <p:cNvSpPr/>
            <p:nvPr/>
          </p:nvSpPr>
          <p:spPr>
            <a:xfrm>
              <a:off x="805284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矩形 18454"/>
            <p:cNvSpPr/>
            <p:nvPr/>
          </p:nvSpPr>
          <p:spPr>
            <a:xfrm>
              <a:off x="700920" y="360864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矩形 18455"/>
            <p:cNvSpPr/>
            <p:nvPr/>
          </p:nvSpPr>
          <p:spPr>
            <a:xfrm>
              <a:off x="700920" y="452124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矩形 18456"/>
            <p:cNvSpPr/>
            <p:nvPr/>
          </p:nvSpPr>
          <p:spPr>
            <a:xfrm>
              <a:off x="3153600" y="452124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矩形 18457"/>
            <p:cNvSpPr/>
            <p:nvPr/>
          </p:nvSpPr>
          <p:spPr>
            <a:xfrm>
              <a:off x="3765240" y="452124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矩形 18458"/>
            <p:cNvSpPr/>
            <p:nvPr/>
          </p:nvSpPr>
          <p:spPr>
            <a:xfrm>
              <a:off x="6214680" y="452124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文本框 18459"/>
          <p:cNvSpPr/>
          <p:nvPr/>
        </p:nvSpPr>
        <p:spPr>
          <a:xfrm>
            <a:off x="399240" y="1413000"/>
            <a:ext cx="10947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保尔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华文行楷"/>
              </a:rPr>
              <a:t>·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柯察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18460"/>
          <p:cNvSpPr/>
          <p:nvPr/>
        </p:nvSpPr>
        <p:spPr>
          <a:xfrm>
            <a:off x="1403280" y="476280"/>
            <a:ext cx="756144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</a:t>
            </a:r>
            <a:r>
              <a:rPr b="1" lang="zh-CN" sz="3800" spc="-1" strike="noStrike" u="sng">
                <a:solidFill>
                  <a:srgbClr val="ff3300"/>
                </a:solidFill>
                <a:uFillTx/>
                <a:latin typeface="华文细黑"/>
                <a:ea typeface="华文细黑"/>
              </a:rPr>
              <a:t>为理想而献身</a:t>
            </a:r>
            <a:r>
              <a:rPr b="1" lang="zh-CN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r>
              <a:rPr b="1" lang="en-US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①</a:t>
            </a:r>
            <a:r>
              <a:rPr b="1" lang="zh-CN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因救朱赫来而入狱，面对敌人的严刑拷打，坚贞不屈； </a:t>
            </a:r>
            <a:r>
              <a:rPr b="1" lang="en-US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②</a:t>
            </a:r>
            <a:r>
              <a:rPr b="1" lang="zh-CN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为了革命英勇作战，头部受伤，右眼失明；</a:t>
            </a:r>
            <a:r>
              <a:rPr b="1" lang="en-US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③</a:t>
            </a:r>
            <a:r>
              <a:rPr b="1" lang="zh-CN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为了革命事业牺牲了与冬妮娅的爱情；</a:t>
            </a:r>
            <a:r>
              <a:rPr b="1" lang="en-US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④</a:t>
            </a:r>
            <a:r>
              <a:rPr b="1" lang="zh-CN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受重伤失去健康后，离开战场投入到国家建设中，忘我地工作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组合 19457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sp>
          <p:nvSpPr>
            <p:cNvPr id="618" name="矩形 19458"/>
            <p:cNvSpPr/>
            <p:nvPr/>
          </p:nvSpPr>
          <p:spPr>
            <a:xfrm>
              <a:off x="0" y="0"/>
              <a:ext cx="9143280" cy="68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矩形 19459"/>
            <p:cNvSpPr/>
            <p:nvPr/>
          </p:nvSpPr>
          <p:spPr>
            <a:xfrm>
              <a:off x="0" y="0"/>
              <a:ext cx="9143280" cy="6857280"/>
            </a:xfrm>
            <a:prstGeom prst="rect">
              <a:avLst/>
            </a:prstGeom>
            <a:solidFill>
              <a:srgbClr val="b4d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图片 19460" descr=""/>
            <p:cNvPicPr/>
            <p:nvPr/>
          </p:nvPicPr>
          <p:blipFill>
            <a:blip r:embed="rId1"/>
            <a:stretch/>
          </p:blipFill>
          <p:spPr>
            <a:xfrm>
              <a:off x="0" y="6474600"/>
              <a:ext cx="300816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图片 19461" descr=""/>
            <p:cNvPicPr/>
            <p:nvPr/>
          </p:nvPicPr>
          <p:blipFill>
            <a:blip r:embed="rId2"/>
            <a:stretch/>
          </p:blipFill>
          <p:spPr>
            <a:xfrm>
              <a:off x="0" y="5347080"/>
              <a:ext cx="682308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图片 19462" descr=""/>
            <p:cNvPicPr/>
            <p:nvPr/>
          </p:nvPicPr>
          <p:blipFill>
            <a:blip r:embed="rId3"/>
            <a:stretch/>
          </p:blipFill>
          <p:spPr>
            <a:xfrm>
              <a:off x="0" y="941760"/>
              <a:ext cx="115344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图片 19463" descr=""/>
            <p:cNvPicPr/>
            <p:nvPr/>
          </p:nvPicPr>
          <p:blipFill>
            <a:blip r:embed="rId4"/>
            <a:stretch/>
          </p:blipFill>
          <p:spPr>
            <a:xfrm>
              <a:off x="6809760" y="5347080"/>
              <a:ext cx="233352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4" name="图片 19464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96704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矩形 19465"/>
            <p:cNvSpPr/>
            <p:nvPr/>
          </p:nvSpPr>
          <p:spPr>
            <a:xfrm>
              <a:off x="1933920" y="178128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矩形 19466"/>
            <p:cNvSpPr/>
            <p:nvPr/>
          </p:nvSpPr>
          <p:spPr>
            <a:xfrm>
              <a:off x="3156480" y="178128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矩形 19467"/>
            <p:cNvSpPr/>
            <p:nvPr/>
          </p:nvSpPr>
          <p:spPr>
            <a:xfrm>
              <a:off x="5609520" y="178128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矩形 19468"/>
            <p:cNvSpPr/>
            <p:nvPr/>
          </p:nvSpPr>
          <p:spPr>
            <a:xfrm>
              <a:off x="6832800" y="178128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矩形 19469"/>
            <p:cNvSpPr/>
            <p:nvPr/>
          </p:nvSpPr>
          <p:spPr>
            <a:xfrm>
              <a:off x="7447680" y="178128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矩形 19470"/>
            <p:cNvSpPr/>
            <p:nvPr/>
          </p:nvSpPr>
          <p:spPr>
            <a:xfrm>
              <a:off x="70092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矩形 19471"/>
            <p:cNvSpPr/>
            <p:nvPr/>
          </p:nvSpPr>
          <p:spPr>
            <a:xfrm>
              <a:off x="131544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矩形 19472"/>
            <p:cNvSpPr/>
            <p:nvPr/>
          </p:nvSpPr>
          <p:spPr>
            <a:xfrm>
              <a:off x="192708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矩形 19473"/>
            <p:cNvSpPr/>
            <p:nvPr/>
          </p:nvSpPr>
          <p:spPr>
            <a:xfrm>
              <a:off x="315360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矩形 19474"/>
            <p:cNvSpPr/>
            <p:nvPr/>
          </p:nvSpPr>
          <p:spPr>
            <a:xfrm>
              <a:off x="4376160" y="269352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19475"/>
            <p:cNvSpPr/>
            <p:nvPr/>
          </p:nvSpPr>
          <p:spPr>
            <a:xfrm>
              <a:off x="5602680" y="269352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矩形 19476"/>
            <p:cNvSpPr/>
            <p:nvPr/>
          </p:nvSpPr>
          <p:spPr>
            <a:xfrm>
              <a:off x="6214680" y="269352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矩形 19477"/>
            <p:cNvSpPr/>
            <p:nvPr/>
          </p:nvSpPr>
          <p:spPr>
            <a:xfrm>
              <a:off x="805284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矩形 19478"/>
            <p:cNvSpPr/>
            <p:nvPr/>
          </p:nvSpPr>
          <p:spPr>
            <a:xfrm>
              <a:off x="700920" y="360864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矩形 19479"/>
            <p:cNvSpPr/>
            <p:nvPr/>
          </p:nvSpPr>
          <p:spPr>
            <a:xfrm>
              <a:off x="700920" y="452124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矩形 19480"/>
            <p:cNvSpPr/>
            <p:nvPr/>
          </p:nvSpPr>
          <p:spPr>
            <a:xfrm>
              <a:off x="3153600" y="452124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矩形 19481"/>
            <p:cNvSpPr/>
            <p:nvPr/>
          </p:nvSpPr>
          <p:spPr>
            <a:xfrm>
              <a:off x="3765240" y="452124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矩形 19482"/>
            <p:cNvSpPr/>
            <p:nvPr/>
          </p:nvSpPr>
          <p:spPr>
            <a:xfrm>
              <a:off x="6214680" y="452124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文本框 19483"/>
          <p:cNvSpPr/>
          <p:nvPr/>
        </p:nvSpPr>
        <p:spPr>
          <a:xfrm>
            <a:off x="399240" y="1413000"/>
            <a:ext cx="10947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保尔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华文行楷"/>
              </a:rPr>
              <a:t>·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柯察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文本框 19484"/>
          <p:cNvSpPr/>
          <p:nvPr/>
        </p:nvSpPr>
        <p:spPr>
          <a:xfrm>
            <a:off x="1403280" y="476280"/>
            <a:ext cx="7561440" cy="23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</a:t>
            </a:r>
            <a:r>
              <a:rPr b="1" lang="zh-CN" sz="3800" spc="-1" strike="noStrike" u="sng">
                <a:solidFill>
                  <a:srgbClr val="ff3300"/>
                </a:solidFill>
                <a:uFillTx/>
                <a:latin typeface="华文细黑"/>
                <a:ea typeface="华文细黑"/>
              </a:rPr>
              <a:t>钢铁般的意志</a:t>
            </a:r>
            <a:r>
              <a:rPr b="1" lang="zh-CN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</a:t>
            </a:r>
            <a:r>
              <a:rPr b="1" lang="en-US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①</a:t>
            </a:r>
            <a:r>
              <a:rPr b="1" lang="zh-CN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筑路时，带领“潘克拉托夫小分队”克服种种艰难困苦，疯狂地工作； </a:t>
            </a:r>
            <a:r>
              <a:rPr b="1" lang="en-US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②</a:t>
            </a:r>
            <a:r>
              <a:rPr b="1" lang="zh-CN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失去工作能力、被党发给残疾症后，战胜了自杀的念头；</a:t>
            </a:r>
            <a:r>
              <a:rPr b="1" lang="en-US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③</a:t>
            </a:r>
            <a:r>
              <a:rPr b="1" lang="zh-CN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克服难以想象的困难，在病榻上写出</a:t>
            </a:r>
            <a:r>
              <a:rPr b="1" lang="en-US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《</a:t>
            </a:r>
            <a:r>
              <a:rPr b="1" lang="zh-CN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暴风雨所诞生的</a:t>
            </a:r>
            <a:r>
              <a:rPr b="1" lang="en-US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》</a:t>
            </a:r>
            <a:r>
              <a:rPr b="1" lang="zh-CN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组合 20481"/>
          <p:cNvGrpSpPr/>
          <p:nvPr/>
        </p:nvGrpSpPr>
        <p:grpSpPr>
          <a:xfrm>
            <a:off x="0" y="0"/>
            <a:ext cx="9143280" cy="6857280"/>
            <a:chOff x="0" y="0"/>
            <a:chExt cx="9143280" cy="6857280"/>
          </a:xfrm>
        </p:grpSpPr>
        <p:sp>
          <p:nvSpPr>
            <p:cNvPr id="646" name="矩形 20482"/>
            <p:cNvSpPr/>
            <p:nvPr/>
          </p:nvSpPr>
          <p:spPr>
            <a:xfrm>
              <a:off x="0" y="0"/>
              <a:ext cx="9143280" cy="685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矩形 20483"/>
            <p:cNvSpPr/>
            <p:nvPr/>
          </p:nvSpPr>
          <p:spPr>
            <a:xfrm>
              <a:off x="0" y="0"/>
              <a:ext cx="9143280" cy="6857280"/>
            </a:xfrm>
            <a:prstGeom prst="rect">
              <a:avLst/>
            </a:prstGeom>
            <a:solidFill>
              <a:srgbClr val="b4de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8" name="图片 20484" descr=""/>
            <p:cNvPicPr/>
            <p:nvPr/>
          </p:nvPicPr>
          <p:blipFill>
            <a:blip r:embed="rId1"/>
            <a:stretch/>
          </p:blipFill>
          <p:spPr>
            <a:xfrm>
              <a:off x="0" y="6474600"/>
              <a:ext cx="3008160" cy="38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9" name="图片 20485" descr=""/>
            <p:cNvPicPr/>
            <p:nvPr/>
          </p:nvPicPr>
          <p:blipFill>
            <a:blip r:embed="rId2"/>
            <a:stretch/>
          </p:blipFill>
          <p:spPr>
            <a:xfrm>
              <a:off x="0" y="5347080"/>
              <a:ext cx="682308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图片 20486" descr=""/>
            <p:cNvPicPr/>
            <p:nvPr/>
          </p:nvPicPr>
          <p:blipFill>
            <a:blip r:embed="rId3"/>
            <a:stretch/>
          </p:blipFill>
          <p:spPr>
            <a:xfrm>
              <a:off x="0" y="941760"/>
              <a:ext cx="115344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图片 20487" descr=""/>
            <p:cNvPicPr/>
            <p:nvPr/>
          </p:nvPicPr>
          <p:blipFill>
            <a:blip r:embed="rId4"/>
            <a:stretch/>
          </p:blipFill>
          <p:spPr>
            <a:xfrm>
              <a:off x="6809760" y="5347080"/>
              <a:ext cx="2333520" cy="15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图片 20488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967040" cy="95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矩形 20489"/>
            <p:cNvSpPr/>
            <p:nvPr/>
          </p:nvSpPr>
          <p:spPr>
            <a:xfrm>
              <a:off x="1933920" y="178128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矩形 20490"/>
            <p:cNvSpPr/>
            <p:nvPr/>
          </p:nvSpPr>
          <p:spPr>
            <a:xfrm>
              <a:off x="3156480" y="178128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矩形 20491"/>
            <p:cNvSpPr/>
            <p:nvPr/>
          </p:nvSpPr>
          <p:spPr>
            <a:xfrm>
              <a:off x="5609520" y="178128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矩形 20492"/>
            <p:cNvSpPr/>
            <p:nvPr/>
          </p:nvSpPr>
          <p:spPr>
            <a:xfrm>
              <a:off x="6832800" y="178128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矩形 20493"/>
            <p:cNvSpPr/>
            <p:nvPr/>
          </p:nvSpPr>
          <p:spPr>
            <a:xfrm>
              <a:off x="7447680" y="178128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矩形 20494"/>
            <p:cNvSpPr/>
            <p:nvPr/>
          </p:nvSpPr>
          <p:spPr>
            <a:xfrm>
              <a:off x="70092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矩形 20495"/>
            <p:cNvSpPr/>
            <p:nvPr/>
          </p:nvSpPr>
          <p:spPr>
            <a:xfrm>
              <a:off x="131544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矩形 20496"/>
            <p:cNvSpPr/>
            <p:nvPr/>
          </p:nvSpPr>
          <p:spPr>
            <a:xfrm>
              <a:off x="192708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矩形 20497"/>
            <p:cNvSpPr/>
            <p:nvPr/>
          </p:nvSpPr>
          <p:spPr>
            <a:xfrm>
              <a:off x="315360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矩形 20498"/>
            <p:cNvSpPr/>
            <p:nvPr/>
          </p:nvSpPr>
          <p:spPr>
            <a:xfrm>
              <a:off x="4376160" y="269352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矩形 20499"/>
            <p:cNvSpPr/>
            <p:nvPr/>
          </p:nvSpPr>
          <p:spPr>
            <a:xfrm>
              <a:off x="5602680" y="269352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矩形 20500"/>
            <p:cNvSpPr/>
            <p:nvPr/>
          </p:nvSpPr>
          <p:spPr>
            <a:xfrm>
              <a:off x="6214680" y="269352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矩形 20501"/>
            <p:cNvSpPr/>
            <p:nvPr/>
          </p:nvSpPr>
          <p:spPr>
            <a:xfrm>
              <a:off x="8052840" y="269352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矩形 20502"/>
            <p:cNvSpPr/>
            <p:nvPr/>
          </p:nvSpPr>
          <p:spPr>
            <a:xfrm>
              <a:off x="700920" y="360864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矩形 20503"/>
            <p:cNvSpPr/>
            <p:nvPr/>
          </p:nvSpPr>
          <p:spPr>
            <a:xfrm>
              <a:off x="700920" y="452124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矩形 20504"/>
            <p:cNvSpPr/>
            <p:nvPr/>
          </p:nvSpPr>
          <p:spPr>
            <a:xfrm>
              <a:off x="3153600" y="452124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矩形 20505"/>
            <p:cNvSpPr/>
            <p:nvPr/>
          </p:nvSpPr>
          <p:spPr>
            <a:xfrm>
              <a:off x="3765240" y="4521240"/>
              <a:ext cx="28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矩形 20506"/>
            <p:cNvSpPr/>
            <p:nvPr/>
          </p:nvSpPr>
          <p:spPr>
            <a:xfrm>
              <a:off x="6214680" y="4521240"/>
              <a:ext cx="36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文本框 20507"/>
          <p:cNvSpPr/>
          <p:nvPr/>
        </p:nvSpPr>
        <p:spPr>
          <a:xfrm>
            <a:off x="399240" y="1413000"/>
            <a:ext cx="10947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保尔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  <a:ea typeface="华文行楷"/>
              </a:rPr>
              <a:t>·</a:t>
            </a: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行楷"/>
              </a:rPr>
              <a:t>柯察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0508"/>
          <p:cNvSpPr/>
          <p:nvPr/>
        </p:nvSpPr>
        <p:spPr>
          <a:xfrm>
            <a:off x="1763640" y="692280"/>
            <a:ext cx="6697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      </a:t>
            </a:r>
            <a:r>
              <a:rPr b="1" lang="zh-CN" sz="3800" spc="-1" strike="noStrike" u="sng">
                <a:solidFill>
                  <a:srgbClr val="ff3300"/>
                </a:solidFill>
                <a:uFillTx/>
                <a:latin typeface="华文细黑"/>
                <a:ea typeface="华文细黑"/>
              </a:rPr>
              <a:t>顽强奋斗，乐观豁达</a:t>
            </a:r>
            <a:r>
              <a:rPr b="1" lang="zh-CN" sz="3800" spc="-1" strike="noStrike">
                <a:solidFill>
                  <a:srgbClr val="000000"/>
                </a:solidFill>
                <a:latin typeface="华文细黑"/>
                <a:ea typeface="华文细黑"/>
              </a:rPr>
              <a:t>：重伤是，手术中，死神的黑色翅膀曾三次触及过他，他还坚持写作并乐观地安慰妻子达雅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右箭头 20509"/>
          <p:cNvSpPr/>
          <p:nvPr/>
        </p:nvSpPr>
        <p:spPr>
          <a:xfrm>
            <a:off x="1332000" y="4724280"/>
            <a:ext cx="936360" cy="289080"/>
          </a:xfrm>
          <a:prstGeom prst="rightArrow">
            <a:avLst>
              <a:gd name="adj1" fmla="val 50000"/>
              <a:gd name="adj2" fmla="val 809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20510"/>
          <p:cNvSpPr/>
          <p:nvPr/>
        </p:nvSpPr>
        <p:spPr>
          <a:xfrm>
            <a:off x="2556000" y="4508640"/>
            <a:ext cx="658800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平凡而伟大的英雄形象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图片 21505" descr="7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676" name="文本框 21506"/>
          <p:cNvSpPr/>
          <p:nvPr/>
        </p:nvSpPr>
        <p:spPr>
          <a:xfrm>
            <a:off x="826920" y="260280"/>
            <a:ext cx="806472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华文中宋"/>
              </a:rPr>
              <a:t>朱赫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关心他人，勇于承认自己的错误，遇事沉着，有主见，认真负责，雷厉风行，组织能力强，善解人意，对敌人有火一般的愤怒与憎恨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不屈不挠地和剥削者作顽强的斗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。和保尔一起生活的时间里给他讲了许多革命道理，传授了许多革命知识，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华文中宋"/>
              </a:rPr>
              <a:t>对保尔思想的成长起到了决定性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组合 409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456" name="矩形 4098"/>
            <p:cNvSpPr/>
            <p:nvPr/>
          </p:nvSpPr>
          <p:spPr>
            <a:xfrm>
              <a:off x="1080" y="1080"/>
              <a:ext cx="9142560" cy="685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4099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8" name="图片 4100" descr=""/>
            <p:cNvPicPr/>
            <p:nvPr/>
          </p:nvPicPr>
          <p:blipFill>
            <a:blip r:embed="rId1"/>
            <a:stretch/>
          </p:blipFill>
          <p:spPr>
            <a:xfrm>
              <a:off x="1080" y="1080"/>
              <a:ext cx="456840" cy="685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矩形 4101"/>
            <p:cNvSpPr/>
            <p:nvPr/>
          </p:nvSpPr>
          <p:spPr>
            <a:xfrm>
              <a:off x="1009440" y="48060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矩形 4102"/>
            <p:cNvSpPr/>
            <p:nvPr/>
          </p:nvSpPr>
          <p:spPr>
            <a:xfrm>
              <a:off x="4260240" y="48060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4103"/>
            <p:cNvSpPr/>
            <p:nvPr/>
          </p:nvSpPr>
          <p:spPr>
            <a:xfrm>
              <a:off x="5072400" y="48060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矩形 4104"/>
            <p:cNvSpPr/>
            <p:nvPr/>
          </p:nvSpPr>
          <p:spPr>
            <a:xfrm>
              <a:off x="7510680" y="48060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矩形 4105"/>
            <p:cNvSpPr/>
            <p:nvPr/>
          </p:nvSpPr>
          <p:spPr>
            <a:xfrm>
              <a:off x="7915320" y="48060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矩形 4106"/>
            <p:cNvSpPr/>
            <p:nvPr/>
          </p:nvSpPr>
          <p:spPr>
            <a:xfrm>
              <a:off x="8323560" y="48060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矩形 4107"/>
            <p:cNvSpPr/>
            <p:nvPr/>
          </p:nvSpPr>
          <p:spPr>
            <a:xfrm>
              <a:off x="321840" y="193752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矩形 4108"/>
            <p:cNvSpPr/>
            <p:nvPr/>
          </p:nvSpPr>
          <p:spPr>
            <a:xfrm>
              <a:off x="1134720" y="193752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矩形 4109"/>
            <p:cNvSpPr/>
            <p:nvPr/>
          </p:nvSpPr>
          <p:spPr>
            <a:xfrm>
              <a:off x="1947600" y="193752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矩形 4110"/>
            <p:cNvSpPr/>
            <p:nvPr/>
          </p:nvSpPr>
          <p:spPr>
            <a:xfrm>
              <a:off x="2758320" y="193752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矩形 4111"/>
            <p:cNvSpPr/>
            <p:nvPr/>
          </p:nvSpPr>
          <p:spPr>
            <a:xfrm>
              <a:off x="3504600" y="193752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4112"/>
            <p:cNvSpPr/>
            <p:nvPr/>
          </p:nvSpPr>
          <p:spPr>
            <a:xfrm>
              <a:off x="3911040" y="193752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4113"/>
            <p:cNvSpPr/>
            <p:nvPr/>
          </p:nvSpPr>
          <p:spPr>
            <a:xfrm>
              <a:off x="5129640" y="193752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4114"/>
            <p:cNvSpPr/>
            <p:nvPr/>
          </p:nvSpPr>
          <p:spPr>
            <a:xfrm>
              <a:off x="5534640" y="193752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4115"/>
            <p:cNvSpPr/>
            <p:nvPr/>
          </p:nvSpPr>
          <p:spPr>
            <a:xfrm>
              <a:off x="7159680" y="193752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4116"/>
            <p:cNvSpPr/>
            <p:nvPr/>
          </p:nvSpPr>
          <p:spPr>
            <a:xfrm>
              <a:off x="7567920" y="193752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4117"/>
            <p:cNvSpPr/>
            <p:nvPr/>
          </p:nvSpPr>
          <p:spPr>
            <a:xfrm>
              <a:off x="321840" y="342360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4118"/>
            <p:cNvSpPr/>
            <p:nvPr/>
          </p:nvSpPr>
          <p:spPr>
            <a:xfrm>
              <a:off x="1134720" y="342360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4119"/>
            <p:cNvSpPr/>
            <p:nvPr/>
          </p:nvSpPr>
          <p:spPr>
            <a:xfrm>
              <a:off x="1539360" y="342360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4120"/>
            <p:cNvSpPr/>
            <p:nvPr/>
          </p:nvSpPr>
          <p:spPr>
            <a:xfrm>
              <a:off x="1109160" y="413280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矩形 4121"/>
            <p:cNvSpPr/>
            <p:nvPr/>
          </p:nvSpPr>
          <p:spPr>
            <a:xfrm>
              <a:off x="7608960" y="413280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矩形 4122"/>
            <p:cNvSpPr/>
            <p:nvPr/>
          </p:nvSpPr>
          <p:spPr>
            <a:xfrm>
              <a:off x="8017200" y="413280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4123"/>
            <p:cNvSpPr/>
            <p:nvPr/>
          </p:nvSpPr>
          <p:spPr>
            <a:xfrm>
              <a:off x="321840" y="56181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4124"/>
            <p:cNvSpPr/>
            <p:nvPr/>
          </p:nvSpPr>
          <p:spPr>
            <a:xfrm>
              <a:off x="4434840" y="102204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4125"/>
            <p:cNvSpPr/>
            <p:nvPr/>
          </p:nvSpPr>
          <p:spPr>
            <a:xfrm>
              <a:off x="6644160" y="1098360"/>
              <a:ext cx="1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4126"/>
            <p:cNvSpPr/>
            <p:nvPr/>
          </p:nvSpPr>
          <p:spPr>
            <a:xfrm>
              <a:off x="6644160" y="15267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4127"/>
            <p:cNvSpPr/>
            <p:nvPr/>
          </p:nvSpPr>
          <p:spPr>
            <a:xfrm>
              <a:off x="626760" y="254556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4128"/>
            <p:cNvSpPr/>
            <p:nvPr/>
          </p:nvSpPr>
          <p:spPr>
            <a:xfrm>
              <a:off x="626760" y="297432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4129"/>
            <p:cNvSpPr/>
            <p:nvPr/>
          </p:nvSpPr>
          <p:spPr>
            <a:xfrm>
              <a:off x="1920600" y="254556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4130"/>
            <p:cNvSpPr/>
            <p:nvPr/>
          </p:nvSpPr>
          <p:spPr>
            <a:xfrm>
              <a:off x="3444120" y="25455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矩形 4131"/>
            <p:cNvSpPr/>
            <p:nvPr/>
          </p:nvSpPr>
          <p:spPr>
            <a:xfrm>
              <a:off x="4967640" y="25455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矩形 4132"/>
            <p:cNvSpPr/>
            <p:nvPr/>
          </p:nvSpPr>
          <p:spPr>
            <a:xfrm>
              <a:off x="7024680" y="25455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矩形 4133"/>
            <p:cNvSpPr/>
            <p:nvPr/>
          </p:nvSpPr>
          <p:spPr>
            <a:xfrm>
              <a:off x="1767960" y="353592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矩形 4134"/>
            <p:cNvSpPr/>
            <p:nvPr/>
          </p:nvSpPr>
          <p:spPr>
            <a:xfrm>
              <a:off x="7558200" y="48297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4135"/>
            <p:cNvSpPr/>
            <p:nvPr/>
          </p:nvSpPr>
          <p:spPr>
            <a:xfrm>
              <a:off x="6720480" y="8856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4136"/>
            <p:cNvSpPr/>
            <p:nvPr/>
          </p:nvSpPr>
          <p:spPr>
            <a:xfrm>
              <a:off x="7075800" y="74160"/>
              <a:ext cx="1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矩形 4137"/>
            <p:cNvSpPr/>
            <p:nvPr/>
          </p:nvSpPr>
          <p:spPr>
            <a:xfrm>
              <a:off x="7786800" y="885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文本框 4138"/>
          <p:cNvSpPr/>
          <p:nvPr/>
        </p:nvSpPr>
        <p:spPr>
          <a:xfrm>
            <a:off x="735120" y="338040"/>
            <a:ext cx="779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4139"/>
          <p:cNvSpPr/>
          <p:nvPr/>
        </p:nvSpPr>
        <p:spPr>
          <a:xfrm>
            <a:off x="987480" y="1042920"/>
            <a:ext cx="401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4140"/>
          <p:cNvSpPr/>
          <p:nvPr/>
        </p:nvSpPr>
        <p:spPr>
          <a:xfrm>
            <a:off x="539640" y="0"/>
            <a:ext cx="8604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坚定的共产主义战士，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前苏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的无产阶级革命家。奥斯特洛夫斯基出身于乌克兰一个工人家庭。由于家境贫寒，他只念过三年书。十月革命胜利后，他积极投身于保卫苏维埃政权的斗争，成为骑兵团的一名战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因身负重伤，转业到地方。不久，他在与洪水的搏斗中，得了伤寒和风湿症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时全身瘫痪。瘫痪后，他以顽强的毅力，克服着常人难以想象的困难，开始了文学创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图片 22529" descr="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22530"/>
          <p:cNvSpPr/>
          <p:nvPr/>
        </p:nvSpPr>
        <p:spPr>
          <a:xfrm>
            <a:off x="2230560" y="260280"/>
            <a:ext cx="69134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中宋"/>
              </a:rPr>
              <a:t>冬妮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天真、纯朴，醉心于爱情，最后由小资产阶级小姐完全变成时代落伍者和寄生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22531"/>
          <p:cNvSpPr/>
          <p:nvPr/>
        </p:nvSpPr>
        <p:spPr>
          <a:xfrm>
            <a:off x="1835280" y="3141720"/>
            <a:ext cx="730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中宋"/>
              </a:rPr>
              <a:t>丽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优秀的共产党员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她漂亮机智、干练勇敢、信念坚定、心地善良，爱憎分明，有着顽强的革命意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23553" descr="a2ddea8f9504ba3d9f2fb4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Arial"/>
                <a:ea typeface="华文行楷"/>
              </a:rPr>
              <a:t>精彩片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13744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①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苏联红军与</a:t>
            </a:r>
            <a:r>
              <a:rPr b="1" lang="zh-CN" sz="4000" spc="-1" strike="noStrike">
                <a:solidFill>
                  <a:srgbClr val="6600cc"/>
                </a:solidFill>
                <a:latin typeface="华文细黑"/>
                <a:ea typeface="华文细黑"/>
              </a:rPr>
              <a:t>彼得留拉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匪徒开战（第一部分第七章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②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熔铸“钢铁”的过程（第二部分第二章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③</a:t>
            </a: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打消自杀念头（第三部分第八章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组合 2457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684" name="矩形 24578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矩形 24579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6" name="图片 24580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筑路者面临着恶劣的劳动环境和生活条件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秋雨，泥泞，寒冷，饥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华文中宋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物资匮乏：没有枕木、运输工具，小火车头需要大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尖锐的阶级斗争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匪徒，肃反，开小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24582"/>
          <p:cNvSpPr/>
          <p:nvPr/>
        </p:nvSpPr>
        <p:spPr>
          <a:xfrm>
            <a:off x="250920" y="3789360"/>
            <a:ext cx="8424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面对这些困难，筑路者，特别是积极分子，以惊人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毅力和无比顽强的意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同困难进行斗争，表现了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不畏艰难困苦的大无畏的革命英雄主义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图片 25601" descr="背景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矩形 25602"/>
          <p:cNvSpPr txBox="1"/>
          <p:nvPr/>
        </p:nvSpPr>
        <p:spPr>
          <a:xfrm>
            <a:off x="1979640" y="189000"/>
            <a:ext cx="453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问  题  探  究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91" name="文本框 25603"/>
          <p:cNvSpPr/>
          <p:nvPr/>
        </p:nvSpPr>
        <p:spPr>
          <a:xfrm>
            <a:off x="971640" y="2205000"/>
            <a:ext cx="73641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中宋"/>
              </a:rPr>
              <a:t>在丧失工作能力后，备受伤痛和精神折磨的保尔曾经想到自杀，这是否应影响保尔坚强的形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组合 26625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693" name="矩形 26626"/>
            <p:cNvSpPr/>
            <p:nvPr/>
          </p:nvSpPr>
          <p:spPr>
            <a:xfrm>
              <a:off x="1080" y="1080"/>
              <a:ext cx="9142560" cy="685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矩形 26627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5" name="图片 26628" descr=""/>
            <p:cNvPicPr/>
            <p:nvPr/>
          </p:nvPicPr>
          <p:blipFill>
            <a:blip r:embed="rId1"/>
            <a:stretch/>
          </p:blipFill>
          <p:spPr>
            <a:xfrm>
              <a:off x="7351560" y="1080"/>
              <a:ext cx="1790640" cy="68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6" name="图片 26629" descr=""/>
            <p:cNvPicPr/>
            <p:nvPr/>
          </p:nvPicPr>
          <p:blipFill>
            <a:blip r:embed="rId2"/>
            <a:stretch/>
          </p:blipFill>
          <p:spPr>
            <a:xfrm>
              <a:off x="7351560" y="1080"/>
              <a:ext cx="1790640" cy="685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7" name="文本框 26630"/>
          <p:cNvSpPr/>
          <p:nvPr/>
        </p:nvSpPr>
        <p:spPr>
          <a:xfrm>
            <a:off x="324000" y="260280"/>
            <a:ext cx="72723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影响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尽管保尔是一名英雄，但他也是凡人之躯，病痛的折磨异常痛苦，保尔想到自杀也是人之常情，这使得人物形象更真实；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保尔自杀的原因就是他无法忍受自己不能再为大家工作，因此，他的自杀首先就是高尚的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楷体_GB2312"/>
              </a:rPr>
              <a:t>他最后以坚强的意志战胜了自我、克服了自杀的念头，这是坚强的表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图片 27649" descr="BAS003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9" name="文本框 27650"/>
          <p:cNvSpPr/>
          <p:nvPr/>
        </p:nvSpPr>
        <p:spPr>
          <a:xfrm>
            <a:off x="358920" y="1557360"/>
            <a:ext cx="87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最宝贵的东西是生命。生命对于我们只有一次。一个人的生命应当这样度过：当他回首往事的时候，也不因虚度年华而悔恨，也不因碌碌无为而羞愧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，在临死的时候，它能够说：“我整个的生命和全部精力，都已献给世界上最    壮丽的事业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人类的解放而斗争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27651"/>
          <p:cNvSpPr/>
          <p:nvPr/>
        </p:nvSpPr>
        <p:spPr>
          <a:xfrm>
            <a:off x="1224000" y="18900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中宋"/>
              </a:rPr>
              <a:t>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这段话是保尔在什么情况下说的？你有何感受？（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中宋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名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中宋"/>
              </a:rPr>
              <a:t>》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华文中宋"/>
              </a:rPr>
              <a:t>P79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图片 2867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2" name="文本框 28674"/>
          <p:cNvSpPr/>
          <p:nvPr/>
        </p:nvSpPr>
        <p:spPr>
          <a:xfrm>
            <a:off x="971640" y="0"/>
            <a:ext cx="79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细黑"/>
              </a:rPr>
              <a:t>是保尔</a:t>
            </a:r>
            <a:r>
              <a:rPr b="1" lang="zh-CN" sz="3800" spc="-1" strike="noStrike">
                <a:solidFill>
                  <a:srgbClr val="ff3300"/>
                </a:solidFill>
                <a:latin typeface="Arial"/>
                <a:ea typeface="华文细黑"/>
              </a:rPr>
              <a:t>在因伤寒兼肺炎回家乡养病期间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华文细黑"/>
              </a:rPr>
              <a:t>，保尔到烈士墓前凭吊战友时说的。这是保尔一生的真实写照，也是他革命乐观主义的深刻概括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28675"/>
          <p:cNvSpPr/>
          <p:nvPr/>
        </p:nvSpPr>
        <p:spPr>
          <a:xfrm>
            <a:off x="971640" y="3429000"/>
            <a:ext cx="817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感受：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楷体_GB2312"/>
              </a:rPr>
              <a:t>人的一生应当像保尔那样度过，树立远大的理想和目标，并为之努力奋斗，为了勇于战胜艰难困苦，成为社会的有用之才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组合 29697"/>
          <p:cNvGrpSpPr/>
          <p:nvPr/>
        </p:nvGrpSpPr>
        <p:grpSpPr>
          <a:xfrm>
            <a:off x="0" y="0"/>
            <a:ext cx="7543800" cy="1128600"/>
            <a:chOff x="0" y="0"/>
            <a:chExt cx="7543800" cy="1128600"/>
          </a:xfrm>
        </p:grpSpPr>
        <p:pic>
          <p:nvPicPr>
            <p:cNvPr id="705" name="图片 29698" descr="002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05740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文本框 29699"/>
            <p:cNvSpPr/>
            <p:nvPr/>
          </p:nvSpPr>
          <p:spPr>
            <a:xfrm>
              <a:off x="152280" y="0"/>
              <a:ext cx="739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文本框 29700"/>
          <p:cNvSpPr/>
          <p:nvPr/>
        </p:nvSpPr>
        <p:spPr>
          <a:xfrm>
            <a:off x="0" y="134136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人生的旅途中，每个人会遇到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重的困难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要去面对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失败的打击和不被人理解的痛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在突破障碍、战胜困难后，回顾走过的道路，我们就会领悟到，那是磨炼人生的火焰。多少英雄、伟人，都是在熊熊燃烧的火焰中锻炼出来的，正如人们常说：“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宝剑锋从磨砺出，梅花香自苦寒来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29701"/>
          <p:cNvSpPr/>
          <p:nvPr/>
        </p:nvSpPr>
        <p:spPr>
          <a:xfrm>
            <a:off x="2195640" y="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Arial"/>
                <a:ea typeface="华文行楷"/>
              </a:rPr>
              <a:t>教 师 寄 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直接连接符 29702"/>
          <p:cNvSpPr/>
          <p:nvPr/>
        </p:nvSpPr>
        <p:spPr>
          <a:xfrm flipV="1">
            <a:off x="0" y="1125360"/>
            <a:ext cx="9144000" cy="5040"/>
          </a:xfrm>
          <a:prstGeom prst="line">
            <a:avLst/>
          </a:prstGeom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图片 29703" descr="00974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12000" y="260280"/>
            <a:ext cx="56520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文本框 1"/>
          <p:cNvSpPr/>
          <p:nvPr/>
        </p:nvSpPr>
        <p:spPr>
          <a:xfrm>
            <a:off x="407880" y="87480"/>
            <a:ext cx="79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保尔在黑海疗养所企图自杀未遂，又找到了新的生活目标，他要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回到队伍中去，他把写的小说寄往柯托夫斯基师征求意见，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他不气馁，重新开始创作，小说最终获得了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2"/>
          <p:cNvSpPr/>
          <p:nvPr/>
        </p:nvSpPr>
        <p:spPr>
          <a:xfrm>
            <a:off x="1649520" y="1665360"/>
            <a:ext cx="548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文学创作；书稿在途中丢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文本框 3"/>
          <p:cNvSpPr/>
          <p:nvPr/>
        </p:nvSpPr>
        <p:spPr>
          <a:xfrm>
            <a:off x="1120680" y="2244600"/>
            <a:ext cx="686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保尔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__________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而被校长开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4"/>
          <p:cNvSpPr/>
          <p:nvPr/>
        </p:nvSpPr>
        <p:spPr>
          <a:xfrm>
            <a:off x="407880" y="2824200"/>
            <a:ext cx="873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神父家补课时，把一撮烟末撒在神父家的做复活节糕用的面团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5"/>
          <p:cNvSpPr/>
          <p:nvPr/>
        </p:nvSpPr>
        <p:spPr>
          <a:xfrm>
            <a:off x="666720" y="3954600"/>
            <a:ext cx="847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人们提出“在新时代，要做保尔还是比尔”的新命题。与比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盖茨相提并论的保尔，就是苏联作家奥斯特洛夫斯基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》中的主人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  他受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　　　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人影响很大，经过艰苦的锻炼，成为共产主义战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6"/>
          <p:cNvSpPr/>
          <p:nvPr/>
        </p:nvSpPr>
        <p:spPr>
          <a:xfrm>
            <a:off x="981000" y="5646600"/>
            <a:ext cx="714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钢铁是怎样炼成的；保尔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·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柯察金；朱赫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内容占位符 30721" descr="背景6"/>
          <p:cNvPicPr/>
          <p:nvPr/>
        </p:nvPicPr>
        <p:blipFill>
          <a:blip r:embed="rId1"/>
          <a:stretch/>
        </p:blipFill>
        <p:spPr>
          <a:xfrm>
            <a:off x="0" y="0"/>
            <a:ext cx="9144000" cy="7067520"/>
          </a:xfrm>
          <a:prstGeom prst="rect">
            <a:avLst/>
          </a:prstGeom>
          <a:ln w="0">
            <a:noFill/>
          </a:ln>
        </p:spPr>
      </p:pic>
      <p:sp>
        <p:nvSpPr>
          <p:cNvPr id="718" name="文本框 30722"/>
          <p:cNvSpPr/>
          <p:nvPr/>
        </p:nvSpPr>
        <p:spPr>
          <a:xfrm>
            <a:off x="2209680" y="2209680"/>
            <a:ext cx="448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谢 谢 观 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图片 5121" descr="2e237c06a971085d030881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文本框 5122"/>
          <p:cNvSpPr/>
          <p:nvPr/>
        </p:nvSpPr>
        <p:spPr>
          <a:xfrm>
            <a:off x="1187280" y="476280"/>
            <a:ext cx="7059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岁时，他的健康状况进一步恶化，双目失明，脊椎硬化。但他依然克服种种困难，请人代笔，于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33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完成了第一部长篇小说</a:t>
            </a:r>
            <a:r>
              <a:rPr b="1" lang="en-US" sz="4000" spc="-1" strike="noStrike">
                <a:solidFill>
                  <a:srgbClr val="cc00ff"/>
                </a:solidFill>
                <a:latin typeface="华文中宋"/>
                <a:ea typeface="华文中宋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华文中宋"/>
                <a:ea typeface="华文中宋"/>
              </a:rPr>
              <a:t>钢铁是怎样炼成的</a:t>
            </a:r>
            <a:r>
              <a:rPr b="1" lang="en-US" sz="4000" spc="-1" strike="noStrike">
                <a:solidFill>
                  <a:srgbClr val="cc00ff"/>
                </a:solidFill>
                <a:latin typeface="华文中宋"/>
                <a:ea typeface="华文中宋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他还写了长篇小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ff"/>
                </a:solidFill>
                <a:latin typeface="华文中宋"/>
                <a:ea typeface="华文中宋"/>
              </a:rPr>
              <a:t>《</a:t>
            </a:r>
            <a:r>
              <a:rPr b="1" lang="zh-CN" sz="4000" spc="-1" strike="noStrike">
                <a:solidFill>
                  <a:srgbClr val="cc00ff"/>
                </a:solidFill>
                <a:latin typeface="华文中宋"/>
                <a:ea typeface="华文中宋"/>
              </a:rPr>
              <a:t>暴风雨所诞生的</a:t>
            </a:r>
            <a:r>
              <a:rPr b="1" lang="en-US" sz="4000" spc="-1" strike="noStrike">
                <a:solidFill>
                  <a:srgbClr val="cc00ff"/>
                </a:solidFill>
                <a:latin typeface="华文中宋"/>
                <a:ea typeface="华文中宋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图片 6145" descr="2008113012315249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矩形 6146"/>
          <p:cNvSpPr/>
          <p:nvPr/>
        </p:nvSpPr>
        <p:spPr>
          <a:xfrm>
            <a:off x="395280" y="1341360"/>
            <a:ext cx="835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说中有这样一句话：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钢铁是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烈火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骤冷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中宋"/>
              </a:rPr>
              <a:t>中炼成的。只有这样它才能成为坚硬的，什么都不惧怕，我们这一代人也是在这样的斗争中、在艰苦的考验中锻炼出来的，并且学会了在生活面前不颓废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6147"/>
          <p:cNvSpPr txBox="1"/>
          <p:nvPr/>
        </p:nvSpPr>
        <p:spPr>
          <a:xfrm>
            <a:off x="2340000" y="404640"/>
            <a:ext cx="4376880" cy="84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钢铁是怎样炼成的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716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5" name="文本框 7170"/>
          <p:cNvSpPr/>
          <p:nvPr/>
        </p:nvSpPr>
        <p:spPr>
          <a:xfrm>
            <a:off x="1258920" y="765000"/>
            <a:ext cx="7416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钢铁”指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信念、意志和毅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“烈火和骤冷”指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特殊的、艰苦的环境和条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在小说中具体体现为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残酷的战争环境、恶劣的自然环境、艰苦的劳动条件以及常人难以忍受的病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组合 8193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507" name="矩形 8194"/>
            <p:cNvSpPr/>
            <p:nvPr/>
          </p:nvSpPr>
          <p:spPr>
            <a:xfrm>
              <a:off x="1080" y="1080"/>
              <a:ext cx="9142560" cy="6856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8195"/>
            <p:cNvSpPr/>
            <p:nvPr/>
          </p:nvSpPr>
          <p:spPr>
            <a:xfrm>
              <a:off x="0" y="0"/>
              <a:ext cx="9142560" cy="685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直接连接符 8196"/>
            <p:cNvSpPr/>
            <p:nvPr/>
          </p:nvSpPr>
          <p:spPr>
            <a:xfrm flipH="1">
              <a:off x="457920" y="1753200"/>
              <a:ext cx="83026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矩形 8197"/>
            <p:cNvSpPr/>
            <p:nvPr/>
          </p:nvSpPr>
          <p:spPr>
            <a:xfrm>
              <a:off x="8736120" y="153360"/>
              <a:ext cx="228240" cy="228240"/>
            </a:xfrm>
            <a:prstGeom prst="rect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8198"/>
            <p:cNvSpPr/>
            <p:nvPr/>
          </p:nvSpPr>
          <p:spPr>
            <a:xfrm>
              <a:off x="8736120" y="153360"/>
              <a:ext cx="22824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矩形 8199"/>
            <p:cNvSpPr/>
            <p:nvPr/>
          </p:nvSpPr>
          <p:spPr>
            <a:xfrm>
              <a:off x="280440" y="153360"/>
              <a:ext cx="8452080" cy="22824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矩形 8200"/>
            <p:cNvSpPr/>
            <p:nvPr/>
          </p:nvSpPr>
          <p:spPr>
            <a:xfrm>
              <a:off x="280440" y="153360"/>
              <a:ext cx="845208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矩形 8201"/>
            <p:cNvSpPr/>
            <p:nvPr/>
          </p:nvSpPr>
          <p:spPr>
            <a:xfrm>
              <a:off x="280440" y="381960"/>
              <a:ext cx="8452080" cy="137880"/>
            </a:xfrm>
            <a:prstGeom prst="rect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矩形 8202"/>
            <p:cNvSpPr/>
            <p:nvPr/>
          </p:nvSpPr>
          <p:spPr>
            <a:xfrm>
              <a:off x="280440" y="381960"/>
              <a:ext cx="8452080" cy="137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8203"/>
            <p:cNvSpPr/>
            <p:nvPr/>
          </p:nvSpPr>
          <p:spPr>
            <a:xfrm>
              <a:off x="8736120" y="383760"/>
              <a:ext cx="228240" cy="134640"/>
            </a:xfrm>
            <a:prstGeom prst="rect">
              <a:avLst/>
            </a:prstGeom>
            <a:solidFill>
              <a:srgbClr val="9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矩形 8204"/>
            <p:cNvSpPr/>
            <p:nvPr/>
          </p:nvSpPr>
          <p:spPr>
            <a:xfrm>
              <a:off x="8736120" y="383760"/>
              <a:ext cx="228240" cy="134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文本框 8205"/>
          <p:cNvSpPr/>
          <p:nvPr/>
        </p:nvSpPr>
        <p:spPr>
          <a:xfrm>
            <a:off x="2268360" y="54936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行楷"/>
              </a:rPr>
              <a:t>小 说 概 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8206"/>
          <p:cNvSpPr/>
          <p:nvPr/>
        </p:nvSpPr>
        <p:spPr>
          <a:xfrm>
            <a:off x="179280" y="1557360"/>
            <a:ext cx="8964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小说以作者自己的经历为基础，通过描述主人公保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柯察金从一个普通工人子弟成为无产阶级革命英雄的过程，展示了苏联从第一次世界大战起，经过十月革命、国内战争到经济恢复时期的广阔社会画面，歌颂了苏维埃青年为保卫革命政权、恢复国民经济而顽强斗争的革命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9217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文本框 9218"/>
          <p:cNvSpPr/>
          <p:nvPr/>
        </p:nvSpPr>
        <p:spPr>
          <a:xfrm>
            <a:off x="1258920" y="0"/>
            <a:ext cx="788508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小说分为两个部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一：描写国内战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二：描写经济恢复和社会主义建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9219"/>
          <p:cNvSpPr/>
          <p:nvPr/>
        </p:nvSpPr>
        <p:spPr>
          <a:xfrm>
            <a:off x="1222200" y="2276640"/>
            <a:ext cx="792180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小说的情节线索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、少年保尔的生活和反抗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、战士保尔在战场上奋勇杀敌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、建设者保尔的忘我工作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、与疾病顽强斗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10241" descr="BAS003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文本框 10242"/>
          <p:cNvSpPr/>
          <p:nvPr/>
        </p:nvSpPr>
        <p:spPr>
          <a:xfrm>
            <a:off x="1335600" y="331920"/>
            <a:ext cx="10947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保尔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行楷"/>
              </a:rPr>
              <a:t>·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柯察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左大括号 10243"/>
          <p:cNvSpPr/>
          <p:nvPr/>
        </p:nvSpPr>
        <p:spPr>
          <a:xfrm>
            <a:off x="2268360" y="260280"/>
            <a:ext cx="360720" cy="6264360"/>
          </a:xfrm>
          <a:custGeom>
            <a:avLst/>
            <a:gdLst>
              <a:gd name="textAreaLeft" fmla="*/ 230400 w 360720"/>
              <a:gd name="textAreaRight" fmla="*/ 361080 w 360720"/>
              <a:gd name="textAreaTop" fmla="*/ 163080 h 6264360"/>
              <a:gd name="textAreaBottom" fmla="*/ 6101280 h 62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10244"/>
          <p:cNvSpPr/>
          <p:nvPr/>
        </p:nvSpPr>
        <p:spPr>
          <a:xfrm>
            <a:off x="2627280" y="189000"/>
            <a:ext cx="630072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谢廖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保尔童年时的朋友，红军战士，共青团区委书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朱赫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水兵，党的地下工作者，省肃反委员会主席，军区特勤部副部长；                   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达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女工，保尔的妻子；  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阿尔焦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保尔的哥哥，钳工，市苏维埃主席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11265" descr="BAS003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文本框 11266"/>
          <p:cNvSpPr/>
          <p:nvPr/>
        </p:nvSpPr>
        <p:spPr>
          <a:xfrm>
            <a:off x="1191240" y="331920"/>
            <a:ext cx="109476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保尔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行楷"/>
              </a:rPr>
              <a:t>·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柯察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左大括号 11267"/>
          <p:cNvSpPr/>
          <p:nvPr/>
        </p:nvSpPr>
        <p:spPr>
          <a:xfrm>
            <a:off x="2124000" y="260280"/>
            <a:ext cx="360360" cy="6264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163080 h 6264360"/>
              <a:gd name="textAreaBottom" fmla="*/ 6101280 h 626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文本框 11268"/>
          <p:cNvSpPr/>
          <p:nvPr/>
        </p:nvSpPr>
        <p:spPr>
          <a:xfrm>
            <a:off x="2627280" y="260280"/>
            <a:ext cx="619272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冬妮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：保尔少年时的女友，林务官的女儿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丽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：红军师政治部工作人员，共青团省委常委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维克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：波兰世袭贵族，中学生，告密者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彼得留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：白匪头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10:20:06Z</dcterms:created>
  <dc:creator>Administrator</dc:creator>
  <dc:description/>
  <dc:language>en-US</dc:language>
  <cp:lastModifiedBy>Administrator</cp:lastModifiedBy>
  <dcterms:modified xsi:type="dcterms:W3CDTF">2017-03-08T00:05:0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