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.jpeg" ContentType="image/jpeg"/>
  <Override PartName="/ppt/media/image26.jpeg" ContentType="image/jpeg"/>
  <Override PartName="/ppt/media/projctor.wav" ContentType="audio/x-wav"/>
  <Override PartName="/ppt/media/image25.wmf" ContentType="image/x-wmf"/>
  <Override PartName="/ppt/media/image23.jpeg" ContentType="image/jpeg"/>
  <Override PartName="/ppt/media/image18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gif" ContentType="image/gif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0EA-B5BB-4E63-B1E6-182252C8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6C82-E138-4880-B99A-7974A199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53D4-9384-4AE3-A482-A197632C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CA9-C870-4C58-9044-6251CD72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10A2-D267-43B9-BECA-522AACF4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7A5-D2A7-4838-8217-95FC4D5A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D99-2180-4DF3-AC0C-4E442CC4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4BD-76C4-4713-83EC-6ABB5666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D0D3-484E-4015-A7D4-4EB48009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7B71-9A54-46A3-AB5D-7DC17800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BD62-4933-4D8E-A7AA-D7C8B2AB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DAA-D166-4402-8A4F-26FCFCE1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DADB-19AE-423F-AF10-D778940B43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jpeg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7.jpeg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wmf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0120" y="4419720"/>
            <a:ext cx="1523880" cy="2438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1763640" cy="2209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843280" y="0"/>
            <a:ext cx="177480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1447920" y="4410000"/>
            <a:ext cx="1447560" cy="244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343400" y="4338720"/>
            <a:ext cx="1600200" cy="2519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4419720"/>
            <a:ext cx="1447920" cy="243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24720" y="0"/>
            <a:ext cx="1619280" cy="220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095880" y="0"/>
            <a:ext cx="1447920" cy="2209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4500720" y="0"/>
            <a:ext cx="149832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1447920" y="0"/>
            <a:ext cx="140328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152280" y="1828800"/>
            <a:ext cx="9685080" cy="2531880"/>
          </a:xfrm>
          <a:prstGeom prst="rect">
            <a:avLst/>
          </a:prstGeom>
          <a:solidFill>
            <a:srgbClr val="0099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走进名著 亲近经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1" lang="zh-CN" sz="6600" spc="-1" strike="noStrike">
                <a:solidFill>
                  <a:srgbClr val="ffff00"/>
                </a:solidFill>
                <a:latin typeface="隶书"/>
                <a:ea typeface="隶书"/>
              </a:rPr>
              <a:t>---</a:t>
            </a:r>
            <a:r>
              <a:rPr b="1" lang="zh-CN" sz="6600" spc="-1" strike="noStrike">
                <a:solidFill>
                  <a:srgbClr val="ffff00"/>
                </a:solidFill>
                <a:latin typeface="隶书"/>
                <a:ea typeface="隶书"/>
              </a:rPr>
              <a:t>《水浒传》阅读指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《汤姆·索亚历险记》书影"/>
          <p:cNvPicPr/>
          <p:nvPr/>
        </p:nvPicPr>
        <p:blipFill>
          <a:blip r:embed="rId11"/>
          <a:stretch/>
        </p:blipFill>
        <p:spPr>
          <a:xfrm>
            <a:off x="2895480" y="4419720"/>
            <a:ext cx="1447920" cy="2438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电影《威尼斯商人》"/>
          <p:cNvPicPr/>
          <p:nvPr/>
        </p:nvPicPr>
        <p:blipFill>
          <a:blip r:embed="rId12"/>
          <a:stretch/>
        </p:blipFill>
        <p:spPr>
          <a:xfrm>
            <a:off x="5943600" y="4419720"/>
            <a:ext cx="16527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7848360" cy="431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780000" y="189000"/>
            <a:ext cx="720720" cy="55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-2124000" y="8037360"/>
          <a:ext cx="9144000" cy="18669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8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rcRect l="0" t="0" r="0" b="24316"/>
          <a:stretch/>
        </p:blipFill>
        <p:spPr>
          <a:xfrm>
            <a:off x="7308720" y="347760"/>
            <a:ext cx="935280" cy="718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90720" y="1142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人物故事知多少？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1465920"/>
            <a:ext cx="223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三打祝家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大闹五台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误入白虎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醉打蒋门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大闹清风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扯诏骂钦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智取生辰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2057400"/>
            <a:ext cx="1366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吴     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武    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宋   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李    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花    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鲁智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林    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1989000"/>
            <a:ext cx="1800000" cy="151128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743200"/>
            <a:ext cx="1947960" cy="23814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500280"/>
            <a:ext cx="1800000" cy="21607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200400" y="2895120"/>
            <a:ext cx="1873080" cy="129708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200400" y="4495320"/>
            <a:ext cx="1828800" cy="43668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132000" y="4076640"/>
            <a:ext cx="1944720" cy="165744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203640" y="2420640"/>
            <a:ext cx="1873080" cy="403236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0640" y="228600"/>
            <a:ext cx="164376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预习检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543800" y="5850000"/>
            <a:ext cx="1600200" cy="9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848360" cy="43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80000" y="189000"/>
            <a:ext cx="720720" cy="55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-2124000" y="8037360"/>
          <a:ext cx="9144000" cy="18669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8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rcRect l="0" t="0" r="0" b="24316"/>
          <a:stretch/>
        </p:blipFill>
        <p:spPr>
          <a:xfrm>
            <a:off x="7308720" y="347760"/>
            <a:ext cx="935280" cy="718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90720" y="11106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人物绰号我知道！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670760"/>
            <a:ext cx="2895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九纹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花和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豹子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青面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托塔天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行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黑旋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1905120"/>
            <a:ext cx="1366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宋体"/>
              </a:rPr>
              <a:t>杨   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宋体"/>
              </a:rPr>
              <a:t>吴   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宋体"/>
              </a:rPr>
              <a:t>史   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宋体"/>
              </a:rPr>
              <a:t>李   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宋体"/>
              </a:rPr>
              <a:t>武   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宋体"/>
              </a:rPr>
              <a:t>鲁智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宋体"/>
              </a:rPr>
              <a:t>林   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宋体"/>
              </a:rPr>
              <a:t>晁   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1905120"/>
            <a:ext cx="2438280" cy="13716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2666880"/>
            <a:ext cx="2438640" cy="221004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429000"/>
            <a:ext cx="2438280" cy="198108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895480" y="2209680"/>
            <a:ext cx="2514600" cy="19051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4800600"/>
            <a:ext cx="2361960" cy="11430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819520" y="4343040"/>
            <a:ext cx="2590560" cy="12193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895480" y="3733920"/>
            <a:ext cx="2514600" cy="259056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7543800" y="5850000"/>
            <a:ext cx="1600200" cy="9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家作品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施耐庵，元末明初人，祖籍苏州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中秀才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中举人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中进士。曾在钱塘一带做过几年官，其余时间一直以教书为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</a:rPr>
              <a:t>《水浒传》也称《忠义水浒传》。它是我国</a:t>
            </a:r>
            <a:r>
              <a:rPr b="1" lang="zh-CN" sz="2400" spc="-1" strike="noStrike">
                <a:solidFill>
                  <a:srgbClr val="e70101"/>
                </a:solidFill>
                <a:latin typeface="Arial"/>
              </a:rPr>
              <a:t>文学史上第一部描写农民起义全过程的长篇章回体小说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</a:rPr>
              <a:t>全书前半部写“官逼民反”，好汉林冲、鲁智深等一个个被“逼上梁山”，在宋江上山后写了几场反土豪、打官军的战争。后半部分写宋江被招安，攻辽、打方腊，最后以悲剧结局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揭示了当时的社会矛盾，暴露了封建统治阶级的残暴和腐朽，歌颂了受压迫人民的反抗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局限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在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只反贪官，不反皇帝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1440" y="228600"/>
            <a:ext cx="3587040" cy="76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整体感知     全面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43800" y="5850000"/>
            <a:ext cx="160020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73400" y="533520"/>
            <a:ext cx="1642680" cy="55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鲁提辖拳打镇关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90600" y="4572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人物介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666880" cy="5257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8120" y="1295280"/>
            <a:ext cx="5867280" cy="133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c26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080c26"/>
                </a:solidFill>
                <a:latin typeface="Verdana"/>
              </a:rPr>
              <a:t>梁山泊第十三位好汉，十员步军头领第一名。鲁智深原名鲁达，是经略府的提辖，因为见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郑屠欺侮金翠莲父女，三拳打死了镇关西</a:t>
            </a:r>
            <a:r>
              <a:rPr b="1" lang="zh-CN" sz="2400" spc="-1" strike="noStrike">
                <a:solidFill>
                  <a:srgbClr val="080c26"/>
                </a:solidFill>
                <a:latin typeface="Verdana"/>
              </a:rPr>
              <a:t>。被官府追捕，逃到五台山削发为僧，改名鲁智深。鲁智深忍受不住佛门清规，醉打山门，毁坏金身，被长老派往东京相国寺，看守菜园，因倒拔垂杨柳，威名远扬。鲁智深在野猪林救了林冲，高俅派人捉拿鲁智深，鲁智深在二龙山落草。后投奔水泊梁山，做了步兵头领。宋江攻打方腊，鲁智深一杖打翻了方腊。后在杭州六合寺圆寂而死。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19000" y="173052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752480"/>
            <a:ext cx="88200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思考：选段主要写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62920" y="5611680"/>
            <a:ext cx="1981080" cy="1236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10666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琥珀"/>
              </a:rPr>
              <a:t>略读课文  概括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2819520"/>
            <a:ext cx="892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鲁提辖为救金氏父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三拳打死了镇关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4000" y="4976640"/>
            <a:ext cx="48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路点拨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概括内容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事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4572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琥珀"/>
              </a:rPr>
              <a:t>个性展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琥珀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琥珀"/>
              </a:rPr>
              <a:t>精读选文  分析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9051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故事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看出鲁达是个怎样的人？你是从哪些地方看出来的？请找出相应的文字加以剖析，在书上圈点批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4724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路点拨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要抓住故事情节，结合人物的语言、动作、神态等写出性格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43800" y="5850000"/>
            <a:ext cx="1600200" cy="9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28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143000"/>
            <a:ext cx="950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分析“三次消遣郑屠”（从鲁提辖的要求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郑屠的反应来分析）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3640" y="2286000"/>
            <a:ext cx="8550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一次消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二次消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 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三次消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514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精肉，切做臊子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咄咄逼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04812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唯唯诺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1911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疑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5334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怒气冲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657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肥肉，切做臊子  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睁眼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48006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软骨，剁做臊子 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胸有成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43800" y="5850000"/>
            <a:ext cx="1600200" cy="9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Cloud"/>
          <p:cNvSpPr/>
          <p:nvPr/>
        </p:nvSpPr>
        <p:spPr>
          <a:xfrm>
            <a:off x="1219320" y="533520"/>
            <a:ext cx="8076960" cy="2630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53352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鲁达为什么要三次消遣郑屠？从中反映鲁达怎样的性格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299736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为了激怒郑屠，使其主动动手，为“拳打”找正当借口；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乱对方方寸，更容易打倒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反映了鲁达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方正行楷简体"/>
              </a:rPr>
              <a:t>粗中有细、有勇有谋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的性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660320" cy="2667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934320" y="3809880"/>
            <a:ext cx="191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0920" y="90792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鲁达打郑屠的三拳的落点在哪儿？分别从哪些角度去写？是怎样描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589720"/>
            <a:ext cx="914400" cy="914400"/>
          </a:xfrm>
          <a:prstGeom prst="irregularSeal2">
            <a:avLst/>
          </a:prstGeom>
          <a:solidFill>
            <a:srgbClr val="ff0000">
              <a:alpha val="85000"/>
            </a:srgbClr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292640"/>
            <a:ext cx="914400" cy="914400"/>
          </a:xfrm>
          <a:prstGeom prst="irregularSeal2">
            <a:avLst/>
          </a:prstGeom>
          <a:solidFill>
            <a:srgbClr val="ff0000">
              <a:alpha val="85000"/>
            </a:srgbClr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997360"/>
            <a:ext cx="914400" cy="914400"/>
          </a:xfrm>
          <a:prstGeom prst="irregularSeal2">
            <a:avLst/>
          </a:prstGeom>
          <a:solidFill>
            <a:srgbClr val="ff0000">
              <a:alpha val="85000"/>
            </a:srgbClr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2219400"/>
          <a:ext cx="8640720" cy="4638600"/>
        </p:xfrm>
        <a:graphic>
          <a:graphicData uri="http://schemas.openxmlformats.org/drawingml/2006/table">
            <a:tbl>
              <a:tblPr/>
              <a:tblGrid>
                <a:gridCol w="719280"/>
                <a:gridCol w="1360440"/>
                <a:gridCol w="1119240"/>
                <a:gridCol w="2057400"/>
                <a:gridCol w="1368360"/>
                <a:gridCol w="1057320"/>
                <a:gridCol w="958680"/>
              </a:tblGrid>
              <a:tr h="76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语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程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喻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感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描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角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18720">
                      <a:solidFill>
                        <a:srgbClr val="0099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26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18720">
                      <a:solidFill>
                        <a:srgbClr val="0099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8720">
                      <a:solidFill>
                        <a:srgbClr val="00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05720" y="2971800"/>
            <a:ext cx="93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咸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酸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辣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97180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你如何强骗了金翠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312408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鲜血迸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鼻子歪在半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35640" y="3141720"/>
            <a:ext cx="11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油酱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956720" y="328464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味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40000" y="3141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鼻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5524560"/>
            <a:ext cx="2232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挺在地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动掸不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有出气无入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4221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还敢应口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4419720"/>
            <a:ext cx="1441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眼眶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眉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343400"/>
            <a:ext cx="1873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眼棱缝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乌珠迸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4267080"/>
            <a:ext cx="83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红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黑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紫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35640" y="4437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彩帛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85080" y="4365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视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56386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洒家偏不饶你！</a:t>
            </a:r>
            <a:r>
              <a:rPr b="0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8360" y="5661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太阳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5670720"/>
            <a:ext cx="83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磬儿钹儿铙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57913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全堂水陆的道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885080" y="5734080"/>
            <a:ext cx="9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新魏"/>
                <a:ea typeface="华文新魏"/>
              </a:rPr>
              <a:t>听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360" y="115920"/>
            <a:ext cx="56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Arial"/>
                <a:ea typeface="华文琥珀"/>
              </a:rPr>
              <a:t>三拳赏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432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"/>
              </a:rPr>
              <a:t>目标定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结合中考真题，明确名著阅读部分的考点，做到有针对性的阅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能结合作品故事情节来分析主要人物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通过精彩片段的学习，进一步掌握名著阅读赏析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loud"/>
          <p:cNvSpPr/>
          <p:nvPr/>
        </p:nvSpPr>
        <p:spPr>
          <a:xfrm>
            <a:off x="2133720" y="533520"/>
            <a:ext cx="7010280" cy="1904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68580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作者为什么要详写这三拳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299736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详写三拳，更能突出鲁达疾恶如仇的性格，突出作恶者狼狈的下场，更符合被压迫的人民伸张正义、除暴安良的愿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660320" cy="2667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934320" y="3809880"/>
            <a:ext cx="191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loud"/>
          <p:cNvSpPr/>
          <p:nvPr/>
        </p:nvSpPr>
        <p:spPr>
          <a:xfrm>
            <a:off x="2133720" y="0"/>
            <a:ext cx="7010280" cy="19051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752480"/>
            <a:ext cx="792000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鲁达为什么不去官府状告郑屠而去亲手惩治他？联系我们现实生活，今天的我们应该怎样去看待“鲁提辖拳打镇关西”的侠义行为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45720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路点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说是反映当时社会生活的，要结合作品的感情倾向，联系文化背景做出自己的评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59400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各抒己见，辨析“侠义”之举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2800" cy="2590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870680" y="4800600"/>
            <a:ext cx="122724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28800" y="1784520"/>
            <a:ext cx="61722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名著阅读四部曲</a:t>
            </a:r>
            <a:r>
              <a:rPr b="0" lang="zh-CN" sz="4800" spc="-1" strike="noStrike">
                <a:solidFill>
                  <a:srgbClr val="000099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略读    了解情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精读    分析人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细品    理解情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深思    透视社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3560" y="304920"/>
            <a:ext cx="2009520" cy="1008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整合提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43800" y="5850000"/>
            <a:ext cx="160020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657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检测反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考说明》中指出《水浒传》中考涉及的主要人物有四个：鲁智深、林冲、武松、李逵，你能说出他们的相关情节及性格特点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543800" y="5850000"/>
            <a:ext cx="160020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962520" cy="4800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410080" y="2438280"/>
            <a:ext cx="76212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705720" y="2438280"/>
            <a:ext cx="761760" cy="457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7924680" y="2438280"/>
            <a:ext cx="762120" cy="457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2280" y="5105520"/>
            <a:ext cx="3962520" cy="113004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鲁智深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面圆身大  鼻直口方    身长八尺 腰阔十围    手提禅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228600"/>
            <a:ext cx="4343400" cy="5814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粗犷豪放、行侠仗义、 嫉恶如仇、急躁莽撞、粗中有细、勇而有谋、豁达明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3200400"/>
            <a:ext cx="3048120" cy="228852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拳打镇关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倒拔垂杨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大闹五台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闹野猪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381024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334120" y="2438280"/>
            <a:ext cx="761760" cy="457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6553080" y="2438280"/>
            <a:ext cx="838440" cy="3812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7696080" y="2438280"/>
            <a:ext cx="838440" cy="381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28600" y="5029200"/>
            <a:ext cx="3809880" cy="703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林冲：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举止得体  风度翩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24280" y="457200"/>
            <a:ext cx="4419720" cy="947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武艺高强、一身正气、勇而有谋，但为人安分守己、循规蹈矩、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逆来顺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3124080"/>
            <a:ext cx="2590920" cy="39344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误闯白虎堂                 刺配沧州道                风雪山神庙                火烧草料场雪夜上梁山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3809880" cy="4419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105520" y="1905120"/>
            <a:ext cx="761760" cy="457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477120" y="1905120"/>
            <a:ext cx="761760" cy="457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7772400" y="1905120"/>
            <a:ext cx="762120" cy="457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029200" y="2362320"/>
            <a:ext cx="3352680" cy="3934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景阳冈打虎                 血刃潘金莲                     斗杀西门庆       醉打蒋门神                    大闹飞云浦      血溅鸳鸯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除恶蜈蚣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4816440"/>
            <a:ext cx="4343400" cy="11908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武松：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双眼光射寒星          两弯眉浑如刷漆  胸脯横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0"/>
            <a:ext cx="434340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武艺高强、疾恶如仇  行侠仗义、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崇尚忠义、勇而有谋、有仇必复、有恩必报，（不足：滥杀无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410080" y="2819520"/>
            <a:ext cx="762120" cy="457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705720" y="2895480"/>
            <a:ext cx="76176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24680" y="2895480"/>
            <a:ext cx="762120" cy="457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57200" y="5638680"/>
            <a:ext cx="3429000" cy="70344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黑旋风李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228600"/>
            <a:ext cx="3810240" cy="5814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嫉恶如仇、侠肝义胆、脾气火爆、头脑简单、直爽率真、毫无心计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3276720"/>
            <a:ext cx="4038840" cy="283716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真假李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中州劫法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元夜闹东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探穴救柴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斗浪里白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228600" y="228600"/>
            <a:ext cx="380520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657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检测反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今天的阅读方法，就《水浒传》中的其他精彩情节或人物发表自己的看法，然后写一篇人物评析。参考题目：《我眼中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××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》、《我最喜爱的文学形象─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××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8288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2666880" cy="563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真题再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上选文出自著名长篇小说《      ▲      》，作者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▲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面对选文的赏析不正确的一项是（ ▲ ）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文除了通过语言、动作等描写表现鲁达的性格外，还通过史进、李忠、店主等人物侧面烘托其为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鲁达把这二两银子丢还了李忠”，一个“丢”字，表现了鲁达对李忠吝啬小气的不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愤愤地睡了”，“气愤愤”表现了鲁达因金氏父女的啼哭而破坏其喝酒雅兴后内心的愤愤不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文语言极具个性化，寥寥数语就能体现人物的不同性格；同时又大量运用口语，充满生活气息，可读性极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鲁提辖的姓、字、法号中巧妙地隐含着他的性格特征：“鲁且达而又智深”，请在“鲁”“达”“智深”中任选一个，结合上面选文以及你所知道的相关情节简析他的性格特征。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）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▲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下列选项中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品、人物、情节搭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错误的一项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)  (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《骆驼祥子》——小福子——难产而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《汤姆．索亚历险记》——蓓姬——洞中历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《鲁滨逊漂流记》——鲁滨逊——从野人手中救下“星期五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《童年》——阿廖沙——把白桌布扔进染缸，被外祖父打得失去知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填空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朝花夕拾》中给“我”买《山海经》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钢铁是怎样炼成的》中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战胜了伤寒，第四次跨过死亡的门槛，在去基辅之前来到烈士公墓悼念战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格列佛游记》中格列佛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国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曾用两根特制的圆棍弹琴，国王、王后听了都非常满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水浒传》中梁山好汉戴宗有道术，绑四个甲马，可日行八百里，他的江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绰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阅读下面文字，完成题目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悟空打死小妖，变作它的模样，来到妖怪母亲门前，叫开了门，道：“我是平顶山莲花洞差来请老奶奶的。”到了二层门下，闪着头往里观看，见那正当中高坐着一个老妈妈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悟空见了，在二门外捂着脸，脱脱的哭起来。你道他哭怎的，莫成是怕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就怕也便不哭，况先哄了他的宝贝，又打杀他的小妖，却为何而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当年曾下九鼎油锅，炸了七八日也不曾有一点泪儿。只为想起唐僧取经的苦恼，他就泪出痛肠，心想道：“老孙既显手段，变做小妖，来请这老怪，没有个直直的站了说话道理，一定见他磕头才是。我为人做了一场好汉，止拜了三个人：西天拜佛祖，南海拜观音，两界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即五行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师父救了我，我拜了他四拜。为他使碎了肝肺，用尽了心。一卷经能值几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今日却教我去拜此怪。若不跪拜，必定走了风讯。苦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算来只为师父受困，故使我受辱于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!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到此际也没奈何，撞将进去，朝上跪下道：“给奶奶磕头。”老怪问道：“你是那里来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悟空道：“平顶山莲花洞，二位大王差来请奶奶去吃唐僧肉。”老怪大喜道：“好孝顺的儿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!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就叫抬出轿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文中孙悟空说“两界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五行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师父救了我”，请联系选文之前的情节，用简洁的语言说说孙悟空被压两界山的原因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文中，一向坚强勇敢的孙悟空却“哭”了，并“跪”在老妖怪面前，这反映了他什么样的性格特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(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440" y="2133720"/>
            <a:ext cx="776916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着新课程标准的推行，中考语文命题已经体现了课程改革的基本理念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名著导读类试题已成为中考必考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去年分值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。题型以填空和简答题为主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综观近几年试题，中考名著试题考点通常涉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71640" y="765000"/>
            <a:ext cx="5010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命题趋势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43640" y="5084640"/>
            <a:ext cx="1224000" cy="1033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71640" y="5516640"/>
            <a:ext cx="1224000" cy="1033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00000" y="1341360"/>
            <a:ext cx="1371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Arial"/>
              </a:rPr>
              <a:t>考点聚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7621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学常识类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掌握篇名及其作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167652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物形象类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（掌握主要人物性格特点，对人物进行多方面评价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297180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故事情节类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熟记名著中主要人物和与之对应的主要故事情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42670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验评价类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（了解作品内容、主题思想、写作手法、语言特色、读者的阅读感受、启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8:29:46Z</dcterms:created>
  <dc:creator>Administrator</dc:creator>
  <dc:description/>
  <dc:language>en-US</dc:language>
  <cp:lastModifiedBy>微软用户</cp:lastModifiedBy>
  <dcterms:modified xsi:type="dcterms:W3CDTF">2013-09-27T04:35:3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