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%E7%AD%94%E6%A1%88%E5%AF%B9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00F9-A20A-4CBA-B2A6-70F2AF35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B67-168D-429A-9914-E5826EEA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8B9-E52C-44CE-8DEB-31EE3FA5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096-C0BB-4E5D-9288-C9D53CBD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DD2-D1BA-4F2D-87E0-FDC20442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3A2-9994-4929-A96E-AB020F1B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BA0-B6C4-4DFB-8B0D-381542D0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C63-7EA7-4F9F-8911-FD22DF64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E76-D975-4720-8FC6-0E9159F1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A61-8B65-4073-A450-19ABA0F3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E819-7DF6-427E-8091-A1B0BEB3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2C8-1B45-41A0-9BD2-F8930C99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E653-3810-4DD3-9E97-989CEDA47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&#31572;&#26696;&#23545;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684360" y="333360"/>
            <a:ext cx="33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名著导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．梁山泊义士在最后一次战斗，痛失一只手臂的人是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___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335772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66"/>
                </a:solidFill>
                <a:uFillTx/>
                <a:latin typeface="Arial"/>
              </a:rPr>
              <a:t>武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350028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．朝廷中是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摆下“连环马”大破宋公明，梁山好汉中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_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最后破了“连环马”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呼延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08360" y="3357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徐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31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．梁山泊中最后排名的前四位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___,________, ________,_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．“自幼曾攻经史，长成亦有权谋。恰如猛虎卧丘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他时若遂凌云志，敢笑黄巢不丈夫” 这是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_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写的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_____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诗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93080" y="4221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宋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49417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浔阳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5950080"/>
            <a:ext cx="3313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595008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．我们所熟知的打虎英雄是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中的，他在该书中有许多脍炙人口的事迹，如手刃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，斗杀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，为兄报仇。在快活林里醉打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386064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潘金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48360" y="3860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西门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5445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蒋门神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号称黑旋风的是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_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，他所使的武器是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，该人力大如牛，但险些被冒充他的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所害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2637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李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342900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两把板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72360" y="4221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李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．绰号豹子头的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，原为东京八十万禁军教头，后被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设计误入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，刺配沧州，后雪夜上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177336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林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3357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高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4292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白虎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51577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梁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中有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8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位好汉个个都有一段精彩的故事，人人都有一个特征鲜明的外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）请用一句话写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中你最熟悉的故事：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）请写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中你喜欢的一位好汉的外号，并说出此外号表现出的人物特征：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_____ 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3284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武松打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609300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神行太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609300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懂神行术，能日行千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的作者是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，该书描写了北宋徽宗时，以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为首的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08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名好汉在水泊梁山聚义，打家劫舍，杀富济贫的豪举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98900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施耐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0720" y="2852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宋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2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．鲁智深绰号</a:t>
            </a:r>
            <a:r>
              <a:rPr b="1" lang="zh-CN" sz="5400" spc="-1" strike="noStrike" u="sng">
                <a:solidFill>
                  <a:srgbClr val="ffffff"/>
                </a:solidFill>
                <a:uFillTx/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，他在渭州三拳打死</a:t>
            </a:r>
            <a:r>
              <a:rPr b="1" lang="zh-CN" sz="5400" spc="-1" strike="noStrike" u="sng">
                <a:solidFill>
                  <a:srgbClr val="ffffff"/>
                </a:solidFill>
                <a:uFillTx/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，在相国寺</a:t>
            </a:r>
            <a:r>
              <a:rPr b="1" lang="zh-CN" sz="5400" spc="-1" strike="noStrike" u="sng">
                <a:solidFill>
                  <a:srgbClr val="ffffff"/>
                </a:solidFill>
                <a:uFillTx/>
                <a:latin typeface="Arial"/>
              </a:rPr>
              <a:t>     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，在野猪林救</a:t>
            </a:r>
            <a:r>
              <a:rPr b="1" lang="zh-CN" sz="5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700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花和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64000" y="2565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镇关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335772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倒拔垂杨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414972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林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、抢答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100076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的作者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______,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朝代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______,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它是我国第一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小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72436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施耐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65720" y="256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末明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7136640" y="249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篇章回体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440" y="-257040"/>
            <a:ext cx="9524880" cy="73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中吴用绰号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，与晁盖、公孙胜等人在黄泥岗智取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2565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智多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3573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335772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辰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写出与下列情节相关的主要人物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⒈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大闯五台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⒉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误入白虎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⒊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风雪山神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⒋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大闯野猪林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____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349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鲁智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37162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林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8360" y="4724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林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566100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鲁智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94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⒌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醉打蒋门神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⒍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怒杀阎婆惜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⒎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大闹清风寨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⒏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斗浪里白条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170028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武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0000" y="2852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宋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3789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荣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479736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李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91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⒐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智取生辰纲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⒑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探穴救柴进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⒒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浔阳楼题反诗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⒓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血溅鸳鸯楼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64000" y="1557360"/>
            <a:ext cx="37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晁盖、吴用八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76720" y="2565360"/>
            <a:ext cx="4067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2781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李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3645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宋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59640" y="465300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武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0"/>
            <a:ext cx="94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三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下面各项中，人物的绰号在前、姓名在后，请补充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整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、浪里白条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____________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吴用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、赤发鬼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、插翅虎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________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08720" y="278136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张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393372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智多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3640" y="4941720"/>
            <a:ext cx="29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刘唐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58770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雷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、神行太保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__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、小李广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、玉麒麟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______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_______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时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162864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戴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48360" y="2565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荣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371628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卢俊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16360" y="465300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鼓上蚤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梁山一百单八将中第一个出场的是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他的绰号是什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中三位女将是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他的绰号是什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⒊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智扑擎天柱”中英雄好汉是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他的绰号是什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⒋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请写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身怀绝技的人物名字及绰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简单说出其擅长的绝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⒌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请用简练的语言说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中英雄好汉们性格上的共同特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⒍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万卷经书曾读过，平生机巧心灵，六韬三略究来精。胸中藏战将，腹内隐雄兵。谋略敢欺诸葛亮，陈平岂敌才能。略施小计鬼神惊。”这首诗赞美的是哪位好汉，他有怎样的性格特点？写出与他有关的情节（四个即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⒎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黑熊一身粗肉，铁牛似遍体顽皮，交加一字赤黄眉，双眼赤丝乱系。怒发浑如铁刷，刷狰狞好似狻猊。天蓬恶煞下云梯”。这写的是小说哪位好汉？他的性格特点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⒏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生得面圆身大，鼻直口方，腮边一部貉绒须。身长八尺，腰阔十围。手持一柄禅杖，腰系一把戒刀”这一肖像描写写的是谁？他有怎样的性格特点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⒐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智取生辰纲的好汉有哪几位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合作展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·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对宋江这个人物褒贬不一，你是怎么看的？请做简单评价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·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中你最欣赏的人物和最讨厌的人物分别是谁？原因是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08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年汕头中考）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中“智取生辰纲”的是哪几位好汉？各自的绰号是什么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24000" y="0"/>
            <a:ext cx="36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三、挑战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755640" y="3789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"/>
              </a:rPr>
              <a:t>晁盖：晁天王；入云龙：公孙胜；吴用：智多星；阮小二：立地太岁；阮小五：短命三郎；阮小七：活阎罗；刘唐：赤发鬼；白胜：白日鼠。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588000" y="5805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7%AD%94%E6%A1%88%E5%AF%B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、抢答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799308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中共有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_______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天罡共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人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地煞星共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________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人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2133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3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781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285264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3645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中冒充李逵拦路打劫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后被李逵一刀打翻在地的人是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4437000"/>
            <a:ext cx="216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458136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李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中从最初占据水泊梁山到梁山好汉聚齐一百零八位直至被朝廷招安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梁山寨主先后共有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位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他们是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___,___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508464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4869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王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59500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宋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53294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843280" y="0"/>
            <a:ext cx="38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水浒传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中坚决反对招安的将领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:______,_____.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主张招安的将领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:_____,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2637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李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2360" y="256536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武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3429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宋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93080" y="3500280"/>
            <a:ext cx="20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吴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7.“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耗国因家木，刀兵点水工。纵横三十六，播乱在江东”，这首童谣唱的是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4221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宋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82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．武松在血溅鸳鸯楼，杀死西门庆等人后，在墙上写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哪八个字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_______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．征方腊时，曾身穿龙袍乱闯的人是</a:t>
            </a:r>
            <a:r>
              <a:rPr b="1" lang="zh-CN" sz="5400" spc="-1" strike="noStrike" u="sng">
                <a:solidFill>
                  <a:srgbClr val="ffffff"/>
                </a:solidFill>
                <a:uFillTx/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256536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阮小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35:21Z</dcterms:created>
  <dc:creator>lenovo</dc:creator>
  <dc:description/>
  <dc:language>en-US</dc:language>
  <cp:lastModifiedBy>05</cp:lastModifiedBy>
  <dcterms:modified xsi:type="dcterms:W3CDTF">2013-12-13T07:29:15Z</dcterms:modified>
  <cp:revision>8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f000000000001024120</vt:lpwstr>
  </property>
</Properties>
</file>