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camera.wav" ContentType="audio/x-wav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0.png" ContentType="image/png"/>
  <Override PartName="/ppt/media/image7.jpeg" ContentType="image/jpeg"/>
  <Override PartName="/ppt/media/whoosh.wav" ContentType="audio/x-wav"/>
  <Override PartName="/ppt/media/image28.jpeg" ContentType="image/jpeg"/>
  <Override PartName="/ppt/media/image6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9.jpeg" ContentType="image/jpeg"/>
  <Override PartName="/ppt/media/image27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4.jpeg" ContentType="image/jpeg"/>
  <Override PartName="/ppt/media/image16.png" ContentType="image/png"/>
  <Override PartName="/ppt/media/chimes.wav" ContentType="audio/x-wav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F4A-4CEB-405C-836A-390AB49E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534-874C-46FA-BB5D-1DE8D2E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374-1700-4305-8CD1-674EC025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CAA-6DB5-4EF5-B104-713F5EAA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582-D3FD-4B6D-B60B-A3D3DE33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9C8-C0B4-4467-946A-E86ED3A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6F4-8339-4BF4-8C5E-2D66EC1E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041-7B50-450A-8105-84DE4AD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3EA-8DCF-4AF1-8FAA-1CC90704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2DA-1C96-4CA1-8C8A-454E874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B4B-9D56-4A37-B617-2AB4845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102-2E36-4A04-89BA-2A50C6D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202-9181-4DB1-AD87-FFB9BFE476A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whoosh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60008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施耐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末明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4"/>
          <p:cNvPicPr/>
          <p:nvPr/>
        </p:nvPicPr>
        <p:blipFill>
          <a:blip r:embed="rId1"/>
          <a:stretch/>
        </p:blipFill>
        <p:spPr>
          <a:xfrm>
            <a:off x="1476360" y="981000"/>
            <a:ext cx="7416720" cy="482148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 rot="5400000">
            <a:off x="-1656000" y="2960640"/>
            <a:ext cx="48258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智取生辰纲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104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Calibri Light"/>
              </a:rPr>
              <a:t>你还知道其他英雄的绰号吗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5520" y="13568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九纹龙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及时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鼓上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花和尚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神行太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豹子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李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母大虫</a:t>
            </a:r>
            <a:r>
              <a:rPr b="1" lang="en-US" sz="3200" spc="-1" strike="noStrike">
                <a:solidFill>
                  <a:srgbClr val="cc00cc"/>
                </a:solidFill>
                <a:latin typeface="Calibri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一丈青</a:t>
            </a:r>
            <a:r>
              <a:rPr b="1" lang="en-US" sz="3200" spc="-1" strike="noStrike">
                <a:solidFill>
                  <a:srgbClr val="cc00cc"/>
                </a:solidFill>
                <a:latin typeface="Calibri"/>
              </a:rPr>
              <a:t>---</a:t>
            </a: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母夜叉</a:t>
            </a:r>
            <a:r>
              <a:rPr b="1" lang="en-US" sz="3200" spc="-1" strike="noStrike">
                <a:solidFill>
                  <a:srgbClr val="cc00cc"/>
                </a:solidFill>
                <a:latin typeface="Calibri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5286240" y="1500120"/>
            <a:ext cx="40039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智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荣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史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迁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宗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顾大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孙二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扈三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"/>
          <p:cNvSpPr/>
          <p:nvPr/>
        </p:nvSpPr>
        <p:spPr>
          <a:xfrm>
            <a:off x="2257560" y="1555920"/>
            <a:ext cx="3100320" cy="108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"/>
          <p:cNvSpPr/>
          <p:nvPr/>
        </p:nvSpPr>
        <p:spPr>
          <a:xfrm>
            <a:off x="2428920" y="3857760"/>
            <a:ext cx="2808360" cy="742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"/>
          <p:cNvSpPr/>
          <p:nvPr/>
        </p:nvSpPr>
        <p:spPr>
          <a:xfrm>
            <a:off x="2286000" y="2714760"/>
            <a:ext cx="3071880" cy="1000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"/>
          <p:cNvSpPr/>
          <p:nvPr/>
        </p:nvSpPr>
        <p:spPr>
          <a:xfrm flipV="1">
            <a:off x="2143080" y="3142800"/>
            <a:ext cx="3357720" cy="1179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6"/>
          <p:cNvSpPr/>
          <p:nvPr/>
        </p:nvSpPr>
        <p:spPr>
          <a:xfrm>
            <a:off x="2098800" y="2170080"/>
            <a:ext cx="3330360" cy="204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"/>
          <p:cNvSpPr/>
          <p:nvPr/>
        </p:nvSpPr>
        <p:spPr>
          <a:xfrm flipV="1">
            <a:off x="2286000" y="1714680"/>
            <a:ext cx="3035160" cy="1498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8"/>
          <p:cNvSpPr/>
          <p:nvPr/>
        </p:nvSpPr>
        <p:spPr>
          <a:xfrm flipV="1">
            <a:off x="2143080" y="2285640"/>
            <a:ext cx="3286080" cy="2500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9"/>
          <p:cNvSpPr/>
          <p:nvPr/>
        </p:nvSpPr>
        <p:spPr>
          <a:xfrm flipV="1">
            <a:off x="2357280" y="5285880"/>
            <a:ext cx="3071880" cy="7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2357280" y="5786280"/>
            <a:ext cx="3214800" cy="64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1"/>
          <p:cNvSpPr/>
          <p:nvPr/>
        </p:nvSpPr>
        <p:spPr>
          <a:xfrm>
            <a:off x="2428920" y="5929200"/>
            <a:ext cx="3000240" cy="428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320" y="-921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 Light"/>
              </a:rPr>
              <a:t>杨志何人？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1840" y="1252440"/>
            <a:ext cx="855504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梁山好汉中，有一个好汉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生得七尺五六身材，面皮上老大一块青记，腮边微露些赤须，他就是青面兽——杨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他是杨家将的后代，武举出身，十八般武艺样样精通，他一新想光宗耀祖，可惜造化弄人，做殿司制使时因事而丢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C:\Users\Administrator\Desktop\4af4a803d36300f7bf6e6d667dc55494.jpg"/>
          <p:cNvPicPr/>
          <p:nvPr/>
        </p:nvPicPr>
        <p:blipFill>
          <a:blip r:embed="rId1"/>
          <a:stretch/>
        </p:blipFill>
        <p:spPr>
          <a:xfrm>
            <a:off x="0" y="3905280"/>
            <a:ext cx="4762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Administrator\Desktop\6f95d5b0153e2c1e06f8532c8d0c7bb5.jpg"/>
          <p:cNvPicPr/>
          <p:nvPr/>
        </p:nvPicPr>
        <p:blipFill>
          <a:blip r:embed="rId2"/>
          <a:stretch/>
        </p:blipFill>
        <p:spPr>
          <a:xfrm>
            <a:off x="4929120" y="3929040"/>
            <a:ext cx="39718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6320" y="-921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 Light"/>
              </a:rPr>
              <a:t>杨志事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4080" y="1106280"/>
            <a:ext cx="885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原为殿司制使，因失陷花石纲丢官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沦落东京，因盘缠使尽卖祖传宝刀，无奈杀泼皮牛二，流配东京大名府充军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名府留守梁世杰恩赦杨志，安排比武，杨志斗武出色，被提拔做管军提辖使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受梁中书重托，押运生辰纲，在黄泥冈失陷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走投无路，落草二龙山宝珠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285840" y="5000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志的故事一共只有三回书，一万五六千字，首尾三大段落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卖刀，得官，失陷生辰纲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结构上，杨志的故事和林冲故事是不同的。林冲的故事先提出全篇主眼，然后一步紧一步向顶点发展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杨志的故事却是把失意、得志、幻灭这三部曲概括杨志的求官之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结构上看，高潮在中段。在权贵高俅那里，杨志触了霉头，但在另一权贵梁中书那里，杨志却一开始就受到提拔，似乎可以一帆风顺了，但在权贵门下做奴才也并不容易。奴才中间有派别，经常互相倾轧。梁中书用人不专，注定了杨志的幻灭。同时也注定了黄泥冈上杨志一定要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茅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水浒的人物和结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5680" y="763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小说中出现的人物有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2920" y="14014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4000" spc="-1" strike="noStrike">
                <a:solidFill>
                  <a:srgbClr val="ff0000"/>
                </a:solidFill>
                <a:latin typeface="Calibri"/>
              </a:rPr>
              <a:t>人物双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1" sz="3200" spc="-1" strike="noStrike">
                <a:solidFill>
                  <a:srgbClr val="000000"/>
                </a:solidFill>
                <a:latin typeface="Calibri"/>
              </a:rPr>
              <a:t>杨志  两个虞候  老都管 众军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00"/>
                </a:solidFill>
                <a:latin typeface="Calibri"/>
              </a:rPr>
              <a:t>B    </a:t>
            </a:r>
            <a:r>
              <a:rPr b="1" sz="3200" spc="-1" strike="noStrike">
                <a:solidFill>
                  <a:srgbClr val="000000"/>
                </a:solidFill>
                <a:latin typeface="Calibri"/>
              </a:rPr>
              <a:t>七个贩枣客商   挑酒的汉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托塔天王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晁盖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智多星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吴用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入云龙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公孙胜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立地太岁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阮小二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短命二郎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阮小五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活阎罗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阮小七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赤发鬼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刘唐</a:t>
            </a:r>
            <a:r>
              <a:rPr b="1" sz="2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白日鼠</a:t>
            </a:r>
            <a:r>
              <a:rPr b="1" sz="32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sz="3200" spc="-1" strike="noStrike">
                <a:solidFill>
                  <a:srgbClr val="0000ff"/>
                </a:solidFill>
                <a:latin typeface="黑体"/>
                <a:ea typeface="黑体"/>
              </a:rPr>
              <a:t>白胜</a:t>
            </a:r>
            <a:r>
              <a:rPr b="1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 Light"/>
                <a:ea typeface="幼圆"/>
              </a:rPr>
              <a:t>青面兽</a:t>
            </a:r>
            <a:r>
              <a:rPr b="1" lang="en-US" sz="4000" spc="-1" strike="noStrike">
                <a:solidFill>
                  <a:srgbClr val="ff0000"/>
                </a:solidFill>
                <a:latin typeface="Calibri Light"/>
                <a:ea typeface="幼圆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Calibri Light"/>
                <a:ea typeface="幼圆"/>
              </a:rPr>
              <a:t>杨志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7" name="Picture 3" descr="shb1a-17"/>
          <p:cNvPicPr/>
          <p:nvPr/>
        </p:nvPicPr>
        <p:blipFill>
          <a:blip r:embed="rId1"/>
          <a:stretch/>
        </p:blipFill>
        <p:spPr>
          <a:xfrm>
            <a:off x="1139760" y="2638440"/>
            <a:ext cx="2324160" cy="359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hb1a-04"/>
          <p:cNvPicPr/>
          <p:nvPr/>
        </p:nvPicPr>
        <p:blipFill>
          <a:blip r:embed="rId2"/>
          <a:stretch/>
        </p:blipFill>
        <p:spPr>
          <a:xfrm>
            <a:off x="4653000" y="115920"/>
            <a:ext cx="4164120" cy="576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500720" y="5877000"/>
            <a:ext cx="4032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入云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公孙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shb1a-03"/>
          <p:cNvPicPr/>
          <p:nvPr/>
        </p:nvPicPr>
        <p:blipFill>
          <a:blip r:embed="rId1"/>
          <a:stretch/>
        </p:blipFill>
        <p:spPr>
          <a:xfrm>
            <a:off x="4643280" y="260280"/>
            <a:ext cx="375948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716360" y="5373720"/>
            <a:ext cx="37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智多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吴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shb1b-70"/>
          <p:cNvPicPr/>
          <p:nvPr/>
        </p:nvPicPr>
        <p:blipFill>
          <a:blip r:embed="rId2"/>
          <a:stretch/>
        </p:blipFill>
        <p:spPr>
          <a:xfrm>
            <a:off x="468360" y="260280"/>
            <a:ext cx="4097160" cy="5256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468360" y="5589720"/>
            <a:ext cx="3600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白日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白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 Light"/>
                <a:ea typeface="幼圆"/>
              </a:rPr>
              <a:t>赤发鬼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Calibri Light"/>
                <a:ea typeface="幼圆"/>
              </a:rPr>
              <a:t>刘唐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Picture 3" descr="shb1a-21"/>
          <p:cNvPicPr/>
          <p:nvPr/>
        </p:nvPicPr>
        <p:blipFill>
          <a:blip r:embed="rId1"/>
          <a:stretch/>
        </p:blipFill>
        <p:spPr>
          <a:xfrm>
            <a:off x="3409920" y="2205000"/>
            <a:ext cx="2324160" cy="35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hb1a-27"/>
          <p:cNvPicPr/>
          <p:nvPr/>
        </p:nvPicPr>
        <p:blipFill>
          <a:blip r:embed="rId2"/>
          <a:stretch/>
        </p:blipFill>
        <p:spPr>
          <a:xfrm>
            <a:off x="4500720" y="189000"/>
            <a:ext cx="4176720" cy="5761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4284720" y="5715000"/>
            <a:ext cx="435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立地太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阮小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 Light"/>
                <a:ea typeface="幼圆"/>
              </a:rPr>
              <a:t>短命二郎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  <a:ea typeface="幼圆"/>
              </a:rPr>
              <a:t>阮小五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Picture 3" descr="shb1a-29"/>
          <p:cNvPicPr/>
          <p:nvPr/>
        </p:nvPicPr>
        <p:blipFill>
          <a:blip r:embed="rId1"/>
          <a:stretch/>
        </p:blipFill>
        <p:spPr>
          <a:xfrm>
            <a:off x="1363680" y="2763720"/>
            <a:ext cx="2324160" cy="359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shb1a-31"/>
          <p:cNvPicPr/>
          <p:nvPr/>
        </p:nvPicPr>
        <p:blipFill>
          <a:blip r:embed="rId2"/>
          <a:stretch/>
        </p:blipFill>
        <p:spPr>
          <a:xfrm>
            <a:off x="4691160" y="61920"/>
            <a:ext cx="4316400" cy="5761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4500720" y="5950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活阎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阮小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Calibri Light"/>
                <a:ea typeface="幼圆"/>
              </a:rPr>
              <a:t>托塔天王</a:t>
            </a:r>
            <a:r>
              <a:rPr b="1" lang="en-US" sz="3300" spc="-1" strike="noStrike">
                <a:solidFill>
                  <a:srgbClr val="ff0000"/>
                </a:solidFill>
                <a:latin typeface="Calibri Light"/>
                <a:ea typeface="幼圆"/>
              </a:rPr>
              <a:t>——</a:t>
            </a:r>
            <a:r>
              <a:rPr b="1" lang="zh-CN" sz="3300" spc="-1" strike="noStrike">
                <a:solidFill>
                  <a:srgbClr val="ff0000"/>
                </a:solidFill>
                <a:latin typeface="Calibri Light"/>
                <a:ea typeface="幼圆"/>
              </a:rPr>
              <a:t>晁盖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96760" y="1325520"/>
            <a:ext cx="3095640" cy="536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429080" y="114300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地富户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称托塔天王。智取生辰纲后投梁山入伙。继王伦后为梁山寨主。后中毒箭身亡，宋江接任。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晁盖不在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8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之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 Light"/>
              </a:rPr>
              <a:t>第一课时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水浒名著阅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小说情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88800" y="988920"/>
            <a:ext cx="85536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开端（</a:t>
            </a: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1 — 4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杨志押送金银担，军汉天热，行路苦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发展（</a:t>
            </a: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5 — 9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黄泥冈军汉歇凉，黑松林吴 用下药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高潮（</a:t>
            </a: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10—11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众军喝酒中巧计，好汉智取生辰纲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补叙（</a:t>
            </a:r>
            <a:r>
              <a:rPr b="1" lang="en-US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12 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段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打破谜底说根由，枣客原是七好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99680" y="347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回顾课文情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 Light"/>
                <a:ea typeface="黑体"/>
              </a:rPr>
              <a:t>分析小说情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03200" y="1825200"/>
            <a:ext cx="8112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什么东西？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为太师蔡京祝寿而进献的大批财物，都是搜刮百姓血汗钱的不义之财。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生辰纲是谁取的？又是用怎样的方式从谁的手中取走的？</a:t>
            </a: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晁盖、吴用等八条好汉；智取；杨志 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7893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14036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5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8480" y="22968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 Light"/>
              </a:rPr>
              <a:t>第二课时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1200" y="2944440"/>
            <a:ext cx="81885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文章线索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明、暗线矛盾冲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人物形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小说以</a:t>
            </a:r>
            <a:r>
              <a:rPr b="0" lang="zh-CN" sz="3200" spc="-1" strike="noStrike">
                <a:solidFill>
                  <a:srgbClr val="0000ff"/>
                </a:solidFill>
                <a:latin typeface="Calibri Light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生辰纲</a:t>
            </a:r>
            <a:r>
              <a:rPr b="0" lang="zh-CN" sz="3200" spc="-1" strike="noStrike">
                <a:solidFill>
                  <a:srgbClr val="0000ff"/>
                </a:solidFill>
                <a:latin typeface="Calibri Light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争夺为中心事件，采用双线结构（两条叙事线索），明线是什么？暗线又是什么？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1160" y="22428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明线——杨志押送生辰纲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暗线——晁盖智取生辰纲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280" y="280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请同学们跳读课文，筛选信息，以人物的主要行动为归纳点，简要分析出明、暗两条线索在什么时间，什么地点交接在一起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712040" y="3411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黑体"/>
                <a:ea typeface="黑体"/>
              </a:rPr>
              <a:t>六月初四正午；黄泥冈松树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574560" y="442800"/>
            <a:ext cx="8037360" cy="901800"/>
            <a:chOff x="574560" y="442800"/>
            <a:chExt cx="8037360" cy="901800"/>
          </a:xfrm>
        </p:grpSpPr>
        <p:sp>
          <p:nvSpPr>
            <p:cNvPr id="151" name="Rectangle 3"/>
            <p:cNvSpPr/>
            <p:nvPr/>
          </p:nvSpPr>
          <p:spPr>
            <a:xfrm>
              <a:off x="574560" y="442800"/>
              <a:ext cx="3081600" cy="8254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5194800" y="442800"/>
              <a:ext cx="3212640" cy="9018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656640" y="595440"/>
              <a:ext cx="32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杨志押送生辰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277240" y="671400"/>
              <a:ext cx="333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好汉智取生辰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7"/>
          <p:cNvSpPr/>
          <p:nvPr/>
        </p:nvSpPr>
        <p:spPr>
          <a:xfrm>
            <a:off x="3048120" y="19051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花开两朵，各表一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3765600" y="2708280"/>
            <a:ext cx="2732040" cy="3200400"/>
            <a:chOff x="3765600" y="2708280"/>
            <a:chExt cx="2732040" cy="3200400"/>
          </a:xfrm>
        </p:grpSpPr>
        <p:sp>
          <p:nvSpPr>
            <p:cNvPr id="157" name="AutoShape 9"/>
            <p:cNvSpPr/>
            <p:nvPr/>
          </p:nvSpPr>
          <p:spPr>
            <a:xfrm>
              <a:off x="3996000" y="2708280"/>
              <a:ext cx="2209680" cy="3200400"/>
            </a:xfrm>
            <a:prstGeom prst="pie">
              <a:avLst/>
            </a:prstGeom>
            <a:solidFill>
              <a:srgbClr val="92d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3765600" y="3222360"/>
              <a:ext cx="2732040" cy="581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六月初四正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133880" y="4002120"/>
              <a:ext cx="2266920" cy="581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黄泥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4454640" y="4689360"/>
              <a:ext cx="1662120" cy="581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黑松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3"/>
          <p:cNvSpPr/>
          <p:nvPr/>
        </p:nvSpPr>
        <p:spPr>
          <a:xfrm>
            <a:off x="3657600" y="28954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oup 14" descr=""/>
          <p:cNvPicPr/>
          <p:nvPr/>
        </p:nvPicPr>
        <p:blipFill>
          <a:blip r:embed="rId1"/>
          <a:stretch/>
        </p:blipFill>
        <p:spPr>
          <a:xfrm>
            <a:off x="1768320" y="2859120"/>
            <a:ext cx="1676520" cy="689040"/>
          </a:xfrm>
          <a:prstGeom prst="rect">
            <a:avLst/>
          </a:prstGeom>
          <a:ln w="0">
            <a:noFill/>
          </a:ln>
        </p:spPr>
      </p:pic>
      <p:pic>
        <p:nvPicPr>
          <p:cNvPr id="163" name="Group 17" descr=""/>
          <p:cNvPicPr/>
          <p:nvPr/>
        </p:nvPicPr>
        <p:blipFill>
          <a:blip r:embed="rId2"/>
          <a:stretch/>
        </p:blipFill>
        <p:spPr>
          <a:xfrm>
            <a:off x="1768320" y="3621240"/>
            <a:ext cx="1676520" cy="688680"/>
          </a:xfrm>
          <a:prstGeom prst="rect">
            <a:avLst/>
          </a:prstGeom>
          <a:ln w="0">
            <a:noFill/>
          </a:ln>
        </p:spPr>
      </p:pic>
      <p:pic>
        <p:nvPicPr>
          <p:cNvPr id="164" name="Group 20" descr=""/>
          <p:cNvPicPr/>
          <p:nvPr/>
        </p:nvPicPr>
        <p:blipFill>
          <a:blip r:embed="rId3"/>
          <a:stretch/>
        </p:blipFill>
        <p:spPr>
          <a:xfrm>
            <a:off x="1762200" y="4316400"/>
            <a:ext cx="1693800" cy="689040"/>
          </a:xfrm>
          <a:prstGeom prst="rect">
            <a:avLst/>
          </a:prstGeom>
          <a:ln w="0">
            <a:noFill/>
          </a:ln>
        </p:spPr>
      </p:pic>
      <p:pic>
        <p:nvPicPr>
          <p:cNvPr id="165" name="Group 23" descr=""/>
          <p:cNvPicPr/>
          <p:nvPr/>
        </p:nvPicPr>
        <p:blipFill>
          <a:blip r:embed="rId4"/>
          <a:stretch/>
        </p:blipFill>
        <p:spPr>
          <a:xfrm>
            <a:off x="6576840" y="2792520"/>
            <a:ext cx="1671840" cy="689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6"/>
          <p:cNvSpPr/>
          <p:nvPr/>
        </p:nvSpPr>
        <p:spPr>
          <a:xfrm>
            <a:off x="6400800" y="28954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oup 27" descr=""/>
          <p:cNvPicPr/>
          <p:nvPr/>
        </p:nvPicPr>
        <p:blipFill>
          <a:blip r:embed="rId5"/>
          <a:stretch/>
        </p:blipFill>
        <p:spPr>
          <a:xfrm>
            <a:off x="6431040" y="3693960"/>
            <a:ext cx="1811160" cy="695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30" descr=""/>
          <p:cNvPicPr/>
          <p:nvPr/>
        </p:nvPicPr>
        <p:blipFill>
          <a:blip r:embed="rId6"/>
          <a:stretch/>
        </p:blipFill>
        <p:spPr>
          <a:xfrm>
            <a:off x="6566040" y="4389480"/>
            <a:ext cx="1670040" cy="689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3"/>
          <p:cNvSpPr/>
          <p:nvPr/>
        </p:nvSpPr>
        <p:spPr>
          <a:xfrm>
            <a:off x="2209680" y="5410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明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6781680" y="54100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暗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-453600" y="1268280"/>
            <a:ext cx="16426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本文的线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5280" y="280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小说中的人物之间出现了什么矛盾？哪些是最主要的矛盾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361800" y="2193840"/>
            <a:ext cx="8493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</a:rPr>
              <a:t>人物双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4000" spc="-1" strike="noStrike">
                <a:solidFill>
                  <a:srgbClr val="000000"/>
                </a:solidFill>
                <a:latin typeface="Arial"/>
              </a:rPr>
              <a:t>杨志  两个虞候  老都管 众军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B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七个贩枣客商   挑酒的汉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66960" y="27716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杨志押送生辰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66960" y="4379760"/>
            <a:ext cx="45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吴用智取生辰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 Light"/>
                <a:ea typeface="华文新魏"/>
              </a:rPr>
              <a:t>矛 盾 冲 突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次 要 矛 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华文中宋"/>
              </a:rPr>
              <a:t>杨志与众军汉、虞侯、老都管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华文中宋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主 要 矛 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黑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华文中宋"/>
              </a:rPr>
              <a:t>杨志与晁盖等好汉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华文中宋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2160" y="1352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押送生辰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200560" y="11239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智取生辰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 rot="5400000">
            <a:off x="1942560" y="133308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76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80160" y="285264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快与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43600" y="2924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走与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701800" y="2819520"/>
            <a:ext cx="10335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许喝酒与要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 rot="5400000">
            <a:off x="6438600" y="133344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76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95680" y="2743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明防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杨志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7242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喝来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50292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93920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不许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0292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724280" y="54864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放心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7816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暗夺</a:t>
            </a:r>
            <a:r>
              <a:rPr b="0" lang="en-US" sz="2400" spc="-1" strike="noStrike">
                <a:solidFill>
                  <a:srgbClr val="009900"/>
                </a:solidFill>
                <a:latin typeface="华文中宋"/>
                <a:ea typeface="华文中宋"/>
              </a:rPr>
              <a:t>[</a:t>
            </a:r>
            <a:r>
              <a:rPr b="0" lang="zh-CN" sz="2400" spc="-1" strike="noStrike">
                <a:solidFill>
                  <a:srgbClr val="009900"/>
                </a:solidFill>
                <a:latin typeface="华文中宋"/>
                <a:ea typeface="华文中宋"/>
              </a:rPr>
              <a:t>晁盖等人</a:t>
            </a:r>
            <a:r>
              <a:rPr b="0" lang="en-US" sz="2400" spc="-1" strike="noStrike">
                <a:solidFill>
                  <a:srgbClr val="009900"/>
                </a:solidFill>
                <a:latin typeface="华文中宋"/>
                <a:ea typeface="华文中宋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7453800" y="335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扮客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7543800" y="38862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7238880" y="4419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挑酒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7543800" y="49528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23888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送枣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3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9280" y="1844640"/>
            <a:ext cx="564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晁盖、吴用等人劫取生辰纲用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e70101"/>
                </a:solidFill>
                <a:latin typeface="黑体"/>
                <a:ea typeface="黑体"/>
              </a:rPr>
              <a:t>智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主要体现在哪些方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79280" y="189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讨论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m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amera.wav"/>
      </p:stSnd>
    </p:sndAc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24000" y="620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讨论，回答下列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41280" y="1436760"/>
            <a:ext cx="846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六月初四正午，有什么天气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为什么吴用要安排黄泥冈的松树林来劫取生辰纲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晁盖他们是以什么身份出现在杨志面前的？这样又有何用意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何时下的药呢？杨志是老江湖了，为什么他连酒中下蒙汗药这种勾当也防不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水浒  名著阅读 </a:t>
            </a: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238-239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2960" y="2658600"/>
            <a:ext cx="459288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反抗封建暴政的英雄传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水浒传"/>
          <p:cNvPicPr/>
          <p:nvPr/>
        </p:nvPicPr>
        <p:blipFill>
          <a:blip r:embed="rId1"/>
          <a:stretch/>
        </p:blipFill>
        <p:spPr>
          <a:xfrm>
            <a:off x="4965840" y="2011320"/>
            <a:ext cx="3800160" cy="4492800"/>
          </a:xfrm>
          <a:prstGeom prst="rect">
            <a:avLst/>
          </a:prstGeom>
          <a:ln w="0">
            <a:noFill/>
          </a:ln>
        </p:spPr>
      </p:pic>
      <p:pic>
        <p:nvPicPr>
          <p:cNvPr id="51" name="13.好汉歌 —— 刘欢 曲自《水浒传》1998年_高清.mp4" descr=""/>
          <p:cNvPicPr/>
          <p:nvPr/>
        </p:nvPicPr>
        <p:blipFill>
          <a:blip r:embed="rId2"/>
          <a:stretch/>
        </p:blipFill>
        <p:spPr>
          <a:xfrm>
            <a:off x="1143000" y="392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7360" y="10191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76a55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676a55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676a55"/>
                </a:solidFill>
                <a:latin typeface="黑体"/>
                <a:ea typeface="黑体"/>
              </a:rPr>
              <a:t>）六月初四正午，在黄泥冈松树林中，押纲的杨志与劫纲的晁盖等人碰上了，他们的碰见是不是偶然的呢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47360" y="34920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不是。吴用精心安排，设下圈套，等杨志来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黑体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时间：六月初四正午，有什么天气特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十分炎热，热不可当。为在松林休息和白胜卖酒作好准备。从中可以看出，这个时间是吴用精心挑选的，可说是智用天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39640" y="549360"/>
            <a:ext cx="8425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为什么吴用要安排这样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时间和地点来劫取生辰纲呢？</a:t>
            </a:r>
            <a:br>
              <a:rPr sz="44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智取生辰纲1"/>
          <p:cNvPicPr/>
          <p:nvPr/>
        </p:nvPicPr>
        <p:blipFill>
          <a:blip r:embed="rId1"/>
          <a:stretch/>
        </p:blipFill>
        <p:spPr>
          <a:xfrm>
            <a:off x="5364000" y="3789360"/>
            <a:ext cx="3600720" cy="2924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762120" y="6094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地点：黄泥冈的松树林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-182520" y="1484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山冈可用来掩护，要松林既可以诱敌休息，又可以模糊敌人的视线，使他们看不清松林内的真实情况。为下文吴用取药、下药作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从中可以看出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个地点也是精心挑选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黑体"/>
                <a:ea typeface="黑体"/>
              </a:rPr>
              <a:t>可说是智用地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）在</a:t>
            </a:r>
            <a:r>
              <a:rPr b="1" lang="zh-CN" sz="4000" spc="-1" strike="noStrike">
                <a:solidFill>
                  <a:srgbClr val="676a55"/>
                </a:solidFill>
                <a:latin typeface="Calibri Light"/>
                <a:ea typeface="黑体"/>
              </a:rPr>
              <a:t>“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天时</a:t>
            </a:r>
            <a:r>
              <a:rPr b="1" lang="zh-CN" sz="4000" spc="-1" strike="noStrike">
                <a:solidFill>
                  <a:srgbClr val="676a55"/>
                </a:solidFill>
                <a:latin typeface="Calibri Light"/>
                <a:ea typeface="黑体"/>
              </a:rPr>
              <a:t>”“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地利</a:t>
            </a:r>
            <a:r>
              <a:rPr b="1" lang="zh-CN" sz="4000" spc="-1" strike="noStrike">
                <a:solidFill>
                  <a:srgbClr val="676a55"/>
                </a:solidFill>
                <a:latin typeface="Calibri Light"/>
                <a:ea typeface="黑体"/>
              </a:rPr>
              <a:t>”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起作用后，晁盖等又是如何发挥</a:t>
            </a:r>
            <a:r>
              <a:rPr b="1" lang="zh-CN" sz="4000" spc="-1" strike="noStrike">
                <a:solidFill>
                  <a:srgbClr val="676a55"/>
                </a:solidFill>
                <a:latin typeface="Calibri Light"/>
                <a:ea typeface="黑体"/>
              </a:rPr>
              <a:t>“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人和</a:t>
            </a:r>
            <a:r>
              <a:rPr b="1" lang="zh-CN" sz="4000" spc="-1" strike="noStrike">
                <a:solidFill>
                  <a:srgbClr val="676a55"/>
                </a:solidFill>
                <a:latin typeface="Calibri Light"/>
                <a:ea typeface="黑体"/>
              </a:rPr>
              <a:t>”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优势，通力合作，使用计谋来智取生辰纲的呢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23270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b535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晁盖他们是以什么身份出现在杨志面前的？这样又有何用意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扮客商，稳住对方，初步消除杨志的疑心。</a:t>
            </a:r>
            <a:r>
              <a:rPr b="1" lang="zh-CN" sz="44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9840" y="135360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杨志是老江湖了，为什么他连酒中下蒙汗药这种勾当也防不住，而中了招呢？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99840" y="343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b535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黑体"/>
              </a:rPr>
              <a:t>晁盖等戏演得好。打扮卖酒，假装争酒，引诱对方，半瓢酒消尽了杨志的疑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14240" y="8568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这蒙汗药是如何神不知鬼不觉地下到酒里去的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b535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Calibri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71680" y="314316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db5353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先抢一瓢酒喝，后来在争半瓢酒中巧下药，麻倒对方，半瓢酒放倒青面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Calibri"/>
                <a:ea typeface="黑体"/>
              </a:rPr>
              <a:t> 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一稳</a:t>
            </a:r>
            <a:r>
              <a:rPr b="1" lang="zh-CN" sz="31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扮客商，稳住对方                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100" spc="-1" strike="noStrike">
                <a:solidFill>
                  <a:srgbClr val="b0ccb0"/>
                </a:solidFill>
                <a:latin typeface="黑体"/>
                <a:ea typeface="黑体"/>
              </a:rPr>
              <a:t>初消疑心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二诱</a:t>
            </a:r>
            <a:r>
              <a:rPr b="1" lang="zh-CN" sz="31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佯争酒，引诱对方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100" spc="-1" strike="noStrike">
                <a:solidFill>
                  <a:srgbClr val="b0ccb0"/>
                </a:solidFill>
                <a:latin typeface="黑体"/>
                <a:ea typeface="黑体"/>
              </a:rPr>
              <a:t>消尽疑心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三麻</a:t>
            </a:r>
            <a:r>
              <a:rPr b="1" lang="zh-CN" sz="3100" spc="-1" strike="noStrike">
                <a:solidFill>
                  <a:srgbClr val="0000ff"/>
                </a:solidFill>
                <a:latin typeface="Calibri"/>
                <a:ea typeface="黑体"/>
              </a:rPr>
              <a:t>——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巧下药，麻翻对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100" spc="-1" strike="noStrike">
                <a:solidFill>
                  <a:srgbClr val="b0ccb0"/>
                </a:solidFill>
                <a:latin typeface="黑体"/>
                <a:ea typeface="黑体"/>
              </a:rPr>
              <a:t>全部放倒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br>
              <a:rPr sz="3400"/>
            </a:br>
            <a:br>
              <a:rPr sz="34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-57960" y="1066680"/>
            <a:ext cx="182628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智  用  计  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108000" y="1587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好汉所用的计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4360" y="1484280"/>
            <a:ext cx="7272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-857160" y="858960"/>
            <a:ext cx="71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假扮客商，装怕歹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麻痹军汉，稳住杨志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-714240" y="2170080"/>
            <a:ext cx="68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2d050"/>
                </a:solidFill>
                <a:latin typeface="Arial"/>
              </a:rPr>
              <a:t>白胜挑酒，故意不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2d050"/>
                </a:solidFill>
                <a:latin typeface="Arial"/>
              </a:rPr>
              <a:t>激化矛盾，增强诱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-533520" y="3481560"/>
            <a:ext cx="6626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故意抢酒，消除疑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假戏真做，巧下麻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-569880" y="481176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白胜装气，枣客调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送酒送枣，杨志上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>
            <a:hlinkClick r:id="rId1"/>
          </p:cNvPr>
          <p:cNvSpPr/>
          <p:nvPr/>
        </p:nvSpPr>
        <p:spPr>
          <a:xfrm>
            <a:off x="5224320" y="11955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瞒天过海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630680" y="25052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欲擒故纵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343480" y="3726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偷梁换柱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918040" y="5146560"/>
            <a:ext cx="33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反客为主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684360" y="38088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总结：梁山好汉的“智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56240" y="237024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天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716360" y="33782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2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地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697280" y="4459320"/>
            <a:ext cx="441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3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716360" y="539424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4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用计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nnn"/>
          <p:cNvPicPr/>
          <p:nvPr/>
        </p:nvPicPr>
        <p:blipFill>
          <a:blip r:embed="rId1"/>
          <a:stretch/>
        </p:blipFill>
        <p:spPr>
          <a:xfrm>
            <a:off x="0" y="1557360"/>
            <a:ext cx="4419720" cy="485928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2" name="chimes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120200" y="476280"/>
            <a:ext cx="2861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合作探究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杨志最终失陷生辰纲从而贻误终身，他是否真的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可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图片"/>
          <p:cNvPicPr/>
          <p:nvPr/>
        </p:nvPicPr>
        <p:blipFill>
          <a:blip r:embed="rId1"/>
          <a:srcRect l="0" t="0" r="2425" b="0"/>
          <a:stretch/>
        </p:blipFill>
        <p:spPr>
          <a:xfrm>
            <a:off x="0" y="333360"/>
            <a:ext cx="4457880" cy="6264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6846120" y="907920"/>
            <a:ext cx="13993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cc"/>
                </a:solidFill>
                <a:latin typeface="Arial"/>
              </a:rPr>
              <a:t>杨志并非无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7020000" y="4724280"/>
            <a:ext cx="1727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w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 Light"/>
              </a:rPr>
              <a:t>《</a:t>
            </a: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水浒传</a:t>
            </a:r>
            <a:r>
              <a:rPr b="1" lang="en-US" sz="3300" spc="-1" strike="noStrike">
                <a:solidFill>
                  <a:srgbClr val="ff0000"/>
                </a:solidFill>
                <a:latin typeface="Calibri Light"/>
              </a:rPr>
              <a:t>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825200"/>
            <a:ext cx="8572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也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水浒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忠义水浒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明代长篇小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它的作者明人说法不一，有人说是施耐庵和他的学生罗贯中合作，现在大都认为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作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我国文学史上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第一部描写农民起义全过程的长篇小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它的主要倾向是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官逼民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”，局限在于只反贪官，不反皇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39320" y="396360"/>
            <a:ext cx="8575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）他不多带兵，伪装成客商就是为了掩人耳目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智藏行踪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）离京五七日后杨志对时间作了调整：五更→日中，辰牌→申时；说明他小心谨慎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智变行辰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。怕在晨光中或暮色中遭偷袭，而正午天气炎热，恐怕歹人也不愿出来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杨志放着宽平的官道不走，而净找偏僻崎岖的小径：说明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智选路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这样艰难的路径，连强盗也不愿走。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  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1320" y="10634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智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藏行踪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智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变行辰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智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选路径，可以看出杨志是用心良苦的，为保生辰纲的安全是煞费苦心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2452680" y="1063800"/>
            <a:ext cx="4392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杨志有“智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①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逼赶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：怕路长梦多，不惜打骂军士、斥责虞侯，得罪老都管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②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减少中途休息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：担心军士懈怠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③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审察枣贩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：谨慎、多疑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④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对卖酒汉子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高度警惕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⑤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喝酒时</a:t>
            </a:r>
            <a:r>
              <a:rPr b="1" lang="zh-CN" sz="3000" spc="-1" strike="noStrike">
                <a:solidFill>
                  <a:srgbClr val="e70101"/>
                </a:solidFill>
                <a:latin typeface="黑体"/>
                <a:ea typeface="黑体"/>
              </a:rPr>
              <a:t>慎之又慎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，小心翼翼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从中可以看出杨志是个</a:t>
            </a:r>
            <a:r>
              <a:rPr b="1" lang="zh-CN" sz="3400" spc="-1" strike="noStrike">
                <a:solidFill>
                  <a:srgbClr val="e70101"/>
                </a:solidFill>
                <a:latin typeface="黑体"/>
                <a:ea typeface="黑体"/>
              </a:rPr>
              <a:t>精明、谨慎、多智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之人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743040" y="260280"/>
            <a:ext cx="6781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为了确保生辰纲的安全，杨志还有哪些举措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16000" y="47628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为什么用如此一个精明，谨慎多智的杨志来押送生辰纲，仍逃不了失败的命运？杨志到现在仍不明白，请同学们替他总结一下失败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hhh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5654520" y="2565360"/>
            <a:ext cx="1870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小组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没有处理好内部关系。</a:t>
            </a:r>
            <a:r>
              <a:rPr b="0" lang="zh-CN" sz="4400" spc="-1" strike="noStrike">
                <a:solidFill>
                  <a:srgbClr val="676a55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军健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骂、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怨怅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虞侯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怨怅、搬口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Calibri"/>
                <a:ea typeface="黑体"/>
              </a:rPr>
              <a:t> </a:t>
            </a:r>
            <a:r>
              <a:rPr b="1" lang="zh-CN" sz="4100" spc="-1" strike="noStrike">
                <a:solidFill>
                  <a:srgbClr val="0000ff"/>
                </a:solidFill>
                <a:latin typeface="Calibri"/>
                <a:ea typeface="黑体"/>
              </a:rPr>
              <a:t>        </a:t>
            </a:r>
            <a:r>
              <a:rPr b="1" lang="zh-CN" sz="41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老都管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恼他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423800" y="2168640"/>
            <a:ext cx="1521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杨     志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105440" y="1701720"/>
            <a:ext cx="215640" cy="2806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72720 h 2806920"/>
              <a:gd name="textAreaBottom" fmla="*/ 2734200 h 280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68360" y="5516640"/>
            <a:ext cx="66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天外有天，人外有人。</a:t>
            </a:r>
            <a:r>
              <a:rPr b="0" lang="zh-CN" sz="4600" spc="-1" strike="noStrike">
                <a:solidFill>
                  <a:srgbClr val="676a55"/>
                </a:solidFill>
                <a:latin typeface="黑体"/>
                <a:ea typeface="黑体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179280" y="549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杨志"/>
          <p:cNvPicPr/>
          <p:nvPr/>
        </p:nvPicPr>
        <p:blipFill>
          <a:blip r:embed="rId1"/>
          <a:stretch/>
        </p:blipFill>
        <p:spPr>
          <a:xfrm>
            <a:off x="0" y="765000"/>
            <a:ext cx="3757680" cy="5661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471400" y="2476440"/>
            <a:ext cx="1521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杨     志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290840" y="2203560"/>
            <a:ext cx="562320" cy="2450880"/>
          </a:xfrm>
          <a:custGeom>
            <a:avLst/>
            <a:gdLst>
              <a:gd name="textAreaLeft" fmla="*/ 359280 w 562320"/>
              <a:gd name="textAreaRight" fmla="*/ 562680 w 562320"/>
              <a:gd name="textAreaTop" fmla="*/ 127800 h 2450880"/>
              <a:gd name="textAreaBottom" fmla="*/ 2323080 h 24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0"/>
                  <a:pt x="10800" y="3599"/>
                </a:cubicBezTo>
                <a:lnTo>
                  <a:pt x="10800" y="7201"/>
                </a:lnTo>
                <a:cubicBezTo>
                  <a:pt x="10800" y="9001"/>
                  <a:pt x="5400" y="10800"/>
                  <a:pt x="0" y="10800"/>
                </a:cubicBezTo>
                <a:cubicBezTo>
                  <a:pt x="5400" y="10800"/>
                  <a:pt x="10800" y="12600"/>
                  <a:pt x="10800" y="14399"/>
                </a:cubicBezTo>
                <a:lnTo>
                  <a:pt x="10800" y="18001"/>
                </a:lnTo>
                <a:cubicBezTo>
                  <a:pt x="10800" y="198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分析人物形象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200560" y="24760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忠于职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Calibri"/>
                <a:ea typeface="黑体"/>
              </a:rPr>
              <a:t>小心谨慎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刚愎自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蛮横残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 Light"/>
              </a:rPr>
              <a:t>第三课时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26680" y="3601800"/>
            <a:ext cx="81882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环境描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26960" y="1800000"/>
            <a:ext cx="7886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是六月初四日时节，天气未及晌午，一轮红日当天，没半点云彩，其实十分大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众军人看那天时，四下里无半点云彩，其实那热不可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看日色当午，那石头上热了，脚疼走不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十一个厢军雨汗通流，都叹气吹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735120" y="64620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请从第三段找出描写天气的有关语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900000" y="1844640"/>
            <a:ext cx="743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、本文对自然环境的描写主要表现在对天气炎热的描写。写炎热是为了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使杨志与军汉之间矛盾的发展激化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、课文写</a:t>
            </a:r>
            <a:r>
              <a:rPr b="1" lang="zh-CN" sz="3600" spc="-1" strike="noStrike">
                <a:solidFill>
                  <a:srgbClr val="676a55"/>
                </a:solidFill>
                <a:latin typeface="Calibri"/>
                <a:ea typeface="黑体"/>
              </a:rPr>
              <a:t>“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热</a:t>
            </a:r>
            <a:r>
              <a:rPr b="1" lang="zh-CN" sz="3600" spc="-1" strike="noStrike">
                <a:solidFill>
                  <a:srgbClr val="676a55"/>
                </a:solidFill>
                <a:latin typeface="Calibri"/>
                <a:ea typeface="黑体"/>
              </a:rPr>
              <a:t>”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从各个不同的角度反复描写，不断点染。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直接写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“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热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”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也有近二十处之多，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通过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“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凉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”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来写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“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热</a:t>
            </a:r>
            <a:r>
              <a:rPr b="1" lang="zh-CN" sz="3600" spc="-1" strike="noStrike">
                <a:solidFill>
                  <a:srgbClr val="e70101"/>
                </a:solidFill>
                <a:latin typeface="Calibri"/>
                <a:ea typeface="黑体"/>
              </a:rPr>
              <a:t>”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也不下十余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676a5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、中国第一部歌颂农民起义的长篇章回体小说是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___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写的《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》。它描写了北宋徽宗时，以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为首的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108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名好汉在聚义，打家劫舍，杀富济贫的豪举。鲜明地表现了“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”的主题。美国女作家赛珍珠在将它翻译成英文时定名为“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、鲁智深和李逵，同是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的人物形象，但鲁智深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；李逵则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805040" y="13572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施耐庵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00680" y="1214280"/>
            <a:ext cx="11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水浒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805840" y="178596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宋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503000" y="262728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官逼民反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93600" y="3490920"/>
            <a:ext cx="20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四海之内皆兄弟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152960" y="397980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疾恶如仇、侠肝义胆、脾气火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810760" y="4437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粗中有细、豁达明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068720" y="495612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Times New Roman"/>
                <a:ea typeface="黑体"/>
              </a:rPr>
              <a:t>头脑简单、直爽率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、本文从不同角度，反复描写天气的炎热，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不仅可以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烘托气氛，增强故事的真实感，</a:t>
            </a:r>
            <a:r>
              <a:rPr b="1" lang="zh-CN" sz="3600" spc="-1" strike="noStrike">
                <a:solidFill>
                  <a:srgbClr val="e70101"/>
                </a:solidFill>
                <a:latin typeface="黑体"/>
                <a:ea typeface="黑体"/>
              </a:rPr>
              <a:t>更主要</a:t>
            </a:r>
            <a:r>
              <a:rPr b="1" lang="zh-CN" sz="3600" spc="-1" strike="noStrike">
                <a:solidFill>
                  <a:srgbClr val="676a55"/>
                </a:solidFill>
                <a:latin typeface="黑体"/>
                <a:ea typeface="黑体"/>
              </a:rPr>
              <a:t>是能够直接推动故事情节的发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676a5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db5353"/>
                </a:solidFill>
                <a:latin typeface="隶书"/>
                <a:ea typeface="隶书"/>
              </a:rPr>
              <a:t>环 境 描 写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e70101"/>
                </a:solidFill>
                <a:latin typeface="黑体"/>
                <a:ea typeface="黑体"/>
              </a:rPr>
              <a:t>烘托气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e70101"/>
                </a:solidFill>
                <a:latin typeface="黑体"/>
                <a:ea typeface="黑体"/>
              </a:rPr>
              <a:t>有助于刻画人物性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e70101"/>
                </a:solidFill>
                <a:latin typeface="黑体"/>
                <a:ea typeface="黑体"/>
              </a:rPr>
              <a:t>推动故事情节的发展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即天气炎热成为矛盾冲突发生、发展、激化以至解决的重要客观原因之一</a:t>
            </a:r>
            <a:r>
              <a:rPr b="1" lang="zh-CN" sz="4000" spc="-1" strike="noStrike">
                <a:solidFill>
                  <a:srgbClr val="676a55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165320" y="-433440"/>
            <a:ext cx="12762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76a55"/>
                </a:solidFill>
                <a:latin typeface="Calibri Light"/>
                <a:ea typeface="华文彩云"/>
              </a:rPr>
              <a:t>环境描写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7080" y="809280"/>
            <a:ext cx="127602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Calibri"/>
                <a:ea typeface="华文新魏"/>
              </a:rPr>
              <a:t>善于运用对自然环境的描写，来推动故事情节的发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-361800" y="20383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天气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新魏"/>
              </a:rPr>
              <a:t>炎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 flipV="1">
            <a:off x="914400" y="2876400"/>
            <a:ext cx="49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219320" y="257184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直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914400" y="3486240"/>
            <a:ext cx="49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219320" y="3790800"/>
            <a:ext cx="55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间接写（松林的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133720" y="1886040"/>
            <a:ext cx="38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作者的直接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133720" y="2343240"/>
            <a:ext cx="46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梁山好汉之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133720" y="280044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杨志、虞侯、老都管之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2133720" y="3257640"/>
            <a:ext cx="61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军士的语言和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3"/>
          <p:cNvSpPr/>
          <p:nvPr/>
        </p:nvSpPr>
        <p:spPr>
          <a:xfrm>
            <a:off x="2057400" y="2190600"/>
            <a:ext cx="122400" cy="1295640"/>
          </a:xfrm>
          <a:custGeom>
            <a:avLst/>
            <a:gdLst>
              <a:gd name="textAreaLeft" fmla="*/ 78120 w 122400"/>
              <a:gd name="textAreaRight" fmla="*/ 122760 w 122400"/>
              <a:gd name="textAreaTop" fmla="*/ 54000 h 1295640"/>
              <a:gd name="textAreaBottom" fmla="*/ 12416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4"/>
                  <a:pt x="10800" y="2887"/>
                </a:cubicBezTo>
                <a:lnTo>
                  <a:pt x="10800" y="7913"/>
                </a:lnTo>
                <a:cubicBezTo>
                  <a:pt x="10800" y="9357"/>
                  <a:pt x="5400" y="10800"/>
                  <a:pt x="0" y="10800"/>
                </a:cubicBezTo>
                <a:cubicBezTo>
                  <a:pt x="5400" y="10800"/>
                  <a:pt x="10800" y="12244"/>
                  <a:pt x="10800" y="13687"/>
                </a:cubicBezTo>
                <a:lnTo>
                  <a:pt x="10800" y="18713"/>
                </a:lnTo>
                <a:cubicBezTo>
                  <a:pt x="10800" y="201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609480" y="401940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609480" y="5162400"/>
            <a:ext cx="492120" cy="18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749160" y="4870440"/>
            <a:ext cx="75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作用：烘托气氛，有助于刻画人物性格，推动故事情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几人“智取”了生辰纲，同学们，你们赞成不赞成他们的做法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7120" y="1825200"/>
            <a:ext cx="8158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我们推崇《水浒》，我们喜爱那些杀富济贫，路见不平拔刀相助，该出手时就出手的英雄好汉，在很大程度上都是从“义”这一角度得出的结论，而我们的社会是现实的，要维护我们社会的安宁，只要法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54936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林冲和武松同是《水浒》浓墨重彩刻画之人，也都武艺高强，有勇有谋，但绰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林冲曾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头 ，一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后来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计误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刺配沧州，最后火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万般无奈、忍无可忍的情况下才被逼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典型。而武松是下层侠义之士。他崇尚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有仇必复，有恩必抱。因此，从为兄报仇开始，武松斗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醉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大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血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除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一步步走向反抗的道路。他是下层英雄好汉中最富有血性和传奇色彩的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62920" y="95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豹子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82040" y="1413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安分守己、循规蹈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73960" y="177336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高俅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636520" y="184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白虎节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335040" y="227664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草料场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727520" y="2500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梁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82800" y="301932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被迫造反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14400" y="3571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忠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666680" y="383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西门庆</a:t>
            </a:r>
            <a:r>
              <a:rPr b="0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029960" y="43498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蒋门神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237280" y="4356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飞云浦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243440" y="4749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鸳鸯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4948920" y="4859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蜈蚣岭</a:t>
            </a:r>
            <a:r>
              <a:rPr b="0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1628640"/>
            <a:ext cx="91440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、《水浒》的结构很有特点，作者采取了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的链式结构。第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回以前先讲单个英雄人物的故事，然后百川汇海，逐步发展到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。第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回以后，写他们</a:t>
            </a:r>
            <a:r>
              <a:rPr b="1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，走向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它的主要倾向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“官逼民反”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局限在于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只反贪官，不反皇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742520" y="164304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先分后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62520" y="2033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四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749240" y="28368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水泊梁山大聚义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041240" y="292428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七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788920" y="330660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归顺朝廷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41300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鲁智深绰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他在渭州三拳打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在相国寺倒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闹野猪林，救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水浒》中吴用绰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与晁盖、公孙胜等人在黄泥冈智取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549600" y="11192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花和尚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87080" y="177156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镇关西（郑屠）</a:t>
            </a:r>
            <a:r>
              <a:rPr b="0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575040" y="17575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0101"/>
                </a:solidFill>
                <a:latin typeface="黑体"/>
                <a:ea typeface="黑体"/>
              </a:rPr>
              <a:t>垂杨柳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016520" y="2181240"/>
            <a:ext cx="185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Times New Roman"/>
                <a:ea typeface="黑体"/>
              </a:rPr>
              <a:t>林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81640" y="2627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智多星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957840" y="366084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70101"/>
                </a:solidFill>
                <a:latin typeface="黑体"/>
                <a:ea typeface="黑体"/>
              </a:rPr>
              <a:t>生辰纲</a:t>
            </a:r>
            <a:r>
              <a:rPr b="1" lang="zh-CN" sz="2400" spc="-1" strike="noStrike">
                <a:solidFill>
                  <a:srgbClr val="e70101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 Light"/>
              </a:rPr>
              <a:t>《</a:t>
            </a: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水浒传</a:t>
            </a:r>
            <a:r>
              <a:rPr b="1" lang="en-US" sz="3300" spc="-1" strike="noStrike">
                <a:solidFill>
                  <a:srgbClr val="ff0000"/>
                </a:solidFill>
                <a:latin typeface="Calibri Light"/>
              </a:rPr>
              <a:t>》</a:t>
            </a: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里的英雄故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31720" y="18126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林教头风雪山神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林冲误入白虎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武松斗杀西门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鲁提辖拳打镇关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真假李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alibri"/>
              </a:rPr>
              <a:t>宋江题反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3:25:30Z</dcterms:created>
  <dc:creator>刘丹</dc:creator>
  <dc:description/>
  <dc:language>en-US</dc:language>
  <cp:lastModifiedBy>administrator</cp:lastModifiedBy>
  <dcterms:modified xsi:type="dcterms:W3CDTF">2017-08-20T23:54:25Z</dcterms:modified>
  <cp:revision>351</cp:revision>
  <dc:subject/>
  <dc:title>《智取生辰纲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