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12.xml" ContentType="application/vnd.openxmlformats-officedocument.theme+xml"/>
  <Override PartName="/ppt/theme/theme36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sldIdLst>
    <p:sldId id="256" r:id="rId38"/>
    <p:sldId id="257" r:id="rId39"/>
    <p:sldId id="258" r:id="rId40"/>
    <p:sldId id="259" r:id="rId41"/>
    <p:sldId id="260" r:id="rId42"/>
    <p:sldId id="261" r:id="rId43"/>
    <p:sldId id="262" r:id="rId44"/>
    <p:sldId id="263" r:id="rId45"/>
    <p:sldId id="264" r:id="rId46"/>
    <p:sldId id="265" r:id="rId47"/>
    <p:sldId id="266" r:id="rId48"/>
    <p:sldId id="267" r:id="rId49"/>
    <p:sldId id="268" r:id="rId50"/>
    <p:sldId id="269" r:id="rId51"/>
    <p:sldId id="270" r:id="rId52"/>
    <p:sldId id="271" r:id="rId53"/>
    <p:sldId id="272" r:id="rId54"/>
    <p:sldId id="273" r:id="rId55"/>
    <p:sldId id="274" r:id="rId56"/>
    <p:sldId id="275" r:id="rId57"/>
    <p:sldId id="276" r:id="rId58"/>
    <p:sldId id="277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" Target="slides/slide1.xml"/><Relationship Id="rId39" Type="http://schemas.openxmlformats.org/officeDocument/2006/relationships/slide" Target="slides/slide2.xml"/><Relationship Id="rId40" Type="http://schemas.openxmlformats.org/officeDocument/2006/relationships/slide" Target="slides/slide3.xml"/><Relationship Id="rId41" Type="http://schemas.openxmlformats.org/officeDocument/2006/relationships/slide" Target="slides/slide4.xml"/><Relationship Id="rId42" Type="http://schemas.openxmlformats.org/officeDocument/2006/relationships/slide" Target="slides/slide5.xml"/><Relationship Id="rId43" Type="http://schemas.openxmlformats.org/officeDocument/2006/relationships/slide" Target="slides/slide6.xml"/><Relationship Id="rId44" Type="http://schemas.openxmlformats.org/officeDocument/2006/relationships/slide" Target="slides/slide7.xml"/><Relationship Id="rId45" Type="http://schemas.openxmlformats.org/officeDocument/2006/relationships/slide" Target="slides/slide8.xml"/><Relationship Id="rId46" Type="http://schemas.openxmlformats.org/officeDocument/2006/relationships/slide" Target="slides/slide9.xml"/><Relationship Id="rId47" Type="http://schemas.openxmlformats.org/officeDocument/2006/relationships/slide" Target="slides/slide10.xml"/><Relationship Id="rId48" Type="http://schemas.openxmlformats.org/officeDocument/2006/relationships/slide" Target="slides/slide11.xml"/><Relationship Id="rId49" Type="http://schemas.openxmlformats.org/officeDocument/2006/relationships/slide" Target="slides/slide12.xml"/><Relationship Id="rId50" Type="http://schemas.openxmlformats.org/officeDocument/2006/relationships/slide" Target="slides/slide13.xml"/><Relationship Id="rId51" Type="http://schemas.openxmlformats.org/officeDocument/2006/relationships/slide" Target="slides/slide14.xml"/><Relationship Id="rId52" Type="http://schemas.openxmlformats.org/officeDocument/2006/relationships/slide" Target="slides/slide15.xml"/><Relationship Id="rId53" Type="http://schemas.openxmlformats.org/officeDocument/2006/relationships/slide" Target="slides/slide16.xml"/><Relationship Id="rId54" Type="http://schemas.openxmlformats.org/officeDocument/2006/relationships/slide" Target="slides/slide17.xml"/><Relationship Id="rId55" Type="http://schemas.openxmlformats.org/officeDocument/2006/relationships/slide" Target="slides/slide18.xml"/><Relationship Id="rId56" Type="http://schemas.openxmlformats.org/officeDocument/2006/relationships/slide" Target="slides/slide19.xml"/><Relationship Id="rId57" Type="http://schemas.openxmlformats.org/officeDocument/2006/relationships/slide" Target="slides/slide20.xml"/><Relationship Id="rId58" Type="http://schemas.openxmlformats.org/officeDocument/2006/relationships/slide" Target="slides/slide21.xml"/><Relationship Id="rId59" Type="http://schemas.openxmlformats.org/officeDocument/2006/relationships/slide" Target="slides/slide22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C427-D7EB-4C96-85E3-3A34B9D5B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B700-9781-456D-844E-1FAC6E2B2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FBE5B6-AF47-4C6B-8453-9C13086A1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F2ADED-1F85-4C23-979D-DB1028876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46E2E1-3714-4795-9B15-95317F82F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649FF8-13F8-4D56-9D35-ED539404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0A137D-D763-4EA6-A046-D2A849A4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9411F9-ADBB-4D51-A2CC-BBE3ADCE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65E4A0-E7AA-4A8E-83B0-5F3AB4F4C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C222AA-4B85-4D93-953A-F12678CD1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E84886-76C6-4371-B871-7058288D0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749207-3799-419B-B921-EC0534662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8BAA-7E4F-4F06-AF04-0ED7983AA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75720F-07CB-4E63-AEBF-06984B0CD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008E92-8D90-46CB-8D5D-9FB55C2A4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49EC2C-33BB-4DB2-9AD9-B5F1ED8F8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6EC0FD-3507-441E-A170-813605183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DFA906-3CA1-4887-AC45-ECEA811DD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7E13B8-1F5C-4753-B3FA-4D2CEA68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EB7F46-6B2A-4810-8CA8-68A75C51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537DD2-88DE-4977-AF5C-DE7BCA15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D9D020-423A-45B6-877C-17AAA7ADA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A9B9C7-4F7C-424C-86D5-6169B0C2B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4495-B569-4DA9-A41D-9E378A10B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C5A6D0-9ABD-40B9-9546-E17679FAC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AD3B52-49BF-4231-AB4A-DB7E5E323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CE321D-28DD-47EF-8B57-FB1D480CD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2C6FE2-8654-4C6C-B5B1-6A1748668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BEFBA2-44CA-49FF-BBA0-DAF62E2AC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3DC4F0-6AE4-430E-A76A-8DE354BC2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0867C6-A9DC-4CED-B25F-A1302FAF7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F4340A-A126-4EC8-B211-344E921F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878662-539F-4F6E-A9B3-F0FE55A5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C08101-6FE9-4AB3-A138-B4575FA3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16D6C-1193-46FB-9402-E03141284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23BA2F-4ADA-4C8E-A456-F91F1C3D3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CB0FDD-A5E1-4B50-B83B-242EAEDA8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1F6017-C4BB-40A8-B898-5D17317DD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6A7C35-B3C2-4D91-A914-EA44BBB24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E8D311-9090-454A-9A1B-D066E097A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407F98-1C1F-4DB3-9984-C0AECAED8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958076-1277-4450-97F2-F1671044E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02E151-B049-4A3E-B954-C916D663F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292F91-85D1-422E-AF1D-C7E2CFE56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0DFFFA-F4CA-4522-9F1B-F0236033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3A952-5FA3-434B-B996-C070A14C9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A47359-F0A8-416A-A9E7-60D3DD39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3539B9-A6A5-4F0C-8E28-0C5244B5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39B544-6D8C-4BC5-B44F-C503F4C22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53BB4B-801E-4487-B990-AD08F149C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77E7B0-66E0-4158-A79B-558F03F81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85DF17-868B-4C6C-AA6E-658B3791F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958F6B-9BBF-410C-94B0-8AE113235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003097-1CC9-403C-9FFB-41AEFA739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91E6EE-D5B9-43C7-9595-8014F5DA4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1E44C9-C466-4F14-9BCA-922496560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EA263-83AB-48D9-92EB-4446F4E97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45BCAA-6724-4FFE-AAB7-D95281127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8EEC89-1B90-4266-983C-CB2BDE23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63D38A-7FCE-4C64-B773-A33F1BFC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446B6D-D6AF-4DCF-A353-B2BA2D95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A4373C-6A88-4891-8C58-592CBC0A4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2E2D6B-D0F9-4C4D-B486-9D593F96A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177348-9578-47E1-896B-8FBD4485D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D69F4C-825C-4861-B4E5-6864CA664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5A432C-FC01-4AAD-A3CF-578C158B6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1A60FE-DFB1-4446-BA99-7EECFA6E4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EB05D-9D5E-46DB-AB65-C6D0D6F79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FF5441-B18B-4AD7-B198-5AF2C6B19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D76F0B-9F93-49F4-80F6-73F32F834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AC2A0D-DE65-463D-B9ED-66C648F9F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E0463C-37DF-4735-8418-11F722AB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BB4492-1A33-4F9C-BBB7-1DDE06A2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96C6A8-20CE-48D0-96C6-8A4D59B8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5E63BF-7E5A-4B2F-A0F5-1C45E709E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510222-8165-480E-92FA-643D1C669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E5A5BA-5A05-4EFF-95E4-4FBDC4AEC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0030D5-0E8C-4E8F-B4E5-F0BEA8BFC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8E512-E9B6-4796-9C97-E2ED2B834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96F89E-A12E-441D-9487-426CC9C4C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3ABB97-CA12-429C-90A8-A6068D6EA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08A14E-A994-4924-B64C-DECDBE224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9227CF-3FAE-4307-B3D5-BDD0AA1AB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05BE0C-D306-473C-B85C-E30F15AC2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0D5EA6-0311-406C-B254-D88C6C99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142A29-2130-4ADB-833D-065F6498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E697FE-0414-4BF3-B346-EC7E42AD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2147BA-A282-4F0D-AD7E-E52A159DB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C05E83-5761-4DE0-9982-01FAE853A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E94EC-9D77-4473-AB27-61345EEFF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A9D317-A51B-4161-B6C7-BA11DDB96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11E425-8629-4A7D-B31E-2C9610A9B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345D6A-49DB-43DF-9A83-DD6193EA4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C1F191-D8C9-428F-B27F-08EE53955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482F9F-F7B4-4B9F-B162-10D20E960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EA04BA-C863-4946-8A31-5AFA8FFE8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1EB575-6BE0-4996-8E74-EE4C39E42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E0E376-07E0-421D-BAE8-975D0B54B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9736AB-AB68-48FA-B0A0-E39F5AEF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9F2A34-3123-4B0F-9185-3C72843C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9B2C0-ED4B-4507-BF3D-F5E791BD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D43203-90EF-4A46-AF87-993CFF8E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4C2E89-668E-436C-A3F7-144EF3002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8341BA-4EB1-4BC2-A2D5-EA0DC26D2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B6CF04-B506-4987-8D83-044142D26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5A5FEF-D3EB-4BA3-9D76-10A21338A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9EA6CC-97C1-4F69-8C78-B417D6A31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482C92-267D-4CFC-A848-DB0839707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6D9572-02BE-4E46-A574-D97602165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B0B8D0-FE5D-4B1A-BD4F-4CA5D3386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B01B3C-2B79-45B8-9311-9517309A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B555-87E9-40CE-954C-D21E4F6E3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77AE8-D287-457E-AE5C-A9222A87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A8BECC-882B-4760-B3C8-A38D1C66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081579-D1E2-4DD4-A684-CBBAF813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DB5366-F660-41B2-AECB-7D88C1BC9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F19EA0-2326-4EF4-8806-D4601A96B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DE366C-D4D8-42D7-AB7B-AD392EBE7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85E512-304F-405E-A735-588FD58C9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FB818F-700E-4301-85A3-5992D24C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E3EE9D-1009-4ADE-BC8E-3CEE29B9D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56A2C9-D647-4C68-905B-80CA2BF12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49391A-FEA3-4369-8AFB-605440E50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A5472-57B4-4024-A6EE-C4B6CAFB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977C89-8956-4C79-BBBF-8BBDF7A35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AE0A0B-F4CD-4D3D-B732-A4F33F1A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F10AA8-CAF4-43F1-B2D8-ED49B097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085D86-F3A6-4689-A961-1D6A07B1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4F32BA-FFF9-4284-8F84-AC1E4D28D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96F78A-0EA0-4954-87B7-593BA92C1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E21FFD-D46C-46A5-A9D7-42AF156CD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D0053D-DC82-4CC4-9C39-F95C2432F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8835BC-762F-464D-BEE3-DEBDBF58C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1A528D-C709-4CEE-A829-247909EEA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77BCF-78DB-4E30-BA5F-E8180E890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311F0B-8EEA-418C-A972-70A3F770B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444365-64B3-45A1-9F62-70A1962E5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6AEF2A-B9D3-4C4E-B175-3D9BEB276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49897C-A271-48AC-84AE-6FF21547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EE2E74-10F5-42B7-80D1-CA068D76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70C78A-5923-4671-BEFE-0CC7BDE9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24D607-48EF-47FF-893B-A82276C51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3F7717-24EF-4F87-8046-2811F96C1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EDDC2B-70B5-458B-95E7-EA2AAED40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C14BAF-A0C0-46EA-B737-AF08004F9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765A4-0F1D-4DDB-991D-8B86F62E8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86B3A5-2D04-4404-91D5-EEFD8B394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ABABE0-7952-4240-BBFE-43D86800D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149288-C27D-4BA2-829E-10048A7BE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77775C-33C2-454B-A3E2-4DC823F89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4D2259-3A37-49A1-A7BE-2C79472E2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F02943-93F8-49B9-9FC2-D5ABD110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F8B2FD-879E-4505-B6A1-DF96C278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95DCE2-826B-49C1-9335-FEBE9A5E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CA6664-3F61-42FB-91E4-BF1F5994B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11001E-22E5-4F74-84B4-FA6D23D9B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B5223-7A72-4684-9E16-84B0285FA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7E2D18-0BEC-4C68-8542-61990B4CA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249DD7-C5D9-435E-932A-F1B542E12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E35B89-192B-4B72-8E61-57B07C900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E12FD6-F93B-4EED-9F12-CCA10F24E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21070E-359A-412C-A262-B1BD14AAB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2CCD02-CB35-416C-9151-DBD5CF693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D8648E-C216-4EBE-B333-792F1B08B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0EEECC-8733-400C-B45C-D0D7087D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8A485F-D901-4D13-AA04-430F6DE6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F67C65-E630-4D5A-8256-012E646F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F4F89-CE12-4C6F-8FCF-8A88D3235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F31A81-C2F6-4827-B519-7828C82B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00D392-50DE-4120-A706-B09B9AFF5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1E98A0-CDEE-438B-86ED-5EAC4B29E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0B8B475-7077-463B-8722-9E5F3D74D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90A0D58-6EFB-46EE-9B3E-3312138C2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463AC1-0CDE-48D0-9B3F-0CCE1BD43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29E0368-042A-4AC9-8B09-F179D8DE8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938E833-9361-4F1A-9F04-92E002443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8233A9D-5D41-4A9C-8969-BD02231B7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34070F3-C059-4191-BAB9-52D1A6EF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7A3CD-5D6F-4455-931F-206FECC4C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0438EEB-3202-41AF-8087-57A82090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869A783-6FA1-4977-9044-F2865DBC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94222F-8ABC-4F10-B258-9B5AE745A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A4E0542-875E-457F-8FAF-E979B5BF5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910AF66-2604-4665-A721-C4CA53A29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4D85312-69B2-43B6-A7D8-6ED01876F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D8D2058-3AA3-421F-9A97-BDFC60C59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D0C4426-C00A-41BA-AE34-E751E9601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9A735A6-57B6-4499-ABB0-7B294EA6C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3403915-10C5-4762-90E3-C565AF640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87F04-3C8C-4600-89D4-7275F4522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E1F6F80-1B5D-4BC1-9EC2-4E738E757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E3E26B7-F8B6-4A41-B5C4-1118D264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2F7B1D2-779B-463D-AE97-86ECEEED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30B10EA-7BCB-4BC5-83DF-2DCA9DE9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3320461-49BF-40E5-8152-562F380B7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2A693C-2E3C-4A1F-A797-259B2229B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92D7911-DF24-4D60-A667-6AA5C367D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A78045A-640A-40EA-8F61-521CE7195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657DE3D-A68D-448A-9E98-129738C3B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C3B6D0A-1510-4F1E-803B-EE4F29631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3F250-AF5A-4BF1-9852-378919E37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C921312-C244-4292-8639-AA70DEF7A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E96DEBA-8D13-4101-8336-5C72409D8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CAA7673-011A-4903-9284-0F37F2EC1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A743709-6FEF-43CF-AE24-947A8A0D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6B03035-D857-4F94-84B8-12BE4A59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05B0970-F168-4553-9C10-92A7690C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1C1351E-EFE0-425E-A5CE-5673C4E6E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AACA672-F19C-4E99-AB54-F8167952E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D0241B9-BD6E-4703-8850-3AD890D0F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FF7E328-821E-4869-9F20-996D2AF6E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6C7D3-9155-43EC-85C6-382C620CE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9EEC27F-D24A-46F8-8506-1212EE7E5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CDB06B1-5263-4D11-9A2C-247F06023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B1D3DAE-373C-469C-A793-6ADA8D6EE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F2E2696-606D-45CF-9A5F-4FDF71A2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66C0DA9-9B84-4E62-8007-A78D53140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AB6F0D7-0C5E-4071-A22D-CEF67DA9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77C1A2B-5759-4848-A8D9-2CBA1E4F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FC7C20D-5508-427E-8F44-57DA7B43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266BB63-B6B5-48CA-8798-AA0E1BF5B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01D3DCB-D16D-44FC-8D69-27CAE20AD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4286-F69E-454A-80B5-A0D7C87E8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2E648-AD8A-4EAD-ABF8-01E731451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0BB38D7-A4C9-4693-BDD6-9F0C4F08A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68102B4-B546-4ABA-A8CB-AEE48774D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B114E49-0E1E-49F1-8331-3D5F877B8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7B45C5D-A3D7-4AE5-B2FF-B74ABC370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75CF879-955E-4E92-A9BC-286FBC0DE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72CDD6A-6409-41BF-B212-84E26505E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4ADCD2E-6EC6-4C56-8C7E-4C66AEE46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FA3DCA8-35B9-4F44-8E58-684F342C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8BFE366-263D-4E4C-991B-3541D403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2B04DDB-056A-4A8E-A949-CD809998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1F124-588E-441C-A6E9-34506931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01AE888-35EF-46C3-9304-550CA272E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724E49C-B6C2-47FB-9D78-0944CCAE3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AC95857-132A-4563-B886-82E570DA8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4D511C7-AD00-4843-B6B1-88FAA5633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9052B22-6383-4859-A020-F85E21D48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8ACC3C2-0268-422E-B88F-9818A599B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F4BB7C9-91B0-47DD-A30A-E281BFE51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1F82095-024B-40CC-A0DF-B70331ECC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92AE0E8-6B6E-45FA-B857-60E3A00A4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A82873D-D111-459A-B2F6-5CB15BA3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D92D1-6801-404A-A604-0F3C52FF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8D7CCF5-176A-4FE3-9D09-E614AE63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4FCC0CB-E881-458C-ADA2-BF9BC317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62BBAD9-F2C2-43A6-BBA3-8A805DC5E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45D62A8-4C1A-4AA9-8AC9-0424BE851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550E847-F6A8-4FB0-A7A6-824D00CAE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2FDC555-B907-423F-909D-C098F7B20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49A6A0A-D3B8-46CC-97F3-F27992665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59FF657-F1B1-439D-B76A-B1BB8D93A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0C33B62-572A-489A-88B7-70493B968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FA36A2B-2310-4682-9248-F0B8AB41E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C9B6A-AE40-4B82-9177-C106107C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D26D9D1-039A-4523-8F55-9AD5B8BCE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D4B289A-67FE-4007-A679-683A4CD8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AF57397-0A0B-4351-8620-3E29B3F6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3A0E35B-ECD1-4992-B8EC-8FDA9180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7EE1978-562F-49C8-9AD1-413019EDE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F76845C-BC27-4B40-8AC1-F469FB4ED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940CD89-6382-4518-AE9D-64F5F2454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63729BD-BFB7-4816-A6D2-307845E64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2D140A7-9DDF-482A-878A-C08B85698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C5C9109-B9CF-44B1-8E7A-583C36743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75F67-3B1C-49D0-9BE0-638AE44EE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E0CA605-829B-4773-83C1-9B0F5801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71FEC01-92D3-4089-8FC6-0DD360942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B1DC4DF-B2F3-4AEB-930D-9D6833CF9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2688B7F-AAC1-47BB-8472-356E2527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F76DCF5-241E-431C-AAEB-67798C30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60CEDDF-8AFB-4C4F-934B-B5D3D7B7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48CC1CF-7F87-4141-8008-0BA16EA9A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E8A7164-0EA9-4919-866E-B823F489F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6FFC3AC-6725-447A-ABED-491BEC6E4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9CBB057-C659-4C7B-B5B8-D35EDB758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2A5D4-AD50-4470-8C91-F86B01C47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C3B6213-8A6D-408F-BD84-2DEE6A26C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9D5E587-382F-47C6-B08A-09B0C6FE7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907E1ED-92F9-4991-9078-5C867DE32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5A5B24C-3597-4B33-B5C1-62DA77FB9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D1199DA-67A5-4F16-81C2-A29F697CC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03CEFF2-8E38-4A11-9BF4-4D74AE02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D3042FB-7652-4427-A8FD-C6E5878D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475D240-AEFD-4A55-A575-9D2D7724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B7C32D1-DB92-4379-B5D5-7684923AE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E025A84-2133-4A11-A975-7E72EA74F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6E065-E4F0-4B0E-A173-F58728ADF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7832C84-15E5-42F8-B2F3-A7C87EC99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2DC5371-65E6-46A7-8413-447710896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D289606-6A03-451F-B7CB-FF871D394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9605D8A-1AB9-4B72-8145-56A52B92E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8A7257D-4DA3-4826-9F67-BC3C590C2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2B30DF9-13D2-414A-983F-32F628CAF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6D237DA-4BF9-4821-9C04-B256503F2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8C06AF4-0B21-4CE6-83C3-F1B69435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CB8301D-8128-4302-B958-B187CB4E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47F7838-DFA9-4276-9C07-56B08772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B152E-3E7E-450A-AA28-B26D4C070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41115D5-2FFD-4EAC-AF7A-26929DAA3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44F1B7E-5980-446D-95A5-73B350EB5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AC13CED-DDF7-4BAB-9B76-66EF5BFCB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BF87D46-1C17-4F16-862C-72B7F29ED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A58A664-2608-4D6B-9A84-AC9257699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2E06B22-D9EF-4C07-8C44-5BA5C3C1C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A12F219-90EE-4A99-8938-A69BA761E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E772E1B-0117-434C-B5F8-4F2A991D8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9955C15-E806-4B14-8F93-6915060F6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1B2F3F9-01EF-4703-82D7-BD1B3D5D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9AAA9-2B3C-4464-8123-6C915F48E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AE015F8-859C-453C-B334-8DC121FA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55F87A9-80FD-4BDC-9B5C-F07DCA47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4967502-C370-4668-A73E-0760C85F4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D2D0CF6-A5C8-477D-8CD2-7A2B8B663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A00C696-3427-4D90-8FB5-04CCE86BA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084A587-BF98-4741-A5D9-824234349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4A58B5A-3272-4858-8FD6-9B75A84A9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554F671-73B1-4C8C-AF32-2AECA474A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01FE376-D8F3-479E-9857-CEB9A8592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C42F2B9-488F-4050-8FAE-853B6D783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5478B-E0BA-48E5-B136-1AD4D156F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3037E81-B28E-4EE0-840E-5BA3CBD91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1327542-13F3-4C42-BB52-D8DC36EF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CF07256-DE6B-4A38-8FF2-D12997D3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EC79E2A-2AB0-4E0C-86ED-A7F4365F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550F914-51F4-44C3-9097-9E3C55229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ECF0D2D-499E-47CA-A81F-B5BE5F801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5D8ECA8-2C97-4D67-A97F-1726074BC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9BB6E2F-53B1-4AE5-A318-E59251F58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D56A053-14FF-4D3B-9CBE-CD4275D91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61EB978-8425-4D64-B964-3B1C52F6A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4D6C-C2CC-4EA8-983C-23F681AFA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C3F0D-0F39-4FAF-B1AE-757BCDF74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8ECB9DA-AFC7-4070-8049-F11C5B957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8961184-CBD3-4015-974C-AC625AB03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A37B5D2-BC98-4A12-BE2B-C4A3C4DD4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EB8EAB1-4B7B-45AA-B9BA-A3734714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02AA9B2-3E6C-4794-A206-51592667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12B9A62-61F6-4103-A2A3-15B9F44B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DB2ABED-D8A5-4CA1-AD0A-025044BD2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37B5C1C-CB3F-4307-A6A6-646683284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98731E7-2A14-4032-B006-9330240B8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AC85E7E-4107-480E-A66E-F1C3656A5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D8662-803B-4679-AA0A-41AAFAD33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918EDD5-9226-4249-8E39-7CAE15E99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438B3DC-9C38-4ADE-BCF8-E48FA814C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54A453F-7D52-4DED-8E98-F2CCE338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E37C67E-8DD9-4D9B-A022-501729D91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BBC973E-DF7F-4BDC-B336-DCE923D30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C8D62AF-06F5-45CD-90D0-FD4D7C5E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649E864-7A96-435A-A9AE-7C877697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C18B47C-BB4C-45E9-88B9-5F87A02D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9B86A81-4638-41A7-9893-24E74AD80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685B41B-214E-4B74-83A2-0DFEFFB4C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C274A-D34D-4055-B3E7-598A90F2C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60BD829-28EA-4210-AF50-BB5E3AF9A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282AB47-76D1-4088-AF85-9D6F30D86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40A4DE4-F985-4D70-A71E-2D07012DE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7F5F5F9-82ED-4600-8E6F-C305D734C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685739E-D1E5-4C06-A7D6-B3EF2A09E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BC6189F-7D2F-4B10-8CDE-7C4664FAD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78F6FC7-8E8B-4E61-9D47-16E59F5DF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8C52675-2F3C-41A9-B7C9-A055BD50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93ED66D-09FD-49E0-A88A-A9B63D2D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5E958C8-6094-43F1-9467-7E1BBBCA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12C94-1585-496C-85AA-C45B877A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0C1D9AF-D26B-404F-87B8-B328B08EC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BD26509-0711-4E1B-9AE8-75E2CCA5C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CD419CF-C2DB-439A-92C1-ED3D3298F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28C25-1518-4B0A-A24A-31895004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D5959-2968-4482-A067-8B9BAAF0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A5630-E0F8-47CE-AAA6-18D3EB6E7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0F040-8E37-4AD7-8304-6D6165AC0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C76BC-F3C9-43D1-B0C6-06EDDBEEC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82A30-02EF-4A37-AC39-ABFE6F5D6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D733-4698-4D56-9B85-FE43B5E65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8AB41-5219-4AB1-BF70-0235CBB21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79B7B-ECAA-4CA7-95E9-DBC9DE910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1AA4D-7AFF-4D04-B66F-81E76106E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83327-5EA3-4355-95B6-48D356E11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BB7AA-95BF-46E5-BDB3-8030F5391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1A39E-2C71-4656-B538-66B4F6DD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55671-2CA4-4848-B692-9F485CC8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B082C-6FA5-4C21-8555-DA52C890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E2CFA-9447-4CAE-AA78-00D541DEE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9B44C-E3CD-47B5-960C-26A941138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B42B-3211-4AB0-AFF5-8DA99A5EE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F21CD-4D29-490F-A860-F36DA9AC6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9F4E0F-2E9F-40C6-9989-FB8CC01D6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B3E51-4622-482B-AC6B-E6C01D7B2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B3FFC-90BB-456C-ADB6-69B5AEC1E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7225D3-F308-4237-9FE7-FA2D58048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45C70-B6A8-4F7C-99AC-4D0A8DA5C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695EF-7C1A-42B9-8773-63BA74659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678AE-96E2-4ADA-84B2-4A89658D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D18297-F3AE-4159-8F79-50D4E525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84CBF-90BF-4CD0-BB5D-F2A397E3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1C35-33CA-4B58-B0C1-1571DFBB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9F09C4-D4F7-4D4C-81D3-BADC755E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2D16F-7760-4C97-8A8F-3D954CC34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D8F0B-9E8B-423B-ADA7-E486966CB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A7A25-1F54-4CC8-B5A5-713E453DC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B9EAC-64BD-4376-A828-D21277497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A0DBC-9B30-4811-835A-1DFCED38A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D0B2E2-AEA9-4485-A067-0B971E3A9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6BCDEE-2BCD-4ED2-96D5-2F6801C70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1D2224-3645-4A25-9B50-0994518D8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4721F-04FE-4015-BF86-716300AD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ED7D-24E1-4586-BDC5-32E09B83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DEA7FD-0F75-4139-853E-8FBE2305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FF15E-7718-4E0B-A314-DBA50598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DB511A-965F-4BC3-848A-AD955598A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84C29-B085-46E3-9C05-A6298DB6F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909BB-B4ED-411A-8986-5C0ED1AD8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302A6B-6897-4DB1-9A04-EF33B764B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4935AE-0907-40D0-A4B2-ED426008B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C4D68B-27AC-472B-AB06-55F984D49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777BB4-DC43-46CD-92E4-0C67E101F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877FCC-BFCD-47E2-AE74-A195E9E3F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165B-900C-4EEE-94F8-3F5F6E32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FAF36D-5918-4663-98EF-676736F7E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53546A-E835-4B8C-8AA2-C6845836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1A5729-BC25-43C4-915A-6A5218D2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C4A23-0CEC-47EB-B902-CF3DBD33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19B1C-84E3-4649-9AD5-D98C1DACB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4964E-4217-4E4A-A2D7-EF2E25E0B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05DF0-C1F8-4131-9126-12F250FD5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F9D047-05C5-449E-A1D1-29B33BDCE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F150BF-214E-402E-90BF-12267E2E9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6DE2A2-DC24-48BD-8DFA-284ED190C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8AD1D-0540-4ED9-8E28-FA32ED60B6B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C637A-AB94-4D73-8685-A7E75470107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230B4-CEC6-46FE-B6CE-3FE28729480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9CBF2-1ED1-49B4-952C-6984A405CA4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2C84B-20CC-477A-A8AA-A2F4C0BDE20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B0E1D-2AF3-4932-898D-985B517F9FC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9D094-8C9D-499F-B1F5-7DF172A9A7A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1D9D5-0EB5-44D4-B46D-C5B0270E397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0A2F9-C305-48DE-9CA9-6EEB09D37EB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5E671-ABDA-4E3D-9705-75ED22B709B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187C3-1E41-44D6-9619-90CBA307BB3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D02D2-0844-400A-8C81-BECC197B29F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A7448-9045-4828-AEB1-5BE1C414046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0688C-4782-47C2-B6B8-4232A890C92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91F8C-9D90-4ECC-BA50-EC386351469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37D23-E7AA-492B-8BFD-14AA47C798C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7A2BA-47D8-454D-995D-AAC2364DCBF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66ABE-C442-4F53-A54C-72608FC6688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6A3F0-03AA-4765-96E8-5F03BEEFF45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D873F-ED02-4A90-9C2E-5A17879C6F2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3A3DA-B1D3-4528-B783-756064F7D10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472D1-09F1-4AD4-ADF8-0C2A32525D8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6B6A5-61E0-40A3-865D-B65505BCB4E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6EB80-4BDE-43A9-8000-F75BDDDE66B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FCCB0-5025-4F57-995F-16DF9526AED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FD2C6-84CA-4FBA-83DF-AD5C6BC4BAC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1ECA6-70AB-42E6-81E5-1C0D3C93CEA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6BBAC-3AB6-4576-AF23-814CA4978CD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A7756-CE8A-47CA-AA13-C52E6154A51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B3A06-9C76-4550-B36C-C1A70CC997F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9A0D9-6D78-4E78-A33F-09D459F98E1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847F5-2FF0-4FC4-BEEF-D07530C5C45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66B5F-1767-4FFF-B385-158E410013C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85ACD-B862-404B-BA86-A9ADD912856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FF7C3-2F0B-4F81-8479-45720090EE1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30C69-FA81-451C-9B84-91092BE1D1B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6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6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6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TextBox 1"/>
          <p:cNvSpPr/>
          <p:nvPr/>
        </p:nvSpPr>
        <p:spPr>
          <a:xfrm>
            <a:off x="1714680" y="1143000"/>
            <a:ext cx="58575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7" name="矩形 2" descr=""/>
          <p:cNvPicPr/>
          <p:nvPr/>
        </p:nvPicPr>
        <p:blipFill>
          <a:blip r:embed="rId1"/>
          <a:stretch/>
        </p:blipFill>
        <p:spPr>
          <a:xfrm>
            <a:off x="1714680" y="2571840"/>
            <a:ext cx="6246720" cy="1323720"/>
          </a:xfrm>
          <a:prstGeom prst="rect">
            <a:avLst/>
          </a:prstGeom>
          <a:ln w="0">
            <a:noFill/>
          </a:ln>
        </p:spPr>
      </p:pic>
      <p:sp>
        <p:nvSpPr>
          <p:cNvPr id="1478" name="矩形 2051"/>
          <p:cNvSpPr/>
          <p:nvPr/>
        </p:nvSpPr>
        <p:spPr>
          <a:xfrm>
            <a:off x="0" y="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矩形 2052"/>
          <p:cNvSpPr/>
          <p:nvPr/>
        </p:nvSpPr>
        <p:spPr>
          <a:xfrm>
            <a:off x="726840" y="4359240"/>
            <a:ext cx="52740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绿色圃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TextBox 8"/>
          <p:cNvSpPr/>
          <p:nvPr/>
        </p:nvSpPr>
        <p:spPr>
          <a:xfrm>
            <a:off x="1000080" y="33480"/>
            <a:ext cx="17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新知讲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9" name="Picture 3" descr=""/>
          <p:cNvPicPr/>
          <p:nvPr/>
        </p:nvPicPr>
        <p:blipFill>
          <a:blip r:embed="rId1"/>
          <a:stretch/>
        </p:blipFill>
        <p:spPr>
          <a:xfrm>
            <a:off x="571680" y="420840"/>
            <a:ext cx="8001000" cy="4462200"/>
          </a:xfrm>
          <a:prstGeom prst="rect">
            <a:avLst/>
          </a:prstGeom>
          <a:ln w="0">
            <a:noFill/>
          </a:ln>
        </p:spPr>
      </p:pic>
      <p:sp>
        <p:nvSpPr>
          <p:cNvPr id="1520" name="矩形 5"/>
          <p:cNvSpPr/>
          <p:nvPr/>
        </p:nvSpPr>
        <p:spPr>
          <a:xfrm>
            <a:off x="1785960" y="2232000"/>
            <a:ext cx="828720" cy="149868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矩形 1"/>
          <p:cNvSpPr/>
          <p:nvPr/>
        </p:nvSpPr>
        <p:spPr>
          <a:xfrm>
            <a:off x="2614680" y="2232000"/>
            <a:ext cx="701640" cy="149868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矩形 3"/>
          <p:cNvSpPr/>
          <p:nvPr/>
        </p:nvSpPr>
        <p:spPr>
          <a:xfrm>
            <a:off x="3316320" y="2232000"/>
            <a:ext cx="642960" cy="149868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矩形 4"/>
          <p:cNvSpPr/>
          <p:nvPr/>
        </p:nvSpPr>
        <p:spPr>
          <a:xfrm>
            <a:off x="3959280" y="2232000"/>
            <a:ext cx="693720" cy="149868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矩形 6"/>
          <p:cNvSpPr/>
          <p:nvPr/>
        </p:nvSpPr>
        <p:spPr>
          <a:xfrm>
            <a:off x="4654440" y="2232000"/>
            <a:ext cx="660600" cy="149868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矩形 7"/>
          <p:cNvSpPr/>
          <p:nvPr/>
        </p:nvSpPr>
        <p:spPr>
          <a:xfrm>
            <a:off x="5315040" y="2232000"/>
            <a:ext cx="676080" cy="149868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矩形 8"/>
          <p:cNvSpPr/>
          <p:nvPr/>
        </p:nvSpPr>
        <p:spPr>
          <a:xfrm>
            <a:off x="5991120" y="2232000"/>
            <a:ext cx="652680" cy="149868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7" name="组合 17"/>
          <p:cNvGrpSpPr/>
          <p:nvPr/>
        </p:nvGrpSpPr>
        <p:grpSpPr>
          <a:xfrm>
            <a:off x="571680" y="4962600"/>
            <a:ext cx="8394480" cy="1360440"/>
            <a:chOff x="571680" y="4962600"/>
            <a:chExt cx="8394480" cy="1360440"/>
          </a:xfrm>
        </p:grpSpPr>
        <p:sp>
          <p:nvSpPr>
            <p:cNvPr id="1528" name="圆角矩形标注 15"/>
            <p:cNvSpPr/>
            <p:nvPr/>
          </p:nvSpPr>
          <p:spPr>
            <a:xfrm>
              <a:off x="571680" y="4962600"/>
              <a:ext cx="7572240" cy="713880"/>
            </a:xfrm>
            <a:prstGeom prst="wedgeRoundRectCallout">
              <a:avLst>
                <a:gd name="adj1" fmla="val 29509"/>
                <a:gd name="adj2" fmla="val 65824"/>
                <a:gd name="adj3" fmla="val 16667"/>
              </a:avLst>
            </a:prstGeom>
            <a:solidFill>
              <a:srgbClr val="c6d9f1"/>
            </a:solidFill>
            <a:ln w="1260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两端物体比中间的另一种物体多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个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29" name="图片 16" descr="番茄.png"/>
            <p:cNvPicPr/>
            <p:nvPr/>
          </p:nvPicPr>
          <p:blipFill>
            <a:blip r:embed="rId2"/>
            <a:stretch/>
          </p:blipFill>
          <p:spPr>
            <a:xfrm>
              <a:off x="7371000" y="5152320"/>
              <a:ext cx="1595160" cy="1170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10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10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10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" dur="10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" dur="10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" dur="10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10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TextBox 8"/>
          <p:cNvSpPr/>
          <p:nvPr/>
        </p:nvSpPr>
        <p:spPr>
          <a:xfrm>
            <a:off x="1000080" y="214200"/>
            <a:ext cx="17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新知讲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1" name="Picture 3" descr=""/>
          <p:cNvPicPr/>
          <p:nvPr/>
        </p:nvPicPr>
        <p:blipFill>
          <a:blip r:embed="rId1"/>
          <a:stretch/>
        </p:blipFill>
        <p:spPr>
          <a:xfrm>
            <a:off x="636480" y="1036800"/>
            <a:ext cx="8001000" cy="4462200"/>
          </a:xfrm>
          <a:prstGeom prst="rect">
            <a:avLst/>
          </a:prstGeom>
          <a:ln w="0">
            <a:noFill/>
          </a:ln>
        </p:spPr>
      </p:pic>
      <p:sp>
        <p:nvSpPr>
          <p:cNvPr id="1532" name="矩形 5"/>
          <p:cNvSpPr/>
          <p:nvPr/>
        </p:nvSpPr>
        <p:spPr>
          <a:xfrm>
            <a:off x="2705040" y="2095560"/>
            <a:ext cx="466920" cy="704880"/>
          </a:xfrm>
          <a:prstGeom prst="rect">
            <a:avLst/>
          </a:prstGeom>
          <a:noFill/>
          <a:ln w="381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矩形 1"/>
          <p:cNvSpPr/>
          <p:nvPr/>
        </p:nvSpPr>
        <p:spPr>
          <a:xfrm>
            <a:off x="3171960" y="2095560"/>
            <a:ext cx="495000" cy="704880"/>
          </a:xfrm>
          <a:prstGeom prst="rect">
            <a:avLst/>
          </a:prstGeom>
          <a:noFill/>
          <a:ln w="381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矩形 3"/>
          <p:cNvSpPr/>
          <p:nvPr/>
        </p:nvSpPr>
        <p:spPr>
          <a:xfrm flipH="1">
            <a:off x="3663360" y="2100240"/>
            <a:ext cx="446040" cy="700200"/>
          </a:xfrm>
          <a:prstGeom prst="rect">
            <a:avLst/>
          </a:prstGeom>
          <a:noFill/>
          <a:ln w="381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矩形 4"/>
          <p:cNvSpPr/>
          <p:nvPr/>
        </p:nvSpPr>
        <p:spPr>
          <a:xfrm>
            <a:off x="4110120" y="2100240"/>
            <a:ext cx="388800" cy="700200"/>
          </a:xfrm>
          <a:prstGeom prst="rect">
            <a:avLst/>
          </a:prstGeom>
          <a:noFill/>
          <a:ln w="381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矩形 6"/>
          <p:cNvSpPr/>
          <p:nvPr/>
        </p:nvSpPr>
        <p:spPr>
          <a:xfrm>
            <a:off x="4498920" y="2098800"/>
            <a:ext cx="430200" cy="701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矩形 7"/>
          <p:cNvSpPr/>
          <p:nvPr/>
        </p:nvSpPr>
        <p:spPr>
          <a:xfrm>
            <a:off x="4929120" y="2100240"/>
            <a:ext cx="463680" cy="700200"/>
          </a:xfrm>
          <a:prstGeom prst="rect">
            <a:avLst/>
          </a:prstGeom>
          <a:noFill/>
          <a:ln w="381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矩形 8"/>
          <p:cNvSpPr/>
          <p:nvPr/>
        </p:nvSpPr>
        <p:spPr>
          <a:xfrm>
            <a:off x="5392800" y="2095560"/>
            <a:ext cx="447480" cy="704880"/>
          </a:xfrm>
          <a:prstGeom prst="rect">
            <a:avLst/>
          </a:prstGeom>
          <a:noFill/>
          <a:ln w="381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矩形 2"/>
          <p:cNvSpPr/>
          <p:nvPr/>
        </p:nvSpPr>
        <p:spPr>
          <a:xfrm>
            <a:off x="5840280" y="2095560"/>
            <a:ext cx="430200" cy="704880"/>
          </a:xfrm>
          <a:prstGeom prst="rect">
            <a:avLst/>
          </a:prstGeom>
          <a:noFill/>
          <a:ln w="381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矩形 9"/>
          <p:cNvSpPr/>
          <p:nvPr/>
        </p:nvSpPr>
        <p:spPr>
          <a:xfrm>
            <a:off x="6270480" y="2100240"/>
            <a:ext cx="406440" cy="701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" dur="10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7" dur="10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10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7" dur="10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2" dur="10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10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2" dur="10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7" dur="10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2" dur="10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TextBox 8"/>
          <p:cNvSpPr/>
          <p:nvPr/>
        </p:nvSpPr>
        <p:spPr>
          <a:xfrm>
            <a:off x="798480" y="433440"/>
            <a:ext cx="17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新知讲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2" name="Picture 3" descr=""/>
          <p:cNvPicPr/>
          <p:nvPr/>
        </p:nvPicPr>
        <p:blipFill>
          <a:blip r:embed="rId1"/>
          <a:stretch/>
        </p:blipFill>
        <p:spPr>
          <a:xfrm>
            <a:off x="571680" y="1325520"/>
            <a:ext cx="8001000" cy="4462560"/>
          </a:xfrm>
          <a:prstGeom prst="rect">
            <a:avLst/>
          </a:prstGeom>
          <a:ln w="0">
            <a:noFill/>
          </a:ln>
        </p:spPr>
      </p:pic>
      <p:sp>
        <p:nvSpPr>
          <p:cNvPr id="1543" name="矩形 5"/>
          <p:cNvSpPr/>
          <p:nvPr/>
        </p:nvSpPr>
        <p:spPr>
          <a:xfrm>
            <a:off x="708120" y="4084560"/>
            <a:ext cx="465120" cy="161460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矩形 1"/>
          <p:cNvSpPr/>
          <p:nvPr/>
        </p:nvSpPr>
        <p:spPr>
          <a:xfrm>
            <a:off x="1173240" y="4084560"/>
            <a:ext cx="571320" cy="161460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矩形 3"/>
          <p:cNvSpPr/>
          <p:nvPr/>
        </p:nvSpPr>
        <p:spPr>
          <a:xfrm>
            <a:off x="1744560" y="4084560"/>
            <a:ext cx="611280" cy="161460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矩形 4"/>
          <p:cNvSpPr/>
          <p:nvPr/>
        </p:nvSpPr>
        <p:spPr>
          <a:xfrm>
            <a:off x="2355840" y="4084560"/>
            <a:ext cx="693720" cy="160488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矩形 6"/>
          <p:cNvSpPr/>
          <p:nvPr/>
        </p:nvSpPr>
        <p:spPr>
          <a:xfrm>
            <a:off x="3051000" y="4084560"/>
            <a:ext cx="702000" cy="160488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矩形 7"/>
          <p:cNvSpPr/>
          <p:nvPr/>
        </p:nvSpPr>
        <p:spPr>
          <a:xfrm>
            <a:off x="3753000" y="4084560"/>
            <a:ext cx="676080" cy="160488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矩形 8"/>
          <p:cNvSpPr/>
          <p:nvPr/>
        </p:nvSpPr>
        <p:spPr>
          <a:xfrm>
            <a:off x="4429080" y="4095720"/>
            <a:ext cx="735120" cy="160344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矩形 2"/>
          <p:cNvSpPr/>
          <p:nvPr/>
        </p:nvSpPr>
        <p:spPr>
          <a:xfrm>
            <a:off x="5164200" y="4095720"/>
            <a:ext cx="735120" cy="160344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矩形 9"/>
          <p:cNvSpPr/>
          <p:nvPr/>
        </p:nvSpPr>
        <p:spPr>
          <a:xfrm>
            <a:off x="5899320" y="4084560"/>
            <a:ext cx="733320" cy="160344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矩形 10"/>
          <p:cNvSpPr/>
          <p:nvPr/>
        </p:nvSpPr>
        <p:spPr>
          <a:xfrm>
            <a:off x="6632640" y="4084560"/>
            <a:ext cx="644400" cy="160344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矩形 11"/>
          <p:cNvSpPr/>
          <p:nvPr/>
        </p:nvSpPr>
        <p:spPr>
          <a:xfrm>
            <a:off x="7277040" y="4084560"/>
            <a:ext cx="479520" cy="160344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矩形 12"/>
          <p:cNvSpPr/>
          <p:nvPr/>
        </p:nvSpPr>
        <p:spPr>
          <a:xfrm>
            <a:off x="7756560" y="4084560"/>
            <a:ext cx="431640" cy="160344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9" dur="10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4" dur="10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9" dur="10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4" dur="10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9" dur="10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4" dur="10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9" dur="10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4" dur="10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9" dur="10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4" dur="100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9" dur="10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4" dur="10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TextBox 8"/>
          <p:cNvSpPr/>
          <p:nvPr/>
        </p:nvSpPr>
        <p:spPr>
          <a:xfrm>
            <a:off x="857160" y="214200"/>
            <a:ext cx="184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小试牛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TextBox 1"/>
          <p:cNvSpPr/>
          <p:nvPr/>
        </p:nvSpPr>
        <p:spPr>
          <a:xfrm>
            <a:off x="571680" y="99684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回答下面问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TextBox 1"/>
          <p:cNvSpPr/>
          <p:nvPr/>
        </p:nvSpPr>
        <p:spPr>
          <a:xfrm>
            <a:off x="571680" y="255096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只小兔站成一排，每两只小兔中间有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蘑菇，一共有多少个蘑菇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TextBox 1"/>
          <p:cNvSpPr/>
          <p:nvPr/>
        </p:nvSpPr>
        <p:spPr>
          <a:xfrm>
            <a:off x="2214720" y="3997440"/>
            <a:ext cx="392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－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19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（个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TextBox 1"/>
          <p:cNvSpPr/>
          <p:nvPr/>
        </p:nvSpPr>
        <p:spPr>
          <a:xfrm>
            <a:off x="642960" y="51436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答：一共有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9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蘑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20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TextBox 8"/>
          <p:cNvSpPr/>
          <p:nvPr/>
        </p:nvSpPr>
        <p:spPr>
          <a:xfrm>
            <a:off x="1000080" y="214200"/>
            <a:ext cx="17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小试牛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TextBox 1"/>
          <p:cNvSpPr/>
          <p:nvPr/>
        </p:nvSpPr>
        <p:spPr>
          <a:xfrm>
            <a:off x="571680" y="99684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回答下面问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TextBox 1"/>
          <p:cNvSpPr/>
          <p:nvPr/>
        </p:nvSpPr>
        <p:spPr>
          <a:xfrm>
            <a:off x="571680" y="31939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把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块手帕像上面那样夹在绳子上，一共需要多少个夹子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TextBox 1"/>
          <p:cNvSpPr/>
          <p:nvPr/>
        </p:nvSpPr>
        <p:spPr>
          <a:xfrm>
            <a:off x="2714760" y="4640400"/>
            <a:ext cx="392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＋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21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（个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4" name="Picture 2" descr=""/>
          <p:cNvPicPr/>
          <p:nvPr/>
        </p:nvPicPr>
        <p:blipFill>
          <a:blip r:embed="rId1"/>
          <a:stretch/>
        </p:blipFill>
        <p:spPr>
          <a:xfrm>
            <a:off x="1500120" y="2000160"/>
            <a:ext cx="6562800" cy="924120"/>
          </a:xfrm>
          <a:prstGeom prst="rect">
            <a:avLst/>
          </a:prstGeom>
          <a:ln w="0">
            <a:noFill/>
          </a:ln>
        </p:spPr>
      </p:pic>
      <p:sp>
        <p:nvSpPr>
          <p:cNvPr id="1565" name="矩形 10246"/>
          <p:cNvSpPr/>
          <p:nvPr/>
        </p:nvSpPr>
        <p:spPr>
          <a:xfrm>
            <a:off x="395280" y="580536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TextBox 1"/>
          <p:cNvSpPr/>
          <p:nvPr/>
        </p:nvSpPr>
        <p:spPr>
          <a:xfrm>
            <a:off x="642960" y="55720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答：一共需要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1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夹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20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TextBox 8"/>
          <p:cNvSpPr/>
          <p:nvPr/>
        </p:nvSpPr>
        <p:spPr>
          <a:xfrm>
            <a:off x="1000080" y="214200"/>
            <a:ext cx="17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新知讲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TextBox 1"/>
          <p:cNvSpPr/>
          <p:nvPr/>
        </p:nvSpPr>
        <p:spPr>
          <a:xfrm>
            <a:off x="571680" y="97164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你能用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  和一些  画一个间隔排列的图案吗？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最少有几个？最多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矩形 7"/>
          <p:cNvSpPr/>
          <p:nvPr/>
        </p:nvSpPr>
        <p:spPr>
          <a:xfrm>
            <a:off x="2782800" y="1355760"/>
            <a:ext cx="357120" cy="357120"/>
          </a:xfrm>
          <a:prstGeom prst="rect">
            <a:avLst/>
          </a:prstGeom>
          <a:solidFill>
            <a:srgbClr val="ffccff"/>
          </a:solidFill>
          <a:ln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椭圆 9"/>
          <p:cNvSpPr/>
          <p:nvPr/>
        </p:nvSpPr>
        <p:spPr>
          <a:xfrm>
            <a:off x="4605480" y="1284120"/>
            <a:ext cx="428400" cy="428760"/>
          </a:xfrm>
          <a:prstGeom prst="ellipse">
            <a:avLst/>
          </a:prstGeom>
          <a:solidFill>
            <a:srgbClr val="c6d9f1"/>
          </a:solidFill>
          <a:ln w="25560">
            <a:solidFill>
              <a:srgbClr val="1f49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椭圆 10"/>
          <p:cNvSpPr/>
          <p:nvPr/>
        </p:nvSpPr>
        <p:spPr>
          <a:xfrm>
            <a:off x="2874960" y="2139840"/>
            <a:ext cx="428760" cy="428760"/>
          </a:xfrm>
          <a:prstGeom prst="ellipse">
            <a:avLst/>
          </a:prstGeom>
          <a:solidFill>
            <a:srgbClr val="c6d9f1"/>
          </a:solidFill>
          <a:ln w="25560">
            <a:solidFill>
              <a:srgbClr val="1f49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2" name="组合 35"/>
          <p:cNvGrpSpPr/>
          <p:nvPr/>
        </p:nvGrpSpPr>
        <p:grpSpPr>
          <a:xfrm>
            <a:off x="2193840" y="3111480"/>
            <a:ext cx="3786120" cy="357120"/>
            <a:chOff x="2193840" y="3111480"/>
            <a:chExt cx="3786120" cy="357120"/>
          </a:xfrm>
        </p:grpSpPr>
        <p:sp>
          <p:nvSpPr>
            <p:cNvPr id="1573" name="矩形 11"/>
            <p:cNvSpPr/>
            <p:nvPr/>
          </p:nvSpPr>
          <p:spPr>
            <a:xfrm>
              <a:off x="2193840" y="3111480"/>
              <a:ext cx="357120" cy="35712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矩形 15"/>
            <p:cNvSpPr/>
            <p:nvPr/>
          </p:nvSpPr>
          <p:spPr>
            <a:xfrm>
              <a:off x="3051000" y="3111480"/>
              <a:ext cx="357120" cy="35712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矩形 18"/>
            <p:cNvSpPr/>
            <p:nvPr/>
          </p:nvSpPr>
          <p:spPr>
            <a:xfrm>
              <a:off x="3908160" y="3111480"/>
              <a:ext cx="357120" cy="35712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矩形 20"/>
            <p:cNvSpPr/>
            <p:nvPr/>
          </p:nvSpPr>
          <p:spPr>
            <a:xfrm>
              <a:off x="4765680" y="3111480"/>
              <a:ext cx="357120" cy="35712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矩形 22"/>
            <p:cNvSpPr/>
            <p:nvPr/>
          </p:nvSpPr>
          <p:spPr>
            <a:xfrm>
              <a:off x="5622840" y="3111480"/>
              <a:ext cx="357120" cy="35712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8" name="组合 35"/>
          <p:cNvGrpSpPr/>
          <p:nvPr/>
        </p:nvGrpSpPr>
        <p:grpSpPr>
          <a:xfrm>
            <a:off x="2546280" y="1260360"/>
            <a:ext cx="3786120" cy="357480"/>
            <a:chOff x="2546280" y="1260360"/>
            <a:chExt cx="3786120" cy="357480"/>
          </a:xfrm>
        </p:grpSpPr>
        <p:sp>
          <p:nvSpPr>
            <p:cNvPr id="1579" name="矩形 11"/>
            <p:cNvSpPr/>
            <p:nvPr/>
          </p:nvSpPr>
          <p:spPr>
            <a:xfrm>
              <a:off x="2546280" y="1260360"/>
              <a:ext cx="357120" cy="35748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椭圆 14"/>
            <p:cNvSpPr/>
            <p:nvPr/>
          </p:nvSpPr>
          <p:spPr>
            <a:xfrm>
              <a:off x="2974680" y="1260360"/>
              <a:ext cx="357120" cy="357480"/>
            </a:xfrm>
            <a:prstGeom prst="ellipse">
              <a:avLst/>
            </a:prstGeom>
            <a:solidFill>
              <a:srgbClr val="c6d9f1"/>
            </a:solidFill>
            <a:ln w="255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矩形 15"/>
            <p:cNvSpPr/>
            <p:nvPr/>
          </p:nvSpPr>
          <p:spPr>
            <a:xfrm>
              <a:off x="3403440" y="1260360"/>
              <a:ext cx="357120" cy="35748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椭圆 16"/>
            <p:cNvSpPr/>
            <p:nvPr/>
          </p:nvSpPr>
          <p:spPr>
            <a:xfrm>
              <a:off x="3832200" y="1260360"/>
              <a:ext cx="357120" cy="357480"/>
            </a:xfrm>
            <a:prstGeom prst="ellipse">
              <a:avLst/>
            </a:prstGeom>
            <a:solidFill>
              <a:srgbClr val="c6d9f1"/>
            </a:solidFill>
            <a:ln w="255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矩形 18"/>
            <p:cNvSpPr/>
            <p:nvPr/>
          </p:nvSpPr>
          <p:spPr>
            <a:xfrm>
              <a:off x="4260600" y="1260360"/>
              <a:ext cx="357120" cy="35748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椭圆 19"/>
            <p:cNvSpPr/>
            <p:nvPr/>
          </p:nvSpPr>
          <p:spPr>
            <a:xfrm>
              <a:off x="4689360" y="1260360"/>
              <a:ext cx="357120" cy="357480"/>
            </a:xfrm>
            <a:prstGeom prst="ellipse">
              <a:avLst/>
            </a:prstGeom>
            <a:solidFill>
              <a:srgbClr val="c6d9f1"/>
            </a:solidFill>
            <a:ln w="255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矩形 20"/>
            <p:cNvSpPr/>
            <p:nvPr/>
          </p:nvSpPr>
          <p:spPr>
            <a:xfrm>
              <a:off x="5118120" y="1260360"/>
              <a:ext cx="357120" cy="35748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椭圆 21"/>
            <p:cNvSpPr/>
            <p:nvPr/>
          </p:nvSpPr>
          <p:spPr>
            <a:xfrm>
              <a:off x="5546880" y="1260360"/>
              <a:ext cx="357120" cy="357480"/>
            </a:xfrm>
            <a:prstGeom prst="ellipse">
              <a:avLst/>
            </a:prstGeom>
            <a:solidFill>
              <a:srgbClr val="c6d9f1"/>
            </a:solidFill>
            <a:ln w="255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矩形 22"/>
            <p:cNvSpPr/>
            <p:nvPr/>
          </p:nvSpPr>
          <p:spPr>
            <a:xfrm>
              <a:off x="5975280" y="1260360"/>
              <a:ext cx="357120" cy="35748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8" name="组合 58"/>
          <p:cNvGrpSpPr/>
          <p:nvPr/>
        </p:nvGrpSpPr>
        <p:grpSpPr>
          <a:xfrm>
            <a:off x="2360520" y="2168640"/>
            <a:ext cx="4422960" cy="357120"/>
            <a:chOff x="2360520" y="2168640"/>
            <a:chExt cx="4422960" cy="357120"/>
          </a:xfrm>
        </p:grpSpPr>
        <p:sp>
          <p:nvSpPr>
            <p:cNvPr id="1589" name="矩形 4"/>
            <p:cNvSpPr/>
            <p:nvPr/>
          </p:nvSpPr>
          <p:spPr>
            <a:xfrm>
              <a:off x="2768400" y="2168640"/>
              <a:ext cx="339480" cy="35712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椭圆 5"/>
            <p:cNvSpPr/>
            <p:nvPr/>
          </p:nvSpPr>
          <p:spPr>
            <a:xfrm>
              <a:off x="3176280" y="2168640"/>
              <a:ext cx="341280" cy="357120"/>
            </a:xfrm>
            <a:prstGeom prst="ellipse">
              <a:avLst/>
            </a:prstGeom>
            <a:solidFill>
              <a:srgbClr val="c6d9f1"/>
            </a:solidFill>
            <a:ln w="255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矩形 6"/>
            <p:cNvSpPr/>
            <p:nvPr/>
          </p:nvSpPr>
          <p:spPr>
            <a:xfrm>
              <a:off x="3584520" y="2168640"/>
              <a:ext cx="341280" cy="35712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椭圆 12"/>
            <p:cNvSpPr/>
            <p:nvPr/>
          </p:nvSpPr>
          <p:spPr>
            <a:xfrm>
              <a:off x="3994200" y="2168640"/>
              <a:ext cx="339480" cy="357120"/>
            </a:xfrm>
            <a:prstGeom prst="ellipse">
              <a:avLst/>
            </a:prstGeom>
            <a:solidFill>
              <a:srgbClr val="c6d9f1"/>
            </a:solidFill>
            <a:ln w="255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矩形 13"/>
            <p:cNvSpPr/>
            <p:nvPr/>
          </p:nvSpPr>
          <p:spPr>
            <a:xfrm>
              <a:off x="4402080" y="2168640"/>
              <a:ext cx="339480" cy="35712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椭圆 17"/>
            <p:cNvSpPr/>
            <p:nvPr/>
          </p:nvSpPr>
          <p:spPr>
            <a:xfrm>
              <a:off x="4810320" y="2168640"/>
              <a:ext cx="339480" cy="357120"/>
            </a:xfrm>
            <a:prstGeom prst="ellipse">
              <a:avLst/>
            </a:prstGeom>
            <a:solidFill>
              <a:srgbClr val="c6d9f1"/>
            </a:solidFill>
            <a:ln w="255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矩形 24"/>
            <p:cNvSpPr/>
            <p:nvPr/>
          </p:nvSpPr>
          <p:spPr>
            <a:xfrm>
              <a:off x="5218200" y="2168640"/>
              <a:ext cx="339480" cy="35712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椭圆 26"/>
            <p:cNvSpPr/>
            <p:nvPr/>
          </p:nvSpPr>
          <p:spPr>
            <a:xfrm>
              <a:off x="5626080" y="2168640"/>
              <a:ext cx="339480" cy="357120"/>
            </a:xfrm>
            <a:prstGeom prst="ellipse">
              <a:avLst/>
            </a:prstGeom>
            <a:solidFill>
              <a:srgbClr val="c6d9f1"/>
            </a:solidFill>
            <a:ln w="255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矩形 35"/>
            <p:cNvSpPr/>
            <p:nvPr/>
          </p:nvSpPr>
          <p:spPr>
            <a:xfrm>
              <a:off x="6034320" y="2168640"/>
              <a:ext cx="341280" cy="35712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椭圆 36"/>
            <p:cNvSpPr/>
            <p:nvPr/>
          </p:nvSpPr>
          <p:spPr>
            <a:xfrm>
              <a:off x="6442200" y="2168640"/>
              <a:ext cx="341280" cy="357120"/>
            </a:xfrm>
            <a:prstGeom prst="ellipse">
              <a:avLst/>
            </a:prstGeom>
            <a:solidFill>
              <a:srgbClr val="c6d9f1"/>
            </a:solidFill>
            <a:ln w="255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椭圆 68"/>
            <p:cNvSpPr/>
            <p:nvPr/>
          </p:nvSpPr>
          <p:spPr>
            <a:xfrm>
              <a:off x="2360520" y="2168640"/>
              <a:ext cx="339480" cy="357120"/>
            </a:xfrm>
            <a:prstGeom prst="ellipse">
              <a:avLst/>
            </a:prstGeom>
            <a:solidFill>
              <a:srgbClr val="c6d9f1"/>
            </a:solidFill>
            <a:ln w="255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0" name="组合 58"/>
          <p:cNvGrpSpPr/>
          <p:nvPr/>
        </p:nvGrpSpPr>
        <p:grpSpPr>
          <a:xfrm>
            <a:off x="2563920" y="2890800"/>
            <a:ext cx="4012920" cy="357120"/>
            <a:chOff x="2563920" y="2890800"/>
            <a:chExt cx="4012920" cy="357120"/>
          </a:xfrm>
        </p:grpSpPr>
        <p:sp>
          <p:nvSpPr>
            <p:cNvPr id="1601" name="矩形 37"/>
            <p:cNvSpPr/>
            <p:nvPr/>
          </p:nvSpPr>
          <p:spPr>
            <a:xfrm>
              <a:off x="2563920" y="2890800"/>
              <a:ext cx="339480" cy="35712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椭圆 38"/>
            <p:cNvSpPr/>
            <p:nvPr/>
          </p:nvSpPr>
          <p:spPr>
            <a:xfrm>
              <a:off x="2971800" y="2890800"/>
              <a:ext cx="339480" cy="357120"/>
            </a:xfrm>
            <a:prstGeom prst="ellipse">
              <a:avLst/>
            </a:prstGeom>
            <a:solidFill>
              <a:srgbClr val="c6d9f1"/>
            </a:solidFill>
            <a:ln w="255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矩形 39"/>
            <p:cNvSpPr/>
            <p:nvPr/>
          </p:nvSpPr>
          <p:spPr>
            <a:xfrm>
              <a:off x="3379680" y="2890800"/>
              <a:ext cx="339480" cy="35712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椭圆 40"/>
            <p:cNvSpPr/>
            <p:nvPr/>
          </p:nvSpPr>
          <p:spPr>
            <a:xfrm>
              <a:off x="3787560" y="2890800"/>
              <a:ext cx="341280" cy="357120"/>
            </a:xfrm>
            <a:prstGeom prst="ellipse">
              <a:avLst/>
            </a:prstGeom>
            <a:solidFill>
              <a:srgbClr val="c6d9f1"/>
            </a:solidFill>
            <a:ln w="255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矩形 41"/>
            <p:cNvSpPr/>
            <p:nvPr/>
          </p:nvSpPr>
          <p:spPr>
            <a:xfrm>
              <a:off x="4195800" y="2890800"/>
              <a:ext cx="341280" cy="35712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椭圆 42"/>
            <p:cNvSpPr/>
            <p:nvPr/>
          </p:nvSpPr>
          <p:spPr>
            <a:xfrm>
              <a:off x="4605480" y="2890800"/>
              <a:ext cx="339480" cy="357120"/>
            </a:xfrm>
            <a:prstGeom prst="ellipse">
              <a:avLst/>
            </a:prstGeom>
            <a:solidFill>
              <a:srgbClr val="c6d9f1"/>
            </a:solidFill>
            <a:ln w="255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矩形 43"/>
            <p:cNvSpPr/>
            <p:nvPr/>
          </p:nvSpPr>
          <p:spPr>
            <a:xfrm>
              <a:off x="5013360" y="2890800"/>
              <a:ext cx="339480" cy="35712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椭圆 44"/>
            <p:cNvSpPr/>
            <p:nvPr/>
          </p:nvSpPr>
          <p:spPr>
            <a:xfrm>
              <a:off x="5421240" y="2890800"/>
              <a:ext cx="339480" cy="357120"/>
            </a:xfrm>
            <a:prstGeom prst="ellipse">
              <a:avLst/>
            </a:prstGeom>
            <a:solidFill>
              <a:srgbClr val="c6d9f1"/>
            </a:solidFill>
            <a:ln w="255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矩形 45"/>
            <p:cNvSpPr/>
            <p:nvPr/>
          </p:nvSpPr>
          <p:spPr>
            <a:xfrm>
              <a:off x="5829120" y="2890800"/>
              <a:ext cx="339480" cy="35712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椭圆 46"/>
            <p:cNvSpPr/>
            <p:nvPr/>
          </p:nvSpPr>
          <p:spPr>
            <a:xfrm>
              <a:off x="6237360" y="2890800"/>
              <a:ext cx="339480" cy="357120"/>
            </a:xfrm>
            <a:prstGeom prst="ellipse">
              <a:avLst/>
            </a:prstGeom>
            <a:solidFill>
              <a:srgbClr val="c6d9f1"/>
            </a:solidFill>
            <a:ln w="255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1" name="组合 58"/>
          <p:cNvGrpSpPr/>
          <p:nvPr/>
        </p:nvGrpSpPr>
        <p:grpSpPr>
          <a:xfrm>
            <a:off x="2563920" y="3719520"/>
            <a:ext cx="4014720" cy="357120"/>
            <a:chOff x="2563920" y="3719520"/>
            <a:chExt cx="4014720" cy="357120"/>
          </a:xfrm>
        </p:grpSpPr>
        <p:sp>
          <p:nvSpPr>
            <p:cNvPr id="1612" name="矩形 48"/>
            <p:cNvSpPr/>
            <p:nvPr/>
          </p:nvSpPr>
          <p:spPr>
            <a:xfrm>
              <a:off x="2971800" y="3719520"/>
              <a:ext cx="339480" cy="35712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椭圆 49"/>
            <p:cNvSpPr/>
            <p:nvPr/>
          </p:nvSpPr>
          <p:spPr>
            <a:xfrm>
              <a:off x="3379680" y="3719520"/>
              <a:ext cx="341280" cy="357120"/>
            </a:xfrm>
            <a:prstGeom prst="ellipse">
              <a:avLst/>
            </a:prstGeom>
            <a:solidFill>
              <a:srgbClr val="c6d9f1"/>
            </a:solidFill>
            <a:ln w="255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矩形 50"/>
            <p:cNvSpPr/>
            <p:nvPr/>
          </p:nvSpPr>
          <p:spPr>
            <a:xfrm>
              <a:off x="3787920" y="3719520"/>
              <a:ext cx="341280" cy="35712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椭圆 51"/>
            <p:cNvSpPr/>
            <p:nvPr/>
          </p:nvSpPr>
          <p:spPr>
            <a:xfrm>
              <a:off x="4197240" y="3719520"/>
              <a:ext cx="339480" cy="357120"/>
            </a:xfrm>
            <a:prstGeom prst="ellipse">
              <a:avLst/>
            </a:prstGeom>
            <a:solidFill>
              <a:srgbClr val="c6d9f1"/>
            </a:solidFill>
            <a:ln w="255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矩形 52"/>
            <p:cNvSpPr/>
            <p:nvPr/>
          </p:nvSpPr>
          <p:spPr>
            <a:xfrm>
              <a:off x="4605480" y="3719520"/>
              <a:ext cx="339480" cy="35712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椭圆 53"/>
            <p:cNvSpPr/>
            <p:nvPr/>
          </p:nvSpPr>
          <p:spPr>
            <a:xfrm>
              <a:off x="5013360" y="3719520"/>
              <a:ext cx="339480" cy="357120"/>
            </a:xfrm>
            <a:prstGeom prst="ellipse">
              <a:avLst/>
            </a:prstGeom>
            <a:solidFill>
              <a:srgbClr val="c6d9f1"/>
            </a:solidFill>
            <a:ln w="255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矩形 54"/>
            <p:cNvSpPr/>
            <p:nvPr/>
          </p:nvSpPr>
          <p:spPr>
            <a:xfrm>
              <a:off x="5421600" y="3719520"/>
              <a:ext cx="339480" cy="35712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椭圆 55"/>
            <p:cNvSpPr/>
            <p:nvPr/>
          </p:nvSpPr>
          <p:spPr>
            <a:xfrm>
              <a:off x="5829480" y="3719520"/>
              <a:ext cx="339480" cy="357120"/>
            </a:xfrm>
            <a:prstGeom prst="ellipse">
              <a:avLst/>
            </a:prstGeom>
            <a:solidFill>
              <a:srgbClr val="c6d9f1"/>
            </a:solidFill>
            <a:ln w="255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矩形 56"/>
            <p:cNvSpPr/>
            <p:nvPr/>
          </p:nvSpPr>
          <p:spPr>
            <a:xfrm>
              <a:off x="6237360" y="3719520"/>
              <a:ext cx="341280" cy="35712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椭圆 57"/>
            <p:cNvSpPr/>
            <p:nvPr/>
          </p:nvSpPr>
          <p:spPr>
            <a:xfrm>
              <a:off x="2563920" y="3719520"/>
              <a:ext cx="339480" cy="357120"/>
            </a:xfrm>
            <a:prstGeom prst="ellipse">
              <a:avLst/>
            </a:prstGeom>
            <a:solidFill>
              <a:srgbClr val="c6d9f1"/>
            </a:solidFill>
            <a:ln w="255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2" name="TextBox 8"/>
          <p:cNvSpPr/>
          <p:nvPr/>
        </p:nvSpPr>
        <p:spPr>
          <a:xfrm>
            <a:off x="1000080" y="214200"/>
            <a:ext cx="17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新知讲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云形 58"/>
          <p:cNvSpPr/>
          <p:nvPr/>
        </p:nvSpPr>
        <p:spPr>
          <a:xfrm>
            <a:off x="8313840" y="6762600"/>
            <a:ext cx="287280" cy="7632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859" y="13965"/>
                  <a:pt x="3838" y="13551"/>
                  <a:pt x="3838" y="13131"/>
                </a:cubicBezTo>
                <a:cubicBezTo>
                  <a:pt x="3838" y="8056"/>
                  <a:pt x="6861" y="3941"/>
                  <a:pt x="10591" y="3941"/>
                </a:cubicBezTo>
                <a:cubicBezTo>
                  <a:pt x="11837" y="3941"/>
                  <a:pt x="13004" y="4400"/>
                  <a:pt x="14006" y="5201"/>
                </a:cubicBezTo>
                <a:cubicBezTo>
                  <a:pt x="14902" y="2905"/>
                  <a:pt x="16675" y="1343"/>
                  <a:pt x="18716" y="1343"/>
                </a:cubicBezTo>
                <a:cubicBezTo>
                  <a:pt x="20174" y="1343"/>
                  <a:pt x="21494" y="2140"/>
                  <a:pt x="22457" y="3431"/>
                </a:cubicBezTo>
                <a:cubicBezTo>
                  <a:pt x="23173" y="1479"/>
                  <a:pt x="24653" y="140"/>
                  <a:pt x="26363" y="140"/>
                </a:cubicBezTo>
                <a:cubicBezTo>
                  <a:pt x="27778" y="140"/>
                  <a:pt x="29037" y="1058"/>
                  <a:pt x="29834" y="2480"/>
                </a:cubicBezTo>
                <a:cubicBezTo>
                  <a:pt x="30725" y="1054"/>
                  <a:pt x="32054" y="149"/>
                  <a:pt x="33539" y="149"/>
                </a:cubicBezTo>
                <a:cubicBezTo>
                  <a:pt x="35927" y="149"/>
                  <a:pt x="37913" y="2490"/>
                  <a:pt x="38319" y="5572"/>
                </a:cubicBezTo>
                <a:cubicBezTo>
                  <a:pt x="40586" y="6412"/>
                  <a:pt x="42251" y="9236"/>
                  <a:pt x="42251" y="12590"/>
                </a:cubicBezTo>
                <a:cubicBezTo>
                  <a:pt x="42251" y="13609"/>
                  <a:pt x="42097" y="14578"/>
                  <a:pt x="41820" y="15458"/>
                </a:cubicBezTo>
                <a:cubicBezTo>
                  <a:pt x="42699" y="17013"/>
                  <a:pt x="43222" y="18960"/>
                  <a:pt x="43222" y="21074"/>
                </a:cubicBezTo>
                <a:cubicBezTo>
                  <a:pt x="43222" y="25723"/>
                  <a:pt x="40694" y="29568"/>
                  <a:pt x="37409" y="30202"/>
                </a:cubicBezTo>
                <a:cubicBezTo>
                  <a:pt x="37384" y="34518"/>
                  <a:pt x="34803" y="38006"/>
                  <a:pt x="31624" y="38006"/>
                </a:cubicBezTo>
                <a:cubicBezTo>
                  <a:pt x="30499" y="38006"/>
                  <a:pt x="29448" y="37569"/>
                  <a:pt x="28560" y="36813"/>
                </a:cubicBezTo>
                <a:cubicBezTo>
                  <a:pt x="27721" y="40603"/>
                  <a:pt x="25145" y="43358"/>
                  <a:pt x="22098" y="43358"/>
                </a:cubicBezTo>
                <a:cubicBezTo>
                  <a:pt x="19758" y="43358"/>
                  <a:pt x="17696" y="41733"/>
                  <a:pt x="16484" y="39265"/>
                </a:cubicBezTo>
                <a:cubicBezTo>
                  <a:pt x="15323" y="40222"/>
                  <a:pt x="13962" y="40772"/>
                  <a:pt x="12507" y="40772"/>
                </a:cubicBezTo>
                <a:cubicBezTo>
                  <a:pt x="9641" y="40772"/>
                  <a:pt x="7140" y="38639"/>
                  <a:pt x="5808" y="35473"/>
                </a:cubicBezTo>
                <a:cubicBezTo>
                  <a:pt x="5642" y="35499"/>
                  <a:pt x="5472" y="35513"/>
                  <a:pt x="5300" y="35513"/>
                </a:cubicBezTo>
                <a:cubicBezTo>
                  <a:pt x="2892" y="35513"/>
                  <a:pt x="940" y="32863"/>
                  <a:pt x="940" y="29595"/>
                </a:cubicBezTo>
                <a:cubicBezTo>
                  <a:pt x="940" y="28031"/>
                  <a:pt x="1387" y="26609"/>
                  <a:pt x="2117" y="25551"/>
                </a:cubicBezTo>
                <a:cubicBezTo>
                  <a:pt x="831" y="24519"/>
                  <a:pt x="-32" y="22608"/>
                  <a:pt x="-32" y="20421"/>
                </a:cubicBezTo>
                <a:cubicBezTo>
                  <a:pt x="-32" y="17344"/>
                  <a:pt x="1677" y="14813"/>
                  <a:pt x="3866" y="14507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4582" y="26189"/>
                  <a:pt x="4470" y="26195"/>
                  <a:pt x="4356" y="26195"/>
                </a:cubicBezTo>
                <a:cubicBezTo>
                  <a:pt x="3555" y="26195"/>
                  <a:pt x="2804" y="25898"/>
                  <a:pt x="2160" y="25381"/>
                </a:cubicBezTo>
                <a:moveTo>
                  <a:pt x="6928" y="34899"/>
                </a:moveTo>
                <a:cubicBezTo>
                  <a:pt x="6579" y="35090"/>
                  <a:pt x="6207" y="35220"/>
                  <a:pt x="5821" y="35281"/>
                </a:cubicBezTo>
                <a:moveTo>
                  <a:pt x="16478" y="39090"/>
                </a:moveTo>
                <a:cubicBezTo>
                  <a:pt x="16211" y="38549"/>
                  <a:pt x="15986" y="37967"/>
                  <a:pt x="15809" y="37354"/>
                </a:cubicBezTo>
                <a:moveTo>
                  <a:pt x="28827" y="34751"/>
                </a:moveTo>
                <a:cubicBezTo>
                  <a:pt x="28787" y="35413"/>
                  <a:pt x="28697" y="36052"/>
                  <a:pt x="28562" y="36663"/>
                </a:cubicBezTo>
                <a:moveTo>
                  <a:pt x="34129" y="22954"/>
                </a:moveTo>
                <a:cubicBezTo>
                  <a:pt x="36055" y="24231"/>
                  <a:pt x="37381" y="26919"/>
                  <a:pt x="37381" y="30027"/>
                </a:cubicBezTo>
                <a:cubicBezTo>
                  <a:pt x="37381" y="30048"/>
                  <a:pt x="37381" y="30069"/>
                  <a:pt x="37381" y="30090"/>
                </a:cubicBezTo>
                <a:moveTo>
                  <a:pt x="41798" y="15354"/>
                </a:moveTo>
                <a:cubicBezTo>
                  <a:pt x="41472" y="16395"/>
                  <a:pt x="40973" y="17308"/>
                  <a:pt x="40351" y="18030"/>
                </a:cubicBezTo>
                <a:moveTo>
                  <a:pt x="38324" y="5426"/>
                </a:moveTo>
                <a:cubicBezTo>
                  <a:pt x="38375" y="5804"/>
                  <a:pt x="38401" y="6196"/>
                  <a:pt x="38401" y="6595"/>
                </a:cubicBezTo>
                <a:cubicBezTo>
                  <a:pt x="38401" y="6627"/>
                  <a:pt x="38401" y="6658"/>
                  <a:pt x="38401" y="6690"/>
                </a:cubicBezTo>
                <a:moveTo>
                  <a:pt x="29078" y="3952"/>
                </a:moveTo>
                <a:cubicBezTo>
                  <a:pt x="29268" y="3364"/>
                  <a:pt x="29519" y="2823"/>
                  <a:pt x="29820" y="2341"/>
                </a:cubicBezTo>
                <a:moveTo>
                  <a:pt x="22141" y="4720"/>
                </a:moveTo>
                <a:cubicBezTo>
                  <a:pt x="22218" y="4229"/>
                  <a:pt x="22340" y="3764"/>
                  <a:pt x="22499" y="3329"/>
                </a:cubicBezTo>
                <a:moveTo>
                  <a:pt x="14000" y="5192"/>
                </a:moveTo>
                <a:cubicBezTo>
                  <a:pt x="14474" y="5569"/>
                  <a:pt x="14910" y="6023"/>
                  <a:pt x="15300" y="6540"/>
                </a:cubicBezTo>
                <a:moveTo>
                  <a:pt x="4127" y="15789"/>
                </a:moveTo>
                <a:cubicBezTo>
                  <a:pt x="4024" y="15332"/>
                  <a:pt x="3948" y="14858"/>
                  <a:pt x="3900" y="14375"/>
                </a:cubicBezTo>
              </a:path>
            </a:pathLst>
          </a:custGeom>
          <a:solidFill>
            <a:srgbClr val="ffffff"/>
          </a:solidFill>
          <a:ln w="25560">
            <a:solidFill>
              <a:srgbClr val="c6d9f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542880" y="545760"/>
            <a:ext cx="82296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黑体"/>
              </a:rPr>
              <a:t>一、两端都是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Calibri"/>
                <a:ea typeface="黑体"/>
              </a:rPr>
              <a:t>正方形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黑体"/>
              </a:rPr>
              <a:t>时：正方形的个数就比圆形</a:t>
            </a:r>
            <a:r>
              <a:rPr b="1" lang="zh-CN" sz="2400" spc="-1" strike="noStrike">
                <a:solidFill>
                  <a:srgbClr val="ff0066"/>
                </a:solidFill>
                <a:latin typeface="Calibri"/>
                <a:ea typeface="黑体"/>
              </a:rPr>
              <a:t>多一个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25" name="组合 58"/>
          <p:cNvGrpSpPr/>
          <p:nvPr/>
        </p:nvGrpSpPr>
        <p:grpSpPr>
          <a:xfrm>
            <a:off x="2211480" y="2508120"/>
            <a:ext cx="4422600" cy="357480"/>
            <a:chOff x="2211480" y="2508120"/>
            <a:chExt cx="4422600" cy="357480"/>
          </a:xfrm>
        </p:grpSpPr>
        <p:sp>
          <p:nvSpPr>
            <p:cNvPr id="1626" name="矩形 4"/>
            <p:cNvSpPr/>
            <p:nvPr/>
          </p:nvSpPr>
          <p:spPr>
            <a:xfrm>
              <a:off x="2619360" y="2508120"/>
              <a:ext cx="339480" cy="35748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椭圆 5"/>
            <p:cNvSpPr/>
            <p:nvPr/>
          </p:nvSpPr>
          <p:spPr>
            <a:xfrm>
              <a:off x="3027240" y="2508120"/>
              <a:ext cx="341280" cy="357480"/>
            </a:xfrm>
            <a:prstGeom prst="ellipse">
              <a:avLst/>
            </a:prstGeom>
            <a:solidFill>
              <a:srgbClr val="c6d9f1"/>
            </a:solidFill>
            <a:ln w="255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矩形 6"/>
            <p:cNvSpPr/>
            <p:nvPr/>
          </p:nvSpPr>
          <p:spPr>
            <a:xfrm>
              <a:off x="3435480" y="2508120"/>
              <a:ext cx="341280" cy="35748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椭圆 12"/>
            <p:cNvSpPr/>
            <p:nvPr/>
          </p:nvSpPr>
          <p:spPr>
            <a:xfrm>
              <a:off x="3844800" y="2508120"/>
              <a:ext cx="339480" cy="357480"/>
            </a:xfrm>
            <a:prstGeom prst="ellipse">
              <a:avLst/>
            </a:prstGeom>
            <a:solidFill>
              <a:srgbClr val="c6d9f1"/>
            </a:solidFill>
            <a:ln w="255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矩形 13"/>
            <p:cNvSpPr/>
            <p:nvPr/>
          </p:nvSpPr>
          <p:spPr>
            <a:xfrm>
              <a:off x="4253040" y="2508120"/>
              <a:ext cx="339480" cy="35748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椭圆 17"/>
            <p:cNvSpPr/>
            <p:nvPr/>
          </p:nvSpPr>
          <p:spPr>
            <a:xfrm>
              <a:off x="4660920" y="2508120"/>
              <a:ext cx="339480" cy="357480"/>
            </a:xfrm>
            <a:prstGeom prst="ellipse">
              <a:avLst/>
            </a:prstGeom>
            <a:solidFill>
              <a:srgbClr val="c6d9f1"/>
            </a:solidFill>
            <a:ln w="255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矩形 24"/>
            <p:cNvSpPr/>
            <p:nvPr/>
          </p:nvSpPr>
          <p:spPr>
            <a:xfrm>
              <a:off x="5068800" y="2508120"/>
              <a:ext cx="339480" cy="35748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椭圆 26"/>
            <p:cNvSpPr/>
            <p:nvPr/>
          </p:nvSpPr>
          <p:spPr>
            <a:xfrm>
              <a:off x="5477040" y="2508120"/>
              <a:ext cx="339480" cy="357480"/>
            </a:xfrm>
            <a:prstGeom prst="ellipse">
              <a:avLst/>
            </a:prstGeom>
            <a:solidFill>
              <a:srgbClr val="c6d9f1"/>
            </a:solidFill>
            <a:ln w="255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矩形 35"/>
            <p:cNvSpPr/>
            <p:nvPr/>
          </p:nvSpPr>
          <p:spPr>
            <a:xfrm>
              <a:off x="5884920" y="2508120"/>
              <a:ext cx="341280" cy="35748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椭圆 36"/>
            <p:cNvSpPr/>
            <p:nvPr/>
          </p:nvSpPr>
          <p:spPr>
            <a:xfrm>
              <a:off x="6292800" y="2508120"/>
              <a:ext cx="341280" cy="357480"/>
            </a:xfrm>
            <a:prstGeom prst="ellipse">
              <a:avLst/>
            </a:prstGeom>
            <a:solidFill>
              <a:srgbClr val="c6d9f1"/>
            </a:solidFill>
            <a:ln w="255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椭圆 68"/>
            <p:cNvSpPr/>
            <p:nvPr/>
          </p:nvSpPr>
          <p:spPr>
            <a:xfrm>
              <a:off x="2211480" y="2508120"/>
              <a:ext cx="339480" cy="357480"/>
            </a:xfrm>
            <a:prstGeom prst="ellipse">
              <a:avLst/>
            </a:prstGeom>
            <a:solidFill>
              <a:srgbClr val="c6d9f1"/>
            </a:solidFill>
            <a:ln w="255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7" name="组合 35"/>
          <p:cNvGrpSpPr/>
          <p:nvPr/>
        </p:nvGrpSpPr>
        <p:grpSpPr>
          <a:xfrm>
            <a:off x="2550960" y="958680"/>
            <a:ext cx="3786480" cy="357480"/>
            <a:chOff x="2550960" y="958680"/>
            <a:chExt cx="3786480" cy="357480"/>
          </a:xfrm>
        </p:grpSpPr>
        <p:sp>
          <p:nvSpPr>
            <p:cNvPr id="1638" name="矩形 11"/>
            <p:cNvSpPr/>
            <p:nvPr/>
          </p:nvSpPr>
          <p:spPr>
            <a:xfrm>
              <a:off x="2550960" y="958680"/>
              <a:ext cx="357120" cy="35748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椭圆 14"/>
            <p:cNvSpPr/>
            <p:nvPr/>
          </p:nvSpPr>
          <p:spPr>
            <a:xfrm>
              <a:off x="2979360" y="958680"/>
              <a:ext cx="357120" cy="357480"/>
            </a:xfrm>
            <a:prstGeom prst="ellipse">
              <a:avLst/>
            </a:prstGeom>
            <a:solidFill>
              <a:srgbClr val="c6d9f1"/>
            </a:solidFill>
            <a:ln w="255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矩形 15"/>
            <p:cNvSpPr/>
            <p:nvPr/>
          </p:nvSpPr>
          <p:spPr>
            <a:xfrm>
              <a:off x="3408120" y="958680"/>
              <a:ext cx="357120" cy="35748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椭圆 16"/>
            <p:cNvSpPr/>
            <p:nvPr/>
          </p:nvSpPr>
          <p:spPr>
            <a:xfrm>
              <a:off x="3836880" y="958680"/>
              <a:ext cx="357120" cy="357480"/>
            </a:xfrm>
            <a:prstGeom prst="ellipse">
              <a:avLst/>
            </a:prstGeom>
            <a:solidFill>
              <a:srgbClr val="c6d9f1"/>
            </a:solidFill>
            <a:ln w="255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矩形 18"/>
            <p:cNvSpPr/>
            <p:nvPr/>
          </p:nvSpPr>
          <p:spPr>
            <a:xfrm>
              <a:off x="4265640" y="958680"/>
              <a:ext cx="357120" cy="35748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椭圆 19"/>
            <p:cNvSpPr/>
            <p:nvPr/>
          </p:nvSpPr>
          <p:spPr>
            <a:xfrm>
              <a:off x="4694400" y="958680"/>
              <a:ext cx="357120" cy="357480"/>
            </a:xfrm>
            <a:prstGeom prst="ellipse">
              <a:avLst/>
            </a:prstGeom>
            <a:solidFill>
              <a:srgbClr val="c6d9f1"/>
            </a:solidFill>
            <a:ln w="255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矩形 20"/>
            <p:cNvSpPr/>
            <p:nvPr/>
          </p:nvSpPr>
          <p:spPr>
            <a:xfrm>
              <a:off x="5122800" y="958680"/>
              <a:ext cx="357120" cy="35748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椭圆 21"/>
            <p:cNvSpPr/>
            <p:nvPr/>
          </p:nvSpPr>
          <p:spPr>
            <a:xfrm>
              <a:off x="5551560" y="958680"/>
              <a:ext cx="357120" cy="357480"/>
            </a:xfrm>
            <a:prstGeom prst="ellipse">
              <a:avLst/>
            </a:prstGeom>
            <a:solidFill>
              <a:srgbClr val="c6d9f1"/>
            </a:solidFill>
            <a:ln w="255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矩形 22"/>
            <p:cNvSpPr/>
            <p:nvPr/>
          </p:nvSpPr>
          <p:spPr>
            <a:xfrm>
              <a:off x="5980320" y="958680"/>
              <a:ext cx="357120" cy="35748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7" name="文本框 9"/>
          <p:cNvSpPr/>
          <p:nvPr/>
        </p:nvSpPr>
        <p:spPr>
          <a:xfrm>
            <a:off x="2829600" y="1681200"/>
            <a:ext cx="31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二、两端都是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Arial"/>
                <a:ea typeface="黑体"/>
              </a:rPr>
              <a:t>圆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时：圆形的个数就比正方形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多一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8" name="图片 16" descr="番茄.png"/>
          <p:cNvPicPr/>
          <p:nvPr/>
        </p:nvPicPr>
        <p:blipFill>
          <a:blip r:embed="rId1"/>
          <a:stretch/>
        </p:blipFill>
        <p:spPr>
          <a:xfrm>
            <a:off x="6294600" y="4594320"/>
            <a:ext cx="2133360" cy="1550880"/>
          </a:xfrm>
          <a:prstGeom prst="rect">
            <a:avLst/>
          </a:prstGeom>
          <a:ln w="0">
            <a:noFill/>
          </a:ln>
        </p:spPr>
      </p:pic>
      <p:sp>
        <p:nvSpPr>
          <p:cNvPr id="1649" name="TextBox 1"/>
          <p:cNvSpPr/>
          <p:nvPr/>
        </p:nvSpPr>
        <p:spPr>
          <a:xfrm>
            <a:off x="893880" y="3395520"/>
            <a:ext cx="7383240" cy="642600"/>
          </a:xfrm>
          <a:prstGeom prst="rect">
            <a:avLst/>
          </a:prstGeom>
          <a:solidFill>
            <a:srgbClr val="ffffcc"/>
          </a:solidFill>
          <a:ln w="1260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两端相同，两端物体比中间另一种物体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2000"/>
                                        <p:tgtEl>
                                          <p:spTgt spid="1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20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1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0" name="组合 58"/>
          <p:cNvGrpSpPr/>
          <p:nvPr/>
        </p:nvGrpSpPr>
        <p:grpSpPr>
          <a:xfrm>
            <a:off x="2484360" y="1612800"/>
            <a:ext cx="4013280" cy="357120"/>
            <a:chOff x="2484360" y="1612800"/>
            <a:chExt cx="4013280" cy="357120"/>
          </a:xfrm>
        </p:grpSpPr>
        <p:sp>
          <p:nvSpPr>
            <p:cNvPr id="1651" name="矩形 37"/>
            <p:cNvSpPr/>
            <p:nvPr/>
          </p:nvSpPr>
          <p:spPr>
            <a:xfrm>
              <a:off x="2484360" y="1612800"/>
              <a:ext cx="339480" cy="35712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椭圆 38"/>
            <p:cNvSpPr/>
            <p:nvPr/>
          </p:nvSpPr>
          <p:spPr>
            <a:xfrm>
              <a:off x="2892240" y="1612800"/>
              <a:ext cx="339480" cy="357120"/>
            </a:xfrm>
            <a:prstGeom prst="ellipse">
              <a:avLst/>
            </a:prstGeom>
            <a:solidFill>
              <a:srgbClr val="c6d9f1"/>
            </a:solidFill>
            <a:ln w="255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矩形 39"/>
            <p:cNvSpPr/>
            <p:nvPr/>
          </p:nvSpPr>
          <p:spPr>
            <a:xfrm>
              <a:off x="3300120" y="1612800"/>
              <a:ext cx="339480" cy="35712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椭圆 40"/>
            <p:cNvSpPr/>
            <p:nvPr/>
          </p:nvSpPr>
          <p:spPr>
            <a:xfrm>
              <a:off x="3708360" y="1612800"/>
              <a:ext cx="341280" cy="357120"/>
            </a:xfrm>
            <a:prstGeom prst="ellipse">
              <a:avLst/>
            </a:prstGeom>
            <a:solidFill>
              <a:srgbClr val="c6d9f1"/>
            </a:solidFill>
            <a:ln w="255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矩形 41"/>
            <p:cNvSpPr/>
            <p:nvPr/>
          </p:nvSpPr>
          <p:spPr>
            <a:xfrm>
              <a:off x="4116240" y="1612800"/>
              <a:ext cx="341280" cy="35712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椭圆 42"/>
            <p:cNvSpPr/>
            <p:nvPr/>
          </p:nvSpPr>
          <p:spPr>
            <a:xfrm>
              <a:off x="4525920" y="1612800"/>
              <a:ext cx="339480" cy="357120"/>
            </a:xfrm>
            <a:prstGeom prst="ellipse">
              <a:avLst/>
            </a:prstGeom>
            <a:solidFill>
              <a:srgbClr val="c6d9f1"/>
            </a:solidFill>
            <a:ln w="255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矩形 43"/>
            <p:cNvSpPr/>
            <p:nvPr/>
          </p:nvSpPr>
          <p:spPr>
            <a:xfrm>
              <a:off x="4933800" y="1612800"/>
              <a:ext cx="339480" cy="35712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椭圆 44"/>
            <p:cNvSpPr/>
            <p:nvPr/>
          </p:nvSpPr>
          <p:spPr>
            <a:xfrm>
              <a:off x="5342040" y="1612800"/>
              <a:ext cx="339480" cy="357120"/>
            </a:xfrm>
            <a:prstGeom prst="ellipse">
              <a:avLst/>
            </a:prstGeom>
            <a:solidFill>
              <a:srgbClr val="c6d9f1"/>
            </a:solidFill>
            <a:ln w="255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矩形 45"/>
            <p:cNvSpPr/>
            <p:nvPr/>
          </p:nvSpPr>
          <p:spPr>
            <a:xfrm>
              <a:off x="5749920" y="1612800"/>
              <a:ext cx="339480" cy="35712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椭圆 46"/>
            <p:cNvSpPr/>
            <p:nvPr/>
          </p:nvSpPr>
          <p:spPr>
            <a:xfrm>
              <a:off x="6158160" y="1612800"/>
              <a:ext cx="339480" cy="357120"/>
            </a:xfrm>
            <a:prstGeom prst="ellipse">
              <a:avLst/>
            </a:prstGeom>
            <a:solidFill>
              <a:srgbClr val="c6d9f1"/>
            </a:solidFill>
            <a:ln w="255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1" name="文本框 10"/>
          <p:cNvSpPr/>
          <p:nvPr/>
        </p:nvSpPr>
        <p:spPr>
          <a:xfrm>
            <a:off x="2683800" y="826920"/>
            <a:ext cx="361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、两端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不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时：正方形的个数和圆形的个数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相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2" name="组合 58"/>
          <p:cNvGrpSpPr/>
          <p:nvPr/>
        </p:nvGrpSpPr>
        <p:grpSpPr>
          <a:xfrm>
            <a:off x="2411280" y="2700360"/>
            <a:ext cx="4015080" cy="357120"/>
            <a:chOff x="2411280" y="2700360"/>
            <a:chExt cx="4015080" cy="357120"/>
          </a:xfrm>
        </p:grpSpPr>
        <p:sp>
          <p:nvSpPr>
            <p:cNvPr id="1663" name="矩形 25"/>
            <p:cNvSpPr/>
            <p:nvPr/>
          </p:nvSpPr>
          <p:spPr>
            <a:xfrm>
              <a:off x="2819160" y="2700360"/>
              <a:ext cx="339480" cy="35712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椭圆 27"/>
            <p:cNvSpPr/>
            <p:nvPr/>
          </p:nvSpPr>
          <p:spPr>
            <a:xfrm>
              <a:off x="3227040" y="2700360"/>
              <a:ext cx="341280" cy="357120"/>
            </a:xfrm>
            <a:prstGeom prst="ellipse">
              <a:avLst/>
            </a:prstGeom>
            <a:solidFill>
              <a:srgbClr val="c6d9f1"/>
            </a:solidFill>
            <a:ln w="255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矩形 28"/>
            <p:cNvSpPr/>
            <p:nvPr/>
          </p:nvSpPr>
          <p:spPr>
            <a:xfrm>
              <a:off x="3635280" y="2700360"/>
              <a:ext cx="341280" cy="35712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椭圆 29"/>
            <p:cNvSpPr/>
            <p:nvPr/>
          </p:nvSpPr>
          <p:spPr>
            <a:xfrm>
              <a:off x="4044960" y="2700360"/>
              <a:ext cx="339480" cy="357120"/>
            </a:xfrm>
            <a:prstGeom prst="ellipse">
              <a:avLst/>
            </a:prstGeom>
            <a:solidFill>
              <a:srgbClr val="c6d9f1"/>
            </a:solidFill>
            <a:ln w="255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矩形 30"/>
            <p:cNvSpPr/>
            <p:nvPr/>
          </p:nvSpPr>
          <p:spPr>
            <a:xfrm>
              <a:off x="4452840" y="2700360"/>
              <a:ext cx="339480" cy="35712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椭圆 31"/>
            <p:cNvSpPr/>
            <p:nvPr/>
          </p:nvSpPr>
          <p:spPr>
            <a:xfrm>
              <a:off x="4861080" y="2700360"/>
              <a:ext cx="339480" cy="357120"/>
            </a:xfrm>
            <a:prstGeom prst="ellipse">
              <a:avLst/>
            </a:prstGeom>
            <a:solidFill>
              <a:srgbClr val="c6d9f1"/>
            </a:solidFill>
            <a:ln w="255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矩形 32"/>
            <p:cNvSpPr/>
            <p:nvPr/>
          </p:nvSpPr>
          <p:spPr>
            <a:xfrm>
              <a:off x="5268960" y="2700360"/>
              <a:ext cx="339480" cy="35712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椭圆 33"/>
            <p:cNvSpPr/>
            <p:nvPr/>
          </p:nvSpPr>
          <p:spPr>
            <a:xfrm>
              <a:off x="5677200" y="2700360"/>
              <a:ext cx="339480" cy="357120"/>
            </a:xfrm>
            <a:prstGeom prst="ellipse">
              <a:avLst/>
            </a:prstGeom>
            <a:solidFill>
              <a:srgbClr val="c6d9f1"/>
            </a:solidFill>
            <a:ln w="255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矩形 34"/>
            <p:cNvSpPr/>
            <p:nvPr/>
          </p:nvSpPr>
          <p:spPr>
            <a:xfrm>
              <a:off x="6085080" y="2700360"/>
              <a:ext cx="341280" cy="35712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椭圆 48"/>
            <p:cNvSpPr/>
            <p:nvPr/>
          </p:nvSpPr>
          <p:spPr>
            <a:xfrm>
              <a:off x="2411280" y="2700360"/>
              <a:ext cx="339480" cy="357120"/>
            </a:xfrm>
            <a:prstGeom prst="ellipse">
              <a:avLst/>
            </a:prstGeom>
            <a:solidFill>
              <a:srgbClr val="c6d9f1"/>
            </a:solidFill>
            <a:ln w="255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3" name="直接连接符 52"/>
          <p:cNvSpPr/>
          <p:nvPr/>
        </p:nvSpPr>
        <p:spPr>
          <a:xfrm flipH="1">
            <a:off x="3232080" y="1452600"/>
            <a:ext cx="7920" cy="67608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直接连接符 53"/>
          <p:cNvSpPr/>
          <p:nvPr/>
        </p:nvSpPr>
        <p:spPr>
          <a:xfrm flipH="1">
            <a:off x="4049640" y="1452600"/>
            <a:ext cx="6480" cy="67608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直接连接符 54"/>
          <p:cNvSpPr/>
          <p:nvPr/>
        </p:nvSpPr>
        <p:spPr>
          <a:xfrm flipH="1">
            <a:off x="4865400" y="1452600"/>
            <a:ext cx="6120" cy="67608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直接连接符 55"/>
          <p:cNvSpPr/>
          <p:nvPr/>
        </p:nvSpPr>
        <p:spPr>
          <a:xfrm flipH="1">
            <a:off x="5681520" y="1452600"/>
            <a:ext cx="6480" cy="67608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直接连接符 56"/>
          <p:cNvSpPr/>
          <p:nvPr/>
        </p:nvSpPr>
        <p:spPr>
          <a:xfrm>
            <a:off x="3201840" y="2546280"/>
            <a:ext cx="24120" cy="66672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直接连接符 57"/>
          <p:cNvSpPr/>
          <p:nvPr/>
        </p:nvSpPr>
        <p:spPr>
          <a:xfrm flipH="1">
            <a:off x="4037040" y="2540160"/>
            <a:ext cx="7920" cy="67788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直接连接符 58"/>
          <p:cNvSpPr/>
          <p:nvPr/>
        </p:nvSpPr>
        <p:spPr>
          <a:xfrm flipH="1">
            <a:off x="4853160" y="2535120"/>
            <a:ext cx="7920" cy="67788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直接连接符 59"/>
          <p:cNvSpPr/>
          <p:nvPr/>
        </p:nvSpPr>
        <p:spPr>
          <a:xfrm flipH="1">
            <a:off x="5668920" y="2535120"/>
            <a:ext cx="7920" cy="67788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TextBox 1"/>
          <p:cNvSpPr/>
          <p:nvPr/>
        </p:nvSpPr>
        <p:spPr>
          <a:xfrm>
            <a:off x="1138320" y="3708360"/>
            <a:ext cx="6299280" cy="642600"/>
          </a:xfrm>
          <a:prstGeom prst="rect">
            <a:avLst/>
          </a:prstGeom>
          <a:solidFill>
            <a:srgbClr val="ffffcc"/>
          </a:solidFill>
          <a:ln w="1260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两端不同，两种物体个数相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2" name="图片 16" descr="番茄.png"/>
          <p:cNvPicPr/>
          <p:nvPr/>
        </p:nvPicPr>
        <p:blipFill>
          <a:blip r:embed="rId1"/>
          <a:stretch/>
        </p:blipFill>
        <p:spPr>
          <a:xfrm>
            <a:off x="6719760" y="4354560"/>
            <a:ext cx="196848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2000"/>
                                        <p:tgtEl>
                                          <p:spTgt spid="1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500"/>
                            </p:stCondLst>
                            <p:childTnLst>
                              <p:par>
                                <p:cTn id="31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3000"/>
                            </p:stCondLst>
                            <p:childTnLst>
                              <p:par>
                                <p:cTn id="31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3500"/>
                            </p:stCondLst>
                            <p:childTnLst>
                              <p:par>
                                <p:cTn id="32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4500"/>
                            </p:stCondLst>
                            <p:childTnLst>
                              <p:par>
                                <p:cTn id="33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0"/>
                            </p:stCondLst>
                            <p:childTnLst>
                              <p:par>
                                <p:cTn id="33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500"/>
                            </p:stCondLst>
                            <p:childTnLst>
                              <p:par>
                                <p:cTn id="34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7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TextBox 1"/>
          <p:cNvSpPr/>
          <p:nvPr/>
        </p:nvSpPr>
        <p:spPr>
          <a:xfrm>
            <a:off x="976320" y="4808520"/>
            <a:ext cx="6299280" cy="642600"/>
          </a:xfrm>
          <a:prstGeom prst="rect">
            <a:avLst/>
          </a:prstGeom>
          <a:solidFill>
            <a:srgbClr val="ffffcc"/>
          </a:solidFill>
          <a:ln w="1260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围成一圈，两种物体个数相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4" name="图片 16" descr="番茄.png"/>
          <p:cNvPicPr/>
          <p:nvPr/>
        </p:nvPicPr>
        <p:blipFill>
          <a:blip r:embed="rId1"/>
          <a:stretch/>
        </p:blipFill>
        <p:spPr>
          <a:xfrm>
            <a:off x="6595920" y="5018040"/>
            <a:ext cx="2463840" cy="1808280"/>
          </a:xfrm>
          <a:prstGeom prst="rect">
            <a:avLst/>
          </a:prstGeom>
          <a:ln w="0">
            <a:noFill/>
          </a:ln>
        </p:spPr>
      </p:pic>
      <p:sp>
        <p:nvSpPr>
          <p:cNvPr id="1685" name="文本框 10"/>
          <p:cNvSpPr/>
          <p:nvPr/>
        </p:nvSpPr>
        <p:spPr>
          <a:xfrm>
            <a:off x="2257200" y="317520"/>
            <a:ext cx="416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四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当排成圆形时：正方形的个数和圆形的个数相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6" name="组合 58"/>
          <p:cNvGrpSpPr/>
          <p:nvPr/>
        </p:nvGrpSpPr>
        <p:grpSpPr>
          <a:xfrm>
            <a:off x="2394000" y="777960"/>
            <a:ext cx="3889440" cy="3914640"/>
            <a:chOff x="2394000" y="777960"/>
            <a:chExt cx="3889440" cy="3914640"/>
          </a:xfrm>
        </p:grpSpPr>
        <p:sp>
          <p:nvSpPr>
            <p:cNvPr id="1687" name="矩形 37"/>
            <p:cNvSpPr/>
            <p:nvPr/>
          </p:nvSpPr>
          <p:spPr>
            <a:xfrm>
              <a:off x="4167720" y="777960"/>
              <a:ext cx="339480" cy="35712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椭圆 38"/>
            <p:cNvSpPr/>
            <p:nvPr/>
          </p:nvSpPr>
          <p:spPr>
            <a:xfrm>
              <a:off x="5311800" y="1197720"/>
              <a:ext cx="339480" cy="357120"/>
            </a:xfrm>
            <a:prstGeom prst="ellipse">
              <a:avLst/>
            </a:prstGeom>
            <a:solidFill>
              <a:srgbClr val="c6d9f1"/>
            </a:solidFill>
            <a:ln w="255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矩形 39"/>
            <p:cNvSpPr/>
            <p:nvPr/>
          </p:nvSpPr>
          <p:spPr>
            <a:xfrm>
              <a:off x="5943960" y="2247840"/>
              <a:ext cx="339480" cy="35712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椭圆 40"/>
            <p:cNvSpPr/>
            <p:nvPr/>
          </p:nvSpPr>
          <p:spPr>
            <a:xfrm>
              <a:off x="5782320" y="3405600"/>
              <a:ext cx="341280" cy="357120"/>
            </a:xfrm>
            <a:prstGeom prst="ellipse">
              <a:avLst/>
            </a:prstGeom>
            <a:solidFill>
              <a:srgbClr val="c6d9f1"/>
            </a:solidFill>
            <a:ln w="255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矩形 41"/>
            <p:cNvSpPr/>
            <p:nvPr/>
          </p:nvSpPr>
          <p:spPr>
            <a:xfrm>
              <a:off x="5065560" y="4096800"/>
              <a:ext cx="341280" cy="35712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椭圆 42"/>
            <p:cNvSpPr/>
            <p:nvPr/>
          </p:nvSpPr>
          <p:spPr>
            <a:xfrm>
              <a:off x="4053240" y="4335480"/>
              <a:ext cx="339480" cy="357120"/>
            </a:xfrm>
            <a:prstGeom prst="ellipse">
              <a:avLst/>
            </a:prstGeom>
            <a:solidFill>
              <a:srgbClr val="c6d9f1"/>
            </a:solidFill>
            <a:ln w="255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矩形 43"/>
            <p:cNvSpPr/>
            <p:nvPr/>
          </p:nvSpPr>
          <p:spPr>
            <a:xfrm>
              <a:off x="2928240" y="3861000"/>
              <a:ext cx="339480" cy="35712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椭圆 44"/>
            <p:cNvSpPr/>
            <p:nvPr/>
          </p:nvSpPr>
          <p:spPr>
            <a:xfrm>
              <a:off x="2394000" y="2984040"/>
              <a:ext cx="339480" cy="357120"/>
            </a:xfrm>
            <a:prstGeom prst="ellipse">
              <a:avLst/>
            </a:prstGeom>
            <a:solidFill>
              <a:srgbClr val="c6d9f1"/>
            </a:solidFill>
            <a:ln w="255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矩形 45"/>
            <p:cNvSpPr/>
            <p:nvPr/>
          </p:nvSpPr>
          <p:spPr>
            <a:xfrm>
              <a:off x="2443680" y="1890360"/>
              <a:ext cx="339480" cy="35712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椭圆 46"/>
            <p:cNvSpPr/>
            <p:nvPr/>
          </p:nvSpPr>
          <p:spPr>
            <a:xfrm>
              <a:off x="3111840" y="1057680"/>
              <a:ext cx="323640" cy="357480"/>
            </a:xfrm>
            <a:prstGeom prst="ellipse">
              <a:avLst/>
            </a:prstGeom>
            <a:solidFill>
              <a:srgbClr val="c6d9f1"/>
            </a:solidFill>
            <a:ln w="255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20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9" dur="5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每组</a:t>
            </a:r>
            <a:r>
              <a:rPr b="1" lang="en-US" sz="4400" spc="-1" strike="noStrike">
                <a:solidFill>
                  <a:srgbClr val="0000ff"/>
                </a:solidFill>
                <a:latin typeface="黑体"/>
                <a:ea typeface="黑体"/>
              </a:rPr>
              <a:t>12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个，看谁记数快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男生：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29847563497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女生：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6161616161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TextBox 8"/>
          <p:cNvSpPr/>
          <p:nvPr/>
        </p:nvSpPr>
        <p:spPr>
          <a:xfrm>
            <a:off x="1000080" y="214200"/>
            <a:ext cx="17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课堂小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TextBox 1"/>
          <p:cNvSpPr/>
          <p:nvPr/>
        </p:nvSpPr>
        <p:spPr>
          <a:xfrm>
            <a:off x="681120" y="930240"/>
            <a:ext cx="7927920" cy="642600"/>
          </a:xfrm>
          <a:prstGeom prst="rect">
            <a:avLst/>
          </a:prstGeom>
          <a:solidFill>
            <a:srgbClr val="ffffcc"/>
          </a:solidFill>
          <a:ln w="1260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大家想一想，什么是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间隔排列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文本框 1"/>
          <p:cNvSpPr/>
          <p:nvPr/>
        </p:nvSpPr>
        <p:spPr>
          <a:xfrm>
            <a:off x="681120" y="1657440"/>
            <a:ext cx="792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两种物体一个隔着一个排列时，就是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间隔排列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现象，两种物体分别叫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两端物体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中间另一种物体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TextBox 1"/>
          <p:cNvSpPr/>
          <p:nvPr/>
        </p:nvSpPr>
        <p:spPr>
          <a:xfrm>
            <a:off x="681120" y="3567240"/>
            <a:ext cx="7927920" cy="642600"/>
          </a:xfrm>
          <a:prstGeom prst="rect">
            <a:avLst/>
          </a:prstGeom>
          <a:solidFill>
            <a:srgbClr val="ffffcc"/>
          </a:solidFill>
          <a:ln w="1260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通过今天的学习，你发现了什么规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文本框 3"/>
          <p:cNvSpPr/>
          <p:nvPr/>
        </p:nvSpPr>
        <p:spPr>
          <a:xfrm>
            <a:off x="681120" y="4211640"/>
            <a:ext cx="792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两端相同，两端物体比中间另一种物体多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中间另一种物体比两端物体少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两端不同，两种物体个数相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云形 4"/>
          <p:cNvSpPr/>
          <p:nvPr/>
        </p:nvSpPr>
        <p:spPr>
          <a:xfrm>
            <a:off x="8339040" y="6764400"/>
            <a:ext cx="216000" cy="7452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859" y="13965"/>
                  <a:pt x="3838" y="13551"/>
                  <a:pt x="3838" y="13131"/>
                </a:cubicBezTo>
                <a:cubicBezTo>
                  <a:pt x="3838" y="8056"/>
                  <a:pt x="6861" y="3941"/>
                  <a:pt x="10591" y="3941"/>
                </a:cubicBezTo>
                <a:cubicBezTo>
                  <a:pt x="11837" y="3941"/>
                  <a:pt x="13004" y="4400"/>
                  <a:pt x="14006" y="5201"/>
                </a:cubicBezTo>
                <a:cubicBezTo>
                  <a:pt x="14902" y="2905"/>
                  <a:pt x="16675" y="1343"/>
                  <a:pt x="18716" y="1343"/>
                </a:cubicBezTo>
                <a:cubicBezTo>
                  <a:pt x="20174" y="1343"/>
                  <a:pt x="21494" y="2140"/>
                  <a:pt x="22457" y="3431"/>
                </a:cubicBezTo>
                <a:cubicBezTo>
                  <a:pt x="23173" y="1479"/>
                  <a:pt x="24653" y="140"/>
                  <a:pt x="26363" y="140"/>
                </a:cubicBezTo>
                <a:cubicBezTo>
                  <a:pt x="27778" y="140"/>
                  <a:pt x="29037" y="1058"/>
                  <a:pt x="29834" y="2480"/>
                </a:cubicBezTo>
                <a:cubicBezTo>
                  <a:pt x="30725" y="1054"/>
                  <a:pt x="32054" y="149"/>
                  <a:pt x="33539" y="149"/>
                </a:cubicBezTo>
                <a:cubicBezTo>
                  <a:pt x="35927" y="149"/>
                  <a:pt x="37913" y="2490"/>
                  <a:pt x="38319" y="5572"/>
                </a:cubicBezTo>
                <a:cubicBezTo>
                  <a:pt x="40586" y="6412"/>
                  <a:pt x="42251" y="9236"/>
                  <a:pt x="42251" y="12590"/>
                </a:cubicBezTo>
                <a:cubicBezTo>
                  <a:pt x="42251" y="13609"/>
                  <a:pt x="42097" y="14578"/>
                  <a:pt x="41820" y="15458"/>
                </a:cubicBezTo>
                <a:cubicBezTo>
                  <a:pt x="42699" y="17013"/>
                  <a:pt x="43222" y="18960"/>
                  <a:pt x="43222" y="21074"/>
                </a:cubicBezTo>
                <a:cubicBezTo>
                  <a:pt x="43222" y="25723"/>
                  <a:pt x="40694" y="29568"/>
                  <a:pt x="37409" y="30202"/>
                </a:cubicBezTo>
                <a:cubicBezTo>
                  <a:pt x="37384" y="34518"/>
                  <a:pt x="34803" y="38006"/>
                  <a:pt x="31624" y="38006"/>
                </a:cubicBezTo>
                <a:cubicBezTo>
                  <a:pt x="30499" y="38006"/>
                  <a:pt x="29448" y="37569"/>
                  <a:pt x="28560" y="36813"/>
                </a:cubicBezTo>
                <a:cubicBezTo>
                  <a:pt x="27721" y="40603"/>
                  <a:pt x="25145" y="43358"/>
                  <a:pt x="22098" y="43358"/>
                </a:cubicBezTo>
                <a:cubicBezTo>
                  <a:pt x="19758" y="43358"/>
                  <a:pt x="17696" y="41733"/>
                  <a:pt x="16484" y="39265"/>
                </a:cubicBezTo>
                <a:cubicBezTo>
                  <a:pt x="15323" y="40222"/>
                  <a:pt x="13962" y="40772"/>
                  <a:pt x="12507" y="40772"/>
                </a:cubicBezTo>
                <a:cubicBezTo>
                  <a:pt x="9641" y="40772"/>
                  <a:pt x="7140" y="38639"/>
                  <a:pt x="5808" y="35473"/>
                </a:cubicBezTo>
                <a:cubicBezTo>
                  <a:pt x="5642" y="35499"/>
                  <a:pt x="5472" y="35513"/>
                  <a:pt x="5300" y="35513"/>
                </a:cubicBezTo>
                <a:cubicBezTo>
                  <a:pt x="2892" y="35513"/>
                  <a:pt x="940" y="32863"/>
                  <a:pt x="940" y="29595"/>
                </a:cubicBezTo>
                <a:cubicBezTo>
                  <a:pt x="940" y="28031"/>
                  <a:pt x="1387" y="26609"/>
                  <a:pt x="2117" y="25551"/>
                </a:cubicBezTo>
                <a:cubicBezTo>
                  <a:pt x="831" y="24519"/>
                  <a:pt x="-32" y="22608"/>
                  <a:pt x="-32" y="20421"/>
                </a:cubicBezTo>
                <a:cubicBezTo>
                  <a:pt x="-32" y="17344"/>
                  <a:pt x="1677" y="14813"/>
                  <a:pt x="3866" y="14507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4582" y="26189"/>
                  <a:pt x="4470" y="26195"/>
                  <a:pt x="4356" y="26195"/>
                </a:cubicBezTo>
                <a:cubicBezTo>
                  <a:pt x="3555" y="26195"/>
                  <a:pt x="2804" y="25898"/>
                  <a:pt x="2160" y="25381"/>
                </a:cubicBezTo>
                <a:moveTo>
                  <a:pt x="6928" y="34899"/>
                </a:moveTo>
                <a:cubicBezTo>
                  <a:pt x="6579" y="35090"/>
                  <a:pt x="6207" y="35220"/>
                  <a:pt x="5821" y="35281"/>
                </a:cubicBezTo>
                <a:moveTo>
                  <a:pt x="16478" y="39090"/>
                </a:moveTo>
                <a:cubicBezTo>
                  <a:pt x="16211" y="38549"/>
                  <a:pt x="15986" y="37967"/>
                  <a:pt x="15809" y="37354"/>
                </a:cubicBezTo>
                <a:moveTo>
                  <a:pt x="28827" y="34751"/>
                </a:moveTo>
                <a:cubicBezTo>
                  <a:pt x="28787" y="35413"/>
                  <a:pt x="28697" y="36052"/>
                  <a:pt x="28562" y="36663"/>
                </a:cubicBezTo>
                <a:moveTo>
                  <a:pt x="34129" y="22954"/>
                </a:moveTo>
                <a:cubicBezTo>
                  <a:pt x="36055" y="24231"/>
                  <a:pt x="37381" y="26919"/>
                  <a:pt x="37381" y="30027"/>
                </a:cubicBezTo>
                <a:cubicBezTo>
                  <a:pt x="37381" y="30048"/>
                  <a:pt x="37381" y="30069"/>
                  <a:pt x="37381" y="30090"/>
                </a:cubicBezTo>
                <a:moveTo>
                  <a:pt x="41798" y="15354"/>
                </a:moveTo>
                <a:cubicBezTo>
                  <a:pt x="41472" y="16395"/>
                  <a:pt x="40973" y="17308"/>
                  <a:pt x="40351" y="18030"/>
                </a:cubicBezTo>
                <a:moveTo>
                  <a:pt x="38324" y="5426"/>
                </a:moveTo>
                <a:cubicBezTo>
                  <a:pt x="38375" y="5804"/>
                  <a:pt x="38401" y="6196"/>
                  <a:pt x="38401" y="6595"/>
                </a:cubicBezTo>
                <a:cubicBezTo>
                  <a:pt x="38401" y="6627"/>
                  <a:pt x="38401" y="6658"/>
                  <a:pt x="38401" y="6690"/>
                </a:cubicBezTo>
                <a:moveTo>
                  <a:pt x="29078" y="3952"/>
                </a:moveTo>
                <a:cubicBezTo>
                  <a:pt x="29268" y="3364"/>
                  <a:pt x="29519" y="2823"/>
                  <a:pt x="29820" y="2341"/>
                </a:cubicBezTo>
                <a:moveTo>
                  <a:pt x="22141" y="4720"/>
                </a:moveTo>
                <a:cubicBezTo>
                  <a:pt x="22218" y="4229"/>
                  <a:pt x="22340" y="3764"/>
                  <a:pt x="22499" y="3329"/>
                </a:cubicBezTo>
                <a:moveTo>
                  <a:pt x="14000" y="5192"/>
                </a:moveTo>
                <a:cubicBezTo>
                  <a:pt x="14474" y="5569"/>
                  <a:pt x="14910" y="6023"/>
                  <a:pt x="15300" y="6540"/>
                </a:cubicBezTo>
                <a:moveTo>
                  <a:pt x="4127" y="15789"/>
                </a:moveTo>
                <a:cubicBezTo>
                  <a:pt x="4024" y="15332"/>
                  <a:pt x="3948" y="14858"/>
                  <a:pt x="3900" y="14375"/>
                </a:cubicBezTo>
              </a:path>
            </a:pathLst>
          </a:custGeom>
          <a:solidFill>
            <a:srgbClr val="ffffff"/>
          </a:solidFill>
          <a:ln w="255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6" dur="20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2000"/>
                                        <p:tgtEl>
                                          <p:spTgt spid="1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3" name="组合 87057"/>
          <p:cNvGrpSpPr/>
          <p:nvPr/>
        </p:nvGrpSpPr>
        <p:grpSpPr>
          <a:xfrm>
            <a:off x="1213200" y="2446200"/>
            <a:ext cx="7357680" cy="1983240"/>
            <a:chOff x="1213200" y="2446200"/>
            <a:chExt cx="7357680" cy="1983240"/>
          </a:xfrm>
        </p:grpSpPr>
        <p:grpSp>
          <p:nvGrpSpPr>
            <p:cNvPr id="1704" name=""/>
            <p:cNvGrpSpPr/>
            <p:nvPr/>
          </p:nvGrpSpPr>
          <p:grpSpPr>
            <a:xfrm>
              <a:off x="4859280" y="2661480"/>
              <a:ext cx="504720" cy="360"/>
              <a:chOff x="4859280" y="2661480"/>
              <a:chExt cx="504720" cy="360"/>
            </a:xfrm>
          </p:grpSpPr>
          <p:sp>
            <p:nvSpPr>
              <p:cNvPr id="1705" name="直接连接符 87051"/>
              <p:cNvSpPr/>
              <p:nvPr/>
            </p:nvSpPr>
            <p:spPr>
              <a:xfrm>
                <a:off x="4859280" y="2661840"/>
                <a:ext cx="504720" cy="0"/>
              </a:xfrm>
              <a:prstGeom prst="line">
                <a:avLst/>
              </a:prstGeom>
              <a:ln w="50760">
                <a:solidFill>
                  <a:srgbClr val="1f497d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"/>
              <p:cNvSpPr txBox="1"/>
              <p:nvPr/>
            </p:nvSpPr>
            <p:spPr>
              <a:xfrm rot="10800000">
                <a:off x="4859280" y="2661480"/>
                <a:ext cx="504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7" name=""/>
            <p:cNvGrpSpPr/>
            <p:nvPr/>
          </p:nvGrpSpPr>
          <p:grpSpPr>
            <a:xfrm>
              <a:off x="4859280" y="3958920"/>
              <a:ext cx="504720" cy="287280"/>
              <a:chOff x="4859280" y="3958920"/>
              <a:chExt cx="504720" cy="287280"/>
            </a:xfrm>
          </p:grpSpPr>
          <p:sp>
            <p:nvSpPr>
              <p:cNvPr id="1708" name="直接连接符 87052"/>
              <p:cNvSpPr/>
              <p:nvPr/>
            </p:nvSpPr>
            <p:spPr>
              <a:xfrm flipV="1">
                <a:off x="4859280" y="3958920"/>
                <a:ext cx="504720" cy="287280"/>
              </a:xfrm>
              <a:prstGeom prst="line">
                <a:avLst/>
              </a:prstGeom>
              <a:ln w="50760">
                <a:solidFill>
                  <a:srgbClr val="1f497d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 txBox="1"/>
              <p:nvPr/>
            </p:nvSpPr>
            <p:spPr>
              <a:xfrm rot="10800000">
                <a:off x="4859280" y="3958920"/>
                <a:ext cx="50472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0" name=""/>
            <p:cNvGrpSpPr/>
            <p:nvPr/>
          </p:nvGrpSpPr>
          <p:grpSpPr>
            <a:xfrm>
              <a:off x="4859280" y="3454200"/>
              <a:ext cx="504720" cy="216000"/>
              <a:chOff x="4859280" y="3454200"/>
              <a:chExt cx="504720" cy="216000"/>
            </a:xfrm>
          </p:grpSpPr>
          <p:sp>
            <p:nvSpPr>
              <p:cNvPr id="1711" name="直接连接符 87053"/>
              <p:cNvSpPr/>
              <p:nvPr/>
            </p:nvSpPr>
            <p:spPr>
              <a:xfrm>
                <a:off x="4859280" y="3454200"/>
                <a:ext cx="504720" cy="216000"/>
              </a:xfrm>
              <a:prstGeom prst="line">
                <a:avLst/>
              </a:prstGeom>
              <a:ln w="50760">
                <a:solidFill>
                  <a:srgbClr val="1f497d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"/>
              <p:cNvSpPr txBox="1"/>
              <p:nvPr/>
            </p:nvSpPr>
            <p:spPr>
              <a:xfrm>
                <a:off x="4859280" y="3454200"/>
                <a:ext cx="50472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3" name="组合 87056"/>
            <p:cNvGrpSpPr/>
            <p:nvPr/>
          </p:nvGrpSpPr>
          <p:grpSpPr>
            <a:xfrm>
              <a:off x="1213200" y="2446200"/>
              <a:ext cx="7357680" cy="1983240"/>
              <a:chOff x="1213200" y="2446200"/>
              <a:chExt cx="7357680" cy="1983240"/>
            </a:xfrm>
          </p:grpSpPr>
          <p:sp>
            <p:nvSpPr>
              <p:cNvPr id="1714" name="文本框 87044"/>
              <p:cNvSpPr/>
              <p:nvPr/>
            </p:nvSpPr>
            <p:spPr>
              <a:xfrm>
                <a:off x="1213200" y="3238200"/>
                <a:ext cx="689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两种物体一一间隔排列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5" name=""/>
              <p:cNvGrpSpPr/>
              <p:nvPr/>
            </p:nvGrpSpPr>
            <p:grpSpPr>
              <a:xfrm>
                <a:off x="2771640" y="2734560"/>
                <a:ext cx="936720" cy="360360"/>
                <a:chOff x="2771640" y="2734560"/>
                <a:chExt cx="936720" cy="360360"/>
              </a:xfrm>
            </p:grpSpPr>
            <p:sp>
              <p:nvSpPr>
                <p:cNvPr id="1716" name="直接连接符 87045"/>
                <p:cNvSpPr/>
                <p:nvPr/>
              </p:nvSpPr>
              <p:spPr>
                <a:xfrm flipV="1">
                  <a:off x="2771640" y="2734560"/>
                  <a:ext cx="936720" cy="360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7" name=""/>
                <p:cNvSpPr txBox="1"/>
                <p:nvPr/>
              </p:nvSpPr>
              <p:spPr>
                <a:xfrm rot="10800000">
                  <a:off x="2771640" y="2734560"/>
                  <a:ext cx="93672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8" name=""/>
              <p:cNvGrpSpPr/>
              <p:nvPr/>
            </p:nvGrpSpPr>
            <p:grpSpPr>
              <a:xfrm>
                <a:off x="2771640" y="3454200"/>
                <a:ext cx="936720" cy="1440"/>
                <a:chOff x="2771640" y="3454200"/>
                <a:chExt cx="936720" cy="1440"/>
              </a:xfrm>
            </p:grpSpPr>
            <p:sp>
              <p:nvSpPr>
                <p:cNvPr id="1719" name="直接连接符 87046"/>
                <p:cNvSpPr/>
                <p:nvPr/>
              </p:nvSpPr>
              <p:spPr>
                <a:xfrm flipV="1">
                  <a:off x="2771640" y="3454200"/>
                  <a:ext cx="93672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0" name=""/>
                <p:cNvSpPr txBox="1"/>
                <p:nvPr/>
              </p:nvSpPr>
              <p:spPr>
                <a:xfrm rot="10800000">
                  <a:off x="2771640" y="3454200"/>
                  <a:ext cx="93672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1" name=""/>
              <p:cNvGrpSpPr/>
              <p:nvPr/>
            </p:nvGrpSpPr>
            <p:grpSpPr>
              <a:xfrm>
                <a:off x="2771640" y="3885840"/>
                <a:ext cx="865440" cy="360360"/>
                <a:chOff x="2771640" y="3885840"/>
                <a:chExt cx="865440" cy="360360"/>
              </a:xfrm>
            </p:grpSpPr>
            <p:sp>
              <p:nvSpPr>
                <p:cNvPr id="1722" name="直接连接符 87047"/>
                <p:cNvSpPr/>
                <p:nvPr/>
              </p:nvSpPr>
              <p:spPr>
                <a:xfrm>
                  <a:off x="2771640" y="3885840"/>
                  <a:ext cx="865440" cy="360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3" name=""/>
                <p:cNvSpPr txBox="1"/>
                <p:nvPr/>
              </p:nvSpPr>
              <p:spPr>
                <a:xfrm>
                  <a:off x="2771640" y="3885840"/>
                  <a:ext cx="86544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4" name="文本框 87048"/>
              <p:cNvSpPr/>
              <p:nvPr/>
            </p:nvSpPr>
            <p:spPr>
              <a:xfrm>
                <a:off x="3913200" y="2446200"/>
                <a:ext cx="790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两端</a:t>
                </a:r>
                <a:r>
                  <a:rPr b="0" lang="zh-CN" sz="2000" spc="-1" strike="noStrike">
                    <a:solidFill>
                      <a:srgbClr val="0000ff"/>
                    </a:solidFill>
                    <a:latin typeface="Arial"/>
                    <a:ea typeface="黑体"/>
                  </a:rPr>
                  <a:t>相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文本框 87049"/>
              <p:cNvSpPr/>
              <p:nvPr/>
            </p:nvSpPr>
            <p:spPr>
              <a:xfrm>
                <a:off x="3933720" y="3213000"/>
                <a:ext cx="790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两端</a:t>
                </a:r>
                <a:r>
                  <a:rPr b="0" lang="zh-CN" sz="2000" spc="-1" strike="noStrike">
                    <a:solidFill>
                      <a:srgbClr val="0000ff"/>
                    </a:solidFill>
                    <a:latin typeface="Arial"/>
                    <a:ea typeface="黑体"/>
                  </a:rPr>
                  <a:t>不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文本框 87050"/>
              <p:cNvSpPr/>
              <p:nvPr/>
            </p:nvSpPr>
            <p:spPr>
              <a:xfrm>
                <a:off x="3938400" y="4030560"/>
                <a:ext cx="740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围成</a:t>
                </a:r>
                <a:r>
                  <a:rPr b="0" lang="zh-CN" sz="2000" spc="-1" strike="noStrike">
                    <a:solidFill>
                      <a:srgbClr val="0000ff"/>
                    </a:solidFill>
                    <a:latin typeface="Arial"/>
                    <a:ea typeface="黑体"/>
                  </a:rPr>
                  <a:t>一圈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文本框 87054"/>
              <p:cNvSpPr/>
              <p:nvPr/>
            </p:nvSpPr>
            <p:spPr>
              <a:xfrm>
                <a:off x="5364000" y="2446200"/>
                <a:ext cx="320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ff0066"/>
                    </a:solidFill>
                    <a:latin typeface="Arial"/>
                    <a:ea typeface="黑体"/>
                  </a:rPr>
                  <a:t>两端物体比中间另一种物体多一个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文本框 87055"/>
              <p:cNvSpPr/>
              <p:nvPr/>
            </p:nvSpPr>
            <p:spPr>
              <a:xfrm>
                <a:off x="5916600" y="3598560"/>
                <a:ext cx="1400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ff0066"/>
                    </a:solidFill>
                    <a:latin typeface="Arial"/>
                    <a:ea typeface="黑体"/>
                  </a:rPr>
                  <a:t>两种物体数量相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2000"/>
                                        <p:tgtEl>
                                          <p:spTgt spid="1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Freeform 93"/>
          <p:cNvSpPr/>
          <p:nvPr/>
        </p:nvSpPr>
        <p:spPr>
          <a:xfrm>
            <a:off x="3422520" y="2671920"/>
            <a:ext cx="2592360" cy="412560"/>
          </a:xfrm>
          <a:custGeom>
            <a:avLst/>
            <a:gdLst/>
            <a:ahLst/>
            <a:rect l="l" t="t" r="r" b="b"/>
            <a:pathLst>
              <a:path w="1638" h="289">
                <a:moveTo>
                  <a:pt x="1633" y="0"/>
                </a:moveTo>
                <a:lnTo>
                  <a:pt x="0" y="66"/>
                </a:lnTo>
                <a:lnTo>
                  <a:pt x="0" y="289"/>
                </a:lnTo>
                <a:lnTo>
                  <a:pt x="1638" y="213"/>
                </a:lnTo>
                <a:lnTo>
                  <a:pt x="1633" y="0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Freeform 94"/>
          <p:cNvSpPr/>
          <p:nvPr/>
        </p:nvSpPr>
        <p:spPr>
          <a:xfrm>
            <a:off x="3422520" y="2671920"/>
            <a:ext cx="2600280" cy="412560"/>
          </a:xfrm>
          <a:custGeom>
            <a:avLst/>
            <a:gdLst/>
            <a:ahLst/>
            <a:rect l="l" t="t" r="r" b="b"/>
            <a:pathLst>
              <a:path w="1638" h="289">
                <a:moveTo>
                  <a:pt x="1633" y="0"/>
                </a:moveTo>
                <a:lnTo>
                  <a:pt x="0" y="66"/>
                </a:lnTo>
                <a:lnTo>
                  <a:pt x="0" y="289"/>
                </a:lnTo>
                <a:lnTo>
                  <a:pt x="1638" y="213"/>
                </a:lnTo>
                <a:lnTo>
                  <a:pt x="163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Freeform 95"/>
          <p:cNvSpPr/>
          <p:nvPr/>
        </p:nvSpPr>
        <p:spPr>
          <a:xfrm>
            <a:off x="2827440" y="3765600"/>
            <a:ext cx="2359080" cy="406440"/>
          </a:xfrm>
          <a:custGeom>
            <a:avLst/>
            <a:gdLst/>
            <a:ahLst/>
            <a:rect l="l" t="t" r="r" b="b"/>
            <a:pathLst>
              <a:path w="1486" h="284">
                <a:moveTo>
                  <a:pt x="1486" y="0"/>
                </a:moveTo>
                <a:lnTo>
                  <a:pt x="0" y="61"/>
                </a:lnTo>
                <a:lnTo>
                  <a:pt x="5" y="284"/>
                </a:lnTo>
                <a:lnTo>
                  <a:pt x="1486" y="213"/>
                </a:lnTo>
                <a:lnTo>
                  <a:pt x="1486" y="0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Freeform 96"/>
          <p:cNvSpPr/>
          <p:nvPr/>
        </p:nvSpPr>
        <p:spPr>
          <a:xfrm>
            <a:off x="2817720" y="3765600"/>
            <a:ext cx="2359080" cy="406440"/>
          </a:xfrm>
          <a:custGeom>
            <a:avLst/>
            <a:gdLst/>
            <a:ahLst/>
            <a:rect l="l" t="t" r="r" b="b"/>
            <a:pathLst>
              <a:path w="1486" h="284">
                <a:moveTo>
                  <a:pt x="1486" y="0"/>
                </a:moveTo>
                <a:lnTo>
                  <a:pt x="0" y="61"/>
                </a:lnTo>
                <a:lnTo>
                  <a:pt x="5" y="284"/>
                </a:lnTo>
                <a:lnTo>
                  <a:pt x="1486" y="213"/>
                </a:lnTo>
                <a:lnTo>
                  <a:pt x="1486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Freeform 97"/>
          <p:cNvSpPr/>
          <p:nvPr/>
        </p:nvSpPr>
        <p:spPr>
          <a:xfrm>
            <a:off x="3435480" y="4584600"/>
            <a:ext cx="1481040" cy="573120"/>
          </a:xfrm>
          <a:custGeom>
            <a:avLst/>
            <a:gdLst/>
            <a:ahLst/>
            <a:rect l="l" t="t" r="r" b="b"/>
            <a:pathLst>
              <a:path w="933" h="401">
                <a:moveTo>
                  <a:pt x="436" y="0"/>
                </a:moveTo>
                <a:lnTo>
                  <a:pt x="933" y="112"/>
                </a:lnTo>
                <a:lnTo>
                  <a:pt x="750" y="218"/>
                </a:lnTo>
                <a:lnTo>
                  <a:pt x="831" y="401"/>
                </a:lnTo>
                <a:lnTo>
                  <a:pt x="0" y="203"/>
                </a:lnTo>
                <a:lnTo>
                  <a:pt x="436" y="0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Freeform 98"/>
          <p:cNvSpPr/>
          <p:nvPr/>
        </p:nvSpPr>
        <p:spPr>
          <a:xfrm>
            <a:off x="3422520" y="4584600"/>
            <a:ext cx="1481400" cy="573120"/>
          </a:xfrm>
          <a:custGeom>
            <a:avLst/>
            <a:gdLst/>
            <a:ahLst/>
            <a:rect l="l" t="t" r="r" b="b"/>
            <a:pathLst>
              <a:path w="933" h="401">
                <a:moveTo>
                  <a:pt x="436" y="0"/>
                </a:moveTo>
                <a:lnTo>
                  <a:pt x="933" y="112"/>
                </a:lnTo>
                <a:lnTo>
                  <a:pt x="750" y="218"/>
                </a:lnTo>
                <a:lnTo>
                  <a:pt x="831" y="401"/>
                </a:lnTo>
                <a:lnTo>
                  <a:pt x="0" y="203"/>
                </a:lnTo>
                <a:lnTo>
                  <a:pt x="436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Freeform 100"/>
          <p:cNvSpPr/>
          <p:nvPr/>
        </p:nvSpPr>
        <p:spPr>
          <a:xfrm>
            <a:off x="2817720" y="2671920"/>
            <a:ext cx="3205080" cy="1500120"/>
          </a:xfrm>
          <a:custGeom>
            <a:avLst/>
            <a:gdLst/>
            <a:ahLst/>
            <a:rect l="l" t="t" r="r" b="b"/>
            <a:pathLst>
              <a:path w="2019" h="1050">
                <a:moveTo>
                  <a:pt x="2014" y="0"/>
                </a:moveTo>
                <a:lnTo>
                  <a:pt x="0" y="594"/>
                </a:lnTo>
                <a:lnTo>
                  <a:pt x="5" y="1050"/>
                </a:lnTo>
                <a:lnTo>
                  <a:pt x="2019" y="457"/>
                </a:lnTo>
                <a:lnTo>
                  <a:pt x="2014" y="0"/>
                </a:lnTo>
              </a:path>
            </a:pathLst>
          </a:custGeom>
          <a:solidFill>
            <a:srgbClr val="5790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Freeform 102"/>
          <p:cNvSpPr/>
          <p:nvPr/>
        </p:nvSpPr>
        <p:spPr>
          <a:xfrm>
            <a:off x="2817720" y="2671920"/>
            <a:ext cx="3197160" cy="942840"/>
          </a:xfrm>
          <a:custGeom>
            <a:avLst/>
            <a:gdLst/>
            <a:ahLst/>
            <a:rect l="l" t="t" r="r" b="b"/>
            <a:pathLst>
              <a:path w="2014" h="660">
                <a:moveTo>
                  <a:pt x="2014" y="0"/>
                </a:moveTo>
                <a:lnTo>
                  <a:pt x="2014" y="0"/>
                </a:lnTo>
                <a:lnTo>
                  <a:pt x="1162" y="254"/>
                </a:lnTo>
                <a:lnTo>
                  <a:pt x="0" y="594"/>
                </a:lnTo>
                <a:lnTo>
                  <a:pt x="0" y="660"/>
                </a:lnTo>
                <a:lnTo>
                  <a:pt x="2014" y="76"/>
                </a:lnTo>
                <a:lnTo>
                  <a:pt x="2014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Freeform 104"/>
          <p:cNvSpPr/>
          <p:nvPr/>
        </p:nvSpPr>
        <p:spPr>
          <a:xfrm>
            <a:off x="2817720" y="3230640"/>
            <a:ext cx="3205080" cy="941400"/>
          </a:xfrm>
          <a:custGeom>
            <a:avLst/>
            <a:gdLst/>
            <a:ahLst/>
            <a:rect l="l" t="t" r="r" b="b"/>
            <a:pathLst>
              <a:path w="2019" h="659">
                <a:moveTo>
                  <a:pt x="2019" y="0"/>
                </a:moveTo>
                <a:lnTo>
                  <a:pt x="0" y="598"/>
                </a:lnTo>
                <a:lnTo>
                  <a:pt x="5" y="659"/>
                </a:lnTo>
                <a:lnTo>
                  <a:pt x="2019" y="66"/>
                </a:lnTo>
                <a:lnTo>
                  <a:pt x="2019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Freeform 105"/>
          <p:cNvSpPr/>
          <p:nvPr/>
        </p:nvSpPr>
        <p:spPr>
          <a:xfrm>
            <a:off x="2754360" y="3359160"/>
            <a:ext cx="31680" cy="160200"/>
          </a:xfrm>
          <a:custGeom>
            <a:avLst/>
            <a:gdLst/>
            <a:ahLst/>
            <a:rect l="l" t="t" r="r" b="b"/>
            <a:pathLst>
              <a:path w="20" h="112">
                <a:moveTo>
                  <a:pt x="0" y="112"/>
                </a:moveTo>
                <a:lnTo>
                  <a:pt x="10" y="0"/>
                </a:lnTo>
                <a:lnTo>
                  <a:pt x="20" y="0"/>
                </a:lnTo>
                <a:lnTo>
                  <a:pt x="10" y="112"/>
                </a:lnTo>
                <a:lnTo>
                  <a:pt x="0" y="112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Freeform 106"/>
          <p:cNvSpPr/>
          <p:nvPr/>
        </p:nvSpPr>
        <p:spPr>
          <a:xfrm>
            <a:off x="2849400" y="3344760"/>
            <a:ext cx="73080" cy="158760"/>
          </a:xfrm>
          <a:custGeom>
            <a:avLst/>
            <a:gdLst/>
            <a:ahLst/>
            <a:rect l="l" t="t" r="r" b="b"/>
            <a:pathLst>
              <a:path w="46" h="111">
                <a:moveTo>
                  <a:pt x="16" y="101"/>
                </a:moveTo>
                <a:lnTo>
                  <a:pt x="0" y="0"/>
                </a:lnTo>
                <a:lnTo>
                  <a:pt x="11" y="0"/>
                </a:lnTo>
                <a:lnTo>
                  <a:pt x="26" y="96"/>
                </a:lnTo>
                <a:lnTo>
                  <a:pt x="46" y="101"/>
                </a:lnTo>
                <a:lnTo>
                  <a:pt x="46" y="111"/>
                </a:lnTo>
                <a:lnTo>
                  <a:pt x="16" y="101"/>
                </a:lnTo>
                <a:close/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Freeform 107"/>
          <p:cNvSpPr/>
          <p:nvPr/>
        </p:nvSpPr>
        <p:spPr>
          <a:xfrm>
            <a:off x="2762280" y="3503520"/>
            <a:ext cx="47520" cy="44640"/>
          </a:xfrm>
          <a:custGeom>
            <a:avLst/>
            <a:gdLst/>
            <a:ahLst/>
            <a:rect l="l" t="t" r="r" b="b"/>
            <a:pathLst>
              <a:path w="30" h="31">
                <a:moveTo>
                  <a:pt x="0" y="11"/>
                </a:moveTo>
                <a:lnTo>
                  <a:pt x="5" y="0"/>
                </a:lnTo>
                <a:lnTo>
                  <a:pt x="30" y="21"/>
                </a:lnTo>
                <a:lnTo>
                  <a:pt x="20" y="31"/>
                </a:lnTo>
                <a:lnTo>
                  <a:pt x="0" y="11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任意多边形 38"/>
          <p:cNvSpPr/>
          <p:nvPr/>
        </p:nvSpPr>
        <p:spPr>
          <a:xfrm>
            <a:off x="2340000" y="2887560"/>
            <a:ext cx="754200" cy="490680"/>
          </a:xfrm>
          <a:custGeom>
            <a:avLst/>
            <a:gdLst/>
            <a:ahLst/>
            <a:rect l="l" t="t" r="r" b="b"/>
            <a:pathLst>
              <a:path w="753252" h="544174">
                <a:moveTo>
                  <a:pt x="570635" y="682"/>
                </a:moveTo>
                <a:cubicBezTo>
                  <a:pt x="604065" y="3701"/>
                  <a:pt x="638249" y="16784"/>
                  <a:pt x="670422" y="40937"/>
                </a:cubicBezTo>
                <a:cubicBezTo>
                  <a:pt x="678465" y="32886"/>
                  <a:pt x="694552" y="24835"/>
                  <a:pt x="710639" y="16784"/>
                </a:cubicBezTo>
                <a:cubicBezTo>
                  <a:pt x="710639" y="32886"/>
                  <a:pt x="710639" y="57038"/>
                  <a:pt x="710639" y="81191"/>
                </a:cubicBezTo>
                <a:cubicBezTo>
                  <a:pt x="839332" y="234158"/>
                  <a:pt x="686509" y="733314"/>
                  <a:pt x="115432" y="467635"/>
                </a:cubicBezTo>
                <a:lnTo>
                  <a:pt x="119687" y="466730"/>
                </a:lnTo>
                <a:lnTo>
                  <a:pt x="104790" y="459986"/>
                </a:lnTo>
                <a:cubicBezTo>
                  <a:pt x="86393" y="455057"/>
                  <a:pt x="66869" y="458090"/>
                  <a:pt x="42840" y="452024"/>
                </a:cubicBezTo>
                <a:cubicBezTo>
                  <a:pt x="2792" y="443935"/>
                  <a:pt x="-5218" y="403491"/>
                  <a:pt x="2792" y="379225"/>
                </a:cubicBezTo>
                <a:cubicBezTo>
                  <a:pt x="18811" y="346870"/>
                  <a:pt x="58860" y="338782"/>
                  <a:pt x="82889" y="371137"/>
                </a:cubicBezTo>
                <a:cubicBezTo>
                  <a:pt x="66869" y="338782"/>
                  <a:pt x="90898" y="298338"/>
                  <a:pt x="122937" y="306427"/>
                </a:cubicBezTo>
                <a:cubicBezTo>
                  <a:pt x="146966" y="306427"/>
                  <a:pt x="170995" y="338782"/>
                  <a:pt x="154976" y="379225"/>
                </a:cubicBezTo>
                <a:cubicBezTo>
                  <a:pt x="150971" y="395403"/>
                  <a:pt x="144964" y="409558"/>
                  <a:pt x="138956" y="423713"/>
                </a:cubicBezTo>
                <a:lnTo>
                  <a:pt x="123781" y="465859"/>
                </a:lnTo>
                <a:lnTo>
                  <a:pt x="125486" y="465496"/>
                </a:lnTo>
                <a:cubicBezTo>
                  <a:pt x="170353" y="454929"/>
                  <a:pt x="350700" y="401215"/>
                  <a:pt x="364775" y="218056"/>
                </a:cubicBezTo>
                <a:cubicBezTo>
                  <a:pt x="376840" y="73140"/>
                  <a:pt x="470344" y="-8375"/>
                  <a:pt x="570635" y="682"/>
                </a:cubicBezTo>
                <a:close/>
              </a:path>
            </a:pathLst>
          </a:custGeom>
          <a:solidFill>
            <a:srgbClr val="ff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Freeform 110"/>
          <p:cNvSpPr/>
          <p:nvPr/>
        </p:nvSpPr>
        <p:spPr>
          <a:xfrm>
            <a:off x="2857680" y="2960640"/>
            <a:ext cx="88560" cy="666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7"/>
                </a:moveTo>
                <a:cubicBezTo>
                  <a:pt x="0" y="7"/>
                  <a:pt x="7" y="9"/>
                  <a:pt x="9" y="0"/>
                </a:cubicBezTo>
                <a:cubicBezTo>
                  <a:pt x="9" y="0"/>
                  <a:pt x="11" y="4"/>
                  <a:pt x="6" y="7"/>
                </a:cubicBezTo>
                <a:cubicBezTo>
                  <a:pt x="4" y="9"/>
                  <a:pt x="2" y="8"/>
                  <a:pt x="0" y="7"/>
                </a:cubicBez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Freeform 111"/>
          <p:cNvSpPr/>
          <p:nvPr/>
        </p:nvSpPr>
        <p:spPr>
          <a:xfrm>
            <a:off x="2874960" y="3013200"/>
            <a:ext cx="7920" cy="56880"/>
          </a:xfrm>
          <a:custGeom>
            <a:avLst/>
            <a:gdLst/>
            <a:ahLst/>
            <a:rect l="l" t="t" r="r" b="b"/>
            <a:pathLst>
              <a:path w="1" h="8">
                <a:moveTo>
                  <a:pt x="0" y="1"/>
                </a:moveTo>
                <a:cubicBezTo>
                  <a:pt x="0" y="1"/>
                  <a:pt x="0" y="8"/>
                  <a:pt x="1" y="1"/>
                </a:cubicBezTo>
                <a:cubicBezTo>
                  <a:pt x="0" y="0"/>
                  <a:pt x="0" y="0"/>
                  <a:pt x="0" y="0"/>
                </a:cubicBezTo>
                <a:lnTo>
                  <a:pt x="0" y="1"/>
                </a:ln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Freeform 112"/>
          <p:cNvSpPr/>
          <p:nvPr/>
        </p:nvSpPr>
        <p:spPr>
          <a:xfrm>
            <a:off x="2890800" y="3013200"/>
            <a:ext cx="23760" cy="48960"/>
          </a:xfrm>
          <a:custGeom>
            <a:avLst/>
            <a:gdLst/>
            <a:ahLst/>
            <a:rect l="l" t="t" r="r" b="b"/>
            <a:pathLst>
              <a:path w="3" h="7">
                <a:moveTo>
                  <a:pt x="0" y="1"/>
                </a:moveTo>
                <a:cubicBezTo>
                  <a:pt x="0" y="1"/>
                  <a:pt x="3" y="7"/>
                  <a:pt x="1" y="0"/>
                </a:cubicBezTo>
                <a:cubicBezTo>
                  <a:pt x="0" y="0"/>
                  <a:pt x="0" y="0"/>
                  <a:pt x="0" y="0"/>
                </a:cubicBezTo>
                <a:lnTo>
                  <a:pt x="0" y="1"/>
                </a:ln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Freeform 113"/>
          <p:cNvSpPr/>
          <p:nvPr/>
        </p:nvSpPr>
        <p:spPr>
          <a:xfrm>
            <a:off x="2914560" y="2997360"/>
            <a:ext cx="31680" cy="44280"/>
          </a:xfrm>
          <a:custGeom>
            <a:avLst/>
            <a:gdLst/>
            <a:ahLst/>
            <a:rect l="l" t="t" r="r" b="b"/>
            <a:pathLst>
              <a:path w="4" h="6">
                <a:moveTo>
                  <a:pt x="0" y="1"/>
                </a:moveTo>
                <a:cubicBezTo>
                  <a:pt x="0" y="1"/>
                  <a:pt x="4" y="6"/>
                  <a:pt x="1" y="0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Freeform 114"/>
          <p:cNvSpPr/>
          <p:nvPr/>
        </p:nvSpPr>
        <p:spPr>
          <a:xfrm>
            <a:off x="2930400" y="2975040"/>
            <a:ext cx="39960" cy="38160"/>
          </a:xfrm>
          <a:custGeom>
            <a:avLst/>
            <a:gdLst/>
            <a:ahLst/>
            <a:rect l="l" t="t" r="r" b="b"/>
            <a:pathLst>
              <a:path w="5" h="5">
                <a:moveTo>
                  <a:pt x="0" y="2"/>
                </a:moveTo>
                <a:cubicBezTo>
                  <a:pt x="0" y="2"/>
                  <a:pt x="5" y="5"/>
                  <a:pt x="0" y="0"/>
                </a:cubicBezTo>
                <a:cubicBezTo>
                  <a:pt x="0" y="1"/>
                  <a:pt x="0" y="1"/>
                  <a:pt x="0" y="1"/>
                </a:cubicBezTo>
                <a:lnTo>
                  <a:pt x="0" y="2"/>
                </a:ln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Freeform 115"/>
          <p:cNvSpPr/>
          <p:nvPr/>
        </p:nvSpPr>
        <p:spPr>
          <a:xfrm>
            <a:off x="2720880" y="3027240"/>
            <a:ext cx="322200" cy="231840"/>
          </a:xfrm>
          <a:custGeom>
            <a:avLst/>
            <a:gdLst/>
            <a:ahLst/>
            <a:rect l="l" t="t" r="r" b="b"/>
            <a:pathLst>
              <a:path w="40" h="32">
                <a:moveTo>
                  <a:pt x="0" y="32"/>
                </a:moveTo>
                <a:cubicBezTo>
                  <a:pt x="0" y="32"/>
                  <a:pt x="12" y="25"/>
                  <a:pt x="13" y="13"/>
                </a:cubicBezTo>
                <a:cubicBezTo>
                  <a:pt x="13" y="0"/>
                  <a:pt x="40" y="25"/>
                  <a:pt x="0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Freeform 116"/>
          <p:cNvSpPr/>
          <p:nvPr/>
        </p:nvSpPr>
        <p:spPr>
          <a:xfrm>
            <a:off x="5845320" y="2570040"/>
            <a:ext cx="72720" cy="146160"/>
          </a:xfrm>
          <a:custGeom>
            <a:avLst/>
            <a:gdLst/>
            <a:ahLst/>
            <a:rect l="l" t="t" r="r" b="b"/>
            <a:pathLst>
              <a:path w="46" h="102">
                <a:moveTo>
                  <a:pt x="0" y="5"/>
                </a:moveTo>
                <a:lnTo>
                  <a:pt x="11" y="0"/>
                </a:lnTo>
                <a:lnTo>
                  <a:pt x="46" y="96"/>
                </a:lnTo>
                <a:lnTo>
                  <a:pt x="36" y="102"/>
                </a:lnTo>
                <a:lnTo>
                  <a:pt x="0" y="5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Freeform 117"/>
          <p:cNvSpPr/>
          <p:nvPr/>
        </p:nvSpPr>
        <p:spPr>
          <a:xfrm>
            <a:off x="5757840" y="2576520"/>
            <a:ext cx="47520" cy="160200"/>
          </a:xfrm>
          <a:custGeom>
            <a:avLst/>
            <a:gdLst/>
            <a:ahLst/>
            <a:rect l="l" t="t" r="r" b="b"/>
            <a:pathLst>
              <a:path w="30" h="112">
                <a:moveTo>
                  <a:pt x="0" y="107"/>
                </a:moveTo>
                <a:lnTo>
                  <a:pt x="15" y="91"/>
                </a:lnTo>
                <a:lnTo>
                  <a:pt x="5" y="0"/>
                </a:lnTo>
                <a:lnTo>
                  <a:pt x="15" y="0"/>
                </a:lnTo>
                <a:lnTo>
                  <a:pt x="30" y="97"/>
                </a:lnTo>
                <a:lnTo>
                  <a:pt x="5" y="112"/>
                </a:lnTo>
                <a:lnTo>
                  <a:pt x="0" y="107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Freeform 118"/>
          <p:cNvSpPr/>
          <p:nvPr/>
        </p:nvSpPr>
        <p:spPr>
          <a:xfrm>
            <a:off x="5878440" y="2700360"/>
            <a:ext cx="39600" cy="44280"/>
          </a:xfrm>
          <a:custGeom>
            <a:avLst/>
            <a:gdLst/>
            <a:ahLst/>
            <a:rect l="l" t="t" r="r" b="b"/>
            <a:pathLst>
              <a:path w="25" h="31">
                <a:moveTo>
                  <a:pt x="0" y="26"/>
                </a:moveTo>
                <a:lnTo>
                  <a:pt x="15" y="0"/>
                </a:lnTo>
                <a:lnTo>
                  <a:pt x="25" y="5"/>
                </a:lnTo>
                <a:lnTo>
                  <a:pt x="10" y="31"/>
                </a:lnTo>
                <a:lnTo>
                  <a:pt x="0" y="26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任意多边形 37"/>
          <p:cNvSpPr/>
          <p:nvPr/>
        </p:nvSpPr>
        <p:spPr>
          <a:xfrm>
            <a:off x="5459400" y="2158920"/>
            <a:ext cx="760320" cy="441360"/>
          </a:xfrm>
          <a:custGeom>
            <a:avLst/>
            <a:gdLst/>
            <a:ahLst/>
            <a:rect l="l" t="t" r="r" b="b"/>
            <a:pathLst>
              <a:path w="760238" h="489328">
                <a:moveTo>
                  <a:pt x="639381" y="161933"/>
                </a:moveTo>
                <a:cubicBezTo>
                  <a:pt x="658701" y="165725"/>
                  <a:pt x="676885" y="189991"/>
                  <a:pt x="676885" y="214257"/>
                </a:cubicBezTo>
                <a:cubicBezTo>
                  <a:pt x="684967" y="181902"/>
                  <a:pt x="725376" y="181902"/>
                  <a:pt x="749622" y="206168"/>
                </a:cubicBezTo>
                <a:cubicBezTo>
                  <a:pt x="765785" y="230434"/>
                  <a:pt x="765785" y="262789"/>
                  <a:pt x="733458" y="278967"/>
                </a:cubicBezTo>
                <a:cubicBezTo>
                  <a:pt x="709213" y="295144"/>
                  <a:pt x="684967" y="295144"/>
                  <a:pt x="660722" y="319410"/>
                </a:cubicBezTo>
                <a:cubicBezTo>
                  <a:pt x="644558" y="287055"/>
                  <a:pt x="620313" y="270878"/>
                  <a:pt x="604149" y="238523"/>
                </a:cubicBezTo>
                <a:cubicBezTo>
                  <a:pt x="587985" y="206168"/>
                  <a:pt x="596067" y="173813"/>
                  <a:pt x="620313" y="165725"/>
                </a:cubicBezTo>
                <a:cubicBezTo>
                  <a:pt x="626374" y="161680"/>
                  <a:pt x="632940" y="160669"/>
                  <a:pt x="639381" y="161933"/>
                </a:cubicBezTo>
                <a:close/>
                <a:moveTo>
                  <a:pt x="170779" y="516"/>
                </a:moveTo>
                <a:cubicBezTo>
                  <a:pt x="250352" y="-5933"/>
                  <a:pt x="333467" y="48174"/>
                  <a:pt x="378802" y="158907"/>
                </a:cubicBezTo>
                <a:cubicBezTo>
                  <a:pt x="451339" y="344132"/>
                  <a:pt x="668948" y="319972"/>
                  <a:pt x="668948" y="319972"/>
                </a:cubicBezTo>
                <a:cubicBezTo>
                  <a:pt x="217610" y="722635"/>
                  <a:pt x="-64477" y="303866"/>
                  <a:pt x="16119" y="126694"/>
                </a:cubicBezTo>
                <a:cubicBezTo>
                  <a:pt x="8060" y="110587"/>
                  <a:pt x="8060" y="78374"/>
                  <a:pt x="0" y="70321"/>
                </a:cubicBezTo>
                <a:cubicBezTo>
                  <a:pt x="16119" y="70321"/>
                  <a:pt x="32239" y="78374"/>
                  <a:pt x="40298" y="78374"/>
                </a:cubicBezTo>
                <a:cubicBezTo>
                  <a:pt x="76567" y="30055"/>
                  <a:pt x="123035" y="4385"/>
                  <a:pt x="170779" y="516"/>
                </a:cubicBezTo>
                <a:close/>
              </a:path>
            </a:pathLst>
          </a:custGeom>
          <a:solidFill>
            <a:srgbClr val="ff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Freeform 121"/>
          <p:cNvSpPr/>
          <p:nvPr/>
        </p:nvSpPr>
        <p:spPr>
          <a:xfrm>
            <a:off x="5564160" y="2279520"/>
            <a:ext cx="306360" cy="217440"/>
          </a:xfrm>
          <a:custGeom>
            <a:avLst/>
            <a:gdLst/>
            <a:ahLst/>
            <a:rect l="l" t="t" r="r" b="b"/>
            <a:pathLst>
              <a:path w="38" h="30">
                <a:moveTo>
                  <a:pt x="38" y="25"/>
                </a:moveTo>
                <a:cubicBezTo>
                  <a:pt x="38" y="25"/>
                  <a:pt x="25" y="22"/>
                  <a:pt x="21" y="11"/>
                </a:cubicBezTo>
                <a:cubicBezTo>
                  <a:pt x="17" y="0"/>
                  <a:pt x="0" y="30"/>
                  <a:pt x="38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Freeform 122"/>
          <p:cNvSpPr/>
          <p:nvPr/>
        </p:nvSpPr>
        <p:spPr>
          <a:xfrm>
            <a:off x="5580000" y="2244600"/>
            <a:ext cx="112680" cy="5724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0"/>
                </a:moveTo>
                <a:cubicBezTo>
                  <a:pt x="0" y="0"/>
                  <a:pt x="5" y="8"/>
                  <a:pt x="14" y="2"/>
                </a:cubicBezTo>
                <a:cubicBezTo>
                  <a:pt x="14" y="2"/>
                  <a:pt x="12" y="7"/>
                  <a:pt x="6" y="6"/>
                </a:cubicBezTo>
                <a:cubicBezTo>
                  <a:pt x="2" y="5"/>
                  <a:pt x="1" y="3"/>
                  <a:pt x="0" y="0"/>
                </a:cubicBez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Freeform 123"/>
          <p:cNvSpPr/>
          <p:nvPr/>
        </p:nvSpPr>
        <p:spPr>
          <a:xfrm>
            <a:off x="3695760" y="1641600"/>
            <a:ext cx="1481040" cy="723600"/>
          </a:xfrm>
          <a:custGeom>
            <a:avLst/>
            <a:gdLst/>
            <a:ahLst/>
            <a:rect l="l" t="t" r="r" b="b"/>
            <a:pathLst>
              <a:path w="933" h="507">
                <a:moveTo>
                  <a:pt x="928" y="233"/>
                </a:moveTo>
                <a:lnTo>
                  <a:pt x="91" y="0"/>
                </a:lnTo>
                <a:lnTo>
                  <a:pt x="172" y="172"/>
                </a:lnTo>
                <a:lnTo>
                  <a:pt x="0" y="289"/>
                </a:lnTo>
                <a:lnTo>
                  <a:pt x="933" y="507"/>
                </a:lnTo>
                <a:lnTo>
                  <a:pt x="928" y="233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Freeform 124"/>
          <p:cNvSpPr/>
          <p:nvPr/>
        </p:nvSpPr>
        <p:spPr>
          <a:xfrm>
            <a:off x="3695760" y="1649520"/>
            <a:ext cx="1481040" cy="723960"/>
          </a:xfrm>
          <a:custGeom>
            <a:avLst/>
            <a:gdLst/>
            <a:ahLst/>
            <a:rect l="l" t="t" r="r" b="b"/>
            <a:pathLst>
              <a:path w="933" h="507">
                <a:moveTo>
                  <a:pt x="928" y="233"/>
                </a:moveTo>
                <a:lnTo>
                  <a:pt x="91" y="0"/>
                </a:lnTo>
                <a:lnTo>
                  <a:pt x="172" y="172"/>
                </a:lnTo>
                <a:lnTo>
                  <a:pt x="0" y="289"/>
                </a:lnTo>
                <a:lnTo>
                  <a:pt x="933" y="507"/>
                </a:lnTo>
                <a:lnTo>
                  <a:pt x="928" y="233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Freeform 126"/>
          <p:cNvSpPr/>
          <p:nvPr/>
        </p:nvSpPr>
        <p:spPr>
          <a:xfrm>
            <a:off x="3413160" y="1974960"/>
            <a:ext cx="1771560" cy="1109520"/>
          </a:xfrm>
          <a:custGeom>
            <a:avLst/>
            <a:gdLst/>
            <a:ahLst/>
            <a:rect l="l" t="t" r="r" b="b"/>
            <a:pathLst>
              <a:path w="1116" h="776">
                <a:moveTo>
                  <a:pt x="1111" y="0"/>
                </a:moveTo>
                <a:lnTo>
                  <a:pt x="0" y="320"/>
                </a:lnTo>
                <a:lnTo>
                  <a:pt x="6" y="776"/>
                </a:lnTo>
                <a:lnTo>
                  <a:pt x="1116" y="457"/>
                </a:lnTo>
                <a:lnTo>
                  <a:pt x="111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Freeform 129"/>
          <p:cNvSpPr/>
          <p:nvPr/>
        </p:nvSpPr>
        <p:spPr>
          <a:xfrm>
            <a:off x="3422520" y="2556000"/>
            <a:ext cx="1762200" cy="528480"/>
          </a:xfrm>
          <a:custGeom>
            <a:avLst/>
            <a:gdLst/>
            <a:ahLst/>
            <a:rect l="l" t="t" r="r" b="b"/>
            <a:pathLst>
              <a:path w="1110" h="370">
                <a:moveTo>
                  <a:pt x="1110" y="0"/>
                </a:moveTo>
                <a:lnTo>
                  <a:pt x="0" y="314"/>
                </a:lnTo>
                <a:lnTo>
                  <a:pt x="0" y="370"/>
                </a:lnTo>
                <a:lnTo>
                  <a:pt x="1110" y="51"/>
                </a:lnTo>
                <a:lnTo>
                  <a:pt x="111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Freeform 131"/>
          <p:cNvSpPr/>
          <p:nvPr/>
        </p:nvSpPr>
        <p:spPr>
          <a:xfrm>
            <a:off x="3413160" y="3765600"/>
            <a:ext cx="1771560" cy="1108080"/>
          </a:xfrm>
          <a:custGeom>
            <a:avLst/>
            <a:gdLst/>
            <a:ahLst/>
            <a:rect l="l" t="t" r="r" b="b"/>
            <a:pathLst>
              <a:path w="1116" h="776">
                <a:moveTo>
                  <a:pt x="1111" y="0"/>
                </a:moveTo>
                <a:lnTo>
                  <a:pt x="0" y="320"/>
                </a:lnTo>
                <a:lnTo>
                  <a:pt x="6" y="776"/>
                </a:lnTo>
                <a:lnTo>
                  <a:pt x="1116" y="457"/>
                </a:lnTo>
                <a:lnTo>
                  <a:pt x="111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Freeform 133"/>
          <p:cNvSpPr/>
          <p:nvPr/>
        </p:nvSpPr>
        <p:spPr>
          <a:xfrm>
            <a:off x="3540240" y="3892680"/>
            <a:ext cx="1771560" cy="1108080"/>
          </a:xfrm>
          <a:custGeom>
            <a:avLst/>
            <a:gdLst/>
            <a:ahLst/>
            <a:rect l="l" t="t" r="r" b="b"/>
            <a:pathLst>
              <a:path w="1116" h="776">
                <a:moveTo>
                  <a:pt x="1116" y="406"/>
                </a:moveTo>
                <a:lnTo>
                  <a:pt x="6" y="720"/>
                </a:lnTo>
                <a:lnTo>
                  <a:pt x="6" y="776"/>
                </a:lnTo>
                <a:lnTo>
                  <a:pt x="1116" y="457"/>
                </a:lnTo>
                <a:lnTo>
                  <a:pt x="1116" y="406"/>
                </a:lnTo>
                <a:moveTo>
                  <a:pt x="1111" y="0"/>
                </a:moveTo>
                <a:lnTo>
                  <a:pt x="1111" y="0"/>
                </a:lnTo>
                <a:lnTo>
                  <a:pt x="0" y="320"/>
                </a:lnTo>
                <a:lnTo>
                  <a:pt x="0" y="345"/>
                </a:lnTo>
                <a:lnTo>
                  <a:pt x="0" y="370"/>
                </a:lnTo>
                <a:lnTo>
                  <a:pt x="1111" y="51"/>
                </a:lnTo>
                <a:lnTo>
                  <a:pt x="111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任意多边形 163"/>
          <p:cNvSpPr/>
          <p:nvPr/>
        </p:nvSpPr>
        <p:spPr>
          <a:xfrm rot="20657400">
            <a:off x="2658600" y="3087360"/>
            <a:ext cx="3522600" cy="668160"/>
          </a:xfrm>
          <a:prstGeom prst="pie">
            <a:avLst/>
          </a:prstGeom>
          <a:solidFill>
            <a:srgbClr val="00bc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华文行楷"/>
                <a:ea typeface="华文行楷"/>
              </a:rPr>
              <a:t>谢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任意多边形 167"/>
          <p:cNvSpPr/>
          <p:nvPr/>
        </p:nvSpPr>
        <p:spPr>
          <a:xfrm rot="20721600">
            <a:off x="3295800" y="2192040"/>
            <a:ext cx="2008080" cy="674640"/>
          </a:xfrm>
          <a:custGeom>
            <a:avLst/>
            <a:gdLst/>
            <a:ahLst/>
            <a:rect l="l" t="t" r="r" b="b"/>
            <a:pathLst>
              <a:path w="2008511" h="748757">
                <a:moveTo>
                  <a:pt x="2008511" y="0"/>
                </a:moveTo>
                <a:lnTo>
                  <a:pt x="1832903" y="703958"/>
                </a:lnTo>
                <a:lnTo>
                  <a:pt x="0" y="748757"/>
                </a:lnTo>
                <a:lnTo>
                  <a:pt x="173672" y="45934"/>
                </a:lnTo>
                <a:lnTo>
                  <a:pt x="2008511" y="0"/>
                </a:lnTo>
                <a:close/>
              </a:path>
            </a:pathLst>
          </a:custGeom>
          <a:solidFill>
            <a:srgbClr val="00bc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任意多边形 171"/>
          <p:cNvSpPr/>
          <p:nvPr/>
        </p:nvSpPr>
        <p:spPr>
          <a:xfrm rot="20849400">
            <a:off x="3322800" y="3949560"/>
            <a:ext cx="1979280" cy="739800"/>
          </a:xfrm>
          <a:custGeom>
            <a:avLst/>
            <a:gdLst/>
            <a:ahLst/>
            <a:rect l="l" t="t" r="r" b="b"/>
            <a:pathLst>
              <a:path w="1979334" h="822792">
                <a:moveTo>
                  <a:pt x="1979334" y="0"/>
                </a:moveTo>
                <a:lnTo>
                  <a:pt x="1829976" y="709991"/>
                </a:lnTo>
                <a:lnTo>
                  <a:pt x="0" y="822792"/>
                </a:lnTo>
                <a:lnTo>
                  <a:pt x="147465" y="114007"/>
                </a:lnTo>
                <a:lnTo>
                  <a:pt x="1979334" y="0"/>
                </a:lnTo>
                <a:close/>
              </a:path>
            </a:pathLst>
          </a:custGeom>
          <a:solidFill>
            <a:srgbClr val="00bc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76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每组</a:t>
            </a:r>
            <a:r>
              <a:rPr b="1" lang="en-US" sz="4400" spc="-1" strike="noStrike">
                <a:solidFill>
                  <a:srgbClr val="0000ff"/>
                </a:solidFill>
                <a:latin typeface="黑体"/>
                <a:ea typeface="黑体"/>
              </a:rPr>
              <a:t>12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个，看谁记数快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男生：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29847563497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女生：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6161616161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TextBox 8"/>
          <p:cNvSpPr/>
          <p:nvPr/>
        </p:nvSpPr>
        <p:spPr>
          <a:xfrm>
            <a:off x="1000080" y="123840"/>
            <a:ext cx="17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新知讲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TextBox 1"/>
          <p:cNvSpPr/>
          <p:nvPr/>
        </p:nvSpPr>
        <p:spPr>
          <a:xfrm>
            <a:off x="642960" y="64764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下图中小兔与蘑菇的排列有什么特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6" name="Picture 3" descr=""/>
          <p:cNvPicPr/>
          <p:nvPr/>
        </p:nvPicPr>
        <p:blipFill>
          <a:blip r:embed="rId1"/>
          <a:stretch/>
        </p:blipFill>
        <p:spPr>
          <a:xfrm>
            <a:off x="642960" y="2143080"/>
            <a:ext cx="8001000" cy="4462560"/>
          </a:xfrm>
          <a:prstGeom prst="rect">
            <a:avLst/>
          </a:prstGeom>
          <a:ln w="0">
            <a:noFill/>
          </a:ln>
        </p:spPr>
      </p:pic>
      <p:sp>
        <p:nvSpPr>
          <p:cNvPr id="1487" name="矩形 5"/>
          <p:cNvSpPr/>
          <p:nvPr/>
        </p:nvSpPr>
        <p:spPr>
          <a:xfrm>
            <a:off x="1428840" y="3857760"/>
            <a:ext cx="6286320" cy="171432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矩形 4101"/>
          <p:cNvSpPr/>
          <p:nvPr/>
        </p:nvSpPr>
        <p:spPr>
          <a:xfrm>
            <a:off x="0" y="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TextBox 1"/>
          <p:cNvSpPr/>
          <p:nvPr/>
        </p:nvSpPr>
        <p:spPr>
          <a:xfrm>
            <a:off x="728640" y="139536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木桩与篱笆、夹子与手帕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10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2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TextBox 8"/>
          <p:cNvSpPr/>
          <p:nvPr/>
        </p:nvSpPr>
        <p:spPr>
          <a:xfrm>
            <a:off x="1000080" y="214200"/>
            <a:ext cx="17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新知讲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TextBox 1"/>
          <p:cNvSpPr/>
          <p:nvPr/>
        </p:nvSpPr>
        <p:spPr>
          <a:xfrm>
            <a:off x="571680" y="9288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下图中小兔与蘑菇的排列有什么特点？木桩与篱笆、夹子与手帕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2" name="Picture 3" descr=""/>
          <p:cNvPicPr/>
          <p:nvPr/>
        </p:nvPicPr>
        <p:blipFill>
          <a:blip r:embed="rId1"/>
          <a:stretch/>
        </p:blipFill>
        <p:spPr>
          <a:xfrm>
            <a:off x="642960" y="2143080"/>
            <a:ext cx="8001000" cy="4462560"/>
          </a:xfrm>
          <a:prstGeom prst="rect">
            <a:avLst/>
          </a:prstGeom>
          <a:ln w="0">
            <a:noFill/>
          </a:ln>
        </p:spPr>
      </p:pic>
      <p:sp>
        <p:nvSpPr>
          <p:cNvPr id="1493" name="矩形 5"/>
          <p:cNvSpPr/>
          <p:nvPr/>
        </p:nvSpPr>
        <p:spPr>
          <a:xfrm>
            <a:off x="785880" y="5072040"/>
            <a:ext cx="7715160" cy="121464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10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TextBox 8"/>
          <p:cNvSpPr/>
          <p:nvPr/>
        </p:nvSpPr>
        <p:spPr>
          <a:xfrm>
            <a:off x="1000080" y="214200"/>
            <a:ext cx="17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新知讲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TextBox 1"/>
          <p:cNvSpPr/>
          <p:nvPr/>
        </p:nvSpPr>
        <p:spPr>
          <a:xfrm>
            <a:off x="571680" y="9288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下图中小兔与蘑菇的排列有什么特点？木桩与篱笆、夹子与手帕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6" name="Picture 3" descr=""/>
          <p:cNvPicPr/>
          <p:nvPr/>
        </p:nvPicPr>
        <p:blipFill>
          <a:blip r:embed="rId1"/>
          <a:stretch/>
        </p:blipFill>
        <p:spPr>
          <a:xfrm>
            <a:off x="642960" y="2143080"/>
            <a:ext cx="8001000" cy="4462560"/>
          </a:xfrm>
          <a:prstGeom prst="rect">
            <a:avLst/>
          </a:prstGeom>
          <a:ln w="0">
            <a:noFill/>
          </a:ln>
        </p:spPr>
      </p:pic>
      <p:sp>
        <p:nvSpPr>
          <p:cNvPr id="1497" name="矩形 5"/>
          <p:cNvSpPr/>
          <p:nvPr/>
        </p:nvSpPr>
        <p:spPr>
          <a:xfrm>
            <a:off x="2286000" y="2928960"/>
            <a:ext cx="4857840" cy="1214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" dur="10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TextBox 8"/>
          <p:cNvSpPr/>
          <p:nvPr/>
        </p:nvSpPr>
        <p:spPr>
          <a:xfrm>
            <a:off x="839880" y="20520"/>
            <a:ext cx="17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新知讲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9" name="Picture 3" descr=""/>
          <p:cNvPicPr/>
          <p:nvPr/>
        </p:nvPicPr>
        <p:blipFill>
          <a:blip r:embed="rId1"/>
          <a:stretch/>
        </p:blipFill>
        <p:spPr>
          <a:xfrm>
            <a:off x="749160" y="469800"/>
            <a:ext cx="7643880" cy="4262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00" name=""/>
          <p:cNvGraphicFramePr/>
          <p:nvPr/>
        </p:nvGraphicFramePr>
        <p:xfrm>
          <a:off x="254160" y="4732200"/>
          <a:ext cx="8362800" cy="1465200"/>
        </p:xfrm>
        <a:graphic>
          <a:graphicData uri="http://schemas.openxmlformats.org/drawingml/2006/table">
            <a:tbl>
              <a:tblPr/>
              <a:tblGrid>
                <a:gridCol w="2554200"/>
                <a:gridCol w="2952720"/>
                <a:gridCol w="2855880"/>
              </a:tblGrid>
              <a:tr h="824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小兔  只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木桩    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夹子   个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蘑菇  个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篱笆    块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手帕   块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501" name="TextBox 1"/>
          <p:cNvSpPr/>
          <p:nvPr/>
        </p:nvSpPr>
        <p:spPr>
          <a:xfrm>
            <a:off x="1446120" y="4851360"/>
            <a:ext cx="7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TextBox 1"/>
          <p:cNvSpPr/>
          <p:nvPr/>
        </p:nvSpPr>
        <p:spPr>
          <a:xfrm>
            <a:off x="1446120" y="5551560"/>
            <a:ext cx="7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TextBox 1"/>
          <p:cNvSpPr/>
          <p:nvPr/>
        </p:nvSpPr>
        <p:spPr>
          <a:xfrm>
            <a:off x="4086360" y="4851360"/>
            <a:ext cx="72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TextBox 1"/>
          <p:cNvSpPr/>
          <p:nvPr/>
        </p:nvSpPr>
        <p:spPr>
          <a:xfrm>
            <a:off x="4086360" y="5553000"/>
            <a:ext cx="75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TextBox 1"/>
          <p:cNvSpPr/>
          <p:nvPr/>
        </p:nvSpPr>
        <p:spPr>
          <a:xfrm>
            <a:off x="7027920" y="49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TextBox 1"/>
          <p:cNvSpPr/>
          <p:nvPr/>
        </p:nvSpPr>
        <p:spPr>
          <a:xfrm>
            <a:off x="7027920" y="555156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TextBox 8"/>
          <p:cNvSpPr/>
          <p:nvPr/>
        </p:nvSpPr>
        <p:spPr>
          <a:xfrm>
            <a:off x="1000080" y="214200"/>
            <a:ext cx="17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新知讲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8" name=""/>
          <p:cNvGraphicFramePr/>
          <p:nvPr/>
        </p:nvGraphicFramePr>
        <p:xfrm>
          <a:off x="409680" y="2360520"/>
          <a:ext cx="8163000" cy="1279440"/>
        </p:xfrm>
        <a:graphic>
          <a:graphicData uri="http://schemas.openxmlformats.org/drawingml/2006/table">
            <a:tbl>
              <a:tblPr/>
              <a:tblGrid>
                <a:gridCol w="2532240"/>
                <a:gridCol w="2673000"/>
                <a:gridCol w="2957760"/>
              </a:tblGrid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小兔   只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木桩    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夹子    个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蘑菇   个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篱笆    块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手帕    块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509" name="TextBox 1"/>
          <p:cNvSpPr/>
          <p:nvPr/>
        </p:nvSpPr>
        <p:spPr>
          <a:xfrm>
            <a:off x="1527120" y="2349360"/>
            <a:ext cx="7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TextBox 1"/>
          <p:cNvSpPr/>
          <p:nvPr/>
        </p:nvSpPr>
        <p:spPr>
          <a:xfrm>
            <a:off x="1527120" y="2997360"/>
            <a:ext cx="7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TextBox 1"/>
          <p:cNvSpPr/>
          <p:nvPr/>
        </p:nvSpPr>
        <p:spPr>
          <a:xfrm>
            <a:off x="4157640" y="234936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TextBox 1"/>
          <p:cNvSpPr/>
          <p:nvPr/>
        </p:nvSpPr>
        <p:spPr>
          <a:xfrm>
            <a:off x="4157640" y="2995560"/>
            <a:ext cx="8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TextBox 1"/>
          <p:cNvSpPr/>
          <p:nvPr/>
        </p:nvSpPr>
        <p:spPr>
          <a:xfrm>
            <a:off x="6910560" y="234936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TextBox 1"/>
          <p:cNvSpPr/>
          <p:nvPr/>
        </p:nvSpPr>
        <p:spPr>
          <a:xfrm>
            <a:off x="6910560" y="299556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TextBox 1"/>
          <p:cNvSpPr/>
          <p:nvPr/>
        </p:nvSpPr>
        <p:spPr>
          <a:xfrm>
            <a:off x="571680" y="99684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你有什么发现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TextBox 1"/>
          <p:cNvSpPr/>
          <p:nvPr/>
        </p:nvSpPr>
        <p:spPr>
          <a:xfrm>
            <a:off x="752400" y="4359240"/>
            <a:ext cx="7365960" cy="642600"/>
          </a:xfrm>
          <a:prstGeom prst="rect">
            <a:avLst/>
          </a:prstGeom>
          <a:solidFill>
            <a:srgbClr val="ffffcc"/>
          </a:solidFill>
          <a:ln w="1260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间隔排列中两种物体的数量相差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矩形 8219"/>
          <p:cNvSpPr/>
          <p:nvPr/>
        </p:nvSpPr>
        <p:spPr>
          <a:xfrm>
            <a:off x="726840" y="4359240"/>
            <a:ext cx="52740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绿色圃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07T06:02:19Z</dcterms:created>
  <dc:creator/>
  <dc:description/>
  <dc:language>en-US</dc:language>
  <cp:lastModifiedBy>Administrator</cp:lastModifiedBy>
  <dcterms:modified xsi:type="dcterms:W3CDTF">2017-11-28T06:48:09Z</dcterms:modified>
  <cp:revision>1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930</vt:lpwstr>
  </property>
</Properties>
</file>