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48CA-5081-4FB3-9895-92D0206D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437-484E-49E4-BA74-C0AEEB2E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A93-795B-45D3-8A6D-AF96B65D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6E3-F770-45AC-B8E9-358AC1E1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6CF-313D-4FB5-8FAD-F056B138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8F2-A206-4497-9770-658C2D63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4E7-0086-484A-8CD3-E020C5D8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3ED-1A62-4936-BE2C-5E00A594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AFB-BCD0-496F-8192-039C61C8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C955-0E1D-4123-AE74-303E2240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D02-F351-4BA2-899B-5D0D353A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391-30E8-46EF-B393-C95B687F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3E77-80E3-48CF-A132-2F2960404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1662120"/>
            <a:ext cx="8077320" cy="5572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181480" y="6095880"/>
            <a:ext cx="426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礼河实验学校   谢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39"/>
          <p:cNvSpPr txBox="1"/>
          <p:nvPr/>
        </p:nvSpPr>
        <p:spPr>
          <a:xfrm>
            <a:off x="457200" y="98280"/>
            <a:ext cx="8115480" cy="16002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cc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诗韵悠悠</a:t>
            </a:r>
            <a:endParaRPr b="1" lang="en-US" sz="1800" spc="1" strike="noStrike">
              <a:ln w="19080">
                <a:solidFill>
                  <a:srgbClr val="cccc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9"/>
          <p:cNvSpPr/>
          <p:nvPr/>
        </p:nvSpPr>
        <p:spPr>
          <a:xfrm>
            <a:off x="457200" y="1905120"/>
            <a:ext cx="8207280" cy="67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和小伙伴一起用吟诵、表演的方式来演绎这首歌曲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35304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1c《读唐诗》卡农.mp3" descr=""/>
          <p:cNvPicPr/>
          <p:nvPr/>
        </p:nvPicPr>
        <p:blipFill>
          <a:blip r:embed="rId2"/>
          <a:stretch/>
        </p:blipFill>
        <p:spPr>
          <a:xfrm>
            <a:off x="7467480" y="12952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2590920" y="3124080"/>
            <a:ext cx="52578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床前的月光，窗外的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飞的白鹭，浮水的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里有画，唐诗里有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像清泉，流进我心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思的红豆，吴山的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边寨的战士，回乡的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里有乐，唐诗里有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是祖先在向我诉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23162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6"/>
          <p:cNvSpPr/>
          <p:nvPr/>
        </p:nvSpPr>
        <p:spPr>
          <a:xfrm>
            <a:off x="3124080" y="993600"/>
            <a:ext cx="5400720" cy="4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4594320" y="1981080"/>
            <a:ext cx="3657600" cy="51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8" descr=""/>
          <p:cNvPicPr/>
          <p:nvPr/>
        </p:nvPicPr>
        <p:blipFill>
          <a:blip r:embed="rId1"/>
          <a:stretch/>
        </p:blipFill>
        <p:spPr>
          <a:xfrm>
            <a:off x="460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63"/>
          <p:cNvGrpSpPr/>
          <p:nvPr/>
        </p:nvGrpSpPr>
        <p:grpSpPr>
          <a:xfrm>
            <a:off x="380880" y="568440"/>
            <a:ext cx="3471120" cy="4983120"/>
            <a:chOff x="380880" y="568440"/>
            <a:chExt cx="3471120" cy="4983120"/>
          </a:xfrm>
        </p:grpSpPr>
        <p:pic>
          <p:nvPicPr>
            <p:cNvPr id="104" name="Picture 5" descr="default"/>
            <p:cNvPicPr/>
            <p:nvPr/>
          </p:nvPicPr>
          <p:blipFill>
            <a:blip r:embed="rId2"/>
            <a:stretch/>
          </p:blipFill>
          <p:spPr>
            <a:xfrm>
              <a:off x="380880" y="568440"/>
              <a:ext cx="3471120" cy="40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2"/>
            <p:cNvSpPr/>
            <p:nvPr/>
          </p:nvSpPr>
          <p:spPr>
            <a:xfrm>
              <a:off x="1142640" y="4908960"/>
              <a:ext cx="17528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谷建芬</a:t>
              </a:r>
              <a:r>
                <a:rPr b="1" lang="zh-CN" sz="3600" spc="-1" strike="noStrike">
                  <a:solidFill>
                    <a:srgbClr val="6600cc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66"/>
          <p:cNvSpPr/>
          <p:nvPr/>
        </p:nvSpPr>
        <p:spPr>
          <a:xfrm>
            <a:off x="4618080" y="838080"/>
            <a:ext cx="395280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"/>
              </a:rPr>
              <a:t>我国当代著名作曲家，她创作了千余首脍炙人口的歌曲，代表作品有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"/>
              </a:rPr>
              <a:t>《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"/>
              </a:rPr>
              <a:t>歌声与微笑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"/>
              </a:rPr>
              <a:t>》《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"/>
              </a:rPr>
              <a:t>妈妈的吻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"/>
              </a:rPr>
              <a:t>》《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"/>
              </a:rPr>
              <a:t>烛光里的妈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"/>
              </a:rPr>
              <a:t>等。退休后的谷建芬奶奶决定为优秀的古诗词谱曲，让古诗词歌曲成为孩子们的</a:t>
            </a:r>
            <a:r>
              <a:rPr b="1" lang="zh-CN" sz="2200" spc="-1" strike="noStrike">
                <a:solidFill>
                  <a:srgbClr val="000000"/>
                </a:solidFill>
                <a:latin typeface="Segoe UI Historic"/>
                <a:ea typeface="楷体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"/>
              </a:rPr>
              <a:t>新学堂歌</a:t>
            </a:r>
            <a:r>
              <a:rPr b="1" lang="zh-CN" sz="2200" spc="-1" strike="noStrike">
                <a:solidFill>
                  <a:srgbClr val="000000"/>
                </a:solidFill>
                <a:latin typeface="Segoe UI Historic"/>
                <a:ea typeface="楷体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"/>
              </a:rPr>
              <a:t>。从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"/>
              </a:rPr>
              <a:t>2004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"/>
              </a:rPr>
              <a:t>年至今，谷建芬创作了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"/>
              </a:rPr>
              <a:t>3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"/>
              </a:rPr>
              <a:t>多首</a:t>
            </a:r>
            <a:r>
              <a:rPr b="1" lang="zh-CN" sz="2200" spc="-1" strike="noStrike">
                <a:solidFill>
                  <a:srgbClr val="000000"/>
                </a:solidFill>
                <a:latin typeface="Segoe UI Historic"/>
                <a:ea typeface="楷体"/>
              </a:rPr>
              <a:t>作品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"/>
              </a:rPr>
              <a:t>，让孩子们更快乐地亲近、学习、传承我们祖先的经典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3033720" y="2514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悯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3021120" y="3657600"/>
            <a:ext cx="19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村居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2278080" y="4800600"/>
            <a:ext cx="34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赋得古草原送别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听听"/>
          <p:cNvPicPr/>
          <p:nvPr/>
        </p:nvPicPr>
        <p:blipFill>
          <a:blip r:embed="rId2"/>
          <a:stretch/>
        </p:blipFill>
        <p:spPr>
          <a:xfrm>
            <a:off x="762120" y="4572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儿童歌曲 - 悯农.mp3" descr=""/>
          <p:cNvPicPr/>
          <p:nvPr/>
        </p:nvPicPr>
        <p:blipFill>
          <a:blip r:embed="rId3"/>
          <a:stretch/>
        </p:blipFill>
        <p:spPr>
          <a:xfrm>
            <a:off x="5791320" y="25909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13" name="儿童歌曲 - 村居.mp3" descr=""/>
          <p:cNvPicPr/>
          <p:nvPr/>
        </p:nvPicPr>
        <p:blipFill>
          <a:blip r:embed="rId4"/>
          <a:stretch/>
        </p:blipFill>
        <p:spPr>
          <a:xfrm>
            <a:off x="5749920" y="37465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14" name="戴梓伊 - 赋得古原草送别.mp3" descr=""/>
          <p:cNvPicPr/>
          <p:nvPr/>
        </p:nvPicPr>
        <p:blipFill>
          <a:blip r:embed="rId5"/>
          <a:stretch/>
        </p:blipFill>
        <p:spPr>
          <a:xfrm>
            <a:off x="6426360" y="4800600"/>
            <a:ext cx="40608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游子吟 新学堂歌.wmv" descr=""/>
          <p:cNvPicPr/>
          <p:nvPr/>
        </p:nvPicPr>
        <p:blipFill>
          <a:blip r:embed="rId1"/>
          <a:stretch/>
        </p:blipFill>
        <p:spPr>
          <a:xfrm>
            <a:off x="174600" y="925560"/>
            <a:ext cx="8077320" cy="5910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2178000" y="184320"/>
            <a:ext cx="1514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游子吟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4"/>
          <p:cNvGrpSpPr/>
          <p:nvPr/>
        </p:nvGrpSpPr>
        <p:grpSpPr>
          <a:xfrm>
            <a:off x="8294760" y="6445080"/>
            <a:ext cx="647640" cy="334800"/>
            <a:chOff x="8294760" y="6445080"/>
            <a:chExt cx="647640" cy="334800"/>
          </a:xfrm>
        </p:grpSpPr>
        <p:sp>
          <p:nvSpPr>
            <p:cNvPr id="118" name="AutoShape 28"/>
            <p:cNvSpPr/>
            <p:nvPr/>
          </p:nvSpPr>
          <p:spPr>
            <a:xfrm>
              <a:off x="8294760" y="6445080"/>
              <a:ext cx="647640" cy="334800"/>
            </a:xfrm>
            <a:custGeom>
              <a:avLst/>
              <a:gdLst>
                <a:gd name="textAreaLeft" fmla="*/ 21600 w 647640"/>
                <a:gd name="textAreaRight" fmla="*/ 626040 w 647640"/>
                <a:gd name="textAreaTop" fmla="*/ 21600 h 334800"/>
                <a:gd name="textAreaBottom" fmla="*/ 313200 h 334800"/>
              </a:gdLst>
              <a:ahLst/>
              <a:rect l="textAreaLeft" t="textAreaTop" r="textAreaRight" b="textAreaBottom"/>
              <a:pathLst>
                <a:path w="41762" h="21600">
                  <a:moveTo>
                    <a:pt x="0" y="0"/>
                  </a:moveTo>
                  <a:lnTo>
                    <a:pt x="41762" y="0"/>
                  </a:lnTo>
                  <a:lnTo>
                    <a:pt x="41762" y="21600"/>
                  </a:lnTo>
                  <a:lnTo>
                    <a:pt x="0" y="21600"/>
                  </a:lnTo>
                  <a:close/>
                </a:path>
                <a:path fill="lightenLess" w="41762" h="21600">
                  <a:moveTo>
                    <a:pt x="0" y="0"/>
                  </a:moveTo>
                  <a:lnTo>
                    <a:pt x="41762" y="0"/>
                  </a:lnTo>
                  <a:lnTo>
                    <a:pt x="40362" y="1400"/>
                  </a:lnTo>
                  <a:lnTo>
                    <a:pt x="1400" y="1400"/>
                  </a:lnTo>
                  <a:close/>
                </a:path>
                <a:path fill="darken" w="41762" h="21600">
                  <a:moveTo>
                    <a:pt x="41762" y="0"/>
                  </a:moveTo>
                  <a:lnTo>
                    <a:pt x="41762" y="21600"/>
                  </a:lnTo>
                  <a:lnTo>
                    <a:pt x="40362" y="20200"/>
                  </a:lnTo>
                  <a:lnTo>
                    <a:pt x="40362" y="1400"/>
                  </a:lnTo>
                  <a:close/>
                </a:path>
                <a:path fill="darkenLess" w="41762" h="21600">
                  <a:moveTo>
                    <a:pt x="4176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0362" y="20200"/>
                  </a:lnTo>
                  <a:close/>
                </a:path>
                <a:path fill="lighten" w="4176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76" descr="按钮-2"/>
            <p:cNvPicPr/>
            <p:nvPr/>
          </p:nvPicPr>
          <p:blipFill>
            <a:blip r:embed="rId2">
              <a:alphaModFix amt="0"/>
            </a:blip>
            <a:stretch/>
          </p:blipFill>
          <p:spPr>
            <a:xfrm>
              <a:off x="8409240" y="6468840"/>
              <a:ext cx="460080" cy="27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Group 77"/>
          <p:cNvGrpSpPr/>
          <p:nvPr/>
        </p:nvGrpSpPr>
        <p:grpSpPr>
          <a:xfrm>
            <a:off x="8315280" y="5772240"/>
            <a:ext cx="647640" cy="334800"/>
            <a:chOff x="8315280" y="5772240"/>
            <a:chExt cx="647640" cy="334800"/>
          </a:xfrm>
        </p:grpSpPr>
        <p:sp>
          <p:nvSpPr>
            <p:cNvPr id="121" name="AutoShape 22"/>
            <p:cNvSpPr/>
            <p:nvPr/>
          </p:nvSpPr>
          <p:spPr>
            <a:xfrm>
              <a:off x="8315280" y="5772240"/>
              <a:ext cx="647640" cy="334800"/>
            </a:xfrm>
            <a:custGeom>
              <a:avLst/>
              <a:gdLst>
                <a:gd name="textAreaLeft" fmla="*/ 21600 w 647640"/>
                <a:gd name="textAreaRight" fmla="*/ 626040 w 647640"/>
                <a:gd name="textAreaTop" fmla="*/ 21600 h 334800"/>
                <a:gd name="textAreaBottom" fmla="*/ 313200 h 334800"/>
              </a:gdLst>
              <a:ahLst/>
              <a:rect l="textAreaLeft" t="textAreaTop" r="textAreaRight" b="textAreaBottom"/>
              <a:pathLst>
                <a:path w="41762" h="21600">
                  <a:moveTo>
                    <a:pt x="0" y="0"/>
                  </a:moveTo>
                  <a:lnTo>
                    <a:pt x="41762" y="0"/>
                  </a:lnTo>
                  <a:lnTo>
                    <a:pt x="41762" y="21600"/>
                  </a:lnTo>
                  <a:lnTo>
                    <a:pt x="0" y="21600"/>
                  </a:lnTo>
                  <a:close/>
                </a:path>
                <a:path fill="lightenLess" w="41762" h="21600">
                  <a:moveTo>
                    <a:pt x="0" y="0"/>
                  </a:moveTo>
                  <a:lnTo>
                    <a:pt x="41762" y="0"/>
                  </a:lnTo>
                  <a:lnTo>
                    <a:pt x="40362" y="1400"/>
                  </a:lnTo>
                  <a:lnTo>
                    <a:pt x="1400" y="1400"/>
                  </a:lnTo>
                  <a:close/>
                </a:path>
                <a:path fill="darken" w="41762" h="21600">
                  <a:moveTo>
                    <a:pt x="41762" y="0"/>
                  </a:moveTo>
                  <a:lnTo>
                    <a:pt x="41762" y="21600"/>
                  </a:lnTo>
                  <a:lnTo>
                    <a:pt x="40362" y="20200"/>
                  </a:lnTo>
                  <a:lnTo>
                    <a:pt x="40362" y="1400"/>
                  </a:lnTo>
                  <a:close/>
                </a:path>
                <a:path fill="darkenLess" w="41762" h="21600">
                  <a:moveTo>
                    <a:pt x="4176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0362" y="20200"/>
                  </a:lnTo>
                  <a:close/>
                </a:path>
                <a:path fill="lighten" w="4176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79" descr="按钮-3"/>
            <p:cNvPicPr/>
            <p:nvPr/>
          </p:nvPicPr>
          <p:blipFill>
            <a:blip r:embed="rId3"/>
            <a:stretch/>
          </p:blipFill>
          <p:spPr>
            <a:xfrm>
              <a:off x="8383680" y="5789880"/>
              <a:ext cx="574560" cy="28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Picture 4" descr="听听"/>
          <p:cNvPicPr/>
          <p:nvPr/>
        </p:nvPicPr>
        <p:blipFill>
          <a:blip r:embed="rId4"/>
          <a:stretch/>
        </p:blipFill>
        <p:spPr>
          <a:xfrm>
            <a:off x="228600" y="3492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85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33031088517010630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1600200" y="1447920"/>
            <a:ext cx="47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9600" spc="-1" strike="noStrike">
                <a:solidFill>
                  <a:srgbClr val="ffff00"/>
                </a:solidFill>
                <a:latin typeface="Arial"/>
              </a:rPr>
              <a:t>再   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2" descr=""/>
          <p:cNvPicPr/>
          <p:nvPr/>
        </p:nvPicPr>
        <p:blipFill>
          <a:blip r:embed="rId1"/>
          <a:stretch/>
        </p:blipFill>
        <p:spPr>
          <a:xfrm>
            <a:off x="6480" y="-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" descr=""/>
          <p:cNvPicPr/>
          <p:nvPr/>
        </p:nvPicPr>
        <p:blipFill>
          <a:blip r:embed="rId2"/>
          <a:stretch/>
        </p:blipFill>
        <p:spPr>
          <a:xfrm>
            <a:off x="1523880" y="2514600"/>
            <a:ext cx="6248520" cy="3487680"/>
          </a:xfrm>
          <a:prstGeom prst="rect">
            <a:avLst/>
          </a:prstGeom>
          <a:ln w="0">
            <a:noFill/>
          </a:ln>
        </p:spPr>
      </p:pic>
      <p:pic>
        <p:nvPicPr>
          <p:cNvPr id="46" name="梦.mp3" descr=""/>
          <p:cNvPicPr/>
          <p:nvPr/>
        </p:nvPicPr>
        <p:blipFill>
          <a:blip r:embed="rId3"/>
          <a:stretch/>
        </p:blipFill>
        <p:spPr>
          <a:xfrm>
            <a:off x="7264440" y="17524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" descr=""/>
          <p:cNvPicPr/>
          <p:nvPr/>
        </p:nvPicPr>
        <p:blipFill>
          <a:blip r:embed="rId4"/>
          <a:stretch/>
        </p:blipFill>
        <p:spPr>
          <a:xfrm>
            <a:off x="1508040" y="2394000"/>
            <a:ext cx="62802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476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2"/>
          <p:cNvSpPr/>
          <p:nvPr/>
        </p:nvSpPr>
        <p:spPr>
          <a:xfrm>
            <a:off x="2819520" y="2209680"/>
            <a:ext cx="48654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床前的月光，窗外的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飞的白鹭，浮水的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里有画，唐诗里有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像清泉，流进我心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思的红豆，吴山的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边寨的战士，回乡的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里有乐，唐诗里有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是祖先在向我诉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86"/>
          <p:cNvSpPr txBox="1"/>
          <p:nvPr/>
        </p:nvSpPr>
        <p:spPr>
          <a:xfrm rot="5400000">
            <a:off x="-323280" y="2491560"/>
            <a:ext cx="2879640" cy="86508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ccff"/>
                    </a:gs>
                  </a:gsLst>
                  <a:lin ang="0"/>
                </a:gradFill>
                <a:latin typeface="华文行楷"/>
              </a:rPr>
              <a:t>读唐诗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ccff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pic>
        <p:nvPicPr>
          <p:cNvPr id="51" name="Picture 4" descr="听听"/>
          <p:cNvPicPr/>
          <p:nvPr/>
        </p:nvPicPr>
        <p:blipFill>
          <a:blip r:embed="rId1"/>
          <a:stretch/>
        </p:blipFill>
        <p:spPr>
          <a:xfrm>
            <a:off x="684360" y="404640"/>
            <a:ext cx="761760" cy="738360"/>
          </a:xfrm>
          <a:prstGeom prst="rect">
            <a:avLst/>
          </a:prstGeom>
          <a:ln w="0">
            <a:noFill/>
          </a:ln>
        </p:spPr>
      </p:pic>
      <p:pic>
        <p:nvPicPr>
          <p:cNvPr id="52" name="1c《读唐诗》卡农22222.mp3" descr=""/>
          <p:cNvPicPr/>
          <p:nvPr/>
        </p:nvPicPr>
        <p:blipFill>
          <a:blip r:embed="rId2"/>
          <a:stretch/>
        </p:blipFill>
        <p:spPr>
          <a:xfrm>
            <a:off x="7620120" y="3808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2438280" y="990720"/>
            <a:ext cx="5181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歌曲的情绪？藏着哪些唐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07578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听听"/>
          <p:cNvPicPr/>
          <p:nvPr/>
        </p:nvPicPr>
        <p:blipFill>
          <a:blip r:embed="rId1"/>
          <a:stretch/>
        </p:blipFill>
        <p:spPr>
          <a:xfrm>
            <a:off x="900000" y="40464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sy_20101006194236693042"/>
          <p:cNvPicPr/>
          <p:nvPr/>
        </p:nvPicPr>
        <p:blipFill>
          <a:blip r:embed="rId2"/>
          <a:srcRect l="4837" t="1953" r="4837" b="7907"/>
          <a:stretch/>
        </p:blipFill>
        <p:spPr>
          <a:xfrm>
            <a:off x="324000" y="4425840"/>
            <a:ext cx="3527280" cy="217188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56" name="AutoShape 8"/>
          <p:cNvSpPr/>
          <p:nvPr/>
        </p:nvSpPr>
        <p:spPr>
          <a:xfrm>
            <a:off x="461880" y="1596960"/>
            <a:ext cx="2509920" cy="1241640"/>
          </a:xfrm>
          <a:prstGeom prst="cloudCallout">
            <a:avLst>
              <a:gd name="adj1" fmla="val -19828"/>
              <a:gd name="adj2" fmla="val 137106"/>
            </a:avLst>
          </a:prstGeom>
          <a:solidFill>
            <a:srgbClr val="ffffff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1374840" y="3051000"/>
            <a:ext cx="2560680" cy="1241640"/>
          </a:xfrm>
          <a:prstGeom prst="cloudCallout">
            <a:avLst>
              <a:gd name="adj1" fmla="val -44444"/>
              <a:gd name="adj2" fmla="val 73259"/>
            </a:avLst>
          </a:prstGeom>
          <a:solidFill>
            <a:srgbClr val="ffffff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038960" y="1862280"/>
            <a:ext cx="12538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床前的月光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静夜思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李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542960" y="3241800"/>
            <a:ext cx="2027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窗外的雪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夜雪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白居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3570120" y="905040"/>
            <a:ext cx="2517840" cy="1172880"/>
          </a:xfrm>
          <a:prstGeom prst="cloudCallout">
            <a:avLst>
              <a:gd name="adj1" fmla="val -76532"/>
              <a:gd name="adj2" fmla="val 98064"/>
            </a:avLst>
          </a:prstGeom>
          <a:solidFill>
            <a:srgbClr val="ffffff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4032360" y="4408560"/>
            <a:ext cx="2666880" cy="1288800"/>
          </a:xfrm>
          <a:prstGeom prst="cloudCallout">
            <a:avLst>
              <a:gd name="adj1" fmla="val -53064"/>
              <a:gd name="adj2" fmla="val 88305"/>
            </a:avLst>
          </a:prstGeom>
          <a:solidFill>
            <a:srgbClr val="ffffff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6627960" y="4567320"/>
            <a:ext cx="2520720" cy="1388880"/>
          </a:xfrm>
          <a:prstGeom prst="cloudCallout">
            <a:avLst>
              <a:gd name="adj1" fmla="val -68870"/>
              <a:gd name="adj2" fmla="val 91435"/>
            </a:avLst>
          </a:prstGeom>
          <a:solidFill>
            <a:srgbClr val="ffffff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4647960" y="4699080"/>
            <a:ext cx="12290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相思的红豆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相思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王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6664320" y="927000"/>
            <a:ext cx="2378160" cy="1416240"/>
          </a:xfrm>
          <a:prstGeom prst="cloudCallout">
            <a:avLst>
              <a:gd name="adj1" fmla="val -34768"/>
              <a:gd name="adj2" fmla="val 89777"/>
            </a:avLst>
          </a:prstGeom>
          <a:solidFill>
            <a:srgbClr val="ffffff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8"/>
          <p:cNvSpPr/>
          <p:nvPr/>
        </p:nvSpPr>
        <p:spPr>
          <a:xfrm>
            <a:off x="6699240" y="3009960"/>
            <a:ext cx="2376360" cy="1415880"/>
          </a:xfrm>
          <a:prstGeom prst="cloudCallout">
            <a:avLst>
              <a:gd name="adj1" fmla="val -34768"/>
              <a:gd name="adj2" fmla="val 89777"/>
            </a:avLst>
          </a:prstGeom>
          <a:solidFill>
            <a:srgbClr val="ffffff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6951600" y="11556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</a:rPr>
              <a:t>回乡的客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</a:rPr>
              <a:t>九月九忆山东兄弟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7053120" y="4800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</a:rPr>
              <a:t>吴山的雪”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</a:rPr>
              <a:t>次韵景安吴山观雪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</a:rPr>
              <a:t>方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6988320" y="3405240"/>
            <a:ext cx="19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边寨的战士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出塞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王昌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/>
          <p:cNvSpPr/>
          <p:nvPr/>
        </p:nvSpPr>
        <p:spPr>
          <a:xfrm rot="21431400">
            <a:off x="3962160" y="2463480"/>
            <a:ext cx="2517480" cy="1173240"/>
          </a:xfrm>
          <a:prstGeom prst="cloudCallout">
            <a:avLst>
              <a:gd name="adj1" fmla="val -76532"/>
              <a:gd name="adj2" fmla="val 98064"/>
            </a:avLst>
          </a:prstGeom>
          <a:solidFill>
            <a:srgbClr val="ffffff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844800" y="112392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高飞的白鹭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绝句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杜甫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4268880" y="271764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浮水的鹅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咏鹅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骆宾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82"/>
          <p:cNvSpPr/>
          <p:nvPr/>
        </p:nvSpPr>
        <p:spPr>
          <a:xfrm>
            <a:off x="2666880" y="2209680"/>
            <a:ext cx="486576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床前的月光，窗外的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飞的白鹭，浮水的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里有画，唐诗里有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像清泉，流进我心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思的红豆，吴山的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边寨的战士，回乡的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里有乐，唐诗里有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是祖先在向我诉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86"/>
          <p:cNvSpPr txBox="1"/>
          <p:nvPr/>
        </p:nvSpPr>
        <p:spPr>
          <a:xfrm rot="5400000">
            <a:off x="-323280" y="2491560"/>
            <a:ext cx="2879640" cy="86508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ccff"/>
                    </a:gs>
                  </a:gsLst>
                  <a:lin ang="0"/>
                </a:gradFill>
                <a:latin typeface="华文行楷"/>
              </a:rPr>
              <a:t>读唐诗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ccff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pic>
        <p:nvPicPr>
          <p:cNvPr id="74" name="Picture 4" descr="听听"/>
          <p:cNvPicPr/>
          <p:nvPr/>
        </p:nvPicPr>
        <p:blipFill>
          <a:blip r:embed="rId1"/>
          <a:stretch/>
        </p:blipFill>
        <p:spPr>
          <a:xfrm>
            <a:off x="684360" y="404640"/>
            <a:ext cx="761760" cy="738360"/>
          </a:xfrm>
          <a:prstGeom prst="rect">
            <a:avLst/>
          </a:prstGeom>
          <a:ln w="0">
            <a:noFill/>
          </a:ln>
        </p:spPr>
      </p:pic>
      <p:pic>
        <p:nvPicPr>
          <p:cNvPr id="75" name="1c《读唐诗》卡农22222.mp3" descr=""/>
          <p:cNvPicPr/>
          <p:nvPr/>
        </p:nvPicPr>
        <p:blipFill>
          <a:blip r:embed="rId2"/>
          <a:stretch/>
        </p:blipFill>
        <p:spPr>
          <a:xfrm>
            <a:off x="7620120" y="3808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2133720" y="914400"/>
            <a:ext cx="594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跟着音乐用动作表现唐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0757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82"/>
          <p:cNvSpPr/>
          <p:nvPr/>
        </p:nvSpPr>
        <p:spPr>
          <a:xfrm>
            <a:off x="2819520" y="1981080"/>
            <a:ext cx="48654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床前的月光，窗外的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飞的白鹭，浮水的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里有画，唐诗里有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像清泉，流进我心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思的红豆，吴山的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边寨的战士，回乡的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里有乐，唐诗里有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是祖先在向我诉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86"/>
          <p:cNvSpPr txBox="1"/>
          <p:nvPr/>
        </p:nvSpPr>
        <p:spPr>
          <a:xfrm rot="5400000">
            <a:off x="-323280" y="2491560"/>
            <a:ext cx="2879640" cy="86508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ccff"/>
                    </a:gs>
                  </a:gsLst>
                  <a:lin ang="0"/>
                </a:gradFill>
                <a:latin typeface="华文行楷"/>
              </a:rPr>
              <a:t>读唐诗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ccff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pic>
        <p:nvPicPr>
          <p:cNvPr id="79" name="Picture 4" descr="听听"/>
          <p:cNvPicPr/>
          <p:nvPr/>
        </p:nvPicPr>
        <p:blipFill>
          <a:blip r:embed="rId1"/>
          <a:stretch/>
        </p:blipFill>
        <p:spPr>
          <a:xfrm>
            <a:off x="684360" y="404640"/>
            <a:ext cx="761760" cy="738360"/>
          </a:xfrm>
          <a:prstGeom prst="rect">
            <a:avLst/>
          </a:prstGeom>
          <a:ln w="0">
            <a:noFill/>
          </a:ln>
        </p:spPr>
      </p:pic>
      <p:pic>
        <p:nvPicPr>
          <p:cNvPr id="80" name="1c《读唐诗》卡农333333(1).mp3" descr=""/>
          <p:cNvPicPr/>
          <p:nvPr/>
        </p:nvPicPr>
        <p:blipFill>
          <a:blip r:embed="rId2"/>
          <a:stretch/>
        </p:blipFill>
        <p:spPr>
          <a:xfrm>
            <a:off x="7391520" y="6094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2590920" y="1066680"/>
            <a:ext cx="32763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2133720" y="106668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怎样的形式演唱歌曲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96346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82"/>
          <p:cNvSpPr/>
          <p:nvPr/>
        </p:nvSpPr>
        <p:spPr>
          <a:xfrm>
            <a:off x="2819520" y="2590920"/>
            <a:ext cx="48654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床前的月光，窗外的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飞的白鹭，浮水的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里有画，唐诗里有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像清泉，流进我心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思的红豆，吴山的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边寨的战士，回乡的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里有乐，唐诗里有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诗是祖先在向我诉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86"/>
          <p:cNvSpPr txBox="1"/>
          <p:nvPr/>
        </p:nvSpPr>
        <p:spPr>
          <a:xfrm rot="5400000">
            <a:off x="-397440" y="3292920"/>
            <a:ext cx="2879640" cy="86544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ccff"/>
                    </a:gs>
                  </a:gsLst>
                  <a:lin ang="0"/>
                </a:gradFill>
                <a:latin typeface="华文行楷"/>
              </a:rPr>
              <a:t>读唐诗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ccff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pic>
        <p:nvPicPr>
          <p:cNvPr id="85" name="1c《读唐诗》卡农.mp3" descr=""/>
          <p:cNvPicPr/>
          <p:nvPr/>
        </p:nvPicPr>
        <p:blipFill>
          <a:blip r:embed="rId1"/>
          <a:stretch/>
        </p:blipFill>
        <p:spPr>
          <a:xfrm>
            <a:off x="7772400" y="45720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2209680" y="1066680"/>
            <a:ext cx="6019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完整演绎：第一段加入动作表演，第二段加入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6" descr=""/>
          <p:cNvPicPr/>
          <p:nvPr/>
        </p:nvPicPr>
        <p:blipFill>
          <a:blip r:embed="rId2"/>
          <a:stretch/>
        </p:blipFill>
        <p:spPr>
          <a:xfrm>
            <a:off x="152280" y="165240"/>
            <a:ext cx="22100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23162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89"/>
          <p:cNvGrpSpPr/>
          <p:nvPr/>
        </p:nvGrpSpPr>
        <p:grpSpPr>
          <a:xfrm>
            <a:off x="8404200" y="5773680"/>
            <a:ext cx="647640" cy="334800"/>
            <a:chOff x="8404200" y="5773680"/>
            <a:chExt cx="647640" cy="334800"/>
          </a:xfrm>
        </p:grpSpPr>
        <p:sp>
          <p:nvSpPr>
            <p:cNvPr id="89" name="AutoShape 28"/>
            <p:cNvSpPr/>
            <p:nvPr/>
          </p:nvSpPr>
          <p:spPr>
            <a:xfrm>
              <a:off x="8404200" y="5773680"/>
              <a:ext cx="647640" cy="334800"/>
            </a:xfrm>
            <a:custGeom>
              <a:avLst/>
              <a:gdLst>
                <a:gd name="textAreaLeft" fmla="*/ 21600 w 647640"/>
                <a:gd name="textAreaRight" fmla="*/ 626040 w 647640"/>
                <a:gd name="textAreaTop" fmla="*/ 21600 h 334800"/>
                <a:gd name="textAreaBottom" fmla="*/ 313200 h 334800"/>
              </a:gdLst>
              <a:ahLst/>
              <a:rect l="textAreaLeft" t="textAreaTop" r="textAreaRight" b="textAreaBottom"/>
              <a:pathLst>
                <a:path w="41762" h="21600">
                  <a:moveTo>
                    <a:pt x="0" y="0"/>
                  </a:moveTo>
                  <a:lnTo>
                    <a:pt x="41762" y="0"/>
                  </a:lnTo>
                  <a:lnTo>
                    <a:pt x="41762" y="21600"/>
                  </a:lnTo>
                  <a:lnTo>
                    <a:pt x="0" y="21600"/>
                  </a:lnTo>
                  <a:close/>
                </a:path>
                <a:path fill="lightenLess" w="41762" h="21600">
                  <a:moveTo>
                    <a:pt x="0" y="0"/>
                  </a:moveTo>
                  <a:lnTo>
                    <a:pt x="41762" y="0"/>
                  </a:lnTo>
                  <a:lnTo>
                    <a:pt x="40362" y="1400"/>
                  </a:lnTo>
                  <a:lnTo>
                    <a:pt x="1400" y="1400"/>
                  </a:lnTo>
                  <a:close/>
                </a:path>
                <a:path fill="darken" w="41762" h="21600">
                  <a:moveTo>
                    <a:pt x="41762" y="0"/>
                  </a:moveTo>
                  <a:lnTo>
                    <a:pt x="41762" y="21600"/>
                  </a:lnTo>
                  <a:lnTo>
                    <a:pt x="40362" y="20200"/>
                  </a:lnTo>
                  <a:lnTo>
                    <a:pt x="40362" y="1400"/>
                  </a:lnTo>
                  <a:close/>
                </a:path>
                <a:path fill="darkenLess" w="41762" h="21600">
                  <a:moveTo>
                    <a:pt x="4176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0362" y="20200"/>
                  </a:lnTo>
                  <a:close/>
                </a:path>
                <a:path fill="lighten" w="4176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91" descr="按钮-2"/>
            <p:cNvPicPr/>
            <p:nvPr/>
          </p:nvPicPr>
          <p:blipFill>
            <a:blip r:embed="rId1">
              <a:alphaModFix amt="0"/>
            </a:blip>
            <a:stretch/>
          </p:blipFill>
          <p:spPr>
            <a:xfrm>
              <a:off x="8518680" y="5797440"/>
              <a:ext cx="460080" cy="27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92"/>
          <p:cNvGrpSpPr/>
          <p:nvPr/>
        </p:nvGrpSpPr>
        <p:grpSpPr>
          <a:xfrm>
            <a:off x="8404200" y="5181480"/>
            <a:ext cx="647640" cy="334800"/>
            <a:chOff x="8404200" y="5181480"/>
            <a:chExt cx="647640" cy="334800"/>
          </a:xfrm>
        </p:grpSpPr>
        <p:sp>
          <p:nvSpPr>
            <p:cNvPr id="92" name="AutoShape 22"/>
            <p:cNvSpPr/>
            <p:nvPr/>
          </p:nvSpPr>
          <p:spPr>
            <a:xfrm>
              <a:off x="8404200" y="5181480"/>
              <a:ext cx="647640" cy="334800"/>
            </a:xfrm>
            <a:custGeom>
              <a:avLst/>
              <a:gdLst>
                <a:gd name="textAreaLeft" fmla="*/ 21600 w 647640"/>
                <a:gd name="textAreaRight" fmla="*/ 626040 w 647640"/>
                <a:gd name="textAreaTop" fmla="*/ 21600 h 334800"/>
                <a:gd name="textAreaBottom" fmla="*/ 313200 h 334800"/>
              </a:gdLst>
              <a:ahLst/>
              <a:rect l="textAreaLeft" t="textAreaTop" r="textAreaRight" b="textAreaBottom"/>
              <a:pathLst>
                <a:path w="41762" h="21600">
                  <a:moveTo>
                    <a:pt x="0" y="0"/>
                  </a:moveTo>
                  <a:lnTo>
                    <a:pt x="41762" y="0"/>
                  </a:lnTo>
                  <a:lnTo>
                    <a:pt x="41762" y="21600"/>
                  </a:lnTo>
                  <a:lnTo>
                    <a:pt x="0" y="21600"/>
                  </a:lnTo>
                  <a:close/>
                </a:path>
                <a:path fill="lightenLess" w="41762" h="21600">
                  <a:moveTo>
                    <a:pt x="0" y="0"/>
                  </a:moveTo>
                  <a:lnTo>
                    <a:pt x="41762" y="0"/>
                  </a:lnTo>
                  <a:lnTo>
                    <a:pt x="40362" y="1400"/>
                  </a:lnTo>
                  <a:lnTo>
                    <a:pt x="1400" y="1400"/>
                  </a:lnTo>
                  <a:close/>
                </a:path>
                <a:path fill="darken" w="41762" h="21600">
                  <a:moveTo>
                    <a:pt x="41762" y="0"/>
                  </a:moveTo>
                  <a:lnTo>
                    <a:pt x="41762" y="21600"/>
                  </a:lnTo>
                  <a:lnTo>
                    <a:pt x="40362" y="20200"/>
                  </a:lnTo>
                  <a:lnTo>
                    <a:pt x="40362" y="1400"/>
                  </a:lnTo>
                  <a:close/>
                </a:path>
                <a:path fill="darkenLess" w="41762" h="21600">
                  <a:moveTo>
                    <a:pt x="4176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0362" y="20200"/>
                  </a:lnTo>
                  <a:close/>
                </a:path>
                <a:path fill="lighten" w="4176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94" descr="按钮-3"/>
            <p:cNvPicPr/>
            <p:nvPr/>
          </p:nvPicPr>
          <p:blipFill>
            <a:blip r:embed="rId2"/>
            <a:stretch/>
          </p:blipFill>
          <p:spPr>
            <a:xfrm>
              <a:off x="8472600" y="5199120"/>
              <a:ext cx="574560" cy="28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读唐诗 新学堂歌.wmv" descr=""/>
          <p:cNvPicPr/>
          <p:nvPr/>
        </p:nvPicPr>
        <p:blipFill>
          <a:blip r:embed="rId3"/>
          <a:stretch/>
        </p:blipFill>
        <p:spPr>
          <a:xfrm>
            <a:off x="152280" y="750960"/>
            <a:ext cx="8153640" cy="609588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685800" y="228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他们是如何演绎这首歌曲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47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02:34:34Z</dcterms:created>
  <dc:creator>Administrator</dc:creator>
  <dc:description/>
  <dc:language>en-US</dc:language>
  <cp:lastModifiedBy>DELL</cp:lastModifiedBy>
  <dcterms:modified xsi:type="dcterms:W3CDTF">2017-11-22T23:42:39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