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png" ContentType="image/png"/>
  <Override PartName="/ppt/media/image6.jpeg" ContentType="image/jpeg"/>
  <Override PartName="/ppt/media/applause.wav" ContentType="audio/x-wav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cashreg.wav" ContentType="audio/x-wav"/>
  <Override PartName="/ppt/media/image13.png" ContentType="image/png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770-5C2E-4D78-8C98-DA35034C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E38-AE18-438D-B7F1-BFFA4AF3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00E-FE0A-4A64-8D4D-DCAD303C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6C2-B56A-4E0D-A51F-E7EA0479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DED1-F05A-4CA4-B9FB-BB7AC85D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5194-FFE5-42EE-AF43-99092A9E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25FD-1835-44DB-B4A6-D7C33422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4167-142D-4A62-91D9-8ADE5B3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B83B-43F6-42F0-B2C2-951A6500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FB6E-429C-440A-BEF5-3F0E9DF4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D560-CC58-4F40-B6D3-17B7808E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282-7479-4C86-BC64-158818D9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4D55-A1C0-493D-B1AA-275D24B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AD6-E158-4ADF-8BC2-870CE54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F527-5D5A-46C7-84FD-CEA12FF2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0FA5-39FA-46EC-AC8B-1FCC4D10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573A-DF1E-497E-A8C2-6679DC35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2306-1E4C-4F20-8F6D-B4FC516A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F2ED-E438-467B-9ADE-78C6D60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D9A4E-381A-4226-B950-D835BD4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4DE8-3CD3-4AE8-BD0F-4ABD7CF0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2547-4752-450C-9E19-37C9929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E6C-8C06-4CF6-90E2-4FE9EC1A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0591-F816-4282-8D6A-192B098A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7C1A-B85D-42F5-9133-E35F4220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A1F2-7059-4B63-BF7B-FB31906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FDEB-D8C4-4D06-AEBC-D98C5D6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AC7E-9521-4206-ACCC-2270D5D5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E697-170D-4741-A32E-5378136E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056C6-C122-4D9E-9990-44BA2142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87DF-7C68-4CB8-AE7B-54FEB0CB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30486-23DD-49CC-A8B2-772CFC24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27F45-98DE-401E-B75C-079AA42B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E0F-3980-444C-BF23-1A9C61C1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6346-48BD-480E-B935-E660088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AD24-93AC-44D3-B794-D06B3108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2D60-34BE-4F92-8B42-05055397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57C8-63F0-4C05-A58A-EAF5B17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50C8-A403-4999-8157-EE3447E3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3D05-342D-4F4E-9BB9-DD4950C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0451-FD9B-488D-B565-C9CCE5E7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5F68-8F59-4E5D-83A7-ADE179EA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DCB3-640D-418A-84D1-DBB56E94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5CFAE-CDA1-4D2E-AD09-1D682EB0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02D-901B-4EC7-AC55-46ED1830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AC15-7DCF-4C6A-A2C5-1DE7DDE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8A01-2D18-41CE-87DA-8D2D9FE8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41C6-0B76-4050-8391-0D2F3D7E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38170-9789-4559-B601-347DDA8D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B2DD-E78A-4092-A897-BACBB4DB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E021E-B6B6-40E5-9403-447779E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FE8A-7152-4F1A-A187-B804143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A5D0-6556-4556-A924-6C9B82CC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2947B-FC2A-4AD8-9F2D-E2F06797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3C108-F246-4B98-B6F5-500D320B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CC7-566F-491D-8473-35119CFF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C428-0EA8-40DA-B8EC-FEC65C7D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1ADEF-4381-4246-9833-1249F424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4F64-DC24-4C38-9FB6-A4289776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8BA1-DEDD-43B2-9ACC-7D0DBFDC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C85F0-5041-4DDD-8E3C-71B2A473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39BD4-9989-4EE0-8A35-4E80BEE2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B0891-2A02-402C-AA62-1FFC43EF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9D233-C6A7-47E8-A8EE-5BFFB05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670E-889B-41DF-A04E-1C067086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CA695-2C11-46F9-AD95-BC1A865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925-EBEF-437F-9E90-D67AB78B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A831-832A-4437-BB77-B2DF50FB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66582-38F8-47B4-AC3C-857CB168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DD0B6-E71C-4A0E-8ACB-5A9A6391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A589-20B8-4459-9D3C-41A5EA37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6FD8-162C-4028-865A-DF33963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DDF3-C825-4AC2-8348-9E5A36B3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2227-AE60-477A-B4D5-DE18066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3322C-8E5B-49F8-8E0D-C202BE96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D62FF-0A4E-42CE-840D-D928130E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5B887-6E3A-4466-83EF-CB5570F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560-0382-41B1-8243-3011786A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198F2-F406-4303-B7F8-B53FF574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7440F-2BC8-44E7-9255-2340B4E6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355B3-923B-4223-B588-0568D280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56430-3711-4965-A0E1-C6F477B8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C0657-0104-4F41-986E-0FC518E3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85EDF-B1FE-4A77-AFDE-4C30B5B3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35C42-623C-49E2-8F6D-20BB62C4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F15A-8D75-4FBD-B8DE-2071011D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328B7-743E-4D59-8D4E-81F994DD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32BCB-D693-480C-A3DE-44FC671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BCD-0030-491C-A35E-B229EF9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9E7D0-7410-4165-9133-15E229B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D2E7-E979-40F2-84EE-5AC64C28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41B3E-9A85-4AD8-ABEC-65FA406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A243C-810C-41B6-8159-E11C750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80912-A416-4828-8655-49637319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D5D8-3A99-4026-BD52-F2C34396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F25A4-65F9-4F11-AEF4-F238D6D5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88B-1280-40EB-8CD1-43579A090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7929720" y="214200"/>
            <a:ext cx="100008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34F9-4E45-40DB-ABEA-C1BD03DA927D}" type="datetime10">
              <a:rPr b="0" lang="zh-CN" sz="1800" spc="-1" strike="noStrike">
                <a:solidFill>
                  <a:srgbClr val="ffffff"/>
                </a:solidFill>
                <a:latin typeface="Arial"/>
              </a:rPr>
              <a:t>11:2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CF57-9335-428E-838B-AA3773FDC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7929720" y="214200"/>
            <a:ext cx="100008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1EA4-C6CA-45C8-A193-4E68EA8695A3}" type="datetime10">
              <a:rPr b="0" lang="zh-CN" sz="1800" spc="-1" strike="noStrike">
                <a:solidFill>
                  <a:srgbClr val="ffffff"/>
                </a:solidFill>
                <a:latin typeface="Arial"/>
              </a:rPr>
              <a:t>11:2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6AC1-122A-4DC2-A36B-F198725C3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8" name="矩形 7"/>
          <p:cNvSpPr/>
          <p:nvPr/>
        </p:nvSpPr>
        <p:spPr>
          <a:xfrm>
            <a:off x="7929720" y="214200"/>
            <a:ext cx="100008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782C-AA19-4120-BDC1-B82C19A63469}" type="datetime10">
              <a:rPr b="0" lang="zh-CN" sz="1800" spc="-1" strike="noStrike">
                <a:solidFill>
                  <a:srgbClr val="ffffff"/>
                </a:solidFill>
                <a:latin typeface="Arial"/>
              </a:rPr>
              <a:t>11:2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962-A907-47C5-AD3D-8FE53E77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1" name="矩形 7"/>
          <p:cNvSpPr/>
          <p:nvPr/>
        </p:nvSpPr>
        <p:spPr>
          <a:xfrm>
            <a:off x="7929720" y="214200"/>
            <a:ext cx="100008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F396-E55F-41BE-96AF-2470325423D5}" type="datetime10">
              <a:rPr b="0" lang="zh-CN" sz="1800" spc="-1" strike="noStrike">
                <a:solidFill>
                  <a:srgbClr val="ffffff"/>
                </a:solidFill>
                <a:latin typeface="Arial"/>
              </a:rPr>
              <a:t>11:2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23B1-3584-4993-BECD-928037C4E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4" name="矩形 7"/>
          <p:cNvSpPr/>
          <p:nvPr/>
        </p:nvSpPr>
        <p:spPr>
          <a:xfrm>
            <a:off x="7929720" y="214200"/>
            <a:ext cx="100008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18AD-1DF9-4CC4-A177-B9AEB97855BF}" type="datetime10">
              <a:rPr b="0" lang="zh-CN" sz="1800" spc="-1" strike="noStrike">
                <a:solidFill>
                  <a:srgbClr val="ffffff"/>
                </a:solidFill>
                <a:latin typeface="Arial"/>
              </a:rPr>
              <a:t>11:2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FCF2-8A2F-4230-ACDB-B59A6DAE2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57" name="矩形 7"/>
          <p:cNvSpPr/>
          <p:nvPr/>
        </p:nvSpPr>
        <p:spPr>
          <a:xfrm>
            <a:off x="7929720" y="214200"/>
            <a:ext cx="100008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0D3E-CE15-4CF9-84A2-062433399ADB}" type="datetime10">
              <a:rPr b="0" lang="zh-CN" sz="1800" spc="-1" strike="noStrike">
                <a:solidFill>
                  <a:srgbClr val="ffffff"/>
                </a:solidFill>
                <a:latin typeface="Arial"/>
              </a:rPr>
              <a:t>11:2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CB41-E76C-4BC2-A71A-08463F181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00" name="矩形 7"/>
          <p:cNvSpPr/>
          <p:nvPr/>
        </p:nvSpPr>
        <p:spPr>
          <a:xfrm>
            <a:off x="7929720" y="214200"/>
            <a:ext cx="100008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0DCC-B493-471C-9925-9655F6DB4BC3}" type="datetime10">
              <a:rPr b="0" lang="zh-CN" sz="1800" spc="-1" strike="noStrike">
                <a:solidFill>
                  <a:srgbClr val="ffffff"/>
                </a:solidFill>
                <a:latin typeface="Arial"/>
              </a:rPr>
              <a:t>11:2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6D4-ECEE-4687-8342-57E982BE1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28.photo.store.qq.com/http_imgload.cgi?/rurl4_b=67aabeeea8033bf0521e7fe7fa1ba3b4b5d3dfe9451e4cd4292d588f6453109aff4d3b1acfd0c49e92859a72049e2fe90f3d8d2fcd90c57e35ef02b9225d8bf8041e38422fd44e4851214367fe87ca520cf66da8&amp;a=12&amp;b=28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1000080" y="2357280"/>
            <a:ext cx="7415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折扣问题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1" descr="2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1"/>
          <p:cNvSpPr/>
          <p:nvPr/>
        </p:nvSpPr>
        <p:spPr>
          <a:xfrm>
            <a:off x="2100240" y="2286000"/>
            <a:ext cx="50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几折”就表示现价是原价的百分之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几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图片 1" descr="402.jpg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1"/>
          <p:cNvSpPr/>
          <p:nvPr/>
        </p:nvSpPr>
        <p:spPr>
          <a:xfrm>
            <a:off x="357120" y="22860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几点几折”“几几折”就表示现价是原价的百分之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几十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pic13 副本 qwe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684360" y="1700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商店有时降价出售商品，叫做打折扣销售，通称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打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。打折就表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楷体_GB2312"/>
              </a:rPr>
              <a:t>十分之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也就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楷体_GB2312"/>
              </a:rPr>
              <a:t>百分之几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1042920" y="3500280"/>
            <a:ext cx="6985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例如：“八折”就是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是按原价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八三折”就是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83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是按原价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9,-1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2"/>
          <p:cNvSpPr/>
          <p:nvPr/>
        </p:nvSpPr>
        <p:spPr>
          <a:xfrm>
            <a:off x="2865600" y="1557360"/>
            <a:ext cx="4041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说说下面每种物品是打几折出售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一架钢琴按原价的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0%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出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一台电视机按原价的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出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3"/>
          <p:cNvSpPr txBox="1"/>
          <p:nvPr/>
        </p:nvSpPr>
        <p:spPr>
          <a:xfrm>
            <a:off x="609480" y="30492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小试牛刀：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pic13 副本 qwe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3"/>
          <p:cNvSpPr/>
          <p:nvPr/>
        </p:nvSpPr>
        <p:spPr>
          <a:xfrm>
            <a:off x="61128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爸爸给小雨买了一辆自行车，原价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现在商店打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楷体_GB2312"/>
                <a:ea typeface="楷体_GB2312"/>
              </a:rPr>
              <a:t>八五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售。买这辆车用了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d8d1c131c6a690b5a8018efe"/>
          <p:cNvPicPr/>
          <p:nvPr/>
        </p:nvPicPr>
        <p:blipFill>
          <a:blip r:embed="rId2"/>
          <a:stretch/>
        </p:blipFill>
        <p:spPr>
          <a:xfrm>
            <a:off x="4859280" y="2133720"/>
            <a:ext cx="4932360" cy="32032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2319480" y="482760"/>
            <a:ext cx="39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6372360" y="4292640"/>
            <a:ext cx="1871640" cy="1298520"/>
          </a:xfrm>
          <a:prstGeom prst="irregularSeal1">
            <a:avLst/>
          </a:prstGeom>
          <a:solidFill>
            <a:srgbClr val="ff1d1d"/>
          </a:solidFill>
          <a:ln w="9360">
            <a:solidFill>
              <a:srgbClr val="ff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588000" y="4579920"/>
            <a:ext cx="16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八五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395280" y="2276640"/>
            <a:ext cx="5688000" cy="581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八五折就是按原价的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5%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销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755640" y="3357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1d1d"/>
                </a:solidFill>
                <a:latin typeface="Arial"/>
                <a:ea typeface="文鼎ＰＯＰ－４"/>
              </a:rPr>
              <a:t>原价</a:t>
            </a:r>
            <a:r>
              <a:rPr b="0" lang="en-US" sz="3200" spc="-1" strike="noStrike">
                <a:solidFill>
                  <a:srgbClr val="ff1d1d"/>
                </a:solidFill>
                <a:latin typeface="Arial"/>
                <a:ea typeface="文鼎ＰＯＰ－４"/>
              </a:rPr>
              <a:t>×</a:t>
            </a:r>
            <a:r>
              <a:rPr b="0" lang="zh-CN" sz="3200" spc="-1" strike="noStrike">
                <a:solidFill>
                  <a:srgbClr val="ff1d1d"/>
                </a:solidFill>
                <a:latin typeface="Arial"/>
                <a:ea typeface="文鼎ＰＯＰ－４"/>
              </a:rPr>
              <a:t>折扣＝实际售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611280" y="443700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180×85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15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539640" y="5229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答：买这辆车实际用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15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9,-1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9,-1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88360" cy="31575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611280" y="3429000"/>
            <a:ext cx="446400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所有图书一律八折销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6227640" y="692280"/>
            <a:ext cx="2664000" cy="1368360"/>
          </a:xfrm>
          <a:prstGeom prst="wedgeEllipseCallout">
            <a:avLst>
              <a:gd name="adj1" fmla="val -33611"/>
              <a:gd name="adj2" fmla="val 67865"/>
            </a:avLst>
          </a:prstGeom>
          <a:solidFill>
            <a:srgbClr val="ff99cc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6588000" y="765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买一本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语故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0"/>
          <p:cNvSpPr/>
          <p:nvPr/>
        </p:nvSpPr>
        <p:spPr>
          <a:xfrm>
            <a:off x="1547640" y="333360"/>
            <a:ext cx="3745080" cy="1440000"/>
          </a:xfrm>
          <a:prstGeom prst="wedgeEllipseCallout">
            <a:avLst>
              <a:gd name="adj1" fmla="val 39064"/>
              <a:gd name="adj2" fmla="val 70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1979640" y="404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我买一本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趣味数学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打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八折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元，原价是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814040" y="4653000"/>
            <a:ext cx="54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八折就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0%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原价和实际售价有什么关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2606400" y="5445000"/>
            <a:ext cx="31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原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×80%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实际售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WordArt 4" descr=""/>
          <p:cNvPicPr/>
          <p:nvPr/>
        </p:nvPicPr>
        <p:blipFill>
          <a:blip r:embed="rId2"/>
          <a:stretch/>
        </p:blipFill>
        <p:spPr>
          <a:xfrm>
            <a:off x="139680" y="139680"/>
            <a:ext cx="105588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WordArt 4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1055880" cy="81108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15"/>
          <p:cNvGrpSpPr/>
          <p:nvPr/>
        </p:nvGrpSpPr>
        <p:grpSpPr>
          <a:xfrm>
            <a:off x="684360" y="260280"/>
            <a:ext cx="8135640" cy="3311640"/>
            <a:chOff x="684360" y="260280"/>
            <a:chExt cx="8135640" cy="3311640"/>
          </a:xfrm>
        </p:grpSpPr>
        <p:pic>
          <p:nvPicPr>
            <p:cNvPr id="383" name="Picture 9" descr=""/>
            <p:cNvPicPr/>
            <p:nvPr/>
          </p:nvPicPr>
          <p:blipFill>
            <a:blip r:embed="rId2"/>
            <a:stretch/>
          </p:blipFill>
          <p:spPr>
            <a:xfrm>
              <a:off x="896760" y="1017720"/>
              <a:ext cx="735660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AutoShape 7"/>
            <p:cNvSpPr/>
            <p:nvPr/>
          </p:nvSpPr>
          <p:spPr>
            <a:xfrm>
              <a:off x="1571760" y="260280"/>
              <a:ext cx="3549600" cy="1165320"/>
            </a:xfrm>
            <a:prstGeom prst="wedgeEllipseCallout">
              <a:avLst>
                <a:gd name="adj1" fmla="val 39064"/>
                <a:gd name="adj2" fmla="val 700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4"/>
            <p:cNvSpPr/>
            <p:nvPr/>
          </p:nvSpPr>
          <p:spPr>
            <a:xfrm>
              <a:off x="684360" y="2765520"/>
              <a:ext cx="4776480" cy="58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所有图书一律八折销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8"/>
            <p:cNvSpPr/>
            <p:nvPr/>
          </p:nvSpPr>
          <p:spPr>
            <a:xfrm>
              <a:off x="2028960" y="317520"/>
              <a:ext cx="291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我买一本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《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趣味数学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》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，打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八折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是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12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元，原价是多少元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6203880" y="550800"/>
              <a:ext cx="2616120" cy="1106640"/>
            </a:xfrm>
            <a:prstGeom prst="wedgeEllipseCallout">
              <a:avLst>
                <a:gd name="adj1" fmla="val -33611"/>
                <a:gd name="adj2" fmla="val 67865"/>
              </a:avLst>
            </a:prstGeom>
            <a:solidFill>
              <a:srgbClr val="ff99cc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6"/>
            <p:cNvSpPr/>
            <p:nvPr/>
          </p:nvSpPr>
          <p:spPr>
            <a:xfrm>
              <a:off x="6558120" y="609480"/>
              <a:ext cx="2190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我买一本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《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语故事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》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用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元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角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2441160" y="36450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先算出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成语故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的原价是多少元，再进行检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250920" y="403704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设一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语故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价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966960" y="4916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×80%=1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1839240" y="527688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10.4÷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1766160" y="5708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5406840" y="4076640"/>
            <a:ext cx="29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验：用原价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看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是等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6007680" y="48690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×80%=1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3"/>
          <p:cNvSpPr/>
          <p:nvPr/>
        </p:nvSpPr>
        <p:spPr>
          <a:xfrm>
            <a:off x="4427640" y="5300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用现价除以原价，看是不是打了八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4"/>
          <p:cNvSpPr/>
          <p:nvPr/>
        </p:nvSpPr>
        <p:spPr>
          <a:xfrm>
            <a:off x="5508720" y="566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4 ÷13=0.8=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404640"/>
            <a:ext cx="914400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折是十分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)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就是原价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 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打折率是（      ）。化成小数是（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1773360"/>
            <a:ext cx="91440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六折是十分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)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就是求原价的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打折率是（      ）。化成小数是（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0" y="314172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七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折是十分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)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就是求原价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即打折率是（    ）。化成小数是（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3203640" y="404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443640" y="40464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3203640" y="1773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6877080" y="1773360"/>
            <a:ext cx="11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500720" y="31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七点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33200" y="35863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2268360" y="1052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2268360" y="24210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3635280" y="3645000"/>
            <a:ext cx="12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0" y="4365720"/>
            <a:ext cx="856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某商品打七折销售，就表示现价是原价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现价比原价降低了（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466560" y="486900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5148360" y="486900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6084720" y="105264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6156360" y="242100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7093080" y="364500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0" y="5589720"/>
            <a:ext cx="90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某商品售价降低到原价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销售，就是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）折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成小数是（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395280" y="6021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八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4354560" y="6021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pic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684360" y="407664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文鼎ＰＯＰ－４"/>
              </a:rPr>
              <a:t>知识的积累，就像这些树叶，只有不断的叠加，才会突显它们的美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3"/>
          <p:cNvSpPr/>
          <p:nvPr/>
        </p:nvSpPr>
        <p:spPr>
          <a:xfrm>
            <a:off x="179280" y="105264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品打折扣都是以商品原价格为单位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17080" y="1052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50920" y="184464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件上衣现在打八折销售，就是比原价降低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7885080" y="2276640"/>
            <a:ext cx="45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179280" y="4365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种游戏卡先提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后来又按八五折出售，现价与原价相等。                           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7740720" y="4797360"/>
            <a:ext cx="45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50920" y="26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正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250920" y="2997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条裤子现在打八折销售，就是降低到原价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7667640" y="34290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9,-1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9,-1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3698640" cy="4724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4343400" y="838080"/>
            <a:ext cx="2819520" cy="13194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4"/>
          <p:cNvSpPr/>
          <p:nvPr/>
        </p:nvSpPr>
        <p:spPr>
          <a:xfrm>
            <a:off x="4643280" y="4581360"/>
            <a:ext cx="465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足球的现价是多少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5"/>
          <p:cNvSpPr txBox="1"/>
          <p:nvPr/>
        </p:nvSpPr>
        <p:spPr>
          <a:xfrm>
            <a:off x="228600" y="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充电驿站：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6516720" y="23493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4648320" y="2971800"/>
            <a:ext cx="51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现价是原价的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8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6516720" y="3068640"/>
            <a:ext cx="936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3698640" cy="47246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2895480" cy="13543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"/>
          <p:cNvSpPr/>
          <p:nvPr/>
        </p:nvSpPr>
        <p:spPr>
          <a:xfrm>
            <a:off x="4800600" y="3733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原价便宜了多少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5"/>
          <p:cNvSpPr txBox="1"/>
          <p:nvPr/>
        </p:nvSpPr>
        <p:spPr>
          <a:xfrm>
            <a:off x="0" y="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充电驿站：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212400829"/>
          <p:cNvPicPr/>
          <p:nvPr/>
        </p:nvPicPr>
        <p:blipFill>
          <a:blip r:embed="rId1"/>
          <a:stretch/>
        </p:blipFill>
        <p:spPr>
          <a:xfrm>
            <a:off x="380880" y="1219320"/>
            <a:ext cx="2743200" cy="396216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628160" y="838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同一件上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124080" y="16002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：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196880" y="2362320"/>
            <a:ext cx="40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现价打九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257000" y="3276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价格是升了，还是降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3200400" y="44197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谨防折扣背后的骗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5"/>
          <p:cNvSpPr/>
          <p:nvPr/>
        </p:nvSpPr>
        <p:spPr>
          <a:xfrm>
            <a:off x="457200" y="1219320"/>
            <a:ext cx="77724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同一品牌的海尔冰箱，甲商场标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64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元，八折销售；乙商场标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68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元，享受下乡补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元。去哪家买比较合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6"/>
          <p:cNvSpPr txBox="1"/>
          <p:nvPr/>
        </p:nvSpPr>
        <p:spPr>
          <a:xfrm>
            <a:off x="0" y="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化蛹成蝶：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4"/>
          <p:cNvSpPr txBox="1"/>
          <p:nvPr/>
        </p:nvSpPr>
        <p:spPr>
          <a:xfrm>
            <a:off x="304920" y="22860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只列式，不计算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0" y="981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买一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恤衫，原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如果打八折出售是多少元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24000" y="4005360"/>
            <a:ext cx="89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恤衫，原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现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打几折出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0" y="24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买一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恤衫，打八折出售后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原价是多少元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324000" y="5373720"/>
            <a:ext cx="89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恤衫，原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便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出售，打几折出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5"/>
          <p:cNvSpPr/>
          <p:nvPr/>
        </p:nvSpPr>
        <p:spPr>
          <a:xfrm>
            <a:off x="0" y="3141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买一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恤衫，打八折出售后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便宜多少元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0" y="1052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买一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恤衫，原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如果打八折出售，便宜了多少元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>
            <a:off x="304920" y="22860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只列式，不计算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76320" y="1193760"/>
            <a:ext cx="85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种型号的手机，原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现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打几折出售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1938600" y="314316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0÷1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九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WordArt 4"/>
          <p:cNvSpPr txBox="1"/>
          <p:nvPr/>
        </p:nvSpPr>
        <p:spPr>
          <a:xfrm>
            <a:off x="304920" y="22860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只列式，不计算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76320" y="1193760"/>
            <a:ext cx="85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在商店里花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钱买了一条牛仔裤，因为那儿的牛仔裤正在打七折销售。请同学们猜猜看，这条牛仔裤原价多少元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2889720" y="3357720"/>
            <a:ext cx="24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折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3199320" y="400068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这条牛仔裤原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5"/>
          <p:cNvSpPr/>
          <p:nvPr/>
        </p:nvSpPr>
        <p:spPr>
          <a:xfrm>
            <a:off x="3268800" y="4572000"/>
            <a:ext cx="147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7x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=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7"/>
          <p:cNvSpPr/>
          <p:nvPr/>
        </p:nvSpPr>
        <p:spPr>
          <a:xfrm>
            <a:off x="2535120" y="55720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检验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÷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七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pic13 副本 qwe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"/>
          <p:cNvSpPr/>
          <p:nvPr/>
        </p:nvSpPr>
        <p:spPr>
          <a:xfrm>
            <a:off x="611280" y="69228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林在商店买了一个书包，打了八五折花了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8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如果打七五折，需要多少钱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684360" y="1989000"/>
            <a:ext cx="3456000" cy="250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8÷8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68÷0.85×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80×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6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612720" y="5089680"/>
            <a:ext cx="7704360" cy="581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八五折就是原价的</a:t>
            </a:r>
            <a:r>
              <a:rPr b="0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5%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原价不知道，也就是求未知数的百分之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4645080" y="1989000"/>
            <a:ext cx="3672000" cy="301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：设原价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5%X=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=68÷0.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75%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6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9,-1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1874880" y="2492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见过促销的手段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216000" y="9288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0e14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e0e14"/>
                </a:solidFill>
                <a:latin typeface="黑体"/>
                <a:ea typeface="黑体"/>
              </a:rPr>
              <a:t>一种矿泉水，零售每瓶卖</a:t>
            </a:r>
            <a:r>
              <a:rPr b="0" lang="en-US" sz="3200" spc="-1" strike="noStrike">
                <a:solidFill>
                  <a:srgbClr val="0e0e14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e0e14"/>
                </a:solidFill>
                <a:latin typeface="黑体"/>
                <a:ea typeface="黑体"/>
              </a:rPr>
              <a:t>元，生产厂家为感谢广大顾客对产品的厚爱，特开展</a:t>
            </a:r>
            <a:r>
              <a:rPr b="0" lang="zh-CN" sz="3200" spc="-1" strike="noStrike">
                <a:solidFill>
                  <a:srgbClr val="0e0e14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0e0e14"/>
                </a:solidFill>
                <a:latin typeface="黑体"/>
                <a:ea typeface="黑体"/>
              </a:rPr>
              <a:t>买四赠一</a:t>
            </a:r>
            <a:r>
              <a:rPr b="0" lang="zh-CN" sz="3200" spc="-1" strike="noStrike">
                <a:solidFill>
                  <a:srgbClr val="0e0e14"/>
                </a:solidFill>
                <a:latin typeface="Times New Roman"/>
                <a:ea typeface="黑体"/>
              </a:rPr>
              <a:t>”</a:t>
            </a:r>
            <a:r>
              <a:rPr b="0" lang="zh-CN" sz="3200" spc="-1" strike="noStrike">
                <a:solidFill>
                  <a:srgbClr val="0e0e14"/>
                </a:solidFill>
                <a:latin typeface="黑体"/>
                <a:ea typeface="黑体"/>
              </a:rPr>
              <a:t>大酬宾活动，生产厂家的做法相当于打几折？</a:t>
            </a:r>
            <a:r>
              <a:rPr b="0" lang="zh-CN" sz="1800" spc="-1" strike="noStrike">
                <a:solidFill>
                  <a:srgbClr val="0e0e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613080" y="281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练习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3"/>
          <p:cNvSpPr/>
          <p:nvPr/>
        </p:nvSpPr>
        <p:spPr>
          <a:xfrm>
            <a:off x="1966320" y="3929040"/>
            <a:ext cx="50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÷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+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＝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八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3" descr="xin_0630808161122796198063"/>
          <p:cNvPicPr/>
          <p:nvPr/>
        </p:nvPicPr>
        <p:blipFill>
          <a:blip r:embed="rId1"/>
          <a:stretch/>
        </p:blipFill>
        <p:spPr>
          <a:xfrm>
            <a:off x="4356000" y="1341360"/>
            <a:ext cx="4321440" cy="3517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427640" y="3141720"/>
            <a:ext cx="2305080" cy="163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所有图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买三送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5"/>
          <p:cNvGrpSpPr/>
          <p:nvPr/>
        </p:nvGrpSpPr>
        <p:grpSpPr>
          <a:xfrm>
            <a:off x="179280" y="1341360"/>
            <a:ext cx="3888000" cy="3527640"/>
            <a:chOff x="179280" y="1341360"/>
            <a:chExt cx="3888000" cy="3527640"/>
          </a:xfrm>
        </p:grpSpPr>
        <p:pic>
          <p:nvPicPr>
            <p:cNvPr id="477" name="Picture 6" descr="QQ截图20130207095454"/>
            <p:cNvPicPr/>
            <p:nvPr/>
          </p:nvPicPr>
          <p:blipFill>
            <a:blip r:embed="rId2"/>
            <a:srcRect l="12111" t="20438" r="55262" b="23276"/>
            <a:stretch/>
          </p:blipFill>
          <p:spPr>
            <a:xfrm>
              <a:off x="179280" y="1341360"/>
              <a:ext cx="388800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Rectangle 7"/>
            <p:cNvSpPr/>
            <p:nvPr/>
          </p:nvSpPr>
          <p:spPr>
            <a:xfrm>
              <a:off x="971640" y="3357720"/>
              <a:ext cx="2520720" cy="1223640"/>
            </a:xfrm>
            <a:prstGeom prst="rect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8"/>
          <p:cNvSpPr/>
          <p:nvPr/>
        </p:nvSpPr>
        <p:spPr>
          <a:xfrm>
            <a:off x="684360" y="5013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老师要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趣味数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到哪家书店比较便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9,-1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pic13 副本 qwe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3"/>
          <p:cNvSpPr/>
          <p:nvPr/>
        </p:nvSpPr>
        <p:spPr>
          <a:xfrm>
            <a:off x="395280" y="549360"/>
            <a:ext cx="8497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旦快到了，小强想去买件新衣服，他在商场和专卖店发现同一款式的衣服，但价格确不同，商场里的原价是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3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现在按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八八折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售，且按打完折后的价钱，</a:t>
            </a:r>
            <a:r>
              <a:rPr b="0" lang="zh-CN" sz="3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满</a:t>
            </a:r>
            <a:r>
              <a:rPr b="0" lang="en-US" sz="3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200</a:t>
            </a:r>
            <a:r>
              <a:rPr b="0" lang="zh-CN" sz="3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送</a:t>
            </a:r>
            <a:r>
              <a:rPr b="0" lang="en-US" sz="3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20</a:t>
            </a:r>
            <a:r>
              <a:rPr b="0" lang="zh-CN" sz="3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元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金；现在专卖店里卖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1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并且所有商品一律</a:t>
            </a:r>
            <a:r>
              <a:rPr b="0" lang="zh-CN" sz="3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降价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20%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售，小强很犹豫，你能帮他想想买哪个更划算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468360" y="4076640"/>
            <a:ext cx="4608360" cy="122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88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=202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2.4-20=182.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5472000" y="3789360"/>
            <a:ext cx="3672000" cy="1860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20%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2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16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195640" y="6021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文鼎ＰＯＰ－４"/>
              </a:rPr>
              <a:t>答：在专卖店里买划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9,-1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609480" y="1295280"/>
            <a:ext cx="79250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要订购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科普读物。每本原价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三个摊位，优惠方式如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Ａ摊位：全部九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Ｂ摊位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为一套，优惠价　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套，不足一套的按原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Ｃ摊位：买四送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去哪个摊位买比较合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3"/>
          <p:cNvSpPr txBox="1"/>
          <p:nvPr/>
        </p:nvSpPr>
        <p:spPr>
          <a:xfrm>
            <a:off x="0" y="22860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化蛹成蝶：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095280" y="1828800"/>
            <a:ext cx="60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旦快到了，劳老师和学校部分老师一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，想到北京鸟巢、水立方观光游玩。一家旅行社“北京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游”的报价是每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，优惠方式有两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散客每人九折优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，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费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同学们以小组为单位帮郭老师出出主意，使我们的旅游费用最划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3"/>
          <p:cNvSpPr txBox="1"/>
          <p:nvPr/>
        </p:nvSpPr>
        <p:spPr>
          <a:xfrm>
            <a:off x="0" y="0"/>
            <a:ext cx="28814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有奖征集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3348000" y="260280"/>
            <a:ext cx="511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案最省钱的小组每人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获得麦当劳麦辣鸡翅一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4"/>
          <p:cNvSpPr/>
          <p:nvPr/>
        </p:nvSpPr>
        <p:spPr>
          <a:xfrm>
            <a:off x="613080" y="281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练习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660320" y="3571920"/>
            <a:ext cx="55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王叔叔买一辆自行车，付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原来买这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行车应付多少元？（自行车八五折出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04640" y="11253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171720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4205160" y="1111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录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680832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书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200960" y="202248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8.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3708000" y="202248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80.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6398640" y="202248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.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1427400" y="265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九折出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4020480" y="2741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五折出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6625440" y="2741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八八折出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1638720" y="5072040"/>
            <a:ext cx="629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台取暖器的原价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现在的售价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台取暖器是打几折出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pic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684360" y="407664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文鼎ＰＯＰ－４"/>
              </a:rPr>
              <a:t>知识的积累，就像这些树叶，只有不断的叠加，才会突显它们的美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" descr="201.jpg"/>
          <p:cNvPicPr/>
          <p:nvPr/>
        </p:nvPicPr>
        <p:blipFill>
          <a:blip r:embed="rId1"/>
          <a:stretch/>
        </p:blipFill>
        <p:spPr>
          <a:xfrm>
            <a:off x="197964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1" descr="2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1" descr="402.jpg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1" descr="101.jpg"/>
          <p:cNvPicPr/>
          <p:nvPr/>
        </p:nvPicPr>
        <p:blipFill>
          <a:blip r:embed="rId1"/>
          <a:stretch/>
        </p:blipFill>
        <p:spPr>
          <a:xfrm>
            <a:off x="2043000" y="0"/>
            <a:ext cx="50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2214720" y="250020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知道这些折扣代表什么意思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" descr="201.jpg"/>
          <p:cNvPicPr/>
          <p:nvPr/>
        </p:nvPicPr>
        <p:blipFill>
          <a:blip r:embed="rId1"/>
          <a:stretch/>
        </p:blipFill>
        <p:spPr>
          <a:xfrm>
            <a:off x="196056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3:12:36Z</dcterms:created>
  <dc:creator>www.12999.com</dc:creator>
  <dc:description>www.12999.com</dc:description>
  <cp:keywords>www.12999.com</cp:keywords>
  <dc:language>en-US</dc:language>
  <cp:lastModifiedBy>微软用户</cp:lastModifiedBy>
  <dcterms:modified xsi:type="dcterms:W3CDTF">2017-12-06T07:46:31Z</dcterms:modified>
  <cp:revision>7</cp:revision>
  <dc:subject>www.12999.com</dc:subject>
  <dc:title>www.12999.com</dc:title>
</cp:coreProperties>
</file>