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82D-EA98-44B6-9C69-DA455582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5CA-0BB8-4093-9982-986D39E0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289-3C99-4E56-B2BB-AD009096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871-C4FF-4F35-B803-627F07CA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CE37-DF4A-42DF-8496-B973BFEA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64DA-5582-41A4-B57A-B167CF67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7E81-4C98-4D53-BAB6-06557556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DF1C-24C3-470B-9DFB-B62D1CA4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02E5-25F5-4AFB-806B-59344CC1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CB05-A2EF-4600-AF53-7052FBF2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26AE-28E2-4B0C-AEAF-7B014C75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7F5-A89D-4E77-A25A-AA4122D6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FB29-7C53-46BE-97BE-4D779465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DA84-1F02-462B-8596-83E8821C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D099-E90A-4D86-97C1-D5D5EF0A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6D98-9C89-4D8F-BF0B-71C8D633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EEB4-6347-41E4-AFCC-E5906A5C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0E1-A4F8-4210-A613-49BDA729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1C5-BC50-4B9C-88BD-207DAD9F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E6B-5DE5-4556-AD8F-10353785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678-A94D-427F-9163-30B95746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29A-7C05-4F52-83E6-71DB5C1B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C55-79E8-47CA-9732-9E1CE131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5FF-B516-428F-8406-0439CE23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7FF7-2A8F-4347-AD02-1F9D5FDFC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09F8-8891-4635-AFB7-1D6126967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0" t="14647" r="0" b="0"/>
          <a:stretch/>
        </p:blipFill>
        <p:spPr>
          <a:xfrm>
            <a:off x="0" y="268200"/>
            <a:ext cx="9144000" cy="4875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539640" y="1276200"/>
            <a:ext cx="7704360" cy="155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的乘法口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2"/>
          <p:cNvSpPr/>
          <p:nvPr/>
        </p:nvSpPr>
        <p:spPr>
          <a:xfrm>
            <a:off x="2987640" y="477684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七星瓢虫"/>
          <p:cNvPicPr/>
          <p:nvPr/>
        </p:nvPicPr>
        <p:blipFill>
          <a:blip r:embed="rId1"/>
          <a:stretch/>
        </p:blipFill>
        <p:spPr>
          <a:xfrm>
            <a:off x="-324000" y="771480"/>
            <a:ext cx="3164040" cy="1797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七星瓢虫"/>
          <p:cNvPicPr/>
          <p:nvPr/>
        </p:nvPicPr>
        <p:blipFill>
          <a:blip r:embed="rId2"/>
          <a:stretch/>
        </p:blipFill>
        <p:spPr>
          <a:xfrm>
            <a:off x="2843280" y="771480"/>
            <a:ext cx="3166920" cy="1797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七星瓢虫"/>
          <p:cNvPicPr/>
          <p:nvPr/>
        </p:nvPicPr>
        <p:blipFill>
          <a:blip r:embed="rId3"/>
          <a:stretch/>
        </p:blipFill>
        <p:spPr>
          <a:xfrm>
            <a:off x="5977080" y="771480"/>
            <a:ext cx="3166920" cy="1797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七星瓢虫"/>
          <p:cNvPicPr/>
          <p:nvPr/>
        </p:nvPicPr>
        <p:blipFill>
          <a:blip r:embed="rId4"/>
          <a:stretch/>
        </p:blipFill>
        <p:spPr>
          <a:xfrm>
            <a:off x="-324000" y="2571840"/>
            <a:ext cx="3164040" cy="1800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8"/>
          <p:cNvSpPr/>
          <p:nvPr/>
        </p:nvSpPr>
        <p:spPr>
          <a:xfrm>
            <a:off x="3059280" y="285912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七星瓢虫的背上一共有多少个“星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3348000" y="34354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x7=28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e561c"/>
                </a:solidFill>
                <a:latin typeface="Arial"/>
              </a:rPr>
              <a:t>第四关：解决实际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孔雀开屏1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53020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3006720" y="4192560"/>
            <a:ext cx="485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da1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908000" y="2500200"/>
            <a:ext cx="486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da1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330720" y="2247840"/>
            <a:ext cx="485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da1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140360" y="700200"/>
            <a:ext cx="1081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da1"/>
                </a:solidFill>
                <a:latin typeface="Arial"/>
              </a:rPr>
              <a:t>2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327640" y="2409840"/>
            <a:ext cx="485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da1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5599080" y="3327480"/>
            <a:ext cx="485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da1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588000" y="4156200"/>
            <a:ext cx="122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da1"/>
                </a:solidFill>
                <a:latin typeface="Arial"/>
              </a:rPr>
              <a:t>2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1569600" y="303120"/>
            <a:ext cx="421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口 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655640" y="4192560"/>
            <a:ext cx="6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82c00"/>
                </a:solidFill>
                <a:latin typeface="Arial"/>
              </a:rPr>
              <a:t>4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916360" y="321948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82c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556000" y="149220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82c00"/>
                </a:solidFill>
                <a:latin typeface="Arial"/>
              </a:rPr>
              <a:t>4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4284720" y="199548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82c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5975280" y="160020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82c00"/>
                </a:solidFill>
                <a:latin typeface="Arial"/>
              </a:rPr>
              <a:t>3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624720" y="300348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82c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5508720" y="430056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82c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9600" y="1419120"/>
            <a:ext cx="729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孔雀开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4300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56000" y="3292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68360" y="15638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20667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19640" y="43718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72360" y="3076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24360" y="17082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24577" descr="389aa8fde089c55208244d10"/>
          <p:cNvPicPr/>
          <p:nvPr/>
        </p:nvPicPr>
        <p:blipFill>
          <a:blip r:embed="rId1"/>
          <a:stretch/>
        </p:blipFill>
        <p:spPr>
          <a:xfrm>
            <a:off x="1143000" y="0"/>
            <a:ext cx="3218040" cy="514368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24578"/>
          <p:cNvSpPr/>
          <p:nvPr/>
        </p:nvSpPr>
        <p:spPr>
          <a:xfrm>
            <a:off x="4518000" y="573120"/>
            <a:ext cx="329400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枫桥夜泊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3333ff"/>
                </a:solidFill>
                <a:latin typeface="Arial"/>
              </a:rPr>
              <a:t>月落乌啼霜满天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3333ff"/>
                </a:solidFill>
                <a:latin typeface="Arial"/>
              </a:rPr>
              <a:t>江枫渔火对愁眠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3333ff"/>
                </a:solidFill>
                <a:latin typeface="Arial"/>
              </a:rPr>
              <a:t>姑苏城外寒山寺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3333ff"/>
                </a:solidFill>
                <a:latin typeface="Arial"/>
              </a:rPr>
              <a:t>夜半钟声到客船</a:t>
            </a:r>
            <a:r>
              <a:rPr b="1" lang="zh-CN" sz="2100" spc="-1" strike="noStrike">
                <a:solidFill>
                  <a:srgbClr val="3333ff"/>
                </a:solidFill>
                <a:latin typeface="Arial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24579"/>
          <p:cNvSpPr/>
          <p:nvPr/>
        </p:nvSpPr>
        <p:spPr>
          <a:xfrm>
            <a:off x="4572000" y="4030560"/>
            <a:ext cx="302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99"/>
                </a:solidFill>
                <a:latin typeface="黑体"/>
                <a:ea typeface="黑体"/>
              </a:rPr>
              <a:t>这首诗的内容一共有（    ）个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24580"/>
          <p:cNvSpPr/>
          <p:nvPr/>
        </p:nvSpPr>
        <p:spPr>
          <a:xfrm>
            <a:off x="5381640" y="4300560"/>
            <a:ext cx="10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80360" y="1276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51640" y="18511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51640" y="2500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3076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" descr="111"/>
          <p:cNvPicPr/>
          <p:nvPr/>
        </p:nvPicPr>
        <p:blipFill>
          <a:blip r:embed="rId2"/>
          <a:srcRect l="0" t="0" r="0" b="4212"/>
          <a:stretch/>
        </p:blipFill>
        <p:spPr>
          <a:xfrm>
            <a:off x="0" y="0"/>
            <a:ext cx="91440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4.wav" descr=""/>
          <p:cNvPicPr/>
          <p:nvPr/>
        </p:nvPicPr>
        <p:blipFill>
          <a:blip r:embed="rId2"/>
          <a:stretch/>
        </p:blipFill>
        <p:spPr>
          <a:xfrm>
            <a:off x="4419720" y="2457360"/>
            <a:ext cx="304560" cy="228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北斗七星2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9" dur="3705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七巧板"/>
          <p:cNvPicPr/>
          <p:nvPr/>
        </p:nvPicPr>
        <p:blipFill>
          <a:blip r:embed="rId1"/>
          <a:stretch/>
        </p:blipFill>
        <p:spPr>
          <a:xfrm>
            <a:off x="2195640" y="789120"/>
            <a:ext cx="47354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db69dfa5792cded84710649a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 rot="1900200">
            <a:off x="1117440" y="295920"/>
            <a:ext cx="129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 rot="1991400">
            <a:off x="6879960" y="380592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 rot="2175000">
            <a:off x="6230880" y="315864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 rot="1900200">
            <a:off x="5654160" y="2672640"/>
            <a:ext cx="129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 rot="4017600">
            <a:off x="2570040" y="458640"/>
            <a:ext cx="97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 rot="19788000">
            <a:off x="3777480" y="837000"/>
            <a:ext cx="129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 rot="3204000">
            <a:off x="4874400" y="191880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rcRect l="0" t="14647" r="0" b="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35280" y="19242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节课，我们学习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468360" y="2284560"/>
          <a:ext cx="8353440" cy="1511280"/>
        </p:xfrm>
        <a:graphic>
          <a:graphicData uri="http://schemas.openxmlformats.org/drawingml/2006/table">
            <a:tbl>
              <a:tblPr/>
              <a:tblGrid>
                <a:gridCol w="1801800"/>
                <a:gridCol w="882720"/>
                <a:gridCol w="944640"/>
                <a:gridCol w="944280"/>
                <a:gridCol w="944640"/>
                <a:gridCol w="946080"/>
                <a:gridCol w="944640"/>
                <a:gridCol w="9446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684360" y="25002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船的只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329256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4720" y="32925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个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25002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1080" y="2500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7800" y="2500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65800" y="2500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29440" y="2500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7440" y="2500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74160" y="2500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3220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1080" y="3220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3220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11280" y="700200"/>
          <a:ext cx="403236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700200"/>
                    <a:ext cx="403236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0" y="987480"/>
          <a:ext cx="1297080" cy="11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87480"/>
                    <a:ext cx="12970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332000" y="987480"/>
          <a:ext cx="1297080" cy="11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987480"/>
                    <a:ext cx="1297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627280" y="987480"/>
          <a:ext cx="1295280" cy="116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987480"/>
                    <a:ext cx="129528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924360" y="987480"/>
          <a:ext cx="1295280" cy="116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4360" y="987480"/>
                    <a:ext cx="129528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219640" y="987480"/>
          <a:ext cx="1295640" cy="116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9640" y="987480"/>
                    <a:ext cx="129564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16720" y="987480"/>
          <a:ext cx="1295280" cy="116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16720" y="987480"/>
                    <a:ext cx="129528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848720" y="987480"/>
          <a:ext cx="1295280" cy="116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48720" y="987480"/>
                    <a:ext cx="129528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292720" y="3220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9440" y="3220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4360" y="3220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01080" y="3220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731960" y="374760"/>
            <a:ext cx="359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e1e20"/>
                </a:solidFill>
                <a:latin typeface="Times New Roman"/>
                <a:ea typeface="黑体"/>
              </a:rPr>
              <a:t>七的乘法口诀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428920" y="91116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700" spc="-1" strike="noStrike">
                <a:solidFill>
                  <a:srgbClr val="ff0000"/>
                </a:solidFill>
                <a:latin typeface="Times New Roman"/>
                <a:ea typeface="黑体"/>
              </a:rPr>
              <a:t>七得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428920" y="139212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700" spc="-1" strike="noStrike">
                <a:solidFill>
                  <a:srgbClr val="ff0000"/>
                </a:solidFill>
                <a:latin typeface="Times New Roman"/>
                <a:ea typeface="黑体"/>
              </a:rPr>
              <a:t>七十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428920" y="187488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700" spc="-1" strike="noStrike">
                <a:solidFill>
                  <a:srgbClr val="ff0000"/>
                </a:solidFill>
                <a:latin typeface="Times New Roman"/>
                <a:ea typeface="黑体"/>
              </a:rPr>
              <a:t>七二十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428920" y="235728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700" spc="-1" strike="noStrike">
                <a:solidFill>
                  <a:srgbClr val="ff0000"/>
                </a:solidFill>
                <a:latin typeface="Times New Roman"/>
                <a:ea typeface="黑体"/>
              </a:rPr>
              <a:t>七二十八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428920" y="284004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700" spc="-1" strike="noStrike">
                <a:solidFill>
                  <a:srgbClr val="ff0000"/>
                </a:solidFill>
                <a:latin typeface="Times New Roman"/>
                <a:ea typeface="黑体"/>
              </a:rPr>
              <a:t>七三十五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428920" y="326880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700" spc="-1" strike="noStrike">
                <a:solidFill>
                  <a:srgbClr val="ff0000"/>
                </a:solidFill>
                <a:latin typeface="Times New Roman"/>
                <a:ea typeface="黑体"/>
              </a:rPr>
              <a:t>七四十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428920" y="3751200"/>
            <a:ext cx="200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zh-CN" sz="2700" spc="-1" strike="noStrike">
                <a:solidFill>
                  <a:srgbClr val="ff0000"/>
                </a:solidFill>
                <a:latin typeface="Times New Roman"/>
                <a:ea typeface="黑体"/>
              </a:rPr>
              <a:t>七四十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1"/>
          <p:cNvSpPr/>
          <p:nvPr/>
        </p:nvSpPr>
        <p:spPr>
          <a:xfrm>
            <a:off x="2498040" y="91116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1"/>
          <p:cNvSpPr/>
          <p:nvPr/>
        </p:nvSpPr>
        <p:spPr>
          <a:xfrm>
            <a:off x="2498040" y="139212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1"/>
          <p:cNvSpPr/>
          <p:nvPr/>
        </p:nvSpPr>
        <p:spPr>
          <a:xfrm>
            <a:off x="2498040" y="187488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1"/>
          <p:cNvSpPr/>
          <p:nvPr/>
        </p:nvSpPr>
        <p:spPr>
          <a:xfrm>
            <a:off x="2498040" y="235728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四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1"/>
          <p:cNvSpPr/>
          <p:nvPr/>
        </p:nvSpPr>
        <p:spPr>
          <a:xfrm>
            <a:off x="2498040" y="284004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五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1"/>
          <p:cNvSpPr/>
          <p:nvPr/>
        </p:nvSpPr>
        <p:spPr>
          <a:xfrm>
            <a:off x="2498040" y="326880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1"/>
          <p:cNvSpPr/>
          <p:nvPr/>
        </p:nvSpPr>
        <p:spPr>
          <a:xfrm>
            <a:off x="2498040" y="375120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8"/>
          <p:cNvSpPr/>
          <p:nvPr/>
        </p:nvSpPr>
        <p:spPr>
          <a:xfrm>
            <a:off x="4643280" y="841680"/>
            <a:ext cx="437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8a"/>
                </a:solidFill>
                <a:latin typeface="Arial"/>
              </a:rPr>
              <a:t>每句口诀的第一个字依次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8a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、二、三、四、五、六、七</a:t>
            </a:r>
            <a:r>
              <a:rPr b="1" lang="zh-CN" sz="2000" spc="-1" strike="noStrike">
                <a:solidFill>
                  <a:srgbClr val="2d2d8a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8a"/>
                </a:solidFill>
                <a:latin typeface="Arial"/>
              </a:rPr>
              <a:t>第二个字都是“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七</a:t>
            </a:r>
            <a:r>
              <a:rPr b="1" lang="zh-CN" sz="2000" spc="-1" strike="noStrike">
                <a:solidFill>
                  <a:srgbClr val="2d2d8a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8a"/>
                </a:solidFill>
                <a:latin typeface="Arial"/>
              </a:rPr>
              <a:t>相邻两句口诀的得数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相差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9" descr=""/>
          <p:cNvPicPr/>
          <p:nvPr/>
        </p:nvPicPr>
        <p:blipFill>
          <a:blip r:embed="rId1"/>
          <a:stretch/>
        </p:blipFill>
        <p:spPr>
          <a:xfrm>
            <a:off x="5214960" y="3147840"/>
            <a:ext cx="3605040" cy="1851120"/>
          </a:xfrm>
          <a:prstGeom prst="rect">
            <a:avLst/>
          </a:prstGeom>
          <a:ln w="0">
            <a:noFill/>
          </a:ln>
        </p:spPr>
      </p:pic>
      <p:sp>
        <p:nvSpPr>
          <p:cNvPr id="135" name="圆角矩形标注 2"/>
          <p:cNvSpPr/>
          <p:nvPr/>
        </p:nvSpPr>
        <p:spPr>
          <a:xfrm>
            <a:off x="539640" y="339840"/>
            <a:ext cx="6918480" cy="2733480"/>
          </a:xfrm>
          <a:prstGeom prst="wedgeRoundRectCallout">
            <a:avLst>
              <a:gd name="adj1" fmla="val -4796"/>
              <a:gd name="adj2" fmla="val 6318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孙悟空在炼丹炉中七七四十九天，炼成火眼金睛。取经的路上遇到妖怪，不管三七二十一，举起金箍棒就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06920" y="1011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七七四十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1391760" y="18684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七二十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孙1.wma" descr=""/>
          <p:cNvPicPr/>
          <p:nvPr/>
        </p:nvPicPr>
        <p:blipFill>
          <a:blip r:embed="rId2"/>
          <a:stretch/>
        </p:blipFill>
        <p:spPr>
          <a:xfrm>
            <a:off x="8354880" y="4265640"/>
            <a:ext cx="465120" cy="466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孙悟空"/>
          <p:cNvPicPr/>
          <p:nvPr/>
        </p:nvPicPr>
        <p:blipFill>
          <a:blip r:embed="rId3"/>
          <a:stretch/>
        </p:blipFill>
        <p:spPr>
          <a:xfrm>
            <a:off x="0" y="3038400"/>
            <a:ext cx="914400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"/>
                            </p:stCondLst>
                            <p:childTnLst>
                              <p:par>
                                <p:cTn id="13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98844E-006 L -0.00035 -0.07145 E">
                                      <p:cBhvr>
                                        <p:cTn id="139" dur="125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48555E-006 L -0.00035 0.08255 E">
                                      <p:cBhvr>
                                        <p:cTn id="146" dur="125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555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0" r="49609" b="0"/>
          <a:stretch/>
        </p:blipFill>
        <p:spPr>
          <a:xfrm>
            <a:off x="468360" y="268200"/>
            <a:ext cx="3743280" cy="4391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55810" t="0" r="24805" b="0"/>
          <a:stretch/>
        </p:blipFill>
        <p:spPr>
          <a:xfrm>
            <a:off x="4859280" y="268200"/>
            <a:ext cx="32418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41112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e561c"/>
                </a:solidFill>
                <a:latin typeface="Arial"/>
              </a:rPr>
              <a:t>第一关：看口诀，说出乘法算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11318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四七二十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6360" y="1563840"/>
            <a:ext cx="489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×7=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×4=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720" y="285912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五七三十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77080" y="3292560"/>
            <a:ext cx="489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×7=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×5=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29322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七得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3363840"/>
            <a:ext cx="489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×7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×1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1640" y="11318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二七十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42712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六七四十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46560" y="1563840"/>
            <a:ext cx="489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×7=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×2=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2859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×7=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×6=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35798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七七四十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3940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×7=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92720" y="14922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七二十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00720" y="1924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×7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×3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76360" y="1563840"/>
            <a:ext cx="489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×4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32925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×5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3363840"/>
            <a:ext cx="489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×7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46560" y="1563840"/>
            <a:ext cx="489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×2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4720" y="2859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×7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3940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×7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1924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×7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9512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e561c"/>
                </a:solidFill>
                <a:latin typeface="Arial"/>
              </a:rPr>
              <a:t>第二关：看算式，说出乘法口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826920" y="163512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x7+7=                 4x7+7=                 5x7+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684360" y="2066760"/>
            <a:ext cx="122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x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x4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203640" y="213840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x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724360" y="2066760"/>
            <a:ext cx="13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x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x6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052720" y="1635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835280" y="20667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835280" y="26431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4211640" y="1635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427640" y="21384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4427640" y="27147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7020000" y="16351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6877080" y="20667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6877080" y="25718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3398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e561c"/>
                </a:solidFill>
                <a:latin typeface="Arial"/>
              </a:rPr>
              <a:t>第三关：算一算，填一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8920" y="1203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个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12034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个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27640" y="1203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个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32800" y="3507840"/>
            <a:ext cx="69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（   ），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少（   ）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67280" y="35082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7640" y="35082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9:25:13Z</dcterms:created>
  <dc:creator>Administrator</dc:creator>
  <dc:description/>
  <dc:language>en-US</dc:language>
  <cp:lastModifiedBy>asus</cp:lastModifiedBy>
  <dcterms:modified xsi:type="dcterms:W3CDTF">2017-11-15T05:31:17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</Properties>
</file>