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0.jpeg" ContentType="image/jpeg"/>
  <Override PartName="/ppt/media/image6.jpeg" ContentType="image/jpeg"/>
  <Override PartName="/ppt/media/chimes.wav" ContentType="audio/x-wav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6CFE-4C10-43DF-9886-64E8B276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64B-75D1-48DF-9C1D-EB52DA7A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197-246A-4177-8469-2CFD83E2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5B7-18CE-478C-AEED-A5D0E6F0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58D-BDC6-4CFE-8611-8832C5D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8DF-790D-454E-96F9-9CC674C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B74-0264-49C4-9A2C-1518EE9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49B-DDF5-4AB0-B3BF-E5128744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3A4-6EC9-4A90-A84C-C8CAF2C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680-5D53-4F25-967D-C84DC51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B56-99DD-45CC-8B7B-C4D201E9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733-643A-4A81-9C00-2660B964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26C6-D9AA-42A8-ADC3-AB3A1C856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Lenovo\Desktop\6×6.jpg"/>
          <p:cNvPicPr/>
          <p:nvPr/>
        </p:nvPicPr>
        <p:blipFill>
          <a:blip r:embed="rId2"/>
          <a:stretch/>
        </p:blipFill>
        <p:spPr>
          <a:xfrm>
            <a:off x="392040" y="2475000"/>
            <a:ext cx="7182000" cy="233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Lenovo\Desktop\乘法口诀\201611《7的乘法口诀》\底格.jpg"/>
          <p:cNvPicPr/>
          <p:nvPr/>
        </p:nvPicPr>
        <p:blipFill>
          <a:blip r:embed="rId3"/>
          <a:stretch/>
        </p:blipFill>
        <p:spPr>
          <a:xfrm>
            <a:off x="395280" y="2514600"/>
            <a:ext cx="8381880" cy="2714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8"/>
          <p:cNvSpPr/>
          <p:nvPr/>
        </p:nvSpPr>
        <p:spPr>
          <a:xfrm>
            <a:off x="406440" y="43974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六得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9"/>
          <p:cNvSpPr/>
          <p:nvPr/>
        </p:nvSpPr>
        <p:spPr>
          <a:xfrm>
            <a:off x="1603440" y="43974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二六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2798640" y="44100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三六十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1"/>
          <p:cNvSpPr/>
          <p:nvPr/>
        </p:nvSpPr>
        <p:spPr>
          <a:xfrm>
            <a:off x="3927600" y="441000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四六二十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2"/>
          <p:cNvSpPr/>
          <p:nvPr/>
        </p:nvSpPr>
        <p:spPr>
          <a:xfrm>
            <a:off x="5197320" y="43974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五六三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6289560" y="43974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六六三十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417600" y="250344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一得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395280" y="28749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二得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406440" y="326088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三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1619280" y="287496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二二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1619280" y="32688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二三得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2805120" y="32576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三三得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420840" y="364320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四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1619280" y="36450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二四得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793960" y="36432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三四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3995640" y="364320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四四十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06440" y="402588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一五得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1619280" y="402588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二五一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819520" y="4025880"/>
            <a:ext cx="11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三五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3995640" y="402588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四五二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9"/>
          <p:cNvSpPr/>
          <p:nvPr/>
        </p:nvSpPr>
        <p:spPr>
          <a:xfrm>
            <a:off x="5086440" y="40258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楷体"/>
                <a:ea typeface="楷体"/>
              </a:rPr>
              <a:t>五五二十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Users\Lenovo\Desktop\古诗2.jpg"/>
          <p:cNvPicPr/>
          <p:nvPr/>
        </p:nvPicPr>
        <p:blipFill>
          <a:blip r:embed="rId1"/>
          <a:stretch/>
        </p:blipFill>
        <p:spPr>
          <a:xfrm>
            <a:off x="612720" y="0"/>
            <a:ext cx="791856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4"/>
          <p:cNvGrpSpPr/>
          <p:nvPr/>
        </p:nvGrpSpPr>
        <p:grpSpPr>
          <a:xfrm>
            <a:off x="7885080" y="587520"/>
            <a:ext cx="1114560" cy="3025800"/>
            <a:chOff x="7885080" y="587520"/>
            <a:chExt cx="1114560" cy="3025800"/>
          </a:xfrm>
        </p:grpSpPr>
        <p:sp>
          <p:nvSpPr>
            <p:cNvPr id="181" name="右大括号 5"/>
            <p:cNvSpPr/>
            <p:nvPr/>
          </p:nvSpPr>
          <p:spPr>
            <a:xfrm>
              <a:off x="7885080" y="587520"/>
              <a:ext cx="287640" cy="3025800"/>
            </a:xfrm>
            <a:custGeom>
              <a:avLst/>
              <a:gdLst>
                <a:gd name="textAreaLeft" fmla="*/ 0 w 287640"/>
                <a:gd name="textAreaRight" fmla="*/ 103680 w 287640"/>
                <a:gd name="textAreaTop" fmla="*/ 15480 h 3025800"/>
                <a:gd name="textAreaBottom" fmla="*/ 3010320 h 30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10440"/>
                  </a:lnTo>
                  <a:cubicBezTo>
                    <a:pt x="10800" y="10620"/>
                    <a:pt x="16200" y="10800"/>
                    <a:pt x="21600" y="10800"/>
                  </a:cubicBezTo>
                  <a:cubicBezTo>
                    <a:pt x="16200" y="10800"/>
                    <a:pt x="10800" y="10980"/>
                    <a:pt x="10800" y="11160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6"/>
            <p:cNvSpPr/>
            <p:nvPr/>
          </p:nvSpPr>
          <p:spPr>
            <a:xfrm>
              <a:off x="8172720" y="18507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?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8"/>
          <p:cNvSpPr/>
          <p:nvPr/>
        </p:nvSpPr>
        <p:spPr>
          <a:xfrm>
            <a:off x="6372360" y="3716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8×7=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？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字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Lenovo\Desktop\彩虹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173640"/>
            <a:ext cx="12589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792000" cy="716580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1"/>
          <p:cNvGrpSpPr/>
          <p:nvPr/>
        </p:nvGrpSpPr>
        <p:grpSpPr>
          <a:xfrm>
            <a:off x="900000" y="333360"/>
            <a:ext cx="6058080" cy="1366920"/>
            <a:chOff x="900000" y="333360"/>
            <a:chExt cx="6058080" cy="1366920"/>
          </a:xfrm>
        </p:grpSpPr>
        <p:pic>
          <p:nvPicPr>
            <p:cNvPr id="67" name="Picture 2" descr="C:\Users\Lenovo\Desktop\sy_45203318568.jpg"/>
            <p:cNvPicPr/>
            <p:nvPr/>
          </p:nvPicPr>
          <p:blipFill>
            <a:blip r:embed="rId2"/>
            <a:stretch/>
          </p:blipFill>
          <p:spPr>
            <a:xfrm>
              <a:off x="5652360" y="333360"/>
              <a:ext cx="130572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流程图: 可选过程 3"/>
            <p:cNvSpPr/>
            <p:nvPr/>
          </p:nvSpPr>
          <p:spPr>
            <a:xfrm>
              <a:off x="900000" y="463320"/>
              <a:ext cx="4680360" cy="863280"/>
            </a:xfrm>
            <a:prstGeom prst="flowChartAlternateProcess">
              <a:avLst/>
            </a:prstGeom>
            <a:solidFill>
              <a:srgbClr val="92d050">
                <a:alpha val="31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前测情况发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" descr="C:\Users\Administrator\Desktop\201611《7的乘法口诀》\素材\底色.jpg"/>
          <p:cNvPicPr/>
          <p:nvPr/>
        </p:nvPicPr>
        <p:blipFill>
          <a:blip r:embed="rId3"/>
          <a:stretch/>
        </p:blipFill>
        <p:spPr>
          <a:xfrm>
            <a:off x="1730520" y="1628640"/>
            <a:ext cx="266364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124000" y="17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一七得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124000" y="234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二七十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050920" y="2997360"/>
            <a:ext cx="24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三七二十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0920" y="3645000"/>
            <a:ext cx="26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四七二十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058840" y="429264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五七三十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50920" y="4941720"/>
            <a:ext cx="25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六七四十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2050920" y="5516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楷体"/>
                <a:ea typeface="楷体"/>
              </a:rPr>
              <a:t>七七四十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2180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81160" y="480960"/>
            <a:ext cx="4749840" cy="16750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844640"/>
            <a:ext cx="7777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合作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先独立思考，把自己的想法写在《学习单》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每人选一种方法在小组中分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小组交流时认真倾听同学的发言，补充不同的方法，尽量不重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4365720"/>
            <a:ext cx="6553440" cy="1727280"/>
          </a:xfrm>
          <a:prstGeom prst="cloudCallout">
            <a:avLst>
              <a:gd name="adj1" fmla="val -45250"/>
              <a:gd name="adj2" fmla="val 64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49975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一比，哪一组想到的方法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746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Desktop\u=3909654186,3837698260&amp;fm=21&amp;gp=0.jpg"/>
          <p:cNvPicPr/>
          <p:nvPr/>
        </p:nvPicPr>
        <p:blipFill>
          <a:blip r:embed="rId2"/>
          <a:stretch/>
        </p:blipFill>
        <p:spPr>
          <a:xfrm>
            <a:off x="1692360" y="1268280"/>
            <a:ext cx="5040360" cy="518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5-587"/>
          <p:cNvPicPr/>
          <p:nvPr/>
        </p:nvPicPr>
        <p:blipFill>
          <a:blip r:embed="rId3"/>
          <a:stretch/>
        </p:blipFill>
        <p:spPr>
          <a:xfrm>
            <a:off x="7772400" y="9193320"/>
            <a:ext cx="109368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violet_butterfly"/>
          <p:cNvPicPr/>
          <p:nvPr/>
        </p:nvPicPr>
        <p:blipFill>
          <a:blip r:embed="rId4"/>
          <a:stretch/>
        </p:blipFill>
        <p:spPr>
          <a:xfrm>
            <a:off x="1332000" y="6858000"/>
            <a:ext cx="2286000" cy="1038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873520" y="526428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651640" y="216864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9280" y="508464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867280" y="40053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984320" y="36082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924360" y="11253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416320" y="177336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23"/>
          <p:cNvGrpSpPr/>
          <p:nvPr/>
        </p:nvGrpSpPr>
        <p:grpSpPr>
          <a:xfrm>
            <a:off x="4067280" y="2133720"/>
            <a:ext cx="380880" cy="3598560"/>
            <a:chOff x="4067280" y="2133720"/>
            <a:chExt cx="380880" cy="3598560"/>
          </a:xfrm>
        </p:grpSpPr>
        <p:sp>
          <p:nvSpPr>
            <p:cNvPr id="94" name="AutoShape 11"/>
            <p:cNvSpPr/>
            <p:nvPr/>
          </p:nvSpPr>
          <p:spPr>
            <a:xfrm>
              <a:off x="4067280" y="2133720"/>
              <a:ext cx="380880" cy="1799280"/>
            </a:xfrm>
            <a:prstGeom prst="upArrow">
              <a:avLst>
                <a:gd name="adj1" fmla="val 50000"/>
                <a:gd name="adj2" fmla="val 7499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1"/>
            <p:cNvSpPr/>
            <p:nvPr/>
          </p:nvSpPr>
          <p:spPr>
            <a:xfrm rot="10800000">
              <a:off x="4067280" y="3933000"/>
              <a:ext cx="380880" cy="1799280"/>
            </a:xfrm>
            <a:prstGeom prst="upArrow">
              <a:avLst>
                <a:gd name="adj1" fmla="val 50000"/>
                <a:gd name="adj2" fmla="val 749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6"/>
          <p:cNvGrpSpPr/>
          <p:nvPr/>
        </p:nvGrpSpPr>
        <p:grpSpPr>
          <a:xfrm>
            <a:off x="2555280" y="3141000"/>
            <a:ext cx="3502800" cy="1626480"/>
            <a:chOff x="2555280" y="3141000"/>
            <a:chExt cx="3502800" cy="1626480"/>
          </a:xfrm>
        </p:grpSpPr>
        <p:sp>
          <p:nvSpPr>
            <p:cNvPr id="97" name="AutoShape 11"/>
            <p:cNvSpPr/>
            <p:nvPr/>
          </p:nvSpPr>
          <p:spPr>
            <a:xfrm rot="6639000">
              <a:off x="4957920" y="3371400"/>
              <a:ext cx="381240" cy="1800000"/>
            </a:xfrm>
            <a:prstGeom prst="upArrow">
              <a:avLst>
                <a:gd name="adj1" fmla="val 50000"/>
                <a:gd name="adj2" fmla="val 7495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 rot="17439000">
              <a:off x="3273840" y="2736720"/>
              <a:ext cx="381240" cy="1800000"/>
            </a:xfrm>
            <a:prstGeom prst="upArrow">
              <a:avLst>
                <a:gd name="adj1" fmla="val 50000"/>
                <a:gd name="adj2" fmla="val 7495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9"/>
          <p:cNvGrpSpPr/>
          <p:nvPr/>
        </p:nvGrpSpPr>
        <p:grpSpPr>
          <a:xfrm>
            <a:off x="3304440" y="2275920"/>
            <a:ext cx="2201760" cy="3270960"/>
            <a:chOff x="3304440" y="2275920"/>
            <a:chExt cx="2201760" cy="3270960"/>
          </a:xfrm>
        </p:grpSpPr>
        <p:sp>
          <p:nvSpPr>
            <p:cNvPr id="100" name="AutoShape 11"/>
            <p:cNvSpPr/>
            <p:nvPr/>
          </p:nvSpPr>
          <p:spPr>
            <a:xfrm rot="12685200">
              <a:off x="3745440" y="377928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 rot="1885200">
              <a:off x="4683960" y="224316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2"/>
          <p:cNvGrpSpPr/>
          <p:nvPr/>
        </p:nvGrpSpPr>
        <p:grpSpPr>
          <a:xfrm>
            <a:off x="2916360" y="2493360"/>
            <a:ext cx="2818800" cy="2810880"/>
            <a:chOff x="2916360" y="2493360"/>
            <a:chExt cx="2818800" cy="2810880"/>
          </a:xfrm>
        </p:grpSpPr>
        <p:sp>
          <p:nvSpPr>
            <p:cNvPr id="103" name="AutoShape 11"/>
            <p:cNvSpPr/>
            <p:nvPr/>
          </p:nvSpPr>
          <p:spPr>
            <a:xfrm rot="18894000">
              <a:off x="3497760" y="236304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1"/>
            <p:cNvSpPr/>
            <p:nvPr/>
          </p:nvSpPr>
          <p:spPr>
            <a:xfrm rot="8094000">
              <a:off x="4772520" y="363420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45"/>
          <p:cNvGrpSpPr/>
          <p:nvPr/>
        </p:nvGrpSpPr>
        <p:grpSpPr>
          <a:xfrm>
            <a:off x="2877120" y="2677680"/>
            <a:ext cx="3021120" cy="2581920"/>
            <a:chOff x="2877120" y="2677680"/>
            <a:chExt cx="3021120" cy="2581920"/>
          </a:xfrm>
        </p:grpSpPr>
        <p:sp>
          <p:nvSpPr>
            <p:cNvPr id="106" name="AutoShape 11"/>
            <p:cNvSpPr/>
            <p:nvPr/>
          </p:nvSpPr>
          <p:spPr>
            <a:xfrm rot="3033000">
              <a:off x="4892040" y="249660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1"/>
            <p:cNvSpPr/>
            <p:nvPr/>
          </p:nvSpPr>
          <p:spPr>
            <a:xfrm rot="13833000">
              <a:off x="3502080" y="364032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1"/>
          <p:cNvGrpSpPr/>
          <p:nvPr/>
        </p:nvGrpSpPr>
        <p:grpSpPr>
          <a:xfrm>
            <a:off x="2904840" y="2471400"/>
            <a:ext cx="2818080" cy="2810160"/>
            <a:chOff x="2904840" y="2471400"/>
            <a:chExt cx="2818080" cy="2810160"/>
          </a:xfrm>
        </p:grpSpPr>
        <p:sp>
          <p:nvSpPr>
            <p:cNvPr id="109" name="AutoShape 11"/>
            <p:cNvSpPr/>
            <p:nvPr/>
          </p:nvSpPr>
          <p:spPr>
            <a:xfrm rot="18894000">
              <a:off x="3485880" y="2341440"/>
              <a:ext cx="381240" cy="1799280"/>
            </a:xfrm>
            <a:prstGeom prst="upArrow">
              <a:avLst>
                <a:gd name="adj1" fmla="val 50000"/>
                <a:gd name="adj2" fmla="val 7492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 rot="8094000">
              <a:off x="4760280" y="3611880"/>
              <a:ext cx="381240" cy="1799280"/>
            </a:xfrm>
            <a:prstGeom prst="upArrow">
              <a:avLst>
                <a:gd name="adj1" fmla="val 50000"/>
                <a:gd name="adj2" fmla="val 749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54"/>
          <p:cNvGrpSpPr/>
          <p:nvPr/>
        </p:nvGrpSpPr>
        <p:grpSpPr>
          <a:xfrm>
            <a:off x="2620080" y="3356640"/>
            <a:ext cx="3611520" cy="995760"/>
            <a:chOff x="2620080" y="3356640"/>
            <a:chExt cx="3611520" cy="995760"/>
          </a:xfrm>
        </p:grpSpPr>
        <p:sp>
          <p:nvSpPr>
            <p:cNvPr id="112" name="AutoShape 11"/>
            <p:cNvSpPr/>
            <p:nvPr/>
          </p:nvSpPr>
          <p:spPr>
            <a:xfrm rot="15604200">
              <a:off x="3348720" y="310932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"/>
            <p:cNvSpPr/>
            <p:nvPr/>
          </p:nvSpPr>
          <p:spPr>
            <a:xfrm rot="4804200">
              <a:off x="5121720" y="2799360"/>
              <a:ext cx="380880" cy="1800000"/>
            </a:xfrm>
            <a:prstGeom prst="upArrow">
              <a:avLst>
                <a:gd name="adj1" fmla="val 50000"/>
                <a:gd name="adj2" fmla="val 7502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0"/>
          <p:cNvSpPr/>
          <p:nvPr/>
        </p:nvSpPr>
        <p:spPr>
          <a:xfrm>
            <a:off x="3924360" y="329256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rebuchet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57"/>
          <p:cNvGrpSpPr/>
          <p:nvPr/>
        </p:nvGrpSpPr>
        <p:grpSpPr>
          <a:xfrm>
            <a:off x="1835280" y="0"/>
            <a:ext cx="5122800" cy="1368360"/>
            <a:chOff x="1835280" y="0"/>
            <a:chExt cx="5122800" cy="1368360"/>
          </a:xfrm>
        </p:grpSpPr>
        <p:pic>
          <p:nvPicPr>
            <p:cNvPr id="116" name="Picture 2" descr="C:\Users\Lenovo\Desktop\sy_45203318568.jpg"/>
            <p:cNvPicPr/>
            <p:nvPr/>
          </p:nvPicPr>
          <p:blipFill>
            <a:blip r:embed="rId5"/>
            <a:stretch/>
          </p:blipFill>
          <p:spPr>
            <a:xfrm>
              <a:off x="5652000" y="0"/>
              <a:ext cx="130608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流程图: 可选过程 59"/>
            <p:cNvSpPr/>
            <p:nvPr/>
          </p:nvSpPr>
          <p:spPr>
            <a:xfrm>
              <a:off x="1835280" y="130320"/>
              <a:ext cx="3744720" cy="864360"/>
            </a:xfrm>
            <a:prstGeom prst="flowChartAlternateProcess">
              <a:avLst/>
            </a:prstGeom>
            <a:solidFill>
              <a:srgbClr val="92d050">
                <a:alpha val="31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快乐大转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800000">
                                      <p:cBhvr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500000">
                                      <p:cBhvr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500000">
                                      <p:cBhvr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500000">
                                      <p:cBhvr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900000">
                                      <p:cBhvr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54936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×3=        7×5=          7×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×4=        7×7=          7×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×1=         4×7=          5×7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162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27560" y="162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62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306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06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3080" y="306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50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450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450864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60280"/>
            <a:ext cx="273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隶书"/>
              </a:rPr>
              <a:t>算一算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隶书"/>
              <a:ea typeface="华文隶书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86040" y="2608200"/>
            <a:ext cx="15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×7+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86040" y="32846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×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86040" y="40053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×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260496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×7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640" y="32814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×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640" y="40021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×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13680" y="2565360"/>
            <a:ext cx="15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×7+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9640" y="32418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×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99640" y="39625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×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7440" y="256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7080" y="328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544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9800" y="256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5080" y="328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380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13440" y="2562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69080" y="3281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7800" y="4002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9890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七二十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98900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五七三十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206064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七四十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79524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算一算  ，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79736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29440" y="465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1773360"/>
            <a:ext cx="7992720" cy="4679640"/>
            <a:chOff x="0" y="1773360"/>
            <a:chExt cx="7992720" cy="46796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6022" t="23639" r="31043" b="57527"/>
            <a:stretch/>
          </p:blipFill>
          <p:spPr>
            <a:xfrm>
              <a:off x="0" y="1773360"/>
              <a:ext cx="7992720" cy="23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rcRect l="12490" t="56231" r="31253" b="23672"/>
            <a:stretch/>
          </p:blipFill>
          <p:spPr>
            <a:xfrm>
              <a:off x="764640" y="4114080"/>
              <a:ext cx="7228080" cy="233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组合 10"/>
          <p:cNvGrpSpPr/>
          <p:nvPr/>
        </p:nvGrpSpPr>
        <p:grpSpPr>
          <a:xfrm>
            <a:off x="1835280" y="247680"/>
            <a:ext cx="5524200" cy="1366920"/>
            <a:chOff x="1835280" y="247680"/>
            <a:chExt cx="5524200" cy="1366920"/>
          </a:xfrm>
        </p:grpSpPr>
        <p:pic>
          <p:nvPicPr>
            <p:cNvPr id="160" name="Picture 2" descr="C:\Users\Lenovo\Desktop\sy_45203318568.jpg"/>
            <p:cNvPicPr/>
            <p:nvPr/>
          </p:nvPicPr>
          <p:blipFill>
            <a:blip r:embed="rId3"/>
            <a:stretch/>
          </p:blipFill>
          <p:spPr>
            <a:xfrm>
              <a:off x="6053400" y="247680"/>
              <a:ext cx="13060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流程图: 可选过程 13"/>
            <p:cNvSpPr/>
            <p:nvPr/>
          </p:nvSpPr>
          <p:spPr>
            <a:xfrm>
              <a:off x="1835280" y="477000"/>
              <a:ext cx="4193280" cy="863280"/>
            </a:xfrm>
            <a:prstGeom prst="flowChartAlternateProcess">
              <a:avLst/>
            </a:prstGeom>
            <a:solidFill>
              <a:srgbClr val="92d050">
                <a:alpha val="31000"/>
              </a:srgbClr>
            </a:solidFill>
            <a:ln w="25560">
              <a:solidFill>
                <a:srgbClr val="2349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中的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矩形 14" descr=""/>
          <p:cNvPicPr/>
          <p:nvPr/>
        </p:nvPicPr>
        <p:blipFill>
          <a:blip r:embed="rId4"/>
          <a:stretch/>
        </p:blipFill>
        <p:spPr>
          <a:xfrm>
            <a:off x="4346640" y="-42840"/>
            <a:ext cx="1925640" cy="1663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16360" y="2133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1081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43401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1440" y="2060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61080" y="43401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16720" y="44118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C:\Users\Lenovo\Desktop\古诗1.jpg"/>
          <p:cNvPicPr/>
          <p:nvPr/>
        </p:nvPicPr>
        <p:blipFill>
          <a:blip r:embed="rId1"/>
          <a:stretch/>
        </p:blipFill>
        <p:spPr>
          <a:xfrm>
            <a:off x="611280" y="-17640"/>
            <a:ext cx="7920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11"/>
          <p:cNvGrpSpPr/>
          <p:nvPr/>
        </p:nvGrpSpPr>
        <p:grpSpPr>
          <a:xfrm>
            <a:off x="7885080" y="692280"/>
            <a:ext cx="1042920" cy="1441440"/>
            <a:chOff x="7885080" y="692280"/>
            <a:chExt cx="1042920" cy="1441440"/>
          </a:xfrm>
        </p:grpSpPr>
        <p:sp>
          <p:nvSpPr>
            <p:cNvPr id="171" name="右大括号 3"/>
            <p:cNvSpPr/>
            <p:nvPr/>
          </p:nvSpPr>
          <p:spPr>
            <a:xfrm>
              <a:off x="7885080" y="692280"/>
              <a:ext cx="287640" cy="1441440"/>
            </a:xfrm>
            <a:custGeom>
              <a:avLst/>
              <a:gdLst>
                <a:gd name="textAreaLeft" fmla="*/ 0 w 287640"/>
                <a:gd name="textAreaRight" fmla="*/ 103680 w 287640"/>
                <a:gd name="textAreaTop" fmla="*/ 7200 h 1441440"/>
                <a:gd name="textAreaBottom" fmla="*/ 143424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10440"/>
                  </a:lnTo>
                  <a:cubicBezTo>
                    <a:pt x="10800" y="10620"/>
                    <a:pt x="16200" y="10800"/>
                    <a:pt x="21600" y="10800"/>
                  </a:cubicBezTo>
                  <a:cubicBezTo>
                    <a:pt x="16200" y="10800"/>
                    <a:pt x="10800" y="10980"/>
                    <a:pt x="10800" y="11160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0"/>
            <p:cNvSpPr/>
            <p:nvPr/>
          </p:nvSpPr>
          <p:spPr>
            <a:xfrm>
              <a:off x="8100720" y="1167120"/>
              <a:ext cx="8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?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Box 12"/>
          <p:cNvSpPr/>
          <p:nvPr/>
        </p:nvSpPr>
        <p:spPr>
          <a:xfrm>
            <a:off x="5796000" y="2637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4×7=28(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字</a:t>
            </a:r>
            <a:r>
              <a:rPr b="1" lang="zh-CN" sz="2800" spc="-1" strike="noStrike">
                <a:solidFill>
                  <a:srgbClr val="0070c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Users\Lenovo\Desktop\古诗1.jpg"/>
          <p:cNvPicPr/>
          <p:nvPr/>
        </p:nvPicPr>
        <p:blipFill>
          <a:blip r:embed="rId1"/>
          <a:stretch/>
        </p:blipFill>
        <p:spPr>
          <a:xfrm>
            <a:off x="611280" y="-17640"/>
            <a:ext cx="7920000" cy="6875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2"/>
          <p:cNvSpPr/>
          <p:nvPr/>
        </p:nvSpPr>
        <p:spPr>
          <a:xfrm>
            <a:off x="5796000" y="2367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宋体"/>
              </a:rPr>
              <a:t>4×7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924360" y="968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连标题在内，一共多少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5796000" y="236844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718320" y="2368440"/>
            <a:ext cx="3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7T08:09:58Z</dcterms:created>
  <dc:creator>walkinnet</dc:creator>
  <dc:description/>
  <dc:language>en-US</dc:language>
  <cp:lastModifiedBy>walkinnet</cp:lastModifiedBy>
  <dcterms:modified xsi:type="dcterms:W3CDTF">2017-11-15T23:57:38Z</dcterms:modified>
  <cp:revision>15</cp:revision>
  <dc:subject/>
  <dc:title>幻灯片 1</dc:title>
</cp:coreProperties>
</file>