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17.png" ContentType="image/png"/>
  <Override PartName="/ppt/media/image15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chimes.wav" ContentType="audio/x-wav"/>
  <Override PartName="/ppt/media/image16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C67-74A0-4436-8DF9-9CF48A2B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DDEE-CF91-4BCF-9DF2-4CC49C63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45B-0E4C-40ED-A3C3-526EE182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2E29-5907-4A02-AC16-A17E9FFE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1892-D705-497A-A3A4-897ED0DD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4A19-1078-424A-88EA-9020BEC3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72B3-AB5C-4022-A547-65AB044C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1816-DF17-4386-8734-B3FCACFE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F67C-9389-4B9E-B4C6-D943826B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6F29-8AD5-4185-B6BE-D1CD4ACE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9A2B-E972-4FC4-B058-390E6112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D295-F622-4A3E-96AA-A4072273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AC94-0D7D-4DF5-AE96-DD647F60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D35F-C2C3-4690-8B2D-C716243F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0272-2503-4B34-96A6-9C4F5947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2FA8-5055-453C-9943-962A799C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96C3-E74C-4103-90E1-C256FF61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47C4-9CAE-452C-9EC9-4990484E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AAD8-961F-498C-9989-F9B1EE78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DF83-026F-4B3A-8F94-67A62985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A7E6-3193-480A-BCAD-0AB3ABE0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6D0F-CAC0-49A7-86EE-EDD95300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06C1-E71F-412C-BC17-77A0E687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3B5C-5F7B-4569-A0EE-D68BE2E9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2FC4-6B0B-4706-9083-AFEA8C342C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F998-32DC-4344-BAB7-102B270D7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:\七彩课堂插图板式封面\排版用图标、页眉页脚\标题jpg\课外书屋.jpg"/>
          <p:cNvPicPr/>
          <p:nvPr/>
        </p:nvPicPr>
        <p:blipFill>
          <a:blip r:embed="rId1"/>
          <a:stretch/>
        </p:blipFill>
        <p:spPr>
          <a:xfrm>
            <a:off x="6310440" y="4898880"/>
            <a:ext cx="2008080" cy="1403640"/>
          </a:xfrm>
          <a:prstGeom prst="rect">
            <a:avLst/>
          </a:prstGeom>
          <a:ln w="0">
            <a:noFill/>
          </a:ln>
        </p:spPr>
      </p:pic>
      <p:pic>
        <p:nvPicPr>
          <p:cNvPr id="83" name="矩形 4" descr=""/>
          <p:cNvPicPr/>
          <p:nvPr/>
        </p:nvPicPr>
        <p:blipFill>
          <a:blip r:embed="rId2"/>
          <a:stretch/>
        </p:blipFill>
        <p:spPr>
          <a:xfrm>
            <a:off x="2268360" y="907920"/>
            <a:ext cx="4969080" cy="936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1044720" y="25653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Arial"/>
                <a:ea typeface="华文新魏"/>
              </a:rPr>
              <a:t>男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044720" y="3784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华文新魏"/>
              </a:rPr>
              <a:t>女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11"/>
          <p:cNvGrpSpPr/>
          <p:nvPr/>
        </p:nvGrpSpPr>
        <p:grpSpPr>
          <a:xfrm>
            <a:off x="2644920" y="2565360"/>
            <a:ext cx="2895480" cy="1861920"/>
            <a:chOff x="2644920" y="2565360"/>
            <a:chExt cx="2895480" cy="1861920"/>
          </a:xfrm>
        </p:grpSpPr>
        <p:sp>
          <p:nvSpPr>
            <p:cNvPr id="87" name="TextBox 9"/>
            <p:cNvSpPr/>
            <p:nvPr/>
          </p:nvSpPr>
          <p:spPr>
            <a:xfrm>
              <a:off x="2644920" y="2565360"/>
              <a:ext cx="2895480" cy="642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62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10"/>
            <p:cNvSpPr/>
            <p:nvPr/>
          </p:nvSpPr>
          <p:spPr>
            <a:xfrm>
              <a:off x="2644920" y="3784680"/>
              <a:ext cx="2895480" cy="642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23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Box 9"/>
          <p:cNvSpPr/>
          <p:nvPr/>
        </p:nvSpPr>
        <p:spPr>
          <a:xfrm>
            <a:off x="2644920" y="2575080"/>
            <a:ext cx="3962160" cy="642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625366497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2644920" y="3794040"/>
            <a:ext cx="3809880" cy="642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34123412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2133720" y="1290600"/>
            <a:ext cx="5019480" cy="4348080"/>
            <a:chOff x="2133720" y="1290600"/>
            <a:chExt cx="5019480" cy="4348080"/>
          </a:xfrm>
        </p:grpSpPr>
        <p:pic>
          <p:nvPicPr>
            <p:cNvPr id="139" name="Picture 3" descr="u=152370923,2014982534&amp;gp=32"/>
            <p:cNvPicPr/>
            <p:nvPr/>
          </p:nvPicPr>
          <p:blipFill>
            <a:blip r:embed="rId2"/>
            <a:stretch/>
          </p:blipFill>
          <p:spPr>
            <a:xfrm>
              <a:off x="2133720" y="1290600"/>
              <a:ext cx="5019480" cy="36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4"/>
            <p:cNvSpPr/>
            <p:nvPr/>
          </p:nvSpPr>
          <p:spPr>
            <a:xfrm>
              <a:off x="4207320" y="5057280"/>
              <a:ext cx="103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日 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5"/>
          <p:cNvGrpSpPr/>
          <p:nvPr/>
        </p:nvGrpSpPr>
        <p:grpSpPr>
          <a:xfrm>
            <a:off x="2665440" y="998640"/>
            <a:ext cx="5019480" cy="4400280"/>
            <a:chOff x="2665440" y="998640"/>
            <a:chExt cx="5019480" cy="4400280"/>
          </a:xfrm>
        </p:grpSpPr>
        <p:pic>
          <p:nvPicPr>
            <p:cNvPr id="142" name="Picture 6" descr="u=3029901725,1967151295&amp;gp=40"/>
            <p:cNvPicPr/>
            <p:nvPr/>
          </p:nvPicPr>
          <p:blipFill>
            <a:blip r:embed="rId3"/>
            <a:stretch/>
          </p:blipFill>
          <p:spPr>
            <a:xfrm>
              <a:off x="2665440" y="998640"/>
              <a:ext cx="5019480" cy="36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7"/>
            <p:cNvSpPr/>
            <p:nvPr/>
          </p:nvSpPr>
          <p:spPr>
            <a:xfrm>
              <a:off x="4760280" y="4817520"/>
              <a:ext cx="183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日  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9"/>
          <p:cNvGrpSpPr/>
          <p:nvPr/>
        </p:nvGrpSpPr>
        <p:grpSpPr>
          <a:xfrm>
            <a:off x="1103400" y="1000080"/>
            <a:ext cx="5838480" cy="5064120"/>
            <a:chOff x="1103400" y="1000080"/>
            <a:chExt cx="5838480" cy="5064120"/>
          </a:xfrm>
        </p:grpSpPr>
        <p:grpSp>
          <p:nvGrpSpPr>
            <p:cNvPr id="145" name="Group 10"/>
            <p:cNvGrpSpPr/>
            <p:nvPr/>
          </p:nvGrpSpPr>
          <p:grpSpPr>
            <a:xfrm>
              <a:off x="1103400" y="1000080"/>
              <a:ext cx="5838480" cy="5064120"/>
              <a:chOff x="1103400" y="1000080"/>
              <a:chExt cx="5838480" cy="5064120"/>
            </a:xfrm>
          </p:grpSpPr>
          <p:sp>
            <p:nvSpPr>
              <p:cNvPr id="146" name="Line 11"/>
              <p:cNvSpPr/>
              <p:nvPr/>
            </p:nvSpPr>
            <p:spPr>
              <a:xfrm flipH="1">
                <a:off x="3828240" y="4559040"/>
                <a:ext cx="326880" cy="1080"/>
              </a:xfrm>
              <a:prstGeom prst="line">
                <a:avLst/>
              </a:prstGeom>
              <a:ln w="889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Group 12"/>
              <p:cNvGrpSpPr/>
              <p:nvPr/>
            </p:nvGrpSpPr>
            <p:grpSpPr>
              <a:xfrm>
                <a:off x="1103400" y="1000080"/>
                <a:ext cx="2616840" cy="2518200"/>
                <a:chOff x="1103400" y="1000080"/>
                <a:chExt cx="2616840" cy="2518200"/>
              </a:xfrm>
            </p:grpSpPr>
            <p:sp>
              <p:nvSpPr>
                <p:cNvPr id="148" name="Text Box 13"/>
                <p:cNvSpPr/>
                <p:nvPr/>
              </p:nvSpPr>
              <p:spPr>
                <a:xfrm>
                  <a:off x="2105280" y="2936880"/>
                  <a:ext cx="5562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66ff"/>
                      </a:solidFill>
                      <a:latin typeface="Times New Roman"/>
                      <a:ea typeface="宋体"/>
                    </a:rPr>
                    <a:t>春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9" name="Picture 14" descr="chun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103400" y="1000080"/>
                  <a:ext cx="2616840" cy="195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0" name="Group 15"/>
              <p:cNvGrpSpPr/>
              <p:nvPr/>
            </p:nvGrpSpPr>
            <p:grpSpPr>
              <a:xfrm>
                <a:off x="4376880" y="1000080"/>
                <a:ext cx="2565000" cy="2545560"/>
                <a:chOff x="4376880" y="1000080"/>
                <a:chExt cx="2565000" cy="2545560"/>
              </a:xfrm>
            </p:grpSpPr>
            <p:pic>
              <p:nvPicPr>
                <p:cNvPr id="151" name="Picture 16" descr="u=3884215345,3458161094&amp;gp=-28[1]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376880" y="1000080"/>
                  <a:ext cx="2565000" cy="197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Text Box 17"/>
                <p:cNvSpPr/>
                <p:nvPr/>
              </p:nvSpPr>
              <p:spPr>
                <a:xfrm>
                  <a:off x="5460120" y="2964240"/>
                  <a:ext cx="569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66ff"/>
                      </a:solidFill>
                      <a:latin typeface="Times New Roman"/>
                      <a:ea typeface="宋体"/>
                    </a:rPr>
                    <a:t>夏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Line 18"/>
              <p:cNvSpPr/>
              <p:nvPr/>
            </p:nvSpPr>
            <p:spPr>
              <a:xfrm>
                <a:off x="3885840" y="2071800"/>
                <a:ext cx="381240" cy="0"/>
              </a:xfrm>
              <a:prstGeom prst="line">
                <a:avLst/>
              </a:prstGeom>
              <a:ln w="889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Group 19"/>
              <p:cNvGrpSpPr/>
              <p:nvPr/>
            </p:nvGrpSpPr>
            <p:grpSpPr>
              <a:xfrm>
                <a:off x="4376880" y="3454920"/>
                <a:ext cx="2565000" cy="2609280"/>
                <a:chOff x="4376880" y="3454920"/>
                <a:chExt cx="2565000" cy="2609280"/>
              </a:xfrm>
            </p:grpSpPr>
            <p:pic>
              <p:nvPicPr>
                <p:cNvPr id="155" name="Picture 20" descr="it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6880" y="3454920"/>
                  <a:ext cx="2565000" cy="199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" name="Text Box 21"/>
                <p:cNvSpPr/>
                <p:nvPr/>
              </p:nvSpPr>
              <p:spPr>
                <a:xfrm>
                  <a:off x="5548320" y="5482800"/>
                  <a:ext cx="5565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66ff"/>
                      </a:solidFill>
                      <a:latin typeface="Times New Roman"/>
                      <a:ea typeface="宋体"/>
                    </a:rPr>
                    <a:t>秋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Line 22"/>
              <p:cNvSpPr/>
              <p:nvPr/>
            </p:nvSpPr>
            <p:spPr>
              <a:xfrm>
                <a:off x="5141160" y="3073680"/>
                <a:ext cx="0" cy="327240"/>
              </a:xfrm>
              <a:prstGeom prst="line">
                <a:avLst/>
              </a:prstGeom>
              <a:ln w="889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" name="Group 23"/>
              <p:cNvGrpSpPr/>
              <p:nvPr/>
            </p:nvGrpSpPr>
            <p:grpSpPr>
              <a:xfrm>
                <a:off x="1103400" y="3461040"/>
                <a:ext cx="2616840" cy="2590920"/>
                <a:chOff x="1103400" y="3461040"/>
                <a:chExt cx="2616840" cy="2590920"/>
              </a:xfrm>
            </p:grpSpPr>
            <p:pic>
              <p:nvPicPr>
                <p:cNvPr id="159" name="Picture 24" descr="u=709254482,251545388&amp;gp=-46[1]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03400" y="3461040"/>
                  <a:ext cx="2616840" cy="195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0" name="Text Box 25"/>
                <p:cNvSpPr/>
                <p:nvPr/>
              </p:nvSpPr>
              <p:spPr>
                <a:xfrm>
                  <a:off x="2103840" y="5470560"/>
                  <a:ext cx="557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66ff"/>
                      </a:solidFill>
                      <a:latin typeface="Times New Roman"/>
                      <a:ea typeface="宋体"/>
                    </a:rPr>
                    <a:t>冬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" name="Line 26"/>
            <p:cNvSpPr/>
            <p:nvPr/>
          </p:nvSpPr>
          <p:spPr>
            <a:xfrm flipH="1" flipV="1">
              <a:off x="2739240" y="3017880"/>
              <a:ext cx="1080" cy="327240"/>
            </a:xfrm>
            <a:prstGeom prst="line">
              <a:avLst/>
            </a:prstGeom>
            <a:ln w="889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7"/>
          <p:cNvGrpSpPr/>
          <p:nvPr/>
        </p:nvGrpSpPr>
        <p:grpSpPr>
          <a:xfrm>
            <a:off x="1130400" y="1816200"/>
            <a:ext cx="5946840" cy="3673440"/>
            <a:chOff x="1130400" y="1816200"/>
            <a:chExt cx="5946840" cy="3673440"/>
          </a:xfrm>
        </p:grpSpPr>
        <p:pic>
          <p:nvPicPr>
            <p:cNvPr id="163" name="Picture 38" descr=""/>
            <p:cNvPicPr/>
            <p:nvPr/>
          </p:nvPicPr>
          <p:blipFill>
            <a:blip r:embed="rId8"/>
            <a:stretch/>
          </p:blipFill>
          <p:spPr>
            <a:xfrm>
              <a:off x="1130400" y="1816200"/>
              <a:ext cx="5892840" cy="152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39" descr=""/>
            <p:cNvPicPr/>
            <p:nvPr/>
          </p:nvPicPr>
          <p:blipFill>
            <a:blip r:embed="rId9"/>
            <a:stretch/>
          </p:blipFill>
          <p:spPr>
            <a:xfrm>
              <a:off x="1184400" y="3888000"/>
              <a:ext cx="5892840" cy="160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Text Box 17"/>
          <p:cNvSpPr/>
          <p:nvPr/>
        </p:nvSpPr>
        <p:spPr>
          <a:xfrm>
            <a:off x="117360" y="3460680"/>
            <a:ext cx="888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星期一 星期二 星期三 星期四 星期五 星期六 星期日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dur="indefinite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9000"/>
                            </p:stCondLst>
                            <p:childTnLst>
                              <p:par>
                                <p:cTn id="237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3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2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6" dur="indefinite" nodeType="after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47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5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生肖歌（！）" descr=""/>
          <p:cNvPicPr/>
          <p:nvPr/>
        </p:nvPicPr>
        <p:blipFill>
          <a:blip r:embed="rId1"/>
          <a:stretch/>
        </p:blipFill>
        <p:spPr>
          <a:xfrm>
            <a:off x="-31680" y="549360"/>
            <a:ext cx="908028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7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截图未命名0"/>
          <p:cNvPicPr/>
          <p:nvPr/>
        </p:nvPicPr>
        <p:blipFill>
          <a:blip r:embed="rId1"/>
          <a:stretch/>
        </p:blipFill>
        <p:spPr>
          <a:xfrm>
            <a:off x="552600" y="693720"/>
            <a:ext cx="7881840" cy="37162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4515840" y="46101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图中盆花、彩灯和彩旗的排列有什么共同的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7236000" y="177012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822240" y="44280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左边起，盆花按怎样的规律排列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3" descr="QQ截图20140916201556"/>
          <p:cNvPicPr/>
          <p:nvPr/>
        </p:nvPicPr>
        <p:blipFill>
          <a:blip r:embed="rId1"/>
          <a:stretch/>
        </p:blipFill>
        <p:spPr>
          <a:xfrm>
            <a:off x="611280" y="1552680"/>
            <a:ext cx="6583320" cy="863640"/>
          </a:xfrm>
          <a:prstGeom prst="rect">
            <a:avLst/>
          </a:prstGeom>
          <a:ln w="0">
            <a:noFill/>
          </a:ln>
        </p:spPr>
      </p:pic>
      <p:sp>
        <p:nvSpPr>
          <p:cNvPr id="96" name="椭圆 40"/>
          <p:cNvSpPr/>
          <p:nvPr/>
        </p:nvSpPr>
        <p:spPr>
          <a:xfrm>
            <a:off x="536400" y="1533600"/>
            <a:ext cx="2303640" cy="99036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40"/>
          <p:cNvSpPr/>
          <p:nvPr/>
        </p:nvSpPr>
        <p:spPr>
          <a:xfrm>
            <a:off x="2816280" y="1515960"/>
            <a:ext cx="2303280" cy="99072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40"/>
          <p:cNvSpPr/>
          <p:nvPr/>
        </p:nvSpPr>
        <p:spPr>
          <a:xfrm>
            <a:off x="4968720" y="1515960"/>
            <a:ext cx="2303640" cy="99072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98360" y="31957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盆花的排列规律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盆花是什么颜色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QQ截图20140916201953"/>
          <p:cNvPicPr/>
          <p:nvPr/>
        </p:nvPicPr>
        <p:blipFill>
          <a:blip r:embed="rId1"/>
          <a:stretch/>
        </p:blipFill>
        <p:spPr>
          <a:xfrm>
            <a:off x="236520" y="988920"/>
            <a:ext cx="7880400" cy="2158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8028000" y="15541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-176040" y="266760"/>
            <a:ext cx="842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左边起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彩灯是按什么规律排列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252360" y="1122480"/>
            <a:ext cx="2521080" cy="136980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2916360" y="1193760"/>
            <a:ext cx="2520720" cy="122724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"/>
          <p:cNvSpPr/>
          <p:nvPr/>
        </p:nvSpPr>
        <p:spPr>
          <a:xfrm>
            <a:off x="5483160" y="1249200"/>
            <a:ext cx="2521080" cy="122724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61800" y="3425760"/>
            <a:ext cx="459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盏彩灯是什么颜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5048280" y="3448080"/>
            <a:ext cx="28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盏彩灯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349640" y="4143240"/>
            <a:ext cx="601200" cy="4604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红、紫、绿、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3772080" y="4127400"/>
            <a:ext cx="601200" cy="4604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红、紫、绿、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6283440" y="4127400"/>
            <a:ext cx="601200" cy="4604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红、紫、绿、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316160" y="4827600"/>
            <a:ext cx="601200" cy="4604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红、紫、绿、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827520" y="4827600"/>
            <a:ext cx="601200" cy="4604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红、紫、绿、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6238440" y="4844880"/>
            <a:ext cx="46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红、紫、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4789440" y="4815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6842160" y="48448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24"/>
          <p:cNvPicPr/>
          <p:nvPr/>
        </p:nvPicPr>
        <p:blipFill>
          <a:blip r:embed="rId1"/>
          <a:stretch/>
        </p:blipFill>
        <p:spPr>
          <a:xfrm>
            <a:off x="179280" y="404640"/>
            <a:ext cx="7285320" cy="244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7596360" y="1197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4"/>
          <p:cNvSpPr/>
          <p:nvPr/>
        </p:nvSpPr>
        <p:spPr>
          <a:xfrm>
            <a:off x="539640" y="404640"/>
            <a:ext cx="2271960" cy="175284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2843280" y="404640"/>
            <a:ext cx="2271600" cy="175284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95280" y="33544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左边起，彩旗是按什么规律排列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5194440" y="388800"/>
            <a:ext cx="2271600" cy="175284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截图未命名0"/>
          <p:cNvPicPr/>
          <p:nvPr/>
        </p:nvPicPr>
        <p:blipFill>
          <a:blip r:embed="rId1"/>
          <a:stretch/>
        </p:blipFill>
        <p:spPr>
          <a:xfrm>
            <a:off x="291960" y="785880"/>
            <a:ext cx="8852040" cy="3965400"/>
          </a:xfrm>
          <a:prstGeom prst="rect">
            <a:avLst/>
          </a:prstGeom>
          <a:ln w="0">
            <a:noFill/>
          </a:ln>
        </p:spPr>
      </p:pic>
      <p:sp>
        <p:nvSpPr>
          <p:cNvPr id="123" name="Oval 3"/>
          <p:cNvSpPr/>
          <p:nvPr/>
        </p:nvSpPr>
        <p:spPr>
          <a:xfrm>
            <a:off x="1724040" y="3666960"/>
            <a:ext cx="2127240" cy="67644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4"/>
          <p:cNvSpPr/>
          <p:nvPr/>
        </p:nvSpPr>
        <p:spPr>
          <a:xfrm>
            <a:off x="4067280" y="3666960"/>
            <a:ext cx="2244600" cy="60192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6311880" y="3705120"/>
            <a:ext cx="2335320" cy="60012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6"/>
          <p:cNvSpPr/>
          <p:nvPr/>
        </p:nvSpPr>
        <p:spPr>
          <a:xfrm>
            <a:off x="1952640" y="2401920"/>
            <a:ext cx="2114640" cy="62856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7"/>
          <p:cNvSpPr/>
          <p:nvPr/>
        </p:nvSpPr>
        <p:spPr>
          <a:xfrm>
            <a:off x="4194000" y="2382840"/>
            <a:ext cx="2248200" cy="66672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6499080" y="2436840"/>
            <a:ext cx="2286000" cy="59364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3027240" y="1197000"/>
            <a:ext cx="1905120" cy="60624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4932360" y="1195560"/>
            <a:ext cx="1816200" cy="60768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6875640" y="1305000"/>
            <a:ext cx="2023920" cy="56196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找找下面序列中哪个是周期现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□○○☆□○○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1221222……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CBABCA……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1495440" y="2104920"/>
            <a:ext cx="1746360" cy="69876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3201840" y="2087640"/>
            <a:ext cx="1746360" cy="69984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截图未命名"/>
          <p:cNvPicPr/>
          <p:nvPr/>
        </p:nvPicPr>
        <p:blipFill>
          <a:blip r:embed="rId1"/>
          <a:stretch/>
        </p:blipFill>
        <p:spPr>
          <a:xfrm>
            <a:off x="1116000" y="1917720"/>
            <a:ext cx="7072200" cy="14828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4"/>
          <p:cNvSpPr txBox="1"/>
          <p:nvPr/>
        </p:nvSpPr>
        <p:spPr>
          <a:xfrm>
            <a:off x="420840" y="741240"/>
            <a:ext cx="302256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小小设计师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990720" y="2220840"/>
            <a:ext cx="7572240" cy="19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列举生活中的周期现象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09:40:32Z</dcterms:created>
  <dc:creator>Administrator</dc:creator>
  <dc:description/>
  <dc:language>en-US</dc:language>
  <cp:lastModifiedBy>DELL</cp:lastModifiedBy>
  <dcterms:modified xsi:type="dcterms:W3CDTF">2017-10-19T03:24:28Z</dcterms:modified>
  <cp:revision>1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5</vt:lpwstr>
  </property>
</Properties>
</file>