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5C87-AC3D-4CB5-935E-FCE732740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3AEC-D67E-4B80-87A1-9A18CFCB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450A-A07B-488E-9863-24360737A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DC8A-8877-448C-86B4-6790E1A6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7DA4-C317-4F31-A721-04F7B93A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E42E-4764-49FC-92E2-5456A3C5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2270-90C3-4B2D-BC1F-397594ED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928D-7A84-451B-90CD-4E972390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D016-E23B-409B-875F-5F921BA5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CE3B-62B0-4098-89E7-DA4DB2E8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F294-D684-4EA1-BD10-BCF6D1C1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DA43-0AEC-4550-802A-998BBA58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184A-CACF-41CB-88C8-DAB31013F0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076" descr="timg?image&amp;quality=80&amp;size=b9999_10000&amp;sec=1514533812963&amp;di=1d60893bd6a8b244c000eebb975baf72&amp;imgtype=0&amp;src=http%3A%2F%2Fimg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3078"/>
          <p:cNvSpPr txBox="1"/>
          <p:nvPr/>
        </p:nvSpPr>
        <p:spPr>
          <a:xfrm>
            <a:off x="468360" y="1052640"/>
            <a:ext cx="43196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的水果精灵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1116000" y="4724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礼河实验学校  徐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2051" descr="西瓜"/>
          <p:cNvPicPr/>
          <p:nvPr/>
        </p:nvPicPr>
        <p:blipFill>
          <a:blip r:embed="rId1"/>
          <a:stretch/>
        </p:blipFill>
        <p:spPr>
          <a:xfrm>
            <a:off x="0" y="0"/>
            <a:ext cx="1835280" cy="1751040"/>
          </a:xfrm>
          <a:prstGeom prst="rect">
            <a:avLst/>
          </a:prstGeom>
          <a:ln w="0">
            <a:noFill/>
          </a:ln>
        </p:spPr>
      </p:pic>
      <p:pic>
        <p:nvPicPr>
          <p:cNvPr id="45" name="图片 2052" descr="红苹果"/>
          <p:cNvPicPr/>
          <p:nvPr/>
        </p:nvPicPr>
        <p:blipFill>
          <a:blip r:embed="rId2"/>
          <a:srcRect l="27433" t="0" r="22240" b="0"/>
          <a:stretch/>
        </p:blipFill>
        <p:spPr>
          <a:xfrm>
            <a:off x="1908000" y="0"/>
            <a:ext cx="1584360" cy="21002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2054" descr="timg?image&amp;quality=80&amp;size=b9999_10000&amp;sec=1514532876238&amp;di=7ebb17a8d3d606a539c0d8a52d2ddcba&amp;imgtype=0&amp;src=http%3A%2F%2Fg"/>
          <p:cNvPicPr/>
          <p:nvPr/>
        </p:nvPicPr>
        <p:blipFill>
          <a:blip r:embed="rId3"/>
          <a:stretch/>
        </p:blipFill>
        <p:spPr>
          <a:xfrm>
            <a:off x="0" y="1989000"/>
            <a:ext cx="1728720" cy="16066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2055" descr="青苹果"/>
          <p:cNvPicPr/>
          <p:nvPr/>
        </p:nvPicPr>
        <p:blipFill>
          <a:blip r:embed="rId4"/>
          <a:stretch/>
        </p:blipFill>
        <p:spPr>
          <a:xfrm>
            <a:off x="3492360" y="189000"/>
            <a:ext cx="1944720" cy="17715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2057" descr="timg?image&amp;quality=80&amp;size=b9999_10000&amp;sec=1514532982278&amp;di=ab52c39535a58e431318a3318cf34ce2&amp;imgtype=0&amp;src=http%3A%2F%2Fimg"/>
          <p:cNvPicPr/>
          <p:nvPr/>
        </p:nvPicPr>
        <p:blipFill>
          <a:blip r:embed="rId5"/>
          <a:srcRect l="11120" t="4357" r="54313" b="19586"/>
          <a:stretch/>
        </p:blipFill>
        <p:spPr>
          <a:xfrm>
            <a:off x="2050920" y="1989000"/>
            <a:ext cx="1521000" cy="23767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2059" descr="timg?image&amp;quality=80&amp;size=b9999_10000&amp;sec=1514533054032&amp;di=0d497d7ecc1a3a4cb84930ef4ce36f3e&amp;imgtype=0&amp;src=http%3A%2F%2Fimgsrc"/>
          <p:cNvPicPr/>
          <p:nvPr/>
        </p:nvPicPr>
        <p:blipFill>
          <a:blip r:embed="rId6"/>
          <a:srcRect l="8835" t="0" r="29290" b="0"/>
          <a:stretch/>
        </p:blipFill>
        <p:spPr>
          <a:xfrm>
            <a:off x="0" y="3789360"/>
            <a:ext cx="1698480" cy="2622600"/>
          </a:xfrm>
          <a:prstGeom prst="rect">
            <a:avLst/>
          </a:prstGeom>
          <a:ln w="0">
            <a:noFill/>
          </a:ln>
        </p:spPr>
      </p:pic>
      <p:pic>
        <p:nvPicPr>
          <p:cNvPr id="50" name="图片 2060" descr="火龙果"/>
          <p:cNvPicPr/>
          <p:nvPr/>
        </p:nvPicPr>
        <p:blipFill>
          <a:blip r:embed="rId7"/>
          <a:srcRect l="26016" t="0" r="20018" b="0"/>
          <a:stretch/>
        </p:blipFill>
        <p:spPr>
          <a:xfrm>
            <a:off x="3635280" y="2060640"/>
            <a:ext cx="1860480" cy="23050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2062" descr="timg?image&amp;quality=80&amp;size=b9999_10000&amp;sec=1514533221786&amp;di=ed9f65c0f47e8d6277de035e5c1cdd6c&amp;imgtype=0&amp;src=http%3A%2F%2Fwww"/>
          <p:cNvPicPr/>
          <p:nvPr/>
        </p:nvPicPr>
        <p:blipFill>
          <a:blip r:embed="rId8"/>
          <a:srcRect l="0" t="0" r="51484" b="0"/>
          <a:stretch/>
        </p:blipFill>
        <p:spPr>
          <a:xfrm>
            <a:off x="1692360" y="4365720"/>
            <a:ext cx="1871640" cy="21762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2069" descr="timg?image&amp;quality=80&amp;size=b9999_10000&amp;sec=1514533622571&amp;di=44cd37b30fb75b5f4f0a057042c1aec9&amp;imgtype=0&amp;src=http%3A%2F%2Fpic"/>
          <p:cNvPicPr/>
          <p:nvPr/>
        </p:nvPicPr>
        <p:blipFill>
          <a:blip r:embed="rId9"/>
          <a:srcRect l="12730" t="2307" r="14307" b="2307"/>
          <a:stretch/>
        </p:blipFill>
        <p:spPr>
          <a:xfrm>
            <a:off x="3635280" y="4365720"/>
            <a:ext cx="1346400" cy="2349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651640" y="47628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观察水果的形状，说一说这些水果的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96000" y="364500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选择一种水果进行角色想象：说一说你想象中的角色特点和性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6858000" cy="3714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340000" y="479736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说一说“菠萝小薇”卡通形象的设计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6858000" cy="3714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340000" y="479736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说一说“乱臣贼子”卡通形象的设计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29T04:55:30Z</dcterms:created>
  <dc:creator>walkinnet</dc:creator>
  <dc:description/>
  <dc:language>en-US</dc:language>
  <cp:lastModifiedBy>walkinnet</cp:lastModifiedBy>
  <dcterms:modified xsi:type="dcterms:W3CDTF">2018-01-30T08:13:44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2</vt:lpwstr>
  </property>
</Properties>
</file>