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AEA-F560-487A-8428-B06E24D9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8BC-D843-43EB-96AA-FC25D629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E35-236E-40C7-B517-FA85765E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96A-7D46-4284-979D-8C14BC11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D5D-02A0-4201-B077-AA34EA5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106-F8DB-422C-A3C5-7ACCFCF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C8C-E4B7-4623-92FB-D5BD07D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960-32C9-4DE1-8FD2-95D6585C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D68-AE44-4E2F-917D-B001B37E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E02-A6DE-4226-964F-DB35167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6C9-75A1-4D72-94AA-488E258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FB2-D077-474C-8760-0DD431AC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77EB-6DFC-4FBB-AAD5-170E0D27B6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1280" y="515736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83664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中考专题复习：漫画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2967120"/>
            <a:ext cx="601200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2195640" y="765000"/>
            <a:ext cx="6769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04640"/>
            <a:ext cx="69120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题型二：揭示寓意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91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揭示这幅漫画的寓意，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字左右（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417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364500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由画面联想到生活、社会；由一个人联想到一类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5373720"/>
            <a:ext cx="3743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砍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2195640" y="765000"/>
            <a:ext cx="6769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836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砍树，人的脑袋不翼而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4067280" cy="460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3716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参考答案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类耗尽自然资源的结果必然是自取灭亡，所以我们要走可持续发展的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5373720"/>
            <a:ext cx="3743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砍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198900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类破坏森林（生态、环境），自然惩罚人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6640"/>
            <a:ext cx="1258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画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5000"/>
            <a:ext cx="1258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画面到生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2195640" y="765000"/>
            <a:ext cx="6769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90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了解画面内容并联系生活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7432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解题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700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挖掘道理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由表及里，由画面到生活，挖掘出漫画蕴含的深刻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924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揭露讽刺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概括寓意语言要简明，用词要讲究，一般可选用“反映”、“揭露”、“批判”、“讽刺”、“提倡”等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581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答题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这幅漫画告诉我们…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这幅漫画揭示（讽刺、批判、歌颂、警示）了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61"/>
          <p:cNvPicPr/>
          <p:nvPr/>
        </p:nvPicPr>
        <p:blipFill>
          <a:blip r:embed="rId1"/>
          <a:stretch/>
        </p:blipFill>
        <p:spPr>
          <a:xfrm>
            <a:off x="971640" y="1844640"/>
            <a:ext cx="6840360" cy="349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76120" y="107316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简要说明下面这幅漫画的寓意，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30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字左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5373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60602"/>
                </a:solidFill>
                <a:latin typeface="Arial"/>
                <a:ea typeface="仿宋_GB2312"/>
              </a:rPr>
              <a:t>寓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讽刺了社会上的一些某些虚伪的人，他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表面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看很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团结合作的集体意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，实际上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偷偷地为自己谋私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0"/>
            <a:ext cx="3672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实战演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005061206561675497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384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84360" y="5734080"/>
            <a:ext cx="78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60602"/>
                </a:solidFill>
                <a:latin typeface="Arial"/>
              </a:rPr>
              <a:t>参考答案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爱与碍  》、《还“我”生存空间》《扭曲的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484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中考链接：请给这幅漫画拟写一个标题，不能以“无题”为题，不超过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个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404640"/>
            <a:ext cx="69120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题型三：拟写标题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260280"/>
            <a:ext cx="7129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答题指导：拟写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26828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标题是漫画的眉目，它有揭示漫画寓意或讽刺对象的作用。拟定标题首先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弄清漫画讽刺的主体和漫画的主题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然后围绕着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讽刺的主体对象和主题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拟写标题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可直接以讽刺或颂扬的主体命名，也可扣住漫画的主题命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3657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法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讽刺性漫画可采用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《如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×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格式或者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反语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修辞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根据漫画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内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寓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取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5589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答案示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老友的困惑、如此“兄弟”、忘本、势利眼、发迹之后、“翻脸”不认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2691" t="29150" r="35063" b="50069"/>
          <a:stretch/>
        </p:blipFill>
        <p:spPr>
          <a:xfrm>
            <a:off x="250920" y="1197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战演练：请你为下面这则漫画拟写一个标题，不超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1052640"/>
            <a:ext cx="85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中考链接：学校提出了“我是社会一分子，大家一起讲文明”的口号，班会课上，有同学出示了下面这幅题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“目不斜视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的漫画，引发了大家的热议。你对这幅漫画有什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感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呢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020090402572304010587" descr="学科网(www.zxxk.com)--国内最大的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468360" y="3284640"/>
            <a:ext cx="8136000" cy="3313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89000"/>
            <a:ext cx="7775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题型四：谈感受（启示）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答案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争做文明绍兴人，不能只有漂亮的语言，还要有实际的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争做文明绍兴人，需要我们从自己做起，从身边的每一件小事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争做文明人，我们既要做“说”的巨人，更要做“行”的巨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W020090402572304010587" descr="学科网(www.zxxk.com)--国内最大的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395280" y="3573360"/>
            <a:ext cx="820908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260280"/>
            <a:ext cx="7129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方法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557360"/>
            <a:ext cx="86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作答此类题要注意以下几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漫画中说明（反映）了什么问题（现象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此现象会带来什么影响？（正面、反面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我们应如何应对？如何解决？有何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149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般答题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讽刺（揭示、批判、赞扬）了……人（行为、现象）；警示（启示、告诫）人们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60602"/>
                </a:solidFill>
                <a:latin typeface="黑体"/>
                <a:ea typeface="黑体"/>
              </a:rPr>
              <a:t>复 习 目 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8000" y="2349360"/>
            <a:ext cx="53280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明确中考考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熟悉常考题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掌握答题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实战演练：请欣赏下面漫画，说说你从中受到什么启发？（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32000" y="177336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参考答案：我们不能盲目模仿，要根据自身特点走适合自己的道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巩固练习一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用简洁的语言概括画面内容。（不超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字）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 ②看了上面漫画，你一定有很多感想，请写出你最想说的一句话。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6756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巩固练习二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下面是漫画《网络推手》和《自得其乐》，请选择其中一幅，简要概括其主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78487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0360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漫画是一种具有讽刺性或幽默性的绘画。多从生活现象和政治事件中取材，通过夸张、比喻等手法，借以讽刺、批评或颂扬某些人或事。漫画一般主要有标题、注释文字 、画面三部分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44622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29"/>
          <p:cNvSpPr/>
          <p:nvPr/>
        </p:nvSpPr>
        <p:spPr>
          <a:xfrm>
            <a:off x="468360" y="2708280"/>
            <a:ext cx="4319640" cy="792000"/>
          </a:xfrm>
          <a:prstGeom prst="wedgeRectCallout">
            <a:avLst>
              <a:gd name="adj1" fmla="val 88921"/>
              <a:gd name="adj2" fmla="val -70842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标题：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即题目，告知或暗示漫画的主题思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395280" y="4437000"/>
            <a:ext cx="4321080" cy="792360"/>
          </a:xfrm>
          <a:prstGeom prst="wedgeRectCallout">
            <a:avLst>
              <a:gd name="adj1" fmla="val 70060"/>
              <a:gd name="adj2" fmla="val -133569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注释文字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对画面情景的提示与注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8"/>
          <p:cNvSpPr/>
          <p:nvPr/>
        </p:nvSpPr>
        <p:spPr>
          <a:xfrm>
            <a:off x="395280" y="5734080"/>
            <a:ext cx="4897440" cy="504720"/>
          </a:xfrm>
          <a:prstGeom prst="wedgeRectCallout">
            <a:avLst>
              <a:gd name="adj1" fmla="val 64231"/>
              <a:gd name="adj2" fmla="val -148425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画面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是画面各“因素”构成的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7"/>
          <p:cNvSpPr/>
          <p:nvPr/>
        </p:nvSpPr>
        <p:spPr>
          <a:xfrm>
            <a:off x="5435640" y="4076640"/>
            <a:ext cx="3708360" cy="24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5"/>
          <p:cNvSpPr/>
          <p:nvPr/>
        </p:nvSpPr>
        <p:spPr>
          <a:xfrm>
            <a:off x="5148360" y="2781360"/>
            <a:ext cx="2376360" cy="1224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4"/>
          <p:cNvSpPr/>
          <p:nvPr/>
        </p:nvSpPr>
        <p:spPr>
          <a:xfrm>
            <a:off x="5940360" y="1916280"/>
            <a:ext cx="2735280" cy="87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常见题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描述画面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揭示寓意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拟写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综合考察（拟写公益广告、标语口号、感受启发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2195640" y="765000"/>
            <a:ext cx="6769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24000" y="2349360"/>
            <a:ext cx="309708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404640"/>
            <a:ext cx="69120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题型一：描述画面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763640" y="573408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6804000" cy="461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1773360"/>
            <a:ext cx="2268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60602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60602"/>
                </a:solidFill>
                <a:latin typeface="Arial"/>
              </a:rPr>
              <a:t>中考链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观察漫画《等待》，用简洁的文字介绍画面内容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字左右（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195640" y="765000"/>
            <a:ext cx="6769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00" y="2349360"/>
            <a:ext cx="309708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04640"/>
            <a:ext cx="69120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题型一：描述画面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6084720" cy="4611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773360"/>
            <a:ext cx="28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方法指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标题及注释文字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画面各要素（主体、背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细节：人物动作、语言和表情等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要主观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2195640" y="765000"/>
            <a:ext cx="6769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2349360"/>
            <a:ext cx="309708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63640" y="573408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611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869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0602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参考答案：这是一幅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题为“等待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漫画，画面中有一个人掉进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水里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只露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一只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正急待救援；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几个新闻记者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赶到现场，架起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摄像机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拿着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话筒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正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焦急的回头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他们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等待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救援者的出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93560" y="1052640"/>
            <a:ext cx="20091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等  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解题指导——描述画面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简明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说明画面内容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对漫画（图案）内容进行客观的介绍性说明。不添枝加叶，不添加个人情感，不议论，不抒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说明顺序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采用“由上到下”、“由左到右”、“由外到内”的说明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如有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标题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一定要把标题先写出来（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这是一幅题为……的画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，然后依次介绍画面内容（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先背景，后人物主体，注意人物动作、语言、表情等细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生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说明漫画内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介绍时可适当添加修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实战演练：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请用简洁的语言介绍下面这幅漫画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）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016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常州中考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11280" y="1773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参考答案：图的正中画着一个卡通人物，是个神态自若的酒店服务生，他身后是帷幕，他站在舞台中间，左手托着一个盘子，盘子上有一个和服务生形象相同的小人。图的左边有一行字“在你还没有成功之前，要学会推销自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457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2:17:58Z</dcterms:created>
  <dc:creator>fxzm</dc:creator>
  <dc:description/>
  <dc:language>en-US</dc:language>
  <cp:lastModifiedBy>User</cp:lastModifiedBy>
  <dcterms:modified xsi:type="dcterms:W3CDTF">2018-04-26T02:00:22Z</dcterms:modified>
  <cp:revision>27</cp:revision>
  <dc:subject/>
  <dc:title>幻灯片 1</dc:title>
</cp:coreProperties>
</file>