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27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31.jpeg" ContentType="image/jpeg"/>
  <Override PartName="/ppt/media/image5.jpeg" ContentType="image/jpeg"/>
  <Override PartName="/ppt/media/image35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6.jpeg" ContentType="image/jpeg"/>
  <Override PartName="/ppt/media/image18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43D-7010-426E-923B-AAA92035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E11-1644-447F-889E-83241D8F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7E2-7A8A-435B-905A-F1E0EA1D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4B7-A325-4857-A395-682F6829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688C-A92D-41CC-A0B5-6224D687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47B8-44FD-44E9-B153-FED18FA4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0D72-42C6-4FA3-ACCD-91827518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E0B9-867E-4117-AE64-4F447D38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B665-9F49-4A73-90FE-7566013B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F6E9-4545-49F3-8572-D74FE4AD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36AC-2838-4EBB-8427-C289B15D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9CC-8EB9-4B29-AB80-C2DAB266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CA6E-4BF6-4577-A59D-0EF3CE93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F46C-FF66-4B85-8A33-5D039FDC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5EC3-31C5-4A70-AFFA-16CC375B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8CC0-F8D6-4DF3-9DBC-C9337F41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8089-BD9A-4D96-A110-BCB1AEA6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3A91-7FA5-4494-BA46-3A96AE83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1DB-20A7-42FE-A9B2-30A8AB41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F05-5A4A-48F2-97AC-EEEE9CA4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DC2-2ED7-4758-AE86-6AED36F8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77BB-46DE-40C0-83E2-73B1FD53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3D3C-77B4-4F40-B061-B40DC5D4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BFAF-BA1B-4136-838D-9CD2A767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C537-79D5-43BE-B8DD-EAD5BCB9BC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3842-121A-48B1-A87A-B8A1407A8F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administrator\appdata\roaming\360se6\User Data\temp\image001.jpg"/>
          <p:cNvPicPr/>
          <p:nvPr/>
        </p:nvPicPr>
        <p:blipFill>
          <a:blip r:embed="rId1"/>
          <a:stretch/>
        </p:blipFill>
        <p:spPr>
          <a:xfrm>
            <a:off x="1752480" y="1600200"/>
            <a:ext cx="5715000" cy="3571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users\administrator\appdata\roaming\360se6\User Data\temp\image007.jpg"/>
          <p:cNvPicPr/>
          <p:nvPr/>
        </p:nvPicPr>
        <p:blipFill>
          <a:blip r:embed="rId2"/>
          <a:stretch/>
        </p:blipFill>
        <p:spPr>
          <a:xfrm>
            <a:off x="0" y="0"/>
            <a:ext cx="5715000" cy="3571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c:\users\administrator\appdata\roaming\360se6\User Data\temp\image023.jpg"/>
          <p:cNvPicPr/>
          <p:nvPr/>
        </p:nvPicPr>
        <p:blipFill>
          <a:blip r:embed="rId3"/>
          <a:stretch/>
        </p:blipFill>
        <p:spPr>
          <a:xfrm>
            <a:off x="3429000" y="0"/>
            <a:ext cx="5715000" cy="3571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c:\users\administrator\appdata\roaming\360se6\User Data\temp\image041.jpg"/>
          <p:cNvPicPr/>
          <p:nvPr/>
        </p:nvPicPr>
        <p:blipFill>
          <a:blip r:embed="rId4"/>
          <a:stretch/>
        </p:blipFill>
        <p:spPr>
          <a:xfrm>
            <a:off x="0" y="3286080"/>
            <a:ext cx="5715000" cy="3571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c:\users\administrator\appdata\roaming\360se6\User Data\temp\image037.jpg"/>
          <p:cNvPicPr/>
          <p:nvPr/>
        </p:nvPicPr>
        <p:blipFill>
          <a:blip r:embed="rId5"/>
          <a:stretch/>
        </p:blipFill>
        <p:spPr>
          <a:xfrm>
            <a:off x="3429000" y="3286080"/>
            <a:ext cx="5715000" cy="3571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c:\users\administrator\appdata\roaming\360se6\User Data\temp\image055.jpg"/>
          <p:cNvPicPr/>
          <p:nvPr/>
        </p:nvPicPr>
        <p:blipFill>
          <a:blip r:embed="rId6"/>
          <a:stretch/>
        </p:blipFill>
        <p:spPr>
          <a:xfrm>
            <a:off x="1447920" y="1295280"/>
            <a:ext cx="5715000" cy="3571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c:\users\administrator\appdata\roaming\360se6\User Data\temp\image057.jpg"/>
          <p:cNvPicPr/>
          <p:nvPr/>
        </p:nvPicPr>
        <p:blipFill>
          <a:blip r:embed="rId7"/>
          <a:stretch/>
        </p:blipFill>
        <p:spPr>
          <a:xfrm>
            <a:off x="1447920" y="1295280"/>
            <a:ext cx="5715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762120" y="2158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折线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804960" y="34290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柱形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66880" y="4616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饼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886200" y="47242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、反映数据的变化和趋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3809880" y="35193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黑体"/>
              </a:rPr>
              <a:t>2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、比较数据之间的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733920" y="2300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黑体"/>
              </a:rPr>
              <a:t>1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、显示数据间的比例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2286000" y="2590920"/>
            <a:ext cx="1676520" cy="2361960"/>
          </a:xfrm>
          <a:prstGeom prst="line">
            <a:avLst/>
          </a:prstGeom>
          <a:ln w="381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2362320" y="3809880"/>
            <a:ext cx="1447560" cy="0"/>
          </a:xfrm>
          <a:prstGeom prst="line">
            <a:avLst/>
          </a:prstGeom>
          <a:ln w="381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 flipH="1">
            <a:off x="1981080" y="2590920"/>
            <a:ext cx="1828800" cy="2286000"/>
          </a:xfrm>
          <a:prstGeom prst="line">
            <a:avLst/>
          </a:prstGeom>
          <a:ln w="381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466560" y="0"/>
            <a:ext cx="730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         </a:t>
            </a: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三、图表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90676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图表类型的适用情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矩形 36"/>
          <p:cNvSpPr/>
          <p:nvPr/>
        </p:nvSpPr>
        <p:spPr>
          <a:xfrm>
            <a:off x="1203480" y="1376280"/>
            <a:ext cx="2947680" cy="1897200"/>
          </a:xfrm>
          <a:prstGeom prst="rect">
            <a:avLst/>
          </a:prstGeom>
          <a:gradFill rotWithShape="0">
            <a:gsLst>
              <a:gs pos="0">
                <a:srgbClr val="595959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37"/>
          <p:cNvSpPr/>
          <p:nvPr/>
        </p:nvSpPr>
        <p:spPr>
          <a:xfrm>
            <a:off x="1728720" y="1376280"/>
            <a:ext cx="1897200" cy="1897200"/>
          </a:xfrm>
          <a:prstGeom prst="rect">
            <a:avLst/>
          </a:prstGeom>
          <a:gradFill rotWithShape="0">
            <a:gsLst>
              <a:gs pos="0">
                <a:srgbClr val="595959"/>
              </a:gs>
              <a:gs pos="100000">
                <a:srgbClr val="7f7f7f"/>
              </a:gs>
            </a:gsLst>
            <a:lin ang="189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8"/>
          <p:cNvSpPr/>
          <p:nvPr/>
        </p:nvSpPr>
        <p:spPr>
          <a:xfrm>
            <a:off x="1203480" y="1376280"/>
            <a:ext cx="2947680" cy="18972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89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39"/>
          <p:cNvSpPr/>
          <p:nvPr/>
        </p:nvSpPr>
        <p:spPr>
          <a:xfrm>
            <a:off x="1728720" y="1376280"/>
            <a:ext cx="1897200" cy="18972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d9d9d9"/>
              </a:gs>
            </a:gsLst>
            <a:lin ang="189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41"/>
          <p:cNvSpPr/>
          <p:nvPr/>
        </p:nvSpPr>
        <p:spPr>
          <a:xfrm>
            <a:off x="-6175440" y="299880"/>
            <a:ext cx="523800" cy="5828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[动画大师]_Oval 47"/>
          <p:cNvSpPr/>
          <p:nvPr/>
        </p:nvSpPr>
        <p:spPr>
          <a:xfrm>
            <a:off x="-4076640" y="1252440"/>
            <a:ext cx="973080" cy="1081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43"/>
          <p:cNvSpPr/>
          <p:nvPr/>
        </p:nvSpPr>
        <p:spPr>
          <a:xfrm>
            <a:off x="-5651640" y="476280"/>
            <a:ext cx="292320" cy="325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44"/>
          <p:cNvSpPr/>
          <p:nvPr/>
        </p:nvSpPr>
        <p:spPr>
          <a:xfrm>
            <a:off x="-5734080" y="801720"/>
            <a:ext cx="291960" cy="323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45"/>
          <p:cNvSpPr/>
          <p:nvPr/>
        </p:nvSpPr>
        <p:spPr>
          <a:xfrm>
            <a:off x="-5241960" y="1028880"/>
            <a:ext cx="291960" cy="3250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46"/>
          <p:cNvSpPr/>
          <p:nvPr/>
        </p:nvSpPr>
        <p:spPr>
          <a:xfrm>
            <a:off x="-4930920" y="1384200"/>
            <a:ext cx="292320" cy="324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47"/>
          <p:cNvSpPr/>
          <p:nvPr/>
        </p:nvSpPr>
        <p:spPr>
          <a:xfrm>
            <a:off x="-3103560" y="1019160"/>
            <a:ext cx="291960" cy="3254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48"/>
          <p:cNvSpPr/>
          <p:nvPr/>
        </p:nvSpPr>
        <p:spPr>
          <a:xfrm>
            <a:off x="-2198520" y="801720"/>
            <a:ext cx="291960" cy="32364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49"/>
          <p:cNvSpPr/>
          <p:nvPr/>
        </p:nvSpPr>
        <p:spPr>
          <a:xfrm>
            <a:off x="-1379520" y="-725400"/>
            <a:ext cx="291960" cy="32364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50"/>
          <p:cNvSpPr/>
          <p:nvPr/>
        </p:nvSpPr>
        <p:spPr>
          <a:xfrm>
            <a:off x="-5661000" y="808200"/>
            <a:ext cx="155520" cy="172800"/>
          </a:xfrm>
          <a:prstGeom prst="ellipse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51"/>
          <p:cNvSpPr/>
          <p:nvPr/>
        </p:nvSpPr>
        <p:spPr>
          <a:xfrm>
            <a:off x="-5322960" y="1254240"/>
            <a:ext cx="115920" cy="129960"/>
          </a:xfrm>
          <a:prstGeom prst="ellipse">
            <a:avLst/>
          </a:prstGeom>
          <a:solidFill>
            <a:srgbClr val="007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52"/>
          <p:cNvSpPr/>
          <p:nvPr/>
        </p:nvSpPr>
        <p:spPr>
          <a:xfrm>
            <a:off x="-4784760" y="1314360"/>
            <a:ext cx="291960" cy="324000"/>
          </a:xfrm>
          <a:prstGeom prst="ellipse">
            <a:avLst/>
          </a:prstGeom>
          <a:solidFill>
            <a:srgbClr val="cc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[动画大师]_Oval 27"/>
          <p:cNvSpPr/>
          <p:nvPr/>
        </p:nvSpPr>
        <p:spPr>
          <a:xfrm>
            <a:off x="-3002040" y="1092240"/>
            <a:ext cx="292320" cy="323640"/>
          </a:xfrm>
          <a:prstGeom prst="ellipse">
            <a:avLst/>
          </a:prstGeom>
          <a:solidFill>
            <a:srgbClr val="e36c0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54"/>
          <p:cNvSpPr/>
          <p:nvPr/>
        </p:nvSpPr>
        <p:spPr>
          <a:xfrm>
            <a:off x="-2344680" y="498600"/>
            <a:ext cx="291960" cy="323640"/>
          </a:xfrm>
          <a:prstGeom prst="ellipse">
            <a:avLst/>
          </a:prstGeom>
          <a:solidFill>
            <a:srgbClr val="cc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55"/>
          <p:cNvSpPr/>
          <p:nvPr/>
        </p:nvSpPr>
        <p:spPr>
          <a:xfrm>
            <a:off x="1846440" y="2198520"/>
            <a:ext cx="5011560" cy="22449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56"/>
          <p:cNvSpPr/>
          <p:nvPr/>
        </p:nvSpPr>
        <p:spPr>
          <a:xfrm>
            <a:off x="1843200" y="2120760"/>
            <a:ext cx="5594400" cy="2192400"/>
          </a:xfrm>
          <a:prstGeom prst="pie">
            <a:avLst/>
          </a:prstGeom>
          <a:noFill/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57"/>
          <p:cNvSpPr/>
          <p:nvPr/>
        </p:nvSpPr>
        <p:spPr>
          <a:xfrm>
            <a:off x="1930320" y="1849320"/>
            <a:ext cx="5345280" cy="2524320"/>
          </a:xfrm>
          <a:prstGeom prst="pie">
            <a:avLst/>
          </a:prstGeom>
          <a:noFill/>
          <a:ln w="158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58"/>
          <p:cNvSpPr/>
          <p:nvPr/>
        </p:nvSpPr>
        <p:spPr>
          <a:xfrm>
            <a:off x="1851120" y="2247840"/>
            <a:ext cx="5905440" cy="2249640"/>
          </a:xfrm>
          <a:prstGeom prst="pie">
            <a:avLst/>
          </a:prstGeom>
          <a:noFill/>
          <a:ln w="349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标注 59"/>
          <p:cNvSpPr/>
          <p:nvPr/>
        </p:nvSpPr>
        <p:spPr>
          <a:xfrm>
            <a:off x="3394080" y="5070600"/>
            <a:ext cx="2460600" cy="1671480"/>
          </a:xfrm>
          <a:prstGeom prst="wedgeRectCallout">
            <a:avLst>
              <a:gd name="adj1" fmla="val -12245"/>
              <a:gd name="adj2" fmla="val -64222"/>
            </a:avLst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掌握创建统计图表的基本操作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标注 60"/>
          <p:cNvSpPr/>
          <p:nvPr/>
        </p:nvSpPr>
        <p:spPr>
          <a:xfrm>
            <a:off x="6229440" y="4316400"/>
            <a:ext cx="2525760" cy="1849320"/>
          </a:xfrm>
          <a:prstGeom prst="wedgeRectCallout">
            <a:avLst>
              <a:gd name="adj1" fmla="val -27305"/>
              <a:gd name="adj2" fmla="val -80754"/>
            </a:avLst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根据实际需要恰当选择图表类型分析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标注 61"/>
          <p:cNvSpPr/>
          <p:nvPr/>
        </p:nvSpPr>
        <p:spPr>
          <a:xfrm>
            <a:off x="555480" y="4373640"/>
            <a:ext cx="2165400" cy="2195280"/>
          </a:xfrm>
          <a:prstGeom prst="wedgeRectCallout">
            <a:avLst>
              <a:gd name="adj1" fmla="val 20375"/>
              <a:gd name="adj2" fmla="val -67916"/>
            </a:avLst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了解统计图表的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62"/>
          <p:cNvSpPr/>
          <p:nvPr/>
        </p:nvSpPr>
        <p:spPr>
          <a:xfrm>
            <a:off x="1854360" y="2182680"/>
            <a:ext cx="5011560" cy="22449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63"/>
          <p:cNvSpPr/>
          <p:nvPr/>
        </p:nvSpPr>
        <p:spPr>
          <a:xfrm>
            <a:off x="1851120" y="2104920"/>
            <a:ext cx="5594400" cy="2192400"/>
          </a:xfrm>
          <a:prstGeom prst="pie">
            <a:avLst/>
          </a:pr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64"/>
          <p:cNvSpPr/>
          <p:nvPr/>
        </p:nvSpPr>
        <p:spPr>
          <a:xfrm>
            <a:off x="1938240" y="1833480"/>
            <a:ext cx="5345280" cy="2524320"/>
          </a:xfrm>
          <a:prstGeom prst="pie">
            <a:avLst/>
          </a:prstGeom>
          <a:noFill/>
          <a:ln w="158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65"/>
          <p:cNvSpPr/>
          <p:nvPr/>
        </p:nvSpPr>
        <p:spPr>
          <a:xfrm>
            <a:off x="1860480" y="2232000"/>
            <a:ext cx="5905440" cy="2249640"/>
          </a:xfrm>
          <a:prstGeom prst="pie">
            <a:avLst/>
          </a:prstGeom>
          <a:noFill/>
          <a:ln w="349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66"/>
          <p:cNvSpPr/>
          <p:nvPr/>
        </p:nvSpPr>
        <p:spPr>
          <a:xfrm>
            <a:off x="1203480" y="1376280"/>
            <a:ext cx="2947680" cy="189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7"/>
          <p:cNvSpPr/>
          <p:nvPr/>
        </p:nvSpPr>
        <p:spPr>
          <a:xfrm>
            <a:off x="1742040" y="1668600"/>
            <a:ext cx="2497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Segoe UI"/>
                <a:ea typeface="微软雅黑"/>
              </a:rPr>
              <a:t>数据图表及其分析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68"/>
          <p:cNvSpPr/>
          <p:nvPr/>
        </p:nvSpPr>
        <p:spPr>
          <a:xfrm>
            <a:off x="2006640" y="3360600"/>
            <a:ext cx="523800" cy="58284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[动画大师]_Oval 47"/>
          <p:cNvSpPr/>
          <p:nvPr/>
        </p:nvSpPr>
        <p:spPr>
          <a:xfrm>
            <a:off x="3828960" y="3633840"/>
            <a:ext cx="974880" cy="108108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70"/>
          <p:cNvSpPr/>
          <p:nvPr/>
        </p:nvSpPr>
        <p:spPr>
          <a:xfrm>
            <a:off x="6275520" y="2529000"/>
            <a:ext cx="1049040" cy="116496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标题 1"/>
          <p:cNvSpPr/>
          <p:nvPr/>
        </p:nvSpPr>
        <p:spPr>
          <a:xfrm>
            <a:off x="271440" y="-6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四、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37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78804 0.17334 C 0.78804 0.17403 0.95227 0.51385 1.06929 0.50251 C 1.18074 0.47959 1.30088 0.35297 1.39741 0.24394 C 1.49394 0.13538 1.59602 -0.0681 1.64828 -0.15027 E">
                                      <p:cBhvr>
                                        <p:cTn id="202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 calcmode="lin" valueType="num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37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54639 0.03563 C 0.54639 0.03656 0.66062 0.35947 0.77764 0.34813 C 0.85489 0.38007 0.93909 0.32174 1.03076 0.26896 C 1.12243 0.21619 1.26583 0.081 1.32764 0.03146 E">
                                      <p:cBhvr>
                                        <p:cTn id="207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 calcmode="lin" valueType="num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37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77797 0.16222 C 0.79637 0.20366 0.79568 0.38699 0.84047 0.44139 C 0.88526 0.49579 0.95627 0.52079 1.04672 0.48722 C 1.17103 0.4687 1.33075 0.31847 1.4311 0.21222 C 1.53144 0.10597 1.61217 -0.08986 1.64828 -0.15028 E">
                                      <p:cBhvr>
                                        <p:cTn id="212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  <p:anim calcmode="lin" valueType="num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37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.75558 0.11894 C 0.75558 0.11987 0.91044 0.47612 1.02746 0.46477 C 1.13996 0.44926 1.27398 0.35899 1.37746 0.25644 C 1.48093 0.15389 1.60298 -0.08268 1.64794 -0.1505 E">
                                      <p:cBhvr>
                                        <p:cTn id="217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 calcmode="lin" valueType="num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37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72676 0.08584 C 0.72676 0.08677 0.82225 0.43052 0.93926 0.41917 C 1.05072 0.39626 1.40332 0.13515 1.47364 0.09834 E">
                                      <p:cBhvr>
                                        <p:cTn id="222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 calcmode="lin" valueType="num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7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65836 0.02566 C 0.69638 0.07705 0.74013 0.2826 0.82398 0.32566 C 0.90783 0.36871 1.04481 0.35968 1.16148 0.28399 C 1.27815 0.2083 1.42259 -0.038 1.52398 -0.12851 E">
                                      <p:cBhvr>
                                        <p:cTn id="227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  <p:anim calcmode="lin" valueType="num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37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43978 0.0414 C 0.43978 0.04232 0.54776 0.46941 0.66478 0.45806 C 0.77623 0.43515 0.95418 0.33167 1.07728 0.2539 C 1.19967 0.16362 1.33127 -0.02897 1.39915 -0.0836 E">
                                      <p:cBhvr>
                                        <p:cTn id="232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 calcmode="lin" valueType="num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37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33787 0.23977 C 0.33787 0.2407 0.50211 0.51778 0.61912 0.50644 C 0.73058 0.48352 0.89377 0.31616 1.01061 0.21639 C 1.12745 0.11663 1.25558 -0.02782 1.31999 -0.09194 E">
                                      <p:cBhvr>
                                        <p:cTn id="237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 calcmode="lin" valueType="num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37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26374 0.49995 C 0.26374 0.50088 0.4679 0.71986 0.58492 0.70852 C 0.69636 0.6856 0.97155 0.37079 1.02624 0.34162 E">
                                      <p:cBhvr>
                                        <p:cTn id="242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 calcmode="lin" valueType="num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37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.76148 0.27473 C 0.76148 0.27566 0.91947 0.46108 1.03648 0.44973 C 1.14794 0.42682 1.2752 0.35807 1.37711 0.25807 C 1.45158 0.20321 1.42693 0.20575 1.48336 0.12057 E">
                                      <p:cBhvr>
                                        <p:cTn id="247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  <p:anim calcmode="lin" valueType="num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37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71704 0.18376 C 0.71704 0.18468 0.82815 0.40343 0.94516 0.39209 C 1.02485 0.39579 1.13787 0.32126 1.21391 0.25876 C 1.28995 0.19626 1.36704 0.04857 1.40141 0.01709 E">
                                      <p:cBhvr>
                                        <p:cTn id="252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 calcmode="lin" valueType="num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37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66114 0.15667 C 0.66114 0.1576 0.79725 0.37635 0.91426 0.365 C 1.02572 0.34209 1.27485 0.13283 1.34551 0.09834 E">
                                      <p:cBhvr>
                                        <p:cTn id="257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 calcmode="lin" valueType="num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37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49117 0.13908 C 0.49117 0.14001 0.57242 0.40158 0.70679 0.35575 C 0.78266 0.36038 0.89429 0.28908 0.96929 0.22241 C 1.04429 0.15575 1.11773 0.0113 1.15679 -0.04425 E">
                                      <p:cBhvr>
                                        <p:cTn id="262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 calcmode="lin" valueType="num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37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.40992 0.23792 C 0.44586 0.27125 0.55002 0.42195 0.62555 0.43792 C 0.70107 0.45389 0.79325 0.40482 0.86305 0.33398 C 0.93284 0.26315 1.00402 0.06269 1.0443 0.01315 E">
                                      <p:cBhvr>
                                        <p:cTn id="267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 calcmode="lin" valueType="num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Effect filter="wipe(up)" transition="in">
                                      <p:cBhvr additive="repl">
                                        <p:cTn id="27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 repeatCount="3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Effect filter="wipe(up)" transition="in">
                                      <p:cBhvr additive="repl">
                                        <p:cTn id="27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 repeatCount="3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Effect filter="wipe(up)" transition="in">
                                      <p:cBhvr additive="repl">
                                        <p:cTn id="28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" presetSubtype="16" repeatCount="3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Effect filter="wipe(up)" transition="in">
                                      <p:cBhvr additive="repl">
                                        <p:cTn id="2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标题 1"/>
          <p:cNvSpPr/>
          <p:nvPr/>
        </p:nvSpPr>
        <p:spPr>
          <a:xfrm>
            <a:off x="271440" y="-6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数据图表及其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42" descr=""/>
          <p:cNvPicPr/>
          <p:nvPr/>
        </p:nvPicPr>
        <p:blipFill>
          <a:blip r:embed="rId1"/>
          <a:stretch/>
        </p:blipFill>
        <p:spPr>
          <a:xfrm>
            <a:off x="822240" y="2492280"/>
            <a:ext cx="7991640" cy="2800440"/>
          </a:xfrm>
          <a:prstGeom prst="rect">
            <a:avLst/>
          </a:prstGeom>
          <a:ln w="0">
            <a:noFill/>
          </a:ln>
        </p:spPr>
      </p:pic>
      <p:sp>
        <p:nvSpPr>
          <p:cNvPr id="233" name="未知"/>
          <p:cNvSpPr/>
          <p:nvPr/>
        </p:nvSpPr>
        <p:spPr>
          <a:xfrm>
            <a:off x="1574640" y="3540240"/>
            <a:ext cx="487440" cy="225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未知"/>
          <p:cNvSpPr/>
          <p:nvPr/>
        </p:nvSpPr>
        <p:spPr>
          <a:xfrm>
            <a:off x="2457360" y="3110040"/>
            <a:ext cx="585720" cy="217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未知"/>
          <p:cNvSpPr/>
          <p:nvPr/>
        </p:nvSpPr>
        <p:spPr>
          <a:xfrm>
            <a:off x="1593720" y="3297240"/>
            <a:ext cx="1444680" cy="243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未知"/>
          <p:cNvSpPr/>
          <p:nvPr/>
        </p:nvSpPr>
        <p:spPr>
          <a:xfrm>
            <a:off x="1219320" y="3498840"/>
            <a:ext cx="1371600" cy="711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1685880" y="3990960"/>
            <a:ext cx="911160" cy="225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3165480" y="3828960"/>
            <a:ext cx="465120" cy="374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未知"/>
          <p:cNvSpPr/>
          <p:nvPr/>
        </p:nvSpPr>
        <p:spPr>
          <a:xfrm>
            <a:off x="3768840" y="3840120"/>
            <a:ext cx="333360" cy="357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未知"/>
          <p:cNvSpPr/>
          <p:nvPr/>
        </p:nvSpPr>
        <p:spPr>
          <a:xfrm>
            <a:off x="3921120" y="3840120"/>
            <a:ext cx="501480" cy="327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未知"/>
          <p:cNvSpPr/>
          <p:nvPr/>
        </p:nvSpPr>
        <p:spPr>
          <a:xfrm>
            <a:off x="5603760" y="3787920"/>
            <a:ext cx="217440" cy="104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未知"/>
          <p:cNvSpPr/>
          <p:nvPr/>
        </p:nvSpPr>
        <p:spPr>
          <a:xfrm>
            <a:off x="5788080" y="3319560"/>
            <a:ext cx="1147680" cy="888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未知"/>
          <p:cNvSpPr/>
          <p:nvPr/>
        </p:nvSpPr>
        <p:spPr>
          <a:xfrm>
            <a:off x="6149880" y="4302000"/>
            <a:ext cx="330120" cy="295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未知"/>
          <p:cNvSpPr/>
          <p:nvPr/>
        </p:nvSpPr>
        <p:spPr>
          <a:xfrm>
            <a:off x="5337000" y="4290840"/>
            <a:ext cx="822600" cy="644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未知"/>
          <p:cNvSpPr/>
          <p:nvPr/>
        </p:nvSpPr>
        <p:spPr>
          <a:xfrm>
            <a:off x="6060960" y="3683160"/>
            <a:ext cx="542880" cy="618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5753160" y="3338640"/>
            <a:ext cx="573120" cy="853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未知"/>
          <p:cNvSpPr/>
          <p:nvPr/>
        </p:nvSpPr>
        <p:spPr>
          <a:xfrm>
            <a:off x="5600880" y="3327480"/>
            <a:ext cx="633240" cy="469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未知"/>
          <p:cNvSpPr/>
          <p:nvPr/>
        </p:nvSpPr>
        <p:spPr>
          <a:xfrm>
            <a:off x="6483240" y="3840120"/>
            <a:ext cx="382680" cy="368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未知"/>
          <p:cNvSpPr/>
          <p:nvPr/>
        </p:nvSpPr>
        <p:spPr>
          <a:xfrm>
            <a:off x="6600960" y="3840120"/>
            <a:ext cx="360360" cy="368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未知"/>
          <p:cNvSpPr/>
          <p:nvPr/>
        </p:nvSpPr>
        <p:spPr>
          <a:xfrm>
            <a:off x="6988320" y="3844800"/>
            <a:ext cx="333360" cy="193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未知"/>
          <p:cNvSpPr/>
          <p:nvPr/>
        </p:nvSpPr>
        <p:spPr>
          <a:xfrm>
            <a:off x="6997680" y="3846600"/>
            <a:ext cx="318960" cy="338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未知"/>
          <p:cNvSpPr/>
          <p:nvPr/>
        </p:nvSpPr>
        <p:spPr>
          <a:xfrm>
            <a:off x="7032600" y="3827520"/>
            <a:ext cx="623880" cy="36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未知"/>
          <p:cNvSpPr/>
          <p:nvPr/>
        </p:nvSpPr>
        <p:spPr>
          <a:xfrm>
            <a:off x="7324560" y="3875040"/>
            <a:ext cx="281160" cy="29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未知"/>
          <p:cNvSpPr/>
          <p:nvPr/>
        </p:nvSpPr>
        <p:spPr>
          <a:xfrm>
            <a:off x="7359480" y="3954600"/>
            <a:ext cx="355680" cy="225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未知"/>
          <p:cNvSpPr/>
          <p:nvPr/>
        </p:nvSpPr>
        <p:spPr>
          <a:xfrm>
            <a:off x="2689200" y="3022560"/>
            <a:ext cx="911160" cy="870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未知"/>
          <p:cNvSpPr/>
          <p:nvPr/>
        </p:nvSpPr>
        <p:spPr>
          <a:xfrm>
            <a:off x="2857680" y="3840120"/>
            <a:ext cx="277560" cy="36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未知"/>
          <p:cNvSpPr/>
          <p:nvPr/>
        </p:nvSpPr>
        <p:spPr>
          <a:xfrm>
            <a:off x="2930400" y="3983040"/>
            <a:ext cx="319320" cy="217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未知"/>
          <p:cNvSpPr/>
          <p:nvPr/>
        </p:nvSpPr>
        <p:spPr>
          <a:xfrm>
            <a:off x="2641680" y="3840120"/>
            <a:ext cx="426960" cy="30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未知"/>
          <p:cNvSpPr/>
          <p:nvPr/>
        </p:nvSpPr>
        <p:spPr>
          <a:xfrm>
            <a:off x="2556000" y="3022560"/>
            <a:ext cx="1112760" cy="100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未知"/>
          <p:cNvSpPr/>
          <p:nvPr/>
        </p:nvSpPr>
        <p:spPr>
          <a:xfrm>
            <a:off x="2495520" y="3855960"/>
            <a:ext cx="341280" cy="341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未知"/>
          <p:cNvSpPr/>
          <p:nvPr/>
        </p:nvSpPr>
        <p:spPr>
          <a:xfrm>
            <a:off x="4514760" y="3757680"/>
            <a:ext cx="608040" cy="36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未知"/>
          <p:cNvSpPr/>
          <p:nvPr/>
        </p:nvSpPr>
        <p:spPr>
          <a:xfrm>
            <a:off x="4863960" y="3757680"/>
            <a:ext cx="314640" cy="36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未知"/>
          <p:cNvSpPr/>
          <p:nvPr/>
        </p:nvSpPr>
        <p:spPr>
          <a:xfrm>
            <a:off x="4933800" y="3902040"/>
            <a:ext cx="319320" cy="219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未知"/>
          <p:cNvSpPr/>
          <p:nvPr/>
        </p:nvSpPr>
        <p:spPr>
          <a:xfrm>
            <a:off x="6826320" y="3979800"/>
            <a:ext cx="230040" cy="138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未知"/>
          <p:cNvSpPr/>
          <p:nvPr/>
        </p:nvSpPr>
        <p:spPr>
          <a:xfrm>
            <a:off x="3486240" y="3979800"/>
            <a:ext cx="355680" cy="225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未知"/>
          <p:cNvSpPr/>
          <p:nvPr/>
        </p:nvSpPr>
        <p:spPr>
          <a:xfrm>
            <a:off x="3457440" y="3836880"/>
            <a:ext cx="327240" cy="36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图片 25" descr="羽毛.png"/>
          <p:cNvPicPr/>
          <p:nvPr/>
        </p:nvPicPr>
        <p:blipFill>
          <a:blip r:embed="rId2"/>
          <a:stretch/>
        </p:blipFill>
        <p:spPr>
          <a:xfrm rot="1350000">
            <a:off x="7877160" y="-488880"/>
            <a:ext cx="1239840" cy="3965400"/>
          </a:xfrm>
          <a:prstGeom prst="rect">
            <a:avLst/>
          </a:prstGeom>
          <a:ln w="0">
            <a:noFill/>
          </a:ln>
        </p:spPr>
      </p:pic>
      <p:sp>
        <p:nvSpPr>
          <p:cNvPr id="268" name="未知"/>
          <p:cNvSpPr/>
          <p:nvPr/>
        </p:nvSpPr>
        <p:spPr>
          <a:xfrm>
            <a:off x="4546440" y="2965320"/>
            <a:ext cx="1113120" cy="100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未知"/>
          <p:cNvSpPr/>
          <p:nvPr/>
        </p:nvSpPr>
        <p:spPr>
          <a:xfrm>
            <a:off x="4702320" y="2965320"/>
            <a:ext cx="911160" cy="870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未知"/>
          <p:cNvSpPr/>
          <p:nvPr/>
        </p:nvSpPr>
        <p:spPr>
          <a:xfrm>
            <a:off x="4114800" y="3828960"/>
            <a:ext cx="326880" cy="358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未知"/>
          <p:cNvSpPr/>
          <p:nvPr/>
        </p:nvSpPr>
        <p:spPr>
          <a:xfrm>
            <a:off x="4118040" y="3902040"/>
            <a:ext cx="498240" cy="29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611 -0.04786 C -0.53003 -0.05132 -0.50833 -0.06589 -0.49965 -0.06867 C -0.49097 -0.07144 -0.48785 -0.0682 -0.48403 -0.0645 C -0.48021 -0.0608 -0.47812 -0.04994 -0.47656 -0.04601 E">
                                      <p:cBhvr>
                                        <p:cTn id="331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09 -0.01294 C -0.62691 -0.01618 -0.61441 -0.02751 -0.6059 -0.03121 C -0.5974 -0.03491 -0.59687 -0.03676 -0.57986 -0.03537 C -0.56285 -0.03398 -0.52049 -0.02381 -0.50365 -0.02289 C -0.48681 -0.02196 -0.48281 -0.02566 -0.4783 -0.02913 C -0.47378 -0.0326 -0.47708 -0.04092 -0.47674 -0.04393 E">
                                      <p:cBhvr>
                                        <p:cTn id="337" dur="2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"/>
                            </p:stCondLst>
                            <p:childTnLst>
                              <p:par>
                                <p:cTn id="3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8472 -0.00069 C -0.58524 0.00185 -0.58212 0.01064 -0.58472 0.01411 C -0.58733 0.01758 -0.59427 0.01896 -0.60052 0.02035 C -0.60677 0.02174 -0.61736 0.02451 -0.62257 0.02197 C -0.62778 0.01943 -0.63038 0.0111 -0.63194 0.00532 C -0.63351 -0.00046 -0.63194 -0.00901 -0.63194 -0.01294 E">
                                      <p:cBhvr>
                                        <p:cTn id="343" dur="3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600"/>
                            </p:stCondLst>
                            <p:childTnLst>
                              <p:par>
                                <p:cTn id="3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9983 0.0585 C -0.57743 0.05064 -0.55486 0.04278 -0.54584 0.03954 E">
                                      <p:cBhvr>
                                        <p:cTn id="349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00"/>
                            </p:stCondLst>
                            <p:childTnLst>
                              <p:par>
                                <p:cTn id="3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6719 0.08717 C -0.65851 0.08602 -0.62986 0.0881 -0.61476 0.0807 C -0.59965 0.0733 -0.58507 0.05203 -0.57656 0.04324 C -0.56806 0.03446 -0.56927 0.03515 -0.56406 0.02798 C -0.55885 0.02081 -0.55 0.0081 -0.54497 0.00047 C -0.53993 -0.00716 -0.53611 -0.01456 -0.53385 -0.01849 E">
                                      <p:cBhvr>
                                        <p:cTn id="352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1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800"/>
                            </p:stCondLst>
                            <p:childTnLst>
                              <p:par>
                                <p:cTn id="3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6562 0.08717 C -0.65764 0.08694 -0.62865 0.08509 -0.61615 0.08509 C -0.60365 0.08509 -0.60104 0.08787 -0.59097 0.08717 C -0.5809 0.08648 -0.56736 0.08463 -0.55608 0.0807 C -0.54479 0.07677 -0.52969 0.06729 -0.52274 0.06382 E">
                                      <p:cBhvr>
                                        <p:cTn id="358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900"/>
                            </p:stCondLst>
                            <p:childTnLst>
                              <p:par>
                                <p:cTn id="3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292 0.06359 C -0.52014 0.06197 -0.51528 0.06451 -0.50816 0.05642 C -0.50104 0.04833 -0.49149 0.02914 -0.47986 0.01526 C -0.46823 0.00162 -0.44931 -0.01595 -0.43872 -0.02705 C -0.42812 -0.03815 -0.42083 -0.04393 -0.41632 -0.05202 C -0.41181 -0.06011 -0.41215 -0.07075 -0.41111 -0.0756 E">
                                      <p:cBhvr>
                                        <p:cTn id="364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25 -0.07838 C -0.41493 -0.07815 -0.41927 -0.08393 -0.42708 -0.07699 C -0.4349 -0.07005 -0.44826 -0.05109 -0.45937 -0.03676 C -0.47049 -0.02242 -0.4842 -0.00647 -0.49392 0.00902 C -0.50365 0.02451 -0.5125 0.04648 -0.51736 0.05642 E">
                                      <p:cBhvr>
                                        <p:cTn id="370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1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100"/>
                            </p:stCondLst>
                            <p:childTnLst>
                              <p:par>
                                <p:cTn id="3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736 0.05642 C -0.51927 0.06128 -0.52639 0.07954 -0.52882 0.08555 E">
                                      <p:cBhvr>
                                        <p:cTn id="376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1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"/>
                            </p:stCondLst>
                            <p:childTnLst>
                              <p:par>
                                <p:cTn id="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031 0.0407 C -0.47535 0.04324 -0.49201 0.04763 -0.50208 0.0555 C -0.51215 0.06336 -0.52465 0.08047 -0.53073 0.08717 E">
                                      <p:cBhvr>
                                        <p:cTn id="382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00"/>
                            </p:stCondLst>
                            <p:childTnLst>
                              <p:par>
                                <p:cTn id="3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097 0.08925 C -0.48785 0.08509 -0.47882 0.07168 -0.47517 0.06382 C -0.47153 0.05596 -0.47014 0.04717 -0.46875 0.04278 E">
                                      <p:cBhvr>
                                        <p:cTn id="388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400"/>
                            </p:stCondLst>
                            <p:childTnLst>
                              <p:par>
                                <p:cTn id="3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962 0.05596 C -0.42153 0.05318 -0.42465 0.03931 -0.42917 0.037 C -0.43368 0.03469 -0.44028 0.03769 -0.44653 0.04278 C -0.45278 0.04787 -0.46007 0.06081 -0.46719 0.06821 C -0.47431 0.07561 -0.4849 0.08347 -0.48958 0.0874 E">
                                      <p:cBhvr>
                                        <p:cTn id="394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052 0.03631 C -0.40208 0.03862 -0.4 0.04209 -0.40694 0.04972 C -0.41389 0.05735 -0.43333 0.07631 -0.44184 0.08255 C -0.45035 0.08879 -0.4559 0.09087 -0.45781 0.08694 C -0.45972 0.08301 -0.45694 0.06775 -0.45295 0.05943 C -0.44896 0.0511 -0.43924 0.04 -0.43385 0.03746 C -0.42847 0.03492 -0.42361 0.04 -0.42118 0.0437 C -0.41875 0.0474 -0.41997 0.05619 -0.41962 0.05943 E">
                                      <p:cBhvr>
                                        <p:cTn id="400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600"/>
                            </p:stCondLst>
                            <p:childTnLst>
                              <p:par>
                                <p:cTn id="4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67 0.03492 C -0.40156 0.04324 -0.41979 0.07469 -0.42587 0.08509 E">
                                      <p:cBhvr>
                                        <p:cTn id="406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700"/>
                            </p:stCondLst>
                            <p:childTnLst>
                              <p:par>
                                <p:cTn id="4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812 0.08856 C -0.42483 0.08879 -0.42135 0.08925 -0.41701 0.08763 C -0.41267 0.08602 -0.40642 0.08185 -0.40243 0.07908 C -0.39844 0.07631 -0.39566 0.0733 -0.39323 0.07076 C -0.3908 0.06752 -0.38854 0.06128 -0.38767 0.05896 C -0.38681 0.05642 -0.38802 0.05596 -0.38802 0.05526 E">
                                      <p:cBhvr>
                                        <p:cTn id="412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1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00"/>
                            </p:stCondLst>
                            <p:childTnLst>
                              <p:par>
                                <p:cTn id="4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889 0.08417 C -0.3849 0.08024 -0.36858 0.06659 -0.3651 0.05873 C -0.36163 0.05087 -0.36493 0.03815 -0.36823 0.03746 C -0.37153 0.03677 -0.38177 0.05133 -0.38524 0.05503 E">
                                      <p:cBhvr>
                                        <p:cTn id="418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900"/>
                            </p:stCondLst>
                            <p:childTnLst>
                              <p:par>
                                <p:cTn id="4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587 0.04255 C -0.33003 0.04463 -0.34253 0.04602 -0.35295 0.05295 C -0.36337 0.05989 -0.38281 0.07954 -0.38889 0.08486 E">
                                      <p:cBhvr>
                                        <p:cTn id="424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917 0.04475 C -0.33264 0.05192 -0.34566 0.07901 -0.35 0.08803 E">
                                      <p:cBhvr>
                                        <p:cTn id="430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1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100"/>
                            </p:stCondLst>
                            <p:childTnLst>
                              <p:par>
                                <p:cTn id="4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962 0.1375 C -0.36771 0.14075 -0.36563 0.14399 -0.35851 0.13936 C -0.35139 0.13473 -0.33906 0.12223 -0.32656 0.10973 E">
                                      <p:cBhvr>
                                        <p:cTn id="436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200"/>
                            </p:stCondLst>
                            <p:childTnLst>
                              <p:par>
                                <p:cTn id="4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479 -0.08604 C -0.19549 -0.08326 -0.19253 -0.07979 -0.19896 -0.06937 C -0.20538 -0.05896 -0.21476 -0.04507 -0.23368 -0.02308 C -0.2526 -0.00109 -0.29635 0.04521 -0.31285 0.06326 E">
                                      <p:cBhvr>
                                        <p:cTn id="442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300"/>
                            </p:stCondLst>
                            <p:childTnLst>
                              <p:par>
                                <p:cTn id="4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163 -0.03101 C -0.21459 -0.03055 -0.21736 -0.02986 -0.22274 -0.02546 C -0.22813 -0.02106 -0.23264 -0.01898 -0.24358 -0.00509 C -0.25452 0.0088 -0.2757 0.03866 -0.28802 0.05787 C -0.30035 0.07709 -0.30886 0.09306 -0.31719 0.10973 E">
                                      <p:cBhvr>
                                        <p:cTn id="448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1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400"/>
                            </p:stCondLst>
                            <p:childTnLst>
                              <p:par>
                                <p:cTn id="4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087 0.05133 C -0.30312 0.05781 -0.31562 0.08532 -0.31476 0.08972 C -0.31389 0.09411 -0.30191 0.08301 -0.29583 0.077 C -0.28976 0.07099 -0.28403 0.0592 -0.2783 0.05365 C -0.27257 0.0481 -0.26458 0.04555 -0.26094 0.04324 E">
                                      <p:cBhvr>
                                        <p:cTn id="454" dur="2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2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600"/>
                            </p:stCondLst>
                            <p:childTnLst>
                              <p:par>
                                <p:cTn id="4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406 0.04324 C -0.26198 0.04301 -0.25382 0.03815 -0.25139 0.03954 C -0.24896 0.04093 -0.24878 0.04879 -0.24983 0.05203 C -0.25087 0.05526 -0.25469 0.05688 -0.25781 0.0585 C -0.26094 0.06012 -0.26354 0.0585 -0.26823 0.06128 C -0.27292 0.06405 -0.28264 0.07076 -0.28559 0.07538 C -0.28854 0.08 -0.2875 0.0874 -0.28559 0.08902 C -0.28368 0.09064 -0.27674 0.08555 -0.27448 0.08463 E">
                                      <p:cBhvr>
                                        <p:cTn id="460" dur="2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2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800"/>
                            </p:stCondLst>
                            <p:childTnLst>
                              <p:par>
                                <p:cTn id="4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393 0.14382 C -0.29045 0.14081 -0.28038 0.13342 -0.27344 0.12625 C -0.26649 0.11908 -0.25712 0.10613 -0.25278 0.10081 E">
                                      <p:cBhvr>
                                        <p:cTn id="466" dur="3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100"/>
                            </p:stCondLst>
                            <p:childTnLst>
                              <p:par>
                                <p:cTn id="4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434 0.10289 C -0.24757 0.10474 -0.22257 0.11631 -0.21181 0.11561 C -0.20104 0.11492 -0.19306 0.10151 -0.18959 0.09873 E">
                                      <p:cBhvr>
                                        <p:cTn id="472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200"/>
                            </p:stCondLst>
                            <p:childTnLst>
                              <p:par>
                                <p:cTn id="4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622 0.0437 C -0.1776 0.04394 -0.18108 0.04625 -0.18472 0.04509 C -0.18837 0.04394 -0.19566 0.03908 -0.19844 0.03746 E">
                                      <p:cBhvr>
                                        <p:cTn id="475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300"/>
                            </p:stCondLst>
                            <p:childTnLst>
                              <p:par>
                                <p:cTn id="4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17 -0.03283 C -0.13281 -0.0326 -0.14427 -0.03398 -0.15139 -0.03075 C -0.15851 -0.02751 -0.16632 -0.01988 -0.17205 -0.01387 C -0.17778 -0.00786 -0.18281 -0.00046 -0.18628 0.00509 C -0.18976 0.01064 -0.19045 0.01457 -0.19253 0.01989 C -0.19462 0.02521 -0.19722 0.03376 -0.19844 0.03746 E">
                                      <p:cBhvr>
                                        <p:cTn id="481" dur="2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2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205 0.07492 C -0.16753 0.06775 -0.15434 0.04694 -0.14653 0.03422 C -0.13872 0.02151 -0.13003 0.00833 -0.125 -0.00069 C -0.11997 -0.00971 -0.11562 -0.01502 -0.11649 -0.02034 C -0.11736 -0.02566 -0.12778 -0.03028 -0.13073 -0.03283 E">
                                      <p:cBhvr>
                                        <p:cTn id="487" dur="2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2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700"/>
                            </p:stCondLst>
                            <p:childTnLst>
                              <p:par>
                                <p:cTn id="4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96 0.02243 C -0.10035 0.02613 -0.10955 0.04833 -0.10694 0.04417 C -0.10434 0.04 -0.08924 0.00856 -0.08316 -0.003 C -0.07708 -0.01456 -0.07483 -0.02011 -0.07031 -0.0252 C -0.0658 -0.03028 -0.05694 -0.03699 -0.05608 -0.03352 C -0.05521 -0.03005 -0.05451 -0.01988 -0.06562 -0.00393 C -0.07674 0.01203 -0.10556 0.04648 -0.12274 0.06266 C -0.13993 0.07885 -0.16059 0.09041 -0.16875 0.09295 C -0.17691 0.0955 -0.17135 0.08116 -0.17205 0.07815 E">
                                      <p:cBhvr>
                                        <p:cTn id="493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800"/>
                            </p:stCondLst>
                            <p:childTnLst>
                              <p:par>
                                <p:cTn id="4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861 0.11257 C -0.14219 0.09984 -0.11545 0.05401 -0.10677 0.0385 E">
                                      <p:cBhvr>
                                        <p:cTn id="499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900"/>
                            </p:stCondLst>
                            <p:childTnLst>
                              <p:par>
                                <p:cTn id="5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91 0.17037 C -0.17118 0.18033 -0.19774 0.225 -0.20938 0.23889 C -0.22101 0.25278 -0.23177 0.25255 -0.23854 0.25371 C -0.24531 0.25487 -0.24965 0.25209 -0.24965 0.2463 C -0.24965 0.24051 -0.2441 0.22662 -0.23854 0.21852 C -0.23299 0.21042 -0.22327 0.20463 -0.21632 0.19815 C -0.20938 0.19167 -0.20452 0.18403 -0.19688 0.17963 C -0.18924 0.17524 -0.16702 0.16042 -0.1691 0.17037 Z">
                                      <p:cBhvr>
                                        <p:cTn id="505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000"/>
                            </p:stCondLst>
                            <p:childTnLst>
                              <p:par>
                                <p:cTn id="5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222 0.1676 C -0.16597 0.16482 -0.1599 0.16412 -0.15417 0.16389 C -0.14844 0.16366 -0.14254 0.16366 -0.13768 0.16551 C -0.13281 0.16737 -0.12865 0.16991 -0.12518 0.17477 C -0.1217 0.17963 -0.11858 0.19098 -0.11684 0.19514 E">
                                      <p:cBhvr>
                                        <p:cTn id="511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100"/>
                            </p:stCondLst>
                            <p:childTnLst>
                              <p:par>
                                <p:cTn id="5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545 0.19862 C -0.1184 0.1748 -0.1217 0.15029 -0.1217 0.13735 C -0.1217 0.1244 -0.11684 0.12394 -0.11545 0.12047 E">
                                      <p:cBhvr>
                                        <p:cTn id="517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200"/>
                            </p:stCondLst>
                            <p:childTnLst>
                              <p:par>
                                <p:cTn id="5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02 0.12278 C -0.10209 0.10868 -0.08715 0.09457 -0.08524 0.09526 C -0.08334 0.09596 -0.10174 0.11839 -0.1059 0.12694 C -0.11007 0.1355 -0.11042 0.14081 -0.11059 0.14613 E">
                                      <p:cBhvr>
                                        <p:cTn id="520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300"/>
                            </p:stCondLst>
                            <p:childTnLst>
                              <p:par>
                                <p:cTn id="5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92 0.14035 C -0.1033 0.14197 -0.0974 0.14359 -0.09184 0.14035 C -0.08629 0.13711 -0.07986 0.12671 -0.07587 0.12116 C -0.07188 0.11561 -0.0691 0.11099 -0.06806 0.10636 C -0.06702 0.10174 -0.06945 0.09365 -0.06962 0.09365 C -0.06979 0.09365 -0.06771 0.10105 -0.06962 0.10636 C -0.07153 0.11168 -0.07917 0.12232 -0.08073 0.12555 E">
                                      <p:cBhvr>
                                        <p:cTn id="526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1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400"/>
                            </p:stCondLst>
                            <p:childTnLst>
                              <p:par>
                                <p:cTn id="5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88 0.09688 C -0.07726 0.11145 -0.08247 0.12602 -0.08143 0.13087 C -0.08038 0.13573 -0.0684 0.12833 -0.06545 0.12648 E">
                                      <p:cBhvr>
                                        <p:cTn id="532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1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500"/>
                            </p:stCondLst>
                            <p:childTnLst>
                              <p:par>
                                <p:cTn id="5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3 0.12509 L -0.02257 0.09318 E">
                                      <p:cBhvr>
                                        <p:cTn id="538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600"/>
                            </p:stCondLst>
                            <p:childTnLst>
                              <p:par>
                                <p:cTn id="5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57 0.09318 C -0.03281 0.10266 -0.04288 0.11214 -0.04792 0.1207 C -0.05295 0.12925 -0.05243 0.14012 -0.05261 0.14405 E">
                                      <p:cBhvr>
                                        <p:cTn id="544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1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700"/>
                            </p:stCondLst>
                            <p:childTnLst>
                              <p:par>
                                <p:cTn id="5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14243 C -0.03941 0.13295 -0.02726 0.12347 -0.01806 0.11492 C -0.00886 0.10636 -0.00243 0.09896 0.00416 0.09157 E">
                                      <p:cBhvr>
                                        <p:cTn id="550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1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800"/>
                            </p:stCondLst>
                            <p:childTnLst>
                              <p:par>
                                <p:cTn id="5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09526 C 0.00191 0.09989 -0.00625 0.11515 -0.01059 0.12255 C -0.01493 0.12995 -0.01945 0.13596 -0.0217 0.13943 E">
                                      <p:cBhvr>
                                        <p:cTn id="556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900"/>
                            </p:stCondLst>
                            <p:childTnLst>
                              <p:par>
                                <p:cTn id="5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01 0.14197 C -0.01389 0.14151 -0.00799 0.1422 -0.00209 0.13781 C 0.00382 0.13342 0.01128 0.12093 0.01476 0.11631 E">
                                      <p:cBhvr>
                                        <p:cTn id="562" dur="3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200"/>
                            </p:stCondLst>
                            <p:childTnLst>
                              <p:par>
                                <p:cTn id="5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88 0.11389 C 0.01632 0.16436 -0.01233 0.30487 0.00816 0.41667 C 0.02864 0.52848 0.11441 0.71181 0.14045 0.7845 C 0.16649 0.85718 0.15955 0.83889 0.16458 0.85325 E">
                                      <p:cBhvr>
                                        <p:cTn id="568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标题 1"/>
          <p:cNvSpPr/>
          <p:nvPr/>
        </p:nvSpPr>
        <p:spPr>
          <a:xfrm>
            <a:off x="3352680" y="2819520"/>
            <a:ext cx="2438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330066"/>
                </a:solidFill>
                <a:latin typeface="华文琥珀"/>
                <a:ea typeface="华文琥珀"/>
              </a:rPr>
              <a:t>创建图表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C:\Users\Administrator\AppData\Roaming\Tencent\Users\1656761\QQ\WinTemp\RichOle\K0IX3)Z3V7LGWAIO32@(XNC.jpg"/>
          <p:cNvPicPr/>
          <p:nvPr/>
        </p:nvPicPr>
        <p:blipFill>
          <a:blip r:embed="rId1"/>
          <a:stretch/>
        </p:blipFill>
        <p:spPr>
          <a:xfrm>
            <a:off x="-6480" y="914400"/>
            <a:ext cx="9150480" cy="4876920"/>
          </a:xfrm>
          <a:prstGeom prst="rect">
            <a:avLst/>
          </a:prstGeom>
          <a:ln w="0">
            <a:noFill/>
          </a:ln>
        </p:spPr>
      </p:pic>
      <p:sp>
        <p:nvSpPr>
          <p:cNvPr id="276" name="矩形 3"/>
          <p:cNvSpPr/>
          <p:nvPr/>
        </p:nvSpPr>
        <p:spPr>
          <a:xfrm>
            <a:off x="1066680" y="838080"/>
            <a:ext cx="457200" cy="3049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"/>
          <p:cNvSpPr/>
          <p:nvPr/>
        </p:nvSpPr>
        <p:spPr>
          <a:xfrm>
            <a:off x="414360" y="1066680"/>
            <a:ext cx="457200" cy="4572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标题 1"/>
          <p:cNvSpPr/>
          <p:nvPr/>
        </p:nvSpPr>
        <p:spPr>
          <a:xfrm>
            <a:off x="466560" y="0"/>
            <a:ext cx="730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         </a:t>
            </a: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一、创建图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标题 1"/>
          <p:cNvSpPr/>
          <p:nvPr/>
        </p:nvSpPr>
        <p:spPr>
          <a:xfrm>
            <a:off x="466560" y="0"/>
            <a:ext cx="730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         </a:t>
            </a: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一、创建图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320" y="76176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创建图表的步骤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1" name="Picture 4" descr="E:\360云盘\文档工作\教学上课\201511区教研活动公开课《数据图表及其分析》\1.png"/>
          <p:cNvPicPr/>
          <p:nvPr/>
        </p:nvPicPr>
        <p:blipFill>
          <a:blip r:embed="rId1"/>
          <a:stretch/>
        </p:blipFill>
        <p:spPr>
          <a:xfrm>
            <a:off x="304920" y="1600200"/>
            <a:ext cx="5189400" cy="2438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E:\360云盘\文档工作\教学上课\201511区教研活动公开课《数据图表及其分析》\2.png"/>
          <p:cNvPicPr/>
          <p:nvPr/>
        </p:nvPicPr>
        <p:blipFill>
          <a:blip r:embed="rId2"/>
          <a:stretch/>
        </p:blipFill>
        <p:spPr>
          <a:xfrm>
            <a:off x="2209680" y="2362320"/>
            <a:ext cx="3570480" cy="40575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E:\360云盘\文档工作\教学上课\201511区教研活动公开课《数据图表及其分析》\3.png"/>
          <p:cNvPicPr/>
          <p:nvPr/>
        </p:nvPicPr>
        <p:blipFill>
          <a:blip r:embed="rId3"/>
          <a:stretch/>
        </p:blipFill>
        <p:spPr>
          <a:xfrm>
            <a:off x="4572000" y="3276720"/>
            <a:ext cx="3960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标题 1"/>
          <p:cNvSpPr/>
          <p:nvPr/>
        </p:nvSpPr>
        <p:spPr>
          <a:xfrm>
            <a:off x="2133720" y="3124080"/>
            <a:ext cx="4343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330066"/>
                </a:solidFill>
                <a:latin typeface="华文琥珀"/>
                <a:ea typeface="华文琥珀"/>
              </a:rPr>
              <a:t>系列产生在行</a:t>
            </a:r>
            <a:r>
              <a:rPr b="0" lang="en-US" sz="3900" spc="-1" strike="noStrike">
                <a:solidFill>
                  <a:srgbClr val="330066"/>
                </a:solidFill>
                <a:latin typeface="华文琥珀"/>
                <a:ea typeface="华文琥珀"/>
              </a:rPr>
              <a:t>/</a:t>
            </a:r>
            <a:r>
              <a:rPr b="0" lang="zh-CN" sz="3900" spc="-1" strike="noStrike">
                <a:solidFill>
                  <a:srgbClr val="330066"/>
                </a:solidFill>
                <a:latin typeface="华文琥珀"/>
                <a:ea typeface="华文琥珀"/>
              </a:rPr>
              <a:t>列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7002360" cy="2778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2"/>
          <a:stretch/>
        </p:blipFill>
        <p:spPr>
          <a:xfrm>
            <a:off x="1219320" y="4076640"/>
            <a:ext cx="7010280" cy="2781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3"/>
          <p:cNvSpPr/>
          <p:nvPr/>
        </p:nvSpPr>
        <p:spPr>
          <a:xfrm>
            <a:off x="0" y="228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列产生在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0" y="3576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列产生在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7535880" cy="2989080"/>
          </a:xfrm>
          <a:prstGeom prst="rect">
            <a:avLst/>
          </a:prstGeom>
          <a:ln w="0">
            <a:noFill/>
          </a:ln>
        </p:spPr>
      </p:pic>
      <p:sp>
        <p:nvSpPr>
          <p:cNvPr id="292" name="椭圆 4"/>
          <p:cNvSpPr/>
          <p:nvPr/>
        </p:nvSpPr>
        <p:spPr>
          <a:xfrm>
            <a:off x="6858000" y="2666880"/>
            <a:ext cx="762120" cy="16002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5"/>
          <p:cNvSpPr/>
          <p:nvPr/>
        </p:nvSpPr>
        <p:spPr>
          <a:xfrm>
            <a:off x="914400" y="4114800"/>
            <a:ext cx="6019920" cy="9144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6"/>
          <p:cNvSpPr/>
          <p:nvPr/>
        </p:nvSpPr>
        <p:spPr>
          <a:xfrm>
            <a:off x="7696080" y="3048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3429000" y="5257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3581280" cy="1420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0" y="4191120"/>
            <a:ext cx="3651120" cy="14475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3"/>
          <p:cNvSpPr/>
          <p:nvPr/>
        </p:nvSpPr>
        <p:spPr>
          <a:xfrm>
            <a:off x="0" y="228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列产生在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>
            <a:off x="0" y="3352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列产生在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" descr="C:\Users\Administrator\AppData\Roaming\Tencent\Users\1656761\QQ\WinTemp\RichOle\6G5%@AN3((5$P0_S)HLPSE8.png"/>
          <p:cNvPicPr/>
          <p:nvPr/>
        </p:nvPicPr>
        <p:blipFill>
          <a:blip r:embed="rId3"/>
          <a:stretch/>
        </p:blipFill>
        <p:spPr>
          <a:xfrm>
            <a:off x="3841920" y="1143000"/>
            <a:ext cx="5302080" cy="1398600"/>
          </a:xfrm>
          <a:prstGeom prst="rect">
            <a:avLst/>
          </a:prstGeom>
          <a:ln w="0">
            <a:noFill/>
          </a:ln>
        </p:spPr>
      </p:pic>
      <p:sp>
        <p:nvSpPr>
          <p:cNvPr id="301" name="椭圆 6"/>
          <p:cNvSpPr/>
          <p:nvPr/>
        </p:nvSpPr>
        <p:spPr>
          <a:xfrm>
            <a:off x="4357800" y="1766880"/>
            <a:ext cx="4647960" cy="38088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" descr="C:\Users\Administrator\AppData\Roaming\Tencent\Users\1656761\QQ\WinTemp\RichOle\6G5%@AN3((5$P0_S)HLPSE8.png"/>
          <p:cNvPicPr/>
          <p:nvPr/>
        </p:nvPicPr>
        <p:blipFill>
          <a:blip r:embed="rId4"/>
          <a:stretch/>
        </p:blipFill>
        <p:spPr>
          <a:xfrm>
            <a:off x="3809880" y="4191120"/>
            <a:ext cx="5302440" cy="1398600"/>
          </a:xfrm>
          <a:prstGeom prst="rect">
            <a:avLst/>
          </a:prstGeom>
          <a:ln w="0">
            <a:noFill/>
          </a:ln>
        </p:spPr>
      </p:pic>
      <p:sp>
        <p:nvSpPr>
          <p:cNvPr id="303" name="椭圆 8"/>
          <p:cNvSpPr/>
          <p:nvPr/>
        </p:nvSpPr>
        <p:spPr>
          <a:xfrm>
            <a:off x="4876920" y="4572000"/>
            <a:ext cx="533160" cy="9144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4" descr="2"/>
          <p:cNvPicPr/>
          <p:nvPr/>
        </p:nvPicPr>
        <p:blipFill>
          <a:blip r:embed="rId1"/>
          <a:stretch/>
        </p:blipFill>
        <p:spPr>
          <a:xfrm>
            <a:off x="4343400" y="1066680"/>
            <a:ext cx="4343400" cy="14655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5" descr="3"/>
          <p:cNvPicPr/>
          <p:nvPr/>
        </p:nvPicPr>
        <p:blipFill>
          <a:blip r:embed="rId2"/>
          <a:stretch/>
        </p:blipFill>
        <p:spPr>
          <a:xfrm>
            <a:off x="1295280" y="3124080"/>
            <a:ext cx="6782040" cy="351324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6"/>
          <p:cNvSpPr/>
          <p:nvPr/>
        </p:nvSpPr>
        <p:spPr>
          <a:xfrm>
            <a:off x="0" y="4935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中国的</a:t>
            </a:r>
            <a:r>
              <a:rPr b="1" lang="en-US" sz="3200" spc="-1" strike="noStrike">
                <a:solidFill>
                  <a:srgbClr val="002060"/>
                </a:solidFill>
                <a:latin typeface="宋体"/>
              </a:rPr>
              <a:t>PM2.5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产生来源于燃油、燃煤、工业、养殖、扬尘等，其中百分之六十来自于燃油和燃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3809880" y="3276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2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来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1" descr="C:\Users\Administrator\AppData\Roaming\Tencent\Users\1656761\QQ\WinTemp\RichOle\6G5%@AN3((5$P0_S)HLPSE8.png"/>
          <p:cNvPicPr/>
          <p:nvPr/>
        </p:nvPicPr>
        <p:blipFill>
          <a:blip r:embed="rId1"/>
          <a:stretch/>
        </p:blipFill>
        <p:spPr>
          <a:xfrm>
            <a:off x="52560" y="1905120"/>
            <a:ext cx="9029520" cy="2381040"/>
          </a:xfrm>
          <a:prstGeom prst="rect">
            <a:avLst/>
          </a:prstGeom>
          <a:ln w="0">
            <a:noFill/>
          </a:ln>
        </p:spPr>
      </p:pic>
      <p:sp>
        <p:nvSpPr>
          <p:cNvPr id="305" name="椭圆 3"/>
          <p:cNvSpPr/>
          <p:nvPr/>
        </p:nvSpPr>
        <p:spPr>
          <a:xfrm>
            <a:off x="804960" y="3076560"/>
            <a:ext cx="8153280" cy="4572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1828800" y="990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系列产生在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6"/>
          <p:cNvCxnSpPr/>
          <p:nvPr/>
        </p:nvCxnSpPr>
        <p:spPr>
          <a:xfrm flipH="1">
            <a:off x="2970000" y="1525320"/>
            <a:ext cx="3600" cy="15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8" name="TextBox 9"/>
          <p:cNvSpPr/>
          <p:nvPr/>
        </p:nvSpPr>
        <p:spPr>
          <a:xfrm>
            <a:off x="1219320" y="5329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系列产生在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椭圆 10"/>
          <p:cNvSpPr/>
          <p:nvPr/>
        </p:nvSpPr>
        <p:spPr>
          <a:xfrm>
            <a:off x="2057400" y="2590920"/>
            <a:ext cx="566640" cy="167616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直接箭头连接符 11"/>
          <p:cNvCxnSpPr/>
          <p:nvPr/>
        </p:nvCxnSpPr>
        <p:spPr>
          <a:xfrm flipH="1" flipV="1">
            <a:off x="2285640" y="4343040"/>
            <a:ext cx="2160" cy="9151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华文新魏"/>
                <a:ea typeface="华文新魏"/>
              </a:rPr>
              <a:t>第</a:t>
            </a:r>
            <a:r>
              <a:rPr b="1" lang="en-US" sz="3600" spc="-1" strike="noStrike">
                <a:solidFill>
                  <a:srgbClr val="330066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330066"/>
                </a:solidFill>
                <a:latin typeface="华文新魏"/>
                <a:ea typeface="华文新魏"/>
              </a:rPr>
              <a:t>章 </a:t>
            </a:r>
            <a:br>
              <a:rPr sz="3600"/>
            </a:br>
            <a:r>
              <a:rPr b="1" lang="zh-CN" sz="3600" spc="-1" strike="noStrike">
                <a:solidFill>
                  <a:srgbClr val="330066"/>
                </a:solidFill>
                <a:latin typeface="华文新魏"/>
                <a:ea typeface="华文新魏"/>
              </a:rPr>
              <a:t>数据统计与分析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1" name="矩形 3" descr=""/>
          <p:cNvPicPr/>
          <p:nvPr/>
        </p:nvPicPr>
        <p:blipFill>
          <a:blip r:embed="rId1"/>
          <a:stretch/>
        </p:blipFill>
        <p:spPr>
          <a:xfrm>
            <a:off x="-231840" y="1352520"/>
            <a:ext cx="7948800" cy="10987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" descr="b5352545b181.jpg"/>
          <p:cNvPicPr/>
          <p:nvPr/>
        </p:nvPicPr>
        <p:blipFill>
          <a:blip r:embed="rId2"/>
          <a:stretch/>
        </p:blipFill>
        <p:spPr>
          <a:xfrm>
            <a:off x="1523880" y="2878200"/>
            <a:ext cx="51055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标题 1"/>
          <p:cNvSpPr/>
          <p:nvPr/>
        </p:nvSpPr>
        <p:spPr>
          <a:xfrm>
            <a:off x="466560" y="0"/>
            <a:ext cx="730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         </a:t>
            </a: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一、创建图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960" y="9907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实践一：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创建折线图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文件</a:t>
            </a: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: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常州最近二周空气质量指数趋势</a:t>
            </a: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.xls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要求</a:t>
            </a: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: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根据表格数据创建最近</a:t>
            </a: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周常州空气质量指数</a:t>
            </a: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AQI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值变化趋势的折线图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参照：微视频帮助</a:t>
            </a: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创建图表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思考：创建图表共有几个步骤？</a:t>
            </a:r>
            <a:br>
              <a:rPr sz="3200"/>
            </a:b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      图表向导的几个步骤分别完成什么工作？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标题 1"/>
          <p:cNvSpPr/>
          <p:nvPr/>
        </p:nvSpPr>
        <p:spPr>
          <a:xfrm>
            <a:off x="466560" y="0"/>
            <a:ext cx="730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         </a:t>
            </a: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一、创建图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960" y="91404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创建图表的步骤：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、选择图表类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Picture 4" descr="E:\360云盘\文档工作\教学上课\201511区教研活动公开课《数据图表及其分析》\1.png"/>
          <p:cNvPicPr/>
          <p:nvPr/>
        </p:nvPicPr>
        <p:blipFill>
          <a:blip r:embed="rId1"/>
          <a:stretch/>
        </p:blipFill>
        <p:spPr>
          <a:xfrm>
            <a:off x="3581280" y="990720"/>
            <a:ext cx="5313600" cy="2496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E:\360云盘\文档工作\教学上课\201511区教研活动公开课《数据图表及其分析》\2.png"/>
          <p:cNvPicPr/>
          <p:nvPr/>
        </p:nvPicPr>
        <p:blipFill>
          <a:blip r:embed="rId2"/>
          <a:stretch/>
        </p:blipFill>
        <p:spPr>
          <a:xfrm>
            <a:off x="4343400" y="2133720"/>
            <a:ext cx="3570120" cy="4057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E:\360云盘\文档工作\教学上课\201511区教研活动公开课《数据图表及其分析》\3.png"/>
          <p:cNvPicPr/>
          <p:nvPr/>
        </p:nvPicPr>
        <p:blipFill>
          <a:blip r:embed="rId3"/>
          <a:stretch/>
        </p:blipFill>
        <p:spPr>
          <a:xfrm>
            <a:off x="4952880" y="3809880"/>
            <a:ext cx="3808440" cy="2743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75960" y="2819520"/>
            <a:ext cx="55623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、选择图表源数据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title"/>
          </p:nvPr>
        </p:nvSpPr>
        <p:spPr>
          <a:xfrm>
            <a:off x="75960" y="40381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、设置图表选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users\administrator\appdata\roaming\360se6\User Data\temp\1309_201304150355012D5E5.jpg"/>
          <p:cNvPicPr/>
          <p:nvPr/>
        </p:nvPicPr>
        <p:blipFill>
          <a:blip r:embed="rId1"/>
          <a:stretch/>
        </p:blipFill>
        <p:spPr>
          <a:xfrm>
            <a:off x="457200" y="1447920"/>
            <a:ext cx="7620120" cy="2809800"/>
          </a:xfrm>
          <a:prstGeom prst="rect">
            <a:avLst/>
          </a:prstGeom>
          <a:ln w="0">
            <a:noFill/>
          </a:ln>
        </p:spPr>
      </p:pic>
      <p:sp>
        <p:nvSpPr>
          <p:cNvPr id="173" name="标题 1"/>
          <p:cNvSpPr/>
          <p:nvPr/>
        </p:nvSpPr>
        <p:spPr>
          <a:xfrm>
            <a:off x="466560" y="0"/>
            <a:ext cx="730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         </a:t>
            </a: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二、图表类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标题 1"/>
          <p:cNvSpPr/>
          <p:nvPr/>
        </p:nvSpPr>
        <p:spPr>
          <a:xfrm>
            <a:off x="466560" y="0"/>
            <a:ext cx="730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         </a:t>
            </a: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二、图表类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99072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实践二：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创建柱形图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文件</a:t>
            </a: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: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最近</a:t>
            </a: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30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天城市空气质量各级别天数统计</a:t>
            </a: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.xls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要求</a:t>
            </a: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: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创建柱形图，比较出北京和常州两城市最近</a:t>
            </a: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30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天空气质量各级别天数情况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参照：微视频帮助</a:t>
            </a: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系列产生在行</a:t>
            </a: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列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思考：系列产生在行</a:t>
            </a: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列的区别？有何意义？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10"/>
          <p:cNvSpPr txBox="1"/>
          <p:nvPr/>
        </p:nvSpPr>
        <p:spPr>
          <a:xfrm>
            <a:off x="5334120" y="144792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0440">
                  <a:solidFill>
                    <a:srgbClr val="d9d9d9"/>
                  </a:solidFill>
                  <a:miter/>
                </a:ln>
                <a:solidFill>
                  <a:srgbClr val="990000"/>
                </a:soli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华文新魏"/>
              </a:rPr>
              <a:t>折线图</a:t>
            </a:r>
            <a:endParaRPr b="1" lang="en-US" sz="1800" spc="1" strike="noStrike">
              <a:ln w="10440">
                <a:solidFill>
                  <a:srgbClr val="d9d9d9"/>
                </a:solidFill>
                <a:miter/>
              </a:ln>
              <a:solidFill>
                <a:srgbClr val="990000"/>
              </a:soli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77" name="标题 1"/>
          <p:cNvSpPr/>
          <p:nvPr/>
        </p:nvSpPr>
        <p:spPr>
          <a:xfrm>
            <a:off x="466560" y="0"/>
            <a:ext cx="730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         </a:t>
            </a: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二、图表类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3862440" cy="1905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3857760" cy="1752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3"/>
          <a:stretch/>
        </p:blipFill>
        <p:spPr>
          <a:xfrm>
            <a:off x="914400" y="4800600"/>
            <a:ext cx="3886200" cy="15876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10"/>
          <p:cNvSpPr txBox="1"/>
          <p:nvPr/>
        </p:nvSpPr>
        <p:spPr>
          <a:xfrm>
            <a:off x="5334120" y="335268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0440">
                  <a:solidFill>
                    <a:srgbClr val="d9d9d9"/>
                  </a:solidFill>
                  <a:miter/>
                </a:ln>
                <a:solidFill>
                  <a:srgbClr val="990000"/>
                </a:soli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华文新魏"/>
              </a:rPr>
              <a:t>柱形图</a:t>
            </a:r>
            <a:endParaRPr b="1" lang="en-US" sz="1800" spc="1" strike="noStrike">
              <a:ln w="10440">
                <a:solidFill>
                  <a:srgbClr val="d9d9d9"/>
                </a:solidFill>
                <a:miter/>
              </a:ln>
              <a:solidFill>
                <a:srgbClr val="990000"/>
              </a:soli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82" name="WordArt 10"/>
          <p:cNvSpPr txBox="1"/>
          <p:nvPr/>
        </p:nvSpPr>
        <p:spPr>
          <a:xfrm>
            <a:off x="5334120" y="518148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0440">
                  <a:solidFill>
                    <a:srgbClr val="d9d9d9"/>
                  </a:solidFill>
                  <a:miter/>
                </a:ln>
                <a:solidFill>
                  <a:srgbClr val="990000"/>
                </a:soli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华文新魏"/>
              </a:rPr>
              <a:t>饼  图</a:t>
            </a:r>
            <a:endParaRPr b="1" lang="en-US" sz="1800" spc="1" strike="noStrike">
              <a:ln w="10440">
                <a:solidFill>
                  <a:srgbClr val="d9d9d9"/>
                </a:solidFill>
                <a:miter/>
              </a:ln>
              <a:solidFill>
                <a:srgbClr val="990000"/>
              </a:soli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标题 1"/>
          <p:cNvSpPr/>
          <p:nvPr/>
        </p:nvSpPr>
        <p:spPr>
          <a:xfrm>
            <a:off x="466560" y="0"/>
            <a:ext cx="730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         </a:t>
            </a:r>
            <a:r>
              <a:rPr b="0" lang="zh-CN" sz="4400" spc="-1" strike="noStrike">
                <a:solidFill>
                  <a:srgbClr val="330066"/>
                </a:solidFill>
                <a:latin typeface="华文琥珀"/>
                <a:ea typeface="华文琥珀"/>
              </a:rPr>
              <a:t>三、图表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32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实践三：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选择合适的图表类型创建图表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文件</a:t>
            </a: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: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选择合适的图表类型创建图表</a:t>
            </a: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.xls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要求</a:t>
            </a: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: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学生分组，自行选择其中一个任务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选择最合适的图表类型绘制图表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330066"/>
                </a:solidFill>
                <a:latin typeface="隶书"/>
                <a:ea typeface="隶书"/>
              </a:rPr>
              <a:t>思考：哪一种图表类型能最好地反映当前数据的特征？为什么？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</cp:lastModifiedBy>
  <dcterms:modified xsi:type="dcterms:W3CDTF">2015-11-25T14:10:22Z</dcterms:modified>
  <cp:revision>3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