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E5A-DAA4-4A46-888C-13CD6419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3DF-D223-41B2-A29C-807E41E7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428-66AB-4C03-B2E0-589559F0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304-5D04-417E-B52E-A4C2D9D0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9381-A4B5-495A-A5CE-D03E3A99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C163-B93C-482F-9E7B-5C22DA5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A2A-EA04-4867-A094-2749EBD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4571-15EB-4A8F-8149-C052BB8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862F-42F7-42FD-8EEC-1AA04DD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8E46-4B02-4752-AC4A-47AB2FAF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D7FF-D054-424F-BFFC-7CD49737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BE8-18C6-439B-8E04-C360FE24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E64A-2A29-4D37-B57E-2DE4035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A9E9-247D-4E36-B10A-A89970C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8F2C-DA7F-4D5F-BCAE-E2A4A367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685D-6FB6-417A-BFBA-8A02A0A3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24CC-E92E-4E92-ADE5-F50B7456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D4E-02A7-4828-A973-97FF2E3C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C4-92D9-44B5-9D96-A5DA095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492-8205-4AEF-8CAD-C66C8D8E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1FA-045F-4C80-9509-EEA202E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9D3-9045-4D88-BB5F-6FCE35E7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8C2-FD89-4314-9351-72560EE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2FB-696D-4BCB-AFEE-B4EF38B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2D8E-0B0F-43CA-94A2-5624491F2F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F8D-A21F-4923-AA0E-A22D93F4737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04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1844640"/>
            <a:ext cx="748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新建首页，要求首页中有如下对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）标题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）网站标志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）网站的宗旨（文字介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）水平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）链接到下一页的标记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可以是图片也可以是文字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）背景图片和背景音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33360"/>
            <a:ext cx="75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网站的第一个页面称为首页或主页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首页的文件名一般默认为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index.htm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，主页也是网页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一个网站只有一个主页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首页</a:t>
            </a:r>
            <a:r>
              <a:rPr b="1" lang="zh-CN" sz="2400" spc="-1" strike="noStrike">
                <a:solidFill>
                  <a:srgbClr val="6b3e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5:40:18Z</dcterms:created>
  <dc:creator>gdpost</dc:creator>
  <dc:description/>
  <dc:language>en-US</dc:language>
  <cp:lastModifiedBy>gdpost</cp:lastModifiedBy>
  <dcterms:modified xsi:type="dcterms:W3CDTF">2013-12-23T01:12:06Z</dcterms:modified>
  <cp:revision>15</cp:revision>
  <dc:subject/>
  <dc:title>幻灯片 1</dc:title>
</cp:coreProperties>
</file>