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A35-C544-418E-A2FD-A7FF44ED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94E0-BBC0-4736-AAF7-BF648B95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624-EB9B-4BE3-840A-28F87363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2BE-17D9-443B-A566-10EF884F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017-873E-48EE-B9A1-8D40A8A3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A80-7068-476B-942B-9A8D241F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BDD-FD03-45B8-9F98-2A5592B4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31A-5D7F-4B17-8F5E-E1956776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DB1-6852-4015-AE1A-30BFBA7F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0261-EB71-44A4-A40B-3F16C4AA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7A1-7F9D-431C-A4EA-E969FC43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966-9720-4C66-A8C5-6437BAE5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604C-B2E6-403F-AE6A-2102CE4010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1555920"/>
            <a:ext cx="6335640" cy="17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迷你简习字"/>
              </a:rPr>
              <a:t>分数的意义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迷你简习字"/>
              <a:ea typeface="迷你简习字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00200" y="4786200"/>
            <a:ext cx="594360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迷你简隶二"/>
              </a:rPr>
              <a:t>武进区郑陆中心小学  范建忠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迷你简隶二"/>
              <a:ea typeface="迷你简隶二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87360" y="1081080"/>
            <a:ext cx="6570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如何用分数表示每幅图中的涂色部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每个分数各表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些图中分别是把什么平均分的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009880" y="1337400"/>
            <a:ext cx="512280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只大饼一个梨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吨稻谷一克米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片树林一群鸡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都可看做单位“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 ”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22440" y="117360"/>
            <a:ext cx="79009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活动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的五角星分一分，创造出自己喜欢的分数，写在题纸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一想你是怎样得到这些分数的？和同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44600" y="3073320"/>
            <a:ext cx="4283280" cy="2119320"/>
            <a:chOff x="2244600" y="3073320"/>
            <a:chExt cx="4283280" cy="2119320"/>
          </a:xfrm>
        </p:grpSpPr>
        <p:sp>
          <p:nvSpPr>
            <p:cNvPr id="47" name=""/>
            <p:cNvSpPr/>
            <p:nvPr/>
          </p:nvSpPr>
          <p:spPr>
            <a:xfrm>
              <a:off x="2749680" y="3429000"/>
              <a:ext cx="327276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☆ ☆ ☆ ☆ ☆ 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☆ ☆ ☆ ☆ ☆ 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44600" y="3073320"/>
              <a:ext cx="4283280" cy="2119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46200" y="682560"/>
            <a:ext cx="35272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流行体简体"/>
              </a:rPr>
              <a:t>成语中找分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流行体简体"/>
              <a:ea typeface="方正流行体简体"/>
            </a:endParaRPr>
          </a:p>
        </p:txBody>
      </p:sp>
      <p:sp>
        <p:nvSpPr>
          <p:cNvPr id="53" name=""/>
          <p:cNvSpPr/>
          <p:nvPr/>
        </p:nvSpPr>
        <p:spPr>
          <a:xfrm>
            <a:off x="3186720" y="160452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天打鱼，两天晒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3000" y="2035440"/>
            <a:ext cx="127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十室九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百发百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九死一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十拿九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万里挑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1:15:05Z</dcterms:created>
  <dc:creator>none</dc:creator>
  <dc:description/>
  <dc:language>en-US</dc:language>
  <cp:lastModifiedBy>VNN.R9</cp:lastModifiedBy>
  <dcterms:modified xsi:type="dcterms:W3CDTF">2013-03-18T16:21:28Z</dcterms:modified>
  <cp:revision>200</cp:revision>
  <dc:subject/>
  <dc:title>幻灯片 1</dc:title>
</cp:coreProperties>
</file>