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C04-CE17-49C4-9CD2-40F5A2D6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2DE-FB6A-4C91-AAA6-E1D82560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E29-1829-4FBE-BA50-07F48166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002-2771-410B-8EFB-6F5EF1C1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970-AA9B-4F03-8BAC-01B1D8D9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79C-5F6D-46B7-A2BA-8E3ECF8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7C8-F001-49F2-BF16-1AB502B4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EBF-8DB7-4765-AECC-6A2A03F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309-0B5B-4F6B-A517-151EA93A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1DA-D0C4-47B1-952A-CEB147D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8FD-B650-4ADB-91E3-413AA23F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04D-47B0-4F75-B9B9-67F7D38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8EFC-B322-4FE3-BE37-F69789272D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2492280"/>
            <a:ext cx="73436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积和商的变化规律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（练  习）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46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17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37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7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37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3716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1484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水果批发站要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箱苹果，每次运的箱数不同，需要运的次数会相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2852640"/>
          <a:ext cx="7993080" cy="2608200"/>
        </p:xfrm>
        <a:graphic>
          <a:graphicData uri="http://schemas.openxmlformats.org/drawingml/2006/table">
            <a:tbl>
              <a:tblPr/>
              <a:tblGrid>
                <a:gridCol w="2431800"/>
                <a:gridCol w="1389240"/>
                <a:gridCol w="1390680"/>
                <a:gridCol w="1390680"/>
                <a:gridCol w="1390680"/>
              </a:tblGrid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要运的总箱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次运的箱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需要运的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349800" y="47815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8160" y="4797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57800" y="479736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9440" y="47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9079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根据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8×5=9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你能很快说出下面各题的积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484280"/>
            <a:ext cx="194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8×1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8×3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6×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72×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184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2200" y="2879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388764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4824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148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0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2519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0×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45600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0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4464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0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20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根据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8×5=9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你能很快说出下面各题的积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1125360"/>
            <a:ext cx="216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8×1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8×3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6×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72×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72×1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5373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1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5084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0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9080" y="50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1160" y="5084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5256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56068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5686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45054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9800" y="11653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0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9800" y="22003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0×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1370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0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1080" y="41450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90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851040"/>
            <a:ext cx="9109080" cy="30096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4067280" y="3573360"/>
            <a:ext cx="5257440" cy="3095640"/>
            <a:chOff x="4067280" y="3573360"/>
            <a:chExt cx="5257440" cy="3095640"/>
          </a:xfrm>
        </p:grpSpPr>
        <p:sp>
          <p:nvSpPr>
            <p:cNvPr id="70" name=""/>
            <p:cNvSpPr/>
            <p:nvPr/>
          </p:nvSpPr>
          <p:spPr>
            <a:xfrm>
              <a:off x="4289040" y="498780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÷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93280" y="397980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×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03160" y="3789360"/>
              <a:ext cx="2221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×a×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或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×(a×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64280" y="393372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×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99080" y="494172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÷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18400" y="494172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不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89040" y="599616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÷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93280" y="599616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÷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01720" y="5592600"/>
              <a:ext cx="21477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÷a÷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或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÷(a×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67280" y="3573360"/>
              <a:ext cx="0" cy="309564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22840" y="3645000"/>
              <a:ext cx="0" cy="302400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76960" y="3645000"/>
              <a:ext cx="0" cy="302400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732160" y="3645000"/>
              <a:ext cx="0" cy="302400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67280" y="4869000"/>
              <a:ext cx="466488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67280" y="5589720"/>
              <a:ext cx="466488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67280" y="6669000"/>
              <a:ext cx="459000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308720" y="1844640"/>
            <a:ext cx="1439640" cy="1802880"/>
            <a:chOff x="7308720" y="1844640"/>
            <a:chExt cx="1439640" cy="1802880"/>
          </a:xfrm>
        </p:grpSpPr>
        <p:sp>
          <p:nvSpPr>
            <p:cNvPr id="87" name=""/>
            <p:cNvSpPr/>
            <p:nvPr/>
          </p:nvSpPr>
          <p:spPr>
            <a:xfrm>
              <a:off x="7380000" y="318780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×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08720" y="27097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×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380000" y="18446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×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80000" y="22780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×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47640" y="7714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考考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9144000" cy="2232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300720" y="220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5640" y="400536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4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75640" y="515772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2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2089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129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84720" y="184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口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28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400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20÷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328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90÷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4005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05÷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328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90÷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7:04:23Z</dcterms:created>
  <dc:creator>user</dc:creator>
  <dc:description/>
  <dc:language>en-US</dc:language>
  <cp:lastModifiedBy>user</cp:lastModifiedBy>
  <dcterms:modified xsi:type="dcterms:W3CDTF">2013-05-21T02:06:06Z</dcterms:modified>
  <cp:revision>48</cp:revision>
  <dc:subject/>
  <dc:title>积和商的变化规律练习</dc:title>
</cp:coreProperties>
</file>