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chimes.wav" ContentType="audio/x-wav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599-6A00-45A2-91FF-13BD046D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480-D47D-454B-9268-F9738746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8B2-605C-431B-B6FF-862CE2AE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3F0-BC6F-430D-A581-34B8B442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4B2-0E8D-4E62-B6FF-D6348205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FA3-E60B-4F57-81C3-A4B33A0E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35E-A168-476A-8F32-1DED6FE2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9F0-484B-4DBE-AC6A-53385904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492-137F-4C60-B817-E54884B6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44F-1644-4504-8E71-B29589DE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790-2E8D-4BBE-AA06-6F96DAA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D4E-C4FC-43C2-ACFA-C90DDD9E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F3DF-C97E-4760-8B29-80CDD5B86B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1628640"/>
            <a:ext cx="47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认识平均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4149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郑陆中心小学       牟晨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71640" y="2421000"/>
            <a:ext cx="648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小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一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分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小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一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分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小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一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分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55640" y="549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549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404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6360" y="476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7704000" cy="3241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783920" y="42940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38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7777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32000" y="227664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76720" y="2708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484280"/>
            <a:ext cx="2374920" cy="1368360"/>
          </a:xfrm>
          <a:prstGeom prst="cloudCallout">
            <a:avLst>
              <a:gd name="adj1" fmla="val 85629"/>
              <a:gd name="adj2" fmla="val 4768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饼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765000"/>
            <a:ext cx="2374920" cy="1368720"/>
          </a:xfrm>
          <a:prstGeom prst="cloudCallout">
            <a:avLst>
              <a:gd name="adj1" fmla="val 2805"/>
              <a:gd name="adj2" fmla="val 7958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1197000"/>
            <a:ext cx="2374920" cy="1368360"/>
          </a:xfrm>
          <a:prstGeom prst="cloudCallout">
            <a:avLst>
              <a:gd name="adj1" fmla="val -74199"/>
              <a:gd name="adj2" fmla="val 7006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蛋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19700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                         分成几堆，可以怎样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826920" cy="758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03280" y="1197000"/>
            <a:ext cx="827280" cy="75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908000" y="1197000"/>
            <a:ext cx="827280" cy="75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340000" y="1197000"/>
            <a:ext cx="826920" cy="758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771640" y="1197000"/>
            <a:ext cx="827280" cy="758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3276720" y="1197000"/>
            <a:ext cx="826920" cy="758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16360" y="270828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292428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3139920"/>
            <a:ext cx="142920" cy="86544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35592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0" y="3571920"/>
            <a:ext cx="14256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378792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119700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                         分成几堆，可以怎样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826920" cy="758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1197000"/>
            <a:ext cx="827280" cy="758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908000" y="1197000"/>
            <a:ext cx="827280" cy="758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340000" y="1197000"/>
            <a:ext cx="826920" cy="758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2771640" y="1197000"/>
            <a:ext cx="827280" cy="758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3276720" y="1197000"/>
            <a:ext cx="826920" cy="75888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611280" y="3068640"/>
            <a:ext cx="3240000" cy="1800360"/>
            <a:chOff x="611280" y="3068640"/>
            <a:chExt cx="3240000" cy="1800360"/>
          </a:xfrm>
        </p:grpSpPr>
        <p:sp>
          <p:nvSpPr>
            <p:cNvPr id="69" name=""/>
            <p:cNvSpPr/>
            <p:nvPr/>
          </p:nvSpPr>
          <p:spPr>
            <a:xfrm>
              <a:off x="611280" y="3068640"/>
              <a:ext cx="3240000" cy="1800360"/>
            </a:xfrm>
            <a:prstGeom prst="cloudCallout">
              <a:avLst>
                <a:gd name="adj1" fmla="val -66069"/>
                <a:gd name="adj2" fmla="val 452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1042920" y="3500280"/>
              <a:ext cx="64764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9"/>
            <a:stretch/>
          </p:blipFill>
          <p:spPr>
            <a:xfrm>
              <a:off x="1258920" y="3716280"/>
              <a:ext cx="64764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1474920" y="3932280"/>
              <a:ext cx="64764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1"/>
            <a:stretch/>
          </p:blipFill>
          <p:spPr>
            <a:xfrm>
              <a:off x="2050920" y="3357720"/>
              <a:ext cx="64800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2"/>
            <a:stretch/>
          </p:blipFill>
          <p:spPr>
            <a:xfrm>
              <a:off x="2266920" y="3573360"/>
              <a:ext cx="64764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3"/>
            <a:stretch/>
          </p:blipFill>
          <p:spPr>
            <a:xfrm>
              <a:off x="2482920" y="3789360"/>
              <a:ext cx="647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4932360" y="2997360"/>
            <a:ext cx="3240000" cy="1800000"/>
            <a:chOff x="4932360" y="2997360"/>
            <a:chExt cx="3240000" cy="1800000"/>
          </a:xfrm>
        </p:grpSpPr>
        <p:sp>
          <p:nvSpPr>
            <p:cNvPr id="77" name=""/>
            <p:cNvSpPr/>
            <p:nvPr/>
          </p:nvSpPr>
          <p:spPr>
            <a:xfrm>
              <a:off x="4932360" y="2997360"/>
              <a:ext cx="3240000" cy="1800000"/>
            </a:xfrm>
            <a:prstGeom prst="cloudCallout">
              <a:avLst>
                <a:gd name="adj1" fmla="val 75430"/>
                <a:gd name="adj2" fmla="val 151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4"/>
            <a:stretch/>
          </p:blipFill>
          <p:spPr>
            <a:xfrm>
              <a:off x="5292720" y="3500280"/>
              <a:ext cx="64764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5"/>
            <a:stretch/>
          </p:blipFill>
          <p:spPr>
            <a:xfrm>
              <a:off x="5508720" y="3716280"/>
              <a:ext cx="64764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6"/>
            <a:stretch/>
          </p:blipFill>
          <p:spPr>
            <a:xfrm>
              <a:off x="6084720" y="3357720"/>
              <a:ext cx="64800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7"/>
            <a:stretch/>
          </p:blipFill>
          <p:spPr>
            <a:xfrm>
              <a:off x="6300720" y="3573360"/>
              <a:ext cx="64764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8"/>
            <a:stretch/>
          </p:blipFill>
          <p:spPr>
            <a:xfrm>
              <a:off x="6948360" y="3213000"/>
              <a:ext cx="64800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9"/>
            <a:stretch/>
          </p:blipFill>
          <p:spPr>
            <a:xfrm>
              <a:off x="7164360" y="3429000"/>
              <a:ext cx="647640" cy="5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1332000" y="21337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每份分得同样多，叫做平均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0"/>
          <a:stretch/>
        </p:blipFill>
        <p:spPr>
          <a:xfrm>
            <a:off x="826920" y="5229360"/>
            <a:ext cx="648000" cy="59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1"/>
          <a:stretch/>
        </p:blipFill>
        <p:spPr>
          <a:xfrm>
            <a:off x="2050920" y="5229360"/>
            <a:ext cx="648000" cy="59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2"/>
          <a:stretch/>
        </p:blipFill>
        <p:spPr>
          <a:xfrm>
            <a:off x="3492360" y="5229360"/>
            <a:ext cx="648000" cy="59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3"/>
          <a:stretch/>
        </p:blipFill>
        <p:spPr>
          <a:xfrm>
            <a:off x="4788000" y="522936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4"/>
          <a:stretch/>
        </p:blipFill>
        <p:spPr>
          <a:xfrm>
            <a:off x="6012000" y="522936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5"/>
          <a:stretch/>
        </p:blipFill>
        <p:spPr>
          <a:xfrm>
            <a:off x="7380360" y="5229360"/>
            <a:ext cx="647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19700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       平均分，可以怎样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826920" cy="75888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539640" y="2276640"/>
            <a:ext cx="2881080" cy="1944360"/>
            <a:chOff x="539640" y="2276640"/>
            <a:chExt cx="2881080" cy="1944360"/>
          </a:xfrm>
        </p:grpSpPr>
        <p:grpSp>
          <p:nvGrpSpPr>
            <p:cNvPr id="94" name=""/>
            <p:cNvGrpSpPr/>
            <p:nvPr/>
          </p:nvGrpSpPr>
          <p:grpSpPr>
            <a:xfrm>
              <a:off x="900000" y="2636640"/>
              <a:ext cx="2158920" cy="1334520"/>
              <a:chOff x="900000" y="2636640"/>
              <a:chExt cx="2158920" cy="1334520"/>
            </a:xfrm>
          </p:grpSpPr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00000" y="2702160"/>
                <a:ext cx="644400" cy="68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068120" y="2896920"/>
                <a:ext cx="644400" cy="68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236240" y="3092040"/>
                <a:ext cx="644400" cy="68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04720" y="3286800"/>
                <a:ext cx="64440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9440" y="2636640"/>
                <a:ext cx="64440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077560" y="2831040"/>
                <a:ext cx="644400" cy="68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246040" y="3026160"/>
                <a:ext cx="644400" cy="68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14520" y="3220920"/>
                <a:ext cx="644400" cy="684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"/>
            <p:cNvSpPr/>
            <p:nvPr/>
          </p:nvSpPr>
          <p:spPr>
            <a:xfrm>
              <a:off x="539640" y="2276640"/>
              <a:ext cx="2881080" cy="19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716360" y="2492280"/>
            <a:ext cx="3672000" cy="1441440"/>
            <a:chOff x="4716360" y="2492280"/>
            <a:chExt cx="3672000" cy="1441440"/>
          </a:xfrm>
        </p:grpSpPr>
        <p:grpSp>
          <p:nvGrpSpPr>
            <p:cNvPr id="105" name=""/>
            <p:cNvGrpSpPr/>
            <p:nvPr/>
          </p:nvGrpSpPr>
          <p:grpSpPr>
            <a:xfrm>
              <a:off x="5076720" y="2637000"/>
              <a:ext cx="2808000" cy="1118520"/>
              <a:chOff x="5076720" y="2637000"/>
              <a:chExt cx="2808000" cy="1118520"/>
            </a:xfrm>
          </p:grpSpPr>
          <p:pic>
            <p:nvPicPr>
              <p:cNvPr id="10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076720" y="2839320"/>
                <a:ext cx="603000" cy="71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233680" y="3042360"/>
                <a:ext cx="603000" cy="71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11480" y="2771280"/>
                <a:ext cx="603000" cy="71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968800" y="2973960"/>
                <a:ext cx="603000" cy="71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493320" y="2703960"/>
                <a:ext cx="603000" cy="71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651000" y="2906640"/>
                <a:ext cx="603000" cy="71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24040" y="2637000"/>
                <a:ext cx="603000" cy="71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281720" y="2839320"/>
                <a:ext cx="60300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" name=""/>
            <p:cNvSpPr/>
            <p:nvPr/>
          </p:nvSpPr>
          <p:spPr>
            <a:xfrm>
              <a:off x="4716360" y="2492280"/>
              <a:ext cx="3672000" cy="1441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26920" y="4581360"/>
            <a:ext cx="7129800" cy="1224000"/>
            <a:chOff x="826920" y="4581360"/>
            <a:chExt cx="7129800" cy="1224000"/>
          </a:xfrm>
        </p:grpSpPr>
        <p:pic>
          <p:nvPicPr>
            <p:cNvPr id="116" name="" descr=""/>
            <p:cNvPicPr/>
            <p:nvPr/>
          </p:nvPicPr>
          <p:blipFill>
            <a:blip r:embed="rId19"/>
            <a:stretch/>
          </p:blipFill>
          <p:spPr>
            <a:xfrm>
              <a:off x="4500720" y="4941720"/>
              <a:ext cx="647640" cy="59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"/>
            <p:cNvGrpSpPr/>
            <p:nvPr/>
          </p:nvGrpSpPr>
          <p:grpSpPr>
            <a:xfrm>
              <a:off x="826920" y="4581360"/>
              <a:ext cx="7129800" cy="1224000"/>
              <a:chOff x="826920" y="4581360"/>
              <a:chExt cx="7129800" cy="12240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332000" y="4941720"/>
                <a:ext cx="6476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24000" y="4941720"/>
                <a:ext cx="6476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843280" y="4941720"/>
                <a:ext cx="6476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3635280" y="4941720"/>
                <a:ext cx="6476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6012000" y="4941720"/>
                <a:ext cx="6476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292720" y="4941720"/>
                <a:ext cx="6476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6732720" y="4941720"/>
                <a:ext cx="647640" cy="5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826920" y="4581360"/>
                <a:ext cx="7129800" cy="1224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324000" y="189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64360" y="1628640"/>
            <a:ext cx="1071720" cy="1565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356000" y="3057480"/>
            <a:ext cx="1150920" cy="1093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156360" y="3068640"/>
            <a:ext cx="923760" cy="1095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19640" y="1557360"/>
            <a:ext cx="1068480" cy="1274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52760" y="2801880"/>
            <a:ext cx="1128600" cy="1490760"/>
          </a:xfrm>
          <a:prstGeom prst="triangle">
            <a:avLst>
              <a:gd name="adj" fmla="val 50000"/>
            </a:avLst>
          </a:prstGeom>
          <a:solidFill>
            <a:srgbClr val="7832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25360"/>
            <a:ext cx="3382920" cy="2608560"/>
          </a:xfrm>
          <a:prstGeom prst="ellipse">
            <a:avLst/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919080" y="1406520"/>
            <a:ext cx="706680" cy="663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693720" y="2476440"/>
            <a:ext cx="706320" cy="66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1484280" y="2011320"/>
            <a:ext cx="704880" cy="663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2384280" y="2011320"/>
            <a:ext cx="706680" cy="663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1935000" y="1266840"/>
            <a:ext cx="704880" cy="663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1652760" y="2941560"/>
            <a:ext cx="706320" cy="665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3062160" y="1917720"/>
            <a:ext cx="706680" cy="665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2554200" y="2709720"/>
            <a:ext cx="704880" cy="6652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395280" y="4724280"/>
            <a:ext cx="9288360" cy="758880"/>
            <a:chOff x="395280" y="4724280"/>
            <a:chExt cx="9288360" cy="758880"/>
          </a:xfrm>
        </p:grpSpPr>
        <p:sp>
          <p:nvSpPr>
            <p:cNvPr id="142" name=""/>
            <p:cNvSpPr/>
            <p:nvPr/>
          </p:nvSpPr>
          <p:spPr>
            <a:xfrm>
              <a:off x="395280" y="4724280"/>
              <a:ext cx="928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每只小猴分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以分给（  ）只小猴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4"/>
            <a:stretch/>
          </p:blipFill>
          <p:spPr>
            <a:xfrm>
              <a:off x="971280" y="4724280"/>
              <a:ext cx="826560" cy="75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6804000" y="4724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00578E-006 L 0.25712 0.07515 E">
                                      <p:cBhvr>
                                        <p:cTn id="133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1965E-006 L 0.18212 0.16138 E">
                                      <p:cBhvr>
                                        <p:cTn id="13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38728E-006 L 0.22847 0.01041 E">
                                      <p:cBhvr>
                                        <p:cTn id="14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5.60694E-006 L 0.37794 -0.0104 E">
                                      <p:cBhvr>
                                        <p:cTn id="14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5.60694E-006 L 0.53542 0.22012 E">
                                      <p:cBhvr>
                                        <p:cTn id="15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36994E-006 L 0.52552 0.30844 E">
                                      <p:cBhvr>
                                        <p:cTn id="15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52601E-006 L 0.69306 -0.0104 E">
                                      <p:cBhvr>
                                        <p:cTn id="16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5723E-006 L 0.74028 0.07352 E">
                                      <p:cBhvr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6000" y="119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  分一分，再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89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3640" y="105264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1916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一份，可以分成（  ）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3357720"/>
            <a:ext cx="14256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3573360"/>
            <a:ext cx="142920" cy="86544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378936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400536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21000"/>
            <a:ext cx="142920" cy="86544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43700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465300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486900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11280" y="5084640"/>
            <a:ext cx="142920" cy="86544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530064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551664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5732640"/>
            <a:ext cx="14256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400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023 L 0.47257 -0.39838 E">
                                      <p:cBhvr>
                                        <p:cTn id="17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0.46476 -0.36694 E">
                                      <p:cBhvr>
                                        <p:cTn id="177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948E-006 L 0.41753 -0.33549 E">
                                      <p:cBhvr>
                                        <p:cTn id="180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1041 L 0.40955 -0.30405 E">
                                      <p:cBhvr>
                                        <p:cTn id="18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12139E-006 L 0.33871 -0.2726 E">
                                      <p:cBhvr>
                                        <p:cTn id="18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96532E-006 L 0.3309 -0.24116 E">
                                      <p:cBhvr>
                                        <p:cTn id="18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4798E-006 L 0.2599 -0.20971 E">
                                      <p:cBhvr>
                                        <p:cTn id="19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3873E-006 L 0.25209 -0.17827 E">
                                      <p:cBhvr>
                                        <p:cTn id="19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77457E-006 L 0.18906 -0.15722 E">
                                      <p:cBhvr>
                                        <p:cTn id="19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31214E-006 L 0.18906 -0.12578 E">
                                      <p:cBhvr>
                                        <p:cTn id="197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60116E-006 L 0.11806 -0.09433 E">
                                      <p:cBhvr>
                                        <p:cTn id="20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48555E-006 L 0.11805 -0.06289 E">
                                      <p:cBhvr>
                                        <p:cTn id="20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1916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一份，可以分成（  ）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3357720"/>
            <a:ext cx="14256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3573360"/>
            <a:ext cx="142920" cy="86544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378936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400536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4221000"/>
            <a:ext cx="142920" cy="86544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3640" y="443700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465300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486900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5084640"/>
            <a:ext cx="142920" cy="86544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27280" y="530064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5734080"/>
            <a:ext cx="14256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43280" y="551664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400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46821E-006 L 0.44896 -0.39838 E">
                                      <p:cBhvr>
                                        <p:cTn id="21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0.44896 -0.36694 E">
                                      <p:cBhvr>
                                        <p:cTn id="215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948E-006 L 0.44896 -0.33549 E">
                                      <p:cBhvr>
                                        <p:cTn id="217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9191E-006 L 0.33871 -0.30405 E">
                                      <p:cBhvr>
                                        <p:cTn id="22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12139E-006 L 0.3309 -0.2726 E">
                                      <p:cBhvr>
                                        <p:cTn id="22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96532E-006 L 0.3309 -0.24116 E">
                                      <p:cBhvr>
                                        <p:cTn id="22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4798E-006 L 0.22848 -0.22011 E">
                                      <p:cBhvr>
                                        <p:cTn id="22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3873E-006 L 0.22848 -0.18867 E">
                                      <p:cBhvr>
                                        <p:cTn id="22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77457E-006 L 0.22847 -0.15722 E">
                                      <p:cBhvr>
                                        <p:cTn id="23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31214E-006 L 0.11823 -0.12578 E">
                                      <p:cBhvr>
                                        <p:cTn id="23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60116E-006 L 0.11806 -0.09433 E">
                                      <p:cBhvr>
                                        <p:cTn id="2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48555E-006 L 0.11805 -0.06289 E">
                                      <p:cBhvr>
                                        <p:cTn id="23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5640" y="1916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一份，可以分成（  ）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3357720"/>
            <a:ext cx="14256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573360"/>
            <a:ext cx="142920" cy="86544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378936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400536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4221000"/>
            <a:ext cx="142920" cy="86544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63640" y="443700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465300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486900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11280" y="5084640"/>
            <a:ext cx="142920" cy="86544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7280" y="530064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5732640"/>
            <a:ext cx="14256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5516640"/>
            <a:ext cx="142920" cy="865080"/>
          </a:xfrm>
          <a:prstGeom prst="can">
            <a:avLst>
              <a:gd name="adj" fmla="val 7263"/>
            </a:avLst>
          </a:prstGeom>
          <a:solidFill>
            <a:srgbClr val="00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400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46821E-006 L 0.44896 -0.39838 E">
                                      <p:cBhvr>
                                        <p:cTn id="249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0.44896 -0.36694 E">
                                      <p:cBhvr>
                                        <p:cTn id="251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948E-006 L 0.44896 -0.33549 E">
                                      <p:cBhvr>
                                        <p:cTn id="25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9191E-006 L 0.44896 -0.30405 E">
                                      <p:cBhvr>
                                        <p:cTn id="255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12139E-006 L 0.25989 -0.283 E">
                                      <p:cBhvr>
                                        <p:cTn id="258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96532E-006 L 0.25989 -0.25156 E">
                                      <p:cBhvr>
                                        <p:cTn id="26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4798E-006 L 0.2599 -0.22011 E">
                                      <p:cBhvr>
                                        <p:cTn id="26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3873E-006 L 0.2599 -0.18867 E">
                                      <p:cBhvr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77457E-006 L 0.11823 -0.15722 E">
                                      <p:cBhvr>
                                        <p:cTn id="26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31214E-006 L 0.11823 -0.12578 E">
                                      <p:cBhvr>
                                        <p:cTn id="26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60116E-006 L 0.11806 -0.09433 E">
                                      <p:cBhvr>
                                        <p:cTn id="271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48555E-006 L 0.11805 -0.06289 E">
                                      <p:cBhvr>
                                        <p:cTn id="273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1:37:55Z</dcterms:created>
  <dc:creator>牟晨娣</dc:creator>
  <dc:description/>
  <dc:language>en-US</dc:language>
  <cp:lastModifiedBy>牟晨娣</cp:lastModifiedBy>
  <dcterms:modified xsi:type="dcterms:W3CDTF">2012-05-30T07:27:24Z</dcterms:modified>
  <cp:revision>119</cp:revision>
  <dc:subject/>
  <dc:title>幻灯片 1</dc:title>
</cp:coreProperties>
</file>