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5.xml.rels" ContentType="application/vnd.openxmlformats-package.relationships+xml"/>
  <Override PartName="/ppt/notesSlides/notesSlide7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6D7BB-7467-4CF9-85EB-713D8DAEBA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明确提出</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6D620-70E9-4DAF-915D-B6FE02D51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54BA8-CF3A-4F3C-9CA0-BA2141C46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689ED-1CB1-4726-82C5-95C0E1DED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1A31E-B5A5-4256-846E-821A1C77B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B66DB-0FAB-477F-8AF5-EA227E28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BBA3-2CDB-4CC0-B104-1AB60B78A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474E-B2A4-44EE-96FF-A831723DF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56E4F-C4A6-4C9A-83DA-BB0DE5802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BC0EA-B210-4D68-B956-ECA163EFE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E382A-D107-41BD-A823-34971D6AD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710D-8538-4BFF-8FC4-434F33F85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DACEF-F580-4504-B9E9-E5B023658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CF82-81F3-4546-A3BC-7ED5ACE9E6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5.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4.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2.xml"/><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979640" y="198900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76360" y="4581360"/>
            <a:ext cx="6912000" cy="739800"/>
          </a:xfrm>
          <a:prstGeom prst="rect">
            <a:avLst/>
          </a:prstGeom>
          <a:noFill/>
          <a:ln w="0">
            <a:noFill/>
          </a:ln>
        </p:spPr>
        <p:style>
          <a:lnRef idx="0"/>
          <a:fillRef idx="0"/>
          <a:effectRef idx="0"/>
          <a:fontRef idx="minor"/>
        </p:style>
        <p:txBody>
          <a:bodyPr lIns="90000" rIns="90000" tIns="0" bIns="190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新宋体"/>
                <a:ea typeface="新宋体"/>
              </a:rPr>
              <a:t>  </a:t>
            </a:r>
            <a:endParaRPr b="0" lang="en-US" sz="3600" spc="-1" strike="noStrike">
              <a:solidFill>
                <a:srgbClr val="000000"/>
              </a:solidFill>
              <a:latin typeface="Arial"/>
            </a:endParaRPr>
          </a:p>
        </p:txBody>
      </p:sp>
      <p:sp>
        <p:nvSpPr>
          <p:cNvPr id="50" name=""/>
          <p:cNvSpPr/>
          <p:nvPr/>
        </p:nvSpPr>
        <p:spPr>
          <a:xfrm>
            <a:off x="252360" y="1595520"/>
            <a:ext cx="8748720" cy="17031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Webdings"/>
                <a:ea typeface="Webdings"/>
              </a:rPr>
              <a:t></a:t>
            </a:r>
            <a:r>
              <a:rPr b="0" lang="zh-CN" sz="6000" spc="-1" strike="noStrike">
                <a:solidFill>
                  <a:srgbClr val="ff0066"/>
                </a:solidFill>
                <a:latin typeface="华文行楷"/>
                <a:ea typeface="华文行楷"/>
              </a:rPr>
              <a:t>再研读  促提升</a:t>
            </a:r>
            <a:endParaRPr b="0" lang="en-US" sz="60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再读</a:t>
            </a:r>
            <a:r>
              <a:rPr b="1" lang="en-US" sz="3200" spc="-1" strike="noStrike">
                <a:solidFill>
                  <a:srgbClr val="000000"/>
                </a:solidFill>
                <a:latin typeface="宋体"/>
              </a:rPr>
              <a:t>2011</a:t>
            </a:r>
            <a:r>
              <a:rPr b="1" lang="zh-CN" sz="3200" spc="-1" strike="noStrike">
                <a:solidFill>
                  <a:srgbClr val="000000"/>
                </a:solidFill>
                <a:latin typeface="宋体"/>
              </a:rPr>
              <a:t>年版</a:t>
            </a:r>
            <a:r>
              <a:rPr b="1" lang="zh-CN" sz="3200" spc="-1" strike="noStrike">
                <a:solidFill>
                  <a:srgbClr val="000000"/>
                </a:solidFill>
                <a:latin typeface="Webdings"/>
                <a:ea typeface="Webdings"/>
              </a:rPr>
              <a:t>数学课程标准</a:t>
            </a:r>
            <a:endParaRPr b="0" lang="en-US" sz="3200" spc="-1" strike="noStrike">
              <a:solidFill>
                <a:srgbClr val="000000"/>
              </a:solidFill>
              <a:latin typeface="Arial"/>
            </a:endParaRPr>
          </a:p>
        </p:txBody>
      </p:sp>
      <p:sp>
        <p:nvSpPr>
          <p:cNvPr id="51" name=""/>
          <p:cNvSpPr/>
          <p:nvPr/>
        </p:nvSpPr>
        <p:spPr>
          <a:xfrm>
            <a:off x="1332000" y="5013360"/>
            <a:ext cx="6122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行楷"/>
                <a:ea typeface="华文行楷"/>
              </a:rPr>
              <a:t>武进区郑陆中心小学数学教研组</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2014.3.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900000" y="836640"/>
            <a:ext cx="727236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基本理念</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900000" y="836640"/>
            <a:ext cx="7559640" cy="417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200" spc="-1" strike="noStrike">
                <a:solidFill>
                  <a:srgbClr val="000000"/>
                </a:solidFill>
                <a:latin typeface="Arial"/>
              </a:rPr>
              <a:t>新的理念表述</a:t>
            </a:r>
            <a:r>
              <a:rPr b="1" lang="en-US" sz="3200" spc="-1" strike="noStrike">
                <a:solidFill>
                  <a:srgbClr val="000000"/>
                </a:solidFill>
                <a:latin typeface="Arial"/>
              </a:rPr>
              <a:t>:6</a:t>
            </a:r>
            <a:r>
              <a:rPr b="1" lang="zh-CN" sz="3200" spc="-1" strike="noStrike">
                <a:solidFill>
                  <a:srgbClr val="000000"/>
                </a:solidFill>
                <a:latin typeface="Arial"/>
              </a:rPr>
              <a:t>条改为</a:t>
            </a:r>
            <a:r>
              <a:rPr b="1" lang="en-US" sz="3200" spc="-1" strike="noStrike">
                <a:solidFill>
                  <a:srgbClr val="000000"/>
                </a:solidFill>
                <a:latin typeface="Arial"/>
              </a:rPr>
              <a:t>5</a:t>
            </a:r>
            <a:r>
              <a:rPr b="1" lang="zh-CN" sz="3200" spc="-1" strike="noStrike">
                <a:solidFill>
                  <a:srgbClr val="000000"/>
                </a:solidFill>
                <a:latin typeface="Arial"/>
              </a:rPr>
              <a:t>条</a:t>
            </a:r>
            <a:r>
              <a:rPr b="0"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实验稿●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学课程</a:t>
            </a:r>
            <a:r>
              <a:rPr b="1" lang="en-US" sz="2800" spc="-1" strike="noStrike">
                <a:solidFill>
                  <a:srgbClr val="000000"/>
                </a:solidFill>
                <a:latin typeface="Arial"/>
              </a:rPr>
              <a:t>—</a:t>
            </a:r>
            <a:r>
              <a:rPr b="1" lang="zh-CN" sz="2800" spc="-1" strike="noStrike">
                <a:solidFill>
                  <a:srgbClr val="99cc00"/>
                </a:solidFill>
                <a:latin typeface="Arial"/>
              </a:rPr>
              <a:t>数学</a:t>
            </a:r>
            <a:r>
              <a:rPr b="1" lang="en-US" sz="2800" spc="-1" strike="noStrike">
                <a:solidFill>
                  <a:srgbClr val="000000"/>
                </a:solidFill>
                <a:latin typeface="Arial"/>
              </a:rPr>
              <a:t>—</a:t>
            </a:r>
            <a:r>
              <a:rPr b="1" lang="zh-CN" sz="2800" spc="-1" strike="noStrike">
                <a:solidFill>
                  <a:srgbClr val="d60093"/>
                </a:solidFill>
                <a:latin typeface="Arial"/>
              </a:rPr>
              <a:t>数学学习</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                        —</a:t>
            </a:r>
            <a:r>
              <a:rPr b="1" lang="zh-CN" sz="2800" spc="-1" strike="noStrike">
                <a:solidFill>
                  <a:srgbClr val="d60093"/>
                </a:solidFill>
                <a:latin typeface="Arial"/>
              </a:rPr>
              <a:t>数学教学</a:t>
            </a:r>
            <a:r>
              <a:rPr b="1" lang="en-US" sz="2800" spc="-1" strike="noStrike">
                <a:solidFill>
                  <a:srgbClr val="000000"/>
                </a:solidFill>
                <a:latin typeface="Arial"/>
              </a:rPr>
              <a:t>—</a:t>
            </a:r>
            <a:r>
              <a:rPr b="1" lang="zh-CN" sz="2800" spc="-1" strike="noStrike">
                <a:solidFill>
                  <a:srgbClr val="000000"/>
                </a:solidFill>
                <a:latin typeface="Arial"/>
              </a:rPr>
              <a:t>评价</a:t>
            </a:r>
            <a:r>
              <a:rPr b="1" lang="en-US" sz="2800" spc="-1" strike="noStrike">
                <a:solidFill>
                  <a:srgbClr val="000000"/>
                </a:solidFill>
                <a:latin typeface="Arial"/>
              </a:rPr>
              <a:t>—</a:t>
            </a:r>
            <a:r>
              <a:rPr b="1" lang="zh-CN" sz="2800" spc="-1" strike="noStrike">
                <a:solidFill>
                  <a:srgbClr val="000000"/>
                </a:solidFill>
                <a:latin typeface="Arial"/>
              </a:rPr>
              <a:t>信息技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1</a:t>
            </a:r>
            <a:r>
              <a:rPr b="1" lang="zh-CN" sz="2800" spc="-1" strike="noStrike">
                <a:solidFill>
                  <a:srgbClr val="000000"/>
                </a:solidFill>
                <a:latin typeface="Arial"/>
              </a:rPr>
              <a:t>版●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数学课程</a:t>
            </a:r>
            <a:r>
              <a:rPr b="1" lang="en-US" sz="2800" spc="-1" strike="noStrike">
                <a:solidFill>
                  <a:srgbClr val="000000"/>
                </a:solidFill>
                <a:latin typeface="Arial"/>
              </a:rPr>
              <a:t>—</a:t>
            </a:r>
            <a:r>
              <a:rPr b="1" lang="zh-CN" sz="2800" spc="-1" strike="noStrike">
                <a:solidFill>
                  <a:srgbClr val="99cc00"/>
                </a:solidFill>
                <a:latin typeface="Arial"/>
              </a:rPr>
              <a:t>课程内容</a:t>
            </a:r>
            <a:r>
              <a:rPr b="1" lang="en-US" sz="2800" spc="-1" strike="noStrike">
                <a:solidFill>
                  <a:srgbClr val="000000"/>
                </a:solidFill>
                <a:latin typeface="Arial"/>
              </a:rPr>
              <a:t>—</a:t>
            </a:r>
            <a:r>
              <a:rPr b="1" lang="zh-CN" sz="2800" spc="-1" strike="noStrike">
                <a:solidFill>
                  <a:srgbClr val="d60093"/>
                </a:solidFill>
                <a:latin typeface="Arial"/>
              </a:rPr>
              <a:t>教学活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学习评价</a:t>
            </a:r>
            <a:r>
              <a:rPr b="1" lang="en-US" sz="2800" spc="-1" strike="noStrike">
                <a:solidFill>
                  <a:srgbClr val="000000"/>
                </a:solidFill>
                <a:latin typeface="Arial"/>
              </a:rPr>
              <a:t>—</a:t>
            </a:r>
            <a:r>
              <a:rPr b="1" lang="zh-CN" sz="2800" spc="-1" strike="noStrike">
                <a:solidFill>
                  <a:srgbClr val="000000"/>
                </a:solidFill>
                <a:latin typeface="Arial"/>
              </a:rPr>
              <a:t>信息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900000" y="836640"/>
            <a:ext cx="7272360" cy="358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数学课程的“</a:t>
            </a:r>
            <a:r>
              <a:rPr b="0" lang="zh-CN" sz="4000" spc="-1" strike="noStrike" u="sng">
                <a:solidFill>
                  <a:srgbClr val="009999"/>
                </a:solidFill>
                <a:uFillTx/>
                <a:latin typeface="Arial"/>
                <a:hlinkClick r:id="rId2" action="ppaction://hlinksldjump"/>
              </a:rPr>
              <a:t>核心理念</a:t>
            </a:r>
            <a:r>
              <a:rPr b="1" lang="zh-CN" sz="4000" spc="-1" strike="noStrike">
                <a:solidFill>
                  <a:srgbClr val="000000"/>
                </a:solidFill>
                <a:latin typeface="Arial"/>
              </a:rPr>
              <a:t>”变化：</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验稿●“</a:t>
            </a:r>
            <a:r>
              <a:rPr b="1" lang="en-US" sz="3600" spc="-1" strike="noStrike">
                <a:solidFill>
                  <a:srgbClr val="000000"/>
                </a:solidFill>
                <a:latin typeface="Arial"/>
              </a:rPr>
              <a:t>……</a:t>
            </a:r>
            <a:r>
              <a:rPr b="1" lang="zh-CN" sz="3600" spc="-1" strike="noStrike">
                <a:solidFill>
                  <a:srgbClr val="d60093"/>
                </a:solidFill>
                <a:latin typeface="Arial"/>
              </a:rPr>
              <a:t>实现：</a:t>
            </a:r>
            <a:r>
              <a:rPr b="1" lang="zh-CN" sz="3600" spc="-1" strike="noStrike" u="sng">
                <a:solidFill>
                  <a:srgbClr val="99cc00"/>
                </a:solidFill>
                <a:uFillTx/>
                <a:latin typeface="Arial"/>
              </a:rPr>
              <a:t>人人学有价值的数学，人人获得必需的数学</a:t>
            </a:r>
            <a:r>
              <a:rPr b="1" lang="zh-CN" sz="3600" spc="-1" strike="noStrike">
                <a:solidFill>
                  <a:srgbClr val="99cc00"/>
                </a:solidFill>
                <a:latin typeface="Arial"/>
              </a:rPr>
              <a:t>，</a:t>
            </a:r>
            <a:r>
              <a:rPr b="1" lang="zh-CN" sz="3600" spc="-1" strike="noStrike">
                <a:solidFill>
                  <a:srgbClr val="000000"/>
                </a:solidFill>
                <a:latin typeface="Arial"/>
              </a:rPr>
              <a:t>不同的人在数学上得到不同的发展”。</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11</a:t>
            </a:r>
            <a:r>
              <a:rPr b="1" lang="zh-CN" sz="3600" spc="-1" strike="noStrike">
                <a:solidFill>
                  <a:srgbClr val="000000"/>
                </a:solidFill>
                <a:latin typeface="Arial"/>
              </a:rPr>
              <a:t>版●“</a:t>
            </a:r>
            <a:r>
              <a:rPr b="1" lang="en-US" sz="3600" spc="-1" strike="noStrike">
                <a:solidFill>
                  <a:srgbClr val="000000"/>
                </a:solidFill>
                <a:latin typeface="Arial"/>
              </a:rPr>
              <a:t>……</a:t>
            </a:r>
            <a:r>
              <a:rPr b="1" lang="zh-CN" sz="3600" spc="-1" strike="noStrike">
                <a:solidFill>
                  <a:srgbClr val="d60093"/>
                </a:solidFill>
                <a:latin typeface="Arial"/>
              </a:rPr>
              <a:t>使得：</a:t>
            </a:r>
            <a:r>
              <a:rPr b="1" lang="zh-CN" sz="3600" spc="-1" strike="noStrike">
                <a:solidFill>
                  <a:srgbClr val="99cc00"/>
                </a:solidFill>
                <a:latin typeface="Arial"/>
              </a:rPr>
              <a:t>人人都能获得良好的数学教育，</a:t>
            </a:r>
            <a:r>
              <a:rPr b="1" lang="zh-CN" sz="3600" spc="-1" strike="noStrike">
                <a:solidFill>
                  <a:srgbClr val="000000"/>
                </a:solidFill>
                <a:latin typeface="Arial"/>
              </a:rPr>
              <a:t>不同的人在数学上得到不同的发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900000" y="333360"/>
            <a:ext cx="7272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a:t>
            </a:r>
            <a:r>
              <a:rPr b="1" lang="zh-CN" sz="3200" spc="-1" strike="noStrike">
                <a:solidFill>
                  <a:srgbClr val="000000"/>
                </a:solidFill>
                <a:latin typeface="Arial"/>
              </a:rPr>
              <a:t>课程内容”</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学生的数学学习内容应当是现实的、有意义的、富有挑战性的，</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a:t>
            </a:r>
            <a:r>
              <a:rPr b="1" lang="zh-CN" sz="3200" spc="-1" strike="noStrike">
                <a:solidFill>
                  <a:srgbClr val="000000"/>
                </a:solidFill>
                <a:latin typeface="Arial"/>
              </a:rPr>
              <a:t>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课程内容的选择要贴近学生的实际，有利于学生体验、思考与探索。课程内容的组织要处理好过程与结果，直观与抽象的关系，直接经验与间接经验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900000" y="620640"/>
            <a:ext cx="74883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a:t>
            </a:r>
            <a:r>
              <a:rPr b="1" lang="zh-CN" sz="2400" spc="-1" strike="noStrike">
                <a:solidFill>
                  <a:srgbClr val="000000"/>
                </a:solidFill>
                <a:latin typeface="Arial"/>
              </a:rPr>
              <a:t>教学活动”</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1" lang="zh-CN" sz="2400" spc="-1" strike="noStrike">
                <a:solidFill>
                  <a:srgbClr val="000000"/>
                </a:solidFill>
                <a:latin typeface="Arial"/>
              </a:rPr>
              <a:t>、关于教学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实验稿：动手实践、自主探索与合作交流是学生学</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习数学的重要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r>
              <a:rPr b="1" lang="zh-CN" sz="2400" spc="-1" strike="noStrike">
                <a:solidFill>
                  <a:srgbClr val="000000"/>
                </a:solidFill>
                <a:latin typeface="Arial"/>
              </a:rPr>
              <a:t>版：</a:t>
            </a:r>
            <a:r>
              <a:rPr b="1" lang="zh-CN" sz="2400" spc="-1" strike="noStrike">
                <a:solidFill>
                  <a:srgbClr val="d60093"/>
                </a:solidFill>
                <a:latin typeface="Arial"/>
              </a:rPr>
              <a:t>除接受学习外</a:t>
            </a:r>
            <a:r>
              <a:rPr b="1" lang="zh-CN" sz="2400" spc="-1" strike="noStrike">
                <a:solidFill>
                  <a:srgbClr val="000000"/>
                </a:solidFill>
                <a:latin typeface="Arial"/>
              </a:rPr>
              <a:t>，动手实践、自主探索与合</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作交流也是学生学习数学的重要方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d60093"/>
                </a:solidFill>
                <a:latin typeface="Arial"/>
              </a:rPr>
              <a:t>肯定了接受学习的作用</a:t>
            </a:r>
            <a:r>
              <a:rPr b="1" lang="zh-CN"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关于学习途径</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验稿：</a:t>
            </a:r>
            <a:r>
              <a:rPr b="1" lang="en-US" sz="2400" spc="-1" strike="noStrike">
                <a:solidFill>
                  <a:srgbClr val="000000"/>
                </a:solidFill>
                <a:latin typeface="Arial"/>
              </a:rPr>
              <a:t>……</a:t>
            </a:r>
            <a:r>
              <a:rPr b="1" lang="zh-CN" sz="2400" spc="-1" strike="noStrike">
                <a:solidFill>
                  <a:srgbClr val="000000"/>
                </a:solidFill>
                <a:latin typeface="Arial"/>
              </a:rPr>
              <a:t>主动地进行观察、实验、猜测、验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推理与交流等数学活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1</a:t>
            </a:r>
            <a:r>
              <a:rPr b="1" lang="zh-CN" sz="2400" spc="-1" strike="noStrike">
                <a:solidFill>
                  <a:srgbClr val="000000"/>
                </a:solidFill>
                <a:latin typeface="Arial"/>
              </a:rPr>
              <a:t>版：</a:t>
            </a:r>
            <a:r>
              <a:rPr b="1" lang="zh-CN" sz="2400" spc="-1" strike="noStrike">
                <a:solidFill>
                  <a:srgbClr val="d60093"/>
                </a:solidFill>
                <a:latin typeface="Arial"/>
              </a:rPr>
              <a:t>学生应当有足够的时间和空间经历</a:t>
            </a:r>
            <a:r>
              <a:rPr b="1" lang="zh-CN" sz="2400" spc="-1" strike="noStrike">
                <a:solidFill>
                  <a:srgbClr val="000000"/>
                </a:solidFill>
                <a:latin typeface="Arial"/>
              </a:rPr>
              <a:t>观察、</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实验、猜测、计算、推理、验证等活动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900000" y="333360"/>
            <a:ext cx="727236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1" lang="zh-CN" sz="2600" spc="-1" strike="noStrike">
                <a:solidFill>
                  <a:srgbClr val="000000"/>
                </a:solidFill>
                <a:latin typeface="Arial"/>
              </a:rPr>
              <a:t>、关于教师的主导作用</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实验稿：</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教师应激发学生的学习积极性，向学生提供充分从事数学活动的机会，帮助他们在自主探索和合作交流的过程中真正理解和掌握基本的数学知识与技能、数学思想和方法，获得广泛的数学活动经验。</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a:t>
            </a:r>
            <a:r>
              <a:rPr b="1" lang="zh-CN" sz="2600" spc="-1" strike="noStrike">
                <a:solidFill>
                  <a:srgbClr val="000000"/>
                </a:solidFill>
                <a:latin typeface="Arial"/>
              </a:rPr>
              <a:t>版：</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注重启发式和因材施教，</a:t>
            </a:r>
            <a:r>
              <a:rPr b="1" lang="en-US" sz="2600" spc="-1" strike="noStrike">
                <a:solidFill>
                  <a:srgbClr val="000000"/>
                </a:solidFill>
                <a:latin typeface="Arial"/>
              </a:rPr>
              <a:t>……</a:t>
            </a:r>
            <a:r>
              <a:rPr b="1" lang="zh-CN" sz="2600" spc="-1" strike="noStrike">
                <a:solidFill>
                  <a:srgbClr val="000000"/>
                </a:solidFill>
                <a:latin typeface="Arial"/>
              </a:rPr>
              <a:t>处理好讲授与学生自主学习的关系，通过有效的措施，引导学生独立思考、主动探索、合作交流，使学生</a:t>
            </a:r>
            <a:r>
              <a:rPr b="1"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d60093"/>
                </a:solidFill>
                <a:latin typeface="Arial"/>
              </a:rPr>
              <a:t>（发挥教师的主导作用并不排斥教师讲授知识）</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900000" y="836640"/>
            <a:ext cx="727236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000000"/>
                </a:solidFill>
                <a:latin typeface="Arial"/>
              </a:rPr>
              <a:t>学习评价”</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稿：要关注学生学习的结果，</a:t>
            </a:r>
            <a:r>
              <a:rPr b="1" lang="zh-CN" sz="3200" spc="-1" strike="noStrike" u="sng">
                <a:solidFill>
                  <a:srgbClr val="d60093"/>
                </a:solidFill>
                <a:uFillTx/>
                <a:latin typeface="Arial"/>
              </a:rPr>
              <a:t>更要</a:t>
            </a:r>
            <a:r>
              <a:rPr b="1" lang="zh-CN" sz="3200" spc="-1" strike="noStrike">
                <a:solidFill>
                  <a:srgbClr val="000000"/>
                </a:solidFill>
                <a:latin typeface="Arial"/>
              </a:rPr>
              <a:t>关注他们学习的过程；要关注学生数学学习的水平，</a:t>
            </a:r>
            <a:r>
              <a:rPr b="1" lang="zh-CN" sz="3200" spc="-1" strike="noStrike" u="sng">
                <a:solidFill>
                  <a:srgbClr val="d60093"/>
                </a:solidFill>
                <a:uFillTx/>
                <a:latin typeface="Arial"/>
              </a:rPr>
              <a:t>更要</a:t>
            </a:r>
            <a:r>
              <a:rPr b="1" lang="zh-CN" sz="3200" spc="-1" strike="noStrike">
                <a:solidFill>
                  <a:srgbClr val="000000"/>
                </a:solidFill>
                <a:latin typeface="Arial"/>
              </a:rPr>
              <a:t>关注他们在数学活动中所表现出来的情感与态度，</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a:t>
            </a:r>
            <a:r>
              <a:rPr b="1" lang="zh-CN" sz="3200" spc="-1" strike="noStrike">
                <a:solidFill>
                  <a:srgbClr val="000000"/>
                </a:solidFill>
                <a:latin typeface="Arial"/>
              </a:rPr>
              <a:t>版：要关注学生学习的结果，</a:t>
            </a:r>
            <a:r>
              <a:rPr b="1" lang="zh-CN" sz="3200" spc="-1" strike="noStrike">
                <a:solidFill>
                  <a:srgbClr val="d60093"/>
                </a:solidFill>
                <a:latin typeface="Arial"/>
              </a:rPr>
              <a:t>也要</a:t>
            </a:r>
            <a:r>
              <a:rPr b="1" lang="zh-CN" sz="3200" spc="-1" strike="noStrike">
                <a:solidFill>
                  <a:srgbClr val="000000"/>
                </a:solidFill>
                <a:latin typeface="Arial"/>
              </a:rPr>
              <a:t>关注他们学习的过程；要关注学生数学学习的水平，</a:t>
            </a:r>
            <a:r>
              <a:rPr b="1" lang="zh-CN" sz="3200" spc="-1" strike="noStrike">
                <a:solidFill>
                  <a:srgbClr val="d60093"/>
                </a:solidFill>
                <a:latin typeface="Arial"/>
              </a:rPr>
              <a:t>也要</a:t>
            </a:r>
            <a:r>
              <a:rPr b="1" lang="zh-CN" sz="3200" spc="-1" strike="noStrike">
                <a:solidFill>
                  <a:srgbClr val="000000"/>
                </a:solidFill>
                <a:latin typeface="Arial"/>
              </a:rPr>
              <a:t>关注他们在数学活动中所表现出来的情感与态度，</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d60093"/>
                </a:solidFill>
                <a:latin typeface="Arial"/>
              </a:rPr>
              <a:t>两者同等重要</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900000" y="836640"/>
            <a:ext cx="72723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a:t>
            </a:r>
            <a:r>
              <a:rPr b="1" lang="zh-CN" sz="2600" spc="-1" strike="noStrike">
                <a:solidFill>
                  <a:srgbClr val="000000"/>
                </a:solidFill>
                <a:latin typeface="Arial"/>
              </a:rPr>
              <a:t>“</a:t>
            </a:r>
            <a:r>
              <a:rPr b="1" lang="zh-CN" sz="2600" spc="-1" strike="noStrike">
                <a:solidFill>
                  <a:srgbClr val="000000"/>
                </a:solidFill>
                <a:latin typeface="Arial"/>
              </a:rPr>
              <a:t>信息技术”</a:t>
            </a:r>
            <a:r>
              <a:rPr b="1"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实验稿：</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应重视运用现代信息技术，特别要充分考虑计算器、计算机对数学学习内容和方式的影响，大力开发并向学生提供更为丰富的学习资源，把现代信息技术作为学生学习数学和解决问题的强有力工具，致力于改变学生的学习方式，</a:t>
            </a:r>
            <a:r>
              <a:rPr b="1"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011</a:t>
            </a:r>
            <a:r>
              <a:rPr b="1" lang="zh-CN" sz="2600" spc="-1" strike="noStrike">
                <a:solidFill>
                  <a:srgbClr val="000000"/>
                </a:solidFill>
                <a:latin typeface="Arial"/>
              </a:rPr>
              <a:t>版：</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要注意信息技术与课程内容的整合，</a:t>
            </a:r>
            <a:r>
              <a:rPr b="1" lang="zh-CN" sz="2600" spc="-1" strike="noStrike">
                <a:solidFill>
                  <a:srgbClr val="d60093"/>
                </a:solidFill>
                <a:latin typeface="Arial"/>
              </a:rPr>
              <a:t>注重实效</a:t>
            </a:r>
            <a:r>
              <a:rPr b="1" lang="zh-CN" sz="2600" spc="-1" strike="noStrike">
                <a:solidFill>
                  <a:srgbClr val="000000"/>
                </a:solidFill>
                <a:latin typeface="Arial"/>
              </a:rPr>
              <a:t>。</a:t>
            </a:r>
            <a:r>
              <a:rPr b="1" lang="en-US" sz="2600" spc="-1" strike="noStrike">
                <a:solidFill>
                  <a:srgbClr val="000000"/>
                </a:solidFill>
                <a:latin typeface="Arial"/>
              </a:rPr>
              <a:t>……</a:t>
            </a:r>
            <a:r>
              <a:rPr b="1" lang="zh-CN" sz="2600" spc="-1" strike="noStrike">
                <a:solidFill>
                  <a:srgbClr val="000000"/>
                </a:solidFill>
                <a:latin typeface="Arial"/>
              </a:rPr>
              <a:t>改进教与学的方式，</a:t>
            </a:r>
            <a:r>
              <a:rPr b="1" lang="en-US" sz="2600" spc="-1" strike="noStrike">
                <a:solidFill>
                  <a:srgbClr val="000000"/>
                </a:solidFill>
                <a:latin typeface="Arial"/>
              </a:rPr>
              <a:t>……</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zh-CN" sz="2600" spc="-1" strike="noStrike">
                <a:solidFill>
                  <a:srgbClr val="000000"/>
                </a:solidFill>
                <a:latin typeface="Arial"/>
              </a:rPr>
              <a:t>（</a:t>
            </a:r>
            <a:r>
              <a:rPr b="1" lang="zh-CN" sz="2600" spc="-1" strike="noStrike">
                <a:solidFill>
                  <a:srgbClr val="d60093"/>
                </a:solidFill>
                <a:latin typeface="Arial"/>
              </a:rPr>
              <a:t>既要开发运用，又要考虑教学内容的需要，以及培养目标的实现</a:t>
            </a:r>
            <a:r>
              <a:rPr b="1" lang="zh-CN"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900000" y="836640"/>
            <a:ext cx="7272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60093"/>
                </a:solidFill>
                <a:latin typeface="Arial"/>
              </a:rPr>
              <a:t>(</a:t>
            </a:r>
            <a:r>
              <a:rPr b="1" lang="zh-CN" sz="2800" spc="-1" strike="noStrike">
                <a:solidFill>
                  <a:srgbClr val="d60093"/>
                </a:solidFill>
                <a:latin typeface="Arial"/>
              </a:rPr>
              <a:t>二</a:t>
            </a:r>
            <a:r>
              <a:rPr b="1" lang="en-US" sz="2800" spc="-1" strike="noStrike">
                <a:solidFill>
                  <a:srgbClr val="d60093"/>
                </a:solidFill>
                <a:latin typeface="Arial"/>
              </a:rPr>
              <a:t>)</a:t>
            </a:r>
            <a:r>
              <a:rPr b="1" lang="zh-CN" sz="2800" spc="-1" strike="noStrike">
                <a:solidFill>
                  <a:srgbClr val="d60093"/>
                </a:solidFill>
                <a:latin typeface="Arial"/>
              </a:rPr>
              <a:t>关于数学课程的核心概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验稿：在数学课程中，培养学生</a:t>
            </a:r>
            <a:r>
              <a:rPr b="1" lang="zh-CN" sz="2800" spc="-1" strike="noStrike" u="sng">
                <a:solidFill>
                  <a:srgbClr val="000000"/>
                </a:solidFill>
                <a:uFillTx/>
                <a:latin typeface="Arial"/>
              </a:rPr>
              <a:t>数感、符号感、空间观念、统计观念、应用意识、推理能力</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a:t>
            </a:r>
            <a:r>
              <a:rPr b="0" lang="zh-CN" sz="2800" spc="-1" strike="noStrike">
                <a:solidFill>
                  <a:srgbClr val="000000"/>
                </a:solidFill>
                <a:latin typeface="Arial"/>
              </a:rPr>
              <a:t>版：在数学课程中，应注重发展学生的</a:t>
            </a:r>
            <a:r>
              <a:rPr b="1" lang="zh-CN" sz="2800" spc="-1" strike="noStrike" u="sng">
                <a:solidFill>
                  <a:srgbClr val="000000"/>
                </a:solidFill>
                <a:uFillTx/>
                <a:latin typeface="Arial"/>
              </a:rPr>
              <a:t>数感、符号意识、</a:t>
            </a:r>
            <a:r>
              <a:rPr b="1" lang="zh-CN" sz="2800" spc="-1" strike="noStrike" u="sng">
                <a:solidFill>
                  <a:srgbClr val="d60093"/>
                </a:solidFill>
                <a:uFillTx/>
                <a:latin typeface="Arial"/>
              </a:rPr>
              <a:t>运算能力</a:t>
            </a:r>
            <a:r>
              <a:rPr b="1" lang="zh-CN" sz="2800" spc="-1" strike="noStrike" u="sng">
                <a:solidFill>
                  <a:srgbClr val="000000"/>
                </a:solidFill>
                <a:uFillTx/>
                <a:latin typeface="Arial"/>
              </a:rPr>
              <a:t>、空间观念、几何直观、推理能力（合情推理、演绎推理）、</a:t>
            </a:r>
            <a:r>
              <a:rPr b="1" lang="zh-CN" sz="2800" spc="-1" strike="noStrike" u="sng">
                <a:solidFill>
                  <a:srgbClr val="d60093"/>
                </a:solidFill>
                <a:uFillTx/>
                <a:latin typeface="Arial"/>
              </a:rPr>
              <a:t>模型思想</a:t>
            </a:r>
            <a:r>
              <a:rPr b="1" lang="zh-CN" sz="2800" spc="-1" strike="noStrike" u="sng">
                <a:solidFill>
                  <a:srgbClr val="000000"/>
                </a:solidFill>
                <a:uFillTx/>
                <a:latin typeface="Arial"/>
              </a:rPr>
              <a:t>以及应用意识和</a:t>
            </a:r>
            <a:r>
              <a:rPr b="1" lang="zh-CN" sz="2800" spc="-1" strike="noStrike" u="sng">
                <a:solidFill>
                  <a:srgbClr val="d60093"/>
                </a:solidFill>
                <a:uFillTx/>
                <a:latin typeface="Arial"/>
              </a:rPr>
              <a:t>创新意识</a:t>
            </a:r>
            <a:r>
              <a:rPr b="1" lang="zh-CN" sz="2800" spc="-1" strike="noStrike" u="sng">
                <a:solidFill>
                  <a:srgbClr val="000000"/>
                </a:solidFill>
                <a:uFillTx/>
                <a:latin typeface="Arial"/>
              </a:rPr>
              <a:t>。（见</a:t>
            </a:r>
            <a:r>
              <a:rPr b="1" lang="en-US" sz="2800" spc="-1" strike="noStrike" u="sng">
                <a:solidFill>
                  <a:srgbClr val="000000"/>
                </a:solidFill>
                <a:uFillTx/>
                <a:latin typeface="Arial"/>
              </a:rPr>
              <a:t>《</a:t>
            </a:r>
            <a:r>
              <a:rPr b="1" lang="zh-CN" sz="2800" spc="-1" strike="noStrike" u="sng">
                <a:solidFill>
                  <a:srgbClr val="000000"/>
                </a:solidFill>
                <a:uFillTx/>
                <a:latin typeface="Arial"/>
              </a:rPr>
              <a:t>解读</a:t>
            </a:r>
            <a:r>
              <a:rPr b="1" lang="en-US" sz="2800" spc="-1" strike="noStrike" u="sng">
                <a:solidFill>
                  <a:srgbClr val="000000"/>
                </a:solidFill>
                <a:uFillTx/>
                <a:latin typeface="Arial"/>
              </a:rPr>
              <a:t>》</a:t>
            </a:r>
            <a:r>
              <a:rPr b="1" lang="zh-CN" sz="2800" spc="-1" strike="noStrike" u="sng">
                <a:solidFill>
                  <a:srgbClr val="000000"/>
                </a:solidFill>
                <a:uFillTx/>
                <a:latin typeface="Arial"/>
              </a:rPr>
              <a:t>第六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900000" y="360360"/>
            <a:ext cx="7272360" cy="50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三</a:t>
            </a:r>
            <a:r>
              <a:rPr b="1" lang="en-US" sz="2800" spc="-1" strike="noStrike">
                <a:solidFill>
                  <a:srgbClr val="000000"/>
                </a:solidFill>
                <a:latin typeface="Arial"/>
              </a:rPr>
              <a:t>)</a:t>
            </a:r>
            <a:r>
              <a:rPr b="1" lang="zh-CN" sz="2800" spc="-1" strike="noStrike">
                <a:solidFill>
                  <a:srgbClr val="000000"/>
                </a:solidFill>
                <a:latin typeface="Arial"/>
              </a:rPr>
              <a:t>数学“课程目标”的变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目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双基”变“四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实验稿：“双基”。基础知识、基本技能；</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11</a:t>
            </a:r>
            <a:r>
              <a:rPr b="1" lang="zh-CN" sz="2800" spc="-1" strike="noStrike">
                <a:solidFill>
                  <a:srgbClr val="000000"/>
                </a:solidFill>
                <a:latin typeface="Arial"/>
              </a:rPr>
              <a:t>版：“四基”。基础知识、基本技能、基本思想和基本活动经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四基”与数学素养：●掌握数学基础知    识；●训练数学基本技能；●领悟数学基本思想；●积累数学基本活动经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明确提出了“两能”的培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发现问题和提出问题的能力、分析问题和解决问题的能力的培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900000" y="836640"/>
            <a:ext cx="7272360" cy="25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第一部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Arial"/>
                <a:ea typeface="黑体"/>
              </a:rPr>
              <a:t>课程标准的意义和功能</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826920" y="404640"/>
            <a:ext cx="7272360" cy="493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四</a:t>
            </a:r>
            <a:r>
              <a:rPr b="1" lang="en-US" sz="2800" spc="-1" strike="noStrike">
                <a:solidFill>
                  <a:srgbClr val="000000"/>
                </a:solidFill>
                <a:latin typeface="Arial"/>
              </a:rPr>
              <a:t>) </a:t>
            </a:r>
            <a:r>
              <a:rPr b="1" lang="zh-CN" sz="2800" spc="-1" strike="noStrike">
                <a:solidFill>
                  <a:srgbClr val="000000"/>
                </a:solidFill>
                <a:latin typeface="Arial"/>
              </a:rPr>
              <a:t>如何认识“四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a:t>
            </a:r>
            <a:r>
              <a:rPr b="1" lang="zh-CN" sz="2800" spc="-1" strike="noStrike" u="sng">
                <a:solidFill>
                  <a:srgbClr val="000000"/>
                </a:solidFill>
                <a:uFillTx/>
                <a:latin typeface="Arial"/>
              </a:rPr>
              <a:t>双基”为何要发展为“四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体现数学教育三维目标：知识与技能；过程与方法；情感、态度和价值观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符合素质教育的理念，有利于培养创新型人才，体现以生为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a:t>
            </a:r>
            <a:r>
              <a:rPr b="1" lang="en-US" sz="2800" spc="-1" strike="noStrike">
                <a:solidFill>
                  <a:srgbClr val="000000"/>
                </a:solidFill>
                <a:latin typeface="Arial"/>
              </a:rPr>
              <a:t> </a:t>
            </a:r>
            <a:r>
              <a:rPr b="1" lang="zh-CN" sz="2800" spc="-1" strike="noStrike" u="sng">
                <a:solidFill>
                  <a:srgbClr val="000000"/>
                </a:solidFill>
                <a:uFillTx/>
                <a:latin typeface="Arial"/>
              </a:rPr>
              <a:t>获得基本的数学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a:t>
            </a:r>
            <a:r>
              <a:rPr b="1" lang="zh-CN" sz="2800" spc="-1" strike="noStrike">
                <a:solidFill>
                  <a:srgbClr val="000000"/>
                </a:solidFill>
                <a:latin typeface="Arial"/>
              </a:rPr>
              <a:t>标准</a:t>
            </a:r>
            <a:r>
              <a:rPr b="1" lang="en-US" sz="2800" spc="-1" strike="noStrike">
                <a:solidFill>
                  <a:srgbClr val="000000"/>
                </a:solidFill>
                <a:latin typeface="Arial"/>
              </a:rPr>
              <a:t>》</a:t>
            </a:r>
            <a:r>
              <a:rPr b="1" lang="zh-CN" sz="2800" spc="-1" strike="noStrike">
                <a:solidFill>
                  <a:srgbClr val="000000"/>
                </a:solidFill>
                <a:latin typeface="Arial"/>
              </a:rPr>
              <a:t>中“数学的基本思想”主要指：</a:t>
            </a:r>
            <a:r>
              <a:rPr b="1" lang="zh-CN" sz="2800" spc="-1" strike="noStrike">
                <a:solidFill>
                  <a:srgbClr val="d60093"/>
                </a:solidFill>
                <a:latin typeface="Arial"/>
              </a:rPr>
              <a:t>抽象的思想；推理的思想；模型的思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a:t>
            </a:r>
            <a:r>
              <a:rPr b="1" lang="en-US" sz="2800" spc="-1" strike="noStrike">
                <a:solidFill>
                  <a:srgbClr val="000000"/>
                </a:solidFill>
                <a:latin typeface="Arial"/>
              </a:rPr>
              <a:t> </a:t>
            </a:r>
            <a:r>
              <a:rPr b="1" lang="zh-CN" sz="2800" spc="-1" strike="noStrike" u="sng">
                <a:solidFill>
                  <a:srgbClr val="000000"/>
                </a:solidFill>
                <a:uFillTx/>
                <a:latin typeface="Arial"/>
              </a:rPr>
              <a:t>获得基本的活动经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a:t>
            </a:r>
            <a:r>
              <a:rPr b="1" lang="en-US" sz="2800" spc="-1" strike="noStrike">
                <a:solidFill>
                  <a:srgbClr val="000000"/>
                </a:solidFill>
                <a:latin typeface="Arial"/>
              </a:rPr>
              <a:t> </a:t>
            </a:r>
            <a:r>
              <a:rPr b="1" lang="en-US" sz="2800" spc="-1" strike="noStrike" u="sng">
                <a:solidFill>
                  <a:srgbClr val="000000"/>
                </a:solidFill>
                <a:uFillTx/>
                <a:latin typeface="Arial"/>
              </a:rPr>
              <a:t>“</a:t>
            </a:r>
            <a:r>
              <a:rPr b="1" lang="zh-CN" sz="2800" spc="-1" strike="noStrike" u="sng">
                <a:solidFill>
                  <a:srgbClr val="000000"/>
                </a:solidFill>
                <a:uFillTx/>
                <a:latin typeface="Arial"/>
              </a:rPr>
              <a:t>四基”是一个有机的整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908000" y="1268280"/>
            <a:ext cx="5256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①</a:t>
            </a:r>
            <a:r>
              <a:rPr b="1" lang="zh-CN" sz="3200" spc="-1" strike="noStrike">
                <a:solidFill>
                  <a:srgbClr val="d60093"/>
                </a:solidFill>
                <a:latin typeface="Arial"/>
              </a:rPr>
              <a:t>数学抽象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派生出的有：分类的思想；集合的思想；数形结合的思想；变中有不变的思想；符号表示的思想；对称的思想；对应的思想；有限与无限的思想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1403280" y="836640"/>
            <a:ext cx="5977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②</a:t>
            </a:r>
            <a:r>
              <a:rPr b="1" lang="zh-CN" sz="3600" spc="-1" strike="noStrike">
                <a:solidFill>
                  <a:srgbClr val="d60093"/>
                </a:solidFill>
                <a:latin typeface="Arial"/>
              </a:rPr>
              <a:t>数学推理的思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派生出的有：归纳的思想；演绎的思想；转换与化归的思想；联想与类比的思想；逐步逼近的思想；代换的思想；特殊与一般的思想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1763640" y="1557360"/>
            <a:ext cx="4969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③</a:t>
            </a:r>
            <a:r>
              <a:rPr b="1" lang="zh-CN" sz="3200" spc="-1" strike="noStrike">
                <a:solidFill>
                  <a:srgbClr val="d60093"/>
                </a:solidFill>
                <a:latin typeface="Arial"/>
              </a:rPr>
              <a:t>数学模型的思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派生出的有：简化的思想；量化的思想；函数的思想；方程的思想；优化的思想；随机的思想；抽样统计的思想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900000" y="836640"/>
            <a:ext cx="72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Arial"/>
              </a:rPr>
              <a:t>3.“</a:t>
            </a:r>
            <a:r>
              <a:rPr b="1" lang="zh-CN" sz="3600" spc="-1" strike="noStrike">
                <a:solidFill>
                  <a:srgbClr val="d60093"/>
                </a:solidFill>
                <a:latin typeface="Arial"/>
              </a:rPr>
              <a:t>活动经验”与“活动”密不可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Arial"/>
              </a:rPr>
              <a:t>     </a:t>
            </a:r>
            <a:r>
              <a:rPr b="1" lang="zh-CN" sz="3600" spc="-1" strike="noStrike">
                <a:solidFill>
                  <a:srgbClr val="000000"/>
                </a:solidFill>
                <a:latin typeface="Arial"/>
              </a:rPr>
              <a:t>要有手动、口动和脑动。既包括学生在课堂上学习数学时的探究性学习活动，也包括与数学课程相联系的学生实践活动；既包括生活、生产中实际进行的活动，也包括课程教学中特意设计的活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900000" y="476280"/>
            <a:ext cx="7272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a:t>
            </a:r>
            <a:r>
              <a:rPr b="1" lang="zh-CN" sz="3200" spc="-1" strike="noStrike">
                <a:solidFill>
                  <a:srgbClr val="d60093"/>
                </a:solidFill>
                <a:latin typeface="Arial"/>
              </a:rPr>
              <a:t>活动经验”与“经验”密不可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生要把活动中的经历、体会总结上升为“经验”。既可以是活动当时的经验，也可以是延时反思的经验；既可以是学生自己摸索出的经验，也可以是受别人启发得出的经验；既可以是从一次活动中得到的经验，也可以是从多次活动中逐渐积累得到的经验。这些“经验”必须内化为学生本人的东西，才可以认为学生获得了“活动经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1916280"/>
            <a:ext cx="568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        </a:t>
            </a:r>
            <a:r>
              <a:rPr b="1" lang="zh-CN" sz="3200" spc="-1" strike="noStrike">
                <a:solidFill>
                  <a:srgbClr val="d60093"/>
                </a:solidFill>
                <a:latin typeface="Arial"/>
              </a:rPr>
              <a:t>数学基本活动经验是</a:t>
            </a:r>
            <a:r>
              <a:rPr b="1" lang="zh-CN" sz="3200" spc="-1" strike="noStrike">
                <a:solidFill>
                  <a:srgbClr val="000000"/>
                </a:solidFill>
                <a:latin typeface="Arial"/>
              </a:rPr>
              <a:t>学生从数学的角度进行思考，通过亲身经历数学活动过程所获得的具有个性特征的经验。</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08000" y="1670040"/>
            <a:ext cx="54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600" spc="-1" strike="noStrike">
                <a:solidFill>
                  <a:srgbClr val="000000"/>
                </a:solidFill>
                <a:latin typeface="Arial"/>
              </a:rPr>
              <a:t>学生</a:t>
            </a:r>
            <a:r>
              <a:rPr b="1" lang="zh-CN" sz="3600" spc="-1" strike="noStrike">
                <a:solidFill>
                  <a:srgbClr val="d60093"/>
                </a:solidFill>
                <a:latin typeface="Arial"/>
              </a:rPr>
              <a:t>只有</a:t>
            </a:r>
            <a:r>
              <a:rPr b="1" lang="zh-CN" sz="3600" spc="-1" strike="noStrike">
                <a:solidFill>
                  <a:srgbClr val="000000"/>
                </a:solidFill>
                <a:latin typeface="Arial"/>
              </a:rPr>
              <a:t>积极参与数学课程的教学过程，经过独立思考，探索实践，合作交流等，</a:t>
            </a:r>
            <a:r>
              <a:rPr b="1" lang="zh-CN" sz="3600" spc="-1" strike="noStrike">
                <a:solidFill>
                  <a:srgbClr val="d60093"/>
                </a:solidFill>
                <a:latin typeface="Arial"/>
              </a:rPr>
              <a:t>才有可能</a:t>
            </a:r>
            <a:r>
              <a:rPr b="1" lang="zh-CN" sz="3600" spc="-1" strike="noStrike">
                <a:solidFill>
                  <a:srgbClr val="000000"/>
                </a:solidFill>
                <a:latin typeface="Arial"/>
              </a:rPr>
              <a:t>积累数学活动经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00000" y="193212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
            </a:r>
            <a:r>
              <a:rPr b="1" lang="zh-CN" sz="3600" spc="-1" strike="noStrike">
                <a:solidFill>
                  <a:srgbClr val="000000"/>
                </a:solidFill>
                <a:latin typeface="Arial"/>
              </a:rPr>
              <a:t>标准</a:t>
            </a:r>
            <a:r>
              <a:rPr b="1" lang="en-US" sz="3600" spc="-1" strike="noStrike">
                <a:solidFill>
                  <a:srgbClr val="000000"/>
                </a:solidFill>
                <a:latin typeface="Arial"/>
              </a:rPr>
              <a:t>》</a:t>
            </a:r>
            <a:r>
              <a:rPr b="1" lang="zh-CN" sz="3600" spc="-1" strike="noStrike">
                <a:solidFill>
                  <a:srgbClr val="000000"/>
                </a:solidFill>
                <a:latin typeface="Arial"/>
              </a:rPr>
              <a:t>中设置 “综合与实践”的课程内容，</a:t>
            </a:r>
            <a:r>
              <a:rPr b="1" lang="zh-CN" sz="3600" spc="-1" strike="noStrike">
                <a:solidFill>
                  <a:srgbClr val="d60093"/>
                </a:solidFill>
                <a:latin typeface="Arial"/>
              </a:rPr>
              <a:t>强调以问题为载体，让学生在解决问题的实践中获得数学活动经验。</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900000" y="836640"/>
            <a:ext cx="7272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60093"/>
                </a:solidFill>
                <a:uFillTx/>
                <a:latin typeface="Arial"/>
              </a:rPr>
              <a:t>4.</a:t>
            </a:r>
            <a:r>
              <a:rPr b="1" lang="en-US" sz="3200" spc="-1" strike="noStrike">
                <a:solidFill>
                  <a:srgbClr val="d60093"/>
                </a:solidFill>
                <a:latin typeface="Arial"/>
              </a:rPr>
              <a:t> </a:t>
            </a:r>
            <a:r>
              <a:rPr b="1" lang="en-US" sz="3200" spc="-1" strike="noStrike" u="sng">
                <a:solidFill>
                  <a:srgbClr val="d60093"/>
                </a:solidFill>
                <a:uFillTx/>
                <a:latin typeface="Arial"/>
              </a:rPr>
              <a:t>“</a:t>
            </a:r>
            <a:r>
              <a:rPr b="1" lang="zh-CN" sz="3200" spc="-1" strike="noStrike" u="sng">
                <a:solidFill>
                  <a:srgbClr val="d60093"/>
                </a:solidFill>
                <a:uFillTx/>
                <a:latin typeface="Arial"/>
              </a:rPr>
              <a:t>四基”是一个有机的整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四基”不是简单的叠加与混合，而是相互联系、相互交融，相互促进的整体。</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基础知识和基本技能是数学教学的主要载体；数学思想则是数学教学的精髓，是课堂教学的主线；数学思想的教学要以数学知识为载体，因势利导，画龙点睛，避免生硬牵强和长篇大论。数学活动是不可缺的教学形式与过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116000" y="836640"/>
            <a:ext cx="691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意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课程标准是国家课程的基本纲领性文件，是国家对基础教育课程的基本规范和质量要求。新课程改革将我国沿用已久的教学大纲改为课程标准，反映了课程改革所倡导的基本理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1258920" y="278136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第三、具体内容的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826920" y="333360"/>
            <a:ext cx="7272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前言内容做了较大的调整。</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前言重点阐述了</a:t>
            </a:r>
            <a:r>
              <a:rPr b="1" lang="en-US" sz="3200" spc="-1" strike="noStrike">
                <a:solidFill>
                  <a:srgbClr val="000000"/>
                </a:solidFill>
                <a:latin typeface="Arial"/>
              </a:rPr>
              <a:t>《</a:t>
            </a:r>
            <a:r>
              <a:rPr b="1" lang="zh-CN" sz="3200" spc="-1" strike="noStrike">
                <a:solidFill>
                  <a:srgbClr val="000000"/>
                </a:solidFill>
                <a:latin typeface="Arial"/>
              </a:rPr>
              <a:t>标准</a:t>
            </a:r>
            <a:r>
              <a:rPr b="1" lang="en-US" sz="3200" spc="-1" strike="noStrike">
                <a:solidFill>
                  <a:srgbClr val="000000"/>
                </a:solidFill>
                <a:latin typeface="Arial"/>
              </a:rPr>
              <a:t>》</a:t>
            </a:r>
            <a:r>
              <a:rPr b="1" lang="zh-CN" sz="3200" spc="-1" strike="noStrike">
                <a:solidFill>
                  <a:srgbClr val="000000"/>
                </a:solidFill>
                <a:latin typeface="Arial"/>
              </a:rPr>
              <a:t>的指导思想、意义与功能。</a:t>
            </a:r>
            <a:r>
              <a:rPr b="1" lang="zh-CN" sz="3200" spc="-1" strike="noStrike">
                <a:solidFill>
                  <a:srgbClr val="d60093"/>
                </a:solidFill>
                <a:latin typeface="Arial"/>
              </a:rPr>
              <a:t>明确了</a:t>
            </a:r>
            <a:r>
              <a:rPr b="1" lang="en-US" sz="3200" spc="-1" strike="noStrike">
                <a:solidFill>
                  <a:srgbClr val="d60093"/>
                </a:solidFill>
                <a:latin typeface="Arial"/>
              </a:rPr>
              <a:t>《</a:t>
            </a:r>
            <a:r>
              <a:rPr b="1" lang="zh-CN" sz="3200" spc="-1" strike="noStrike">
                <a:solidFill>
                  <a:srgbClr val="d60093"/>
                </a:solidFill>
                <a:latin typeface="Arial"/>
              </a:rPr>
              <a:t>标准</a:t>
            </a:r>
            <a:r>
              <a:rPr b="1" lang="en-US" sz="3200" spc="-1" strike="noStrike">
                <a:solidFill>
                  <a:srgbClr val="d60093"/>
                </a:solidFill>
                <a:latin typeface="Arial"/>
              </a:rPr>
              <a:t>》</a:t>
            </a:r>
            <a:r>
              <a:rPr b="1" lang="zh-CN" sz="3200" spc="-1" strike="noStrike">
                <a:solidFill>
                  <a:srgbClr val="d60093"/>
                </a:solidFill>
                <a:latin typeface="Arial"/>
              </a:rPr>
              <a:t>应以</a:t>
            </a:r>
            <a:r>
              <a:rPr b="1" lang="en-US" sz="3200" spc="-1" strike="noStrike">
                <a:solidFill>
                  <a:srgbClr val="d60093"/>
                </a:solidFill>
                <a:latin typeface="Arial"/>
              </a:rPr>
              <a:t>《</a:t>
            </a:r>
            <a:r>
              <a:rPr b="1" lang="zh-CN" sz="3200" spc="-1" strike="noStrike">
                <a:solidFill>
                  <a:srgbClr val="d60093"/>
                </a:solidFill>
                <a:latin typeface="Arial"/>
              </a:rPr>
              <a:t>义务教育法</a:t>
            </a:r>
            <a:r>
              <a:rPr b="1" lang="en-US" sz="3200" spc="-1" strike="noStrike">
                <a:solidFill>
                  <a:srgbClr val="d60093"/>
                </a:solidFill>
                <a:latin typeface="Arial"/>
              </a:rPr>
              <a:t>》</a:t>
            </a:r>
            <a:r>
              <a:rPr b="1" lang="zh-CN" sz="3200" spc="-1" strike="noStrike">
                <a:solidFill>
                  <a:srgbClr val="d60093"/>
                </a:solidFill>
                <a:latin typeface="Arial"/>
              </a:rPr>
              <a:t>和全面推进素质教育，培养创新型人才为依据。</a:t>
            </a:r>
            <a:r>
              <a:rPr b="1" lang="zh-CN" sz="3200" spc="-1" strike="noStrike" u="sng">
                <a:solidFill>
                  <a:srgbClr val="d60093"/>
                </a:solidFill>
                <a:uFillTx/>
                <a:latin typeface="Arial"/>
              </a:rPr>
              <a:t>明确了</a:t>
            </a:r>
            <a:r>
              <a:rPr b="1" lang="en-US" sz="3200" spc="-1" strike="noStrike" u="sng">
                <a:solidFill>
                  <a:srgbClr val="d60093"/>
                </a:solidFill>
                <a:uFillTx/>
                <a:latin typeface="Arial"/>
              </a:rPr>
              <a:t>《</a:t>
            </a:r>
            <a:r>
              <a:rPr b="1" lang="zh-CN" sz="3200" spc="-1" strike="noStrike" u="sng">
                <a:solidFill>
                  <a:srgbClr val="d60093"/>
                </a:solidFill>
                <a:uFillTx/>
                <a:latin typeface="Arial"/>
              </a:rPr>
              <a:t>标准</a:t>
            </a:r>
            <a:r>
              <a:rPr b="1" lang="en-US" sz="3200" spc="-1" strike="noStrike" u="sng">
                <a:solidFill>
                  <a:srgbClr val="d60093"/>
                </a:solidFill>
                <a:uFillTx/>
                <a:latin typeface="Arial"/>
              </a:rPr>
              <a:t>》</a:t>
            </a:r>
            <a:r>
              <a:rPr b="1" lang="zh-CN" sz="3200" spc="-1" strike="noStrike" u="sng">
                <a:solidFill>
                  <a:srgbClr val="d60093"/>
                </a:solidFill>
                <a:uFillTx/>
                <a:latin typeface="Arial"/>
              </a:rPr>
              <a:t>的意义和功能。在前言中指出，“</a:t>
            </a:r>
            <a:r>
              <a:rPr b="1" lang="en-US" sz="3200" spc="-1" strike="noStrike" u="sng">
                <a:solidFill>
                  <a:srgbClr val="d60093"/>
                </a:solidFill>
                <a:uFillTx/>
                <a:latin typeface="Arial"/>
              </a:rPr>
              <a:t>《</a:t>
            </a:r>
            <a:r>
              <a:rPr b="1" lang="zh-CN" sz="3200" spc="-1" strike="noStrike" u="sng">
                <a:solidFill>
                  <a:srgbClr val="d60093"/>
                </a:solidFill>
                <a:uFillTx/>
                <a:latin typeface="Arial"/>
              </a:rPr>
              <a:t>标准</a:t>
            </a:r>
            <a:r>
              <a:rPr b="1" lang="en-US" sz="3200" spc="-1" strike="noStrike" u="sng">
                <a:solidFill>
                  <a:srgbClr val="d60093"/>
                </a:solidFill>
                <a:uFillTx/>
                <a:latin typeface="Arial"/>
              </a:rPr>
              <a:t>》</a:t>
            </a:r>
            <a:r>
              <a:rPr b="1" lang="zh-CN" sz="3200" spc="-1" strike="noStrike" u="sng">
                <a:solidFill>
                  <a:srgbClr val="d60093"/>
                </a:solidFill>
                <a:uFillTx/>
                <a:latin typeface="Arial"/>
              </a:rPr>
              <a:t>提出的数学课程理念和目标对义务教育阶段的数学课程与教学具有指导作用，所规定的课程目标和内容标准是义务教育阶段的每一个学生应当达到的基本要求。</a:t>
            </a:r>
            <a:r>
              <a:rPr b="1" lang="en-US" sz="3200" spc="-1" strike="noStrike">
                <a:solidFill>
                  <a:srgbClr val="d60093"/>
                </a:solidFill>
                <a:latin typeface="Arial"/>
              </a:rPr>
              <a:t>《</a:t>
            </a:r>
            <a:r>
              <a:rPr b="1" lang="zh-CN" sz="3200" spc="-1" strike="noStrike">
                <a:solidFill>
                  <a:srgbClr val="d60093"/>
                </a:solidFill>
                <a:latin typeface="Arial"/>
              </a:rPr>
              <a:t>标准</a:t>
            </a:r>
            <a:r>
              <a:rPr b="1" lang="en-US" sz="3200" spc="-1" strike="noStrike">
                <a:solidFill>
                  <a:srgbClr val="d60093"/>
                </a:solidFill>
                <a:latin typeface="Arial"/>
              </a:rPr>
              <a:t>》</a:t>
            </a:r>
            <a:r>
              <a:rPr b="1" lang="zh-CN" sz="3200" spc="-1" strike="noStrike">
                <a:solidFill>
                  <a:srgbClr val="d60093"/>
                </a:solidFill>
                <a:latin typeface="Arial"/>
              </a:rPr>
              <a:t>是教材编写、教学、评估和考试命题的依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00000" y="836640"/>
            <a:ext cx="727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课程内容的分类名称有所修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实验稿：“数与代数”、</a:t>
            </a:r>
            <a:r>
              <a:rPr b="1" lang="en-US" sz="3600" spc="-1" strike="noStrike">
                <a:solidFill>
                  <a:srgbClr val="000000"/>
                </a:solidFill>
                <a:latin typeface="Arial"/>
              </a:rPr>
              <a:t>“</a:t>
            </a:r>
            <a:r>
              <a:rPr b="1" lang="zh-CN" sz="3600" spc="-1" strike="noStrike">
                <a:solidFill>
                  <a:srgbClr val="000000"/>
                </a:solidFill>
                <a:latin typeface="Arial"/>
              </a:rPr>
              <a:t>空间与图形”、“统计与概率</a:t>
            </a:r>
            <a:r>
              <a:rPr b="1" lang="zh-CN" sz="3600" spc="-1" strike="noStrike">
                <a:solidFill>
                  <a:srgbClr val="d60093"/>
                </a:solidFill>
                <a:latin typeface="Arial"/>
              </a:rPr>
              <a:t>”、“实践与综合应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011</a:t>
            </a:r>
            <a:r>
              <a:rPr b="1" lang="zh-CN" sz="3600" spc="-1" strike="noStrike">
                <a:solidFill>
                  <a:srgbClr val="000000"/>
                </a:solidFill>
                <a:latin typeface="Arial"/>
              </a:rPr>
              <a:t>版 ：“数与代数”、“图形与几何”、“ 统计与概率”、 </a:t>
            </a:r>
            <a:r>
              <a:rPr b="1" lang="zh-CN" sz="3600" spc="-1" strike="noStrike">
                <a:solidFill>
                  <a:srgbClr val="d60093"/>
                </a:solidFill>
                <a:latin typeface="Arial"/>
              </a:rPr>
              <a:t>“综合与实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每个学段一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1187280" y="981000"/>
            <a:ext cx="6985080" cy="265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课程内容结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对于三个学段的具体内容进行了适当调整。对“数与代数”，“图形与几何”的内容也做了一定的调整，增加了一些论证的要求；对“统计与概率”的内容进行了梳理，增强了三个学段内容的层次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71640" y="328464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数与代数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83664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整体结构没有变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66"/>
                </a:solidFill>
                <a:latin typeface="Arial"/>
              </a:rPr>
              <a:t>第一学段还是</a:t>
            </a:r>
            <a:r>
              <a:rPr b="1" lang="zh-CN" sz="3600" spc="-1" strike="noStrike">
                <a:solidFill>
                  <a:srgbClr val="000000"/>
                </a:solidFill>
                <a:latin typeface="Arial"/>
              </a:rPr>
              <a:t>“数的认识；数的运算；常见的量；探索规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0066"/>
                </a:solidFill>
                <a:latin typeface="Arial"/>
              </a:rPr>
              <a:t>第二学段还是</a:t>
            </a:r>
            <a:r>
              <a:rPr b="1" lang="zh-CN" sz="3600" spc="-1" strike="noStrike">
                <a:solidFill>
                  <a:srgbClr val="000000"/>
                </a:solidFill>
                <a:latin typeface="Arial"/>
              </a:rPr>
              <a:t>“数的认识；数的运算；式与方程；正比例、反比例；探索规律”</a:t>
            </a:r>
            <a:r>
              <a:rPr b="0" lang="zh-CN" sz="3600" spc="-1" strike="noStrike">
                <a:solidFill>
                  <a:srgbClr val="000000"/>
                </a:solidFill>
                <a:latin typeface="Arial"/>
              </a:rPr>
              <a:t> </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900000" y="549360"/>
            <a:ext cx="72723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内容结构细微的变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一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增加了认识小括号，增加“能进行简单的四则混合运算（两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第二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增加“结合现实情境感受大数的意义，并能进行估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增加“了解公倍数和最小公倍数；了解公因数和最大公因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删除“会口算百以内一位数乘、除两位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理解等式的性质，会用等式的性质解简单方程，改为“能解简单的方程</a:t>
            </a:r>
            <a:r>
              <a:rPr b="1" lang="en-US" sz="2800" spc="-1" strike="noStrike">
                <a:solidFill>
                  <a:srgbClr val="000000"/>
                </a:solidFill>
                <a:latin typeface="Arial"/>
              </a:rPr>
              <a:t>(</a:t>
            </a:r>
            <a:r>
              <a:rPr b="1" lang="zh-CN" sz="2800" spc="-1" strike="noStrike">
                <a:solidFill>
                  <a:srgbClr val="000000"/>
                </a:solidFill>
                <a:latin typeface="Arial"/>
              </a:rPr>
              <a:t>如</a:t>
            </a:r>
            <a:r>
              <a:rPr b="1" lang="en-US" sz="2800" spc="-1" strike="noStrike">
                <a:solidFill>
                  <a:srgbClr val="000000"/>
                </a:solidFill>
                <a:latin typeface="Arial"/>
              </a:rPr>
              <a:t>3x+2</a:t>
            </a:r>
            <a:r>
              <a:rPr b="1" lang="zh-CN" sz="2800" spc="-1" strike="noStrike">
                <a:solidFill>
                  <a:srgbClr val="000000"/>
                </a:solidFill>
                <a:latin typeface="Arial"/>
              </a:rPr>
              <a:t>＝</a:t>
            </a:r>
            <a:r>
              <a:rPr b="1" lang="en-US" sz="2800" spc="-1" strike="noStrike">
                <a:solidFill>
                  <a:srgbClr val="000000"/>
                </a:solidFill>
                <a:latin typeface="Arial"/>
              </a:rPr>
              <a:t>5</a:t>
            </a:r>
            <a:r>
              <a:rPr b="1" lang="zh-CN" sz="2800" spc="-1" strike="noStrike">
                <a:solidFill>
                  <a:srgbClr val="000000"/>
                </a:solidFill>
                <a:latin typeface="Arial"/>
              </a:rPr>
              <a:t>，</a:t>
            </a:r>
            <a:r>
              <a:rPr b="1" lang="en-US" sz="2800" spc="-1" strike="noStrike">
                <a:solidFill>
                  <a:srgbClr val="000000"/>
                </a:solidFill>
                <a:latin typeface="Arial"/>
              </a:rPr>
              <a:t>2x-x</a:t>
            </a: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826920" y="263700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图形与几何  </a:t>
            </a:r>
            <a:r>
              <a:rPr b="0" lang="zh-CN"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900000" y="404640"/>
            <a:ext cx="7272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内容的结构的调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实验稿：</a:t>
            </a:r>
            <a:r>
              <a:rPr b="1" lang="zh-CN" sz="3600" spc="-1" strike="noStrike" u="sng">
                <a:solidFill>
                  <a:srgbClr val="000000"/>
                </a:solidFill>
                <a:uFillTx/>
                <a:latin typeface="Arial"/>
              </a:rPr>
              <a:t>“</a:t>
            </a:r>
            <a:r>
              <a:rPr b="1" lang="zh-CN" sz="3600" spc="-1" strike="noStrike" u="sng">
                <a:solidFill>
                  <a:srgbClr val="3333ff"/>
                </a:solidFill>
                <a:uFillTx/>
                <a:latin typeface="Arial"/>
              </a:rPr>
              <a:t>空间与图形</a:t>
            </a:r>
            <a:r>
              <a:rPr b="1" lang="zh-CN" sz="3600" spc="-1" strike="noStrike" u="sng">
                <a:solidFill>
                  <a:srgbClr val="000000"/>
                </a:solidFill>
                <a:uFillTx/>
                <a:latin typeface="Arial"/>
              </a:rPr>
              <a:t>”</a:t>
            </a:r>
            <a:r>
              <a:rPr b="1" lang="zh-CN" sz="3600" spc="-1" strike="noStrike">
                <a:solidFill>
                  <a:srgbClr val="000000"/>
                </a:solidFill>
                <a:latin typeface="Arial"/>
              </a:rPr>
              <a:t> 第一、二学段分为四个部分：①图形的认识；②测量；③</a:t>
            </a:r>
            <a:r>
              <a:rPr b="1" lang="zh-CN" sz="3600" spc="-1" strike="noStrike" u="sng">
                <a:solidFill>
                  <a:srgbClr val="000000"/>
                </a:solidFill>
                <a:uFillTx/>
                <a:latin typeface="Arial"/>
              </a:rPr>
              <a:t>图形与变换</a:t>
            </a:r>
            <a:r>
              <a:rPr b="1" lang="zh-CN" sz="3600" spc="-1" strike="noStrike">
                <a:solidFill>
                  <a:srgbClr val="000000"/>
                </a:solidFill>
                <a:latin typeface="Arial"/>
              </a:rPr>
              <a:t>；④图形与位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2011</a:t>
            </a:r>
            <a:r>
              <a:rPr b="1" lang="zh-CN" sz="3600" spc="-1" strike="noStrike">
                <a:solidFill>
                  <a:srgbClr val="ff0066"/>
                </a:solidFill>
                <a:latin typeface="Arial"/>
              </a:rPr>
              <a:t>版：</a:t>
            </a:r>
            <a:r>
              <a:rPr b="1" lang="zh-CN" sz="3600" spc="-1" strike="noStrike" u="sng">
                <a:solidFill>
                  <a:srgbClr val="000000"/>
                </a:solidFill>
                <a:uFillTx/>
                <a:latin typeface="Arial"/>
              </a:rPr>
              <a:t>“</a:t>
            </a:r>
            <a:r>
              <a:rPr b="1" lang="zh-CN" sz="3600" spc="-1" strike="noStrike" u="sng">
                <a:solidFill>
                  <a:srgbClr val="3333ff"/>
                </a:solidFill>
                <a:uFillTx/>
                <a:latin typeface="Arial"/>
              </a:rPr>
              <a:t>图形与几何</a:t>
            </a:r>
            <a:r>
              <a:rPr b="1" lang="zh-CN" sz="3600" spc="-1" strike="noStrike" u="sng">
                <a:solidFill>
                  <a:srgbClr val="000000"/>
                </a:solidFill>
                <a:uFillTx/>
                <a:latin typeface="Arial"/>
              </a:rPr>
              <a:t>”</a:t>
            </a:r>
            <a:r>
              <a:rPr b="1" lang="zh-CN" sz="3600" spc="-1" strike="noStrike">
                <a:solidFill>
                  <a:srgbClr val="000000"/>
                </a:solidFill>
                <a:latin typeface="Arial"/>
              </a:rPr>
              <a:t>第一、二学段仍分为四部分：①图形的认识；②测量；③</a:t>
            </a:r>
            <a:r>
              <a:rPr b="1" lang="zh-CN" sz="3600" spc="-1" strike="noStrike" u="sng">
                <a:solidFill>
                  <a:srgbClr val="000000"/>
                </a:solidFill>
                <a:uFillTx/>
                <a:latin typeface="Arial"/>
              </a:rPr>
              <a:t>图形的运动</a:t>
            </a:r>
            <a:r>
              <a:rPr b="1" lang="zh-CN" sz="3600" spc="-1" strike="noStrike">
                <a:solidFill>
                  <a:srgbClr val="000000"/>
                </a:solidFill>
                <a:latin typeface="Arial"/>
              </a:rPr>
              <a:t>；④图形与位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1871640" y="162864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主要内容的修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900000" y="404640"/>
            <a:ext cx="727236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功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课程标准</a:t>
            </a:r>
            <a:r>
              <a:rPr b="1" lang="en-US" sz="3200" spc="-1" strike="noStrike">
                <a:solidFill>
                  <a:srgbClr val="000000"/>
                </a:solidFill>
                <a:latin typeface="Arial"/>
              </a:rPr>
              <a:t>》</a:t>
            </a:r>
            <a:r>
              <a:rPr b="1" lang="zh-CN" sz="3200" spc="-1" strike="noStrike">
                <a:solidFill>
                  <a:srgbClr val="000000"/>
                </a:solidFill>
                <a:latin typeface="Arial"/>
              </a:rPr>
              <a:t>提出的数学课程理念和目标对义务教育阶段的数学课程与教学具有指导作用，所规定的课程目标和内容标准是义务教育阶段的每一个学生应当达到的基本要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课程标准</a:t>
            </a:r>
            <a:r>
              <a:rPr b="1" lang="en-US" sz="3200" spc="-1" strike="noStrike">
                <a:solidFill>
                  <a:srgbClr val="000000"/>
                </a:solidFill>
                <a:latin typeface="Arial"/>
              </a:rPr>
              <a:t>》</a:t>
            </a:r>
            <a:r>
              <a:rPr b="1" lang="zh-CN" sz="3200" spc="-1" strike="noStrike">
                <a:solidFill>
                  <a:srgbClr val="000000"/>
                </a:solidFill>
                <a:latin typeface="Arial"/>
              </a:rPr>
              <a:t>是教材编写、教学、评估和考试命题的依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因此，可以说</a:t>
            </a:r>
            <a:r>
              <a:rPr b="1" lang="en-US" sz="3200" spc="-1" strike="noStrike">
                <a:solidFill>
                  <a:srgbClr val="000000"/>
                </a:solidFill>
                <a:latin typeface="Arial"/>
              </a:rPr>
              <a:t>《</a:t>
            </a:r>
            <a:r>
              <a:rPr b="1" lang="zh-CN" sz="3200" spc="-1" strike="noStrike">
                <a:solidFill>
                  <a:srgbClr val="000000"/>
                </a:solidFill>
                <a:latin typeface="Arial"/>
              </a:rPr>
              <a:t>课程标准</a:t>
            </a:r>
            <a:r>
              <a:rPr b="1" lang="en-US" sz="3200" spc="-1" strike="noStrike">
                <a:solidFill>
                  <a:srgbClr val="000000"/>
                </a:solidFill>
                <a:latin typeface="Arial"/>
              </a:rPr>
              <a:t>》</a:t>
            </a:r>
            <a:r>
              <a:rPr b="1" lang="zh-CN" sz="3200" spc="-1" strike="noStrike">
                <a:solidFill>
                  <a:srgbClr val="000000"/>
                </a:solidFill>
                <a:latin typeface="Arial"/>
              </a:rPr>
              <a:t>对教材、教学、评价具有重要指导意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900000" y="836640"/>
            <a:ext cx="7272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第一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能在方格纸上画出简单图形沿水平方向、垂直方向平移后的图形”放在第二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 “能在方格纸上画出简单图形的轴对称图形”放在第二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在东、南、西、北和东北、西北、东南、西南中，给定一个方向，辨认其余七个方向，并能用这些词语描绘物体所在的方向；会看简单的路线图。改为：给定东、南、西、北四个方向中的一个方向，能辨认其余三个方向，知道东北、西北、东南、西南四个方向，能用这些词语描绘物体所在的方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00000" y="907920"/>
            <a:ext cx="72723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第二学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删掉“两点确定一条直线和两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条相交直线确定一个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增加“通过操作，了解圆的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长与直径的比为定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332000" y="170028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统计与概率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900000" y="836640"/>
            <a:ext cx="6912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1" lang="en-US" sz="4000" spc="-1" strike="noStrike">
                <a:solidFill>
                  <a:srgbClr val="000000"/>
                </a:solidFill>
                <a:latin typeface="Arial"/>
              </a:rPr>
              <a:t>1. </a:t>
            </a:r>
            <a:r>
              <a:rPr b="1" lang="zh-CN" sz="4000" spc="-1" strike="noStrike">
                <a:solidFill>
                  <a:srgbClr val="000000"/>
                </a:solidFill>
                <a:latin typeface="Arial"/>
              </a:rPr>
              <a:t>相比对统计内容做了适当调整，使三个学段统计内容学习的层次性方面更加明确。</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主要变化如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900000" y="907920"/>
            <a:ext cx="72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 </a:t>
            </a: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第一学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与</a:t>
            </a:r>
            <a:r>
              <a:rPr b="1" lang="en-US" sz="3600" spc="-1" strike="noStrike">
                <a:solidFill>
                  <a:srgbClr val="000000"/>
                </a:solidFill>
                <a:latin typeface="Arial"/>
              </a:rPr>
              <a:t>《</a:t>
            </a:r>
            <a:r>
              <a:rPr b="1" lang="zh-CN" sz="3600" spc="-1" strike="noStrike">
                <a:solidFill>
                  <a:srgbClr val="000000"/>
                </a:solidFill>
                <a:latin typeface="Arial"/>
              </a:rPr>
              <a:t>标准</a:t>
            </a:r>
            <a:r>
              <a:rPr b="1" lang="en-US" sz="3600" spc="-1" strike="noStrike">
                <a:solidFill>
                  <a:srgbClr val="000000"/>
                </a:solidFill>
                <a:latin typeface="Arial"/>
              </a:rPr>
              <a:t>》</a:t>
            </a:r>
            <a:r>
              <a:rPr b="1" lang="zh-CN" sz="3600" spc="-1" strike="noStrike">
                <a:solidFill>
                  <a:srgbClr val="000000"/>
                </a:solidFill>
                <a:latin typeface="Arial"/>
              </a:rPr>
              <a:t>相比，最大的变化是</a:t>
            </a:r>
            <a:r>
              <a:rPr b="1" lang="zh-CN" sz="3600" spc="-1" strike="noStrike">
                <a:solidFill>
                  <a:srgbClr val="ff0066"/>
                </a:solidFill>
                <a:latin typeface="Arial"/>
              </a:rPr>
              <a:t>鼓励学生运用自己的方式</a:t>
            </a:r>
            <a:r>
              <a:rPr b="1" lang="zh-CN" sz="3600" spc="-1" strike="noStrike">
                <a:solidFill>
                  <a:srgbClr val="000000"/>
                </a:solidFill>
                <a:latin typeface="Arial"/>
              </a:rPr>
              <a:t>（包括文字、图画、表格等）</a:t>
            </a:r>
            <a:r>
              <a:rPr b="1" lang="zh-CN" sz="3600" spc="-1" strike="noStrike">
                <a:solidFill>
                  <a:srgbClr val="ff0066"/>
                </a:solidFill>
                <a:latin typeface="Arial"/>
              </a:rPr>
              <a:t>呈现整理数据的结果，</a:t>
            </a:r>
            <a:r>
              <a:rPr b="1" lang="zh-CN" sz="3600" spc="-1" strike="noStrike">
                <a:solidFill>
                  <a:srgbClr val="000000"/>
                </a:solidFill>
                <a:latin typeface="Arial"/>
              </a:rPr>
              <a:t>不要求学生学习“正规”的统计图（一格代表一个单位的条形统计图）以及平均数（这些内容放在了第二学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836640"/>
            <a:ext cx="7272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这种变化主要原因有三：</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更加突出了学生对数据分析的体验，鼓励学生用自己的方式去分析数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早期经验的多样化可以为以后学习“正规”的统计图表和统计量奠定比较牢固的基础；</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使得统计内容在第一、二学段的要求层次更加明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900000" y="83664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第二学段</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与</a:t>
            </a:r>
            <a:r>
              <a:rPr b="1" lang="en-US" sz="3600" spc="-1" strike="noStrike">
                <a:solidFill>
                  <a:srgbClr val="000000"/>
                </a:solidFill>
                <a:latin typeface="Arial"/>
              </a:rPr>
              <a:t>2011</a:t>
            </a:r>
            <a:r>
              <a:rPr b="1" lang="zh-CN" sz="3600" spc="-1" strike="noStrike">
                <a:solidFill>
                  <a:srgbClr val="000000"/>
                </a:solidFill>
                <a:latin typeface="Arial"/>
              </a:rPr>
              <a:t>修改</a:t>
            </a:r>
            <a:r>
              <a:rPr b="1" lang="en-US" sz="3600" spc="-1" strike="noStrike">
                <a:solidFill>
                  <a:srgbClr val="000000"/>
                </a:solidFill>
                <a:latin typeface="Arial"/>
              </a:rPr>
              <a:t>《</a:t>
            </a:r>
            <a:r>
              <a:rPr b="1" lang="zh-CN" sz="3600" spc="-1" strike="noStrike">
                <a:solidFill>
                  <a:srgbClr val="000000"/>
                </a:solidFill>
                <a:latin typeface="Arial"/>
              </a:rPr>
              <a:t>标准</a:t>
            </a:r>
            <a:r>
              <a:rPr b="1" lang="en-US" sz="3600" spc="-1" strike="noStrike">
                <a:solidFill>
                  <a:srgbClr val="000000"/>
                </a:solidFill>
                <a:latin typeface="Arial"/>
              </a:rPr>
              <a:t>》</a:t>
            </a:r>
            <a:r>
              <a:rPr b="1" lang="zh-CN" sz="3600" spc="-1" strike="noStrike">
                <a:solidFill>
                  <a:srgbClr val="000000"/>
                </a:solidFill>
                <a:latin typeface="Arial"/>
              </a:rPr>
              <a:t>相比，在统计量方面，</a:t>
            </a:r>
            <a:r>
              <a:rPr b="1" lang="zh-CN" sz="3600" spc="-1" strike="noStrike">
                <a:solidFill>
                  <a:srgbClr val="ff0066"/>
                </a:solidFill>
                <a:latin typeface="Arial"/>
              </a:rPr>
              <a:t>只要</a:t>
            </a:r>
            <a:r>
              <a:rPr b="1" lang="zh-CN" sz="3600" spc="-1" strike="noStrike">
                <a:solidFill>
                  <a:srgbClr val="000000"/>
                </a:solidFill>
                <a:latin typeface="Arial"/>
              </a:rPr>
              <a:t>求学生体会平均数的意义，</a:t>
            </a:r>
            <a:r>
              <a:rPr b="1" lang="zh-CN" sz="3600" spc="-1" strike="noStrike">
                <a:solidFill>
                  <a:srgbClr val="ff0066"/>
                </a:solidFill>
                <a:latin typeface="Arial"/>
              </a:rPr>
              <a:t>不要求</a:t>
            </a:r>
            <a:r>
              <a:rPr b="1" lang="zh-CN" sz="3600" spc="-1" strike="noStrike">
                <a:solidFill>
                  <a:srgbClr val="000000"/>
                </a:solidFill>
                <a:latin typeface="Arial"/>
              </a:rPr>
              <a:t>学生学习中位数、众数（这些内容放在了第三学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900000" y="836640"/>
            <a:ext cx="727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这种变化主要原因有二：</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一，平均数是一个非常重要的刻画数据平均水平的统计量，需要学生重点体会；</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二，考虑到学生的年龄特征，其他刻画数据平均水平的统计量不宜集中学习。</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900000" y="1341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概率相比，主要变化如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00000" y="83664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a:t>
            </a:r>
            <a:r>
              <a:rPr b="1" lang="en-US" sz="3600" spc="-1" strike="noStrike">
                <a:solidFill>
                  <a:srgbClr val="ff0066"/>
                </a:solidFill>
                <a:latin typeface="Arial"/>
              </a:rPr>
              <a:t>1</a:t>
            </a:r>
            <a:r>
              <a:rPr b="1" lang="zh-CN" sz="3600" spc="-1" strike="noStrike">
                <a:solidFill>
                  <a:srgbClr val="ff0066"/>
                </a:solidFill>
                <a:latin typeface="Arial"/>
              </a:rPr>
              <a:t>）第一、二学段的要求降低。</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第一学段，去掉了</a:t>
            </a:r>
            <a:r>
              <a:rPr b="1" lang="en-US" sz="3600" spc="-1" strike="noStrike">
                <a:solidFill>
                  <a:srgbClr val="000000"/>
                </a:solidFill>
                <a:latin typeface="Arial"/>
              </a:rPr>
              <a:t>《</a:t>
            </a:r>
            <a:r>
              <a:rPr b="1" lang="zh-CN" sz="3600" spc="-1" strike="noStrike">
                <a:solidFill>
                  <a:srgbClr val="000000"/>
                </a:solidFill>
                <a:latin typeface="Arial"/>
              </a:rPr>
              <a:t>标准</a:t>
            </a:r>
            <a:r>
              <a:rPr b="1" lang="en-US" sz="3600" spc="-1" strike="noStrike">
                <a:solidFill>
                  <a:srgbClr val="000000"/>
                </a:solidFill>
                <a:latin typeface="Arial"/>
              </a:rPr>
              <a:t>》</a:t>
            </a:r>
            <a:r>
              <a:rPr b="1" lang="zh-CN" sz="3600" spc="-1" strike="noStrike">
                <a:solidFill>
                  <a:srgbClr val="000000"/>
                </a:solidFill>
                <a:latin typeface="Arial"/>
              </a:rPr>
              <a:t>对此内容的要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第二学段，只要求学生体会随机现象，并能对随机现象发生的可能性大小做定性描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00000" y="836640"/>
            <a:ext cx="727236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第二部分：</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程标准（</a:t>
            </a:r>
            <a:r>
              <a:rPr b="1" lang="en-US" sz="4000" spc="-1" strike="noStrike">
                <a:solidFill>
                  <a:srgbClr val="000000"/>
                </a:solidFill>
                <a:latin typeface="Arial"/>
              </a:rPr>
              <a:t>2011</a:t>
            </a:r>
            <a:r>
              <a:rPr b="1" lang="zh-CN" sz="4000" spc="-1" strike="noStrike">
                <a:solidFill>
                  <a:srgbClr val="000000"/>
                </a:solidFill>
                <a:latin typeface="Arial"/>
              </a:rPr>
              <a:t>版）基本结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部分  前言 </a:t>
            </a:r>
            <a:r>
              <a:rPr b="1" lang="en-US" sz="2400" spc="-1" strike="noStrike">
                <a:solidFill>
                  <a:srgbClr val="000000"/>
                </a:solidFill>
                <a:latin typeface="Arial"/>
              </a:rPr>
              <a:t>( </a:t>
            </a:r>
            <a:r>
              <a:rPr b="1" lang="zh-CN" sz="2400" spc="-1" strike="noStrike">
                <a:solidFill>
                  <a:srgbClr val="000000"/>
                </a:solidFill>
                <a:latin typeface="Arial"/>
              </a:rPr>
              <a:t>基本性质、基本理念、设计思路</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部分  课程目标 </a:t>
            </a:r>
            <a:r>
              <a:rPr b="1" lang="en-US" sz="2400" spc="-1" strike="noStrike">
                <a:solidFill>
                  <a:srgbClr val="000000"/>
                </a:solidFill>
                <a:latin typeface="Arial"/>
              </a:rPr>
              <a:t>(</a:t>
            </a:r>
            <a:r>
              <a:rPr b="1" lang="zh-CN" sz="2400" spc="-1" strike="noStrike">
                <a:solidFill>
                  <a:srgbClr val="000000"/>
                </a:solidFill>
                <a:latin typeface="Arial"/>
              </a:rPr>
              <a:t>总体目标、学段目标</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部分  课程内容（按第一、二、三学段分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部分  实施建议</a:t>
            </a:r>
            <a:r>
              <a:rPr b="1" lang="en-US" sz="2400" spc="-1" strike="noStrike">
                <a:solidFill>
                  <a:srgbClr val="000000"/>
                </a:solidFill>
                <a:latin typeface="Arial"/>
              </a:rPr>
              <a:t>( 1.</a:t>
            </a:r>
            <a:r>
              <a:rPr b="1" lang="zh-CN" sz="2400" spc="-1" strike="noStrike">
                <a:solidFill>
                  <a:srgbClr val="000000"/>
                </a:solidFill>
                <a:latin typeface="Arial"/>
              </a:rPr>
              <a:t>教学建议  </a:t>
            </a:r>
            <a:r>
              <a:rPr b="1" lang="en-US" sz="2400" spc="-1" strike="noStrike">
                <a:solidFill>
                  <a:srgbClr val="000000"/>
                </a:solidFill>
                <a:latin typeface="Arial"/>
              </a:rPr>
              <a:t>2.</a:t>
            </a:r>
            <a:r>
              <a:rPr b="1" lang="zh-CN" sz="2400" spc="-1" strike="noStrike">
                <a:solidFill>
                  <a:srgbClr val="000000"/>
                </a:solidFill>
                <a:latin typeface="Arial"/>
              </a:rPr>
              <a:t>评价建议   </a:t>
            </a:r>
            <a:r>
              <a:rPr b="1" lang="en-US" sz="2400" spc="-1" strike="noStrike">
                <a:solidFill>
                  <a:srgbClr val="000000"/>
                </a:solidFill>
                <a:latin typeface="Arial"/>
              </a:rPr>
              <a:t>3.</a:t>
            </a:r>
            <a:r>
              <a:rPr b="1" lang="zh-CN" sz="2400" spc="-1" strike="noStrike">
                <a:solidFill>
                  <a:srgbClr val="000000"/>
                </a:solidFill>
                <a:latin typeface="Arial"/>
              </a:rPr>
              <a:t>教材编写建议  </a:t>
            </a:r>
            <a:r>
              <a:rPr b="1" lang="en-US" sz="2400" spc="-1" strike="noStrike">
                <a:solidFill>
                  <a:srgbClr val="000000"/>
                </a:solidFill>
                <a:latin typeface="Arial"/>
              </a:rPr>
              <a:t>4.</a:t>
            </a:r>
            <a:r>
              <a:rPr b="1" lang="zh-CN" sz="2400" spc="-1" strike="noStrike">
                <a:solidFill>
                  <a:srgbClr val="000000"/>
                </a:solidFill>
                <a:latin typeface="Arial"/>
              </a:rPr>
              <a:t>课程资源开发与利用建议</a:t>
            </a:r>
            <a:r>
              <a:rPr b="1"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附录</a:t>
            </a:r>
            <a:r>
              <a:rPr b="1" lang="en-US" sz="2400" spc="-1" strike="noStrike">
                <a:solidFill>
                  <a:srgbClr val="000000"/>
                </a:solidFill>
                <a:latin typeface="Arial"/>
              </a:rPr>
              <a:t>1  </a:t>
            </a:r>
            <a:r>
              <a:rPr b="1" lang="zh-CN" sz="2400" spc="-1" strike="noStrike">
                <a:solidFill>
                  <a:srgbClr val="000000"/>
                </a:solidFill>
                <a:latin typeface="Arial"/>
              </a:rPr>
              <a:t>有关行为动词（术语）的分类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附录</a:t>
            </a:r>
            <a:r>
              <a:rPr b="1" lang="en-US" sz="2400" spc="-1" strike="noStrike">
                <a:solidFill>
                  <a:srgbClr val="000000"/>
                </a:solidFill>
                <a:latin typeface="Arial"/>
              </a:rPr>
              <a:t>2  </a:t>
            </a:r>
            <a:r>
              <a:rPr b="1" lang="zh-CN" sz="2400" spc="-1" strike="noStrike">
                <a:solidFill>
                  <a:srgbClr val="000000"/>
                </a:solidFill>
                <a:latin typeface="Arial"/>
              </a:rPr>
              <a:t>课程内容及实施建议中的实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900000" y="836640"/>
            <a:ext cx="7272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明确指出所涉及的随机现象都基于简单随机事件：所有可能发生的结果是有限的、每个结果发生的可能性是相同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增加了一些案例，特别是对案例在数学上、教学上做了比较详细的阐述，希望对教师有所启发。</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00000" y="184464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综合与实践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900000" y="333360"/>
            <a:ext cx="7272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    </a:t>
            </a:r>
            <a:r>
              <a:rPr b="1" lang="zh-CN" sz="3600" spc="-1" strike="noStrike">
                <a:solidFill>
                  <a:srgbClr val="ff0066"/>
                </a:solidFill>
                <a:latin typeface="Arial"/>
              </a:rPr>
              <a:t>内容做了较大修改。</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rPr>
              <a:t>     </a:t>
            </a:r>
            <a:r>
              <a:rPr b="1" lang="zh-CN" sz="3600" spc="-1" strike="noStrike">
                <a:solidFill>
                  <a:srgbClr val="000000"/>
                </a:solidFill>
                <a:latin typeface="Arial"/>
              </a:rPr>
              <a:t>进一步明确了“</a:t>
            </a:r>
            <a:r>
              <a:rPr b="1" lang="zh-CN" sz="3600" spc="-1" strike="noStrike">
                <a:solidFill>
                  <a:srgbClr val="000000"/>
                </a:solidFill>
                <a:latin typeface="Arial"/>
              </a:rPr>
              <a:t>综合与实践”的内涵和要求，强调“综合与实践”是一类以问题为载体、以学生自主参与为主的学习活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综合与实践”的教学目标是帮助学生积累数学活动经验，培养学生应用意识和创新意识。教学活动应当保证每学期至少一次，可课上完成，也可课内外结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755640" y="189000"/>
            <a:ext cx="7272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在标准中的主要修改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一</a:t>
            </a:r>
            <a:r>
              <a:rPr b="1" lang="zh-CN" sz="3200" spc="-1" strike="noStrike">
                <a:solidFill>
                  <a:srgbClr val="000000"/>
                </a:solidFill>
                <a:latin typeface="Arial"/>
              </a:rPr>
              <a:t>、把三个学段的名称作了统一，统称为“综合与实践”，进一步明确了“综合与实践”的目的和内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二</a:t>
            </a:r>
            <a:r>
              <a:rPr b="1" lang="zh-CN" sz="3200" spc="-1" strike="noStrike">
                <a:solidFill>
                  <a:srgbClr val="000000"/>
                </a:solidFill>
                <a:latin typeface="Arial"/>
              </a:rPr>
              <a:t>、提出了明确的要求：</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综合与实践”应当保证每学期至少一次。它可以在课堂上完成，也可以在课外完成，还可以课内外相结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rPr>
              <a:t>三</a:t>
            </a:r>
            <a:r>
              <a:rPr b="1" lang="zh-CN" sz="3200" spc="-1" strike="noStrike">
                <a:solidFill>
                  <a:srgbClr val="000000"/>
                </a:solidFill>
                <a:latin typeface="Arial"/>
              </a:rPr>
              <a:t>、对三个学段的差异作了进一步的明确，一方面突出了创新的核心是“发现和提出问题、分析和解决问题”，另一方面突出了不同学段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826920" y="95400"/>
            <a:ext cx="7272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第一学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内容安排应强调问题情境相对简单、生动有趣、学生容易参与，可以把操作活动作为主要形式。教师在组织教学活动时要力求使学生明白解决问题的目标和步骤，引导学生多动手、多思考、多提问题，争取更多的学生获得成功的体验，鼓励学生之间的合作交流。</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具体目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历实际操作的过程，在解决问题的过程中了解所学内容之间的关联，加深对学习内容的理解。</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获得一些初步的数学实践活动经验，感受数学在日常生活中的作用，知道能够运用所学的知识和方法解决简单问题。</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826920" y="303120"/>
            <a:ext cx="7272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第二学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将在教师的指导下，经历有目的、有设计、有步骤的综合与实践活动，进一步获得数学活动的经验。通过应用和反思，加深对所学知识的理解；通过探索，引发学习的兴趣和培养思考的习惯；通过交流，发展理解他人、团结互助的合作精神。</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教师应通过问题设计、求解过程的引导，鼓励学生多动手、多思考；发现问题、提出问题；克服困难、积极进取；主动与同伴合作、积极与他人交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具体目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通过应用和反思，加深对于所用知识和方法的理解，了解所学过知识之间的联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初步获得在给定目标下，设计解决问题方案的经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结合实际背景，初步体验发现问题、提出问题和解决问题的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900000" y="1700280"/>
            <a:ext cx="7272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第四部分：</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实施建议（教学建议、评价建议）</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836640"/>
            <a:ext cx="7272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教学建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实施建议的变化：</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不再分学段阐述，而是分教学建议、评价建议、教材编写建议、课程资源利用和开发建议。</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在强调学生主体作用的同时，明确提出教师的组织和引导作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900000" y="620640"/>
            <a:ext cx="7272360" cy="36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课标中体现了以下几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让学生经历数学知识的形成和应用过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鼓励学生自主探索与合作交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尊重学生的个体差异，满足多样化学习需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应关注基本过程与基本方法</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注重数学知识之间的联系提高解决问题能力</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充分运用现代信息技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900000" y="836640"/>
            <a:ext cx="77043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评价建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验稿：</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注重对学生数学学习过程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恰当评价学生的基础知识与基本技能</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重视对学生发现问题、解决问题能力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评价主体和方式要多样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评价结果采用定性和定量相结合的方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00000" y="836640"/>
            <a:ext cx="7272360" cy="289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第三部分</a:t>
            </a:r>
            <a:r>
              <a:rPr b="1"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修订的主要内容</a:t>
            </a:r>
            <a:r>
              <a:rPr b="1"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rPr>
              <a:t>体例与结构、 课程目标、课程内容</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900000" y="836640"/>
            <a:ext cx="7272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2011</a:t>
            </a:r>
            <a:r>
              <a:rPr b="1" lang="zh-CN" sz="3200" spc="-1" strike="noStrike">
                <a:solidFill>
                  <a:srgbClr val="ff0066"/>
                </a:solidFill>
                <a:latin typeface="Arial"/>
              </a:rPr>
              <a:t>版</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基础知识和基本技能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数学思考和问题解决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情感态度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注重对学生数学学习过程的评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评价主体的多元化和评价方式的多样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恰当呈现和利用评价结果</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合理设计与实施书面测验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755640" y="549360"/>
            <a:ext cx="770400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修订课标的新特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a:t>
            </a:r>
            <a:r>
              <a:rPr b="1" lang="zh-CN" sz="3200" spc="-1" strike="noStrike">
                <a:solidFill>
                  <a:srgbClr val="333399"/>
                </a:solidFill>
                <a:latin typeface="Arial"/>
              </a:rPr>
              <a:t>新的课程目标的基本特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1" lang="zh-CN" sz="3200" spc="-1" strike="noStrike">
                <a:solidFill>
                  <a:srgbClr val="333399"/>
                </a:solidFill>
                <a:latin typeface="Arial"/>
              </a:rPr>
              <a:t>把促进学生全面发展放在首位</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强调学生获得“四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重视数学思考和问题解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明确了结果性目标和过程性目标的术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结果性目标行为动词：了解     理解        掌握      运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333399"/>
                </a:solidFill>
                <a:latin typeface="Arial"/>
              </a:rPr>
              <a:t>过程目标的行为动词： 经历      体验      探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826920" y="476280"/>
            <a:ext cx="7777440" cy="4604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a:t>
            </a:r>
            <a:r>
              <a:rPr b="1" lang="zh-CN" sz="2800" spc="-1" strike="noStrike">
                <a:solidFill>
                  <a:srgbClr val="333399"/>
                </a:solidFill>
                <a:latin typeface="Arial"/>
              </a:rPr>
              <a:t>新的课程标准的性质</a:t>
            </a:r>
            <a:endParaRPr b="0" lang="en-US" sz="2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a:t>
            </a:r>
            <a:r>
              <a:rPr b="1" lang="zh-CN" sz="2400" spc="-1" strike="noStrike">
                <a:solidFill>
                  <a:srgbClr val="333399"/>
                </a:solidFill>
                <a:latin typeface="Arial"/>
              </a:rPr>
              <a:t>是对学生经过某一学段之后的学习结果的行为描述。</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zh-CN" sz="2400" spc="-1" strike="noStrike">
                <a:solidFill>
                  <a:srgbClr val="333399"/>
                </a:solidFill>
                <a:latin typeface="Arial"/>
              </a:rPr>
              <a:t>是所有学生能够达到的基本要求，而不是最高要求。</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zh-CN" sz="2400" spc="-1" strike="noStrike">
                <a:solidFill>
                  <a:srgbClr val="333399"/>
                </a:solidFill>
                <a:latin typeface="Arial"/>
              </a:rPr>
              <a:t>服务于评价，是对课程进行评价的依据。</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zh-CN" sz="2400" spc="-1" strike="noStrike">
                <a:solidFill>
                  <a:srgbClr val="333399"/>
                </a:solidFill>
                <a:latin typeface="Arial"/>
              </a:rPr>
              <a:t>隐含教师是课程开发者而不是教材执行者。</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a:t>
            </a:r>
            <a:r>
              <a:rPr b="1" lang="zh-CN" sz="2400" spc="-1" strike="noStrike">
                <a:solidFill>
                  <a:srgbClr val="333399"/>
                </a:solidFill>
                <a:latin typeface="Arial"/>
              </a:rPr>
              <a:t>是国家课程质量的主要标志，具有严肃性和正统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95120" y="144360"/>
            <a:ext cx="8697960" cy="83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黑体"/>
                <a:ea typeface="黑体"/>
              </a:rPr>
              <a:t>20</a:t>
            </a:r>
            <a:r>
              <a:rPr b="0" lang="zh-CN" sz="4000" spc="-1" strike="noStrike">
                <a:solidFill>
                  <a:srgbClr val="ff0066"/>
                </a:solidFill>
                <a:latin typeface="黑体"/>
                <a:ea typeface="黑体"/>
              </a:rPr>
              <a:t>个教学主张</a:t>
            </a:r>
            <a:endParaRPr b="0" lang="en-US" sz="4000" spc="-1" strike="noStrike">
              <a:solidFill>
                <a:srgbClr val="000000"/>
              </a:solidFill>
              <a:latin typeface="Arial"/>
            </a:endParaRPr>
          </a:p>
        </p:txBody>
      </p:sp>
      <p:sp>
        <p:nvSpPr>
          <p:cNvPr id="114" name=""/>
          <p:cNvSpPr/>
          <p:nvPr/>
        </p:nvSpPr>
        <p:spPr>
          <a:xfrm>
            <a:off x="0" y="981000"/>
            <a:ext cx="9144000" cy="554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观念更新，理念内化。   </a:t>
            </a:r>
            <a:r>
              <a:rPr b="1" lang="en-US" sz="2800" spc="-1" strike="noStrike">
                <a:solidFill>
                  <a:srgbClr val="000000"/>
                </a:solidFill>
                <a:latin typeface="宋体"/>
              </a:rPr>
              <a:t>2.</a:t>
            </a:r>
            <a:r>
              <a:rPr b="1" lang="zh-CN" sz="2800" spc="-1" strike="noStrike">
                <a:solidFill>
                  <a:srgbClr val="000000"/>
                </a:solidFill>
                <a:latin typeface="宋体"/>
              </a:rPr>
              <a:t>读懂学生，把握起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3.</a:t>
            </a:r>
            <a:r>
              <a:rPr b="1" lang="zh-CN" sz="2800" spc="-1" strike="noStrike">
                <a:solidFill>
                  <a:srgbClr val="000000"/>
                </a:solidFill>
                <a:latin typeface="宋体"/>
              </a:rPr>
              <a:t>读懂教材，丰富内涵。   </a:t>
            </a:r>
            <a:r>
              <a:rPr b="1" lang="en-US" sz="2800" spc="-1" strike="noStrike">
                <a:solidFill>
                  <a:srgbClr val="000000"/>
                </a:solidFill>
                <a:latin typeface="宋体"/>
              </a:rPr>
              <a:t>4.</a:t>
            </a:r>
            <a:r>
              <a:rPr b="1" lang="zh-CN" sz="2800" spc="-1" strike="noStrike">
                <a:solidFill>
                  <a:srgbClr val="000000"/>
                </a:solidFill>
                <a:latin typeface="宋体"/>
              </a:rPr>
              <a:t>先学后教，少教多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教不越位，学要到位。   </a:t>
            </a:r>
            <a:r>
              <a:rPr b="1" lang="en-US" sz="2800" spc="-1" strike="noStrike">
                <a:solidFill>
                  <a:srgbClr val="000000"/>
                </a:solidFill>
                <a:latin typeface="宋体"/>
              </a:rPr>
              <a:t>6.</a:t>
            </a:r>
            <a:r>
              <a:rPr b="1" lang="zh-CN" sz="2800" spc="-1" strike="noStrike">
                <a:solidFill>
                  <a:srgbClr val="000000"/>
                </a:solidFill>
                <a:latin typeface="宋体"/>
              </a:rPr>
              <a:t>植入文化，增加浓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7.</a:t>
            </a:r>
            <a:r>
              <a:rPr b="1" lang="zh-CN" sz="2800" spc="-1" strike="noStrike">
                <a:solidFill>
                  <a:srgbClr val="000000"/>
                </a:solidFill>
                <a:latin typeface="宋体"/>
              </a:rPr>
              <a:t>渗透思想，增加深度。   </a:t>
            </a:r>
            <a:r>
              <a:rPr b="1" lang="en-US" sz="2800" spc="-1" strike="noStrike">
                <a:solidFill>
                  <a:srgbClr val="000000"/>
                </a:solidFill>
                <a:latin typeface="宋体"/>
              </a:rPr>
              <a:t>8.</a:t>
            </a:r>
            <a:r>
              <a:rPr b="1" lang="zh-CN" sz="2800" spc="-1" strike="noStrike">
                <a:solidFill>
                  <a:srgbClr val="000000"/>
                </a:solidFill>
                <a:latin typeface="宋体"/>
              </a:rPr>
              <a:t>适度拓展，增加广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9.</a:t>
            </a:r>
            <a:r>
              <a:rPr b="1" lang="zh-CN" sz="2800" spc="-1" strike="noStrike">
                <a:solidFill>
                  <a:srgbClr val="000000"/>
                </a:solidFill>
                <a:latin typeface="宋体"/>
              </a:rPr>
              <a:t>局部美容，增加亮度。  </a:t>
            </a:r>
            <a:r>
              <a:rPr b="1" lang="en-US" sz="2800" spc="-1" strike="noStrike">
                <a:solidFill>
                  <a:srgbClr val="000000"/>
                </a:solidFill>
                <a:latin typeface="宋体"/>
              </a:rPr>
              <a:t>10.</a:t>
            </a:r>
            <a:r>
              <a:rPr b="1" lang="zh-CN" sz="2800" spc="-1" strike="noStrike">
                <a:solidFill>
                  <a:srgbClr val="000000"/>
                </a:solidFill>
                <a:latin typeface="宋体"/>
              </a:rPr>
              <a:t>问题引领，增加温度。</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1.</a:t>
            </a:r>
            <a:r>
              <a:rPr b="1" lang="zh-CN" sz="2800" spc="-1" strike="noStrike">
                <a:solidFill>
                  <a:srgbClr val="000000"/>
                </a:solidFill>
                <a:latin typeface="宋体"/>
              </a:rPr>
              <a:t>几何直观，化难为易。  </a:t>
            </a:r>
            <a:r>
              <a:rPr b="1" lang="en-US" sz="2800" spc="-1" strike="noStrike">
                <a:solidFill>
                  <a:srgbClr val="000000"/>
                </a:solidFill>
                <a:latin typeface="宋体"/>
              </a:rPr>
              <a:t>12.</a:t>
            </a:r>
            <a:r>
              <a:rPr b="1" lang="zh-CN" sz="2800" spc="-1" strike="noStrike">
                <a:solidFill>
                  <a:srgbClr val="000000"/>
                </a:solidFill>
                <a:latin typeface="宋体"/>
              </a:rPr>
              <a:t>善于举例，深化理解。</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3.</a:t>
            </a:r>
            <a:r>
              <a:rPr b="1" lang="zh-CN" sz="2800" spc="-1" strike="noStrike">
                <a:solidFill>
                  <a:srgbClr val="000000"/>
                </a:solidFill>
                <a:latin typeface="宋体"/>
              </a:rPr>
              <a:t>题目变式，思维变活。  </a:t>
            </a:r>
            <a:r>
              <a:rPr b="1" lang="en-US" sz="2800" spc="-1" strike="noStrike">
                <a:solidFill>
                  <a:srgbClr val="000000"/>
                </a:solidFill>
                <a:latin typeface="宋体"/>
              </a:rPr>
              <a:t>14.</a:t>
            </a:r>
            <a:r>
              <a:rPr b="1" lang="zh-CN" sz="2800" spc="-1" strike="noStrike">
                <a:solidFill>
                  <a:srgbClr val="000000"/>
                </a:solidFill>
                <a:latin typeface="宋体"/>
              </a:rPr>
              <a:t>让出黑板，天地更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5.</a:t>
            </a:r>
            <a:r>
              <a:rPr b="1" lang="zh-CN" sz="2800" spc="-1" strike="noStrike">
                <a:solidFill>
                  <a:srgbClr val="000000"/>
                </a:solidFill>
                <a:latin typeface="宋体"/>
              </a:rPr>
              <a:t>精心预设，动态生成。  </a:t>
            </a:r>
            <a:r>
              <a:rPr b="1" lang="en-US" sz="2800" spc="-1" strike="noStrike">
                <a:solidFill>
                  <a:srgbClr val="000000"/>
                </a:solidFill>
                <a:latin typeface="宋体"/>
              </a:rPr>
              <a:t>16.</a:t>
            </a:r>
            <a:r>
              <a:rPr b="1" lang="zh-CN" sz="2800" spc="-1" strike="noStrike">
                <a:solidFill>
                  <a:srgbClr val="000000"/>
                </a:solidFill>
                <a:latin typeface="宋体"/>
              </a:rPr>
              <a:t>裸学裸思，深度参与。</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7.</a:t>
            </a:r>
            <a:r>
              <a:rPr b="1" lang="zh-CN" sz="2800" spc="-1" strike="noStrike">
                <a:solidFill>
                  <a:srgbClr val="000000"/>
                </a:solidFill>
                <a:latin typeface="宋体"/>
              </a:rPr>
              <a:t>四基扎实，后劲充足。  </a:t>
            </a:r>
            <a:r>
              <a:rPr b="1" lang="en-US" sz="2800" spc="-1" strike="noStrike">
                <a:solidFill>
                  <a:srgbClr val="000000"/>
                </a:solidFill>
                <a:latin typeface="宋体"/>
              </a:rPr>
              <a:t>18.</a:t>
            </a:r>
            <a:r>
              <a:rPr b="1" lang="zh-CN" sz="2800" spc="-1" strike="noStrike">
                <a:solidFill>
                  <a:srgbClr val="000000"/>
                </a:solidFill>
                <a:latin typeface="宋体"/>
              </a:rPr>
              <a:t>既为经师，又为人师。</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9.</a:t>
            </a:r>
            <a:r>
              <a:rPr b="1" lang="zh-CN" sz="2800" spc="-1" strike="noStrike">
                <a:solidFill>
                  <a:srgbClr val="000000"/>
                </a:solidFill>
                <a:latin typeface="宋体"/>
              </a:rPr>
              <a:t>洗尽铅华，返璞归真。  </a:t>
            </a:r>
            <a:r>
              <a:rPr b="1" lang="en-US" sz="2800" spc="-1" strike="noStrike">
                <a:solidFill>
                  <a:srgbClr val="000000"/>
                </a:solidFill>
                <a:latin typeface="宋体"/>
              </a:rPr>
              <a:t>20.</a:t>
            </a:r>
            <a:r>
              <a:rPr b="1" lang="zh-CN" sz="2800" spc="-1" strike="noStrike">
                <a:solidFill>
                  <a:srgbClr val="000000"/>
                </a:solidFill>
                <a:latin typeface="宋体"/>
              </a:rPr>
              <a:t>跳出数学，感悟教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755640" y="260280"/>
            <a:ext cx="7488360" cy="4194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新增核心关键词</a:t>
            </a:r>
            <a:endParaRPr b="0" lang="en-US" sz="32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运算能力</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400" spc="-1" strike="noStrike">
                <a:solidFill>
                  <a:srgbClr val="333399"/>
                </a:solidFill>
                <a:latin typeface="Arial"/>
              </a:rPr>
              <a:t>主要是指能够根据法则和运算律正确地进行运算的能力。培养运算能力有助于学生理解运算的算理，寻求合理简洁的运算途径解决问题。</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几何直观</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400" spc="-1" strike="noStrike">
                <a:solidFill>
                  <a:srgbClr val="333399"/>
                </a:solidFill>
                <a:latin typeface="Arial"/>
              </a:rPr>
              <a:t>主要是指利用图形描述和分析问题。借助几何直观可以把复杂的数学问题变得简明、形象，有助于探索解决问题的思路，预测结果。几何直观可以帮助学生直观地理解数学，在整个数学学习过程中都发挥着重要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1116000" y="758880"/>
            <a:ext cx="705636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2800" spc="-1" strike="noStrike">
                <a:solidFill>
                  <a:srgbClr val="cc0000"/>
                </a:solidFill>
                <a:latin typeface="Arial"/>
              </a:rPr>
              <a:t>模型思想</a:t>
            </a:r>
            <a:r>
              <a:rPr b="1" lang="zh-CN" sz="2800" spc="-1" strike="noStrike">
                <a:solidFill>
                  <a:srgbClr val="333399"/>
                </a:solidFill>
                <a:latin typeface="Arial"/>
              </a:rPr>
              <a:t>的建立是学生体会和理解数学与外部世界联系的基本途径。建立和求解模型的过程包括：从现实生活或具体情境中抽象出数学问题，用数学符号建立方程、不等式、函数等表示数学问题中的数量关系和变化规律，求出结果并讨论结果的意义。这些内容的学习有助于学生初步形成模型思想，提高学习数学的兴趣和应用意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1042920" y="1440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2800" spc="-1" strike="noStrike">
                <a:solidFill>
                  <a:srgbClr val="cc0000"/>
                </a:solidFill>
                <a:latin typeface="Arial"/>
              </a:rPr>
              <a:t>创新意识</a:t>
            </a:r>
            <a:r>
              <a:rPr b="1" lang="zh-CN" sz="2800" spc="-1" strike="noStrike">
                <a:solidFill>
                  <a:srgbClr val="333399"/>
                </a:solidFill>
                <a:latin typeface="Arial"/>
              </a:rPr>
              <a:t>的培养是现代数学教育的基本任务，应体现在数学教与学的过程之中。学生自己发现和提出问题是创新的基础；独立思考、学会思考是创新的核心；归纳概括得到猜想和规律，并加以验证，是创新的重要方法。创新意识的培养应该从义务教育阶段做起，贯穿数学教育的始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84360" y="189000"/>
            <a:ext cx="777528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r>
              <a:rPr b="1" lang="zh-CN" sz="2400" spc="-1" strike="noStrike">
                <a:solidFill>
                  <a:srgbClr val="ff0066"/>
                </a:solidFill>
                <a:latin typeface="Arial"/>
              </a:rPr>
              <a:t>数学教学实践活动策略</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一个中心”</a:t>
            </a:r>
            <a:r>
              <a:rPr b="1" lang="zh-CN" sz="2400" spc="-1" strike="noStrike">
                <a:solidFill>
                  <a:srgbClr val="333399"/>
                </a:solidFill>
                <a:latin typeface="Arial"/>
              </a:rPr>
              <a:t>就是一切为了学生的全面、健康、和谐、可持续发展，简称以“学生发展为本”，这是课标理念的根基。</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两个基本点”</a:t>
            </a:r>
            <a:r>
              <a:rPr b="1" lang="zh-CN" sz="2400" spc="-1" strike="noStrike">
                <a:solidFill>
                  <a:srgbClr val="333399"/>
                </a:solidFill>
                <a:latin typeface="Arial"/>
              </a:rPr>
              <a:t>是指“课程是经验，是活动”，即课程必须建立在学生原有的生活经验和数学活动经验的基础之上，这是数学课程实施的基点。同时，数学教学是在教师的指导下，师生共同开展的积极的数学思维活动，没有“经验”作前提、没有“数学活动”的内涵，就失去了数学课程的价值追求。</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a:t>
            </a:r>
            <a:r>
              <a:rPr b="1" lang="zh-CN" sz="2400" spc="-1" strike="noStrike">
                <a:solidFill>
                  <a:srgbClr val="cc0000"/>
                </a:solidFill>
                <a:latin typeface="Arial"/>
              </a:rPr>
              <a:t>三个抓手”</a:t>
            </a:r>
            <a:r>
              <a:rPr b="1" lang="zh-CN" sz="2400" spc="-1" strike="noStrike">
                <a:solidFill>
                  <a:srgbClr val="333399"/>
                </a:solidFill>
                <a:latin typeface="Arial"/>
              </a:rPr>
              <a:t>是指数学课程教学素材的选取，必须围绕“现实的”、“有趣、富有挑战性的”、“有丰富的学科内涵”三个要素而展开。这里的“现实的”不仅考虑现实世界中的，而且也要关注“学生的现实”</a:t>
            </a:r>
            <a:r>
              <a:rPr b="1" lang="en-US" sz="2400" spc="-1" strike="noStrike">
                <a:solidFill>
                  <a:srgbClr val="333399"/>
                </a:solidFill>
                <a:latin typeface="Arial"/>
              </a:rPr>
              <a:t>——</a:t>
            </a:r>
            <a:r>
              <a:rPr b="1" lang="zh-CN" sz="2400" spc="-1" strike="noStrike">
                <a:solidFill>
                  <a:srgbClr val="333399"/>
                </a:solidFill>
                <a:latin typeface="Arial"/>
              </a:rPr>
              <a:t>即学生所喜闻乐见的、所熟知的素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4360" y="404640"/>
            <a:ext cx="7775280" cy="2280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                          </a:t>
            </a:r>
            <a:r>
              <a:rPr b="1" lang="zh-CN" sz="2600" spc="-1" strike="noStrike">
                <a:solidFill>
                  <a:srgbClr val="ff0066"/>
                </a:solidFill>
                <a:latin typeface="Arial"/>
              </a:rPr>
              <a:t>数学教学实践活动策略</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a:t>
            </a:r>
            <a:r>
              <a:rPr b="1" lang="zh-CN" sz="2600" spc="-1" strike="noStrike">
                <a:solidFill>
                  <a:srgbClr val="cc0000"/>
                </a:solidFill>
                <a:latin typeface="Arial"/>
              </a:rPr>
              <a:t>六个转变”</a:t>
            </a:r>
            <a:r>
              <a:rPr b="1" lang="zh-CN" sz="2600" spc="-1" strike="noStrike">
                <a:solidFill>
                  <a:srgbClr val="333399"/>
                </a:solidFill>
                <a:latin typeface="Arial"/>
              </a:rPr>
              <a:t>是指转变数学观、课程教材观、教学观、学生观、评价观、信息技术与数学课整合及课程资源观。特别是修订后的课标丰富了“教学观”的内涵，在“交往互动、共同发展”的基础上，增加了“积极参与”。而课堂参与需要从行为参与到思维参与再到情感参与，只有学生主动参与，才能成为真正的课堂参与。同时，确立新的学生学习观，即“学生学习应当是一个生动活泼的、主动的和富有个性的过程</a:t>
            </a:r>
            <a:r>
              <a:rPr b="1" lang="en-US" sz="2600" spc="-1" strike="noStrike">
                <a:solidFill>
                  <a:srgbClr val="333399"/>
                </a:solidFill>
                <a:latin typeface="Arial"/>
              </a:rPr>
              <a:t>……</a:t>
            </a:r>
            <a:r>
              <a:rPr b="1" lang="zh-CN" sz="2600" spc="-1" strike="noStrike">
                <a:solidFill>
                  <a:srgbClr val="333399"/>
                </a:solidFill>
                <a:latin typeface="Arial"/>
              </a:rPr>
              <a:t>学生应当有足够的时间和空间经历观察、实验、猜测、计算、推理、验证等活动过程。</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11280" y="981000"/>
            <a:ext cx="7777080" cy="31485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数学教学实践活动策略</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zh-CN" sz="2800" spc="-1" strike="noStrike">
                <a:solidFill>
                  <a:srgbClr val="cc0000"/>
                </a:solidFill>
                <a:latin typeface="Arial"/>
              </a:rPr>
              <a:t>一个主渠道”</a:t>
            </a:r>
            <a:r>
              <a:rPr b="1" lang="zh-CN" sz="2800" spc="-1" strike="noStrike">
                <a:solidFill>
                  <a:srgbClr val="333399"/>
                </a:solidFill>
                <a:latin typeface="Arial"/>
              </a:rPr>
              <a:t>是指课堂教学是课程实施的主渠道，一切理念必须化为具体的课堂教学行为。</a:t>
            </a: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a:t>
            </a:r>
            <a:r>
              <a:rPr b="1" lang="zh-CN" sz="2800" spc="-1" strike="noStrike">
                <a:solidFill>
                  <a:srgbClr val="cc0000"/>
                </a:solidFill>
                <a:latin typeface="Arial"/>
              </a:rPr>
              <a:t>三种方法”</a:t>
            </a:r>
            <a:r>
              <a:rPr b="1" lang="zh-CN" sz="2800" spc="-1" strike="noStrike">
                <a:solidFill>
                  <a:srgbClr val="333399"/>
                </a:solidFill>
                <a:latin typeface="Arial"/>
              </a:rPr>
              <a:t>是指案例研究、行动研究和校本研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00000" y="836640"/>
            <a:ext cx="7272360" cy="286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第一、体例与结构的调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600" spc="-1" strike="noStrike">
                <a:solidFill>
                  <a:srgbClr val="000000"/>
                </a:solidFill>
                <a:latin typeface="Arial"/>
              </a:rPr>
              <a:t>一是“</a:t>
            </a:r>
            <a:r>
              <a:rPr b="0" lang="zh-CN" sz="2600" spc="-1" strike="noStrike" u="sng">
                <a:solidFill>
                  <a:srgbClr val="009999"/>
                </a:solidFill>
                <a:uFillTx/>
                <a:latin typeface="Arial"/>
                <a:hlinkClick r:id="rId2" action="ppaction://hlinksldjump"/>
              </a:rPr>
              <a:t>前言</a:t>
            </a:r>
            <a:r>
              <a:rPr b="1" lang="zh-CN" sz="2600" spc="-1" strike="noStrike">
                <a:solidFill>
                  <a:srgbClr val="000000"/>
                </a:solidFill>
                <a:latin typeface="Arial"/>
              </a:rPr>
              <a:t>”内容做了较大的调整。</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二是将课程目标中的关键术语的解释和所有比较完整的案例统一放在后面的附录中统一编号，便于查找和使用，同时减少了</a:t>
            </a:r>
            <a:r>
              <a:rPr b="1" lang="en-US" sz="2600" spc="-1" strike="noStrike">
                <a:solidFill>
                  <a:srgbClr val="000000"/>
                </a:solidFill>
                <a:latin typeface="Arial"/>
              </a:rPr>
              <a:t>《</a:t>
            </a:r>
            <a:r>
              <a:rPr b="1" lang="zh-CN" sz="2600" spc="-1" strike="noStrike">
                <a:solidFill>
                  <a:srgbClr val="000000"/>
                </a:solidFill>
                <a:latin typeface="Arial"/>
              </a:rPr>
              <a:t>标准</a:t>
            </a:r>
            <a:r>
              <a:rPr b="1" lang="en-US" sz="2600" spc="-1" strike="noStrike">
                <a:solidFill>
                  <a:srgbClr val="000000"/>
                </a:solidFill>
                <a:latin typeface="Arial"/>
              </a:rPr>
              <a:t>》</a:t>
            </a:r>
            <a:r>
              <a:rPr b="1" lang="zh-CN" sz="2600" spc="-1" strike="noStrike">
                <a:solidFill>
                  <a:srgbClr val="000000"/>
                </a:solidFill>
                <a:latin typeface="Arial"/>
              </a:rPr>
              <a:t>正文的篇幅。</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a:t>
            </a:r>
            <a:r>
              <a:rPr b="1" lang="zh-CN" sz="2600" spc="-1" strike="noStrike">
                <a:solidFill>
                  <a:srgbClr val="000000"/>
                </a:solidFill>
                <a:latin typeface="Arial"/>
              </a:rPr>
              <a:t>三是实施建议（教学建议、评价建议、教材编写建议、课程资源开发与利用建议）由原来按学段表述，改为三个学段整体表述，避免不必要的重复，减少了</a:t>
            </a:r>
            <a:r>
              <a:rPr b="1" lang="en-US" sz="2600" spc="-1" strike="noStrike">
                <a:solidFill>
                  <a:srgbClr val="000000"/>
                </a:solidFill>
                <a:latin typeface="Arial"/>
              </a:rPr>
              <a:t>《</a:t>
            </a:r>
            <a:r>
              <a:rPr b="1" lang="zh-CN" sz="2600" spc="-1" strike="noStrike">
                <a:solidFill>
                  <a:srgbClr val="000000"/>
                </a:solidFill>
                <a:latin typeface="Arial"/>
              </a:rPr>
              <a:t>标准</a:t>
            </a:r>
            <a:r>
              <a:rPr b="1" lang="en-US" sz="2600" spc="-1" strike="noStrike">
                <a:solidFill>
                  <a:srgbClr val="000000"/>
                </a:solidFill>
                <a:latin typeface="Arial"/>
              </a:rPr>
              <a:t>》</a:t>
            </a:r>
            <a:r>
              <a:rPr b="1" lang="zh-CN" sz="2600" spc="-1" strike="noStrike">
                <a:solidFill>
                  <a:srgbClr val="000000"/>
                </a:solidFill>
                <a:latin typeface="Arial"/>
              </a:rPr>
              <a:t>正文的篇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684360" y="260280"/>
            <a:ext cx="7704000" cy="50821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结语：</a:t>
            </a:r>
            <a:r>
              <a:rPr b="1" lang="zh-CN" sz="2800" spc="-1" strike="noStrike">
                <a:solidFill>
                  <a:srgbClr val="000000"/>
                </a:solidFill>
                <a:latin typeface="Arial"/>
                <a:ea typeface="黑体"/>
              </a:rPr>
              <a:t>用修订课标规范我们的课堂教学</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1.</a:t>
            </a:r>
            <a:r>
              <a:rPr b="1" lang="zh-CN" sz="2600" spc="-1" strike="noStrike">
                <a:solidFill>
                  <a:srgbClr val="ff0066"/>
                </a:solidFill>
                <a:latin typeface="Arial"/>
              </a:rPr>
              <a:t>提纲挈领，领悟课标。</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ff0066"/>
                </a:solidFill>
                <a:latin typeface="Arial"/>
              </a:rPr>
              <a:t>理解课标理念</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ff0066"/>
                </a:solidFill>
                <a:latin typeface="Arial"/>
              </a:rPr>
              <a:t>明确“四基”要求</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ff0066"/>
                </a:solidFill>
                <a:latin typeface="Arial"/>
              </a:rPr>
              <a:t>正确处理“四个关系”</a:t>
            </a:r>
            <a:r>
              <a:rPr b="1" lang="zh-CN" sz="2600" spc="-1" strike="noStrike">
                <a:solidFill>
                  <a:srgbClr val="333399"/>
                </a:solidFill>
                <a:latin typeface="Arial"/>
              </a:rPr>
              <a:t> （</a:t>
            </a:r>
            <a:r>
              <a:rPr b="1" lang="en-US" sz="2600" spc="-1" strike="noStrike">
                <a:solidFill>
                  <a:srgbClr val="333399"/>
                </a:solidFill>
                <a:latin typeface="Arial"/>
              </a:rPr>
              <a:t>面向全体学生与关注学生个体差异的关系</a:t>
            </a:r>
            <a:r>
              <a:rPr b="1" lang="zh-CN" sz="2600" spc="-1" strike="noStrike">
                <a:solidFill>
                  <a:srgbClr val="333399"/>
                </a:solidFill>
                <a:latin typeface="Arial"/>
              </a:rPr>
              <a:t>；“预设”与“生成”的关系；合情推理与演绎推理的关系；使用现代信息技术与教学手段多样化的关系）</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ff0066"/>
                </a:solidFill>
                <a:latin typeface="Arial"/>
              </a:rPr>
              <a:t>掌握四个领域内容调整</a:t>
            </a:r>
            <a:endParaRPr b="0" lang="en-US" sz="26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ff0066"/>
                </a:solidFill>
                <a:latin typeface="Arial"/>
              </a:rPr>
              <a:t>提高“四个问题“能力</a:t>
            </a:r>
            <a:r>
              <a:rPr b="1" lang="zh-CN" sz="2600" spc="-1" strike="noStrike">
                <a:solidFill>
                  <a:srgbClr val="333399"/>
                </a:solidFill>
                <a:latin typeface="Arial"/>
              </a:rPr>
              <a:t>（发现问题、提出问题、提高分析问题、问题解决。）</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1116000" y="333360"/>
            <a:ext cx="7201080" cy="5796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2.</a:t>
            </a:r>
            <a:r>
              <a:rPr b="1" lang="zh-CN" sz="2600" spc="-1" strike="noStrike">
                <a:solidFill>
                  <a:srgbClr val="ff0066"/>
                </a:solidFill>
                <a:latin typeface="Arial"/>
              </a:rPr>
              <a:t>依据课标，找出差距。</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Arial"/>
              </a:rPr>
              <a:t>改变教学中的“十多十少“现象</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课程理念知道多，理解落实比较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关注教学情景多，创设有效情景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关注教学形式多，关注教学实效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操作实践活动多，有效探究活动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师生互动废话多，启发引导语言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课堂无效活动多，学生必要练习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教学设计拼凑多，个性创新设计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现代媒体运用多，优化整合运用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关注表面知识多，领悟思想方法少；</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99"/>
                </a:solidFill>
                <a:latin typeface="Arial"/>
              </a:rPr>
              <a:t>●</a:t>
            </a:r>
            <a:r>
              <a:rPr b="1" lang="zh-CN" sz="2600" spc="-1" strike="noStrike">
                <a:solidFill>
                  <a:srgbClr val="333399"/>
                </a:solidFill>
                <a:latin typeface="Arial"/>
              </a:rPr>
              <a:t>学生参与活动多，积累活动经验少。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1187280" y="765000"/>
            <a:ext cx="6769440" cy="46875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Arial"/>
              </a:rPr>
              <a:t>3.</a:t>
            </a:r>
            <a:r>
              <a:rPr b="1" lang="zh-CN" sz="2600" spc="-1" strike="noStrike">
                <a:solidFill>
                  <a:srgbClr val="ff0066"/>
                </a:solidFill>
                <a:latin typeface="Arial"/>
              </a:rPr>
              <a:t>结合教学，有效指导。</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1" lang="zh-CN" sz="2600" spc="-1" strike="noStrike">
                <a:solidFill>
                  <a:srgbClr val="333399"/>
                </a:solidFill>
                <a:latin typeface="Arial"/>
              </a:rPr>
              <a:t>以新理念规范教学设计</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课标要求确定教学目标</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四基”衡量基本要求</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四个关系”改进教学方法</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四个问题能力“检验基本目标的达成</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个性创新体现教学的特色</a:t>
            </a:r>
            <a:endParaRPr b="0" lang="en-US" sz="26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       </a:t>
            </a:r>
            <a:r>
              <a:rPr b="1" lang="zh-CN" sz="2600" spc="-1" strike="noStrike">
                <a:solidFill>
                  <a:srgbClr val="333399"/>
                </a:solidFill>
                <a:latin typeface="Arial"/>
              </a:rPr>
              <a:t>以全面发展评价是否有效</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1979640" y="198900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txBox="1"/>
          <p:nvPr/>
        </p:nvSpPr>
        <p:spPr>
          <a:xfrm>
            <a:off x="1476360" y="1700280"/>
            <a:ext cx="5830920" cy="3012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rcRect l="0" t="0" r="0" b="29007"/>
          <a:stretch/>
        </p:blipFill>
        <p:spPr>
          <a:xfrm>
            <a:off x="468360" y="720720"/>
            <a:ext cx="5834160" cy="4869000"/>
          </a:xfrm>
          <a:prstGeom prst="rect">
            <a:avLst/>
          </a:prstGeom>
          <a:ln w="0">
            <a:noFill/>
          </a:ln>
        </p:spPr>
      </p:pic>
      <p:sp>
        <p:nvSpPr>
          <p:cNvPr id="127" name=""/>
          <p:cNvSpPr/>
          <p:nvPr/>
        </p:nvSpPr>
        <p:spPr>
          <a:xfrm>
            <a:off x="1763640" y="1355760"/>
            <a:ext cx="3262320" cy="7920"/>
          </a:xfrm>
          <a:custGeom>
            <a:avLst/>
            <a:gdLst/>
            <a:ahLst/>
            <a:rect l="l" t="t" r="r" b="b"/>
            <a:pathLst>
              <a:path w="9061" h="22">
                <a:moveTo>
                  <a:pt x="5503" y="3768"/>
                </a:moveTo>
                <a:cubicBezTo>
                  <a:pt x="6665" y="3768"/>
                  <a:pt x="7842" y="3745"/>
                  <a:pt x="8996" y="3789"/>
                </a:cubicBezTo>
                <a:cubicBezTo>
                  <a:pt x="10846" y="3859"/>
                  <a:pt x="12711" y="3789"/>
                  <a:pt x="14563" y="3789"/>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8" name=""/>
          <p:cNvSpPr/>
          <p:nvPr/>
        </p:nvSpPr>
        <p:spPr>
          <a:xfrm>
            <a:off x="6014880" y="3218760"/>
            <a:ext cx="2521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关于数学观的变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001</a:t>
            </a:r>
            <a:r>
              <a:rPr b="1" lang="zh-CN" sz="1800" spc="-1" strike="noStrike">
                <a:solidFill>
                  <a:srgbClr val="0066ff"/>
                </a:solidFill>
                <a:latin typeface="Arial"/>
              </a:rPr>
              <a:t>年版：数学是人们对客观世界定性把握和定量刻画、逐渐抽象概括、形成方法和理论，并进行广泛应用的过程。数学作为一种普遍适用的技术，有助于人们收集、整理、描述信息，建立数学模型，进而解决问题，直接为社会创造价值。</a:t>
            </a:r>
            <a:endParaRPr b="0" lang="en-US" sz="1800" spc="-1" strike="noStrike">
              <a:solidFill>
                <a:srgbClr val="000000"/>
              </a:solidFill>
              <a:latin typeface="Arial"/>
            </a:endParaRPr>
          </a:p>
        </p:txBody>
      </p:sp>
      <p:sp>
        <p:nvSpPr>
          <p:cNvPr id="129" name=""/>
          <p:cNvSpPr/>
          <p:nvPr/>
        </p:nvSpPr>
        <p:spPr>
          <a:xfrm>
            <a:off x="1984320" y="4495680"/>
            <a:ext cx="115920" cy="84240"/>
          </a:xfrm>
          <a:custGeom>
            <a:avLst/>
            <a:gdLst/>
            <a:ahLst/>
            <a:rect l="l" t="t" r="r" b="b"/>
            <a:pathLst>
              <a:path w="319" h="234">
                <a:moveTo>
                  <a:pt x="6117" y="12509"/>
                </a:moveTo>
                <a:cubicBezTo>
                  <a:pt x="6117" y="12580"/>
                  <a:pt x="6120" y="12639"/>
                  <a:pt x="6138" y="12700"/>
                </a:cubicBezTo>
                <a:cubicBezTo>
                  <a:pt x="6148" y="12732"/>
                  <a:pt x="6165" y="12721"/>
                  <a:pt x="6202" y="12721"/>
                </a:cubicBezTo>
                <a:cubicBezTo>
                  <a:pt x="6262" y="12721"/>
                  <a:pt x="6365" y="12736"/>
                  <a:pt x="6392" y="12700"/>
                </a:cubicBezTo>
                <a:cubicBezTo>
                  <a:pt x="6426" y="12655"/>
                  <a:pt x="6435" y="12656"/>
                  <a:pt x="6435" y="12594"/>
                </a:cubicBezTo>
                <a:cubicBezTo>
                  <a:pt x="6435" y="12573"/>
                  <a:pt x="6435" y="12566"/>
                  <a:pt x="6435" y="12552"/>
                </a:cubicBezTo>
                <a:cubicBezTo>
                  <a:pt x="6394" y="12552"/>
                  <a:pt x="6366" y="12557"/>
                  <a:pt x="6329" y="12531"/>
                </a:cubicBezTo>
                <a:cubicBezTo>
                  <a:pt x="6279" y="12497"/>
                  <a:pt x="6264" y="12488"/>
                  <a:pt x="6202" y="12488"/>
                </a:cubicBezTo>
                <a:cubicBezTo>
                  <a:pt x="6181" y="12488"/>
                  <a:pt x="6159" y="12488"/>
                  <a:pt x="6138" y="12488"/>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 name=""/>
          <p:cNvSpPr/>
          <p:nvPr/>
        </p:nvSpPr>
        <p:spPr>
          <a:xfrm>
            <a:off x="2251080" y="4518000"/>
            <a:ext cx="69840" cy="54000"/>
          </a:xfrm>
          <a:custGeom>
            <a:avLst/>
            <a:gdLst/>
            <a:ahLst/>
            <a:rect l="l" t="t" r="r" b="b"/>
            <a:pathLst>
              <a:path w="191" h="149">
                <a:moveTo>
                  <a:pt x="6858" y="12552"/>
                </a:moveTo>
                <a:cubicBezTo>
                  <a:pt x="6858" y="12601"/>
                  <a:pt x="6858" y="12651"/>
                  <a:pt x="6858" y="12700"/>
                </a:cubicBezTo>
                <a:cubicBezTo>
                  <a:pt x="6913" y="12700"/>
                  <a:pt x="6981" y="12712"/>
                  <a:pt x="7006" y="12679"/>
                </a:cubicBezTo>
                <a:cubicBezTo>
                  <a:pt x="7015" y="12667"/>
                  <a:pt x="7077" y="12617"/>
                  <a:pt x="7048" y="12594"/>
                </a:cubicBezTo>
                <a:cubicBezTo>
                  <a:pt x="7029" y="12578"/>
                  <a:pt x="6993" y="12573"/>
                  <a:pt x="6964" y="12573"/>
                </a:cubicBezTo>
                <a:cubicBezTo>
                  <a:pt x="6957" y="12573"/>
                  <a:pt x="6950" y="12573"/>
                  <a:pt x="6943" y="12573"/>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1" name=""/>
          <p:cNvSpPr/>
          <p:nvPr/>
        </p:nvSpPr>
        <p:spPr>
          <a:xfrm>
            <a:off x="2975040" y="4511520"/>
            <a:ext cx="268200" cy="92160"/>
          </a:xfrm>
          <a:custGeom>
            <a:avLst/>
            <a:gdLst/>
            <a:ahLst/>
            <a:rect l="l" t="t" r="r" b="b"/>
            <a:pathLst>
              <a:path w="742" h="255">
                <a:moveTo>
                  <a:pt x="8932" y="12531"/>
                </a:moveTo>
                <a:cubicBezTo>
                  <a:pt x="8897" y="12540"/>
                  <a:pt x="8873" y="12555"/>
                  <a:pt x="8869" y="12594"/>
                </a:cubicBezTo>
                <a:cubicBezTo>
                  <a:pt x="8863" y="12650"/>
                  <a:pt x="8859" y="12739"/>
                  <a:pt x="8890" y="12763"/>
                </a:cubicBezTo>
                <a:cubicBezTo>
                  <a:pt x="8925" y="12790"/>
                  <a:pt x="8952" y="12785"/>
                  <a:pt x="8996" y="12785"/>
                </a:cubicBezTo>
                <a:cubicBezTo>
                  <a:pt x="9045" y="12785"/>
                  <a:pt x="9085" y="12794"/>
                  <a:pt x="9123" y="12763"/>
                </a:cubicBezTo>
                <a:cubicBezTo>
                  <a:pt x="9159" y="12734"/>
                  <a:pt x="9165" y="12748"/>
                  <a:pt x="9165" y="12700"/>
                </a:cubicBezTo>
                <a:cubicBezTo>
                  <a:pt x="9165" y="12671"/>
                  <a:pt x="9121" y="12638"/>
                  <a:pt x="9102" y="12636"/>
                </a:cubicBezTo>
                <a:cubicBezTo>
                  <a:pt x="9061" y="12631"/>
                  <a:pt x="9029" y="12652"/>
                  <a:pt x="9017" y="12615"/>
                </a:cubicBezTo>
              </a:path>
              <a:path w="742" h="255">
                <a:moveTo>
                  <a:pt x="9334" y="12615"/>
                </a:moveTo>
                <a:cubicBezTo>
                  <a:pt x="9367" y="12626"/>
                  <a:pt x="9356" y="12640"/>
                  <a:pt x="9356" y="12679"/>
                </a:cubicBezTo>
                <a:cubicBezTo>
                  <a:pt x="9356" y="12686"/>
                  <a:pt x="9356" y="12693"/>
                  <a:pt x="9356" y="12700"/>
                </a:cubicBezTo>
                <a:cubicBezTo>
                  <a:pt x="9439" y="12700"/>
                  <a:pt x="9516" y="12702"/>
                  <a:pt x="9588" y="12679"/>
                </a:cubicBezTo>
                <a:cubicBezTo>
                  <a:pt x="9621" y="12668"/>
                  <a:pt x="9610" y="12654"/>
                  <a:pt x="9610" y="12615"/>
                </a:cubicBezTo>
                <a:cubicBezTo>
                  <a:pt x="9554" y="12606"/>
                  <a:pt x="9565" y="12575"/>
                  <a:pt x="9525" y="12552"/>
                </a:cubicBezTo>
                <a:cubicBezTo>
                  <a:pt x="9507" y="12542"/>
                  <a:pt x="9475" y="12533"/>
                  <a:pt x="9461" y="12531"/>
                </a:cubicBezTo>
                <a:cubicBezTo>
                  <a:pt x="9427" y="12527"/>
                  <a:pt x="9390" y="12531"/>
                  <a:pt x="9356" y="1253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4552920" y="3467160"/>
            <a:ext cx="1523880" cy="1440"/>
          </a:xfrm>
          <a:custGeom>
            <a:avLst/>
            <a:gdLst/>
            <a:ahLst/>
            <a:rect l="l" t="t" r="r" b="b"/>
            <a:pathLst>
              <a:path w="4235" h="1">
                <a:moveTo>
                  <a:pt x="13250" y="9631"/>
                </a:moveTo>
                <a:cubicBezTo>
                  <a:pt x="14661" y="9631"/>
                  <a:pt x="16073" y="9631"/>
                  <a:pt x="17484" y="9631"/>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3456000" y="3970440"/>
            <a:ext cx="2643120" cy="15840"/>
          </a:xfrm>
          <a:custGeom>
            <a:avLst/>
            <a:gdLst/>
            <a:ahLst/>
            <a:rect l="l" t="t" r="r" b="b"/>
            <a:pathLst>
              <a:path w="7346" h="43">
                <a:moveTo>
                  <a:pt x="10202" y="11070"/>
                </a:moveTo>
                <a:cubicBezTo>
                  <a:pt x="12423" y="11070"/>
                  <a:pt x="14687" y="11162"/>
                  <a:pt x="16891" y="11049"/>
                </a:cubicBezTo>
                <a:cubicBezTo>
                  <a:pt x="17058" y="11040"/>
                  <a:pt x="17245" y="11037"/>
                  <a:pt x="17399" y="11028"/>
                </a:cubicBezTo>
                <a:cubicBezTo>
                  <a:pt x="17448" y="11025"/>
                  <a:pt x="17498" y="11030"/>
                  <a:pt x="17547" y="11028"/>
                </a:cubicBezTo>
              </a:path>
            </a:pathLst>
          </a:custGeom>
          <a:noFill/>
          <a:ln cap="rnd" w="34920">
            <a:solidFill>
              <a:srgbClr val="ff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4" name=""/>
          <p:cNvSpPr/>
          <p:nvPr/>
        </p:nvSpPr>
        <p:spPr>
          <a:xfrm>
            <a:off x="1382760" y="4245120"/>
            <a:ext cx="3078000" cy="14040"/>
          </a:xfrm>
          <a:custGeom>
            <a:avLst/>
            <a:gdLst/>
            <a:ahLst/>
            <a:rect l="l" t="t" r="r" b="b"/>
            <a:pathLst>
              <a:path w="8552" h="43">
                <a:moveTo>
                  <a:pt x="4445" y="11832"/>
                </a:moveTo>
                <a:cubicBezTo>
                  <a:pt x="7197" y="11832"/>
                  <a:pt x="10028" y="11937"/>
                  <a:pt x="12742" y="11811"/>
                </a:cubicBezTo>
                <a:cubicBezTo>
                  <a:pt x="12832" y="11807"/>
                  <a:pt x="12916" y="11803"/>
                  <a:pt x="12996" y="11790"/>
                </a:cubicBezTo>
              </a:path>
            </a:pathLst>
          </a:custGeom>
          <a:noFill/>
          <a:ln cap="rnd" w="34920">
            <a:solidFill>
              <a:srgbClr val="ff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5" name=""/>
          <p:cNvSpPr/>
          <p:nvPr/>
        </p:nvSpPr>
        <p:spPr>
          <a:xfrm>
            <a:off x="4773600" y="4245120"/>
            <a:ext cx="1371600" cy="1440"/>
          </a:xfrm>
          <a:custGeom>
            <a:avLst/>
            <a:gdLst/>
            <a:ahLst/>
            <a:rect l="l" t="t" r="r" b="b"/>
            <a:pathLst>
              <a:path w="3811" h="1">
                <a:moveTo>
                  <a:pt x="13864" y="11790"/>
                </a:moveTo>
                <a:cubicBezTo>
                  <a:pt x="15134" y="11790"/>
                  <a:pt x="16404" y="11790"/>
                  <a:pt x="17674" y="11790"/>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1322280" y="4503600"/>
            <a:ext cx="4160880" cy="84240"/>
          </a:xfrm>
          <a:custGeom>
            <a:avLst/>
            <a:gdLst/>
            <a:ahLst/>
            <a:rect l="l" t="t" r="r" b="b"/>
            <a:pathLst>
              <a:path w="11558" h="234">
                <a:moveTo>
                  <a:pt x="4276" y="12742"/>
                </a:moveTo>
                <a:cubicBezTo>
                  <a:pt x="7766" y="12742"/>
                  <a:pt x="11276" y="12814"/>
                  <a:pt x="14753" y="12700"/>
                </a:cubicBezTo>
                <a:cubicBezTo>
                  <a:pt x="14823" y="12698"/>
                  <a:pt x="14905" y="12693"/>
                  <a:pt x="14944" y="12679"/>
                </a:cubicBezTo>
                <a:cubicBezTo>
                  <a:pt x="14980" y="12666"/>
                  <a:pt x="15009" y="12650"/>
                  <a:pt x="15049" y="12636"/>
                </a:cubicBezTo>
                <a:cubicBezTo>
                  <a:pt x="15114" y="12613"/>
                  <a:pt x="15185" y="12574"/>
                  <a:pt x="15261" y="12552"/>
                </a:cubicBezTo>
                <a:cubicBezTo>
                  <a:pt x="15303" y="12540"/>
                  <a:pt x="15329" y="12516"/>
                  <a:pt x="15367" y="12509"/>
                </a:cubicBezTo>
                <a:cubicBezTo>
                  <a:pt x="15511" y="12483"/>
                  <a:pt x="15686" y="12509"/>
                  <a:pt x="15833" y="12509"/>
                </a:cubicBezTo>
              </a:path>
            </a:pathLst>
          </a:custGeom>
          <a:noFill/>
          <a:ln cap="rnd" w="34920">
            <a:solidFill>
              <a:srgbClr val="ff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 name=""/>
          <p:cNvSpPr/>
          <p:nvPr/>
        </p:nvSpPr>
        <p:spPr>
          <a:xfrm>
            <a:off x="1393920" y="1905120"/>
            <a:ext cx="4709880" cy="519120"/>
          </a:xfrm>
          <a:custGeom>
            <a:avLst/>
            <a:gdLst/>
            <a:ahLst/>
            <a:rect l="l" t="t" r="r" b="b"/>
            <a:pathLst>
              <a:path w="13082" h="1440">
                <a:moveTo>
                  <a:pt x="16531" y="5292"/>
                </a:moveTo>
                <a:cubicBezTo>
                  <a:pt x="16672" y="5292"/>
                  <a:pt x="16813" y="5292"/>
                  <a:pt x="16954" y="5292"/>
                </a:cubicBezTo>
              </a:path>
              <a:path w="13082" h="1440">
                <a:moveTo>
                  <a:pt x="3873" y="5969"/>
                </a:moveTo>
                <a:cubicBezTo>
                  <a:pt x="4423" y="5969"/>
                  <a:pt x="4974" y="5969"/>
                  <a:pt x="5524" y="5969"/>
                </a:cubicBezTo>
              </a:path>
              <a:path w="13082" h="1440">
                <a:moveTo>
                  <a:pt x="5948" y="5969"/>
                </a:moveTo>
                <a:cubicBezTo>
                  <a:pt x="6675" y="5969"/>
                  <a:pt x="7401" y="5969"/>
                  <a:pt x="8128" y="5969"/>
                </a:cubicBezTo>
              </a:path>
              <a:path w="13082" h="1440">
                <a:moveTo>
                  <a:pt x="8615" y="5969"/>
                </a:moveTo>
                <a:cubicBezTo>
                  <a:pt x="9306" y="5969"/>
                  <a:pt x="9998" y="5969"/>
                  <a:pt x="10689" y="5969"/>
                </a:cubicBezTo>
              </a:path>
              <a:path w="13082" h="1440">
                <a:moveTo>
                  <a:pt x="10985" y="5969"/>
                </a:moveTo>
                <a:cubicBezTo>
                  <a:pt x="11825" y="5969"/>
                  <a:pt x="12664" y="5969"/>
                  <a:pt x="13504" y="5969"/>
                </a:cubicBezTo>
              </a:path>
              <a:path w="13082" h="1440">
                <a:moveTo>
                  <a:pt x="14118" y="5969"/>
                </a:moveTo>
                <a:cubicBezTo>
                  <a:pt x="14690" y="5969"/>
                  <a:pt x="15261" y="5969"/>
                  <a:pt x="15833" y="5969"/>
                </a:cubicBezTo>
              </a:path>
              <a:path w="13082" h="1440">
                <a:moveTo>
                  <a:pt x="16171" y="5884"/>
                </a:moveTo>
                <a:cubicBezTo>
                  <a:pt x="16288" y="5884"/>
                  <a:pt x="16399" y="5887"/>
                  <a:pt x="16510" y="5905"/>
                </a:cubicBezTo>
                <a:cubicBezTo>
                  <a:pt x="16624" y="5923"/>
                  <a:pt x="16755" y="5905"/>
                  <a:pt x="16870" y="5905"/>
                </a:cubicBezTo>
              </a:path>
              <a:path w="13082" h="1440">
                <a:moveTo>
                  <a:pt x="3873" y="6731"/>
                </a:moveTo>
                <a:cubicBezTo>
                  <a:pt x="4057" y="6731"/>
                  <a:pt x="4240" y="6731"/>
                  <a:pt x="4424" y="673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371600" y="3711600"/>
            <a:ext cx="2865600" cy="1440"/>
          </a:xfrm>
          <a:custGeom>
            <a:avLst/>
            <a:gdLst/>
            <a:ahLst/>
            <a:rect l="l" t="t" r="r" b="b"/>
            <a:pathLst>
              <a:path w="7960" h="1">
                <a:moveTo>
                  <a:pt x="3810" y="10308"/>
                </a:moveTo>
                <a:cubicBezTo>
                  <a:pt x="3916" y="10308"/>
                  <a:pt x="4021" y="10308"/>
                  <a:pt x="4127" y="10308"/>
                </a:cubicBezTo>
              </a:path>
              <a:path w="7960" h="1">
                <a:moveTo>
                  <a:pt x="4508" y="10308"/>
                </a:moveTo>
                <a:cubicBezTo>
                  <a:pt x="5178" y="10308"/>
                  <a:pt x="5849" y="10308"/>
                  <a:pt x="6519" y="10308"/>
                </a:cubicBezTo>
              </a:path>
              <a:path w="7960" h="1">
                <a:moveTo>
                  <a:pt x="6879" y="10308"/>
                </a:moveTo>
                <a:cubicBezTo>
                  <a:pt x="7218" y="10308"/>
                  <a:pt x="7556" y="10308"/>
                  <a:pt x="7895" y="10308"/>
                </a:cubicBezTo>
              </a:path>
              <a:path w="7960" h="1">
                <a:moveTo>
                  <a:pt x="8255" y="10308"/>
                </a:moveTo>
                <a:cubicBezTo>
                  <a:pt x="8601" y="10308"/>
                  <a:pt x="8946" y="10308"/>
                  <a:pt x="9292" y="10308"/>
                </a:cubicBezTo>
              </a:path>
              <a:path w="7960" h="1">
                <a:moveTo>
                  <a:pt x="9652" y="10308"/>
                </a:moveTo>
                <a:cubicBezTo>
                  <a:pt x="10358" y="10308"/>
                  <a:pt x="11063" y="10308"/>
                  <a:pt x="11769" y="10308"/>
                </a:cubicBezTo>
              </a:path>
            </a:pathLst>
          </a:custGeom>
          <a:noFill/>
          <a:ln cap="rnd" w="3492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5075280" y="4251240"/>
            <a:ext cx="30240" cy="54000"/>
          </a:xfrm>
          <a:custGeom>
            <a:avLst/>
            <a:gdLst/>
            <a:ahLst/>
            <a:rect l="l" t="t" r="r" b="b"/>
            <a:pathLst>
              <a:path w="86" h="149">
                <a:moveTo>
                  <a:pt x="14097" y="11811"/>
                </a:moveTo>
                <a:cubicBezTo>
                  <a:pt x="14097" y="11860"/>
                  <a:pt x="14097" y="11910"/>
                  <a:pt x="14097" y="11959"/>
                </a:cubicBezTo>
                <a:cubicBezTo>
                  <a:pt x="14132" y="11959"/>
                  <a:pt x="14177" y="11973"/>
                  <a:pt x="14182" y="11938"/>
                </a:cubicBezTo>
                <a:cubicBezTo>
                  <a:pt x="14185" y="11918"/>
                  <a:pt x="14182" y="11895"/>
                  <a:pt x="14182" y="11874"/>
                </a:cubicBezTo>
              </a:path>
            </a:pathLst>
          </a:custGeom>
          <a:noFill/>
          <a:ln cap="rnd" w="349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0" name=""/>
          <p:cNvSpPr/>
          <p:nvPr/>
        </p:nvSpPr>
        <p:spPr>
          <a:xfrm>
            <a:off x="5257800" y="4221000"/>
            <a:ext cx="68400" cy="61920"/>
          </a:xfrm>
          <a:custGeom>
            <a:avLst/>
            <a:gdLst/>
            <a:ahLst/>
            <a:rect l="l" t="t" r="r" b="b"/>
            <a:pathLst>
              <a:path w="191" h="171">
                <a:moveTo>
                  <a:pt x="14605" y="11811"/>
                </a:moveTo>
                <a:cubicBezTo>
                  <a:pt x="14652" y="11811"/>
                  <a:pt x="14634" y="11828"/>
                  <a:pt x="14668" y="11832"/>
                </a:cubicBezTo>
                <a:cubicBezTo>
                  <a:pt x="14702" y="11836"/>
                  <a:pt x="14740" y="11832"/>
                  <a:pt x="14774" y="11832"/>
                </a:cubicBezTo>
                <a:cubicBezTo>
                  <a:pt x="14774" y="11796"/>
                  <a:pt x="14807" y="11766"/>
                  <a:pt x="14774" y="11747"/>
                </a:cubicBezTo>
                <a:cubicBezTo>
                  <a:pt x="14750" y="11733"/>
                  <a:pt x="14759" y="11735"/>
                  <a:pt x="14732" y="11726"/>
                </a:cubicBezTo>
                <a:cubicBezTo>
                  <a:pt x="14703" y="11747"/>
                  <a:pt x="14680" y="11754"/>
                  <a:pt x="14668" y="11790"/>
                </a:cubicBezTo>
                <a:cubicBezTo>
                  <a:pt x="14655" y="11828"/>
                  <a:pt x="14664" y="11887"/>
                  <a:pt x="14690" y="11896"/>
                </a:cubicBezTo>
              </a:path>
            </a:pathLst>
          </a:custGeom>
          <a:noFill/>
          <a:ln cap="rnd" w="34920">
            <a:solidFill>
              <a:srgbClr val="ff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1" name="">
            <a:hlinkClick r:id="rId2" action="ppaction://hlinksldjump"/>
          </p:cNvPr>
          <p:cNvSpPr/>
          <p:nvPr/>
        </p:nvSpPr>
        <p:spPr>
          <a:xfrm>
            <a:off x="8101080" y="6021360"/>
            <a:ext cx="503280" cy="538200"/>
          </a:xfrm>
          <a:custGeom>
            <a:avLst/>
            <a:gdLst>
              <a:gd name="textAreaLeft" fmla="*/ 32400 w 503280"/>
              <a:gd name="textAreaRight" fmla="*/ 470880 w 503280"/>
              <a:gd name="textAreaTop" fmla="*/ 32400 h 538200"/>
              <a:gd name="textAreaBottom" fmla="*/ 505800 h 538200"/>
            </a:gdLst>
            <a:ahLst/>
            <a:rect l="textAreaLeft" t="textAreaTop" r="textAreaRight" b="textAreaBottom"/>
            <a:pathLst>
              <a:path w="21600" h="23098">
                <a:moveTo>
                  <a:pt x="0" y="0"/>
                </a:moveTo>
                <a:lnTo>
                  <a:pt x="21600" y="0"/>
                </a:lnTo>
                <a:lnTo>
                  <a:pt x="21600" y="23098"/>
                </a:lnTo>
                <a:lnTo>
                  <a:pt x="0" y="23098"/>
                </a:lnTo>
                <a:close/>
              </a:path>
              <a:path fill="lightenLess" w="21600" h="23098">
                <a:moveTo>
                  <a:pt x="0" y="0"/>
                </a:moveTo>
                <a:lnTo>
                  <a:pt x="21600" y="0"/>
                </a:lnTo>
                <a:lnTo>
                  <a:pt x="20200" y="1400"/>
                </a:lnTo>
                <a:lnTo>
                  <a:pt x="1400" y="1400"/>
                </a:lnTo>
                <a:close/>
              </a:path>
              <a:path fill="darken" w="21600" h="23098">
                <a:moveTo>
                  <a:pt x="21600" y="0"/>
                </a:moveTo>
                <a:lnTo>
                  <a:pt x="21600" y="23098"/>
                </a:lnTo>
                <a:lnTo>
                  <a:pt x="20200" y="21698"/>
                </a:lnTo>
                <a:lnTo>
                  <a:pt x="20200" y="1400"/>
                </a:lnTo>
                <a:close/>
              </a:path>
              <a:path fill="darkenLess" w="21600" h="23098">
                <a:moveTo>
                  <a:pt x="21600" y="23098"/>
                </a:moveTo>
                <a:lnTo>
                  <a:pt x="0" y="23098"/>
                </a:lnTo>
                <a:lnTo>
                  <a:pt x="1400" y="21698"/>
                </a:lnTo>
                <a:lnTo>
                  <a:pt x="20200" y="21698"/>
                </a:lnTo>
                <a:close/>
              </a:path>
              <a:path fill="lighten" w="21600" h="23098">
                <a:moveTo>
                  <a:pt x="0" y="23098"/>
                </a:moveTo>
                <a:lnTo>
                  <a:pt x="0" y="0"/>
                </a:lnTo>
                <a:lnTo>
                  <a:pt x="1400" y="1400"/>
                </a:lnTo>
                <a:lnTo>
                  <a:pt x="1400" y="21698"/>
                </a:lnTo>
                <a:close/>
              </a:path>
              <a:path fill="darken" w="21600" h="23098">
                <a:moveTo>
                  <a:pt x="3794" y="11549"/>
                </a:moveTo>
                <a:lnTo>
                  <a:pt x="17806" y="4542"/>
                </a:lnTo>
                <a:lnTo>
                  <a:pt x="17806" y="1855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042920" y="115920"/>
            <a:ext cx="5257800" cy="6669000"/>
          </a:xfrm>
          <a:prstGeom prst="rect">
            <a:avLst/>
          </a:prstGeom>
          <a:ln w="0">
            <a:noFill/>
          </a:ln>
        </p:spPr>
      </p:pic>
      <p:sp>
        <p:nvSpPr>
          <p:cNvPr id="143" name=""/>
          <p:cNvSpPr/>
          <p:nvPr/>
        </p:nvSpPr>
        <p:spPr>
          <a:xfrm>
            <a:off x="5940360" y="1039320"/>
            <a:ext cx="302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基本理念的变化：“三句”变“两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2001</a:t>
            </a:r>
            <a:r>
              <a:rPr b="1" lang="zh-CN" sz="1800" spc="-1" strike="noStrike">
                <a:solidFill>
                  <a:srgbClr val="0066ff"/>
                </a:solidFill>
                <a:latin typeface="Arial"/>
              </a:rPr>
              <a:t>年版“三句话”：人人学有价值的数学，人人都能获得必需的数学，不同的人在数学上得到不同的发展。</a:t>
            </a:r>
            <a:r>
              <a:rPr b="0" lang="zh-CN" sz="1800" spc="-1" strike="noStrike">
                <a:solidFill>
                  <a:srgbClr val="ff3300"/>
                </a:solidFill>
                <a:latin typeface="Arial"/>
              </a:rPr>
              <a:t> </a:t>
            </a:r>
            <a:endParaRPr b="0" lang="en-US" sz="1800" spc="-1" strike="noStrike">
              <a:solidFill>
                <a:srgbClr val="000000"/>
              </a:solidFill>
              <a:latin typeface="Arial"/>
            </a:endParaRPr>
          </a:p>
        </p:txBody>
      </p:sp>
      <p:sp>
        <p:nvSpPr>
          <p:cNvPr id="144" name=""/>
          <p:cNvSpPr/>
          <p:nvPr/>
        </p:nvSpPr>
        <p:spPr>
          <a:xfrm>
            <a:off x="1684440" y="1736640"/>
            <a:ext cx="4221000" cy="641520"/>
          </a:xfrm>
          <a:custGeom>
            <a:avLst/>
            <a:gdLst/>
            <a:ahLst/>
            <a:rect l="l" t="t" r="r" b="b"/>
            <a:pathLst>
              <a:path w="11727" h="1779">
                <a:moveTo>
                  <a:pt x="15642" y="5461"/>
                </a:moveTo>
                <a:cubicBezTo>
                  <a:pt x="15896" y="5461"/>
                  <a:pt x="16150" y="5461"/>
                  <a:pt x="16404" y="5461"/>
                </a:cubicBezTo>
              </a:path>
              <a:path w="11727" h="1779">
                <a:moveTo>
                  <a:pt x="4741" y="6032"/>
                </a:moveTo>
                <a:cubicBezTo>
                  <a:pt x="4819" y="6040"/>
                  <a:pt x="4896" y="6049"/>
                  <a:pt x="4974" y="6054"/>
                </a:cubicBezTo>
                <a:cubicBezTo>
                  <a:pt x="5051" y="6059"/>
                  <a:pt x="5142" y="6069"/>
                  <a:pt x="5207" y="6075"/>
                </a:cubicBezTo>
                <a:cubicBezTo>
                  <a:pt x="6484" y="6186"/>
                  <a:pt x="7819" y="6075"/>
                  <a:pt x="9102" y="6075"/>
                </a:cubicBezTo>
              </a:path>
              <a:path w="11727" h="1779">
                <a:moveTo>
                  <a:pt x="9165" y="6054"/>
                </a:moveTo>
                <a:cubicBezTo>
                  <a:pt x="9327" y="6054"/>
                  <a:pt x="9490" y="6054"/>
                  <a:pt x="9652" y="6054"/>
                </a:cubicBezTo>
              </a:path>
              <a:path w="11727" h="1779">
                <a:moveTo>
                  <a:pt x="10350" y="5990"/>
                </a:moveTo>
                <a:cubicBezTo>
                  <a:pt x="11593" y="5990"/>
                  <a:pt x="12909" y="5925"/>
                  <a:pt x="14118" y="6011"/>
                </a:cubicBezTo>
                <a:cubicBezTo>
                  <a:pt x="14801" y="6059"/>
                  <a:pt x="15508" y="6011"/>
                  <a:pt x="16192" y="6011"/>
                </a:cubicBezTo>
              </a:path>
              <a:path w="11727" h="1779">
                <a:moveTo>
                  <a:pt x="4678" y="6604"/>
                </a:moveTo>
                <a:cubicBezTo>
                  <a:pt x="4974" y="6604"/>
                  <a:pt x="5271" y="6604"/>
                  <a:pt x="5567" y="6604"/>
                </a:cubicBezTo>
              </a:path>
              <a:path w="11727" h="1779">
                <a:moveTo>
                  <a:pt x="6096" y="4826"/>
                </a:moveTo>
                <a:cubicBezTo>
                  <a:pt x="6745" y="4826"/>
                  <a:pt x="7394" y="4826"/>
                  <a:pt x="8043" y="4826"/>
                </a:cubicBezTo>
              </a:path>
              <a:path w="11727" h="1779">
                <a:moveTo>
                  <a:pt x="14414" y="5419"/>
                </a:moveTo>
                <a:cubicBezTo>
                  <a:pt x="14414" y="5490"/>
                  <a:pt x="14433" y="5431"/>
                  <a:pt x="14478" y="5482"/>
                </a:cubicBezTo>
                <a:cubicBezTo>
                  <a:pt x="14492" y="5498"/>
                  <a:pt x="14516" y="5521"/>
                  <a:pt x="14541" y="5524"/>
                </a:cubicBezTo>
                <a:cubicBezTo>
                  <a:pt x="14568" y="5527"/>
                  <a:pt x="14598" y="5524"/>
                  <a:pt x="14626" y="5524"/>
                </a:cubicBezTo>
                <a:cubicBezTo>
                  <a:pt x="14626" y="5473"/>
                  <a:pt x="14642" y="5461"/>
                  <a:pt x="14647" y="5419"/>
                </a:cubicBezTo>
                <a:cubicBezTo>
                  <a:pt x="14649" y="5398"/>
                  <a:pt x="14647" y="5376"/>
                  <a:pt x="14647" y="5355"/>
                </a:cubicBezTo>
                <a:cubicBezTo>
                  <a:pt x="14584" y="5355"/>
                  <a:pt x="14520" y="5355"/>
                  <a:pt x="14457" y="5355"/>
                </a:cubicBezTo>
              </a:path>
              <a:path w="11727" h="1779">
                <a:moveTo>
                  <a:pt x="14922" y="5397"/>
                </a:moveTo>
                <a:cubicBezTo>
                  <a:pt x="14933" y="5430"/>
                  <a:pt x="14947" y="5419"/>
                  <a:pt x="14986" y="5419"/>
                </a:cubicBezTo>
                <a:cubicBezTo>
                  <a:pt x="14993" y="5419"/>
                  <a:pt x="15000" y="5419"/>
                  <a:pt x="15007" y="5419"/>
                </a:cubicBezTo>
                <a:cubicBezTo>
                  <a:pt x="14996" y="5386"/>
                  <a:pt x="14983" y="5397"/>
                  <a:pt x="14944" y="5397"/>
                </a:cubicBezTo>
                <a:cubicBezTo>
                  <a:pt x="14937" y="5397"/>
                  <a:pt x="14929" y="5397"/>
                  <a:pt x="14922" y="5397"/>
                </a:cubicBezTo>
                <a:cubicBezTo>
                  <a:pt x="14922" y="5447"/>
                  <a:pt x="14922" y="5496"/>
                  <a:pt x="14922" y="5546"/>
                </a:cubicBezTo>
                <a:cubicBezTo>
                  <a:pt x="14964" y="5546"/>
                  <a:pt x="15007" y="5546"/>
                  <a:pt x="15049" y="5546"/>
                </a:cubicBezTo>
                <a:cubicBezTo>
                  <a:pt x="15049" y="5504"/>
                  <a:pt x="15063" y="5452"/>
                  <a:pt x="15028" y="5440"/>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676520" y="3398760"/>
            <a:ext cx="4214520" cy="434880"/>
          </a:xfrm>
          <a:custGeom>
            <a:avLst/>
            <a:gdLst/>
            <a:ahLst/>
            <a:rect l="l" t="t" r="r" b="b"/>
            <a:pathLst>
              <a:path w="11706" h="1208">
                <a:moveTo>
                  <a:pt x="7133" y="9440"/>
                </a:moveTo>
                <a:cubicBezTo>
                  <a:pt x="7561" y="9440"/>
                  <a:pt x="8052" y="9421"/>
                  <a:pt x="8445" y="9461"/>
                </a:cubicBezTo>
                <a:cubicBezTo>
                  <a:pt x="9069" y="9525"/>
                  <a:pt x="9747" y="9461"/>
                  <a:pt x="10372" y="9461"/>
                </a:cubicBezTo>
              </a:path>
              <a:path w="11706" h="1208">
                <a:moveTo>
                  <a:pt x="4932" y="9461"/>
                </a:moveTo>
                <a:cubicBezTo>
                  <a:pt x="5398" y="9461"/>
                  <a:pt x="5863" y="9461"/>
                  <a:pt x="6329" y="9461"/>
                </a:cubicBezTo>
              </a:path>
              <a:path w="11706" h="1208">
                <a:moveTo>
                  <a:pt x="11282" y="9483"/>
                </a:moveTo>
                <a:cubicBezTo>
                  <a:pt x="11995" y="9483"/>
                  <a:pt x="12707" y="9483"/>
                  <a:pt x="13420" y="9483"/>
                </a:cubicBezTo>
              </a:path>
              <a:path w="11706" h="1208">
                <a:moveTo>
                  <a:pt x="14097" y="9483"/>
                </a:moveTo>
                <a:cubicBezTo>
                  <a:pt x="14852" y="9483"/>
                  <a:pt x="15607" y="9483"/>
                  <a:pt x="16362" y="9483"/>
                </a:cubicBezTo>
              </a:path>
              <a:path w="11706" h="1208">
                <a:moveTo>
                  <a:pt x="4657" y="10139"/>
                </a:moveTo>
                <a:cubicBezTo>
                  <a:pt x="4702" y="10122"/>
                  <a:pt x="4727" y="10118"/>
                  <a:pt x="4784" y="10118"/>
                </a:cubicBezTo>
                <a:cubicBezTo>
                  <a:pt x="5246" y="10118"/>
                  <a:pt x="5748" y="10158"/>
                  <a:pt x="6202" y="10096"/>
                </a:cubicBezTo>
                <a:cubicBezTo>
                  <a:pt x="6475" y="10059"/>
                  <a:pt x="6773" y="10096"/>
                  <a:pt x="7048" y="10096"/>
                </a:cubicBezTo>
              </a:path>
              <a:path w="11706" h="1208">
                <a:moveTo>
                  <a:pt x="7683" y="10033"/>
                </a:moveTo>
                <a:cubicBezTo>
                  <a:pt x="9207" y="10033"/>
                  <a:pt x="10731" y="10033"/>
                  <a:pt x="12255" y="10033"/>
                </a:cubicBezTo>
              </a:path>
              <a:path w="11706" h="1208">
                <a:moveTo>
                  <a:pt x="13547" y="10181"/>
                </a:moveTo>
                <a:cubicBezTo>
                  <a:pt x="14457" y="10181"/>
                  <a:pt x="15367" y="10181"/>
                  <a:pt x="16277" y="10181"/>
                </a:cubicBezTo>
              </a:path>
              <a:path w="11706" h="1208">
                <a:moveTo>
                  <a:pt x="4974" y="10647"/>
                </a:moveTo>
                <a:cubicBezTo>
                  <a:pt x="7253" y="10647"/>
                  <a:pt x="9532" y="10647"/>
                  <a:pt x="11811" y="1064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908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明确提出</a:t>
            </a:r>
            <a:endParaRPr b="0" lang="en-US" sz="2800" spc="-1" strike="noStrike">
              <a:solidFill>
                <a:srgbClr val="000000"/>
              </a:solidFill>
              <a:latin typeface="Arial"/>
            </a:endParaRPr>
          </a:p>
        </p:txBody>
      </p:sp>
      <p:sp>
        <p:nvSpPr>
          <p:cNvPr id="147" name=""/>
          <p:cNvSpPr/>
          <p:nvPr/>
        </p:nvSpPr>
        <p:spPr>
          <a:xfrm>
            <a:off x="1722600" y="5083200"/>
            <a:ext cx="906480" cy="228600"/>
          </a:xfrm>
          <a:custGeom>
            <a:avLst/>
            <a:gdLst/>
            <a:ahLst/>
            <a:rect l="l" t="t" r="r" b="b"/>
            <a:pathLst>
              <a:path w="2519" h="636">
                <a:moveTo>
                  <a:pt x="6181" y="14118"/>
                </a:moveTo>
                <a:cubicBezTo>
                  <a:pt x="6555" y="14118"/>
                  <a:pt x="6928" y="14118"/>
                  <a:pt x="7302" y="14118"/>
                </a:cubicBezTo>
              </a:path>
              <a:path w="2519" h="636">
                <a:moveTo>
                  <a:pt x="4784" y="14753"/>
                </a:moveTo>
                <a:cubicBezTo>
                  <a:pt x="5080" y="14753"/>
                  <a:pt x="5377" y="14753"/>
                  <a:pt x="5673" y="147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726000" y="4861080"/>
            <a:ext cx="2233440" cy="442800"/>
          </a:xfrm>
          <a:custGeom>
            <a:avLst/>
            <a:gdLst/>
            <a:ahLst/>
            <a:rect l="l" t="t" r="r" b="b"/>
            <a:pathLst>
              <a:path w="6203" h="1229">
                <a:moveTo>
                  <a:pt x="10350" y="13504"/>
                </a:moveTo>
                <a:cubicBezTo>
                  <a:pt x="10865" y="13504"/>
                  <a:pt x="11381" y="13504"/>
                  <a:pt x="11896" y="13504"/>
                </a:cubicBezTo>
              </a:path>
              <a:path w="6203" h="1229">
                <a:moveTo>
                  <a:pt x="12467" y="13610"/>
                </a:moveTo>
                <a:cubicBezTo>
                  <a:pt x="13469" y="13610"/>
                  <a:pt x="14471" y="13610"/>
                  <a:pt x="15473" y="13610"/>
                </a:cubicBezTo>
              </a:path>
              <a:path w="6203" h="1229">
                <a:moveTo>
                  <a:pt x="10499" y="14118"/>
                </a:moveTo>
                <a:cubicBezTo>
                  <a:pt x="11063" y="14118"/>
                  <a:pt x="11628" y="14118"/>
                  <a:pt x="12192" y="14118"/>
                </a:cubicBezTo>
              </a:path>
              <a:path w="6203" h="1229">
                <a:moveTo>
                  <a:pt x="12890" y="14139"/>
                </a:moveTo>
                <a:cubicBezTo>
                  <a:pt x="13088" y="14139"/>
                  <a:pt x="13285" y="14139"/>
                  <a:pt x="13483" y="14139"/>
                </a:cubicBezTo>
              </a:path>
              <a:path w="6203" h="1229">
                <a:moveTo>
                  <a:pt x="15198" y="14139"/>
                </a:moveTo>
                <a:cubicBezTo>
                  <a:pt x="15649" y="14139"/>
                  <a:pt x="16101" y="14139"/>
                  <a:pt x="16552" y="14139"/>
                </a:cubicBezTo>
              </a:path>
              <a:path w="6203" h="1229">
                <a:moveTo>
                  <a:pt x="15642" y="14732"/>
                </a:moveTo>
                <a:cubicBezTo>
                  <a:pt x="15889" y="14732"/>
                  <a:pt x="16136" y="14732"/>
                  <a:pt x="16383" y="14732"/>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660680" y="5524560"/>
            <a:ext cx="4314600" cy="701640"/>
          </a:xfrm>
          <a:custGeom>
            <a:avLst/>
            <a:gdLst/>
            <a:ahLst/>
            <a:rect l="l" t="t" r="r" b="b"/>
            <a:pathLst>
              <a:path w="11982" h="1948">
                <a:moveTo>
                  <a:pt x="4889" y="15346"/>
                </a:moveTo>
                <a:cubicBezTo>
                  <a:pt x="6265" y="15346"/>
                  <a:pt x="7641" y="15346"/>
                  <a:pt x="9017" y="15346"/>
                </a:cubicBezTo>
              </a:path>
              <a:path w="11982" h="1948">
                <a:moveTo>
                  <a:pt x="5715" y="15896"/>
                </a:moveTo>
                <a:cubicBezTo>
                  <a:pt x="6279" y="15896"/>
                  <a:pt x="6844" y="15896"/>
                  <a:pt x="7408" y="15896"/>
                </a:cubicBezTo>
              </a:path>
              <a:path w="11982" h="1948">
                <a:moveTo>
                  <a:pt x="6689" y="16468"/>
                </a:moveTo>
                <a:cubicBezTo>
                  <a:pt x="7197" y="16468"/>
                  <a:pt x="7705" y="16468"/>
                  <a:pt x="8213" y="16468"/>
                </a:cubicBezTo>
              </a:path>
              <a:path w="11982" h="1948">
                <a:moveTo>
                  <a:pt x="9059" y="16468"/>
                </a:moveTo>
                <a:cubicBezTo>
                  <a:pt x="9616" y="16468"/>
                  <a:pt x="10174" y="16468"/>
                  <a:pt x="10731" y="16468"/>
                </a:cubicBezTo>
              </a:path>
              <a:path w="11982" h="1948">
                <a:moveTo>
                  <a:pt x="11388" y="16468"/>
                </a:moveTo>
                <a:cubicBezTo>
                  <a:pt x="12009" y="16468"/>
                  <a:pt x="12629" y="16468"/>
                  <a:pt x="13250" y="16468"/>
                </a:cubicBezTo>
              </a:path>
              <a:path w="11982" h="1948">
                <a:moveTo>
                  <a:pt x="13970" y="16510"/>
                </a:moveTo>
                <a:cubicBezTo>
                  <a:pt x="14450" y="16510"/>
                  <a:pt x="14929" y="16510"/>
                  <a:pt x="15409" y="16510"/>
                </a:cubicBezTo>
              </a:path>
              <a:path w="11982" h="1948">
                <a:moveTo>
                  <a:pt x="16108" y="16468"/>
                </a:moveTo>
                <a:cubicBezTo>
                  <a:pt x="16270" y="16468"/>
                  <a:pt x="16433" y="16468"/>
                  <a:pt x="16595" y="16468"/>
                </a:cubicBezTo>
              </a:path>
              <a:path w="11982" h="1948">
                <a:moveTo>
                  <a:pt x="4614" y="17145"/>
                </a:moveTo>
                <a:cubicBezTo>
                  <a:pt x="5186" y="17145"/>
                  <a:pt x="5757" y="17145"/>
                  <a:pt x="6329" y="17145"/>
                </a:cubicBezTo>
              </a:path>
              <a:path w="11982" h="1948">
                <a:moveTo>
                  <a:pt x="7260" y="17145"/>
                </a:moveTo>
                <a:cubicBezTo>
                  <a:pt x="8946" y="17145"/>
                  <a:pt x="10633" y="17145"/>
                  <a:pt x="12319" y="17145"/>
                </a:cubicBezTo>
              </a:path>
              <a:path w="11982" h="1948">
                <a:moveTo>
                  <a:pt x="11578" y="17103"/>
                </a:moveTo>
                <a:cubicBezTo>
                  <a:pt x="11554" y="17127"/>
                  <a:pt x="11525" y="17157"/>
                  <a:pt x="11515" y="17187"/>
                </a:cubicBezTo>
                <a:cubicBezTo>
                  <a:pt x="11503" y="17224"/>
                  <a:pt x="11512" y="17226"/>
                  <a:pt x="11493" y="17251"/>
                </a:cubicBezTo>
                <a:cubicBezTo>
                  <a:pt x="11474" y="17270"/>
                  <a:pt x="11467" y="17274"/>
                  <a:pt x="11472" y="17293"/>
                </a:cubicBezTo>
                <a:cubicBezTo>
                  <a:pt x="11514" y="17293"/>
                  <a:pt x="11642" y="17314"/>
                  <a:pt x="11663" y="17272"/>
                </a:cubicBezTo>
                <a:cubicBezTo>
                  <a:pt x="11677" y="17245"/>
                  <a:pt x="11684" y="17221"/>
                  <a:pt x="11684" y="17187"/>
                </a:cubicBezTo>
                <a:cubicBezTo>
                  <a:pt x="11684" y="17128"/>
                  <a:pt x="11669" y="17145"/>
                  <a:pt x="11620" y="17145"/>
                </a:cubicBezTo>
              </a:path>
              <a:path w="11982" h="1948">
                <a:moveTo>
                  <a:pt x="12023" y="17145"/>
                </a:moveTo>
                <a:cubicBezTo>
                  <a:pt x="12023" y="17173"/>
                  <a:pt x="12023" y="17202"/>
                  <a:pt x="12023" y="17230"/>
                </a:cubicBezTo>
                <a:cubicBezTo>
                  <a:pt x="12068" y="17230"/>
                  <a:pt x="12082" y="17247"/>
                  <a:pt x="12128" y="17251"/>
                </a:cubicBezTo>
                <a:cubicBezTo>
                  <a:pt x="12170" y="17254"/>
                  <a:pt x="12213" y="17251"/>
                  <a:pt x="12255" y="17251"/>
                </a:cubicBezTo>
                <a:cubicBezTo>
                  <a:pt x="12255" y="17224"/>
                  <a:pt x="12249" y="17194"/>
                  <a:pt x="12234" y="17187"/>
                </a:cubicBezTo>
                <a:cubicBezTo>
                  <a:pt x="12215" y="17177"/>
                  <a:pt x="12163" y="17185"/>
                  <a:pt x="12150" y="17166"/>
                </a:cubicBezTo>
                <a:cubicBezTo>
                  <a:pt x="12139" y="17150"/>
                  <a:pt x="12116" y="17134"/>
                  <a:pt x="12086" y="17124"/>
                </a:cubicBezTo>
                <a:cubicBezTo>
                  <a:pt x="12079" y="17124"/>
                  <a:pt x="12072" y="17124"/>
                  <a:pt x="12065" y="17124"/>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300720" y="3394080"/>
            <a:ext cx="243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8000"/>
                </a:solidFill>
                <a:uFillTx/>
                <a:latin typeface="Arial"/>
              </a:rPr>
              <a:t>人人都能获得良好的数学教育</a:t>
            </a:r>
            <a:r>
              <a:rPr b="0" lang="zh-CN" sz="1800" spc="-1" strike="noStrike" u="sng">
                <a:solidFill>
                  <a:srgbClr val="008000"/>
                </a:solidFill>
                <a:uFillTx/>
                <a:latin typeface="Arial"/>
              </a:rPr>
              <a:t>：</a:t>
            </a:r>
            <a:r>
              <a:rPr b="0" lang="zh-CN" sz="1800" spc="-1" strike="noStrike" u="sng">
                <a:solidFill>
                  <a:srgbClr val="008000"/>
                </a:solidFill>
                <a:uFillTx/>
                <a:latin typeface="黑体"/>
                <a:ea typeface="黑体"/>
              </a:rPr>
              <a:t>良好的数学教育，就是不仅懂得了知识，还懂得了基本思想，在学习过程中得到磨练。</a:t>
            </a: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sp>
        <p:nvSpPr>
          <p:cNvPr id="151" name=""/>
          <p:cNvSpPr/>
          <p:nvPr/>
        </p:nvSpPr>
        <p:spPr>
          <a:xfrm>
            <a:off x="6372360" y="5202360"/>
            <a:ext cx="24238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u="sng">
                <a:solidFill>
                  <a:srgbClr val="008000"/>
                </a:solidFill>
                <a:uFillTx/>
                <a:latin typeface="Arial"/>
              </a:rPr>
              <a:t>不同的人在数学上得到不同的发展</a:t>
            </a:r>
            <a:r>
              <a:rPr b="0" lang="zh-CN" sz="1800" spc="-1" strike="noStrike" u="sng">
                <a:solidFill>
                  <a:srgbClr val="008000"/>
                </a:solidFill>
                <a:uFillTx/>
                <a:latin typeface="Arial"/>
              </a:rPr>
              <a:t>：</a:t>
            </a:r>
            <a:r>
              <a:rPr b="0" lang="zh-CN" sz="1800" spc="-1" strike="noStrike">
                <a:solidFill>
                  <a:srgbClr val="008000"/>
                </a:solidFill>
                <a:latin typeface="Arial"/>
                <a:ea typeface="黑体"/>
              </a:rPr>
              <a:t>数学课程必须立足于关注学生的一般发展，它应当是“为了每一个孩子”健康成长的课程。</a:t>
            </a:r>
            <a:endParaRPr b="0" lang="en-US" sz="1800" spc="-1" strike="noStrike">
              <a:solidFill>
                <a:srgbClr val="000000"/>
              </a:solidFill>
              <a:latin typeface="Arial"/>
            </a:endParaRPr>
          </a:p>
        </p:txBody>
      </p:sp>
      <p:sp>
        <p:nvSpPr>
          <p:cNvPr id="152" name="">
            <a:hlinkClick r:id="rId2" action="ppaction://hlinksldjump"/>
          </p:cNvPr>
          <p:cNvSpPr/>
          <p:nvPr/>
        </p:nvSpPr>
        <p:spPr>
          <a:xfrm>
            <a:off x="8532720" y="6275520"/>
            <a:ext cx="503280" cy="538200"/>
          </a:xfrm>
          <a:custGeom>
            <a:avLst/>
            <a:gdLst>
              <a:gd name="textAreaLeft" fmla="*/ 32400 w 503280"/>
              <a:gd name="textAreaRight" fmla="*/ 470880 w 503280"/>
              <a:gd name="textAreaTop" fmla="*/ 32400 h 538200"/>
              <a:gd name="textAreaBottom" fmla="*/ 505800 h 538200"/>
            </a:gdLst>
            <a:ahLst/>
            <a:rect l="textAreaLeft" t="textAreaTop" r="textAreaRight" b="textAreaBottom"/>
            <a:pathLst>
              <a:path w="21600" h="23098">
                <a:moveTo>
                  <a:pt x="0" y="0"/>
                </a:moveTo>
                <a:lnTo>
                  <a:pt x="21600" y="0"/>
                </a:lnTo>
                <a:lnTo>
                  <a:pt x="21600" y="23098"/>
                </a:lnTo>
                <a:lnTo>
                  <a:pt x="0" y="23098"/>
                </a:lnTo>
                <a:close/>
              </a:path>
              <a:path fill="lightenLess" w="21600" h="23098">
                <a:moveTo>
                  <a:pt x="0" y="0"/>
                </a:moveTo>
                <a:lnTo>
                  <a:pt x="21600" y="0"/>
                </a:lnTo>
                <a:lnTo>
                  <a:pt x="20200" y="1400"/>
                </a:lnTo>
                <a:lnTo>
                  <a:pt x="1400" y="1400"/>
                </a:lnTo>
                <a:close/>
              </a:path>
              <a:path fill="darken" w="21600" h="23098">
                <a:moveTo>
                  <a:pt x="21600" y="0"/>
                </a:moveTo>
                <a:lnTo>
                  <a:pt x="21600" y="23098"/>
                </a:lnTo>
                <a:lnTo>
                  <a:pt x="20200" y="21698"/>
                </a:lnTo>
                <a:lnTo>
                  <a:pt x="20200" y="1400"/>
                </a:lnTo>
                <a:close/>
              </a:path>
              <a:path fill="darkenLess" w="21600" h="23098">
                <a:moveTo>
                  <a:pt x="21600" y="23098"/>
                </a:moveTo>
                <a:lnTo>
                  <a:pt x="0" y="23098"/>
                </a:lnTo>
                <a:lnTo>
                  <a:pt x="1400" y="21698"/>
                </a:lnTo>
                <a:lnTo>
                  <a:pt x="20200" y="21698"/>
                </a:lnTo>
                <a:close/>
              </a:path>
              <a:path fill="lighten" w="21600" h="23098">
                <a:moveTo>
                  <a:pt x="0" y="23098"/>
                </a:moveTo>
                <a:lnTo>
                  <a:pt x="0" y="0"/>
                </a:lnTo>
                <a:lnTo>
                  <a:pt x="1400" y="1400"/>
                </a:lnTo>
                <a:lnTo>
                  <a:pt x="1400" y="21698"/>
                </a:lnTo>
                <a:close/>
              </a:path>
              <a:path fill="darken" w="21600" h="23098">
                <a:moveTo>
                  <a:pt x="3794" y="11549"/>
                </a:moveTo>
                <a:lnTo>
                  <a:pt x="17806" y="4542"/>
                </a:lnTo>
                <a:lnTo>
                  <a:pt x="17806" y="18555"/>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971640" y="620640"/>
            <a:ext cx="7345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①</a:t>
            </a:r>
            <a:r>
              <a:rPr b="1" lang="zh-CN" sz="2400" spc="-1" strike="noStrike">
                <a:solidFill>
                  <a:srgbClr val="d60093"/>
                </a:solidFill>
                <a:latin typeface="Arial"/>
              </a:rPr>
              <a:t>课程性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义务教育阶段的数学课程是培养公民素质的基础课程，具有基础性、普及性和发展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②</a:t>
            </a:r>
            <a:r>
              <a:rPr b="1" lang="zh-CN" sz="2400" spc="-1" strike="noStrike">
                <a:solidFill>
                  <a:srgbClr val="d60093"/>
                </a:solidFill>
                <a:latin typeface="Arial"/>
              </a:rPr>
              <a:t>课程基本理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Arial"/>
              </a:rPr>
              <a:t>③</a:t>
            </a:r>
            <a:r>
              <a:rPr b="1" lang="zh-CN" sz="2400" spc="-1" strike="noStrike">
                <a:solidFill>
                  <a:srgbClr val="d60093"/>
                </a:solidFill>
                <a:latin typeface="Arial"/>
              </a:rPr>
              <a:t>数学意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9999"/>
                </a:solidFill>
                <a:latin typeface="Arial"/>
              </a:rPr>
              <a:t>实验稿●</a:t>
            </a:r>
            <a:r>
              <a:rPr b="1" lang="zh-CN" sz="2400" spc="-1" strike="noStrike">
                <a:solidFill>
                  <a:srgbClr val="000000"/>
                </a:solidFill>
                <a:latin typeface="Arial"/>
              </a:rPr>
              <a:t> 数学是人们对客观世界定性把握和定量刻画、逐渐抽象概括、形成方法和理论，并进行广泛应用的过程。数学作为一种普遍适用的技术，有助于人们收集、整理、描述信息，建立数学模型，进而解决问题，直接为社会创造价值。</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9999"/>
                </a:solidFill>
                <a:latin typeface="Arial"/>
              </a:rPr>
              <a:t>2011</a:t>
            </a:r>
            <a:r>
              <a:rPr b="1" lang="zh-CN" sz="2400" spc="-1" strike="noStrike">
                <a:solidFill>
                  <a:srgbClr val="009999"/>
                </a:solidFill>
                <a:latin typeface="Arial"/>
              </a:rPr>
              <a:t>版●</a:t>
            </a:r>
            <a:r>
              <a:rPr b="1" lang="zh-CN" sz="2400" spc="-1" strike="noStrike">
                <a:solidFill>
                  <a:srgbClr val="000000"/>
                </a:solidFill>
                <a:latin typeface="Arial"/>
              </a:rPr>
              <a:t> 数学是研究数量关系和空间形式的科学。数学作为对于客观现象抽象概括而逐渐形成的科学语言与工具。数学是人类文化的重要组成部分，数学素养是现代社会每一个公民应该具备的基本素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900000" y="836640"/>
            <a:ext cx="7488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黑体"/>
              </a:rPr>
              <a:t>第二、“基本理念”与“目标”的修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06:06:30Z</dcterms:created>
  <dc:creator>微软用户</dc:creator>
  <dc:description/>
  <cp:keywords/>
  <dc:language>en-US</dc:language>
  <cp:lastModifiedBy>VNN.R9</cp:lastModifiedBy>
  <dcterms:modified xsi:type="dcterms:W3CDTF">2014-03-05T04:23:28Z</dcterms:modified>
  <cp:revision>1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363</vt:lpwstr>
  </property>
</Properties>
</file>