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2443-5E67-4C4E-9A2E-794E75BB5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AF1F-0084-4D25-AC46-BD8EB379B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447C-012F-484A-81E2-BBF2405D5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F9A3-C7BF-4B5A-A0E7-0680D85EB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E625-C420-4314-955E-0AE7E09EE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AC3D-DD3D-4300-A0DB-AE17B87F0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1A4D-E79F-43FA-A03E-76A2A2271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A029-C6B1-496F-B8F8-5C00643F1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50B7-52DB-4614-B79D-E40F6D2A7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7DD2-DB9D-44D3-B04D-B6B0C32D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5826-9743-4F95-AFE8-08E805D6F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CF96-5F7B-434B-AE2E-6AD2E0DB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553D4-D283-436B-B285-716282A329E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284720" y="612720"/>
            <a:ext cx="4535280" cy="13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15 </a:t>
            </a:r>
            <a:r>
              <a:rPr b="1" lang="zh-CN" sz="72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晚上的“太阳”</a:t>
            </a:r>
            <a:endParaRPr b="1" lang="en-US" sz="72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2" name=""/>
          <p:cNvSpPr/>
          <p:nvPr/>
        </p:nvSpPr>
        <p:spPr>
          <a:xfrm>
            <a:off x="4211640" y="5734080"/>
            <a:ext cx="184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00000" y="1700280"/>
            <a:ext cx="712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作业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搜集有关爱迪生的故事，举行一个小小故事交流会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efefe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124000" y="2133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1141560"/>
            <a:ext cx="81374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楷体_GB2312"/>
              </a:rPr>
              <a:t>犹豫  手术  痛苦  发明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楷体_GB2312"/>
              </a:rPr>
              <a:t>焦急  呻吟  自豪  智慧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楷体_GB2312"/>
              </a:rPr>
              <a:t>请来  医生  简易  挡手      一分一秒    无可奈何         一本正经    急性阑尾炎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71640" y="1916280"/>
            <a:ext cx="734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Arial"/>
                <a:ea typeface="隶书"/>
              </a:rPr>
              <a:t>　　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隶书"/>
              </a:rPr>
              <a:t>那时还没有电灯，油灯的光线很暗，用它照明做手术很危险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187280" y="907920"/>
            <a:ext cx="7345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    </a:t>
            </a:r>
            <a:r>
              <a:rPr b="1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医生犹豫了。妈妈痛苦地呻吟着，爸爸无可奈何地搓着手，爱迪生站在一旁焦急地看着妈妈。时间一分一秒地过去了，爱迪生的手心攥出了汗水。突然</a:t>
            </a:r>
            <a:r>
              <a:rPr b="1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,</a:t>
            </a:r>
            <a:r>
              <a:rPr b="1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他眼睛一亮：“医生我有办法了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35640" y="692280"/>
            <a:ext cx="46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爱迪生拉着妈妈的手，一本正经地说：“妈妈，要是晚上也有太阳该多好哇，我要造一个晚上的‘太阳’。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35640" y="692280"/>
            <a:ext cx="460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爱迪生拉着妈妈的手，</a:t>
            </a:r>
            <a:r>
              <a:rPr b="0" lang="zh-CN" sz="4800" spc="-1" strike="noStrike">
                <a:solidFill>
                  <a:srgbClr val="ff3300"/>
                </a:solidFill>
                <a:latin typeface="Arial"/>
                <a:ea typeface="隶书"/>
              </a:rPr>
              <a:t>一本正经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地说：“妈妈，要是晚上也有太阳该多好哇，我要造一个晚上的‘太阳’。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835280" y="549360"/>
          <a:ext cx="5219640" cy="38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549360"/>
                    <a:ext cx="5219640" cy="38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4294440" y="4910040"/>
            <a:ext cx="47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后来，爱迪生真的发明了电灯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52280" y="152280"/>
            <a:ext cx="8839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爱迪生发明电灯的故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一天，爱迪生独自坐在实验室里，默默地想着实验失败的教训。桌上放着一堆从煤油灯罩上刮下来的油烟 他心不在焉地拿在手里揉搓，不知不觉就搓成了一根细线。他看见了这根细线，顿时，眼睛一亮，马上站起来，对助手们大声喊：“快！快拿棉线来！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爱迪生指着棉线说：“我们赶快来试试这个。”他们把棉线烤成一根炭丝。碳丝很脆，稍微一碰就断了。断了再烧！就这样，爱迪生和助手们一直干到第三天，才烧出了一条完整的细炭丝。这是多么惊人的毅力啊！但是，要把这又细、又脆、又易碎的炭丝，送到玻璃工厂那里去装进灯泡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52280" y="0"/>
            <a:ext cx="883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该多不容易啊！走路必须非常轻。爱迪生的助手捧着炭丝，小心翼翼地在前边走，爱迪生像保护珍宝似地紧跟在后面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唉！真倒霉！偏偏这么巧！刚走到玻璃工厂门前，忽然，这根炭丝断了！三天的工夫全白费了！不能泄气！从头来！当天傍晚，他们又烧出第二根炭丝，不巧，又让一个工匠的锤子掉在上面，打碎了。 他们又继续试验。半夜，终于烧成了第三根炭丝。这一次，他们成功了！在玻璃工的帮助下，炭丝顺利地装进灯泡里去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灯亮啦！爱迪生和他的助手们高兴得又蹦又跳，又唱又笑，这明亮的灯光，凝聚着他们多少血汗啊！然而，遗憾的是，这第一盏电灯只亮了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小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8T09:46:46Z</dcterms:created>
  <dc:creator>郏美芬</dc:creator>
  <dc:description/>
  <dc:language>en-US</dc:language>
  <cp:lastModifiedBy>User</cp:lastModifiedBy>
  <dcterms:modified xsi:type="dcterms:W3CDTF">2012-04-17T13:47:54Z</dcterms:modified>
  <cp:revision>50</cp:revision>
  <dc:subject/>
  <dc:title>幻灯片 1</dc:title>
</cp:coreProperties>
</file>