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CC8-ADBC-412A-B866-146998A3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701-127D-42F0-8A2A-40037E25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DCB-778C-49F9-AA30-B47D491C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FF1-591F-4963-8441-5597443D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E5A-958C-40C6-95FC-A671C03D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8C4-C075-431C-A04A-F31AC660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9C6-D599-4C68-A5A6-2F45695A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75E-F4CE-4C76-A1EC-63512ECC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EE6-D6F8-415E-B644-A432B962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900-8A3E-4BFD-A546-369321CE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492-5423-41C0-8315-1FB31187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96A-B404-43A3-9475-46BB4B8A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0AF0-E2A6-40F9-8358-179DF4F9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7"/>
          <p:cNvGrpSpPr/>
          <p:nvPr/>
        </p:nvGrpSpPr>
        <p:grpSpPr>
          <a:xfrm>
            <a:off x="-171360" y="3579840"/>
            <a:ext cx="9720000" cy="1585080"/>
            <a:chOff x="-171360" y="3579840"/>
            <a:chExt cx="972000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171360" y="3579840"/>
              <a:ext cx="972000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171000" y="4733280"/>
              <a:ext cx="972000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43"/>
          <p:cNvGrpSpPr/>
          <p:nvPr/>
        </p:nvGrpSpPr>
        <p:grpSpPr>
          <a:xfrm>
            <a:off x="-100080" y="1781280"/>
            <a:ext cx="9720360" cy="2815920"/>
            <a:chOff x="-100080" y="1781280"/>
            <a:chExt cx="9720360" cy="2815920"/>
          </a:xfrm>
        </p:grpSpPr>
        <p:sp>
          <p:nvSpPr>
            <p:cNvPr id="45" name="Rectangle 41"/>
            <p:cNvSpPr/>
            <p:nvPr/>
          </p:nvSpPr>
          <p:spPr>
            <a:xfrm>
              <a:off x="-100080" y="178128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99720" y="349092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8" descr="1.png"/>
          <p:cNvPicPr/>
          <p:nvPr/>
        </p:nvPicPr>
        <p:blipFill>
          <a:blip r:embed="rId2"/>
          <a:stretch/>
        </p:blipFill>
        <p:spPr>
          <a:xfrm>
            <a:off x="152280" y="508176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1.png"/>
          <p:cNvPicPr/>
          <p:nvPr/>
        </p:nvPicPr>
        <p:blipFill>
          <a:blip r:embed="rId3"/>
          <a:stretch/>
        </p:blipFill>
        <p:spPr>
          <a:xfrm>
            <a:off x="193680" y="558180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0" descr="图片2.png"/>
          <p:cNvPicPr/>
          <p:nvPr/>
        </p:nvPicPr>
        <p:blipFill>
          <a:blip r:embed="rId4"/>
          <a:stretch/>
        </p:blipFill>
        <p:spPr>
          <a:xfrm>
            <a:off x="7581960" y="9360"/>
            <a:ext cx="2428920" cy="242892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9"/>
          <p:cNvGrpSpPr/>
          <p:nvPr/>
        </p:nvGrpSpPr>
        <p:grpSpPr>
          <a:xfrm>
            <a:off x="152280" y="196920"/>
            <a:ext cx="3583080" cy="936720"/>
            <a:chOff x="152280" y="196920"/>
            <a:chExt cx="3583080" cy="936720"/>
          </a:xfrm>
        </p:grpSpPr>
        <p:pic>
          <p:nvPicPr>
            <p:cNvPr id="51" name="Picture 20" descr="常州市武进区城东小学"/>
            <p:cNvPicPr/>
            <p:nvPr/>
          </p:nvPicPr>
          <p:blipFill>
            <a:blip r:embed="rId5"/>
            <a:stretch/>
          </p:blipFill>
          <p:spPr>
            <a:xfrm>
              <a:off x="1052280" y="601560"/>
              <a:ext cx="268308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1" descr="图片8"/>
            <p:cNvPicPr/>
            <p:nvPr/>
          </p:nvPicPr>
          <p:blipFill>
            <a:blip r:embed="rId6"/>
            <a:stretch/>
          </p:blipFill>
          <p:spPr>
            <a:xfrm>
              <a:off x="152280" y="196920"/>
              <a:ext cx="946080" cy="9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矩形 79"/>
          <p:cNvSpPr/>
          <p:nvPr/>
        </p:nvSpPr>
        <p:spPr>
          <a:xfrm flipV="1">
            <a:off x="-8991720" y="26784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组合 2296" descr=""/>
          <p:cNvPicPr/>
          <p:nvPr/>
        </p:nvPicPr>
        <p:blipFill>
          <a:blip r:embed="rId7"/>
          <a:stretch/>
        </p:blipFill>
        <p:spPr>
          <a:xfrm>
            <a:off x="-1036800" y="2955960"/>
            <a:ext cx="8169480" cy="313992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2258"/>
          <p:cNvGrpSpPr/>
          <p:nvPr/>
        </p:nvGrpSpPr>
        <p:grpSpPr>
          <a:xfrm>
            <a:off x="-1030320" y="-768240"/>
            <a:ext cx="6269400" cy="3525840"/>
            <a:chOff x="-1030320" y="-768240"/>
            <a:chExt cx="6269400" cy="3525840"/>
          </a:xfrm>
        </p:grpSpPr>
        <p:sp>
          <p:nvSpPr>
            <p:cNvPr id="56" name="Freeform 1251"/>
            <p:cNvSpPr/>
            <p:nvPr/>
          </p:nvSpPr>
          <p:spPr>
            <a:xfrm>
              <a:off x="-872280" y="-768240"/>
              <a:ext cx="6111360" cy="3525840"/>
            </a:xfrm>
            <a:prstGeom prst="pi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56"/>
            <p:cNvSpPr/>
            <p:nvPr/>
          </p:nvSpPr>
          <p:spPr>
            <a:xfrm>
              <a:off x="-829080" y="-768240"/>
              <a:ext cx="4368600" cy="2813040"/>
            </a:xfrm>
            <a:prstGeom prst="pi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261"/>
            <p:cNvSpPr/>
            <p:nvPr/>
          </p:nvSpPr>
          <p:spPr>
            <a:xfrm>
              <a:off x="-991080" y="-768240"/>
              <a:ext cx="6224040" cy="3237840"/>
            </a:xfrm>
            <a:prstGeom prst="pie">
              <a:avLst/>
            </a:prstGeom>
            <a:solidFill>
              <a:srgbClr val="ffffff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66"/>
            <p:cNvSpPr/>
            <p:nvPr/>
          </p:nvSpPr>
          <p:spPr>
            <a:xfrm>
              <a:off x="-1030320" y="1827720"/>
              <a:ext cx="4545720" cy="890280"/>
            </a:xfrm>
            <a:prstGeom prst="pie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71"/>
            <p:cNvSpPr/>
            <p:nvPr/>
          </p:nvSpPr>
          <p:spPr>
            <a:xfrm>
              <a:off x="-159840" y="1860120"/>
              <a:ext cx="1821960" cy="59580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258"/>
          <p:cNvGrpSpPr/>
          <p:nvPr/>
        </p:nvGrpSpPr>
        <p:grpSpPr>
          <a:xfrm>
            <a:off x="3130560" y="2757600"/>
            <a:ext cx="4983120" cy="3332160"/>
            <a:chOff x="3130560" y="2757600"/>
            <a:chExt cx="4983120" cy="3332160"/>
          </a:xfrm>
        </p:grpSpPr>
        <p:sp>
          <p:nvSpPr>
            <p:cNvPr id="62" name="Freeform 1251"/>
            <p:cNvSpPr/>
            <p:nvPr/>
          </p:nvSpPr>
          <p:spPr>
            <a:xfrm rot="10800000">
              <a:off x="3130560" y="2757600"/>
              <a:ext cx="4857840" cy="3332160"/>
            </a:xfrm>
            <a:prstGeom prst="pi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56"/>
            <p:cNvSpPr/>
            <p:nvPr/>
          </p:nvSpPr>
          <p:spPr>
            <a:xfrm rot="10800000">
              <a:off x="4481280" y="3431520"/>
              <a:ext cx="3472560" cy="2658240"/>
            </a:xfrm>
            <a:prstGeom prst="pi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61"/>
            <p:cNvSpPr/>
            <p:nvPr/>
          </p:nvSpPr>
          <p:spPr>
            <a:xfrm rot="10800000">
              <a:off x="3135240" y="3029760"/>
              <a:ext cx="4947480" cy="3060000"/>
            </a:xfrm>
            <a:prstGeom prst="pie">
              <a:avLst/>
            </a:prstGeom>
            <a:solidFill>
              <a:srgbClr val="ffffff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266"/>
            <p:cNvSpPr/>
            <p:nvPr/>
          </p:nvSpPr>
          <p:spPr>
            <a:xfrm rot="10800000">
              <a:off x="4500360" y="2795400"/>
              <a:ext cx="3613320" cy="841320"/>
            </a:xfrm>
            <a:prstGeom prst="pie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71"/>
            <p:cNvSpPr/>
            <p:nvPr/>
          </p:nvSpPr>
          <p:spPr>
            <a:xfrm rot="10800000">
              <a:off x="5973840" y="3042720"/>
              <a:ext cx="1448280" cy="56304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组合 2296" descr=""/>
          <p:cNvPicPr/>
          <p:nvPr/>
        </p:nvPicPr>
        <p:blipFill>
          <a:blip r:embed="rId8"/>
          <a:stretch/>
        </p:blipFill>
        <p:spPr>
          <a:xfrm>
            <a:off x="-1066680" y="3200400"/>
            <a:ext cx="8169120" cy="3144960"/>
          </a:xfrm>
          <a:prstGeom prst="rect">
            <a:avLst/>
          </a:prstGeom>
          <a:ln w="0">
            <a:noFill/>
          </a:ln>
        </p:spPr>
      </p:pic>
      <p:sp>
        <p:nvSpPr>
          <p:cNvPr id="68" name="Freeform 1276"/>
          <p:cNvSpPr/>
          <p:nvPr/>
        </p:nvSpPr>
        <p:spPr>
          <a:xfrm>
            <a:off x="438120" y="-2025720"/>
            <a:ext cx="2070000" cy="15447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281"/>
          <p:cNvSpPr/>
          <p:nvPr/>
        </p:nvSpPr>
        <p:spPr>
          <a:xfrm>
            <a:off x="1233360" y="-76500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281"/>
          <p:cNvSpPr/>
          <p:nvPr/>
        </p:nvSpPr>
        <p:spPr>
          <a:xfrm>
            <a:off x="1233360" y="-76500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281"/>
          <p:cNvSpPr/>
          <p:nvPr/>
        </p:nvSpPr>
        <p:spPr>
          <a:xfrm>
            <a:off x="1233360" y="-76500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281"/>
          <p:cNvSpPr/>
          <p:nvPr/>
        </p:nvSpPr>
        <p:spPr>
          <a:xfrm>
            <a:off x="1233360" y="-8110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281"/>
          <p:cNvSpPr/>
          <p:nvPr/>
        </p:nvSpPr>
        <p:spPr>
          <a:xfrm>
            <a:off x="1233360" y="-8110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81"/>
          <p:cNvSpPr/>
          <p:nvPr/>
        </p:nvSpPr>
        <p:spPr>
          <a:xfrm>
            <a:off x="1233360" y="-8110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281"/>
          <p:cNvSpPr/>
          <p:nvPr/>
        </p:nvSpPr>
        <p:spPr>
          <a:xfrm>
            <a:off x="1233360" y="-8110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281"/>
          <p:cNvSpPr/>
          <p:nvPr/>
        </p:nvSpPr>
        <p:spPr>
          <a:xfrm>
            <a:off x="1233360" y="-8110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9"/>
          <p:cNvSpPr/>
          <p:nvPr/>
        </p:nvSpPr>
        <p:spPr>
          <a:xfrm flipV="1">
            <a:off x="9220320" y="655308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9"/>
          <p:cNvSpPr/>
          <p:nvPr/>
        </p:nvSpPr>
        <p:spPr>
          <a:xfrm>
            <a:off x="-152280" y="251460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提高小学生科学素养的实践研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0"/>
          <p:cNvSpPr/>
          <p:nvPr/>
        </p:nvSpPr>
        <p:spPr>
          <a:xfrm>
            <a:off x="7621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隶书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1"/>
          <p:cNvSpPr/>
          <p:nvPr/>
        </p:nvSpPr>
        <p:spPr>
          <a:xfrm>
            <a:off x="2362320" y="3657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开题报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457200" y="1219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常州市武进区教育教学研究课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12" dur="6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4" dur="6000" fill="hold"/>
                                        <p:tgtEl>
                                          <p:spTgt spid="7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6" dur="6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21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 repeatCount="indefinite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3" dur="5000" fill="hold"/>
                                        <p:tgtEl>
                                          <p:spTgt spid="7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 repeatCount="indefinite">
                                  <p:stCondLst>
                                    <p:cond delay="2200"/>
                                  </p:stCondLst>
                                  <p:childTnLst>
                                    <p:animRot by="-5400000">
                                      <p:cBhvr>
                                        <p:cTn id="2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 repeatCount="indefinite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1.11111E-006 4.77336E-006 C 0.02535 0.04949 0.0507 0.09921 0.05486 0.1642 C 0.05903 0.22895 0.03559 0.30827 0.02465 0.38876 C 0.01372 0.46924 -0.00521 0.57146 -0.01094 0.64685 C -0.01667 0.72224 -0.01007 0.80943 -0.00955 0.84042 E">
                                      <p:cBhvr>
                                        <p:cTn id="30" dur="5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 repeatCount="indefinite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32" dur="5500" fill="hold"/>
                                        <p:tgtEl>
                                          <p:spTgt spid="72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 repeatCount="indefinite">
                                  <p:stCondLst>
                                    <p:cond delay="2600"/>
                                  </p:stCondLst>
                                  <p:childTnLst>
                                    <p:animRot by="-5400000">
                                      <p:cBhvr>
                                        <p:cTn id="34" dur="5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2.77556E-017 3.64162E-006 C -0.00885 0.06104 -0.01771 0.12185 -0.01771 0.18381 C -0.01771 0.24555 -0.00851 0.30566 2.77556E-017 0.37202 C 0.00851 0.43792 0.0099 0.50797 0.03299 0.58011 C 0.05608 0.65225 0.11892 0.74589 0.13837 0.8037 C 0.15781 0.8615 0.15 0.90728 0.14931 0.92624 E">
                                      <p:cBhvr>
                                        <p:cTn id="39" dur="5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 repeatCount="indefinite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41" dur="5500" fill="hold"/>
                                        <p:tgtEl>
                                          <p:spTgt spid="7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 repeatCount="indefinite">
                                  <p:stCondLst>
                                    <p:cond delay="3600"/>
                                  </p:stCondLst>
                                  <p:childTnLst>
                                    <p:animRot by="-5400000">
                                      <p:cBhvr>
                                        <p:cTn id="43" dur="5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2.77556E-017 3.64162E-006 C 0.01806 0.07676 0.03611 0.15352 0.03698 0.26774 C 0.03785 0.38196 0.02448 0.57294 0.00538 0.68555 C -0.01372 0.79815 -0.06215 0.89711 -0.07812 0.94312 C -0.0941 0.98913 -0.09149 0.95745 -0.09045 0.96208 E">
                                      <p:cBhvr>
                                        <p:cTn id="48" dur="4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6" repeatCount="indefinite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50" dur="4500" fill="hold"/>
                                        <p:tgtEl>
                                          <p:spTgt spid="7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 repeatCount="indefinite">
                                  <p:stCondLst>
                                    <p:cond delay="4600"/>
                                  </p:stCondLst>
                                  <p:childTnLst>
                                    <p:animRot by="-10800000">
                                      <p:cBhvr>
                                        <p:cTn id="52" dur="4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 repeatCount="indefinite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2.77556E-017 3.64162E-006 C 0.00139 0.07491 0.00278 0.14959 2.77556E-017 0.20601 C -0.00278 0.26219 -0.00712 0.28971 -0.01649 0.33641 C -0.02587 0.38335 -0.05139 0.42612 -0.05625 0.48716 C -0.06111 0.54867 -0.05747 0.63977 -0.04531 0.70404 C -0.03316 0.76855 0.00417 0.84763 0.01632 0.87375 E">
                                      <p:cBhvr>
                                        <p:cTn id="57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 repeatCount="indefinite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59" dur="5000" fill="hold"/>
                                        <p:tgtEl>
                                          <p:spTgt spid="75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 repeatCount="indefinite">
                                  <p:stCondLst>
                                    <p:cond delay="5400"/>
                                  </p:stCondLst>
                                  <p:childTnLst>
                                    <p:animRot by="-10800000">
                                      <p:cBhvr>
                                        <p:cTn id="6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2.77556E-017 3.64162E-006 C 0.02413 0.14173 0.04826 0.28393 0.05208 0.38497 C 0.0559 0.48555 0.02708 0.54774 0.02326 0.60346 C 0.01944 0.65942 0.01927 0.66659 0.02882 0.72046 C 0.03837 0.77387 0.07188 0.89156 0.08073 0.92624 E">
                                      <p:cBhvr>
                                        <p:cTn id="66" dur="7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6" repeatCount="indefinite">
                                  <p:stCondLst>
                                    <p:cond delay="6200"/>
                                  </p:stCondLst>
                                  <p:childTnLst>
                                    <p:animScale>
                                      <p:cBhvr>
                                        <p:cTn id="68" dur="7000" fill="hold"/>
                                        <p:tgtEl>
                                          <p:spTgt spid="7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 repeatCount="indefinite">
                                  <p:stCondLst>
                                    <p:cond delay="6200"/>
                                  </p:stCondLst>
                                  <p:childTnLst>
                                    <p:animRot by="5400000">
                                      <p:cBhvr>
                                        <p:cTn id="70" dur="7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72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2" presetSubtype="4">
                                  <p:stCondLst>
                                    <p:cond delay="5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2" presetSubtype="4">
                                  <p:stCondLst>
                                    <p:cond delay="5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2" presetSubtype="1">
                                  <p:stCondLst>
                                    <p:cond delay="8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课堂，是在“绿色教育”理念指导下催生的。美国学者里德利等人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主课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书中也积极提倡绿色的课堂环境，其核心是“以人为本，以发展为本”，强调的是一种动态、和谐、可持续发展、以及充满活力的高效“绿色生态”课堂。在我国，对“绿色课堂”的提法很普遍，当中也不乏理解成环境教育的课堂，然而更多的是与“绿色教育”相对应的课堂，也就是可持续发展的课堂。叶澜教授说“充满生命活力”的课堂，是绿色课堂；朱永新教授“新教育实验”倡导的“理想课堂”，是绿色课堂；肖川先生提出的能“唤醒沉睡的潜能，激活封存的记忆，开启幽闭的心智，放飞囚禁的情愫”的课堂，也是绿色课堂。一线老师提出的绿色课堂也是各有不同。总的来说，能使学生健康成长的课堂、符合教育规律的课堂都应该是绿色课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校实际和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近年来，我们城东小学办学条件基本实现现代化，各类设施设备的装备达到或超过省《学校教育技术装备标准》。校内有国土资源部级科普教育基地，多个科技活动专用教室、车模活动基地。在教育行政部门组织的各级各类科技竞赛活动中均有获奖。多人先后被评为“江苏省优秀科技辅导员”、“江苏省优秀青少年科技教育校长”、“江苏省青少年科技创新大赛十佳优秀科技辅导员”。在提升学生科技素养的同时，也培养了一批热心于科技教育的骨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鉴于此，我校提出建设科技教育特色学校的办学目标，制定了《提高小学生科学素养的实践研究》这一课题，打造学校特色，提高办学水平，探讨小学科普教育的途径、方法、内容等，形成有效的科普教育特色的管理评价体系、激励制度以及运行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151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21"/>
          <p:cNvGrpSpPr/>
          <p:nvPr/>
        </p:nvGrpSpPr>
        <p:grpSpPr>
          <a:xfrm>
            <a:off x="1500120" y="2214720"/>
            <a:ext cx="8715240" cy="1571040"/>
            <a:chOff x="1500120" y="2214720"/>
            <a:chExt cx="8715240" cy="1571040"/>
          </a:xfrm>
        </p:grpSpPr>
        <p:pic>
          <p:nvPicPr>
            <p:cNvPr id="155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500120" y="2214720"/>
              <a:ext cx="871524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23"/>
            <p:cNvSpPr/>
            <p:nvPr/>
          </p:nvSpPr>
          <p:spPr>
            <a:xfrm>
              <a:off x="2780280" y="2415600"/>
              <a:ext cx="559260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158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161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9"/>
          <p:cNvSpPr/>
          <p:nvPr/>
        </p:nvSpPr>
        <p:spPr>
          <a:xfrm>
            <a:off x="2057400" y="2514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四、理论依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247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理论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科学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级）课程标准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皮亚杰“认知发展阶段论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班斯基的“最优化”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本课题的创新之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课题立足于学校的科普教育基地特色，在已经取得较大实践成果和理论成果的基础上，将科技活动上升到学校的特色研究，是科技活动相关理论实践研究的新的突破。并且本课题侧重于以学生为中心，分阶段实施，提高学生的科学素养，在研究视角方面有一定的创新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172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21"/>
          <p:cNvGrpSpPr/>
          <p:nvPr/>
        </p:nvGrpSpPr>
        <p:grpSpPr>
          <a:xfrm>
            <a:off x="1500120" y="2214720"/>
            <a:ext cx="8715240" cy="1571040"/>
            <a:chOff x="1500120" y="2214720"/>
            <a:chExt cx="8715240" cy="1571040"/>
          </a:xfrm>
        </p:grpSpPr>
        <p:pic>
          <p:nvPicPr>
            <p:cNvPr id="176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500120" y="2214720"/>
              <a:ext cx="871524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23"/>
            <p:cNvSpPr/>
            <p:nvPr/>
          </p:nvSpPr>
          <p:spPr>
            <a:xfrm>
              <a:off x="2780280" y="2415600"/>
              <a:ext cx="559260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179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182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9"/>
          <p:cNvSpPr/>
          <p:nvPr/>
        </p:nvSpPr>
        <p:spPr>
          <a:xfrm>
            <a:off x="2057400" y="2514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五、我们的研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276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的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对科学素养的基本涵义、基本要素，对提高学生科学素养的意义、原则等开展文献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着眼提高学生科学素养，构建科技教育目标与内容体系的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着眼提高学生科学素养，创新科技教育途径与方法的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基于提高学生科学素养，构建学生科学素养观察评价机制的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191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21"/>
          <p:cNvGrpSpPr/>
          <p:nvPr/>
        </p:nvGrpSpPr>
        <p:grpSpPr>
          <a:xfrm>
            <a:off x="1143000" y="2209680"/>
            <a:ext cx="8714880" cy="1571400"/>
            <a:chOff x="1143000" y="2209680"/>
            <a:chExt cx="8714880" cy="1571400"/>
          </a:xfrm>
        </p:grpSpPr>
        <p:pic>
          <p:nvPicPr>
            <p:cNvPr id="195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143000" y="2209680"/>
              <a:ext cx="87148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AutoShape 23"/>
            <p:cNvSpPr/>
            <p:nvPr/>
          </p:nvSpPr>
          <p:spPr>
            <a:xfrm>
              <a:off x="2422800" y="2410560"/>
              <a:ext cx="559224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198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201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9"/>
          <p:cNvSpPr/>
          <p:nvPr/>
        </p:nvSpPr>
        <p:spPr>
          <a:xfrm>
            <a:off x="1828800" y="25146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六、研究方法、步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305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文献研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行动研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调查研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经验总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个案研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阶段，准备阶段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）。学习有关理论，起草课题设计，成立研究组织，构建研究网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阶段，理论研究阶段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）。课题核心组和各学科研究小组，对学生立场和科学素养的含义、理念、价值意义等进行深入的理论研究，开展广泛的实践观察，在这基础上分工负责，研究制定提高学生科学素养的实施意见。并邀请有关专家对此实施意见进行研讨论证。同时分批分层组织相课题组成员开展专业培训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4"/>
          <p:cNvSpPr/>
          <p:nvPr/>
        </p:nvSpPr>
        <p:spPr>
          <a:xfrm>
            <a:off x="0" y="0"/>
            <a:ext cx="9296280" cy="6858000"/>
          </a:xfrm>
          <a:prstGeom prst="rect">
            <a:avLst/>
          </a:prstGeom>
          <a:solidFill>
            <a:srgbClr val="f7992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86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1"/>
          <p:cNvGrpSpPr/>
          <p:nvPr/>
        </p:nvGrpSpPr>
        <p:grpSpPr>
          <a:xfrm>
            <a:off x="1500120" y="2214720"/>
            <a:ext cx="8715240" cy="1571040"/>
            <a:chOff x="1500120" y="2214720"/>
            <a:chExt cx="8715240" cy="1571040"/>
          </a:xfrm>
        </p:grpSpPr>
        <p:pic>
          <p:nvPicPr>
            <p:cNvPr id="90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500120" y="2214720"/>
              <a:ext cx="871524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3"/>
            <p:cNvSpPr/>
            <p:nvPr/>
          </p:nvSpPr>
          <p:spPr>
            <a:xfrm>
              <a:off x="2780280" y="2415600"/>
              <a:ext cx="559260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93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96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3" descr="彻底"/>
          <p:cNvPicPr/>
          <p:nvPr/>
        </p:nvPicPr>
        <p:blipFill>
          <a:blip r:embed="rId6"/>
          <a:stretch/>
        </p:blipFill>
        <p:spPr>
          <a:xfrm>
            <a:off x="27144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4"/>
          <p:cNvSpPr/>
          <p:nvPr/>
        </p:nvSpPr>
        <p:spPr>
          <a:xfrm>
            <a:off x="1905120" y="243828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一、引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24635 -0.33797 E">
                                      <p:cBhvr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阶段，实践研究阶段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）。组织各研究组付诸行动，根据实施方案有计划有步骤地开展实验，在实践过程中继续开展理论研究，对实施过程中产生的经验进行理论分析，总结提炼，对发现的问题进行理论研究，修正原定方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阶段，总结阶段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）。对本课题研究过程、研究成果进行全面分析总结，形成完整的文本材料，既做好结题鉴定准备工作，又在本校、本区域宣传推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214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21"/>
          <p:cNvGrpSpPr/>
          <p:nvPr/>
        </p:nvGrpSpPr>
        <p:grpSpPr>
          <a:xfrm>
            <a:off x="1143000" y="2209680"/>
            <a:ext cx="8714880" cy="1571400"/>
            <a:chOff x="1143000" y="2209680"/>
            <a:chExt cx="8714880" cy="1571400"/>
          </a:xfrm>
        </p:grpSpPr>
        <p:pic>
          <p:nvPicPr>
            <p:cNvPr id="218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143000" y="2209680"/>
              <a:ext cx="87148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AutoShape 23"/>
            <p:cNvSpPr/>
            <p:nvPr/>
          </p:nvSpPr>
          <p:spPr>
            <a:xfrm>
              <a:off x="2422800" y="2410560"/>
              <a:ext cx="559224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221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224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9"/>
          <p:cNvSpPr/>
          <p:nvPr/>
        </p:nvSpPr>
        <p:spPr>
          <a:xfrm>
            <a:off x="1828800" y="25146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七、预期研究成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334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论成果：研究总报告、学生科学素养调查报告、有关教师论文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践成果：学生活动案例、学生成果集、教学活动记录、活动光盘、科学校本课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制度成果：学生评价制度、校园网站维护、组织机构岗位职责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233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21"/>
          <p:cNvGrpSpPr/>
          <p:nvPr/>
        </p:nvGrpSpPr>
        <p:grpSpPr>
          <a:xfrm>
            <a:off x="1143000" y="2209680"/>
            <a:ext cx="8714880" cy="1571400"/>
            <a:chOff x="1143000" y="2209680"/>
            <a:chExt cx="8714880" cy="1571400"/>
          </a:xfrm>
        </p:grpSpPr>
        <p:pic>
          <p:nvPicPr>
            <p:cNvPr id="237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143000" y="2209680"/>
              <a:ext cx="87148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23"/>
            <p:cNvSpPr/>
            <p:nvPr/>
          </p:nvSpPr>
          <p:spPr>
            <a:xfrm>
              <a:off x="2422800" y="2410560"/>
              <a:ext cx="559224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240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243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9"/>
          <p:cNvSpPr/>
          <p:nvPr/>
        </p:nvSpPr>
        <p:spPr>
          <a:xfrm>
            <a:off x="1828800" y="25146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八、研究措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36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研究措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立课题研究工作制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加强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将培养学生科学素养纳入学校德育工作体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依托校园网站和学校科普网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加强科学教研组团队合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81"/>
          <p:cNvSpPr/>
          <p:nvPr/>
        </p:nvSpPr>
        <p:spPr>
          <a:xfrm>
            <a:off x="990720" y="-58896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281"/>
          <p:cNvSpPr/>
          <p:nvPr/>
        </p:nvSpPr>
        <p:spPr>
          <a:xfrm>
            <a:off x="990720" y="-58896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281"/>
          <p:cNvSpPr/>
          <p:nvPr/>
        </p:nvSpPr>
        <p:spPr>
          <a:xfrm>
            <a:off x="990720" y="-58896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281"/>
          <p:cNvSpPr/>
          <p:nvPr/>
        </p:nvSpPr>
        <p:spPr>
          <a:xfrm>
            <a:off x="990720" y="-6350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81"/>
          <p:cNvSpPr/>
          <p:nvPr/>
        </p:nvSpPr>
        <p:spPr>
          <a:xfrm>
            <a:off x="990720" y="-6350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281"/>
          <p:cNvSpPr/>
          <p:nvPr/>
        </p:nvSpPr>
        <p:spPr>
          <a:xfrm>
            <a:off x="990720" y="-6350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281"/>
          <p:cNvSpPr/>
          <p:nvPr/>
        </p:nvSpPr>
        <p:spPr>
          <a:xfrm>
            <a:off x="990720" y="-6350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281"/>
          <p:cNvSpPr/>
          <p:nvPr/>
        </p:nvSpPr>
        <p:spPr>
          <a:xfrm>
            <a:off x="990720" y="-6350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81"/>
          <p:cNvSpPr/>
          <p:nvPr/>
        </p:nvSpPr>
        <p:spPr>
          <a:xfrm>
            <a:off x="6541920" y="-2588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281"/>
          <p:cNvSpPr/>
          <p:nvPr/>
        </p:nvSpPr>
        <p:spPr>
          <a:xfrm>
            <a:off x="6541920" y="-2588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281"/>
          <p:cNvSpPr/>
          <p:nvPr/>
        </p:nvSpPr>
        <p:spPr>
          <a:xfrm>
            <a:off x="6541920" y="-2588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281"/>
          <p:cNvSpPr/>
          <p:nvPr/>
        </p:nvSpPr>
        <p:spPr>
          <a:xfrm>
            <a:off x="6541920" y="-3049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281"/>
          <p:cNvSpPr/>
          <p:nvPr/>
        </p:nvSpPr>
        <p:spPr>
          <a:xfrm>
            <a:off x="6541920" y="-3049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281"/>
          <p:cNvSpPr/>
          <p:nvPr/>
        </p:nvSpPr>
        <p:spPr>
          <a:xfrm>
            <a:off x="6541920" y="-3049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81"/>
          <p:cNvSpPr/>
          <p:nvPr/>
        </p:nvSpPr>
        <p:spPr>
          <a:xfrm>
            <a:off x="6541920" y="-3049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281"/>
          <p:cNvSpPr/>
          <p:nvPr/>
        </p:nvSpPr>
        <p:spPr>
          <a:xfrm>
            <a:off x="6541920" y="-3049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8" descr="7"/>
          <p:cNvPicPr/>
          <p:nvPr/>
        </p:nvPicPr>
        <p:blipFill>
          <a:blip r:embed="rId1"/>
          <a:stretch/>
        </p:blipFill>
        <p:spPr>
          <a:xfrm>
            <a:off x="1828800" y="2514600"/>
            <a:ext cx="5537160" cy="1155600"/>
          </a:xfrm>
          <a:prstGeom prst="rect">
            <a:avLst/>
          </a:prstGeom>
          <a:ln w="0">
            <a:noFill/>
          </a:ln>
        </p:spPr>
      </p:pic>
      <p:sp>
        <p:nvSpPr>
          <p:cNvPr id="266" name="矩形 79"/>
          <p:cNvSpPr/>
          <p:nvPr/>
        </p:nvSpPr>
        <p:spPr>
          <a:xfrm flipV="1">
            <a:off x="-8991720" y="532440"/>
            <a:ext cx="9144000" cy="75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381" dur="6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3" dur="6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85" dur="6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390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6" repeatCount="indefinite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92" dur="5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 repeatCount="indefinite">
                                  <p:stCondLst>
                                    <p:cond delay="2200"/>
                                  </p:stCondLst>
                                  <p:childTnLst>
                                    <p:animRot by="-5400000">
                                      <p:cBhvr>
                                        <p:cTn id="394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0" repeatCount="indefinite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1.11111E-006 4.77336E-006 C 0.02535 0.04949 0.0507 0.09921 0.05486 0.1642 C 0.05903 0.22895 0.03559 0.30827 0.02465 0.38876 C 0.01372 0.46924 -0.00521 0.57146 -0.01094 0.64685 C -0.01667 0.72224 -0.01007 0.80943 -0.00955 0.84042 E">
                                      <p:cBhvr>
                                        <p:cTn id="399" dur="5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6" repeatCount="indefinite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01" dur="5500" fill="hold"/>
                                        <p:tgtEl>
                                          <p:spTgt spid="252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8" repeatCount="indefinite">
                                  <p:stCondLst>
                                    <p:cond delay="2600"/>
                                  </p:stCondLst>
                                  <p:childTnLst>
                                    <p:animRot by="-5400000">
                                      <p:cBhvr>
                                        <p:cTn id="403" dur="5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2.77556E-017 3.64162E-006 C -0.00885 0.06104 -0.01771 0.12185 -0.01771 0.18381 C -0.01771 0.24555 -0.00851 0.30566 2.77556E-017 0.37202 C 0.00851 0.43792 0.0099 0.50797 0.03299 0.58011 C 0.05608 0.65225 0.11892 0.74589 0.13837 0.8037 C 0.15781 0.8615 0.15 0.90728 0.14931 0.92624 E">
                                      <p:cBhvr>
                                        <p:cTn id="408" dur="55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6" repeatCount="indefinite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410" dur="5500" fill="hold"/>
                                        <p:tgtEl>
                                          <p:spTgt spid="25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8" repeatCount="indefinite">
                                  <p:stCondLst>
                                    <p:cond delay="3600"/>
                                  </p:stCondLst>
                                  <p:childTnLst>
                                    <p:animRot by="-5400000">
                                      <p:cBhvr>
                                        <p:cTn id="412" dur="5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2.77556E-017 3.64162E-006 C 0.01806 0.07676 0.03611 0.15352 0.03698 0.26774 C 0.03785 0.38196 0.02448 0.57294 0.00538 0.68555 C -0.01372 0.79815 -0.06215 0.89711 -0.07812 0.94312 C -0.0941 0.98913 -0.09149 0.95745 -0.09045 0.96208 E">
                                      <p:cBhvr>
                                        <p:cTn id="417" dur="45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6" repeatCount="indefinite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419" dur="4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8" repeatCount="indefinite">
                                  <p:stCondLst>
                                    <p:cond delay="4600"/>
                                  </p:stCondLst>
                                  <p:childTnLst>
                                    <p:animRot by="-10800000">
                                      <p:cBhvr>
                                        <p:cTn id="421" dur="4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 repeatCount="indefinite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2.77556E-017 3.64162E-006 C 0.00139 0.07491 0.00278 0.14959 2.77556E-017 0.20601 C -0.00278 0.26219 -0.00712 0.28971 -0.01649 0.33641 C -0.02587 0.38335 -0.05139 0.42612 -0.05625 0.48716 C -0.06111 0.54867 -0.05747 0.63977 -0.04531 0.70404 C -0.03316 0.76855 0.00417 0.84763 0.01632 0.87375 E">
                                      <p:cBhvr>
                                        <p:cTn id="426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 repeatCount="indefinite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428" dur="5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8" repeatCount="indefinite">
                                  <p:stCondLst>
                                    <p:cond delay="5400"/>
                                  </p:stCondLst>
                                  <p:childTnLst>
                                    <p:animRot by="-10800000">
                                      <p:cBhvr>
                                        <p:cTn id="430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 repeatCount="indefinite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2.77556E-017 3.64162E-006 C 0.02413 0.14173 0.04826 0.28393 0.05208 0.38497 C 0.0559 0.48555 0.02708 0.54774 0.02326 0.60346 C 0.01944 0.65942 0.01927 0.66659 0.02882 0.72046 C 0.03837 0.77387 0.07188 0.89156 0.08073 0.92624 E">
                                      <p:cBhvr>
                                        <p:cTn id="435" dur="7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6" repeatCount="indefinite">
                                  <p:stCondLst>
                                    <p:cond delay="6200"/>
                                  </p:stCondLst>
                                  <p:childTnLst>
                                    <p:animScale>
                                      <p:cBhvr>
                                        <p:cTn id="437" dur="7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8" repeatCount="indefinite">
                                  <p:stCondLst>
                                    <p:cond delay="6200"/>
                                  </p:stCondLst>
                                  <p:childTnLst>
                                    <p:animRot by="5400000">
                                      <p:cBhvr>
                                        <p:cTn id="439" dur="7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447" dur="6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49" dur="6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451" dur="6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456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6" repeatCount="indefinite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458" dur="5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 repeatCount="indefinite">
                                  <p:stCondLst>
                                    <p:cond delay="2200"/>
                                  </p:stCondLst>
                                  <p:childTnLst>
                                    <p:animRot by="-5400000">
                                      <p:cBhvr>
                                        <p:cTn id="46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0" repeatCount="indefinite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1.11111E-006 4.77336E-006 C 0.02535 0.04949 0.0507 0.09921 0.05486 0.1642 C 0.05903 0.22895 0.03559 0.30827 0.02465 0.38876 C 0.01372 0.46924 -0.00521 0.57146 -0.01094 0.64685 C -0.01667 0.72224 -0.01007 0.80943 -0.00955 0.84042 E">
                                      <p:cBhvr>
                                        <p:cTn id="465" dur="55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6" repeatCount="indefinite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67" dur="5500" fill="hold"/>
                                        <p:tgtEl>
                                          <p:spTgt spid="260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8" repeatCount="indefinite">
                                  <p:stCondLst>
                                    <p:cond delay="2600"/>
                                  </p:stCondLst>
                                  <p:childTnLst>
                                    <p:animRot by="-5400000">
                                      <p:cBhvr>
                                        <p:cTn id="469" dur="5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2.77556E-017 3.64162E-006 C -0.00885 0.06104 -0.01771 0.12185 -0.01771 0.18381 C -0.01771 0.24555 -0.00851 0.30566 2.77556E-017 0.37202 C 0.00851 0.43792 0.0099 0.50797 0.03299 0.58011 C 0.05608 0.65225 0.11892 0.74589 0.13837 0.8037 C 0.15781 0.8615 0.15 0.90728 0.14931 0.92624 E">
                                      <p:cBhvr>
                                        <p:cTn id="474" dur="55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6" repeatCount="indefinite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476" dur="5500" fill="hold"/>
                                        <p:tgtEl>
                                          <p:spTgt spid="26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 repeatCount="indefinite">
                                  <p:stCondLst>
                                    <p:cond delay="3600"/>
                                  </p:stCondLst>
                                  <p:childTnLst>
                                    <p:animRot by="-5400000">
                                      <p:cBhvr>
                                        <p:cTn id="478" dur="5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2.77556E-017 3.64162E-006 C 0.01806 0.07676 0.03611 0.15352 0.03698 0.26774 C 0.03785 0.38196 0.02448 0.57294 0.00538 0.68555 C -0.01372 0.79815 -0.06215 0.89711 -0.07812 0.94312 C -0.0941 0.98913 -0.09149 0.95745 -0.09045 0.96208 E">
                                      <p:cBhvr>
                                        <p:cTn id="483" dur="4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6" repeatCount="indefinite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485" dur="4500" fill="hold"/>
                                        <p:tgtEl>
                                          <p:spTgt spid="26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 repeatCount="indefinite">
                                  <p:stCondLst>
                                    <p:cond delay="4600"/>
                                  </p:stCondLst>
                                  <p:childTnLst>
                                    <p:animRot by="-10800000">
                                      <p:cBhvr>
                                        <p:cTn id="487" dur="4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path" presetID="0" repeatCount="indefinite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2.77556E-017 3.64162E-006 C 0.00139 0.07491 0.00278 0.14959 2.77556E-017 0.20601 C -0.00278 0.26219 -0.00712 0.28971 -0.01649 0.33641 C -0.02587 0.38335 -0.05139 0.42612 -0.05625 0.48716 C -0.06111 0.54867 -0.05747 0.63977 -0.04531 0.70404 C -0.03316 0.76855 0.00417 0.84763 0.01632 0.87375 E">
                                      <p:cBhvr>
                                        <p:cTn id="492" dur="5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6" repeatCount="indefinite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494" dur="5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 repeatCount="indefinite">
                                  <p:stCondLst>
                                    <p:cond delay="5400"/>
                                  </p:stCondLst>
                                  <p:childTnLst>
                                    <p:animRot by="-10800000">
                                      <p:cBhvr>
                                        <p:cTn id="496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path" presetID="0" repeatCount="indefinite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2.77556E-017 3.64162E-006 C 0.02413 0.14173 0.04826 0.28393 0.05208 0.38497 C 0.0559 0.48555 0.02708 0.54774 0.02326 0.60346 C 0.01944 0.65942 0.01927 0.66659 0.02882 0.72046 C 0.03837 0.77387 0.07188 0.89156 0.08073 0.92624 E">
                                      <p:cBhvr>
                                        <p:cTn id="501" dur="7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6" repeatCount="indefinite">
                                  <p:stCondLst>
                                    <p:cond delay="6200"/>
                                  </p:stCondLst>
                                  <p:childTnLst>
                                    <p:animScale>
                                      <p:cBhvr>
                                        <p:cTn id="503" dur="7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8" repeatCount="indefinite">
                                  <p:stCondLst>
                                    <p:cond delay="6200"/>
                                  </p:stCondLst>
                                  <p:childTnLst>
                                    <p:animRot by="5400000">
                                      <p:cBhvr>
                                        <p:cTn id="505" dur="7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1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被立项为常州市武进区教育教学研究课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105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21"/>
          <p:cNvGrpSpPr/>
          <p:nvPr/>
        </p:nvGrpSpPr>
        <p:grpSpPr>
          <a:xfrm>
            <a:off x="1500120" y="2214720"/>
            <a:ext cx="8715240" cy="1571040"/>
            <a:chOff x="1500120" y="2214720"/>
            <a:chExt cx="8715240" cy="1571040"/>
          </a:xfrm>
        </p:grpSpPr>
        <p:pic>
          <p:nvPicPr>
            <p:cNvPr id="109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500120" y="2214720"/>
              <a:ext cx="871524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AutoShape 23"/>
            <p:cNvSpPr/>
            <p:nvPr/>
          </p:nvSpPr>
          <p:spPr>
            <a:xfrm>
              <a:off x="2780280" y="2415600"/>
              <a:ext cx="559260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112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115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9"/>
          <p:cNvSpPr/>
          <p:nvPr/>
        </p:nvSpPr>
        <p:spPr>
          <a:xfrm>
            <a:off x="1981080" y="243828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二、课题界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题界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素养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国内外专家、学者对科学素养内涵的观点，联系我国教育、教学的实际情况，在文献综述的基础上归纳出科学素养四个核心要素，即：科学兴趣、科学知识、科学方法和科学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兴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对科学的好奇心和求知欲，以及由此引发的亲近科学、体验科学、热爱科学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对自然事物、自然现象和科学技术知识的理解，包括对具体的事实、概念、原理或规则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题界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方法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对认识客观事物的过程和程序的了解或把握，以及知道如何运用科学技术知识去尝试解决手头、身边的问题，会提出假设或猜想，会搜集有关的信息或证据，会进行判断、推理和决策，会同他人交往，并且能与他人共同合作、一起来解决难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精神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对科学技术具有正确的价值判断、形成负责的学习态度，既勇于探究新知又能够实事求是，既能独立思考又乐于互助合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题界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课题的提出是因为学校希望通过课题研究，争取做到：第一、通过全校性的科技普及教育，为学生搭建参观、学习、探究、实践的舞台，引领学生走近科学、走进科学，通过一系列科普活动的普及和推广，丰富学生的课余生活，提高学生的科学素养，激发学生的创新精神，锻炼学生的实践能力。；第二、让学生从小开始就在民主、科学、生动、活泼的校园环境中自主发展，为他们的终身学习、可持续发展、终身幸福打下扎实的基础。第三、培养学生科技意识，从而培养学生的科技能力和创新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128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1"/>
          <p:cNvGrpSpPr/>
          <p:nvPr/>
        </p:nvGrpSpPr>
        <p:grpSpPr>
          <a:xfrm>
            <a:off x="1500120" y="2214720"/>
            <a:ext cx="8715240" cy="1571040"/>
            <a:chOff x="1500120" y="2214720"/>
            <a:chExt cx="8715240" cy="1571040"/>
          </a:xfrm>
        </p:grpSpPr>
        <p:pic>
          <p:nvPicPr>
            <p:cNvPr id="132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500120" y="2214720"/>
              <a:ext cx="871524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AutoShape 23"/>
            <p:cNvSpPr/>
            <p:nvPr/>
          </p:nvSpPr>
          <p:spPr>
            <a:xfrm>
              <a:off x="2780280" y="2415600"/>
              <a:ext cx="559260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135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138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9"/>
          <p:cNvSpPr/>
          <p:nvPr/>
        </p:nvSpPr>
        <p:spPr>
          <a:xfrm>
            <a:off x="2057400" y="2514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研究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218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科学院院士杨叔子指出：“科学求真，人文求善，现代教育应该是科学教育与人文教育相融而成为一体的绿色教育。”科学求真，是立式之基，人文求善，是人为之本，是民族存亡之根。科学与人文同源共生，互通互动，相异互补，两者交融生绿，以造就即富有高洁的人性，特别是能爱国，又富有非凡的灵性，尤其是会创新，从而能为人民服务的青少年一代。科技与人文对人类社会与个人犹如双翼，只有双翼健劲，才能长空竞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陈祚军</cp:lastModifiedBy>
  <dcterms:modified xsi:type="dcterms:W3CDTF">2015-09-20T12:42:29Z</dcterms:modified>
  <cp:revision>7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