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7.jpeg" ContentType="image/jpeg"/>
  <Override PartName="/ppt/media/image4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62BE-3E3D-494F-A793-E76C677D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EEC3-2124-4E4C-A1B1-159A2616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DC7C-258C-44BB-8014-70EC4A196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C5A7-1F94-4D07-840B-F37F15FF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841B-EB0F-43B4-8DE2-45E8067E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3587-9481-41A2-986F-F0B13C66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FC02-F60A-4699-ACD7-98AA94B4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55E7-33A1-4573-819E-FB9119EA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79DF-41DD-4802-8E7A-BD6ACDAE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F7F5-7CC0-4CAF-A687-566BDAA4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450A-FC83-4576-9194-D67ED0CF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F864-48BD-4E94-AD29-C72ABD1A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4977-07BE-4A46-B4ED-FE625377878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8.jpeg"/><Relationship Id="rId6" Type="http://schemas.openxmlformats.org/officeDocument/2006/relationships/image" Target="../media/image17.jpeg"/><Relationship Id="rId7" Type="http://schemas.openxmlformats.org/officeDocument/2006/relationships/image" Target="../media/image16.jpeg"/><Relationship Id="rId8" Type="http://schemas.openxmlformats.org/officeDocument/2006/relationships/image" Target="../media/image19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0.jpe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p_large_VLcc_191e000757062d0d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108000" y="620640"/>
            <a:ext cx="90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it 3 Welcome to Sunshine Tow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503280" y="1773360"/>
            <a:ext cx="86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ask   My Hometow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5392800"/>
            <a:ext cx="6732720" cy="147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"/>
              </a:rPr>
              <a:t>Lihe Experimental scho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"/>
              </a:rPr>
              <a:t>Chen Yanp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4360" y="2133720"/>
            <a:ext cx="7993080" cy="916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Comic Sans MS"/>
                <a:ea typeface="仿宋"/>
              </a:rPr>
              <a:t>What should we write?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564000" y="1628640"/>
            <a:ext cx="5364000" cy="2560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617360" y="692280"/>
            <a:ext cx="40986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宋体"/>
              </a:rPr>
              <a:t>Moon Bay(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揽月湾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宋体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rcRect l="50417" t="1492" r="-795" b="49888"/>
          <a:stretch/>
        </p:blipFill>
        <p:spPr>
          <a:xfrm>
            <a:off x="250920" y="765000"/>
            <a:ext cx="2736720" cy="1970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Things to do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6070499_133008596000_2"/>
          <p:cNvPicPr/>
          <p:nvPr/>
        </p:nvPicPr>
        <p:blipFill>
          <a:blip r:embed="rId3"/>
          <a:stretch/>
        </p:blipFill>
        <p:spPr>
          <a:xfrm>
            <a:off x="179280" y="2997360"/>
            <a:ext cx="2781360" cy="1722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6391440" y="4653000"/>
            <a:ext cx="2752560" cy="1976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250920" y="5041800"/>
            <a:ext cx="2736720" cy="1816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3203640" y="4653000"/>
            <a:ext cx="2879640" cy="2205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3080" y="2276640"/>
            <a:ext cx="18417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ide bik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2160" y="2997360"/>
            <a:ext cx="1957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w a bo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2720" y="6338880"/>
            <a:ext cx="2434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mell flow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06880" y="6338880"/>
            <a:ext cx="27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ear birds 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25880" y="6338880"/>
            <a:ext cx="2414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ave a picn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35640" y="1413000"/>
            <a:ext cx="4608360" cy="2016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rcRect l="-1521" t="15256" r="0" b="0"/>
          <a:stretch/>
        </p:blipFill>
        <p:spPr>
          <a:xfrm>
            <a:off x="4390920" y="3860640"/>
            <a:ext cx="4753080" cy="2768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0" y="3844800"/>
            <a:ext cx="3635280" cy="2727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rcRect l="28586" t="1157" r="0" b="0"/>
          <a:stretch/>
        </p:blipFill>
        <p:spPr>
          <a:xfrm>
            <a:off x="0" y="1268280"/>
            <a:ext cx="3635280" cy="2184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22440" y="907920"/>
            <a:ext cx="3034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宋体"/>
              </a:rPr>
              <a:t>square(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广场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宋体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Things to 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093000"/>
            <a:ext cx="28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o some spo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268280"/>
            <a:ext cx="1873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ly ki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810560" y="6093000"/>
            <a:ext cx="1333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765000"/>
            <a:ext cx="8748720" cy="5811840"/>
            <a:chOff x="0" y="765000"/>
            <a:chExt cx="8748720" cy="5811840"/>
          </a:xfrm>
        </p:grpSpPr>
        <p:pic>
          <p:nvPicPr>
            <p:cNvPr id="158" name="Picture 2" descr="37"/>
            <p:cNvPicPr/>
            <p:nvPr/>
          </p:nvPicPr>
          <p:blipFill>
            <a:blip r:embed="rId1"/>
            <a:stretch/>
          </p:blipFill>
          <p:spPr>
            <a:xfrm>
              <a:off x="4211640" y="3501720"/>
              <a:ext cx="4537080" cy="30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>
              <a:off x="0" y="3644640"/>
              <a:ext cx="3924360" cy="279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>
              <a:off x="0" y="765000"/>
              <a:ext cx="3924360" cy="258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4284720" y="476280"/>
            <a:ext cx="4464000" cy="29322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Things to 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56360" y="6021360"/>
            <a:ext cx="2592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o fish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27640" y="765000"/>
            <a:ext cx="1942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宋体"/>
              </a:rPr>
              <a:t>far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852640"/>
            <a:ext cx="3851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row vegetab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5877000"/>
            <a:ext cx="392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ick strawber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716360" y="765000"/>
            <a:ext cx="4129200" cy="30988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2280" y="18900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ings to 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96360" y="3068640"/>
            <a:ext cx="3053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宋体"/>
              </a:rPr>
              <a:t>supermarket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3960720" cy="4103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276720" y="4289400"/>
            <a:ext cx="5688000" cy="25686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320" y="981000"/>
            <a:ext cx="4493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宋体"/>
              </a:rPr>
              <a:t>do some shopping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38160" y="6021360"/>
            <a:ext cx="3963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宋体"/>
              </a:rPr>
              <a:t>do some reading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5"/>
          <p:cNvSpPr/>
          <p:nvPr/>
        </p:nvSpPr>
        <p:spPr>
          <a:xfrm>
            <a:off x="2808360" y="214200"/>
            <a:ext cx="376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hn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’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hometow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QQ截图20130321000023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44536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684360" y="1341360"/>
            <a:ext cx="7705440" cy="2952360"/>
            <a:chOff x="684360" y="1341360"/>
            <a:chExt cx="7705440" cy="2952360"/>
          </a:xfrm>
        </p:grpSpPr>
        <p:sp>
          <p:nvSpPr>
            <p:cNvPr id="177" name="Oval 27"/>
            <p:cNvSpPr/>
            <p:nvPr/>
          </p:nvSpPr>
          <p:spPr>
            <a:xfrm>
              <a:off x="1332000" y="1341360"/>
              <a:ext cx="865080" cy="288720"/>
            </a:xfrm>
            <a:prstGeom prst="ellipse">
              <a:avLst/>
            </a:prstGeom>
            <a:noFill/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27"/>
            <p:cNvSpPr/>
            <p:nvPr/>
          </p:nvSpPr>
          <p:spPr>
            <a:xfrm>
              <a:off x="1332000" y="1341360"/>
              <a:ext cx="865080" cy="288720"/>
            </a:xfrm>
            <a:prstGeom prst="ellipse">
              <a:avLst/>
            </a:prstGeom>
            <a:noFill/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27"/>
            <p:cNvSpPr/>
            <p:nvPr/>
          </p:nvSpPr>
          <p:spPr>
            <a:xfrm>
              <a:off x="3276720" y="1341360"/>
              <a:ext cx="865080" cy="288720"/>
            </a:xfrm>
            <a:prstGeom prst="ellipse">
              <a:avLst/>
            </a:prstGeom>
            <a:noFill/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27"/>
            <p:cNvSpPr/>
            <p:nvPr/>
          </p:nvSpPr>
          <p:spPr>
            <a:xfrm>
              <a:off x="5076720" y="1341360"/>
              <a:ext cx="865440" cy="288720"/>
            </a:xfrm>
            <a:prstGeom prst="ellipse">
              <a:avLst/>
            </a:prstGeom>
            <a:noFill/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27"/>
            <p:cNvSpPr/>
            <p:nvPr/>
          </p:nvSpPr>
          <p:spPr>
            <a:xfrm>
              <a:off x="684360" y="1628640"/>
              <a:ext cx="865080" cy="288360"/>
            </a:xfrm>
            <a:prstGeom prst="ellipse">
              <a:avLst/>
            </a:prstGeom>
            <a:noFill/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27"/>
            <p:cNvSpPr/>
            <p:nvPr/>
          </p:nvSpPr>
          <p:spPr>
            <a:xfrm>
              <a:off x="7236000" y="2923920"/>
              <a:ext cx="1153800" cy="433080"/>
            </a:xfrm>
            <a:prstGeom prst="ellipse">
              <a:avLst/>
            </a:prstGeom>
            <a:noFill/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27"/>
            <p:cNvSpPr/>
            <p:nvPr/>
          </p:nvSpPr>
          <p:spPr>
            <a:xfrm>
              <a:off x="2843280" y="1915920"/>
              <a:ext cx="865080" cy="288360"/>
            </a:xfrm>
            <a:prstGeom prst="ellipse">
              <a:avLst/>
            </a:prstGeom>
            <a:noFill/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27"/>
            <p:cNvSpPr/>
            <p:nvPr/>
          </p:nvSpPr>
          <p:spPr>
            <a:xfrm>
              <a:off x="1187280" y="3573360"/>
              <a:ext cx="865440" cy="288360"/>
            </a:xfrm>
            <a:prstGeom prst="ellipse">
              <a:avLst/>
            </a:prstGeom>
            <a:noFill/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27"/>
            <p:cNvSpPr/>
            <p:nvPr/>
          </p:nvSpPr>
          <p:spPr>
            <a:xfrm>
              <a:off x="826920" y="4005000"/>
              <a:ext cx="865440" cy="288720"/>
            </a:xfrm>
            <a:prstGeom prst="ellipse">
              <a:avLst/>
            </a:prstGeom>
            <a:noFill/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27"/>
            <p:cNvSpPr/>
            <p:nvPr/>
          </p:nvSpPr>
          <p:spPr>
            <a:xfrm>
              <a:off x="1332000" y="1341360"/>
              <a:ext cx="865080" cy="288720"/>
            </a:xfrm>
            <a:prstGeom prst="ellipse">
              <a:avLst/>
            </a:prstGeom>
            <a:noFill/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27"/>
            <p:cNvSpPr/>
            <p:nvPr/>
          </p:nvSpPr>
          <p:spPr>
            <a:xfrm>
              <a:off x="3276720" y="1341360"/>
              <a:ext cx="865080" cy="288720"/>
            </a:xfrm>
            <a:prstGeom prst="ellipse">
              <a:avLst/>
            </a:prstGeom>
            <a:noFill/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7"/>
            <p:cNvSpPr/>
            <p:nvPr/>
          </p:nvSpPr>
          <p:spPr>
            <a:xfrm>
              <a:off x="5076720" y="1341360"/>
              <a:ext cx="865440" cy="288720"/>
            </a:xfrm>
            <a:prstGeom prst="ellipse">
              <a:avLst/>
            </a:prstGeom>
            <a:noFill/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27"/>
            <p:cNvSpPr/>
            <p:nvPr/>
          </p:nvSpPr>
          <p:spPr>
            <a:xfrm>
              <a:off x="1332000" y="1341360"/>
              <a:ext cx="865080" cy="288720"/>
            </a:xfrm>
            <a:prstGeom prst="ellipse">
              <a:avLst/>
            </a:prstGeom>
            <a:noFill/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27"/>
            <p:cNvSpPr/>
            <p:nvPr/>
          </p:nvSpPr>
          <p:spPr>
            <a:xfrm>
              <a:off x="3276720" y="1341360"/>
              <a:ext cx="865080" cy="288720"/>
            </a:xfrm>
            <a:prstGeom prst="ellipse">
              <a:avLst/>
            </a:prstGeom>
            <a:noFill/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7"/>
            <p:cNvSpPr/>
            <p:nvPr/>
          </p:nvSpPr>
          <p:spPr>
            <a:xfrm>
              <a:off x="5076720" y="1341360"/>
              <a:ext cx="865440" cy="288720"/>
            </a:xfrm>
            <a:prstGeom prst="ellipse">
              <a:avLst/>
            </a:prstGeom>
            <a:noFill/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27"/>
            <p:cNvSpPr/>
            <p:nvPr/>
          </p:nvSpPr>
          <p:spPr>
            <a:xfrm>
              <a:off x="1332000" y="1341360"/>
              <a:ext cx="865080" cy="288720"/>
            </a:xfrm>
            <a:prstGeom prst="ellipse">
              <a:avLst/>
            </a:prstGeom>
            <a:noFill/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27"/>
            <p:cNvSpPr/>
            <p:nvPr/>
          </p:nvSpPr>
          <p:spPr>
            <a:xfrm>
              <a:off x="3276720" y="1341360"/>
              <a:ext cx="865080" cy="288720"/>
            </a:xfrm>
            <a:prstGeom prst="ellipse">
              <a:avLst/>
            </a:prstGeom>
            <a:noFill/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11280" y="5734080"/>
            <a:ext cx="831672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hich tense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时态）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oes he use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5734080"/>
            <a:ext cx="928836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re there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proper linking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words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连接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00000" y="2924280"/>
            <a:ext cx="838440" cy="3808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1280" y="5734080"/>
            <a:ext cx="72738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re there any good sentence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39640" y="1268280"/>
            <a:ext cx="7994880" cy="3384720"/>
            <a:chOff x="539640" y="1268280"/>
            <a:chExt cx="7994880" cy="3384720"/>
          </a:xfrm>
        </p:grpSpPr>
        <p:sp>
          <p:nvSpPr>
            <p:cNvPr id="199" name=""/>
            <p:cNvSpPr/>
            <p:nvPr/>
          </p:nvSpPr>
          <p:spPr>
            <a:xfrm>
              <a:off x="2411280" y="1268280"/>
              <a:ext cx="49690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9640" y="2276280"/>
              <a:ext cx="1150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53080" y="1987560"/>
              <a:ext cx="45370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14520" y="2563920"/>
              <a:ext cx="7127640" cy="7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2880" y="2924280"/>
              <a:ext cx="7991640" cy="71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2880" y="3284640"/>
              <a:ext cx="3382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135240" y="4292640"/>
              <a:ext cx="4249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44680" y="4653000"/>
              <a:ext cx="41050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Rectangle 10"/>
          <p:cNvSpPr/>
          <p:nvPr/>
        </p:nvSpPr>
        <p:spPr>
          <a:xfrm>
            <a:off x="0" y="0"/>
            <a:ext cx="8077320" cy="45936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How to write a good script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剧本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6216480"/>
            <a:ext cx="4392720" cy="641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5392800"/>
            <a:ext cx="9144000" cy="1488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仿宋"/>
              </a:rPr>
              <a:t>★ 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  <a:ea typeface="仿宋"/>
              </a:rPr>
              <a:t>correct gramma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仿宋"/>
              </a:rPr>
              <a:t>★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仿宋"/>
              </a:rPr>
              <a:t>proper linking words(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仿宋"/>
              </a:rPr>
              <a:t>连接词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仿宋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"/>
              </a:rPr>
              <a:t>★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  <a:ea typeface="仿宋"/>
              </a:rPr>
              <a:t>good senten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7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3" descr="A-1-106"/>
          <p:cNvPicPr/>
          <p:nvPr/>
        </p:nvPicPr>
        <p:blipFill>
          <a:blip r:embed="rId1"/>
          <a:stretch/>
        </p:blipFill>
        <p:spPr>
          <a:xfrm>
            <a:off x="0" y="609480"/>
            <a:ext cx="914400" cy="89856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380880" y="1523880"/>
            <a:ext cx="194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Comic Sans MS"/>
                <a:ea typeface="宋体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Comic Sans MS"/>
                <a:ea typeface="宋体"/>
              </a:rPr>
              <a:t>  </a:t>
            </a:r>
            <a:r>
              <a:rPr b="1" lang="en-US" sz="3200" spc="-1" strike="noStrike">
                <a:solidFill>
                  <a:srgbClr val="660033"/>
                </a:solidFill>
                <a:latin typeface="Comic Sans MS"/>
                <a:ea typeface="宋体"/>
              </a:rPr>
              <a:t>(</a:t>
            </a:r>
            <a:r>
              <a:rPr b="1" lang="zh-CN" sz="3200" spc="-1" strike="noStrike">
                <a:solidFill>
                  <a:srgbClr val="660033"/>
                </a:solidFill>
                <a:latin typeface="Comic Sans MS"/>
                <a:ea typeface="宋体"/>
              </a:rPr>
              <a:t>内容</a:t>
            </a:r>
            <a:r>
              <a:rPr b="1" lang="en-US" sz="3200" spc="-1" strike="noStrike">
                <a:solidFill>
                  <a:srgbClr val="660033"/>
                </a:solidFill>
                <a:latin typeface="Comic Sans MS"/>
                <a:ea typeface="宋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2286000" y="925560"/>
            <a:ext cx="279360" cy="1969920"/>
          </a:xfrm>
          <a:custGeom>
            <a:avLst/>
            <a:gdLst>
              <a:gd name="textAreaLeft" fmla="*/ 178560 w 279360"/>
              <a:gd name="textAreaRight" fmla="*/ 279720 w 279360"/>
              <a:gd name="textAreaTop" fmla="*/ 51120 h 1969920"/>
              <a:gd name="textAreaBottom" fmla="*/ 1918800 h 196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2757600" y="981000"/>
            <a:ext cx="6386400" cy="20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hometown, house/flat…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people, traffic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interesting places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things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feeling, ho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304920" y="3535200"/>
            <a:ext cx="23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Comic Sans MS"/>
                <a:ea typeface="宋体"/>
              </a:rPr>
              <a:t>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2514600" y="327816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743200" y="3124080"/>
            <a:ext cx="5943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correct gramm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Proper linking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 words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连接词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good sente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2438280" y="4572000"/>
            <a:ext cx="57819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correct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punctuation(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标点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good handwriting  (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书写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several paragraphs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（段落）</a:t>
            </a:r>
            <a:r>
              <a:rPr b="1" lang="zh-CN" sz="2400" spc="-1" strike="noStrike">
                <a:solidFill>
                  <a:srgbClr val="333399"/>
                </a:solidFill>
                <a:latin typeface="Comic Sans MS"/>
                <a:ea typeface="宋体"/>
              </a:rPr>
              <a:t>	</a:t>
            </a:r>
            <a:r>
              <a:rPr b="1" lang="zh-CN" sz="2400" spc="-1" strike="noStrike">
                <a:solidFill>
                  <a:srgbClr val="333399"/>
                </a:solidFill>
                <a:latin typeface="Comic Sans MS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Comic Sans MS"/>
                <a:ea typeface="宋体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1"/>
          <p:cNvSpPr/>
          <p:nvPr/>
        </p:nvSpPr>
        <p:spPr>
          <a:xfrm>
            <a:off x="2286000" y="4800600"/>
            <a:ext cx="152280" cy="1103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8440 h 1103400"/>
              <a:gd name="textAreaBottom" fmla="*/ 1074960 h 1103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685800" y="5059440"/>
            <a:ext cx="196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Comic Sans MS"/>
                <a:ea typeface="宋体"/>
              </a:rPr>
              <a:t>Oth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762120" y="262080"/>
            <a:ext cx="8076960" cy="45936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How to write a good script(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剧本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)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160" y="0"/>
            <a:ext cx="332928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ask4: Wri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692280"/>
            <a:ext cx="9144000" cy="3115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请你根据以下提示，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y hometow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题，写一篇短文，介绍你的家乡礼河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点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介绍家乡的环境、交通、有趣的地方及活动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介绍你家的居住情况、周边环境以及有趣的活动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谈谈你的感受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0" y="836640"/>
            <a:ext cx="3887280" cy="3011400"/>
            <a:chOff x="0" y="836640"/>
            <a:chExt cx="3887280" cy="3011400"/>
          </a:xfrm>
        </p:grpSpPr>
        <p:pic>
          <p:nvPicPr>
            <p:cNvPr id="225" name="" descr=""/>
            <p:cNvPicPr/>
            <p:nvPr/>
          </p:nvPicPr>
          <p:blipFill>
            <a:blip r:embed="rId1"/>
            <a:stretch/>
          </p:blipFill>
          <p:spPr>
            <a:xfrm>
              <a:off x="1944360" y="2349360"/>
              <a:ext cx="1942920" cy="149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2"/>
            <a:stretch/>
          </p:blipFill>
          <p:spPr>
            <a:xfrm>
              <a:off x="0" y="2276280"/>
              <a:ext cx="1871280" cy="15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3"/>
            <a:srcRect l="50417" t="1492" r="-795" b="49888"/>
            <a:stretch/>
          </p:blipFill>
          <p:spPr>
            <a:xfrm>
              <a:off x="0" y="836640"/>
              <a:ext cx="1873080" cy="14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10" descr="6070499_133008596000_2"/>
            <p:cNvPicPr/>
            <p:nvPr/>
          </p:nvPicPr>
          <p:blipFill>
            <a:blip r:embed="rId4"/>
            <a:stretch/>
          </p:blipFill>
          <p:spPr>
            <a:xfrm>
              <a:off x="1873080" y="836640"/>
              <a:ext cx="1944360" cy="14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"/>
          <p:cNvSpPr/>
          <p:nvPr/>
        </p:nvSpPr>
        <p:spPr>
          <a:xfrm>
            <a:off x="0" y="189000"/>
            <a:ext cx="356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仿宋"/>
              </a:rPr>
              <a:t>Moon Bay(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仿宋"/>
              </a:rPr>
              <a:t>揽月湾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仿宋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5"/>
          <a:srcRect l="28586" t="1157" r="0" b="0"/>
          <a:stretch/>
        </p:blipFill>
        <p:spPr>
          <a:xfrm>
            <a:off x="4643280" y="333360"/>
            <a:ext cx="2160720" cy="1440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6"/>
          <a:stretch/>
        </p:blipFill>
        <p:spPr>
          <a:xfrm>
            <a:off x="4643280" y="2133720"/>
            <a:ext cx="2160720" cy="16207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7"/>
          <a:srcRect l="-1521" t="15256" r="0" b="0"/>
          <a:stretch/>
        </p:blipFill>
        <p:spPr>
          <a:xfrm>
            <a:off x="6877080" y="692280"/>
            <a:ext cx="2266920" cy="3024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725800" y="98280"/>
            <a:ext cx="2181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仿宋"/>
              </a:rPr>
              <a:t>square(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仿宋"/>
              </a:rPr>
              <a:t>广场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仿宋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37"/>
          <p:cNvPicPr/>
          <p:nvPr/>
        </p:nvPicPr>
        <p:blipFill>
          <a:blip r:embed="rId8"/>
          <a:stretch/>
        </p:blipFill>
        <p:spPr>
          <a:xfrm>
            <a:off x="1908000" y="4365720"/>
            <a:ext cx="2159280" cy="1609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9"/>
          <a:stretch/>
        </p:blipFill>
        <p:spPr>
          <a:xfrm>
            <a:off x="4643280" y="4292640"/>
            <a:ext cx="2232360" cy="1655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0"/>
          <a:stretch/>
        </p:blipFill>
        <p:spPr>
          <a:xfrm>
            <a:off x="6804000" y="4292640"/>
            <a:ext cx="2124000" cy="1625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366880" y="6021360"/>
            <a:ext cx="2414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宋体"/>
              </a:rPr>
              <a:t>supermarke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16000" y="6093000"/>
            <a:ext cx="1943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宋体"/>
              </a:rPr>
              <a:t>fa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1"/>
          <a:stretch/>
        </p:blipFill>
        <p:spPr>
          <a:xfrm>
            <a:off x="0" y="4365720"/>
            <a:ext cx="2050920" cy="1601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2"/>
          <a:stretch/>
        </p:blipFill>
        <p:spPr>
          <a:xfrm>
            <a:off x="8101080" y="0"/>
            <a:ext cx="7189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452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5" dur="504344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647640"/>
            <a:ext cx="88930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valuation Criteria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评分标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68360" y="1268280"/>
          <a:ext cx="7704000" cy="4969080"/>
        </p:xfrm>
        <a:graphic>
          <a:graphicData uri="http://schemas.openxmlformats.org/drawingml/2006/table">
            <a:tbl>
              <a:tblPr/>
              <a:tblGrid>
                <a:gridCol w="2951280"/>
                <a:gridCol w="4752720"/>
              </a:tblGrid>
              <a:tr h="974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结构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’) 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文章整体层次分明，要适当分段。 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内容表达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4’) 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文章中要点齐，并运用一些学过好的词句。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连接词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’)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文章中使用了一些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连接词，使文章流畅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准确度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’) 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文章没有拼写错误、语法错误或者是大小写错误。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书写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’)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标点正确，书写工整。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1800" y="0"/>
            <a:ext cx="44478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ask5: After wri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内容占位符 2"/>
          <p:cNvSpPr/>
          <p:nvPr/>
        </p:nvSpPr>
        <p:spPr>
          <a:xfrm>
            <a:off x="1214280" y="5429160"/>
            <a:ext cx="32576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8123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1" descr="022219295358"/>
          <p:cNvPicPr/>
          <p:nvPr/>
        </p:nvPicPr>
        <p:blipFill>
          <a:blip r:embed="rId1"/>
          <a:stretch/>
        </p:blipFill>
        <p:spPr>
          <a:xfrm>
            <a:off x="0" y="-892080"/>
            <a:ext cx="9325080" cy="85723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2"/>
          <p:cNvSpPr/>
          <p:nvPr/>
        </p:nvSpPr>
        <p:spPr>
          <a:xfrm>
            <a:off x="179280" y="1700280"/>
            <a:ext cx="936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  <a:ea typeface="宋体"/>
              </a:rPr>
              <a:t>East or west, 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Comic Sans MS"/>
                <a:ea typeface="宋体"/>
              </a:rPr>
              <a:t>            home is the best!</a:t>
            </a: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rot="60000">
            <a:off x="395280" y="764640"/>
            <a:ext cx="7953480" cy="42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Monotype Corsiva"/>
                <a:ea typeface="宋体"/>
              </a:rPr>
              <a:t>Homework: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  <a:ea typeface="宋体"/>
              </a:rPr>
              <a:t>1.Read John’s script about his hometown on page 41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  <a:ea typeface="宋体"/>
              </a:rPr>
              <a:t>2.Rewrite your script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1828800" y="1828800"/>
            <a:ext cx="51814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Thank you! </a:t>
            </a:r>
            <a:endParaRPr b="1" lang="en-US" sz="3600" spc="1" strike="noStrike">
              <a:ln w="19080">
                <a:solidFill>
                  <a:srgbClr val="00ccff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716360" y="3759120"/>
            <a:ext cx="4129200" cy="30988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933720"/>
            <a:ext cx="4165560" cy="29242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0" y="907920"/>
            <a:ext cx="4176720" cy="27752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4788000" y="836640"/>
            <a:ext cx="3697200" cy="27748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52280" y="18900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Places of Lih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435640" y="765000"/>
            <a:ext cx="302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square(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广场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80000" y="6216480"/>
            <a:ext cx="11728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far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24720" y="5950080"/>
            <a:ext cx="3053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宋体"/>
              </a:rPr>
              <a:t>supermarket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836640"/>
            <a:ext cx="4562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Moon Bay(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揽月湾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内容占位符 2"/>
          <p:cNvSpPr/>
          <p:nvPr/>
        </p:nvSpPr>
        <p:spPr>
          <a:xfrm>
            <a:off x="1214280" y="5429160"/>
            <a:ext cx="32576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4000" y="260280"/>
            <a:ext cx="568944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Useful expres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1341360"/>
            <a:ext cx="6553080" cy="3980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It has 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There is/are 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I like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Some …, and others 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It is a wonderful 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QQ截图20130321000023"/>
          <p:cNvPicPr/>
          <p:nvPr/>
        </p:nvPicPr>
        <p:blipFill>
          <a:blip r:embed="rId1"/>
          <a:stretch/>
        </p:blipFill>
        <p:spPr>
          <a:xfrm>
            <a:off x="2050920" y="0"/>
            <a:ext cx="73454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5" name="Group 99"/>
          <p:cNvGrpSpPr/>
          <p:nvPr/>
        </p:nvGrpSpPr>
        <p:grpSpPr>
          <a:xfrm>
            <a:off x="0" y="4653000"/>
            <a:ext cx="8821800" cy="1871640"/>
            <a:chOff x="0" y="4653000"/>
            <a:chExt cx="8821800" cy="1871640"/>
          </a:xfrm>
        </p:grpSpPr>
        <p:sp>
          <p:nvSpPr>
            <p:cNvPr id="266" name="Rectangle 70"/>
            <p:cNvSpPr/>
            <p:nvPr/>
          </p:nvSpPr>
          <p:spPr>
            <a:xfrm>
              <a:off x="2340000" y="4653000"/>
              <a:ext cx="6481800" cy="907920"/>
            </a:xfrm>
            <a:prstGeom prst="rect">
              <a:avLst/>
            </a:pr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72"/>
            <p:cNvSpPr/>
            <p:nvPr/>
          </p:nvSpPr>
          <p:spPr>
            <a:xfrm>
              <a:off x="0" y="5688000"/>
              <a:ext cx="1944720" cy="83664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73"/>
            <p:cNvSpPr/>
            <p:nvPr/>
          </p:nvSpPr>
          <p:spPr>
            <a:xfrm flipV="1">
              <a:off x="1944720" y="5589720"/>
              <a:ext cx="466560" cy="4572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79"/>
          <p:cNvGrpSpPr/>
          <p:nvPr/>
        </p:nvGrpSpPr>
        <p:grpSpPr>
          <a:xfrm>
            <a:off x="179280" y="1341360"/>
            <a:ext cx="8785440" cy="934920"/>
            <a:chOff x="179280" y="1341360"/>
            <a:chExt cx="8785440" cy="934920"/>
          </a:xfrm>
        </p:grpSpPr>
        <p:sp>
          <p:nvSpPr>
            <p:cNvPr id="270" name="Rectangle 45"/>
            <p:cNvSpPr/>
            <p:nvPr/>
          </p:nvSpPr>
          <p:spPr>
            <a:xfrm>
              <a:off x="179280" y="1407600"/>
              <a:ext cx="1728720" cy="86868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46"/>
            <p:cNvSpPr/>
            <p:nvPr/>
          </p:nvSpPr>
          <p:spPr>
            <a:xfrm>
              <a:off x="1908000" y="180900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77"/>
            <p:cNvSpPr/>
            <p:nvPr/>
          </p:nvSpPr>
          <p:spPr>
            <a:xfrm>
              <a:off x="6084720" y="1341360"/>
              <a:ext cx="2880000" cy="401400"/>
            </a:xfrm>
            <a:prstGeom prst="rect">
              <a:avLst/>
            </a:pr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78"/>
            <p:cNvSpPr/>
            <p:nvPr/>
          </p:nvSpPr>
          <p:spPr>
            <a:xfrm>
              <a:off x="2411280" y="1742760"/>
              <a:ext cx="2592360" cy="334800"/>
            </a:xfrm>
            <a:prstGeom prst="rect">
              <a:avLst/>
            </a:pr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Text Box 82"/>
          <p:cNvSpPr/>
          <p:nvPr/>
        </p:nvSpPr>
        <p:spPr>
          <a:xfrm>
            <a:off x="324360" y="1341360"/>
            <a:ext cx="14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93"/>
          <p:cNvGrpSpPr/>
          <p:nvPr/>
        </p:nvGrpSpPr>
        <p:grpSpPr>
          <a:xfrm>
            <a:off x="144360" y="3787920"/>
            <a:ext cx="8820360" cy="649080"/>
            <a:chOff x="144360" y="3787920"/>
            <a:chExt cx="8820360" cy="649080"/>
          </a:xfrm>
        </p:grpSpPr>
        <p:sp>
          <p:nvSpPr>
            <p:cNvPr id="276" name="Rectangle 63"/>
            <p:cNvSpPr/>
            <p:nvPr/>
          </p:nvSpPr>
          <p:spPr>
            <a:xfrm>
              <a:off x="144360" y="3787920"/>
              <a:ext cx="1656000" cy="649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64"/>
            <p:cNvSpPr/>
            <p:nvPr/>
          </p:nvSpPr>
          <p:spPr>
            <a:xfrm>
              <a:off x="1800360" y="4076640"/>
              <a:ext cx="684000" cy="73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91"/>
            <p:cNvSpPr/>
            <p:nvPr/>
          </p:nvSpPr>
          <p:spPr>
            <a:xfrm>
              <a:off x="5219640" y="3789360"/>
              <a:ext cx="3745080" cy="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92"/>
            <p:cNvSpPr/>
            <p:nvPr/>
          </p:nvSpPr>
          <p:spPr>
            <a:xfrm>
              <a:off x="2411280" y="4149720"/>
              <a:ext cx="576360" cy="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94"/>
          <p:cNvSpPr/>
          <p:nvPr/>
        </p:nvSpPr>
        <p:spPr>
          <a:xfrm>
            <a:off x="180000" y="386064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1"/>
          <p:cNvSpPr/>
          <p:nvPr/>
        </p:nvSpPr>
        <p:spPr>
          <a:xfrm>
            <a:off x="108000" y="5589720"/>
            <a:ext cx="189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eling&amp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p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02"/>
          <p:cNvSpPr/>
          <p:nvPr/>
        </p:nvSpPr>
        <p:spPr>
          <a:xfrm>
            <a:off x="4141800" y="195120"/>
            <a:ext cx="374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h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s hometow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104"/>
          <p:cNvGrpSpPr/>
          <p:nvPr/>
        </p:nvGrpSpPr>
        <p:grpSpPr>
          <a:xfrm>
            <a:off x="0" y="4149720"/>
            <a:ext cx="8459640" cy="1366920"/>
            <a:chOff x="0" y="4149720"/>
            <a:chExt cx="8459640" cy="1366920"/>
          </a:xfrm>
        </p:grpSpPr>
        <p:sp>
          <p:nvSpPr>
            <p:cNvPr id="284" name="Rectangle 67"/>
            <p:cNvSpPr/>
            <p:nvPr/>
          </p:nvSpPr>
          <p:spPr>
            <a:xfrm>
              <a:off x="0" y="4653000"/>
              <a:ext cx="1944720" cy="86364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8"/>
            <p:cNvSpPr/>
            <p:nvPr/>
          </p:nvSpPr>
          <p:spPr>
            <a:xfrm flipV="1">
              <a:off x="1979640" y="4581000"/>
              <a:ext cx="50472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95"/>
            <p:cNvSpPr/>
            <p:nvPr/>
          </p:nvSpPr>
          <p:spPr>
            <a:xfrm>
              <a:off x="7451640" y="4149720"/>
              <a:ext cx="1008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96"/>
            <p:cNvSpPr/>
            <p:nvPr/>
          </p:nvSpPr>
          <p:spPr>
            <a:xfrm>
              <a:off x="2411280" y="4581360"/>
              <a:ext cx="2089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03"/>
            <p:cNvSpPr/>
            <p:nvPr/>
          </p:nvSpPr>
          <p:spPr>
            <a:xfrm>
              <a:off x="4140360" y="4149720"/>
              <a:ext cx="576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Text Box 98"/>
          <p:cNvSpPr/>
          <p:nvPr/>
        </p:nvSpPr>
        <p:spPr>
          <a:xfrm>
            <a:off x="-36360" y="4508640"/>
            <a:ext cx="207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交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476280"/>
            <a:ext cx="2268360" cy="719280"/>
          </a:xfrm>
          <a:prstGeom prst="rect">
            <a:avLst/>
          </a:prstGeom>
          <a:solidFill>
            <a:srgbClr val="bbe0e3"/>
          </a:solidFill>
          <a:ln w="41400">
            <a:solidFill>
              <a:srgbClr val="ffcc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82"/>
          <p:cNvSpPr/>
          <p:nvPr/>
        </p:nvSpPr>
        <p:spPr>
          <a:xfrm>
            <a:off x="4320" y="620640"/>
            <a:ext cx="22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0" y="2060640"/>
            <a:ext cx="8783640" cy="1511280"/>
            <a:chOff x="0" y="2060640"/>
            <a:chExt cx="8783640" cy="1511280"/>
          </a:xfrm>
        </p:grpSpPr>
        <p:sp>
          <p:nvSpPr>
            <p:cNvPr id="293" name="Line 85"/>
            <p:cNvSpPr/>
            <p:nvPr/>
          </p:nvSpPr>
          <p:spPr>
            <a:xfrm>
              <a:off x="2374920" y="2853000"/>
              <a:ext cx="583236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84"/>
            <p:cNvSpPr/>
            <p:nvPr/>
          </p:nvSpPr>
          <p:spPr>
            <a:xfrm>
              <a:off x="2340000" y="2492640"/>
              <a:ext cx="626436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56"/>
            <p:cNvSpPr/>
            <p:nvPr/>
          </p:nvSpPr>
          <p:spPr>
            <a:xfrm>
              <a:off x="0" y="2563920"/>
              <a:ext cx="1832040" cy="1008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57"/>
            <p:cNvSpPr/>
            <p:nvPr/>
          </p:nvSpPr>
          <p:spPr>
            <a:xfrm flipV="1">
              <a:off x="1905120" y="2779920"/>
              <a:ext cx="398520" cy="2872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83"/>
            <p:cNvSpPr/>
            <p:nvPr/>
          </p:nvSpPr>
          <p:spPr>
            <a:xfrm>
              <a:off x="5040360" y="2060640"/>
              <a:ext cx="374328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050920" y="549360"/>
            <a:ext cx="720720" cy="215640"/>
          </a:xfrm>
          <a:prstGeom prst="line">
            <a:avLst/>
          </a:prstGeom>
          <a:ln w="414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340000" y="836640"/>
            <a:ext cx="5688000" cy="360360"/>
          </a:xfrm>
          <a:prstGeom prst="rect">
            <a:avLst/>
          </a:prstGeom>
          <a:noFill/>
          <a:ln w="44280">
            <a:solidFill>
              <a:srgbClr val="ffcc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90"/>
          <p:cNvSpPr/>
          <p:nvPr/>
        </p:nvSpPr>
        <p:spPr>
          <a:xfrm>
            <a:off x="179280" y="2565360"/>
            <a:ext cx="151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908000" y="3141720"/>
            <a:ext cx="6877080" cy="647640"/>
            <a:chOff x="1908000" y="3141720"/>
            <a:chExt cx="6877080" cy="647640"/>
          </a:xfrm>
        </p:grpSpPr>
        <p:sp>
          <p:nvSpPr>
            <p:cNvPr id="302" name="Line 58"/>
            <p:cNvSpPr/>
            <p:nvPr/>
          </p:nvSpPr>
          <p:spPr>
            <a:xfrm>
              <a:off x="1908000" y="3141720"/>
              <a:ext cx="382320" cy="5763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86"/>
            <p:cNvSpPr/>
            <p:nvPr/>
          </p:nvSpPr>
          <p:spPr>
            <a:xfrm>
              <a:off x="7057800" y="3429000"/>
              <a:ext cx="172728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87"/>
            <p:cNvSpPr/>
            <p:nvPr/>
          </p:nvSpPr>
          <p:spPr>
            <a:xfrm>
              <a:off x="2376360" y="3789360"/>
              <a:ext cx="273672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2"/>
          <p:cNvSpPr/>
          <p:nvPr/>
        </p:nvSpPr>
        <p:spPr>
          <a:xfrm>
            <a:off x="179280" y="1700280"/>
            <a:ext cx="936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  <a:ea typeface="宋体"/>
              </a:rPr>
              <a:t>Share your script with us!</a:t>
            </a: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内容占位符 2"/>
          <p:cNvSpPr/>
          <p:nvPr/>
        </p:nvSpPr>
        <p:spPr>
          <a:xfrm>
            <a:off x="1214280" y="5429160"/>
            <a:ext cx="32576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740720" cy="825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Comic Sans MS"/>
              </a:rPr>
              <a:t>Welcome to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 Lih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773360"/>
            <a:ext cx="7561440" cy="764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o you think of Lih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325760"/>
            <a:ext cx="2700360" cy="2532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796000" y="4292640"/>
            <a:ext cx="3348000" cy="25653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" descr=""/>
          <p:cNvPicPr/>
          <p:nvPr/>
        </p:nvPicPr>
        <p:blipFill>
          <a:blip r:embed="rId3"/>
          <a:stretch/>
        </p:blipFill>
        <p:spPr>
          <a:xfrm>
            <a:off x="2700360" y="4292640"/>
            <a:ext cx="3095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"/>
          <p:cNvSpPr/>
          <p:nvPr/>
        </p:nvSpPr>
        <p:spPr>
          <a:xfrm>
            <a:off x="468360" y="1628640"/>
            <a:ext cx="8316720" cy="38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宋体"/>
              </a:rPr>
              <a:t>John, one of the exchange students, wants to make a video about his hometown. He writes a script(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宋体"/>
              </a:rPr>
              <a:t>剧本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宋体"/>
              </a:rPr>
              <a:t>). Listen and choos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  <a:ea typeface="宋体"/>
              </a:rPr>
              <a:t>    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-96480" y="0"/>
            <a:ext cx="470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  <a:ea typeface="宋体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  <a:ea typeface="宋体"/>
              </a:rPr>
              <a:t>John’s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  <a:ea typeface="宋体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  <a:ea typeface="宋体"/>
              </a:rPr>
              <a:t>h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  <a:ea typeface="宋体"/>
              </a:rPr>
              <a:t>o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  <a:ea typeface="宋体"/>
              </a:rPr>
              <a:t>met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  <a:ea typeface="宋体"/>
              </a:rPr>
              <a:t>ow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  <a:ea typeface="宋体"/>
              </a:rPr>
              <a:t>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84960" y="549360"/>
            <a:ext cx="346248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'h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əu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t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  n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4680" y="0"/>
            <a:ext cx="635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Task 1 Listen and choos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956720" y="260280"/>
            <a:ext cx="863280" cy="863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920" y="765000"/>
            <a:ext cx="8569080" cy="4582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仿宋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What is the script mainly mentioned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主要提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)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仿宋"/>
              </a:rPr>
              <a:t>The farm                                 B. The park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仿宋"/>
              </a:rPr>
              <a:t>C. His house and hometown     D. The shopping m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How many families are there in John’s hometow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One hundred           B. Two hundr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Three hundred        D. Four hundr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How do people get to the town centre every da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By boat                   B. By c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On foot                   D. By b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1628640"/>
            <a:ext cx="576000" cy="505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2708280"/>
            <a:ext cx="576360" cy="50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64000" y="4941720"/>
            <a:ext cx="576360" cy="505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65728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18434"/>
          <p:cNvSpPr/>
          <p:nvPr/>
        </p:nvSpPr>
        <p:spPr>
          <a:xfrm>
            <a:off x="2362320" y="981000"/>
            <a:ext cx="6781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4920" y="692280"/>
          <a:ext cx="9109080" cy="5736960"/>
        </p:xfrm>
        <a:graphic>
          <a:graphicData uri="http://schemas.openxmlformats.org/drawingml/2006/table">
            <a:tbl>
              <a:tblPr/>
              <a:tblGrid>
                <a:gridCol w="2089080"/>
                <a:gridCol w="702000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John’s hometow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roduc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John is going to show us around his hometown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John’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o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t has two floors. It’s on a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___1_____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.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round the house, there are many flowers and trees. He ca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___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___the flowers and hear the birds___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3___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every day.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here’s a lake.  Sometimes John goes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__ __4_______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here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John’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ometow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here are about one hundred families in our town. Some families ____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____cows and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_ ____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____grow wheat.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ople here are all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______7_____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 each other.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ople can go to the town centre by __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__every day.Usually my mother____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9____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me to do the shopping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clu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feeling &amp;hope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John thinks it’s 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_____10______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place to live. People enjoy their life here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John hopes everyone can come and visit soon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文本框 18439"/>
          <p:cNvSpPr/>
          <p:nvPr/>
        </p:nvSpPr>
        <p:spPr>
          <a:xfrm>
            <a:off x="7667640" y="1628640"/>
            <a:ext cx="107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59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Task 2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任务型阅读 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P4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0360" y="1557360"/>
            <a:ext cx="117288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ar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2360" y="2349360"/>
            <a:ext cx="134964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mel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45800" y="2349360"/>
            <a:ext cx="11196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19600" y="2708280"/>
            <a:ext cx="182952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oa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32720" y="3716280"/>
            <a:ext cx="12492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ai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37080" y="3789360"/>
            <a:ext cx="157824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th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86520" y="4149720"/>
            <a:ext cx="183132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riendl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29800" y="4508640"/>
            <a:ext cx="99288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49080" y="4797360"/>
            <a:ext cx="152784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r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26880" y="5300640"/>
            <a:ext cx="236304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onderfu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rot="21582000">
            <a:off x="1907280" y="2420640"/>
            <a:ext cx="2592720" cy="503280"/>
          </a:xfrm>
          <a:prstGeom prst="ellipse">
            <a:avLst/>
          </a:pr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rot="21582000">
            <a:off x="5002920" y="2420640"/>
            <a:ext cx="2592720" cy="503280"/>
          </a:xfrm>
          <a:prstGeom prst="ellipse">
            <a:avLst/>
          </a:pr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rot="21582000">
            <a:off x="6011640" y="2852280"/>
            <a:ext cx="2303280" cy="432000"/>
          </a:xfrm>
          <a:prstGeom prst="ellipse">
            <a:avLst/>
          </a:pr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rot="21582000">
            <a:off x="2916360" y="3789360"/>
            <a:ext cx="2089080" cy="503280"/>
          </a:xfrm>
          <a:prstGeom prst="ellipse">
            <a:avLst/>
          </a:pr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rot="21582000">
            <a:off x="6802920" y="3933360"/>
            <a:ext cx="1584360" cy="432000"/>
          </a:xfrm>
          <a:prstGeom prst="ellipse">
            <a:avLst/>
          </a:pr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rot="21582000">
            <a:off x="3564000" y="4292640"/>
            <a:ext cx="2808360" cy="503280"/>
          </a:xfrm>
          <a:prstGeom prst="ellipse">
            <a:avLst/>
          </a:pr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rot="21582000">
            <a:off x="3491280" y="4941720"/>
            <a:ext cx="1800360" cy="432000"/>
          </a:xfrm>
          <a:prstGeom prst="ellipse">
            <a:avLst/>
          </a:pr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56360" y="3213000"/>
            <a:ext cx="266364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=row a bo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QQ截图20130321000023"/>
          <p:cNvPicPr/>
          <p:nvPr/>
        </p:nvPicPr>
        <p:blipFill>
          <a:blip r:embed="rId1"/>
          <a:stretch/>
        </p:blipFill>
        <p:spPr>
          <a:xfrm>
            <a:off x="2050920" y="0"/>
            <a:ext cx="73454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99"/>
          <p:cNvGrpSpPr/>
          <p:nvPr/>
        </p:nvGrpSpPr>
        <p:grpSpPr>
          <a:xfrm>
            <a:off x="0" y="4653000"/>
            <a:ext cx="8821800" cy="1871640"/>
            <a:chOff x="0" y="4653000"/>
            <a:chExt cx="8821800" cy="1871640"/>
          </a:xfrm>
        </p:grpSpPr>
        <p:sp>
          <p:nvSpPr>
            <p:cNvPr id="91" name="Rectangle 70"/>
            <p:cNvSpPr/>
            <p:nvPr/>
          </p:nvSpPr>
          <p:spPr>
            <a:xfrm>
              <a:off x="2340000" y="4653000"/>
              <a:ext cx="6481800" cy="907920"/>
            </a:xfrm>
            <a:prstGeom prst="rect">
              <a:avLst/>
            </a:pr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72"/>
            <p:cNvSpPr/>
            <p:nvPr/>
          </p:nvSpPr>
          <p:spPr>
            <a:xfrm>
              <a:off x="0" y="5688000"/>
              <a:ext cx="1944720" cy="83664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73"/>
            <p:cNvSpPr/>
            <p:nvPr/>
          </p:nvSpPr>
          <p:spPr>
            <a:xfrm flipV="1">
              <a:off x="1944720" y="5589720"/>
              <a:ext cx="466560" cy="4572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79"/>
          <p:cNvGrpSpPr/>
          <p:nvPr/>
        </p:nvGrpSpPr>
        <p:grpSpPr>
          <a:xfrm>
            <a:off x="179280" y="1341360"/>
            <a:ext cx="8785440" cy="934920"/>
            <a:chOff x="179280" y="1341360"/>
            <a:chExt cx="8785440" cy="934920"/>
          </a:xfrm>
        </p:grpSpPr>
        <p:sp>
          <p:nvSpPr>
            <p:cNvPr id="95" name="Rectangle 45"/>
            <p:cNvSpPr/>
            <p:nvPr/>
          </p:nvSpPr>
          <p:spPr>
            <a:xfrm>
              <a:off x="179280" y="1407600"/>
              <a:ext cx="1728720" cy="86868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46"/>
            <p:cNvSpPr/>
            <p:nvPr/>
          </p:nvSpPr>
          <p:spPr>
            <a:xfrm>
              <a:off x="1908000" y="180900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77"/>
            <p:cNvSpPr/>
            <p:nvPr/>
          </p:nvSpPr>
          <p:spPr>
            <a:xfrm>
              <a:off x="6084720" y="1341360"/>
              <a:ext cx="2880000" cy="401400"/>
            </a:xfrm>
            <a:prstGeom prst="rect">
              <a:avLst/>
            </a:pr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78"/>
            <p:cNvSpPr/>
            <p:nvPr/>
          </p:nvSpPr>
          <p:spPr>
            <a:xfrm>
              <a:off x="2411280" y="1742760"/>
              <a:ext cx="2592360" cy="334800"/>
            </a:xfrm>
            <a:prstGeom prst="rect">
              <a:avLst/>
            </a:pr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82"/>
          <p:cNvSpPr/>
          <p:nvPr/>
        </p:nvSpPr>
        <p:spPr>
          <a:xfrm>
            <a:off x="324360" y="1341360"/>
            <a:ext cx="14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1"/>
          <p:cNvSpPr/>
          <p:nvPr/>
        </p:nvSpPr>
        <p:spPr>
          <a:xfrm>
            <a:off x="108000" y="5589720"/>
            <a:ext cx="189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eling&amp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p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2"/>
          <p:cNvSpPr/>
          <p:nvPr/>
        </p:nvSpPr>
        <p:spPr>
          <a:xfrm>
            <a:off x="4141800" y="195120"/>
            <a:ext cx="374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h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s hometow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76280"/>
            <a:ext cx="2268360" cy="719280"/>
          </a:xfrm>
          <a:prstGeom prst="rect">
            <a:avLst/>
          </a:prstGeom>
          <a:solidFill>
            <a:srgbClr val="bbe0e3"/>
          </a:solidFill>
          <a:ln w="41400">
            <a:solidFill>
              <a:srgbClr val="ffcc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2"/>
          <p:cNvSpPr/>
          <p:nvPr/>
        </p:nvSpPr>
        <p:spPr>
          <a:xfrm>
            <a:off x="4320" y="620640"/>
            <a:ext cx="22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2060640"/>
            <a:ext cx="8783640" cy="1511280"/>
            <a:chOff x="0" y="2060640"/>
            <a:chExt cx="8783640" cy="1511280"/>
          </a:xfrm>
        </p:grpSpPr>
        <p:sp>
          <p:nvSpPr>
            <p:cNvPr id="105" name="Line 85"/>
            <p:cNvSpPr/>
            <p:nvPr/>
          </p:nvSpPr>
          <p:spPr>
            <a:xfrm>
              <a:off x="2374920" y="2853000"/>
              <a:ext cx="583236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84"/>
            <p:cNvSpPr/>
            <p:nvPr/>
          </p:nvSpPr>
          <p:spPr>
            <a:xfrm>
              <a:off x="2340000" y="2492640"/>
              <a:ext cx="626436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56"/>
            <p:cNvSpPr/>
            <p:nvPr/>
          </p:nvSpPr>
          <p:spPr>
            <a:xfrm>
              <a:off x="0" y="2563920"/>
              <a:ext cx="1832040" cy="1008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57"/>
            <p:cNvSpPr/>
            <p:nvPr/>
          </p:nvSpPr>
          <p:spPr>
            <a:xfrm flipV="1">
              <a:off x="1905120" y="2779920"/>
              <a:ext cx="398520" cy="2872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83"/>
            <p:cNvSpPr/>
            <p:nvPr/>
          </p:nvSpPr>
          <p:spPr>
            <a:xfrm>
              <a:off x="5040360" y="2060640"/>
              <a:ext cx="374328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050920" y="549360"/>
            <a:ext cx="720720" cy="215640"/>
          </a:xfrm>
          <a:prstGeom prst="line">
            <a:avLst/>
          </a:prstGeom>
          <a:ln w="414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40000" y="836640"/>
            <a:ext cx="5688000" cy="360360"/>
          </a:xfrm>
          <a:prstGeom prst="rect">
            <a:avLst/>
          </a:prstGeom>
          <a:noFill/>
          <a:ln w="44280">
            <a:solidFill>
              <a:srgbClr val="ffcc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0"/>
          <p:cNvSpPr/>
          <p:nvPr/>
        </p:nvSpPr>
        <p:spPr>
          <a:xfrm>
            <a:off x="179280" y="2565360"/>
            <a:ext cx="151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908000" y="3141720"/>
            <a:ext cx="6877080" cy="647640"/>
            <a:chOff x="1908000" y="3141720"/>
            <a:chExt cx="6877080" cy="647640"/>
          </a:xfrm>
        </p:grpSpPr>
        <p:sp>
          <p:nvSpPr>
            <p:cNvPr id="114" name="Line 58"/>
            <p:cNvSpPr/>
            <p:nvPr/>
          </p:nvSpPr>
          <p:spPr>
            <a:xfrm>
              <a:off x="1908000" y="3141720"/>
              <a:ext cx="382320" cy="5763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86"/>
            <p:cNvSpPr/>
            <p:nvPr/>
          </p:nvSpPr>
          <p:spPr>
            <a:xfrm>
              <a:off x="7057800" y="3429000"/>
              <a:ext cx="172728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87"/>
            <p:cNvSpPr/>
            <p:nvPr/>
          </p:nvSpPr>
          <p:spPr>
            <a:xfrm>
              <a:off x="2376360" y="3789360"/>
              <a:ext cx="273672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0" y="3068640"/>
            <a:ext cx="9144000" cy="1946160"/>
            <a:chOff x="0" y="3068640"/>
            <a:chExt cx="9144000" cy="1946160"/>
          </a:xfrm>
        </p:grpSpPr>
        <p:sp>
          <p:nvSpPr>
            <p:cNvPr id="118" name=""/>
            <p:cNvSpPr/>
            <p:nvPr/>
          </p:nvSpPr>
          <p:spPr>
            <a:xfrm>
              <a:off x="2411280" y="3068640"/>
              <a:ext cx="6732720" cy="1512720"/>
            </a:xfrm>
            <a:prstGeom prst="rect">
              <a:avLst/>
            </a:prstGeom>
            <a:noFill/>
            <a:ln w="31680">
              <a:solidFill>
                <a:srgbClr val="008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3933720"/>
              <a:ext cx="2050920" cy="1081080"/>
            </a:xfrm>
            <a:prstGeom prst="rect">
              <a:avLst/>
            </a:prstGeom>
            <a:solidFill>
              <a:srgbClr val="bbe0e3"/>
            </a:solidFill>
            <a:ln w="31680">
              <a:solidFill>
                <a:srgbClr val="008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050920" y="3933720"/>
              <a:ext cx="360360" cy="287280"/>
            </a:xfrm>
            <a:prstGeom prst="line">
              <a:avLst/>
            </a:prstGeom>
            <a:ln w="316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-612720" y="4149720"/>
            <a:ext cx="331308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仿宋"/>
              </a:rPr>
              <a:t>Hometow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-360" y="2205000"/>
            <a:ext cx="93582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. 1: brief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. 2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. 3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. 4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179280" y="1413000"/>
            <a:ext cx="80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00000"/>
                </a:solidFill>
                <a:uFillTx/>
                <a:latin typeface="Arial"/>
                <a:ea typeface="宋体"/>
              </a:rPr>
              <a:t>Structure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宋体"/>
              </a:rPr>
              <a:t>:  </a:t>
            </a:r>
            <a:r>
              <a:rPr b="1" lang="en-US" sz="4000" spc="-1" strike="noStrike">
                <a:solidFill>
                  <a:srgbClr val="7030a0"/>
                </a:solidFill>
                <a:latin typeface="Arial"/>
                <a:ea typeface="宋体"/>
              </a:rPr>
              <a:t>John’s hometow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0" y="0"/>
            <a:ext cx="9144000" cy="113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Task 3: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宋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Get the main idea of each paragraph, pleas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47640" y="2924280"/>
            <a:ext cx="74520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hn’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ouse and things to 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47640" y="3645000"/>
            <a:ext cx="864108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hn’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ometown and things to 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19280" y="4365720"/>
            <a:ext cx="561672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hn’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eeling and ho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51640" y="3068640"/>
            <a:ext cx="433080" cy="1076400"/>
          </a:xfrm>
          <a:custGeom>
            <a:avLst/>
            <a:gdLst>
              <a:gd name="textAreaLeft" fmla="*/ 0 w 433080"/>
              <a:gd name="textAreaRight" fmla="*/ 156240 w 433080"/>
              <a:gd name="textAreaTop" fmla="*/ 28080 h 1076400"/>
              <a:gd name="textAreaBottom" fmla="*/ 1048320 h 107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2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97400" y="3284640"/>
            <a:ext cx="29451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  <a:ea typeface="宋体"/>
              </a:rPr>
              <a:t>Main bod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304920" y="533520"/>
            <a:ext cx="39621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>
                    <a:alpha val="99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riting</a:t>
            </a:r>
            <a:endParaRPr b="1" lang="en-US" sz="36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>
                  <a:alpha val="99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844640"/>
            <a:ext cx="8353440" cy="25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  <a:ea typeface="宋体"/>
              </a:rPr>
              <a:t>Now it’s your turn to writ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  <a:ea typeface="宋体"/>
              </a:rPr>
              <a:t> </a:t>
            </a:r>
            <a:r>
              <a:rPr b="1" lang="en-US" sz="4800" spc="-1" strike="noStrike">
                <a:solidFill>
                  <a:srgbClr val="0000cc"/>
                </a:solidFill>
                <a:latin typeface="Comic Sans MS"/>
                <a:ea typeface="宋体"/>
              </a:rPr>
              <a:t>your own hometown Lihe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17:42:27Z</dcterms:created>
  <dc:creator>Administrator</dc:creator>
  <dc:description/>
  <cp:keywords/>
  <dc:language>en-US</dc:language>
  <cp:lastModifiedBy>walkinnet</cp:lastModifiedBy>
  <cp:lastPrinted>1899-12-30T00:00:00Z</cp:lastPrinted>
  <dcterms:modified xsi:type="dcterms:W3CDTF">2017-03-02T04:45:50Z</dcterms:modified>
  <cp:revision>41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