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29.jpeg" ContentType="image/jpeg"/>
  <Override PartName="/ppt/media/image36.png" ContentType="image/png"/>
  <Override PartName="/ppt/media/image8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AB8-1785-444A-A508-DA848DD3B0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9342-E502-4598-9669-5E052E96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3CA-4D0A-4DA9-833A-40A41B18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175-6AEF-408C-84B5-FCE6A83B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EF2-BE59-4BE8-B3EE-ECF3E438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BA4-EDD6-429F-94CD-045F973C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379-77A6-4925-9519-F63149E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74-611A-4DF8-AFE1-B36B771F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CE9-D6D2-495A-824B-192A5AB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168-5E22-42A6-9006-EA79EEA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1A7-BD96-4E43-B081-C2ACC24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FB4-6E9F-4056-B35F-641E8C0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98A-A8B7-4F38-AF5C-28D145A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477-D6D4-4ADE-B4B0-A5D9773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33A-5CCE-491A-8B7B-6E7990C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387-9F20-4800-94DC-0CBE771F0B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8000" y="260280"/>
            <a:ext cx="781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上  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Unit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Designing cloth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019920" y="649116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1440" y="33336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j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3240" y="105264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dark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4680" y="1700280"/>
            <a:ext cx="45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be made of co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2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b. Look(s) smart in dark bl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2160" y="2421000"/>
            <a:ext cx="39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not too long 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oo 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0680" y="5084640"/>
            <a:ext cx="74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=Dark blue looks smart on s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19240" y="92700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pair of j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8360" y="186372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75080" y="301464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91960" y="393372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fo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680" y="5373720"/>
            <a:ext cx="80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e popular among young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1960" y="3645000"/>
            <a:ext cx="415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a pair of tr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2520" y="465300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g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51240" y="472428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le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72680" y="5661000"/>
            <a:ext cx="533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light and comfor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264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0"/>
          <p:cNvSpPr/>
          <p:nvPr/>
        </p:nvSpPr>
        <p:spPr>
          <a:xfrm>
            <a:off x="0" y="364500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lothes&amp;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0" y="400536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226908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3709080" y="37893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4"/>
          <p:cNvSpPr/>
          <p:nvPr/>
        </p:nvSpPr>
        <p:spPr>
          <a:xfrm>
            <a:off x="5510160" y="37893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5"/>
          <p:cNvSpPr/>
          <p:nvPr/>
        </p:nvSpPr>
        <p:spPr>
          <a:xfrm>
            <a:off x="7309080" y="3789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6"/>
          <p:cNvSpPr/>
          <p:nvPr/>
        </p:nvSpPr>
        <p:spPr>
          <a:xfrm>
            <a:off x="0" y="45813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7"/>
          <p:cNvSpPr/>
          <p:nvPr/>
        </p:nvSpPr>
        <p:spPr>
          <a:xfrm>
            <a:off x="179280" y="530064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8"/>
          <p:cNvSpPr/>
          <p:nvPr/>
        </p:nvSpPr>
        <p:spPr>
          <a:xfrm>
            <a:off x="0" y="6021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9"/>
          <p:cNvSpPr/>
          <p:nvPr/>
        </p:nvSpPr>
        <p:spPr>
          <a:xfrm>
            <a:off x="2196000" y="458136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7"/>
          <p:cNvSpPr/>
          <p:nvPr/>
        </p:nvSpPr>
        <p:spPr>
          <a:xfrm>
            <a:off x="2269800" y="5373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8"/>
          <p:cNvSpPr/>
          <p:nvPr/>
        </p:nvSpPr>
        <p:spPr>
          <a:xfrm>
            <a:off x="2125080" y="602136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3419640" y="450864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3494160" y="5373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ark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3636360" y="6021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5076360" y="46530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5437080" y="54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5"/>
          <p:cNvSpPr/>
          <p:nvPr/>
        </p:nvSpPr>
        <p:spPr>
          <a:xfrm>
            <a:off x="5365080" y="6021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6"/>
          <p:cNvSpPr/>
          <p:nvPr/>
        </p:nvSpPr>
        <p:spPr>
          <a:xfrm>
            <a:off x="7020000" y="450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igh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7"/>
          <p:cNvSpPr/>
          <p:nvPr/>
        </p:nvSpPr>
        <p:spPr>
          <a:xfrm>
            <a:off x="7093800" y="537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8"/>
          <p:cNvSpPr/>
          <p:nvPr/>
        </p:nvSpPr>
        <p:spPr>
          <a:xfrm>
            <a:off x="7020000" y="59500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"/>
          <p:cNvSpPr/>
          <p:nvPr/>
        </p:nvSpPr>
        <p:spPr>
          <a:xfrm>
            <a:off x="517680" y="4869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20640"/>
            <a:ext cx="763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Sandy’s  desig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16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er desig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cludes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a shirt, a jacket, a pair of jeans and a pair of tr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ask2. Describe Sandy’s fashio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364000" y="1197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包括，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3789360"/>
          <a:ext cx="9109080" cy="2881440"/>
        </p:xfrm>
        <a:graphic>
          <a:graphicData uri="http://schemas.openxmlformats.org/drawingml/2006/table">
            <a:tbl>
              <a:tblPr/>
              <a:tblGrid>
                <a:gridCol w="2108160"/>
                <a:gridCol w="1209600"/>
                <a:gridCol w="1828800"/>
                <a:gridCol w="1733760"/>
                <a:gridCol w="222876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56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3958920" cy="341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34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1200" y="1309680"/>
            <a:ext cx="37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</a:rPr>
              <a:t>Task3. 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960" y="2781360"/>
            <a:ext cx="72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ad Sandy’s article on P1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oud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33360"/>
            <a:ext cx="9325080" cy="75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fashion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model. Here is my design for a shirt, a______, jeans and a ____of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irt is white. I think white shirts look_____, and white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ther 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cket is not too long or too large, and it is ____blue. Students look _____in dark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s are very _______among students ,so my design ________a pair of blue j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irt ,the jacket and the jeans are all ______of cotton and are  very  comfortab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so a pair of trainers. They are grey. Trainers are _____ and comfortable, and all the students like th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4000" y="10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85080" y="20350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0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3500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40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1280" y="400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5672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48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640" y="1350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eec7a213a85bdb0d6cae2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0" y="692280"/>
            <a:ext cx="105141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he colour of …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look(s) cl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match(es)/ go(es) well with any other col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s/ are not too long or too l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look(s) smart in (colour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look(s) good/ cool on (somebo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s/ are very popular among the young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s/ are made o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s /are light and comfor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line11"/>
          <p:cNvPicPr/>
          <p:nvPr/>
        </p:nvPicPr>
        <p:blipFill>
          <a:blip r:embed="rId2"/>
          <a:stretch/>
        </p:blipFill>
        <p:spPr>
          <a:xfrm>
            <a:off x="533520" y="6302520"/>
            <a:ext cx="7619760" cy="403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80" y="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Useful expres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68360" y="811080"/>
          <a:ext cx="8218440" cy="593100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54200" y="265572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 1 (Para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tion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21960" y="4035600"/>
            <a:ext cx="316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 2 (Para2-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in body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1160" y="5475240"/>
            <a:ext cx="334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rt3 (Para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8040" y="2454120"/>
            <a:ext cx="28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 cloth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nd 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8920" y="374652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e features, colours and material of the clothes and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31920" y="5743440"/>
            <a:ext cx="33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y feelings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感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18680" y="114300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0480" y="1071720"/>
            <a:ext cx="24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ain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extBox 3" descr=""/>
          <p:cNvPicPr/>
          <p:nvPr/>
        </p:nvPicPr>
        <p:blipFill>
          <a:blip r:embed="rId1"/>
          <a:stretch/>
        </p:blipFill>
        <p:spPr>
          <a:xfrm>
            <a:off x="2471760" y="-603360"/>
            <a:ext cx="5052960" cy="1629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162000"/>
            <a:ext cx="30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ask4.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eec7a213a85bdb0d6cae2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24000" y="620640"/>
            <a:ext cx="770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It’s your turn to show us your fashion design now.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line11"/>
          <p:cNvPicPr/>
          <p:nvPr/>
        </p:nvPicPr>
        <p:blipFill>
          <a:blip r:embed="rId2"/>
          <a:stretch/>
        </p:blipFill>
        <p:spPr>
          <a:xfrm>
            <a:off x="533520" y="6302520"/>
            <a:ext cx="7619760" cy="403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80" y="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ask5. Show and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206064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根据以下提示，以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y fashion design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为题，写一篇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词左右的短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想设计一件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恤衫、一条围巾、一条牛仔裤和一双运动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 T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恤衫的颜色是白色的，因为它看起来很干净，而且与其他任何颜色都相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围巾是丝绸的，戴着很舒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牛仔裤既不太长也不太大，看起来很帅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运动鞋是皮质的，轻便又舒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谈谈你对自己设计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099" descr="7614832691418743120515"/>
          <p:cNvPicPr/>
          <p:nvPr/>
        </p:nvPicPr>
        <p:blipFill>
          <a:blip r:embed="rId2"/>
          <a:stretch/>
        </p:blipFill>
        <p:spPr>
          <a:xfrm>
            <a:off x="-324000" y="-531720"/>
            <a:ext cx="9750600" cy="795960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4100"/>
          <p:cNvSpPr/>
          <p:nvPr/>
        </p:nvSpPr>
        <p:spPr>
          <a:xfrm>
            <a:off x="755640" y="1341360"/>
            <a:ext cx="7194600" cy="273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Fashion sho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3440" y="4167360"/>
            <a:ext cx="669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Warming-u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How to write a </a:t>
            </a:r>
            <a:r>
              <a:rPr b="1" lang="en-US" sz="3200" spc="-1" strike="noStrike">
                <a:solidFill>
                  <a:srgbClr val="ff3300"/>
                </a:solidFill>
                <a:latin typeface="Berlin Sans FB Demi"/>
              </a:rPr>
              <a:t>good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article</a:t>
            </a:r>
            <a:r>
              <a:rPr b="1" lang="zh-CN" sz="3200" spc="-1" strike="noStrike">
                <a:solidFill>
                  <a:srgbClr val="000000"/>
                </a:solidFill>
                <a:latin typeface="Berlin Sans FB Demi"/>
              </a:rPr>
              <a:t>（作文）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787320"/>
            <a:ext cx="89154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包含所有要点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段落清晰；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表达流畅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正确使用关联词，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, but, so, also, because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书写工整清晰，没有拼写、标点及大小写等错误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2" descr="07121615302777691.jpg"/>
          <p:cNvPicPr/>
          <p:nvPr/>
        </p:nvPicPr>
        <p:blipFill>
          <a:blip r:embed="rId1"/>
          <a:stretch/>
        </p:blipFill>
        <p:spPr>
          <a:xfrm>
            <a:off x="0" y="0"/>
            <a:ext cx="86932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9800" y="549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Task6.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48392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Arial"/>
              </a:rPr>
              <a:t>While-Writ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440" y="3284640"/>
            <a:ext cx="581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Write about yo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fashion de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Show your compositio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feec7a213a85bdb0d6cae2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248760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Show your article now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5680" y="3510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Task7. Evaluate(</a:t>
            </a:r>
            <a:r>
              <a:rPr b="1" i="1" lang="zh-CN" sz="2400" spc="-1" strike="noStrike">
                <a:solidFill>
                  <a:srgbClr val="003399"/>
                </a:solidFill>
                <a:latin typeface="Arial"/>
              </a:rPr>
              <a:t>评价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2720" y="836640"/>
            <a:ext cx="605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Post-wri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Arial"/>
              </a:rPr>
              <a:t>Show your compositio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feec7a213a85bdb0d6cae2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248760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I want to desig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 T-shirt, a scarf, a pair of jeans and a pair of sports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-shirt is white. I think white T-shirts look clean,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white matches any other co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scarf is made of silk. A silk scarf is comfortable to w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air of jeans is not too long or too large,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ople look smart i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als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 pair of trainers. They are made of leather. Trainers are light and comfortable,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s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ll the students lik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I thin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my fashion design is wonderful. Do you think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23553" descr="8965972171418743121124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23554" descr="8531864031418743121124"/>
          <p:cNvPicPr/>
          <p:nvPr/>
        </p:nvPicPr>
        <p:blipFill>
          <a:blip r:embed="rId2"/>
          <a:stretch/>
        </p:blipFill>
        <p:spPr>
          <a:xfrm>
            <a:off x="900000" y="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3555" descr="8821679031418743121124"/>
          <p:cNvPicPr/>
          <p:nvPr/>
        </p:nvPicPr>
        <p:blipFill>
          <a:blip r:embed="rId3"/>
          <a:stretch/>
        </p:blipFill>
        <p:spPr>
          <a:xfrm>
            <a:off x="0" y="334656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3556" descr="5754085371418743121139"/>
          <p:cNvPicPr/>
          <p:nvPr/>
        </p:nvPicPr>
        <p:blipFill>
          <a:blip r:embed="rId4"/>
          <a:stretch/>
        </p:blipFill>
        <p:spPr>
          <a:xfrm>
            <a:off x="4572000" y="549360"/>
            <a:ext cx="441180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4579" descr="8965972171418743121124"/>
          <p:cNvPicPr/>
          <p:nvPr/>
        </p:nvPicPr>
        <p:blipFill>
          <a:blip r:embed="rId2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218" name="圆角矩形 24580"/>
          <p:cNvSpPr/>
          <p:nvPr/>
        </p:nvSpPr>
        <p:spPr>
          <a:xfrm>
            <a:off x="1116000" y="765000"/>
            <a:ext cx="7272360" cy="1009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hion is everywhere in lif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24581"/>
          <p:cNvSpPr/>
          <p:nvPr/>
        </p:nvSpPr>
        <p:spPr>
          <a:xfrm>
            <a:off x="1116000" y="2421000"/>
            <a:ext cx="66261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joy the beauty of fash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24582"/>
          <p:cNvSpPr/>
          <p:nvPr/>
        </p:nvSpPr>
        <p:spPr>
          <a:xfrm>
            <a:off x="1258920" y="4437000"/>
            <a:ext cx="66261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joy our fashionable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219320" y="76212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S Gothic"/>
              </a:rPr>
              <a:t>Home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S Gothic"/>
              <a:ea typeface="MS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Recite the article on P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Make a poster about your fashion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378240" y="213192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0080" y="4226040"/>
            <a:ext cx="304920" cy="1218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——designing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1240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4267080"/>
            <a:ext cx="1524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5638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549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920" y="1341360"/>
          <a:ext cx="8569080" cy="2881440"/>
        </p:xfrm>
        <a:graphic>
          <a:graphicData uri="http://schemas.openxmlformats.org/drawingml/2006/table">
            <a:tbl>
              <a:tblPr/>
              <a:tblGrid>
                <a:gridCol w="2107800"/>
                <a:gridCol w="1209600"/>
                <a:gridCol w="1828800"/>
                <a:gridCol w="1733760"/>
                <a:gridCol w="16891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40"/>
          <p:cNvSpPr/>
          <p:nvPr/>
        </p:nvSpPr>
        <p:spPr>
          <a:xfrm>
            <a:off x="684360" y="126828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lothes&amp;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12840" y="170028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708120" y="227664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7"/>
          <p:cNvSpPr/>
          <p:nvPr/>
        </p:nvSpPr>
        <p:spPr>
          <a:xfrm>
            <a:off x="924120" y="29955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563400" y="364500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947520" cy="1387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806400" cy="1298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674640" cy="1533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920000" y="4437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708360" y="4437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5580000" y="5622840"/>
            <a:ext cx="924120" cy="1235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50920" y="5516640"/>
            <a:ext cx="90972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1547640" y="5562720"/>
            <a:ext cx="1020960" cy="12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2771640" y="5810400"/>
            <a:ext cx="1150920" cy="1047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4427640" y="5770440"/>
            <a:ext cx="711000" cy="1087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6516720" y="5715000"/>
            <a:ext cx="115092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2" descr=""/>
          <p:cNvPicPr/>
          <p:nvPr/>
        </p:nvPicPr>
        <p:blipFill>
          <a:blip r:embed="rId13"/>
          <a:stretch/>
        </p:blipFill>
        <p:spPr>
          <a:xfrm>
            <a:off x="6300720" y="4292640"/>
            <a:ext cx="1800360" cy="1357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4"/>
          <a:stretch/>
        </p:blipFill>
        <p:spPr>
          <a:xfrm>
            <a:off x="4788000" y="0"/>
            <a:ext cx="1584360" cy="1268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5"/>
          <a:stretch/>
        </p:blipFill>
        <p:spPr>
          <a:xfrm>
            <a:off x="7308720" y="0"/>
            <a:ext cx="1656000" cy="1239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7832880" y="5589720"/>
            <a:ext cx="131112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4920" y="765000"/>
          <a:ext cx="9109080" cy="2881440"/>
        </p:xfrm>
        <a:graphic>
          <a:graphicData uri="http://schemas.openxmlformats.org/drawingml/2006/table">
            <a:tbl>
              <a:tblPr/>
              <a:tblGrid>
                <a:gridCol w="2108160"/>
                <a:gridCol w="1209600"/>
                <a:gridCol w="1828800"/>
                <a:gridCol w="1733760"/>
                <a:gridCol w="222876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40"/>
          <p:cNvSpPr/>
          <p:nvPr/>
        </p:nvSpPr>
        <p:spPr>
          <a:xfrm>
            <a:off x="395280" y="62064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lothes&amp;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1"/>
          <p:cNvSpPr/>
          <p:nvPr/>
        </p:nvSpPr>
        <p:spPr>
          <a:xfrm>
            <a:off x="0" y="1197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2"/>
          <p:cNvSpPr/>
          <p:nvPr/>
        </p:nvSpPr>
        <p:spPr>
          <a:xfrm>
            <a:off x="2366280" y="10666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3780720" y="1052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5437080" y="1052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7071120" y="10317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6"/>
          <p:cNvSpPr/>
          <p:nvPr/>
        </p:nvSpPr>
        <p:spPr>
          <a:xfrm>
            <a:off x="395280" y="15573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"/>
          <p:cNvSpPr/>
          <p:nvPr/>
        </p:nvSpPr>
        <p:spPr>
          <a:xfrm>
            <a:off x="611280" y="249228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8"/>
          <p:cNvSpPr/>
          <p:nvPr/>
        </p:nvSpPr>
        <p:spPr>
          <a:xfrm>
            <a:off x="250920" y="3141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9"/>
          <p:cNvSpPr/>
          <p:nvPr/>
        </p:nvSpPr>
        <p:spPr>
          <a:xfrm>
            <a:off x="2269080" y="170028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7"/>
          <p:cNvSpPr/>
          <p:nvPr/>
        </p:nvSpPr>
        <p:spPr>
          <a:xfrm>
            <a:off x="2269800" y="256536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2196720" y="314172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3492360" y="1628640"/>
            <a:ext cx="17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1"/>
          <p:cNvSpPr/>
          <p:nvPr/>
        </p:nvSpPr>
        <p:spPr>
          <a:xfrm>
            <a:off x="3565800" y="254016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ark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2"/>
          <p:cNvSpPr/>
          <p:nvPr/>
        </p:nvSpPr>
        <p:spPr>
          <a:xfrm>
            <a:off x="3781080" y="31161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3"/>
          <p:cNvSpPr/>
          <p:nvPr/>
        </p:nvSpPr>
        <p:spPr>
          <a:xfrm>
            <a:off x="5219280" y="162864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4"/>
          <p:cNvSpPr/>
          <p:nvPr/>
        </p:nvSpPr>
        <p:spPr>
          <a:xfrm>
            <a:off x="5581440" y="256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5"/>
          <p:cNvSpPr/>
          <p:nvPr/>
        </p:nvSpPr>
        <p:spPr>
          <a:xfrm>
            <a:off x="5509800" y="3213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6"/>
          <p:cNvSpPr/>
          <p:nvPr/>
        </p:nvSpPr>
        <p:spPr>
          <a:xfrm>
            <a:off x="7020000" y="162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igh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7236720" y="2565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8"/>
          <p:cNvSpPr/>
          <p:nvPr/>
        </p:nvSpPr>
        <p:spPr>
          <a:xfrm>
            <a:off x="7236000" y="3213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9"/>
          <p:cNvSpPr/>
          <p:nvPr/>
        </p:nvSpPr>
        <p:spPr>
          <a:xfrm>
            <a:off x="517680" y="4869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4160" y="3933720"/>
            <a:ext cx="763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Sandy’s  desig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869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er design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includes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a shirt, a jacket, a pair of jeans and a pair of tr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ask2. Describe Sandy’s fashio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611280" y="20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148360" y="443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包括，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4240" cy="547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355040" y="568008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18280" y="5734080"/>
            <a:ext cx="47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andy’s class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rcRect l="43091" t="44738" r="32787" b="77"/>
          <a:stretch/>
        </p:blipFill>
        <p:spPr>
          <a:xfrm rot="300000">
            <a:off x="4716360" y="980640"/>
            <a:ext cx="42483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4248360" cy="853920"/>
          </a:xfrm>
          <a:prstGeom prst="rect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9200" y="1557000"/>
            <a:ext cx="6994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oose one student in the class. Describe his/her clothes. The other students have a gu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o is he /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122" descr="8957895231418743120515"/>
          <p:cNvPicPr/>
          <p:nvPr/>
        </p:nvPicPr>
        <p:blipFill>
          <a:blip r:embed="rId1"/>
          <a:stretch/>
        </p:blipFill>
        <p:spPr>
          <a:xfrm>
            <a:off x="0" y="0"/>
            <a:ext cx="48895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123" descr="5383480891418743120515"/>
          <p:cNvPicPr/>
          <p:nvPr/>
        </p:nvPicPr>
        <p:blipFill>
          <a:blip r:embed="rId2"/>
          <a:stretch/>
        </p:blipFill>
        <p:spPr>
          <a:xfrm>
            <a:off x="2411280" y="0"/>
            <a:ext cx="2737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124" descr="3560603061418743120531"/>
          <p:cNvPicPr/>
          <p:nvPr/>
        </p:nvPicPr>
        <p:blipFill>
          <a:blip r:embed="rId3"/>
          <a:stretch/>
        </p:blipFill>
        <p:spPr>
          <a:xfrm>
            <a:off x="5614920" y="0"/>
            <a:ext cx="3529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5126"/>
          <p:cNvSpPr/>
          <p:nvPr/>
        </p:nvSpPr>
        <p:spPr>
          <a:xfrm>
            <a:off x="971640" y="5229360"/>
            <a:ext cx="7559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re they we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145" descr="8957895231418743120515"/>
          <p:cNvPicPr/>
          <p:nvPr/>
        </p:nvPicPr>
        <p:blipFill>
          <a:blip r:embed="rId1"/>
          <a:stretch/>
        </p:blipFill>
        <p:spPr>
          <a:xfrm>
            <a:off x="0" y="20520"/>
            <a:ext cx="6902280" cy="6837480"/>
          </a:xfrm>
          <a:prstGeom prst="rect">
            <a:avLst/>
          </a:prstGeom>
          <a:ln w="0">
            <a:noFill/>
          </a:ln>
        </p:spPr>
      </p:pic>
      <p:sp>
        <p:nvSpPr>
          <p:cNvPr id="64" name="矩形 6146"/>
          <p:cNvSpPr/>
          <p:nvPr/>
        </p:nvSpPr>
        <p:spPr>
          <a:xfrm>
            <a:off x="3492360" y="17640"/>
            <a:ext cx="5651640" cy="68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148"/>
          <p:cNvSpPr/>
          <p:nvPr/>
        </p:nvSpPr>
        <p:spPr>
          <a:xfrm>
            <a:off x="-27360" y="-3960"/>
            <a:ext cx="11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158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149"/>
          <p:cNvSpPr/>
          <p:nvPr/>
        </p:nvSpPr>
        <p:spPr>
          <a:xfrm>
            <a:off x="4932360" y="3284640"/>
            <a:ext cx="122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150"/>
          <p:cNvSpPr/>
          <p:nvPr/>
        </p:nvSpPr>
        <p:spPr>
          <a:xfrm>
            <a:off x="-27360" y="-3960"/>
            <a:ext cx="11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158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151"/>
          <p:cNvSpPr/>
          <p:nvPr/>
        </p:nvSpPr>
        <p:spPr>
          <a:xfrm>
            <a:off x="-27360" y="-3960"/>
            <a:ext cx="11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158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8"/>
          <p:cNvSpPr/>
          <p:nvPr/>
        </p:nvSpPr>
        <p:spPr>
          <a:xfrm>
            <a:off x="7308720" y="3571920"/>
            <a:ext cx="1800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3"/>
          <p:cNvSpPr/>
          <p:nvPr/>
        </p:nvSpPr>
        <p:spPr>
          <a:xfrm>
            <a:off x="5580000" y="3787920"/>
            <a:ext cx="208440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4"/>
          <p:cNvSpPr/>
          <p:nvPr/>
        </p:nvSpPr>
        <p:spPr>
          <a:xfrm>
            <a:off x="3564000" y="3500280"/>
            <a:ext cx="723960" cy="1009800"/>
          </a:xfrm>
          <a:custGeom>
            <a:avLst/>
            <a:gdLst>
              <a:gd name="textAreaLeft" fmla="*/ 35280 w 723960"/>
              <a:gd name="textAreaRight" fmla="*/ 688680 w 723960"/>
              <a:gd name="textAreaTop" fmla="*/ 35280 h 1009800"/>
              <a:gd name="textAreaBottom" fmla="*/ 974520 h 1009800"/>
            </a:gdLst>
            <a:ahLst/>
            <a:rect l="textAreaLeft" t="textAreaTop" r="textAreaRight" b="textAreaBottom"/>
            <a:pathLst>
              <a:path w="21600" h="30124">
                <a:moveTo>
                  <a:pt x="3600" y="0"/>
                </a:moveTo>
                <a:arcTo wR="3600" hR="3600" stAng="16200000" swAng="-5400000"/>
                <a:lnTo>
                  <a:pt x="0" y="26524"/>
                </a:lnTo>
                <a:arcTo wR="3600" hR="3600" stAng="10800000" swAng="-5400000"/>
                <a:lnTo>
                  <a:pt x="18000" y="30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5"/>
          <p:cNvSpPr/>
          <p:nvPr/>
        </p:nvSpPr>
        <p:spPr>
          <a:xfrm>
            <a:off x="4211640" y="3500280"/>
            <a:ext cx="187020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3"/>
          <p:cNvSpPr/>
          <p:nvPr/>
        </p:nvSpPr>
        <p:spPr>
          <a:xfrm>
            <a:off x="7380360" y="1484280"/>
            <a:ext cx="1800000" cy="60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27"/>
          <p:cNvSpPr/>
          <p:nvPr/>
        </p:nvSpPr>
        <p:spPr>
          <a:xfrm>
            <a:off x="5508720" y="1484280"/>
            <a:ext cx="208440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28"/>
          <p:cNvSpPr/>
          <p:nvPr/>
        </p:nvSpPr>
        <p:spPr>
          <a:xfrm>
            <a:off x="3559320" y="1268280"/>
            <a:ext cx="723600" cy="1009800"/>
          </a:xfrm>
          <a:custGeom>
            <a:avLst/>
            <a:gdLst>
              <a:gd name="textAreaLeft" fmla="*/ 35280 w 723600"/>
              <a:gd name="textAreaRight" fmla="*/ 688320 w 723600"/>
              <a:gd name="textAreaTop" fmla="*/ 35280 h 1009800"/>
              <a:gd name="textAreaBottom" fmla="*/ 974520 h 1009800"/>
            </a:gdLst>
            <a:ahLst/>
            <a:rect l="textAreaLeft" t="textAreaTop" r="textAreaRight" b="textAreaBottom"/>
            <a:pathLst>
              <a:path w="21600" h="30139">
                <a:moveTo>
                  <a:pt x="3600" y="0"/>
                </a:moveTo>
                <a:arcTo wR="3600" hR="3600" stAng="16200000" swAng="-5400000"/>
                <a:lnTo>
                  <a:pt x="0" y="26539"/>
                </a:lnTo>
                <a:arcTo wR="3600" hR="3600" stAng="10800000" swAng="-5400000"/>
                <a:lnTo>
                  <a:pt x="18000" y="30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29"/>
          <p:cNvSpPr/>
          <p:nvPr/>
        </p:nvSpPr>
        <p:spPr>
          <a:xfrm>
            <a:off x="4140360" y="1266840"/>
            <a:ext cx="186984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 flipV="1">
            <a:off x="2195640" y="2060640"/>
            <a:ext cx="2808000" cy="93672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2771640" y="4221000"/>
            <a:ext cx="2664000" cy="93672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7169" descr="538348089141874312051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170"/>
          <p:cNvSpPr/>
          <p:nvPr/>
        </p:nvSpPr>
        <p:spPr>
          <a:xfrm>
            <a:off x="5148360" y="981000"/>
            <a:ext cx="208440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t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7171"/>
          <p:cNvSpPr/>
          <p:nvPr/>
        </p:nvSpPr>
        <p:spPr>
          <a:xfrm>
            <a:off x="3203640" y="981000"/>
            <a:ext cx="723960" cy="1009800"/>
          </a:xfrm>
          <a:custGeom>
            <a:avLst/>
            <a:gdLst>
              <a:gd name="textAreaLeft" fmla="*/ 35280 w 723960"/>
              <a:gd name="textAreaRight" fmla="*/ 688680 w 723960"/>
              <a:gd name="textAreaTop" fmla="*/ 35280 h 1009800"/>
              <a:gd name="textAreaBottom" fmla="*/ 974520 h 1009800"/>
            </a:gdLst>
            <a:ahLst/>
            <a:rect l="textAreaLeft" t="textAreaTop" r="textAreaRight" b="textAreaBottom"/>
            <a:pathLst>
              <a:path w="21600" h="30124">
                <a:moveTo>
                  <a:pt x="3600" y="0"/>
                </a:moveTo>
                <a:arcTo wR="3600" hR="3600" stAng="16200000" swAng="-5400000"/>
                <a:lnTo>
                  <a:pt x="0" y="26524"/>
                </a:lnTo>
                <a:arcTo wR="3600" hR="3600" stAng="10800000" swAng="-5400000"/>
                <a:lnTo>
                  <a:pt x="18000" y="30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7172"/>
          <p:cNvSpPr/>
          <p:nvPr/>
        </p:nvSpPr>
        <p:spPr>
          <a:xfrm>
            <a:off x="6948360" y="979560"/>
            <a:ext cx="19479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-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173"/>
          <p:cNvSpPr/>
          <p:nvPr/>
        </p:nvSpPr>
        <p:spPr>
          <a:xfrm>
            <a:off x="3781440" y="984240"/>
            <a:ext cx="187020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7174"/>
          <p:cNvSpPr/>
          <p:nvPr/>
        </p:nvSpPr>
        <p:spPr>
          <a:xfrm>
            <a:off x="3495600" y="2421000"/>
            <a:ext cx="208440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7175"/>
          <p:cNvSpPr/>
          <p:nvPr/>
        </p:nvSpPr>
        <p:spPr>
          <a:xfrm>
            <a:off x="5364000" y="2424240"/>
            <a:ext cx="1800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7176"/>
          <p:cNvSpPr/>
          <p:nvPr/>
        </p:nvSpPr>
        <p:spPr>
          <a:xfrm>
            <a:off x="2843280" y="4149720"/>
            <a:ext cx="575604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air of tr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 flipV="1">
            <a:off x="1835280" y="1844640"/>
            <a:ext cx="2520720" cy="50472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V="1">
            <a:off x="1908000" y="3068640"/>
            <a:ext cx="2570400" cy="65088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2268360" y="4941720"/>
            <a:ext cx="2664000" cy="141624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9222" descr="3560603061418743120531"/>
          <p:cNvPicPr/>
          <p:nvPr/>
        </p:nvPicPr>
        <p:blipFill>
          <a:blip r:embed="rId1"/>
          <a:stretch/>
        </p:blipFill>
        <p:spPr>
          <a:xfrm>
            <a:off x="50036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 9223"/>
          <p:cNvSpPr/>
          <p:nvPr/>
        </p:nvSpPr>
        <p:spPr>
          <a:xfrm>
            <a:off x="250920" y="1413000"/>
            <a:ext cx="49305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weat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毛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9224"/>
          <p:cNvSpPr/>
          <p:nvPr/>
        </p:nvSpPr>
        <p:spPr>
          <a:xfrm>
            <a:off x="4067280" y="4149720"/>
            <a:ext cx="136836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9225"/>
          <p:cNvSpPr/>
          <p:nvPr/>
        </p:nvSpPr>
        <p:spPr>
          <a:xfrm>
            <a:off x="31680" y="4149720"/>
            <a:ext cx="723960" cy="1009800"/>
          </a:xfrm>
          <a:custGeom>
            <a:avLst/>
            <a:gdLst>
              <a:gd name="textAreaLeft" fmla="*/ 35280 w 723960"/>
              <a:gd name="textAreaRight" fmla="*/ 688680 w 723960"/>
              <a:gd name="textAreaTop" fmla="*/ 35280 h 1009800"/>
              <a:gd name="textAreaBottom" fmla="*/ 974520 h 1009800"/>
            </a:gdLst>
            <a:ahLst/>
            <a:rect l="textAreaLeft" t="textAreaTop" r="textAreaRight" b="textAreaBottom"/>
            <a:pathLst>
              <a:path w="21600" h="30124">
                <a:moveTo>
                  <a:pt x="3600" y="0"/>
                </a:moveTo>
                <a:arcTo wR="3600" hR="3600" stAng="16200000" swAng="-5400000"/>
                <a:lnTo>
                  <a:pt x="0" y="26524"/>
                </a:lnTo>
                <a:arcTo wR="3600" hR="3600" stAng="10800000" swAng="-5400000"/>
                <a:lnTo>
                  <a:pt x="18000" y="30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226"/>
          <p:cNvSpPr/>
          <p:nvPr/>
        </p:nvSpPr>
        <p:spPr>
          <a:xfrm>
            <a:off x="684360" y="4149720"/>
            <a:ext cx="3600360" cy="100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ack and wh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3059280" y="2276640"/>
            <a:ext cx="2520720" cy="107604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3708360" y="4941720"/>
            <a:ext cx="2643120" cy="50040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3"/>
          <p:cNvSpPr txBox="1"/>
          <p:nvPr/>
        </p:nvSpPr>
        <p:spPr>
          <a:xfrm>
            <a:off x="5975280" y="321300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Pre-writ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645000"/>
            <a:ext cx="81374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25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sk 1:  Problems and 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eec7a213a85bdb0d6cae2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19600" y="1197000"/>
            <a:ext cx="601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Arial"/>
              </a:rPr>
              <a:t>Pre-writ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3716280"/>
            <a:ext cx="772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ask1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: Pres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Sandy’s fashion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4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4520" y="639720"/>
            <a:ext cx="15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2160" y="1574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8680" y="2276640"/>
            <a:ext cx="45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 made of co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4520" y="32130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ok c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07664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ch any other colo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00" y="486900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= go well with any other colo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3:32:24Z</dcterms:created>
  <dc:creator>m</dc:creator>
  <dc:description/>
  <cp:keywords/>
  <dc:language>en-US</dc:language>
  <cp:lastModifiedBy>walkinnet</cp:lastModifiedBy>
  <dcterms:modified xsi:type="dcterms:W3CDTF">2016-12-21T02:08:51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