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laser.wav" ContentType="audio/x-wav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7F8-ED67-4C7C-885D-0EE33CB5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E11-66E0-4DBC-A9D8-8E2BE1B6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1CD-9BFE-4B49-A479-5032A372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BD7-C7FB-4E79-906F-C1501802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FCE2-60D7-4A03-BF7A-B998D29E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F1A6-AC47-4D4A-A813-37F6DF58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4908-3464-4B96-9B32-899CA39C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6A81-53EF-43FD-B761-AC6AE38F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0F54-2F84-420F-ADA0-1C7F5BE2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5098-42DF-4BF6-934C-412F843D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559A-FE05-4100-A346-0FE0176C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F22-F56D-4B94-9882-ED1D322B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1931-38B8-4937-A67F-474D627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27F8-9DD8-488C-A1B2-C4051FBE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781B-893D-4C29-926F-708B1735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1475-C655-4B29-99FC-9D555A3F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E29B-7C91-4529-8422-3EF79C3C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DCC-9E31-41D5-9BBA-747AB730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D76-66C9-4131-A769-F2D1A925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7EF-AACF-45E5-8038-A6242BE8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EFD-6026-4D33-B6DE-95B78E6C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3B3-D2D5-4E4E-B66F-4919DE79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C4E-9505-4B4A-98F6-0534CB8B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926-EA8D-4770-9991-F265AC4F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892B-D4D4-4E08-9FED-DFF314AE4D3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2F9D-E86E-4A81-8A2E-232F90AEC08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905120" y="1752480"/>
            <a:ext cx="5715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方正行楷简体"/>
              </a:rPr>
              <a:t>圆的面积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方正行楷简体"/>
              <a:ea typeface="方正行楷简体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4869000"/>
            <a:ext cx="396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393372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258920" y="4581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提示：这是一种自动旋转喷灌装置，射程相当于圆的半径，灌溉面积相当于圆的面积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11280" y="5445000"/>
            <a:ext cx="48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.14x10²=31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m²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：它能喷灌的面积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14 m²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3492360" y="3141720"/>
            <a:ext cx="49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340000" y="242100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356000" y="3933720"/>
            <a:ext cx="47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3816360" y="3213000"/>
            <a:ext cx="5327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r:125.6÷3.14÷2=20(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.14X20²=125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cm²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：这棵树干的横截面面积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256cm²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924360" y="1773360"/>
            <a:ext cx="48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一棵树干的周长是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125.6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厘米，这棵树干的横截面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2268360" y="2060640"/>
            <a:ext cx="4343400" cy="3960720"/>
            <a:chOff x="2268360" y="2060640"/>
            <a:chExt cx="4343400" cy="3960720"/>
          </a:xfrm>
        </p:grpSpPr>
        <p:sp>
          <p:nvSpPr>
            <p:cNvPr id="767" name=""/>
            <p:cNvSpPr/>
            <p:nvPr/>
          </p:nvSpPr>
          <p:spPr>
            <a:xfrm>
              <a:off x="2496600" y="2060640"/>
              <a:ext cx="3962520" cy="396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" y="10587"/>
                  </a:moveTo>
                  <a:arcTo wR="10800" hR="10800" stAng="-10732079" swAng="10736012"/>
                  <a:lnTo>
                    <a:pt x="10800" y="10800"/>
                  </a:lnTo>
                  <a:close/>
                </a:path>
                <a:path fill="none" w="21600" h="21600">
                  <a:moveTo>
                    <a:pt x="2" y="10587"/>
                  </a:moveTo>
                  <a:arcTo wR="10800" hR="10800" stAng="-10732079" swAng="10736012"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rot="12462000">
              <a:off x="2709360" y="3122640"/>
              <a:ext cx="3475080" cy="183636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35400" y="2441520"/>
              <a:ext cx="0" cy="160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35400" y="3659040"/>
              <a:ext cx="304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39960" y="366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 txBox="1"/>
            <p:nvPr/>
          </p:nvSpPr>
          <p:spPr>
            <a:xfrm>
              <a:off x="3030480" y="20638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2268360" y="412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6383160" y="4121280"/>
              <a:ext cx="228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>
              <a:off x="3411360" y="412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3462120" y="2797200"/>
              <a:ext cx="33048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324000" y="2602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、拓展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已知半圆中三角形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的高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厘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面积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平方厘米，求半圆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411280" y="4724280"/>
            <a:ext cx="547380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底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0x2÷5=12(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.14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2÷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²÷2=56.5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cm²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：半圆面积是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56.52 cm²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有一根绳子长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31.4m,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我想在操场上围出一片地供大家下课后做游戏，想想可以怎样围？哪种情况下围成的面积最大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5724720" cy="3645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429264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小明沿着直径是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米的圆形草坪走了一圈，他走了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5084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这个圆形草坪的占地面积是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8000" y="333360"/>
            <a:ext cx="4321440" cy="424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05520" y="472428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圆所占平面的大小叫做圆的面积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活动要求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让我们来做一个实验，拿出准备好的圆，把圆分成若干（偶数）等份，剪开后用这些近似等腰三角形的小纸片拼一拼，看看你们能发现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注意：小组合作完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62320" y="1219320"/>
            <a:ext cx="990360" cy="75960"/>
          </a:xfrm>
          <a:prstGeom prst="rightArrow">
            <a:avLst>
              <a:gd name="adj1" fmla="val 50000"/>
              <a:gd name="adj2" fmla="val 32594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1295280"/>
            <a:ext cx="990360" cy="76320"/>
          </a:xfrm>
          <a:prstGeom prst="rightArrow">
            <a:avLst>
              <a:gd name="adj1" fmla="val 50000"/>
              <a:gd name="adj2" fmla="val 32441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8305560" y="2362320"/>
            <a:ext cx="990360" cy="75960"/>
          </a:xfrm>
          <a:prstGeom prst="rightArrow">
            <a:avLst>
              <a:gd name="adj1" fmla="val 50000"/>
              <a:gd name="adj2" fmla="val 32594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257800" y="3352680"/>
            <a:ext cx="990720" cy="76320"/>
          </a:xfrm>
          <a:prstGeom prst="rightArrow">
            <a:avLst>
              <a:gd name="adj1" fmla="val 50000"/>
              <a:gd name="adj2" fmla="val 324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400" y="3200400"/>
            <a:ext cx="10666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81960" y="181800"/>
            <a:ext cx="3084120" cy="2256480"/>
            <a:chOff x="3081960" y="181800"/>
            <a:chExt cx="3084120" cy="2256480"/>
          </a:xfrm>
        </p:grpSpPr>
        <p:grpSp>
          <p:nvGrpSpPr>
            <p:cNvPr id="164" name=""/>
            <p:cNvGrpSpPr/>
            <p:nvPr/>
          </p:nvGrpSpPr>
          <p:grpSpPr>
            <a:xfrm>
              <a:off x="3081960" y="181800"/>
              <a:ext cx="3084120" cy="2203920"/>
              <a:chOff x="3081960" y="181800"/>
              <a:chExt cx="3084120" cy="2203920"/>
            </a:xfrm>
          </p:grpSpPr>
          <p:sp>
            <p:nvSpPr>
              <p:cNvPr id="165" name=""/>
              <p:cNvSpPr/>
              <p:nvPr/>
            </p:nvSpPr>
            <p:spPr>
              <a:xfrm flipH="1" flipV="1" rot="18992400">
                <a:off x="3782880" y="448200"/>
                <a:ext cx="125496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29800" y="228960"/>
                <a:ext cx="1736280" cy="1729800"/>
                <a:chOff x="4429800" y="228960"/>
                <a:chExt cx="1736280" cy="1729800"/>
              </a:xfrm>
            </p:grpSpPr>
            <p:sp>
              <p:nvSpPr>
                <p:cNvPr id="167" name=""/>
                <p:cNvSpPr/>
                <p:nvPr/>
              </p:nvSpPr>
              <p:spPr>
                <a:xfrm flipV="1" rot="3022800">
                  <a:off x="4694400" y="465840"/>
                  <a:ext cx="1206720" cy="125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814280" y="1094040"/>
                  <a:ext cx="868680" cy="465120"/>
                  <a:chOff x="4814280" y="1094040"/>
                  <a:chExt cx="868680" cy="4651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V="1">
                    <a:off x="4814280" y="1094040"/>
                    <a:ext cx="483480" cy="40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297760" y="1094040"/>
                    <a:ext cx="385200" cy="465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3946680" y="650160"/>
                <a:ext cx="1739520" cy="1735560"/>
                <a:chOff x="3946680" y="650160"/>
                <a:chExt cx="1739520" cy="1735560"/>
              </a:xfrm>
            </p:grpSpPr>
            <p:sp>
              <p:nvSpPr>
                <p:cNvPr id="172" name=""/>
                <p:cNvSpPr/>
                <p:nvPr/>
              </p:nvSpPr>
              <p:spPr>
                <a:xfrm rot="19101600">
                  <a:off x="4188960" y="914400"/>
                  <a:ext cx="1254960" cy="1206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4415760" y="1067040"/>
                  <a:ext cx="870120" cy="451080"/>
                  <a:chOff x="4415760" y="1067040"/>
                  <a:chExt cx="870120" cy="4510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4415760" y="1067040"/>
                    <a:ext cx="401040" cy="45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V="1">
                    <a:off x="4816800" y="1101240"/>
                    <a:ext cx="469080" cy="4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3081960" y="628920"/>
                <a:ext cx="1740960" cy="1739160"/>
                <a:chOff x="3081960" y="628920"/>
                <a:chExt cx="1740960" cy="1739160"/>
              </a:xfrm>
            </p:grpSpPr>
            <p:sp>
              <p:nvSpPr>
                <p:cNvPr id="177" name=""/>
                <p:cNvSpPr/>
                <p:nvPr/>
              </p:nvSpPr>
              <p:spPr>
                <a:xfrm flipH="1" rot="2784000">
                  <a:off x="3349080" y="870840"/>
                  <a:ext cx="1206720" cy="125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3535920" y="1061640"/>
                  <a:ext cx="870840" cy="437040"/>
                  <a:chOff x="3535920" y="1061640"/>
                  <a:chExt cx="870840" cy="4370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>
                    <a:off x="3952080" y="1065960"/>
                    <a:ext cx="454680" cy="43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flipV="1">
                    <a:off x="3535920" y="1061640"/>
                    <a:ext cx="416160" cy="437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"/>
            <p:cNvSpPr txBox="1"/>
            <p:nvPr/>
          </p:nvSpPr>
          <p:spPr>
            <a:xfrm>
              <a:off x="4267080" y="19810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551640" y="1063440"/>
            <a:ext cx="2206440" cy="1451160"/>
            <a:chOff x="6551640" y="1063440"/>
            <a:chExt cx="2206440" cy="1451160"/>
          </a:xfrm>
        </p:grpSpPr>
        <p:grpSp>
          <p:nvGrpSpPr>
            <p:cNvPr id="183" name=""/>
            <p:cNvGrpSpPr/>
            <p:nvPr/>
          </p:nvGrpSpPr>
          <p:grpSpPr>
            <a:xfrm>
              <a:off x="6551640" y="1063440"/>
              <a:ext cx="2206440" cy="789120"/>
              <a:chOff x="6551640" y="1063440"/>
              <a:chExt cx="2206440" cy="7891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6551640" y="1119960"/>
                <a:ext cx="1947240" cy="732600"/>
                <a:chOff x="6551640" y="1119960"/>
                <a:chExt cx="1947240" cy="73260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8006040" y="1136520"/>
                  <a:ext cx="492840" cy="716040"/>
                  <a:chOff x="8006040" y="1136520"/>
                  <a:chExt cx="492840" cy="71604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8006040" y="1136520"/>
                    <a:ext cx="492840" cy="716040"/>
                    <a:chOff x="8006040" y="1136520"/>
                    <a:chExt cx="492840" cy="716040"/>
                  </a:xfrm>
                </p:grpSpPr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8006040" y="1136520"/>
                      <a:ext cx="492840" cy="716040"/>
                      <a:chOff x="8006040" y="1136520"/>
                      <a:chExt cx="492840" cy="716040"/>
                    </a:xfrm>
                  </p:grpSpPr>
                  <p:sp>
                    <p:nvSpPr>
                      <p:cNvPr id="188" name=""/>
                      <p:cNvSpPr/>
                      <p:nvPr/>
                    </p:nvSpPr>
                    <p:spPr>
                      <a:xfrm rot="12600">
                        <a:off x="8007120" y="1137240"/>
                        <a:ext cx="490320" cy="71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124">
                            <a:moveTo>
                              <a:pt x="93" y="111"/>
                            </a:moveTo>
                            <a:cubicBezTo>
                              <a:pt x="63" y="124"/>
                              <a:pt x="30" y="123"/>
                              <a:pt x="0" y="111"/>
                            </a:cubicBezTo>
                            <a:lnTo>
                              <a:pt x="48" y="0"/>
                            </a:lnTo>
                            <a:lnTo>
                              <a:pt x="93" y="111"/>
                            </a:lnTo>
                            <a:close/>
                          </a:path>
                        </a:pathLst>
                      </a:custGeom>
                      <a:solidFill>
                        <a:srgbClr val="99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 rot="12600">
                        <a:off x="8006040" y="1776960"/>
                        <a:ext cx="49032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13">
                            <a:moveTo>
                              <a:pt x="93" y="0"/>
                            </a:moveTo>
                            <a:cubicBezTo>
                              <a:pt x="63" y="13"/>
                              <a:pt x="30" y="12"/>
                              <a:pt x="0" y="0"/>
                            </a:cubicBez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8262000" y="1136880"/>
                      <a:ext cx="234360" cy="64080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 flipV="1">
                    <a:off x="8006400" y="1143720"/>
                    <a:ext cx="244800" cy="62784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6551640" y="1119960"/>
                  <a:ext cx="1456920" cy="726120"/>
                  <a:chOff x="6551640" y="1119960"/>
                  <a:chExt cx="1456920" cy="72612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6551640" y="1119960"/>
                    <a:ext cx="493200" cy="709920"/>
                    <a:chOff x="6551640" y="1119960"/>
                    <a:chExt cx="493200" cy="709920"/>
                  </a:xfrm>
                </p:grpSpPr>
                <p:grpSp>
                  <p:nvGrpSpPr>
                    <p:cNvPr id="194" name=""/>
                    <p:cNvGrpSpPr/>
                    <p:nvPr/>
                  </p:nvGrpSpPr>
                  <p:grpSpPr>
                    <a:xfrm>
                      <a:off x="6551640" y="1119960"/>
                      <a:ext cx="493200" cy="709920"/>
                      <a:chOff x="6551640" y="1119960"/>
                      <a:chExt cx="493200" cy="709920"/>
                    </a:xfrm>
                  </p:grpSpPr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6551640" y="1119960"/>
                        <a:ext cx="493200" cy="709920"/>
                        <a:chOff x="6551640" y="1119960"/>
                        <a:chExt cx="493200" cy="70992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 rot="12600">
                          <a:off x="6552720" y="1120680"/>
                          <a:ext cx="490680" cy="70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" h="123">
                              <a:moveTo>
                                <a:pt x="93" y="111"/>
                              </a:moveTo>
                              <a:cubicBezTo>
                                <a:pt x="63" y="123"/>
                                <a:pt x="30" y="123"/>
                                <a:pt x="0" y="110"/>
                              </a:cubicBezTo>
                              <a:lnTo>
                                <a:pt x="48" y="0"/>
                              </a:lnTo>
                              <a:lnTo>
                                <a:pt x="93" y="1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 rot="12600">
                          <a:off x="6551640" y="1754280"/>
                          <a:ext cx="490680" cy="74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" h="13">
                              <a:moveTo>
                                <a:pt x="93" y="1"/>
                              </a:moveTo>
                              <a:cubicBezTo>
                                <a:pt x="63" y="13"/>
                                <a:pt x="30" y="1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98" name=""/>
                      <p:cNvSpPr/>
                      <p:nvPr/>
                    </p:nvSpPr>
                    <p:spPr>
                      <a:xfrm flipH="1" flipV="1">
                        <a:off x="6806520" y="1120320"/>
                        <a:ext cx="235800" cy="64080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9" name=""/>
                    <p:cNvSpPr/>
                    <p:nvPr/>
                  </p:nvSpPr>
                  <p:spPr>
                    <a:xfrm flipV="1">
                      <a:off x="6552000" y="1127160"/>
                      <a:ext cx="249840" cy="62640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7521840" y="1134720"/>
                    <a:ext cx="486720" cy="711360"/>
                    <a:chOff x="7521840" y="1134720"/>
                    <a:chExt cx="486720" cy="711360"/>
                  </a:xfrm>
                </p:grpSpPr>
                <p:grpSp>
                  <p:nvGrpSpPr>
                    <p:cNvPr id="201" name=""/>
                    <p:cNvGrpSpPr/>
                    <p:nvPr/>
                  </p:nvGrpSpPr>
                  <p:grpSpPr>
                    <a:xfrm>
                      <a:off x="7521840" y="1134720"/>
                      <a:ext cx="486720" cy="711360"/>
                      <a:chOff x="7521840" y="1134720"/>
                      <a:chExt cx="486720" cy="711360"/>
                    </a:xfrm>
                  </p:grpSpPr>
                  <p:grpSp>
                    <p:nvGrpSpPr>
                      <p:cNvPr id="202" name=""/>
                      <p:cNvGrpSpPr/>
                      <p:nvPr/>
                    </p:nvGrpSpPr>
                    <p:grpSpPr>
                      <a:xfrm>
                        <a:off x="7521840" y="1134720"/>
                        <a:ext cx="486720" cy="711360"/>
                        <a:chOff x="7521840" y="1134720"/>
                        <a:chExt cx="486720" cy="711360"/>
                      </a:xfrm>
                    </p:grpSpPr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 rot="12600">
                          <a:off x="7522920" y="1135440"/>
                          <a:ext cx="484200" cy="709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123">
                              <a:moveTo>
                                <a:pt x="92" y="112"/>
                              </a:moveTo>
                              <a:cubicBezTo>
                                <a:pt x="62" y="123"/>
                                <a:pt x="29" y="123"/>
                                <a:pt x="0" y="109"/>
                              </a:cubicBezTo>
                              <a:lnTo>
                                <a:pt x="49" y="0"/>
                              </a:lnTo>
                              <a:lnTo>
                                <a:pt x="92" y="1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 rot="12600">
                          <a:off x="7521840" y="1764000"/>
                          <a:ext cx="484200" cy="8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14">
                              <a:moveTo>
                                <a:pt x="92" y="3"/>
                              </a:moveTo>
                              <a:cubicBezTo>
                                <a:pt x="62" y="14"/>
                                <a:pt x="29" y="14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200" bIns="34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05" name=""/>
                      <p:cNvSpPr/>
                      <p:nvPr/>
                    </p:nvSpPr>
                    <p:spPr>
                      <a:xfrm flipH="1" flipV="1">
                        <a:off x="7783200" y="1135080"/>
                        <a:ext cx="223200" cy="64728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"/>
                    <p:cNvSpPr/>
                    <p:nvPr/>
                  </p:nvSpPr>
                  <p:spPr>
                    <a:xfrm flipV="1">
                      <a:off x="7522200" y="1135440"/>
                      <a:ext cx="249840" cy="6278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035840" y="1128240"/>
                    <a:ext cx="493200" cy="709560"/>
                    <a:chOff x="7035840" y="1128240"/>
                    <a:chExt cx="493200" cy="709560"/>
                  </a:xfrm>
                </p:grpSpPr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7035840" y="1128240"/>
                      <a:ext cx="493200" cy="709560"/>
                      <a:chOff x="7035840" y="1128240"/>
                      <a:chExt cx="493200" cy="709560"/>
                    </a:xfrm>
                  </p:grpSpPr>
                  <p:grpSp>
                    <p:nvGrpSpPr>
                      <p:cNvPr id="209" name=""/>
                      <p:cNvGrpSpPr/>
                      <p:nvPr/>
                    </p:nvGrpSpPr>
                    <p:grpSpPr>
                      <a:xfrm>
                        <a:off x="7035840" y="1128240"/>
                        <a:ext cx="493200" cy="709560"/>
                        <a:chOff x="7035840" y="1128240"/>
                        <a:chExt cx="493200" cy="709560"/>
                      </a:xfrm>
                    </p:grpSpPr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 rot="12600">
                          <a:off x="7036920" y="1128960"/>
                          <a:ext cx="490680" cy="707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" h="123">
                              <a:moveTo>
                                <a:pt x="93" y="111"/>
                              </a:moveTo>
                              <a:cubicBezTo>
                                <a:pt x="63" y="123"/>
                                <a:pt x="30" y="123"/>
                                <a:pt x="0" y="110"/>
                              </a:cubicBezTo>
                              <a:lnTo>
                                <a:pt x="48" y="0"/>
                              </a:lnTo>
                              <a:lnTo>
                                <a:pt x="93" y="1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rot="12600">
                          <a:off x="7035840" y="1762200"/>
                          <a:ext cx="490680" cy="74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" h="13">
                              <a:moveTo>
                                <a:pt x="93" y="1"/>
                              </a:moveTo>
                              <a:cubicBezTo>
                                <a:pt x="63" y="13"/>
                                <a:pt x="30" y="1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12" name=""/>
                      <p:cNvSpPr/>
                      <p:nvPr/>
                    </p:nvSpPr>
                    <p:spPr>
                      <a:xfrm flipH="1" flipV="1">
                        <a:off x="7292160" y="1128600"/>
                        <a:ext cx="234360" cy="64080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13" name=""/>
                    <p:cNvSpPr/>
                    <p:nvPr/>
                  </p:nvSpPr>
                  <p:spPr>
                    <a:xfrm flipV="1">
                      <a:off x="7036200" y="1128600"/>
                      <a:ext cx="245160" cy="6325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8264880" y="1068840"/>
                <a:ext cx="493200" cy="709920"/>
                <a:chOff x="8264880" y="1068840"/>
                <a:chExt cx="493200" cy="70992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8264880" y="1068840"/>
                  <a:ext cx="493200" cy="709920"/>
                  <a:chOff x="8264880" y="1068840"/>
                  <a:chExt cx="493200" cy="709920"/>
                </a:xfrm>
              </p:grpSpPr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8264880" y="1068840"/>
                    <a:ext cx="493200" cy="709920"/>
                    <a:chOff x="8264880" y="1068840"/>
                    <a:chExt cx="493200" cy="7099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rot="12600">
                      <a:off x="8265960" y="1069560"/>
                      <a:ext cx="490680" cy="70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23">
                          <a:moveTo>
                            <a:pt x="93" y="12"/>
                          </a:moveTo>
                          <a:cubicBezTo>
                            <a:pt x="63" y="0"/>
                            <a:pt x="29" y="0"/>
                            <a:pt x="0" y="12"/>
                          </a:cubicBezTo>
                          <a:lnTo>
                            <a:pt x="46" y="123"/>
                          </a:lnTo>
                          <a:lnTo>
                            <a:pt x="93" y="12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rot="12600">
                      <a:off x="8267040" y="1069560"/>
                      <a:ext cx="4906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2">
                          <a:moveTo>
                            <a:pt x="93" y="12"/>
                          </a:moveTo>
                          <a:cubicBezTo>
                            <a:pt x="63" y="0"/>
                            <a:pt x="29" y="0"/>
                            <a:pt x="0" y="12"/>
                          </a:cubicBez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9" name=""/>
                  <p:cNvSpPr/>
                  <p:nvPr/>
                </p:nvSpPr>
                <p:spPr>
                  <a:xfrm flipH="1">
                    <a:off x="8507520" y="1139040"/>
                    <a:ext cx="245160" cy="6390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>
                  <a:off x="8267040" y="1137240"/>
                  <a:ext cx="236160" cy="6361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804720" y="1063440"/>
                <a:ext cx="492840" cy="709920"/>
                <a:chOff x="6804720" y="1063440"/>
                <a:chExt cx="492840" cy="70992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6804720" y="1063440"/>
                  <a:ext cx="492840" cy="709920"/>
                  <a:chOff x="6804720" y="1063440"/>
                  <a:chExt cx="492840" cy="709920"/>
                </a:xfrm>
              </p:grpSpPr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6804720" y="1063440"/>
                    <a:ext cx="492840" cy="709920"/>
                    <a:chOff x="6804720" y="1063440"/>
                    <a:chExt cx="492840" cy="70992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 rot="12600">
                      <a:off x="6805800" y="1064160"/>
                      <a:ext cx="490320" cy="70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23">
                          <a:moveTo>
                            <a:pt x="93" y="12"/>
                          </a:moveTo>
                          <a:cubicBezTo>
                            <a:pt x="63" y="0"/>
                            <a:pt x="30" y="0"/>
                            <a:pt x="0" y="12"/>
                          </a:cubicBezTo>
                          <a:lnTo>
                            <a:pt x="48" y="123"/>
                          </a:lnTo>
                          <a:lnTo>
                            <a:pt x="93" y="12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rot="12600">
                      <a:off x="6806880" y="1064160"/>
                      <a:ext cx="4903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2">
                          <a:moveTo>
                            <a:pt x="93" y="12"/>
                          </a:moveTo>
                          <a:cubicBezTo>
                            <a:pt x="63" y="0"/>
                            <a:pt x="30" y="0"/>
                            <a:pt x="0" y="12"/>
                          </a:cubicBez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6" name=""/>
                  <p:cNvSpPr/>
                  <p:nvPr/>
                </p:nvSpPr>
                <p:spPr>
                  <a:xfrm flipH="1">
                    <a:off x="7058160" y="1133640"/>
                    <a:ext cx="238680" cy="6390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6806880" y="1131840"/>
                  <a:ext cx="240480" cy="6361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7783200" y="1067040"/>
                <a:ext cx="489240" cy="709920"/>
                <a:chOff x="7783200" y="1067040"/>
                <a:chExt cx="489240" cy="70992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7785720" y="1067040"/>
                  <a:ext cx="486720" cy="709920"/>
                  <a:chOff x="7785720" y="1067040"/>
                  <a:chExt cx="486720" cy="709920"/>
                </a:xfrm>
              </p:grpSpPr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7785720" y="1067040"/>
                    <a:ext cx="486720" cy="709920"/>
                    <a:chOff x="7785720" y="1067040"/>
                    <a:chExt cx="486720" cy="70992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12600">
                      <a:off x="7786800" y="1067760"/>
                      <a:ext cx="484200" cy="70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23">
                          <a:moveTo>
                            <a:pt x="92" y="14"/>
                          </a:moveTo>
                          <a:cubicBezTo>
                            <a:pt x="63" y="1"/>
                            <a:pt x="30" y="0"/>
                            <a:pt x="0" y="12"/>
                          </a:cubicBezTo>
                          <a:lnTo>
                            <a:pt x="43" y="123"/>
                          </a:lnTo>
                          <a:lnTo>
                            <a:pt x="92" y="14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12600">
                      <a:off x="7787880" y="1067760"/>
                      <a:ext cx="48420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">
                          <a:moveTo>
                            <a:pt x="92" y="14"/>
                          </a:moveTo>
                          <a:cubicBezTo>
                            <a:pt x="63" y="1"/>
                            <a:pt x="30" y="0"/>
                            <a:pt x="0" y="12"/>
                          </a:cubicBez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3" name=""/>
                  <p:cNvSpPr/>
                  <p:nvPr/>
                </p:nvSpPr>
                <p:spPr>
                  <a:xfrm flipH="1">
                    <a:off x="8012160" y="1148400"/>
                    <a:ext cx="259560" cy="62784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7783200" y="1135440"/>
                  <a:ext cx="223200" cy="640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7290360" y="1065240"/>
                <a:ext cx="493200" cy="709920"/>
                <a:chOff x="7290360" y="1065240"/>
                <a:chExt cx="493200" cy="7099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7290360" y="1065240"/>
                  <a:ext cx="493200" cy="709920"/>
                  <a:chOff x="7290360" y="1065240"/>
                  <a:chExt cx="493200" cy="709920"/>
                </a:xfrm>
              </p:grpSpPr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7290360" y="1065240"/>
                    <a:ext cx="493200" cy="709920"/>
                    <a:chOff x="7290360" y="1065240"/>
                    <a:chExt cx="493200" cy="70992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rot="12600">
                      <a:off x="7291440" y="1065960"/>
                      <a:ext cx="490680" cy="70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23">
                          <a:moveTo>
                            <a:pt x="93" y="12"/>
                          </a:moveTo>
                          <a:cubicBezTo>
                            <a:pt x="64" y="0"/>
                            <a:pt x="30" y="0"/>
                            <a:pt x="0" y="12"/>
                          </a:cubicBezTo>
                          <a:lnTo>
                            <a:pt x="47" y="123"/>
                          </a:lnTo>
                          <a:lnTo>
                            <a:pt x="93" y="12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rot="12600">
                      <a:off x="7292520" y="1065960"/>
                      <a:ext cx="4906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2">
                          <a:moveTo>
                            <a:pt x="93" y="12"/>
                          </a:moveTo>
                          <a:cubicBezTo>
                            <a:pt x="64" y="0"/>
                            <a:pt x="30" y="0"/>
                            <a:pt x="0" y="12"/>
                          </a:cubicBez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0" name=""/>
                  <p:cNvSpPr/>
                  <p:nvPr/>
                </p:nvSpPr>
                <p:spPr>
                  <a:xfrm flipH="1">
                    <a:off x="7537680" y="1135440"/>
                    <a:ext cx="245160" cy="6390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"/>
                <p:cNvSpPr/>
                <p:nvPr/>
              </p:nvSpPr>
              <p:spPr>
                <a:xfrm>
                  <a:off x="7292520" y="1133640"/>
                  <a:ext cx="240840" cy="6361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" name=""/>
            <p:cNvSpPr txBox="1"/>
            <p:nvPr/>
          </p:nvSpPr>
          <p:spPr>
            <a:xfrm>
              <a:off x="7238880" y="20574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33520" y="4952880"/>
            <a:ext cx="2286000" cy="1524240"/>
            <a:chOff x="533520" y="4952880"/>
            <a:chExt cx="2286000" cy="1524240"/>
          </a:xfrm>
        </p:grpSpPr>
        <p:sp>
          <p:nvSpPr>
            <p:cNvPr id="244" name=""/>
            <p:cNvSpPr/>
            <p:nvPr/>
          </p:nvSpPr>
          <p:spPr>
            <a:xfrm>
              <a:off x="533520" y="4952880"/>
              <a:ext cx="2286000" cy="76212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1295280" y="60199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长方形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57200" y="457200"/>
            <a:ext cx="1676520" cy="2133720"/>
            <a:chOff x="457200" y="457200"/>
            <a:chExt cx="1676520" cy="2133720"/>
          </a:xfrm>
        </p:grpSpPr>
        <p:sp>
          <p:nvSpPr>
            <p:cNvPr id="247" name=""/>
            <p:cNvSpPr/>
            <p:nvPr/>
          </p:nvSpPr>
          <p:spPr>
            <a:xfrm>
              <a:off x="457200" y="457200"/>
              <a:ext cx="1676520" cy="1523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838080" y="2133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圆形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587200" y="2010600"/>
            <a:ext cx="3964680" cy="2646000"/>
            <a:chOff x="5587200" y="2010600"/>
            <a:chExt cx="3964680" cy="2646000"/>
          </a:xfrm>
        </p:grpSpPr>
        <p:sp>
          <p:nvSpPr>
            <p:cNvPr id="250" name=""/>
            <p:cNvSpPr txBox="1"/>
            <p:nvPr/>
          </p:nvSpPr>
          <p:spPr>
            <a:xfrm>
              <a:off x="7162920" y="38098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6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587200" y="2010600"/>
              <a:ext cx="3964680" cy="2646000"/>
              <a:chOff x="5587200" y="2010600"/>
              <a:chExt cx="3964680" cy="264600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5587200" y="2010600"/>
                <a:ext cx="3774240" cy="1835640"/>
                <a:chOff x="5587200" y="2010600"/>
                <a:chExt cx="3774240" cy="18356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5587200" y="2021400"/>
                  <a:ext cx="2628720" cy="1824840"/>
                  <a:chOff x="5587200" y="2021400"/>
                  <a:chExt cx="2628720" cy="1824840"/>
                </a:xfrm>
              </p:grpSpPr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6451200" y="2030040"/>
                    <a:ext cx="1764720" cy="1803960"/>
                    <a:chOff x="6451200" y="2030040"/>
                    <a:chExt cx="1764720" cy="1803960"/>
                  </a:xfrm>
                </p:grpSpPr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6451200" y="2030040"/>
                      <a:ext cx="1764720" cy="1803960"/>
                      <a:chOff x="6451200" y="2030040"/>
                      <a:chExt cx="1764720" cy="1803960"/>
                    </a:xfrm>
                  </p:grpSpPr>
                  <p:sp>
                    <p:nvSpPr>
                      <p:cNvPr id="256" name=""/>
                      <p:cNvSpPr/>
                      <p:nvPr/>
                    </p:nvSpPr>
                    <p:spPr>
                      <a:xfrm flipV="1" rot="571800">
                        <a:off x="6570720" y="2144880"/>
                        <a:ext cx="15253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 flipV="1">
                        <a:off x="7202880" y="2931840"/>
                        <a:ext cx="130680" cy="775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7333560" y="2931840"/>
                      <a:ext cx="154080" cy="7707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6166440" y="2021400"/>
                    <a:ext cx="1787040" cy="1824840"/>
                    <a:chOff x="6166440" y="2021400"/>
                    <a:chExt cx="1787040" cy="1824840"/>
                  </a:xfrm>
                </p:grpSpPr>
                <p:grpSp>
                  <p:nvGrpSpPr>
                    <p:cNvPr id="260" name=""/>
                    <p:cNvGrpSpPr/>
                    <p:nvPr/>
                  </p:nvGrpSpPr>
                  <p:grpSpPr>
                    <a:xfrm>
                      <a:off x="6166440" y="2021400"/>
                      <a:ext cx="1787040" cy="1824840"/>
                      <a:chOff x="6166440" y="2021400"/>
                      <a:chExt cx="1787040" cy="1824840"/>
                    </a:xfrm>
                  </p:grpSpPr>
                  <p:sp>
                    <p:nvSpPr>
                      <p:cNvPr id="261" name=""/>
                      <p:cNvSpPr/>
                      <p:nvPr/>
                    </p:nvSpPr>
                    <p:spPr>
                      <a:xfrm flipV="1" rot="631200">
                        <a:off x="6297120" y="2147040"/>
                        <a:ext cx="15253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flipV="1">
                        <a:off x="6916680" y="2933640"/>
                        <a:ext cx="143640" cy="7732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060320" y="2933640"/>
                      <a:ext cx="141120" cy="772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5866560" y="2039400"/>
                    <a:ext cx="1758960" cy="1797840"/>
                    <a:chOff x="5866560" y="2039400"/>
                    <a:chExt cx="1758960" cy="1797840"/>
                  </a:xfrm>
                </p:grpSpPr>
                <p:grpSp>
                  <p:nvGrpSpPr>
                    <p:cNvPr id="265" name=""/>
                    <p:cNvGrpSpPr/>
                    <p:nvPr/>
                  </p:nvGrpSpPr>
                  <p:grpSpPr>
                    <a:xfrm>
                      <a:off x="5866560" y="2039400"/>
                      <a:ext cx="1758960" cy="1797840"/>
                      <a:chOff x="5866560" y="2039400"/>
                      <a:chExt cx="1758960" cy="1797840"/>
                    </a:xfrm>
                  </p:grpSpPr>
                  <p:sp>
                    <p:nvSpPr>
                      <p:cNvPr id="266" name=""/>
                      <p:cNvSpPr/>
                      <p:nvPr/>
                    </p:nvSpPr>
                    <p:spPr>
                      <a:xfrm flipV="1" rot="556200">
                        <a:off x="5983200" y="2152080"/>
                        <a:ext cx="15253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 flipV="1">
                        <a:off x="6619320" y="2937960"/>
                        <a:ext cx="126720" cy="7761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6746040" y="2937960"/>
                      <a:ext cx="157680" cy="769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587200" y="2045160"/>
                    <a:ext cx="1753920" cy="1792080"/>
                    <a:chOff x="5587200" y="2045160"/>
                    <a:chExt cx="1753920" cy="1792080"/>
                  </a:xfrm>
                </p:grpSpPr>
                <p:grpSp>
                  <p:nvGrpSpPr>
                    <p:cNvPr id="270" name=""/>
                    <p:cNvGrpSpPr/>
                    <p:nvPr/>
                  </p:nvGrpSpPr>
                  <p:grpSpPr>
                    <a:xfrm>
                      <a:off x="5587200" y="2045160"/>
                      <a:ext cx="1753920" cy="1792080"/>
                      <a:chOff x="5587200" y="2045160"/>
                      <a:chExt cx="1753920" cy="1792080"/>
                    </a:xfrm>
                  </p:grpSpPr>
                  <p:sp>
                    <p:nvSpPr>
                      <p:cNvPr id="271" name=""/>
                      <p:cNvSpPr/>
                      <p:nvPr/>
                    </p:nvSpPr>
                    <p:spPr>
                      <a:xfrm flipV="1" rot="538800">
                        <a:off x="5700240" y="2154600"/>
                        <a:ext cx="15271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 flipV="1">
                        <a:off x="6341040" y="2940840"/>
                        <a:ext cx="122760" cy="776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6463800" y="2940840"/>
                      <a:ext cx="162360" cy="768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732720" y="2010600"/>
                  <a:ext cx="2628720" cy="1824840"/>
                  <a:chOff x="6732720" y="2010600"/>
                  <a:chExt cx="2628720" cy="1824840"/>
                </a:xfrm>
              </p:grpSpPr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7596720" y="2019240"/>
                    <a:ext cx="1764720" cy="1803960"/>
                    <a:chOff x="7596720" y="2019240"/>
                    <a:chExt cx="1764720" cy="1803960"/>
                  </a:xfrm>
                </p:grpSpPr>
                <p:grpSp>
                  <p:nvGrpSpPr>
                    <p:cNvPr id="276" name=""/>
                    <p:cNvGrpSpPr/>
                    <p:nvPr/>
                  </p:nvGrpSpPr>
                  <p:grpSpPr>
                    <a:xfrm>
                      <a:off x="7596720" y="2019240"/>
                      <a:ext cx="1764720" cy="1803960"/>
                      <a:chOff x="7596720" y="2019240"/>
                      <a:chExt cx="1764720" cy="1803960"/>
                    </a:xfrm>
                  </p:grpSpPr>
                  <p:sp>
                    <p:nvSpPr>
                      <p:cNvPr id="277" name=""/>
                      <p:cNvSpPr/>
                      <p:nvPr/>
                    </p:nvSpPr>
                    <p:spPr>
                      <a:xfrm flipV="1" rot="571800">
                        <a:off x="7716240" y="2134080"/>
                        <a:ext cx="15253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 flipV="1">
                        <a:off x="8348400" y="2921040"/>
                        <a:ext cx="130320" cy="775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478720" y="2921040"/>
                      <a:ext cx="154440" cy="7707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7311960" y="2010600"/>
                    <a:ext cx="1787040" cy="1824840"/>
                    <a:chOff x="7311960" y="2010600"/>
                    <a:chExt cx="1787040" cy="1824840"/>
                  </a:xfrm>
                </p:grpSpPr>
                <p:grpSp>
                  <p:nvGrpSpPr>
                    <p:cNvPr id="281" name=""/>
                    <p:cNvGrpSpPr/>
                    <p:nvPr/>
                  </p:nvGrpSpPr>
                  <p:grpSpPr>
                    <a:xfrm>
                      <a:off x="7311960" y="2010600"/>
                      <a:ext cx="1787040" cy="1824840"/>
                      <a:chOff x="7311960" y="2010600"/>
                      <a:chExt cx="1787040" cy="1824840"/>
                    </a:xfrm>
                  </p:grpSpPr>
                  <p:sp>
                    <p:nvSpPr>
                      <p:cNvPr id="282" name=""/>
                      <p:cNvSpPr/>
                      <p:nvPr/>
                    </p:nvSpPr>
                    <p:spPr>
                      <a:xfrm flipV="1" rot="631200">
                        <a:off x="7442640" y="2136240"/>
                        <a:ext cx="15253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 flipV="1">
                        <a:off x="8062200" y="2922840"/>
                        <a:ext cx="143640" cy="7732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205840" y="2922840"/>
                      <a:ext cx="140760" cy="772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012080" y="2028600"/>
                    <a:ext cx="1758960" cy="1797840"/>
                    <a:chOff x="7012080" y="2028600"/>
                    <a:chExt cx="1758960" cy="1797840"/>
                  </a:xfrm>
                </p:grpSpPr>
                <p:grpSp>
                  <p:nvGrpSpPr>
                    <p:cNvPr id="286" name=""/>
                    <p:cNvGrpSpPr/>
                    <p:nvPr/>
                  </p:nvGrpSpPr>
                  <p:grpSpPr>
                    <a:xfrm>
                      <a:off x="7012080" y="2028600"/>
                      <a:ext cx="1758960" cy="1797840"/>
                      <a:chOff x="7012080" y="2028600"/>
                      <a:chExt cx="1758960" cy="1797840"/>
                    </a:xfrm>
                  </p:grpSpPr>
                  <p:sp>
                    <p:nvSpPr>
                      <p:cNvPr id="287" name=""/>
                      <p:cNvSpPr/>
                      <p:nvPr/>
                    </p:nvSpPr>
                    <p:spPr>
                      <a:xfrm flipV="1" rot="556200">
                        <a:off x="7128720" y="2141280"/>
                        <a:ext cx="15253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 flipV="1">
                        <a:off x="7764840" y="2927160"/>
                        <a:ext cx="126720" cy="7761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891560" y="2927160"/>
                      <a:ext cx="157680" cy="769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6732720" y="2034360"/>
                    <a:ext cx="1753920" cy="1792080"/>
                    <a:chOff x="6732720" y="2034360"/>
                    <a:chExt cx="1753920" cy="1792080"/>
                  </a:xfrm>
                </p:grpSpPr>
                <p:grpSp>
                  <p:nvGrpSpPr>
                    <p:cNvPr id="291" name=""/>
                    <p:cNvGrpSpPr/>
                    <p:nvPr/>
                  </p:nvGrpSpPr>
                  <p:grpSpPr>
                    <a:xfrm>
                      <a:off x="6732720" y="2034360"/>
                      <a:ext cx="1753920" cy="1792080"/>
                      <a:chOff x="6732720" y="2034360"/>
                      <a:chExt cx="1753920" cy="1792080"/>
                    </a:xfrm>
                  </p:grpSpPr>
                  <p:sp>
                    <p:nvSpPr>
                      <p:cNvPr id="292" name=""/>
                      <p:cNvSpPr/>
                      <p:nvPr/>
                    </p:nvSpPr>
                    <p:spPr>
                      <a:xfrm flipV="1" rot="538800">
                        <a:off x="6845760" y="2143800"/>
                        <a:ext cx="15271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 flipV="1">
                        <a:off x="7486560" y="2930040"/>
                        <a:ext cx="122760" cy="776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7609320" y="2930040"/>
                      <a:ext cx="162000" cy="768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5627880" y="2753280"/>
                <a:ext cx="3924000" cy="1903320"/>
                <a:chOff x="5627880" y="2753280"/>
                <a:chExt cx="3924000" cy="190332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6910920" y="2925000"/>
                  <a:ext cx="153000" cy="78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5627880" y="2753280"/>
                  <a:ext cx="3924000" cy="1903320"/>
                  <a:chOff x="5627880" y="2753280"/>
                  <a:chExt cx="3924000" cy="1903320"/>
                </a:xfrm>
              </p:grpSpPr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6588720" y="2775240"/>
                    <a:ext cx="1818720" cy="1854000"/>
                    <a:chOff x="6588720" y="2775240"/>
                    <a:chExt cx="1818720" cy="1854000"/>
                  </a:xfrm>
                </p:grpSpPr>
                <p:grpSp>
                  <p:nvGrpSpPr>
                    <p:cNvPr id="299" name=""/>
                    <p:cNvGrpSpPr/>
                    <p:nvPr/>
                  </p:nvGrpSpPr>
                  <p:grpSpPr>
                    <a:xfrm>
                      <a:off x="6588720" y="2775240"/>
                      <a:ext cx="1818720" cy="1854000"/>
                      <a:chOff x="6588720" y="2775240"/>
                      <a:chExt cx="1818720" cy="1854000"/>
                    </a:xfrm>
                  </p:grpSpPr>
                  <p:sp>
                    <p:nvSpPr>
                      <p:cNvPr id="300" name=""/>
                      <p:cNvSpPr/>
                      <p:nvPr/>
                    </p:nvSpPr>
                    <p:spPr>
                      <a:xfrm rot="20886000">
                        <a:off x="6734160" y="2915640"/>
                        <a:ext cx="15271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ffef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7335720" y="2932920"/>
                        <a:ext cx="162360" cy="769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02" name=""/>
                    <p:cNvSpPr/>
                    <p:nvPr/>
                  </p:nvSpPr>
                  <p:spPr>
                    <a:xfrm flipV="1">
                      <a:off x="7498080" y="2926080"/>
                      <a:ext cx="122400" cy="776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6312600" y="2783880"/>
                    <a:ext cx="1797480" cy="1834920"/>
                    <a:chOff x="6312600" y="2783880"/>
                    <a:chExt cx="1797480" cy="1834920"/>
                  </a:xfrm>
                </p:grpSpPr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6312600" y="2783880"/>
                      <a:ext cx="1797480" cy="1834920"/>
                      <a:chOff x="6312600" y="2783880"/>
                      <a:chExt cx="1797480" cy="183492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 rot="20940000">
                        <a:off x="6448320" y="2914560"/>
                        <a:ext cx="15253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ffef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7061400" y="2929320"/>
                        <a:ext cx="150120" cy="7722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07" name=""/>
                    <p:cNvSpPr/>
                    <p:nvPr/>
                  </p:nvSpPr>
                  <p:spPr>
                    <a:xfrm flipV="1">
                      <a:off x="7211520" y="2927160"/>
                      <a:ext cx="134280" cy="77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5927760" y="2764440"/>
                    <a:ext cx="1967760" cy="1880280"/>
                    <a:chOff x="5927760" y="2764440"/>
                    <a:chExt cx="1967760" cy="188028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rot="20895600">
                      <a:off x="6069600" y="2918880"/>
                      <a:ext cx="1683360" cy="157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e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6751800" y="2935440"/>
                      <a:ext cx="159840" cy="769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627880" y="2753280"/>
                    <a:ext cx="1976400" cy="1903320"/>
                    <a:chOff x="5627880" y="2753280"/>
                    <a:chExt cx="1976400" cy="1903320"/>
                  </a:xfrm>
                </p:grpSpPr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5627880" y="2753280"/>
                      <a:ext cx="1976400" cy="1903320"/>
                      <a:chOff x="5627880" y="2753280"/>
                      <a:chExt cx="1976400" cy="190332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 rot="20816400">
                        <a:off x="5783400" y="2921040"/>
                        <a:ext cx="1665360" cy="156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ffef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6438960" y="2941200"/>
                        <a:ext cx="177120" cy="763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5" name=""/>
                    <p:cNvSpPr/>
                    <p:nvPr/>
                  </p:nvSpPr>
                  <p:spPr>
                    <a:xfrm flipV="1">
                      <a:off x="6616080" y="2922840"/>
                      <a:ext cx="131760" cy="781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7737120" y="2776320"/>
                    <a:ext cx="1814760" cy="1854360"/>
                    <a:chOff x="7737120" y="2776320"/>
                    <a:chExt cx="1814760" cy="1854360"/>
                  </a:xfrm>
                </p:grpSpPr>
                <p:grpSp>
                  <p:nvGrpSpPr>
                    <p:cNvPr id="317" name=""/>
                    <p:cNvGrpSpPr/>
                    <p:nvPr/>
                  </p:nvGrpSpPr>
                  <p:grpSpPr>
                    <a:xfrm>
                      <a:off x="7737120" y="2776320"/>
                      <a:ext cx="1814760" cy="1854360"/>
                      <a:chOff x="7737120" y="2776320"/>
                      <a:chExt cx="1814760" cy="1854360"/>
                    </a:xfrm>
                  </p:grpSpPr>
                  <p:sp>
                    <p:nvSpPr>
                      <p:cNvPr id="318" name=""/>
                      <p:cNvSpPr/>
                      <p:nvPr/>
                    </p:nvSpPr>
                    <p:spPr>
                      <a:xfrm rot="20881200">
                        <a:off x="7883640" y="2916720"/>
                        <a:ext cx="152136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ffef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8481240" y="2934000"/>
                        <a:ext cx="163080" cy="769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0" name=""/>
                    <p:cNvSpPr/>
                    <p:nvPr/>
                  </p:nvSpPr>
                  <p:spPr>
                    <a:xfrm flipV="1">
                      <a:off x="8644320" y="2927160"/>
                      <a:ext cx="120240" cy="776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7457760" y="2785320"/>
                    <a:ext cx="1797480" cy="1834920"/>
                    <a:chOff x="7457760" y="2785320"/>
                    <a:chExt cx="1797480" cy="1834920"/>
                  </a:xfrm>
                </p:grpSpPr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7457760" y="2785320"/>
                      <a:ext cx="1797480" cy="1834920"/>
                      <a:chOff x="7457760" y="2785320"/>
                      <a:chExt cx="1797480" cy="183492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 rot="20940000">
                        <a:off x="7593480" y="2916000"/>
                        <a:ext cx="15253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ffef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8206560" y="2930760"/>
                        <a:ext cx="150120" cy="7722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5" name=""/>
                    <p:cNvSpPr/>
                    <p:nvPr/>
                  </p:nvSpPr>
                  <p:spPr>
                    <a:xfrm flipV="1">
                      <a:off x="8356680" y="2928600"/>
                      <a:ext cx="134280" cy="77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7151760" y="2782440"/>
                    <a:ext cx="1803600" cy="1840680"/>
                    <a:chOff x="7151760" y="2782440"/>
                    <a:chExt cx="1803600" cy="1840680"/>
                  </a:xfrm>
                </p:grpSpPr>
                <p:grpSp>
                  <p:nvGrpSpPr>
                    <p:cNvPr id="327" name=""/>
                    <p:cNvGrpSpPr/>
                    <p:nvPr/>
                  </p:nvGrpSpPr>
                  <p:grpSpPr>
                    <a:xfrm>
                      <a:off x="7151760" y="2782440"/>
                      <a:ext cx="1803600" cy="1840680"/>
                      <a:chOff x="7151760" y="2782440"/>
                      <a:chExt cx="1803600" cy="1840680"/>
                    </a:xfrm>
                  </p:grpSpPr>
                  <p:sp>
                    <p:nvSpPr>
                      <p:cNvPr id="328" name=""/>
                      <p:cNvSpPr/>
                      <p:nvPr/>
                    </p:nvSpPr>
                    <p:spPr>
                      <a:xfrm rot="20922600">
                        <a:off x="7290720" y="2916000"/>
                        <a:ext cx="15253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ffef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7899840" y="2931480"/>
                        <a:ext cx="153720" cy="7714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0" name=""/>
                    <p:cNvSpPr/>
                    <p:nvPr/>
                  </p:nvSpPr>
                  <p:spPr>
                    <a:xfrm flipV="1">
                      <a:off x="8053560" y="2927880"/>
                      <a:ext cx="130680" cy="7750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6865200" y="2765160"/>
                    <a:ext cx="1843560" cy="1878840"/>
                    <a:chOff x="6865200" y="2765160"/>
                    <a:chExt cx="1843560" cy="187884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6865200" y="2765160"/>
                      <a:ext cx="1843560" cy="1878840"/>
                      <a:chOff x="6865200" y="2765160"/>
                      <a:chExt cx="1843560" cy="187884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 rot="20809800">
                        <a:off x="7023960" y="2917800"/>
                        <a:ext cx="1525320" cy="157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26444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264444"/>
                          </a:path>
                        </a:pathLst>
                      </a:custGeom>
                      <a:solidFill>
                        <a:srgbClr val="ffef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7607880" y="2938680"/>
                        <a:ext cx="179280" cy="7660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 flipV="1">
                      <a:off x="7787160" y="2925720"/>
                      <a:ext cx="105120" cy="779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6" name=""/>
          <p:cNvSpPr/>
          <p:nvPr/>
        </p:nvSpPr>
        <p:spPr>
          <a:xfrm rot="5400000">
            <a:off x="380520" y="4114800"/>
            <a:ext cx="990720" cy="76320"/>
          </a:xfrm>
          <a:prstGeom prst="rightArrow">
            <a:avLst>
              <a:gd name="adj1" fmla="val 50000"/>
              <a:gd name="adj2" fmla="val 324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275200" y="2895840"/>
            <a:ext cx="2962800" cy="1523880"/>
            <a:chOff x="2275200" y="2895840"/>
            <a:chExt cx="2962800" cy="1523880"/>
          </a:xfrm>
        </p:grpSpPr>
        <p:grpSp>
          <p:nvGrpSpPr>
            <p:cNvPr id="338" name=""/>
            <p:cNvGrpSpPr/>
            <p:nvPr/>
          </p:nvGrpSpPr>
          <p:grpSpPr>
            <a:xfrm>
              <a:off x="2275200" y="2895840"/>
              <a:ext cx="2962800" cy="937440"/>
              <a:chOff x="2275200" y="2895840"/>
              <a:chExt cx="2962800" cy="937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275200" y="2895840"/>
                <a:ext cx="2872440" cy="880200"/>
                <a:chOff x="2275200" y="2895840"/>
                <a:chExt cx="2872440" cy="880200"/>
              </a:xfrm>
            </p:grpSpPr>
            <p:grpSp>
              <p:nvGrpSpPr>
                <p:cNvPr id="340" name=""/>
                <p:cNvGrpSpPr/>
                <p:nvPr/>
              </p:nvGrpSpPr>
              <p:grpSpPr>
                <a:xfrm>
                  <a:off x="2275200" y="2895840"/>
                  <a:ext cx="205200" cy="880200"/>
                  <a:chOff x="2275200" y="2895840"/>
                  <a:chExt cx="205200" cy="88020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10903800">
                    <a:off x="228816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60000">
                    <a:off x="230220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2452680" y="2895840"/>
                  <a:ext cx="205200" cy="880200"/>
                  <a:chOff x="2452680" y="2895840"/>
                  <a:chExt cx="205200" cy="88020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10903800">
                    <a:off x="246564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60000">
                    <a:off x="247968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2630520" y="2895840"/>
                  <a:ext cx="205200" cy="880200"/>
                  <a:chOff x="2630520" y="2895840"/>
                  <a:chExt cx="205200" cy="8802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10903800">
                    <a:off x="264348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60000">
                    <a:off x="265752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808360" y="2895840"/>
                  <a:ext cx="205200" cy="880200"/>
                  <a:chOff x="2808360" y="2895840"/>
                  <a:chExt cx="205200" cy="88020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10903800">
                    <a:off x="282132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60000">
                    <a:off x="283536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2986200" y="2895840"/>
                  <a:ext cx="205200" cy="880200"/>
                  <a:chOff x="2986200" y="2895840"/>
                  <a:chExt cx="205200" cy="88020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10903800">
                    <a:off x="299916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60000">
                    <a:off x="301320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3164040" y="2895840"/>
                  <a:ext cx="205200" cy="880200"/>
                  <a:chOff x="3164040" y="2895840"/>
                  <a:chExt cx="205200" cy="8802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0903800">
                    <a:off x="317700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60000">
                    <a:off x="319104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341880" y="2895840"/>
                  <a:ext cx="205200" cy="880200"/>
                  <a:chOff x="3341880" y="2895840"/>
                  <a:chExt cx="205200" cy="88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0903800">
                    <a:off x="335484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60000">
                    <a:off x="336888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19720" y="2895840"/>
                  <a:ext cx="205200" cy="880200"/>
                  <a:chOff x="3519720" y="2895840"/>
                  <a:chExt cx="205200" cy="8802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0903800">
                    <a:off x="353268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60000">
                    <a:off x="354672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697560" y="2895840"/>
                  <a:ext cx="205200" cy="880200"/>
                  <a:chOff x="3697560" y="2895840"/>
                  <a:chExt cx="205200" cy="8802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rot="10903800">
                    <a:off x="371052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60000">
                    <a:off x="372456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875400" y="2895840"/>
                  <a:ext cx="205200" cy="880200"/>
                  <a:chOff x="3875400" y="2895840"/>
                  <a:chExt cx="205200" cy="8802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rot="10903800">
                    <a:off x="388836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60000">
                    <a:off x="390240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4586760" y="2895840"/>
                  <a:ext cx="205200" cy="880200"/>
                  <a:chOff x="4586760" y="2895840"/>
                  <a:chExt cx="205200" cy="880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rot="10903800">
                    <a:off x="459972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60000">
                    <a:off x="461376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4053240" y="2895840"/>
                  <a:ext cx="205200" cy="880200"/>
                  <a:chOff x="4053240" y="2895840"/>
                  <a:chExt cx="205200" cy="88020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10903800">
                    <a:off x="406620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60000">
                    <a:off x="408024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4231080" y="2895840"/>
                  <a:ext cx="205200" cy="880200"/>
                  <a:chOff x="4231080" y="2895840"/>
                  <a:chExt cx="205200" cy="88020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10903800">
                    <a:off x="424404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60000">
                    <a:off x="425808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4408920" y="2895840"/>
                  <a:ext cx="205200" cy="880200"/>
                  <a:chOff x="4408920" y="2895840"/>
                  <a:chExt cx="205200" cy="88020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10903800">
                    <a:off x="442188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60000">
                    <a:off x="443592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4764600" y="2895840"/>
                  <a:ext cx="205200" cy="880200"/>
                  <a:chOff x="4764600" y="2895840"/>
                  <a:chExt cx="205200" cy="8802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10903800">
                    <a:off x="477756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60000">
                    <a:off x="479160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4942440" y="2895840"/>
                  <a:ext cx="205200" cy="880200"/>
                  <a:chOff x="4942440" y="2895840"/>
                  <a:chExt cx="205200" cy="8802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10903800">
                    <a:off x="4955400" y="2911320"/>
                    <a:ext cx="177480" cy="862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60000">
                    <a:off x="4969440" y="289728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"/>
              <p:cNvGrpSpPr/>
              <p:nvPr/>
            </p:nvGrpSpPr>
            <p:grpSpPr>
              <a:xfrm>
                <a:off x="2365560" y="2953080"/>
                <a:ext cx="2872440" cy="880200"/>
                <a:chOff x="2365560" y="2953080"/>
                <a:chExt cx="2872440" cy="88020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5032800" y="2953080"/>
                  <a:ext cx="205200" cy="880200"/>
                  <a:chOff x="5032800" y="2953080"/>
                  <a:chExt cx="205200" cy="8802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03800">
                    <a:off x="504720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0860000">
                    <a:off x="503316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4855320" y="2953080"/>
                  <a:ext cx="205200" cy="880200"/>
                  <a:chOff x="4855320" y="2953080"/>
                  <a:chExt cx="205200" cy="8802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103800">
                    <a:off x="486972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0860000">
                    <a:off x="485568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4677480" y="2953080"/>
                  <a:ext cx="205200" cy="880200"/>
                  <a:chOff x="4677480" y="2953080"/>
                  <a:chExt cx="205200" cy="8802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03800">
                    <a:off x="469188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0860000">
                    <a:off x="467784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4499640" y="2953080"/>
                  <a:ext cx="205200" cy="880200"/>
                  <a:chOff x="4499640" y="2953080"/>
                  <a:chExt cx="205200" cy="8802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103800">
                    <a:off x="451404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10860000">
                    <a:off x="450000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4321800" y="2953080"/>
                  <a:ext cx="205200" cy="880200"/>
                  <a:chOff x="4321800" y="2953080"/>
                  <a:chExt cx="205200" cy="8802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103800">
                    <a:off x="433620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10860000">
                    <a:off x="432216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4143960" y="2953080"/>
                  <a:ext cx="205200" cy="880200"/>
                  <a:chOff x="4143960" y="2953080"/>
                  <a:chExt cx="205200" cy="880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103800">
                    <a:off x="415836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0860000">
                    <a:off x="414432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3966120" y="2953080"/>
                  <a:ext cx="205200" cy="880200"/>
                  <a:chOff x="3966120" y="2953080"/>
                  <a:chExt cx="205200" cy="8802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103800">
                    <a:off x="398052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10860000">
                    <a:off x="396648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3788280" y="2953080"/>
                  <a:ext cx="205200" cy="880200"/>
                  <a:chOff x="3788280" y="2953080"/>
                  <a:chExt cx="205200" cy="8802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03800">
                    <a:off x="380268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0860000">
                    <a:off x="378864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3610440" y="2953080"/>
                  <a:ext cx="205200" cy="880200"/>
                  <a:chOff x="3610440" y="2953080"/>
                  <a:chExt cx="205200" cy="8802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03800">
                    <a:off x="362484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0860000">
                    <a:off x="361080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3432600" y="2953080"/>
                  <a:ext cx="205200" cy="880200"/>
                  <a:chOff x="3432600" y="2953080"/>
                  <a:chExt cx="205200" cy="880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103800">
                    <a:off x="344700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10860000">
                    <a:off x="343296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2721240" y="2953080"/>
                  <a:ext cx="205200" cy="880200"/>
                  <a:chOff x="2721240" y="2953080"/>
                  <a:chExt cx="205200" cy="8802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103800">
                    <a:off x="273564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10860000">
                    <a:off x="272160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3254760" y="2953080"/>
                  <a:ext cx="205200" cy="880200"/>
                  <a:chOff x="3254760" y="2953080"/>
                  <a:chExt cx="205200" cy="88020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rot="103800">
                    <a:off x="326916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10860000">
                    <a:off x="325512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3076920" y="2953080"/>
                  <a:ext cx="205200" cy="880200"/>
                  <a:chOff x="3076920" y="2953080"/>
                  <a:chExt cx="205200" cy="8802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rot="103800">
                    <a:off x="309132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10860000">
                    <a:off x="307728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899080" y="2953080"/>
                  <a:ext cx="205200" cy="880200"/>
                  <a:chOff x="2899080" y="2953080"/>
                  <a:chExt cx="205200" cy="880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rot="103800">
                    <a:off x="291348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10860000">
                    <a:off x="289944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2543400" y="2953080"/>
                  <a:ext cx="205200" cy="880200"/>
                  <a:chOff x="2543400" y="2953080"/>
                  <a:chExt cx="205200" cy="88020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03800">
                    <a:off x="255780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10860000">
                    <a:off x="254376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2365560" y="2953080"/>
                  <a:ext cx="205200" cy="880200"/>
                  <a:chOff x="2365560" y="2953080"/>
                  <a:chExt cx="205200" cy="8802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rot="103800">
                    <a:off x="2379960" y="2955240"/>
                    <a:ext cx="177480" cy="861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10860000">
                    <a:off x="2365920" y="3790440"/>
                    <a:ext cx="177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0" y="9660"/>
                        </a:moveTo>
                        <a:arcTo wR="10800" hR="10800" stAng="-10436293" swAng="104362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0" y="9660"/>
                        </a:moveTo>
                        <a:arcTo wR="10800" hR="10800" stAng="-10436293" swAng="10436293"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7" name=""/>
            <p:cNvSpPr txBox="1"/>
            <p:nvPr/>
          </p:nvSpPr>
          <p:spPr>
            <a:xfrm>
              <a:off x="3276720" y="3962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32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348000" y="472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如果分的份数越多，每一份就会越小，拼成的图形就会越接近于长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826920" y="1052640"/>
            <a:ext cx="1550880" cy="1420560"/>
            <a:chOff x="826920" y="1052640"/>
            <a:chExt cx="1550880" cy="1420560"/>
          </a:xfrm>
        </p:grpSpPr>
        <p:grpSp>
          <p:nvGrpSpPr>
            <p:cNvPr id="440" name=""/>
            <p:cNvGrpSpPr/>
            <p:nvPr/>
          </p:nvGrpSpPr>
          <p:grpSpPr>
            <a:xfrm>
              <a:off x="826920" y="1053000"/>
              <a:ext cx="1550880" cy="1420200"/>
              <a:chOff x="826920" y="1053000"/>
              <a:chExt cx="1550880" cy="142020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826920" y="1053000"/>
                <a:ext cx="1550880" cy="1419840"/>
                <a:chOff x="826920" y="1053000"/>
                <a:chExt cx="1550880" cy="1419840"/>
              </a:xfrm>
            </p:grpSpPr>
            <p:sp>
              <p:nvSpPr>
                <p:cNvPr id="442" name=""/>
                <p:cNvSpPr/>
                <p:nvPr/>
              </p:nvSpPr>
              <p:spPr>
                <a:xfrm flipV="1" rot="5400000">
                  <a:off x="892800" y="987840"/>
                  <a:ext cx="1419840" cy="154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856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85676"/>
                    </a:path>
                  </a:pathLst>
                </a:cu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26920" y="1762920"/>
                  <a:ext cx="1550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1623240" y="1761120"/>
                <a:ext cx="502560" cy="5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22520" y="1771920"/>
                <a:ext cx="6768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602000" y="1762920"/>
                <a:ext cx="0" cy="71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26920" y="1762920"/>
                <a:ext cx="77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02000" y="1762920"/>
                <a:ext cx="77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1075320" y="1764360"/>
                <a:ext cx="502560" cy="5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914400" y="1772640"/>
                <a:ext cx="664560" cy="25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602000" y="1762920"/>
                <a:ext cx="284040" cy="66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1317240" y="1762920"/>
                <a:ext cx="284040" cy="66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852120" y="1762920"/>
                <a:ext cx="749160" cy="14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602000" y="1762920"/>
                <a:ext cx="749160" cy="14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955800" y="1762920"/>
                <a:ext cx="6458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602000" y="1762920"/>
                <a:ext cx="6458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1188360" y="1762920"/>
                <a:ext cx="413280" cy="59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602000" y="1762920"/>
                <a:ext cx="413280" cy="59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1462680" y="1762920"/>
                <a:ext cx="138600" cy="70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02000" y="1762920"/>
                <a:ext cx="138600" cy="70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826920" y="1052640"/>
              <a:ext cx="1550880" cy="1420200"/>
              <a:chOff x="826920" y="1052640"/>
              <a:chExt cx="1550880" cy="142020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826920" y="1053000"/>
                <a:ext cx="1550880" cy="1419840"/>
                <a:chOff x="826920" y="1053000"/>
                <a:chExt cx="1550880" cy="1419840"/>
              </a:xfrm>
            </p:grpSpPr>
            <p:sp>
              <p:nvSpPr>
                <p:cNvPr id="463" name=""/>
                <p:cNvSpPr/>
                <p:nvPr/>
              </p:nvSpPr>
              <p:spPr>
                <a:xfrm rot="16200000">
                  <a:off x="892800" y="987840"/>
                  <a:ext cx="1419840" cy="154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856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85676"/>
                    </a:path>
                  </a:pathLst>
                </a:cu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26920" y="1762920"/>
                  <a:ext cx="1550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flipV="1">
                <a:off x="1602000" y="1052640"/>
                <a:ext cx="0" cy="71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26920" y="1762920"/>
                <a:ext cx="77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602000" y="1762920"/>
                <a:ext cx="77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1623600" y="1262880"/>
                <a:ext cx="502560" cy="5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>
                <a:off x="1075320" y="1259640"/>
                <a:ext cx="502560" cy="5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914040" y="1503000"/>
                <a:ext cx="66492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1622520" y="1501920"/>
                <a:ext cx="6768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1602000" y="1099800"/>
                <a:ext cx="284040" cy="66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1317240" y="1099800"/>
                <a:ext cx="284040" cy="66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flipV="1">
                <a:off x="852120" y="1621080"/>
                <a:ext cx="749160" cy="14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1602000" y="1621080"/>
                <a:ext cx="749160" cy="14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956160" y="1360440"/>
                <a:ext cx="6458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1602000" y="1360440"/>
                <a:ext cx="6458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1188720" y="1171080"/>
                <a:ext cx="413280" cy="59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1602000" y="1171080"/>
                <a:ext cx="413280" cy="59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1462680" y="1061280"/>
                <a:ext cx="138600" cy="70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1602000" y="1061280"/>
                <a:ext cx="138600" cy="70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3079800" y="1271160"/>
            <a:ext cx="3695040" cy="1131120"/>
            <a:chOff x="3079800" y="1271160"/>
            <a:chExt cx="3695040" cy="1131120"/>
          </a:xfrm>
        </p:grpSpPr>
        <p:grpSp>
          <p:nvGrpSpPr>
            <p:cNvPr id="483" name=""/>
            <p:cNvGrpSpPr/>
            <p:nvPr/>
          </p:nvGrpSpPr>
          <p:grpSpPr>
            <a:xfrm>
              <a:off x="3079800" y="1271160"/>
              <a:ext cx="264240" cy="1131120"/>
              <a:chOff x="3079800" y="1271160"/>
              <a:chExt cx="264240" cy="1131120"/>
            </a:xfrm>
          </p:grpSpPr>
          <p:sp>
            <p:nvSpPr>
              <p:cNvPr id="484" name=""/>
              <p:cNvSpPr/>
              <p:nvPr/>
            </p:nvSpPr>
            <p:spPr>
              <a:xfrm rot="10903800">
                <a:off x="309636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60000">
                <a:off x="311472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3308400" y="1271160"/>
              <a:ext cx="264240" cy="1131120"/>
              <a:chOff x="3308400" y="1271160"/>
              <a:chExt cx="264240" cy="1131120"/>
            </a:xfrm>
          </p:grpSpPr>
          <p:sp>
            <p:nvSpPr>
              <p:cNvPr id="487" name=""/>
              <p:cNvSpPr/>
              <p:nvPr/>
            </p:nvSpPr>
            <p:spPr>
              <a:xfrm rot="10903800">
                <a:off x="332496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60000">
                <a:off x="334332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3537000" y="1271160"/>
              <a:ext cx="264240" cy="1131120"/>
              <a:chOff x="3537000" y="1271160"/>
              <a:chExt cx="264240" cy="1131120"/>
            </a:xfrm>
          </p:grpSpPr>
          <p:sp>
            <p:nvSpPr>
              <p:cNvPr id="490" name=""/>
              <p:cNvSpPr/>
              <p:nvPr/>
            </p:nvSpPr>
            <p:spPr>
              <a:xfrm rot="10903800">
                <a:off x="355356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60000">
                <a:off x="357192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765960" y="1271160"/>
              <a:ext cx="264240" cy="1131120"/>
              <a:chOff x="3765960" y="1271160"/>
              <a:chExt cx="264240" cy="1131120"/>
            </a:xfrm>
          </p:grpSpPr>
          <p:sp>
            <p:nvSpPr>
              <p:cNvPr id="493" name=""/>
              <p:cNvSpPr/>
              <p:nvPr/>
            </p:nvSpPr>
            <p:spPr>
              <a:xfrm rot="10903800">
                <a:off x="378252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60000">
                <a:off x="380088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994560" y="1271160"/>
              <a:ext cx="264240" cy="1131120"/>
              <a:chOff x="3994560" y="1271160"/>
              <a:chExt cx="264240" cy="1131120"/>
            </a:xfrm>
          </p:grpSpPr>
          <p:sp>
            <p:nvSpPr>
              <p:cNvPr id="496" name=""/>
              <p:cNvSpPr/>
              <p:nvPr/>
            </p:nvSpPr>
            <p:spPr>
              <a:xfrm rot="10903800">
                <a:off x="401112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60000">
                <a:off x="402948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4223160" y="1271160"/>
              <a:ext cx="264240" cy="1131120"/>
              <a:chOff x="4223160" y="1271160"/>
              <a:chExt cx="264240" cy="1131120"/>
            </a:xfrm>
          </p:grpSpPr>
          <p:sp>
            <p:nvSpPr>
              <p:cNvPr id="499" name=""/>
              <p:cNvSpPr/>
              <p:nvPr/>
            </p:nvSpPr>
            <p:spPr>
              <a:xfrm rot="10903800">
                <a:off x="423972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60000">
                <a:off x="425808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452120" y="1271160"/>
              <a:ext cx="264240" cy="1131120"/>
              <a:chOff x="4452120" y="1271160"/>
              <a:chExt cx="264240" cy="1131120"/>
            </a:xfrm>
          </p:grpSpPr>
          <p:sp>
            <p:nvSpPr>
              <p:cNvPr id="502" name=""/>
              <p:cNvSpPr/>
              <p:nvPr/>
            </p:nvSpPr>
            <p:spPr>
              <a:xfrm rot="10903800">
                <a:off x="446868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60000">
                <a:off x="448704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4680720" y="1271160"/>
              <a:ext cx="264240" cy="1131120"/>
              <a:chOff x="4680720" y="1271160"/>
              <a:chExt cx="264240" cy="1131120"/>
            </a:xfrm>
          </p:grpSpPr>
          <p:sp>
            <p:nvSpPr>
              <p:cNvPr id="505" name=""/>
              <p:cNvSpPr/>
              <p:nvPr/>
            </p:nvSpPr>
            <p:spPr>
              <a:xfrm rot="10903800">
                <a:off x="469728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60000">
                <a:off x="471564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909680" y="1271160"/>
              <a:ext cx="264240" cy="1131120"/>
              <a:chOff x="4909680" y="1271160"/>
              <a:chExt cx="264240" cy="1131120"/>
            </a:xfrm>
          </p:grpSpPr>
          <p:sp>
            <p:nvSpPr>
              <p:cNvPr id="508" name=""/>
              <p:cNvSpPr/>
              <p:nvPr/>
            </p:nvSpPr>
            <p:spPr>
              <a:xfrm rot="10903800">
                <a:off x="492624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60000">
                <a:off x="494460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138280" y="1271160"/>
              <a:ext cx="264240" cy="1131120"/>
              <a:chOff x="5138280" y="1271160"/>
              <a:chExt cx="264240" cy="1131120"/>
            </a:xfrm>
          </p:grpSpPr>
          <p:sp>
            <p:nvSpPr>
              <p:cNvPr id="511" name=""/>
              <p:cNvSpPr/>
              <p:nvPr/>
            </p:nvSpPr>
            <p:spPr>
              <a:xfrm rot="10903800">
                <a:off x="515484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60000">
                <a:off x="517320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053400" y="1271160"/>
              <a:ext cx="264240" cy="1131120"/>
              <a:chOff x="6053400" y="1271160"/>
              <a:chExt cx="264240" cy="1131120"/>
            </a:xfrm>
          </p:grpSpPr>
          <p:sp>
            <p:nvSpPr>
              <p:cNvPr id="514" name=""/>
              <p:cNvSpPr/>
              <p:nvPr/>
            </p:nvSpPr>
            <p:spPr>
              <a:xfrm rot="10903800">
                <a:off x="606996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60000">
                <a:off x="608832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5366880" y="1271160"/>
              <a:ext cx="264240" cy="1131120"/>
              <a:chOff x="5366880" y="1271160"/>
              <a:chExt cx="264240" cy="1131120"/>
            </a:xfrm>
          </p:grpSpPr>
          <p:sp>
            <p:nvSpPr>
              <p:cNvPr id="517" name=""/>
              <p:cNvSpPr/>
              <p:nvPr/>
            </p:nvSpPr>
            <p:spPr>
              <a:xfrm rot="10903800">
                <a:off x="538344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60000">
                <a:off x="540180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5595840" y="1271160"/>
              <a:ext cx="264240" cy="1131120"/>
              <a:chOff x="5595840" y="1271160"/>
              <a:chExt cx="264240" cy="1131120"/>
            </a:xfrm>
          </p:grpSpPr>
          <p:sp>
            <p:nvSpPr>
              <p:cNvPr id="520" name=""/>
              <p:cNvSpPr/>
              <p:nvPr/>
            </p:nvSpPr>
            <p:spPr>
              <a:xfrm rot="10903800">
                <a:off x="561240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60000">
                <a:off x="563076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824440" y="1271160"/>
              <a:ext cx="264240" cy="1131120"/>
              <a:chOff x="5824440" y="1271160"/>
              <a:chExt cx="264240" cy="1131120"/>
            </a:xfrm>
          </p:grpSpPr>
          <p:sp>
            <p:nvSpPr>
              <p:cNvPr id="523" name=""/>
              <p:cNvSpPr/>
              <p:nvPr/>
            </p:nvSpPr>
            <p:spPr>
              <a:xfrm rot="10903800">
                <a:off x="584100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60000">
                <a:off x="585936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282000" y="1271160"/>
              <a:ext cx="264240" cy="1131120"/>
              <a:chOff x="6282000" y="1271160"/>
              <a:chExt cx="264240" cy="1131120"/>
            </a:xfrm>
          </p:grpSpPr>
          <p:sp>
            <p:nvSpPr>
              <p:cNvPr id="526" name=""/>
              <p:cNvSpPr/>
              <p:nvPr/>
            </p:nvSpPr>
            <p:spPr>
              <a:xfrm rot="10903800">
                <a:off x="629856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60000">
                <a:off x="631692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510600" y="1271160"/>
              <a:ext cx="264240" cy="1131120"/>
              <a:chOff x="6510600" y="1271160"/>
              <a:chExt cx="264240" cy="1131120"/>
            </a:xfrm>
          </p:grpSpPr>
          <p:sp>
            <p:nvSpPr>
              <p:cNvPr id="529" name=""/>
              <p:cNvSpPr/>
              <p:nvPr/>
            </p:nvSpPr>
            <p:spPr>
              <a:xfrm rot="10903800">
                <a:off x="6527160" y="129096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60000">
                <a:off x="6545520" y="127296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"/>
          <p:cNvGrpSpPr/>
          <p:nvPr/>
        </p:nvGrpSpPr>
        <p:grpSpPr>
          <a:xfrm>
            <a:off x="3201120" y="1317240"/>
            <a:ext cx="3695040" cy="1131120"/>
            <a:chOff x="3201120" y="1317240"/>
            <a:chExt cx="3695040" cy="1131120"/>
          </a:xfrm>
        </p:grpSpPr>
        <p:grpSp>
          <p:nvGrpSpPr>
            <p:cNvPr id="532" name=""/>
            <p:cNvGrpSpPr/>
            <p:nvPr/>
          </p:nvGrpSpPr>
          <p:grpSpPr>
            <a:xfrm>
              <a:off x="6631920" y="1317240"/>
              <a:ext cx="264240" cy="1131120"/>
              <a:chOff x="6631920" y="1317240"/>
              <a:chExt cx="264240" cy="1131120"/>
            </a:xfrm>
          </p:grpSpPr>
          <p:sp>
            <p:nvSpPr>
              <p:cNvPr id="533" name=""/>
              <p:cNvSpPr/>
              <p:nvPr/>
            </p:nvSpPr>
            <p:spPr>
              <a:xfrm rot="103800">
                <a:off x="665064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0860000">
                <a:off x="663228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403320" y="1317240"/>
              <a:ext cx="264240" cy="1131120"/>
              <a:chOff x="6403320" y="1317240"/>
              <a:chExt cx="264240" cy="1131120"/>
            </a:xfrm>
          </p:grpSpPr>
          <p:sp>
            <p:nvSpPr>
              <p:cNvPr id="536" name=""/>
              <p:cNvSpPr/>
              <p:nvPr/>
            </p:nvSpPr>
            <p:spPr>
              <a:xfrm rot="103800">
                <a:off x="642204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0860000">
                <a:off x="640368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174720" y="1317240"/>
              <a:ext cx="264240" cy="1131120"/>
              <a:chOff x="6174720" y="1317240"/>
              <a:chExt cx="264240" cy="1131120"/>
            </a:xfrm>
          </p:grpSpPr>
          <p:sp>
            <p:nvSpPr>
              <p:cNvPr id="539" name=""/>
              <p:cNvSpPr/>
              <p:nvPr/>
            </p:nvSpPr>
            <p:spPr>
              <a:xfrm rot="103800">
                <a:off x="619344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0860000">
                <a:off x="617508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5945760" y="1317240"/>
              <a:ext cx="264240" cy="1131120"/>
              <a:chOff x="5945760" y="1317240"/>
              <a:chExt cx="264240" cy="1131120"/>
            </a:xfrm>
          </p:grpSpPr>
          <p:sp>
            <p:nvSpPr>
              <p:cNvPr id="542" name=""/>
              <p:cNvSpPr/>
              <p:nvPr/>
            </p:nvSpPr>
            <p:spPr>
              <a:xfrm rot="103800">
                <a:off x="596448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0860000">
                <a:off x="594612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5717160" y="1317240"/>
              <a:ext cx="264240" cy="1131120"/>
              <a:chOff x="5717160" y="1317240"/>
              <a:chExt cx="264240" cy="1131120"/>
            </a:xfrm>
          </p:grpSpPr>
          <p:sp>
            <p:nvSpPr>
              <p:cNvPr id="545" name=""/>
              <p:cNvSpPr/>
              <p:nvPr/>
            </p:nvSpPr>
            <p:spPr>
              <a:xfrm rot="103800">
                <a:off x="573588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0860000">
                <a:off x="571752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5488560" y="1317240"/>
              <a:ext cx="264240" cy="1131120"/>
              <a:chOff x="5488560" y="1317240"/>
              <a:chExt cx="264240" cy="1131120"/>
            </a:xfrm>
          </p:grpSpPr>
          <p:sp>
            <p:nvSpPr>
              <p:cNvPr id="548" name=""/>
              <p:cNvSpPr/>
              <p:nvPr/>
            </p:nvSpPr>
            <p:spPr>
              <a:xfrm rot="103800">
                <a:off x="550728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0860000">
                <a:off x="548892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5259600" y="1317240"/>
              <a:ext cx="264240" cy="1131120"/>
              <a:chOff x="5259600" y="1317240"/>
              <a:chExt cx="264240" cy="1131120"/>
            </a:xfrm>
          </p:grpSpPr>
          <p:sp>
            <p:nvSpPr>
              <p:cNvPr id="551" name=""/>
              <p:cNvSpPr/>
              <p:nvPr/>
            </p:nvSpPr>
            <p:spPr>
              <a:xfrm rot="103800">
                <a:off x="527832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0860000">
                <a:off x="525996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5031000" y="1317240"/>
              <a:ext cx="264240" cy="1131120"/>
              <a:chOff x="5031000" y="1317240"/>
              <a:chExt cx="264240" cy="1131120"/>
            </a:xfrm>
          </p:grpSpPr>
          <p:sp>
            <p:nvSpPr>
              <p:cNvPr id="554" name=""/>
              <p:cNvSpPr/>
              <p:nvPr/>
            </p:nvSpPr>
            <p:spPr>
              <a:xfrm rot="103800">
                <a:off x="504972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0860000">
                <a:off x="503136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4802040" y="1317240"/>
              <a:ext cx="264240" cy="1131120"/>
              <a:chOff x="4802040" y="1317240"/>
              <a:chExt cx="264240" cy="1131120"/>
            </a:xfrm>
          </p:grpSpPr>
          <p:sp>
            <p:nvSpPr>
              <p:cNvPr id="557" name=""/>
              <p:cNvSpPr/>
              <p:nvPr/>
            </p:nvSpPr>
            <p:spPr>
              <a:xfrm rot="103800">
                <a:off x="482076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0860000">
                <a:off x="480240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573440" y="1317240"/>
              <a:ext cx="264240" cy="1131120"/>
              <a:chOff x="4573440" y="1317240"/>
              <a:chExt cx="264240" cy="1131120"/>
            </a:xfrm>
          </p:grpSpPr>
          <p:sp>
            <p:nvSpPr>
              <p:cNvPr id="560" name=""/>
              <p:cNvSpPr/>
              <p:nvPr/>
            </p:nvSpPr>
            <p:spPr>
              <a:xfrm rot="103800">
                <a:off x="459216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0860000">
                <a:off x="457380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3658320" y="1317240"/>
              <a:ext cx="264240" cy="1131120"/>
              <a:chOff x="3658320" y="1317240"/>
              <a:chExt cx="264240" cy="1131120"/>
            </a:xfrm>
          </p:grpSpPr>
          <p:sp>
            <p:nvSpPr>
              <p:cNvPr id="563" name=""/>
              <p:cNvSpPr/>
              <p:nvPr/>
            </p:nvSpPr>
            <p:spPr>
              <a:xfrm rot="103800">
                <a:off x="367704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0860000">
                <a:off x="365868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4344840" y="1317240"/>
              <a:ext cx="264240" cy="1131120"/>
              <a:chOff x="4344840" y="1317240"/>
              <a:chExt cx="264240" cy="1131120"/>
            </a:xfrm>
          </p:grpSpPr>
          <p:sp>
            <p:nvSpPr>
              <p:cNvPr id="566" name=""/>
              <p:cNvSpPr/>
              <p:nvPr/>
            </p:nvSpPr>
            <p:spPr>
              <a:xfrm rot="103800">
                <a:off x="436356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0860000">
                <a:off x="434520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4115880" y="1317240"/>
              <a:ext cx="264240" cy="1131120"/>
              <a:chOff x="4115880" y="1317240"/>
              <a:chExt cx="264240" cy="1131120"/>
            </a:xfrm>
          </p:grpSpPr>
          <p:sp>
            <p:nvSpPr>
              <p:cNvPr id="569" name=""/>
              <p:cNvSpPr/>
              <p:nvPr/>
            </p:nvSpPr>
            <p:spPr>
              <a:xfrm rot="103800">
                <a:off x="413460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0860000">
                <a:off x="411624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887280" y="1317240"/>
              <a:ext cx="264240" cy="1131120"/>
              <a:chOff x="3887280" y="1317240"/>
              <a:chExt cx="264240" cy="1131120"/>
            </a:xfrm>
          </p:grpSpPr>
          <p:sp>
            <p:nvSpPr>
              <p:cNvPr id="572" name=""/>
              <p:cNvSpPr/>
              <p:nvPr/>
            </p:nvSpPr>
            <p:spPr>
              <a:xfrm rot="103800">
                <a:off x="390600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0860000">
                <a:off x="388764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3429720" y="1317240"/>
              <a:ext cx="264240" cy="1131120"/>
              <a:chOff x="3429720" y="1317240"/>
              <a:chExt cx="264240" cy="1131120"/>
            </a:xfrm>
          </p:grpSpPr>
          <p:sp>
            <p:nvSpPr>
              <p:cNvPr id="575" name=""/>
              <p:cNvSpPr/>
              <p:nvPr/>
            </p:nvSpPr>
            <p:spPr>
              <a:xfrm rot="103800">
                <a:off x="344844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0860000">
                <a:off x="343008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201120" y="1317240"/>
              <a:ext cx="264240" cy="1131120"/>
              <a:chOff x="3201120" y="1317240"/>
              <a:chExt cx="264240" cy="1131120"/>
            </a:xfrm>
          </p:grpSpPr>
          <p:sp>
            <p:nvSpPr>
              <p:cNvPr id="578" name=""/>
              <p:cNvSpPr/>
              <p:nvPr/>
            </p:nvSpPr>
            <p:spPr>
              <a:xfrm rot="103800">
                <a:off x="3219840" y="1320120"/>
                <a:ext cx="228600" cy="11080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0860000">
                <a:off x="3201480" y="2393280"/>
                <a:ext cx="228600" cy="5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" y="9660"/>
                    </a:moveTo>
                    <a:arcTo wR="10800" hR="10800" stAng="-10436293" swAng="10436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" y="9660"/>
                    </a:moveTo>
                    <a:arcTo wR="10800" hR="10800" stAng="-10436293" swAng="10436293"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"/>
          <p:cNvSpPr/>
          <p:nvPr/>
        </p:nvSpPr>
        <p:spPr>
          <a:xfrm>
            <a:off x="1042920" y="2997360"/>
            <a:ext cx="763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近似长方形”的长与圆的周长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宽与圆的半径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"/>
          <p:cNvGrpSpPr/>
          <p:nvPr/>
        </p:nvGrpSpPr>
        <p:grpSpPr>
          <a:xfrm>
            <a:off x="3809880" y="1524240"/>
            <a:ext cx="1523880" cy="1218240"/>
            <a:chOff x="3809880" y="1524240"/>
            <a:chExt cx="1523880" cy="1218240"/>
          </a:xfrm>
        </p:grpSpPr>
        <p:grpSp>
          <p:nvGrpSpPr>
            <p:cNvPr id="582" name=""/>
            <p:cNvGrpSpPr/>
            <p:nvPr/>
          </p:nvGrpSpPr>
          <p:grpSpPr>
            <a:xfrm>
              <a:off x="4572000" y="1581840"/>
              <a:ext cx="761760" cy="1160640"/>
              <a:chOff x="4572000" y="1581840"/>
              <a:chExt cx="761760" cy="116064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4572000" y="1581840"/>
                <a:ext cx="761760" cy="1102680"/>
                <a:chOff x="4572000" y="1581840"/>
                <a:chExt cx="761760" cy="1102680"/>
              </a:xfrm>
            </p:grpSpPr>
            <p:sp>
              <p:nvSpPr>
                <p:cNvPr id="584" name=""/>
                <p:cNvSpPr/>
                <p:nvPr/>
              </p:nvSpPr>
              <p:spPr>
                <a:xfrm flipH="1">
                  <a:off x="4572000" y="1581840"/>
                  <a:ext cx="380880" cy="110268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952880" y="1581840"/>
                  <a:ext cx="380880" cy="110268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4572000" y="2684520"/>
                <a:ext cx="761760" cy="57960"/>
              </a:xfrm>
              <a:custGeom>
                <a:avLst/>
                <a:gdLst/>
                <a:ahLst/>
                <a:rect l="l" t="t" r="r" b="b"/>
                <a:pathLst>
                  <a:path w="480" h="48">
                    <a:moveTo>
                      <a:pt x="0" y="0"/>
                    </a:moveTo>
                    <a:cubicBezTo>
                      <a:pt x="80" y="24"/>
                      <a:pt x="160" y="48"/>
                      <a:pt x="240" y="48"/>
                    </a:cubicBezTo>
                    <a:cubicBezTo>
                      <a:pt x="320" y="48"/>
                      <a:pt x="400" y="24"/>
                      <a:pt x="480" y="0"/>
                    </a:cubicBezTo>
                  </a:path>
                </a:pathLst>
              </a:custGeom>
              <a:solidFill>
                <a:srgbClr val="ff66cc">
                  <a:alpha val="50000"/>
                </a:srgbClr>
              </a:solidFill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4191120" y="1524240"/>
              <a:ext cx="761760" cy="1161000"/>
              <a:chOff x="4191120" y="1524240"/>
              <a:chExt cx="761760" cy="11610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4191120" y="1582200"/>
                <a:ext cx="761760" cy="1103040"/>
                <a:chOff x="4191120" y="1582200"/>
                <a:chExt cx="761760" cy="110304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4191120" y="1582200"/>
                  <a:ext cx="380880" cy="11030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V="1">
                  <a:off x="4572000" y="1582200"/>
                  <a:ext cx="380880" cy="11030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 flipV="1">
                <a:off x="4191120" y="1523880"/>
                <a:ext cx="761760" cy="57960"/>
              </a:xfrm>
              <a:custGeom>
                <a:avLst/>
                <a:gdLst/>
                <a:ahLst/>
                <a:rect l="l" t="t" r="r" b="b"/>
                <a:pathLst>
                  <a:path w="480" h="48">
                    <a:moveTo>
                      <a:pt x="0" y="0"/>
                    </a:moveTo>
                    <a:cubicBezTo>
                      <a:pt x="80" y="24"/>
                      <a:pt x="160" y="48"/>
                      <a:pt x="240" y="48"/>
                    </a:cubicBezTo>
                    <a:cubicBezTo>
                      <a:pt x="320" y="48"/>
                      <a:pt x="400" y="24"/>
                      <a:pt x="480" y="0"/>
                    </a:cubicBezTo>
                  </a:path>
                </a:pathLst>
              </a:custGeom>
              <a:solidFill>
                <a:srgbClr val="ff66cc">
                  <a:alpha val="50000"/>
                </a:srgbClr>
              </a:solidFill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3809880" y="1581840"/>
              <a:ext cx="761760" cy="1160640"/>
              <a:chOff x="3809880" y="1581840"/>
              <a:chExt cx="761760" cy="116064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3809880" y="1581840"/>
                <a:ext cx="761760" cy="1102680"/>
                <a:chOff x="3809880" y="1581840"/>
                <a:chExt cx="761760" cy="1102680"/>
              </a:xfrm>
            </p:grpSpPr>
            <p:sp>
              <p:nvSpPr>
                <p:cNvPr id="594" name=""/>
                <p:cNvSpPr/>
                <p:nvPr/>
              </p:nvSpPr>
              <p:spPr>
                <a:xfrm flipH="1">
                  <a:off x="3809880" y="1581840"/>
                  <a:ext cx="380880" cy="110268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190760" y="1581840"/>
                  <a:ext cx="380880" cy="110268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3809880" y="2684520"/>
                <a:ext cx="761760" cy="57960"/>
              </a:xfrm>
              <a:custGeom>
                <a:avLst/>
                <a:gdLst/>
                <a:ahLst/>
                <a:rect l="l" t="t" r="r" b="b"/>
                <a:pathLst>
                  <a:path w="480" h="48">
                    <a:moveTo>
                      <a:pt x="0" y="0"/>
                    </a:moveTo>
                    <a:cubicBezTo>
                      <a:pt x="80" y="24"/>
                      <a:pt x="160" y="48"/>
                      <a:pt x="240" y="48"/>
                    </a:cubicBezTo>
                    <a:cubicBezTo>
                      <a:pt x="320" y="48"/>
                      <a:pt x="400" y="24"/>
                      <a:pt x="480" y="0"/>
                    </a:cubicBezTo>
                  </a:path>
                </a:pathLst>
              </a:custGeom>
              <a:solidFill>
                <a:srgbClr val="ff66cc">
                  <a:alpha val="50000"/>
                </a:srgbClr>
              </a:solidFill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"/>
          <p:cNvGrpSpPr/>
          <p:nvPr/>
        </p:nvGrpSpPr>
        <p:grpSpPr>
          <a:xfrm>
            <a:off x="4191120" y="228600"/>
            <a:ext cx="761760" cy="1294920"/>
            <a:chOff x="4191120" y="228600"/>
            <a:chExt cx="761760" cy="1294920"/>
          </a:xfrm>
        </p:grpSpPr>
        <p:grpSp>
          <p:nvGrpSpPr>
            <p:cNvPr id="598" name=""/>
            <p:cNvGrpSpPr/>
            <p:nvPr/>
          </p:nvGrpSpPr>
          <p:grpSpPr>
            <a:xfrm>
              <a:off x="4191120" y="228600"/>
              <a:ext cx="761760" cy="1230120"/>
              <a:chOff x="4191120" y="228600"/>
              <a:chExt cx="761760" cy="1230120"/>
            </a:xfrm>
          </p:grpSpPr>
          <p:sp>
            <p:nvSpPr>
              <p:cNvPr id="599" name=""/>
              <p:cNvSpPr/>
              <p:nvPr/>
            </p:nvSpPr>
            <p:spPr>
              <a:xfrm flipH="1">
                <a:off x="4191120" y="228600"/>
                <a:ext cx="380880" cy="123012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72000" y="228600"/>
                <a:ext cx="380880" cy="123012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4191120" y="1458720"/>
              <a:ext cx="761760" cy="6480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cubicBezTo>
                    <a:pt x="80" y="24"/>
                    <a:pt x="160" y="48"/>
                    <a:pt x="240" y="48"/>
                  </a:cubicBezTo>
                  <a:cubicBezTo>
                    <a:pt x="320" y="48"/>
                    <a:pt x="400" y="24"/>
                    <a:pt x="480" y="0"/>
                  </a:cubicBezTo>
                </a:path>
              </a:pathLst>
            </a:custGeom>
            <a:solidFill>
              <a:srgbClr val="cc66ff"/>
            </a:solidFill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429000" y="2743200"/>
            <a:ext cx="2285640" cy="1371600"/>
            <a:chOff x="3429000" y="2743200"/>
            <a:chExt cx="2285640" cy="1371600"/>
          </a:xfrm>
        </p:grpSpPr>
        <p:grpSp>
          <p:nvGrpSpPr>
            <p:cNvPr id="603" name=""/>
            <p:cNvGrpSpPr/>
            <p:nvPr/>
          </p:nvGrpSpPr>
          <p:grpSpPr>
            <a:xfrm>
              <a:off x="4191120" y="2743200"/>
              <a:ext cx="761760" cy="1371240"/>
              <a:chOff x="4191120" y="2743200"/>
              <a:chExt cx="761760" cy="137124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4191120" y="2743200"/>
                <a:ext cx="761760" cy="1302840"/>
                <a:chOff x="4191120" y="2743200"/>
                <a:chExt cx="761760" cy="1302840"/>
              </a:xfrm>
            </p:grpSpPr>
            <p:sp>
              <p:nvSpPr>
                <p:cNvPr id="605" name=""/>
                <p:cNvSpPr/>
                <p:nvPr/>
              </p:nvSpPr>
              <p:spPr>
                <a:xfrm flipH="1">
                  <a:off x="4191120" y="2743200"/>
                  <a:ext cx="380880" cy="13028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572000" y="2743200"/>
                  <a:ext cx="380880" cy="13028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4191120" y="4046040"/>
                <a:ext cx="761760" cy="68400"/>
              </a:xfrm>
              <a:custGeom>
                <a:avLst/>
                <a:gdLst/>
                <a:ahLst/>
                <a:rect l="l" t="t" r="r" b="b"/>
                <a:pathLst>
                  <a:path w="480" h="48">
                    <a:moveTo>
                      <a:pt x="0" y="0"/>
                    </a:moveTo>
                    <a:cubicBezTo>
                      <a:pt x="80" y="24"/>
                      <a:pt x="160" y="48"/>
                      <a:pt x="240" y="48"/>
                    </a:cubicBezTo>
                    <a:cubicBezTo>
                      <a:pt x="320" y="48"/>
                      <a:pt x="400" y="24"/>
                      <a:pt x="480" y="0"/>
                    </a:cubicBezTo>
                  </a:path>
                </a:pathLst>
              </a:custGeom>
              <a:solidFill>
                <a:srgbClr val="ff66cc">
                  <a:alpha val="50000"/>
                </a:srgbClr>
              </a:solidFill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429000" y="2743200"/>
              <a:ext cx="761760" cy="1371240"/>
              <a:chOff x="3429000" y="2743200"/>
              <a:chExt cx="761760" cy="137124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3429000" y="2743200"/>
                <a:ext cx="761760" cy="1302840"/>
                <a:chOff x="3429000" y="2743200"/>
                <a:chExt cx="761760" cy="1302840"/>
              </a:xfrm>
            </p:grpSpPr>
            <p:sp>
              <p:nvSpPr>
                <p:cNvPr id="610" name=""/>
                <p:cNvSpPr/>
                <p:nvPr/>
              </p:nvSpPr>
              <p:spPr>
                <a:xfrm flipH="1">
                  <a:off x="3429000" y="2743200"/>
                  <a:ext cx="380880" cy="13028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809880" y="2743200"/>
                  <a:ext cx="380880" cy="13028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429000" y="4046040"/>
                <a:ext cx="761760" cy="68400"/>
              </a:xfrm>
              <a:custGeom>
                <a:avLst/>
                <a:gdLst/>
                <a:ahLst/>
                <a:rect l="l" t="t" r="r" b="b"/>
                <a:pathLst>
                  <a:path w="480" h="48">
                    <a:moveTo>
                      <a:pt x="0" y="0"/>
                    </a:moveTo>
                    <a:cubicBezTo>
                      <a:pt x="80" y="24"/>
                      <a:pt x="160" y="48"/>
                      <a:pt x="240" y="48"/>
                    </a:cubicBezTo>
                    <a:cubicBezTo>
                      <a:pt x="320" y="48"/>
                      <a:pt x="400" y="24"/>
                      <a:pt x="480" y="0"/>
                    </a:cubicBezTo>
                  </a:path>
                </a:pathLst>
              </a:custGeom>
              <a:solidFill>
                <a:srgbClr val="ff66cc">
                  <a:alpha val="50000"/>
                </a:srgbClr>
              </a:solidFill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952880" y="2743200"/>
              <a:ext cx="761760" cy="1371240"/>
              <a:chOff x="4952880" y="2743200"/>
              <a:chExt cx="761760" cy="137124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4952880" y="2743200"/>
                <a:ext cx="761760" cy="1302840"/>
                <a:chOff x="4952880" y="2743200"/>
                <a:chExt cx="761760" cy="1302840"/>
              </a:xfrm>
            </p:grpSpPr>
            <p:sp>
              <p:nvSpPr>
                <p:cNvPr id="615" name=""/>
                <p:cNvSpPr/>
                <p:nvPr/>
              </p:nvSpPr>
              <p:spPr>
                <a:xfrm flipH="1">
                  <a:off x="4952880" y="2743200"/>
                  <a:ext cx="380880" cy="13028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333760" y="2743200"/>
                  <a:ext cx="380880" cy="13028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952880" y="4046040"/>
                <a:ext cx="761760" cy="68400"/>
              </a:xfrm>
              <a:custGeom>
                <a:avLst/>
                <a:gdLst/>
                <a:ahLst/>
                <a:rect l="l" t="t" r="r" b="b"/>
                <a:pathLst>
                  <a:path w="480" h="48">
                    <a:moveTo>
                      <a:pt x="0" y="0"/>
                    </a:moveTo>
                    <a:cubicBezTo>
                      <a:pt x="80" y="24"/>
                      <a:pt x="160" y="48"/>
                      <a:pt x="240" y="48"/>
                    </a:cubicBezTo>
                    <a:cubicBezTo>
                      <a:pt x="320" y="48"/>
                      <a:pt x="400" y="24"/>
                      <a:pt x="480" y="0"/>
                    </a:cubicBezTo>
                  </a:path>
                </a:pathLst>
              </a:custGeom>
              <a:solidFill>
                <a:srgbClr val="ff66cc">
                  <a:alpha val="50000"/>
                </a:srgbClr>
              </a:solidFill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3809880" y="2743560"/>
              <a:ext cx="761760" cy="1371240"/>
              <a:chOff x="3809880" y="2743560"/>
              <a:chExt cx="761760" cy="137124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3809880" y="2811960"/>
                <a:ext cx="761760" cy="1302840"/>
                <a:chOff x="3809880" y="2811960"/>
                <a:chExt cx="761760" cy="1302840"/>
              </a:xfrm>
            </p:grpSpPr>
            <p:sp>
              <p:nvSpPr>
                <p:cNvPr id="620" name=""/>
                <p:cNvSpPr/>
                <p:nvPr/>
              </p:nvSpPr>
              <p:spPr>
                <a:xfrm flipH="1" flipV="1">
                  <a:off x="3809880" y="2811960"/>
                  <a:ext cx="380880" cy="13028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4190760" y="2811960"/>
                  <a:ext cx="380880" cy="13028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 flipV="1">
                <a:off x="3809880" y="2743560"/>
                <a:ext cx="761760" cy="68400"/>
              </a:xfrm>
              <a:custGeom>
                <a:avLst/>
                <a:gdLst/>
                <a:ahLst/>
                <a:rect l="l" t="t" r="r" b="b"/>
                <a:pathLst>
                  <a:path w="480" h="48">
                    <a:moveTo>
                      <a:pt x="0" y="0"/>
                    </a:moveTo>
                    <a:cubicBezTo>
                      <a:pt x="80" y="24"/>
                      <a:pt x="160" y="48"/>
                      <a:pt x="240" y="48"/>
                    </a:cubicBezTo>
                    <a:cubicBezTo>
                      <a:pt x="320" y="48"/>
                      <a:pt x="400" y="24"/>
                      <a:pt x="480" y="0"/>
                    </a:cubicBezTo>
                  </a:path>
                </a:pathLst>
              </a:custGeom>
              <a:solidFill>
                <a:srgbClr val="ff66cc">
                  <a:alpha val="50000"/>
                </a:srgbClr>
              </a:solidFill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4572000" y="2743560"/>
              <a:ext cx="761760" cy="1371240"/>
              <a:chOff x="4572000" y="2743560"/>
              <a:chExt cx="761760" cy="137124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4572000" y="2811960"/>
                <a:ext cx="761760" cy="1302840"/>
                <a:chOff x="4572000" y="2811960"/>
                <a:chExt cx="761760" cy="1302840"/>
              </a:xfrm>
            </p:grpSpPr>
            <p:sp>
              <p:nvSpPr>
                <p:cNvPr id="625" name=""/>
                <p:cNvSpPr/>
                <p:nvPr/>
              </p:nvSpPr>
              <p:spPr>
                <a:xfrm flipH="1" flipV="1">
                  <a:off x="4572000" y="2811960"/>
                  <a:ext cx="380880" cy="13028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4952880" y="2811960"/>
                  <a:ext cx="380880" cy="130284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 flipV="1">
                <a:off x="4572000" y="2743560"/>
                <a:ext cx="761760" cy="68400"/>
              </a:xfrm>
              <a:custGeom>
                <a:avLst/>
                <a:gdLst/>
                <a:ahLst/>
                <a:rect l="l" t="t" r="r" b="b"/>
                <a:pathLst>
                  <a:path w="480" h="48">
                    <a:moveTo>
                      <a:pt x="0" y="0"/>
                    </a:moveTo>
                    <a:cubicBezTo>
                      <a:pt x="80" y="24"/>
                      <a:pt x="160" y="48"/>
                      <a:pt x="240" y="48"/>
                    </a:cubicBezTo>
                    <a:cubicBezTo>
                      <a:pt x="320" y="48"/>
                      <a:pt x="400" y="24"/>
                      <a:pt x="480" y="0"/>
                    </a:cubicBezTo>
                  </a:path>
                </a:pathLst>
              </a:custGeom>
              <a:solidFill>
                <a:srgbClr val="ff66cc">
                  <a:alpha val="50000"/>
                </a:srgbClr>
              </a:solidFill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3048120" y="4114800"/>
            <a:ext cx="3047760" cy="1295280"/>
            <a:chOff x="3048120" y="4114800"/>
            <a:chExt cx="3047760" cy="1295280"/>
          </a:xfrm>
        </p:grpSpPr>
        <p:grpSp>
          <p:nvGrpSpPr>
            <p:cNvPr id="629" name=""/>
            <p:cNvGrpSpPr/>
            <p:nvPr/>
          </p:nvGrpSpPr>
          <p:grpSpPr>
            <a:xfrm>
              <a:off x="4572000" y="4191120"/>
              <a:ext cx="761760" cy="1218600"/>
              <a:chOff x="4572000" y="4191120"/>
              <a:chExt cx="761760" cy="121860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4572000" y="4191120"/>
                <a:ext cx="761760" cy="1157760"/>
                <a:chOff x="4572000" y="4191120"/>
                <a:chExt cx="761760" cy="1157760"/>
              </a:xfrm>
            </p:grpSpPr>
            <p:sp>
              <p:nvSpPr>
                <p:cNvPr id="631" name=""/>
                <p:cNvSpPr/>
                <p:nvPr/>
              </p:nvSpPr>
              <p:spPr>
                <a:xfrm flipH="1">
                  <a:off x="4572000" y="4191120"/>
                  <a:ext cx="380880" cy="115776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952880" y="4191120"/>
                  <a:ext cx="380880" cy="115776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4572000" y="5348880"/>
                <a:ext cx="761760" cy="60840"/>
              </a:xfrm>
              <a:custGeom>
                <a:avLst/>
                <a:gdLst/>
                <a:ahLst/>
                <a:rect l="l" t="t" r="r" b="b"/>
                <a:pathLst>
                  <a:path w="480" h="48">
                    <a:moveTo>
                      <a:pt x="0" y="0"/>
                    </a:moveTo>
                    <a:cubicBezTo>
                      <a:pt x="80" y="24"/>
                      <a:pt x="160" y="48"/>
                      <a:pt x="240" y="48"/>
                    </a:cubicBezTo>
                    <a:cubicBezTo>
                      <a:pt x="320" y="48"/>
                      <a:pt x="400" y="24"/>
                      <a:pt x="480" y="0"/>
                    </a:cubicBezTo>
                  </a:path>
                </a:pathLst>
              </a:custGeom>
              <a:solidFill>
                <a:srgbClr val="ff66cc">
                  <a:alpha val="50000"/>
                </a:srgbClr>
              </a:solidFill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809880" y="4191120"/>
              <a:ext cx="761760" cy="1218600"/>
              <a:chOff x="3809880" y="4191120"/>
              <a:chExt cx="761760" cy="1218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3809880" y="4191120"/>
                <a:ext cx="761760" cy="1157760"/>
                <a:chOff x="3809880" y="4191120"/>
                <a:chExt cx="761760" cy="1157760"/>
              </a:xfrm>
            </p:grpSpPr>
            <p:sp>
              <p:nvSpPr>
                <p:cNvPr id="636" name=""/>
                <p:cNvSpPr/>
                <p:nvPr/>
              </p:nvSpPr>
              <p:spPr>
                <a:xfrm flipH="1">
                  <a:off x="3809880" y="4191120"/>
                  <a:ext cx="380880" cy="115776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190760" y="4191120"/>
                  <a:ext cx="380880" cy="115776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"/>
              <p:cNvSpPr/>
              <p:nvPr/>
            </p:nvSpPr>
            <p:spPr>
              <a:xfrm>
                <a:off x="3809880" y="5348880"/>
                <a:ext cx="761760" cy="60840"/>
              </a:xfrm>
              <a:custGeom>
                <a:avLst/>
                <a:gdLst/>
                <a:ahLst/>
                <a:rect l="l" t="t" r="r" b="b"/>
                <a:pathLst>
                  <a:path w="480" h="48">
                    <a:moveTo>
                      <a:pt x="0" y="0"/>
                    </a:moveTo>
                    <a:cubicBezTo>
                      <a:pt x="80" y="24"/>
                      <a:pt x="160" y="48"/>
                      <a:pt x="240" y="48"/>
                    </a:cubicBezTo>
                    <a:cubicBezTo>
                      <a:pt x="320" y="48"/>
                      <a:pt x="400" y="24"/>
                      <a:pt x="480" y="0"/>
                    </a:cubicBezTo>
                  </a:path>
                </a:pathLst>
              </a:custGeom>
              <a:solidFill>
                <a:srgbClr val="ff66cc">
                  <a:alpha val="50000"/>
                </a:srgbClr>
              </a:solidFill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3048120" y="4114800"/>
              <a:ext cx="3047760" cy="1295280"/>
              <a:chOff x="3048120" y="4114800"/>
              <a:chExt cx="3047760" cy="129528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5334120" y="4114800"/>
                <a:ext cx="761760" cy="1294920"/>
                <a:chOff x="5334120" y="4114800"/>
                <a:chExt cx="761760" cy="129492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5334120" y="4114800"/>
                  <a:ext cx="761760" cy="1230120"/>
                  <a:chOff x="5334120" y="4114800"/>
                  <a:chExt cx="761760" cy="123012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 flipH="1">
                    <a:off x="5334120" y="4114800"/>
                    <a:ext cx="380880" cy="123012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715000" y="4114800"/>
                    <a:ext cx="380880" cy="123012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5334120" y="5344920"/>
                  <a:ext cx="761760" cy="64800"/>
                </a:xfrm>
                <a:custGeom>
                  <a:avLst/>
                  <a:gdLst/>
                  <a:ahLst/>
                  <a:rect l="l" t="t" r="r" b="b"/>
                  <a:pathLst>
                    <a:path w="480" h="48">
                      <a:moveTo>
                        <a:pt x="0" y="0"/>
                      </a:moveTo>
                      <a:cubicBezTo>
                        <a:pt x="80" y="24"/>
                        <a:pt x="160" y="48"/>
                        <a:pt x="240" y="48"/>
                      </a:cubicBezTo>
                      <a:cubicBezTo>
                        <a:pt x="320" y="48"/>
                        <a:pt x="400" y="24"/>
                        <a:pt x="480" y="0"/>
                      </a:cubicBezTo>
                    </a:path>
                  </a:pathLst>
                </a:custGeom>
                <a:solidFill>
                  <a:srgbClr val="ff66cc">
                    <a:alpha val="50000"/>
                  </a:srgbClr>
                </a:solidFill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3048120" y="4114800"/>
                <a:ext cx="761760" cy="1294920"/>
                <a:chOff x="3048120" y="4114800"/>
                <a:chExt cx="761760" cy="1294920"/>
              </a:xfrm>
            </p:grpSpPr>
            <p:grpSp>
              <p:nvGrpSpPr>
                <p:cNvPr id="646" name=""/>
                <p:cNvGrpSpPr/>
                <p:nvPr/>
              </p:nvGrpSpPr>
              <p:grpSpPr>
                <a:xfrm>
                  <a:off x="3048120" y="4114800"/>
                  <a:ext cx="761760" cy="1230120"/>
                  <a:chOff x="3048120" y="4114800"/>
                  <a:chExt cx="761760" cy="123012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>
                    <a:off x="3048120" y="4114800"/>
                    <a:ext cx="380880" cy="123012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429000" y="4114800"/>
                    <a:ext cx="380880" cy="123012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"/>
                <p:cNvSpPr/>
                <p:nvPr/>
              </p:nvSpPr>
              <p:spPr>
                <a:xfrm>
                  <a:off x="3048120" y="5344920"/>
                  <a:ext cx="761760" cy="64800"/>
                </a:xfrm>
                <a:custGeom>
                  <a:avLst/>
                  <a:gdLst/>
                  <a:ahLst/>
                  <a:rect l="l" t="t" r="r" b="b"/>
                  <a:pathLst>
                    <a:path w="480" h="48">
                      <a:moveTo>
                        <a:pt x="0" y="0"/>
                      </a:moveTo>
                      <a:cubicBezTo>
                        <a:pt x="80" y="24"/>
                        <a:pt x="160" y="48"/>
                        <a:pt x="240" y="48"/>
                      </a:cubicBezTo>
                      <a:cubicBezTo>
                        <a:pt x="320" y="48"/>
                        <a:pt x="400" y="24"/>
                        <a:pt x="480" y="0"/>
                      </a:cubicBezTo>
                    </a:path>
                  </a:pathLst>
                </a:custGeom>
                <a:solidFill>
                  <a:srgbClr val="ff66cc">
                    <a:alpha val="50000"/>
                  </a:srgbClr>
                </a:solidFill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4952880" y="4115160"/>
                <a:ext cx="761760" cy="1294920"/>
                <a:chOff x="4952880" y="4115160"/>
                <a:chExt cx="761760" cy="1294920"/>
              </a:xfrm>
            </p:grpSpPr>
            <p:grpSp>
              <p:nvGrpSpPr>
                <p:cNvPr id="651" name=""/>
                <p:cNvGrpSpPr/>
                <p:nvPr/>
              </p:nvGrpSpPr>
              <p:grpSpPr>
                <a:xfrm>
                  <a:off x="4952880" y="4179960"/>
                  <a:ext cx="761760" cy="1230120"/>
                  <a:chOff x="4952880" y="4179960"/>
                  <a:chExt cx="761760" cy="12301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 flipH="1" flipV="1">
                    <a:off x="4952880" y="4179960"/>
                    <a:ext cx="380880" cy="123012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V="1">
                    <a:off x="5333760" y="4179960"/>
                    <a:ext cx="380880" cy="123012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" name=""/>
                <p:cNvSpPr/>
                <p:nvPr/>
              </p:nvSpPr>
              <p:spPr>
                <a:xfrm flipV="1">
                  <a:off x="4952880" y="4115160"/>
                  <a:ext cx="761760" cy="64800"/>
                </a:xfrm>
                <a:custGeom>
                  <a:avLst/>
                  <a:gdLst/>
                  <a:ahLst/>
                  <a:rect l="l" t="t" r="r" b="b"/>
                  <a:pathLst>
                    <a:path w="480" h="48">
                      <a:moveTo>
                        <a:pt x="0" y="0"/>
                      </a:moveTo>
                      <a:cubicBezTo>
                        <a:pt x="80" y="24"/>
                        <a:pt x="160" y="48"/>
                        <a:pt x="240" y="48"/>
                      </a:cubicBezTo>
                      <a:cubicBezTo>
                        <a:pt x="320" y="48"/>
                        <a:pt x="400" y="24"/>
                        <a:pt x="480" y="0"/>
                      </a:cubicBezTo>
                    </a:path>
                  </a:pathLst>
                </a:custGeom>
                <a:solidFill>
                  <a:srgbClr val="ff66cc">
                    <a:alpha val="50000"/>
                  </a:srgbClr>
                </a:solidFill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4191120" y="4115160"/>
                <a:ext cx="761760" cy="1294920"/>
                <a:chOff x="4191120" y="4115160"/>
                <a:chExt cx="761760" cy="1294920"/>
              </a:xfrm>
            </p:grpSpPr>
            <p:grpSp>
              <p:nvGrpSpPr>
                <p:cNvPr id="656" name=""/>
                <p:cNvGrpSpPr/>
                <p:nvPr/>
              </p:nvGrpSpPr>
              <p:grpSpPr>
                <a:xfrm>
                  <a:off x="4191120" y="4179960"/>
                  <a:ext cx="761760" cy="1230120"/>
                  <a:chOff x="4191120" y="4179960"/>
                  <a:chExt cx="761760" cy="123012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flipH="1" flipV="1">
                    <a:off x="4191120" y="4179960"/>
                    <a:ext cx="380880" cy="123012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V="1">
                    <a:off x="4572000" y="4179960"/>
                    <a:ext cx="380880" cy="123012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" name=""/>
                <p:cNvSpPr/>
                <p:nvPr/>
              </p:nvSpPr>
              <p:spPr>
                <a:xfrm flipV="1">
                  <a:off x="4191120" y="4115160"/>
                  <a:ext cx="761760" cy="64800"/>
                </a:xfrm>
                <a:custGeom>
                  <a:avLst/>
                  <a:gdLst/>
                  <a:ahLst/>
                  <a:rect l="l" t="t" r="r" b="b"/>
                  <a:pathLst>
                    <a:path w="480" h="48">
                      <a:moveTo>
                        <a:pt x="0" y="0"/>
                      </a:moveTo>
                      <a:cubicBezTo>
                        <a:pt x="80" y="24"/>
                        <a:pt x="160" y="48"/>
                        <a:pt x="240" y="48"/>
                      </a:cubicBezTo>
                      <a:cubicBezTo>
                        <a:pt x="320" y="48"/>
                        <a:pt x="400" y="24"/>
                        <a:pt x="480" y="0"/>
                      </a:cubicBezTo>
                    </a:path>
                  </a:pathLst>
                </a:custGeom>
                <a:solidFill>
                  <a:srgbClr val="ff66cc">
                    <a:alpha val="50000"/>
                  </a:srgbClr>
                </a:solidFill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3429000" y="4115160"/>
                <a:ext cx="761760" cy="1294920"/>
                <a:chOff x="3429000" y="4115160"/>
                <a:chExt cx="761760" cy="1294920"/>
              </a:xfrm>
            </p:grpSpPr>
            <p:grpSp>
              <p:nvGrpSpPr>
                <p:cNvPr id="661" name=""/>
                <p:cNvGrpSpPr/>
                <p:nvPr/>
              </p:nvGrpSpPr>
              <p:grpSpPr>
                <a:xfrm>
                  <a:off x="3429000" y="4179960"/>
                  <a:ext cx="761760" cy="1230120"/>
                  <a:chOff x="3429000" y="4179960"/>
                  <a:chExt cx="761760" cy="123012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 flipH="1" flipV="1">
                    <a:off x="3429000" y="4179960"/>
                    <a:ext cx="380880" cy="123012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V="1">
                    <a:off x="3809880" y="4179960"/>
                    <a:ext cx="380880" cy="123012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" name=""/>
                <p:cNvSpPr/>
                <p:nvPr/>
              </p:nvSpPr>
              <p:spPr>
                <a:xfrm flipV="1">
                  <a:off x="3429000" y="4115160"/>
                  <a:ext cx="761760" cy="64800"/>
                </a:xfrm>
                <a:custGeom>
                  <a:avLst/>
                  <a:gdLst/>
                  <a:ahLst/>
                  <a:rect l="l" t="t" r="r" b="b"/>
                  <a:pathLst>
                    <a:path w="480" h="48">
                      <a:moveTo>
                        <a:pt x="0" y="0"/>
                      </a:moveTo>
                      <a:cubicBezTo>
                        <a:pt x="80" y="24"/>
                        <a:pt x="160" y="48"/>
                        <a:pt x="240" y="48"/>
                      </a:cubicBezTo>
                      <a:cubicBezTo>
                        <a:pt x="320" y="48"/>
                        <a:pt x="400" y="24"/>
                        <a:pt x="480" y="0"/>
                      </a:cubicBezTo>
                    </a:path>
                  </a:pathLst>
                </a:custGeom>
                <a:solidFill>
                  <a:srgbClr val="ff66cc">
                    <a:alpha val="50000"/>
                  </a:srgbClr>
                </a:solidFill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5" name=""/>
          <p:cNvSpPr/>
          <p:nvPr/>
        </p:nvSpPr>
        <p:spPr>
          <a:xfrm>
            <a:off x="324000" y="9079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近似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3352680" y="1752120"/>
            <a:ext cx="2438280" cy="1143360"/>
            <a:chOff x="3352680" y="1752120"/>
            <a:chExt cx="2438280" cy="1143360"/>
          </a:xfrm>
        </p:grpSpPr>
        <p:grpSp>
          <p:nvGrpSpPr>
            <p:cNvPr id="667" name=""/>
            <p:cNvGrpSpPr/>
            <p:nvPr/>
          </p:nvGrpSpPr>
          <p:grpSpPr>
            <a:xfrm>
              <a:off x="3352680" y="1828800"/>
              <a:ext cx="2438280" cy="1066680"/>
              <a:chOff x="3352680" y="1828800"/>
              <a:chExt cx="2438280" cy="106668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4572000" y="1828800"/>
                <a:ext cx="609480" cy="1066680"/>
                <a:chOff x="4572000" y="1828800"/>
                <a:chExt cx="609480" cy="1066680"/>
              </a:xfrm>
            </p:grpSpPr>
            <p:grpSp>
              <p:nvGrpSpPr>
                <p:cNvPr id="669" name=""/>
                <p:cNvGrpSpPr/>
                <p:nvPr/>
              </p:nvGrpSpPr>
              <p:grpSpPr>
                <a:xfrm>
                  <a:off x="4572000" y="1828800"/>
                  <a:ext cx="609120" cy="1017360"/>
                  <a:chOff x="4572000" y="1828800"/>
                  <a:chExt cx="609120" cy="101736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H="1">
                    <a:off x="4572000" y="1828800"/>
                    <a:ext cx="304560" cy="101736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876560" y="1828800"/>
                    <a:ext cx="304560" cy="101736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2" name=""/>
                <p:cNvSpPr/>
                <p:nvPr/>
              </p:nvSpPr>
              <p:spPr>
                <a:xfrm>
                  <a:off x="4572000" y="2846160"/>
                  <a:ext cx="609480" cy="4932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3961800" y="1828800"/>
                <a:ext cx="610200" cy="1066320"/>
                <a:chOff x="3961800" y="1828800"/>
                <a:chExt cx="610200" cy="106632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3961800" y="1828800"/>
                  <a:ext cx="610200" cy="1018080"/>
                  <a:chOff x="3961800" y="1828800"/>
                  <a:chExt cx="610200" cy="10180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H="1">
                    <a:off x="3961800" y="1828800"/>
                    <a:ext cx="30492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267080" y="1828800"/>
                    <a:ext cx="30492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" name=""/>
                <p:cNvSpPr/>
                <p:nvPr/>
              </p:nvSpPr>
              <p:spPr>
                <a:xfrm>
                  <a:off x="3962160" y="2846880"/>
                  <a:ext cx="60984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352680" y="1828800"/>
                <a:ext cx="609480" cy="1066320"/>
                <a:chOff x="3352680" y="1828800"/>
                <a:chExt cx="609480" cy="106632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3352680" y="1828800"/>
                  <a:ext cx="609120" cy="1018080"/>
                  <a:chOff x="3352680" y="1828800"/>
                  <a:chExt cx="609120" cy="101808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flipH="1">
                    <a:off x="3352680" y="182880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3657240" y="182880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>
                  <a:off x="3352680" y="2846880"/>
                  <a:ext cx="60948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5181480" y="1828800"/>
                <a:ext cx="609480" cy="1066320"/>
                <a:chOff x="5181480" y="1828800"/>
                <a:chExt cx="609480" cy="1066320"/>
              </a:xfrm>
            </p:grpSpPr>
            <p:grpSp>
              <p:nvGrpSpPr>
                <p:cNvPr id="684" name=""/>
                <p:cNvGrpSpPr/>
                <p:nvPr/>
              </p:nvGrpSpPr>
              <p:grpSpPr>
                <a:xfrm>
                  <a:off x="5181480" y="1828800"/>
                  <a:ext cx="609120" cy="1018080"/>
                  <a:chOff x="5181480" y="1828800"/>
                  <a:chExt cx="609120" cy="101808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 flipH="1">
                    <a:off x="5181480" y="182880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5486040" y="182880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" name=""/>
                <p:cNvSpPr/>
                <p:nvPr/>
              </p:nvSpPr>
              <p:spPr>
                <a:xfrm>
                  <a:off x="5181480" y="2846880"/>
                  <a:ext cx="60948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8" name=""/>
            <p:cNvGrpSpPr/>
            <p:nvPr/>
          </p:nvGrpSpPr>
          <p:grpSpPr>
            <a:xfrm>
              <a:off x="3657600" y="1752120"/>
              <a:ext cx="1828800" cy="1066680"/>
              <a:chOff x="3657600" y="1752120"/>
              <a:chExt cx="1828800" cy="1066680"/>
            </a:xfrm>
          </p:grpSpPr>
          <p:grpSp>
            <p:nvGrpSpPr>
              <p:cNvPr id="689" name=""/>
              <p:cNvGrpSpPr/>
              <p:nvPr/>
            </p:nvGrpSpPr>
            <p:grpSpPr>
              <a:xfrm>
                <a:off x="4876920" y="1752120"/>
                <a:ext cx="609480" cy="1066680"/>
                <a:chOff x="4876920" y="1752120"/>
                <a:chExt cx="609480" cy="1066680"/>
              </a:xfrm>
            </p:grpSpPr>
            <p:grpSp>
              <p:nvGrpSpPr>
                <p:cNvPr id="690" name=""/>
                <p:cNvGrpSpPr/>
                <p:nvPr/>
              </p:nvGrpSpPr>
              <p:grpSpPr>
                <a:xfrm>
                  <a:off x="4876920" y="1801440"/>
                  <a:ext cx="609120" cy="1017360"/>
                  <a:chOff x="4876920" y="1801440"/>
                  <a:chExt cx="609120" cy="101736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 flipH="1" flipV="1">
                    <a:off x="4876920" y="1801440"/>
                    <a:ext cx="304560" cy="101736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V="1">
                    <a:off x="5181480" y="1801440"/>
                    <a:ext cx="304560" cy="101736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3" name=""/>
                <p:cNvSpPr/>
                <p:nvPr/>
              </p:nvSpPr>
              <p:spPr>
                <a:xfrm flipV="1">
                  <a:off x="4876920" y="1751760"/>
                  <a:ext cx="609480" cy="4932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4266720" y="1752480"/>
                <a:ext cx="610200" cy="1066320"/>
                <a:chOff x="4266720" y="1752480"/>
                <a:chExt cx="610200" cy="1066320"/>
              </a:xfrm>
            </p:grpSpPr>
            <p:grpSp>
              <p:nvGrpSpPr>
                <p:cNvPr id="695" name=""/>
                <p:cNvGrpSpPr/>
                <p:nvPr/>
              </p:nvGrpSpPr>
              <p:grpSpPr>
                <a:xfrm>
                  <a:off x="4266720" y="1800720"/>
                  <a:ext cx="610200" cy="1018080"/>
                  <a:chOff x="4266720" y="1800720"/>
                  <a:chExt cx="610200" cy="101808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flipH="1" flipV="1">
                    <a:off x="4266720" y="1800720"/>
                    <a:ext cx="30492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V="1">
                    <a:off x="4572000" y="1800720"/>
                    <a:ext cx="30492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" name=""/>
                <p:cNvSpPr/>
                <p:nvPr/>
              </p:nvSpPr>
              <p:spPr>
                <a:xfrm flipV="1">
                  <a:off x="4267080" y="1752480"/>
                  <a:ext cx="60984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3657600" y="1752480"/>
                <a:ext cx="609480" cy="1066320"/>
                <a:chOff x="3657600" y="1752480"/>
                <a:chExt cx="609480" cy="106632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3657600" y="1800720"/>
                  <a:ext cx="609120" cy="1018080"/>
                  <a:chOff x="3657600" y="1800720"/>
                  <a:chExt cx="609120" cy="101808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 flipH="1" flipV="1">
                    <a:off x="3657600" y="180072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V="1">
                    <a:off x="3962160" y="180072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3" name=""/>
                <p:cNvSpPr/>
                <p:nvPr/>
              </p:nvSpPr>
              <p:spPr>
                <a:xfrm flipV="1">
                  <a:off x="3657600" y="1752480"/>
                  <a:ext cx="60948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4" name=""/>
          <p:cNvGrpSpPr/>
          <p:nvPr/>
        </p:nvGrpSpPr>
        <p:grpSpPr>
          <a:xfrm>
            <a:off x="3048120" y="2895120"/>
            <a:ext cx="3047760" cy="1143360"/>
            <a:chOff x="3048120" y="2895120"/>
            <a:chExt cx="3047760" cy="1143360"/>
          </a:xfrm>
        </p:grpSpPr>
        <p:grpSp>
          <p:nvGrpSpPr>
            <p:cNvPr id="705" name=""/>
            <p:cNvGrpSpPr/>
            <p:nvPr/>
          </p:nvGrpSpPr>
          <p:grpSpPr>
            <a:xfrm>
              <a:off x="3048120" y="2971800"/>
              <a:ext cx="3047760" cy="1066680"/>
              <a:chOff x="3048120" y="2971800"/>
              <a:chExt cx="3047760" cy="106668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3657600" y="2971800"/>
                <a:ext cx="609480" cy="1066680"/>
                <a:chOff x="3657600" y="2971800"/>
                <a:chExt cx="609480" cy="1066680"/>
              </a:xfrm>
            </p:grpSpPr>
            <p:grpSp>
              <p:nvGrpSpPr>
                <p:cNvPr id="707" name=""/>
                <p:cNvGrpSpPr/>
                <p:nvPr/>
              </p:nvGrpSpPr>
              <p:grpSpPr>
                <a:xfrm>
                  <a:off x="3657600" y="2971800"/>
                  <a:ext cx="609120" cy="1017360"/>
                  <a:chOff x="3657600" y="2971800"/>
                  <a:chExt cx="609120" cy="101736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 flipH="1">
                    <a:off x="3657600" y="2971800"/>
                    <a:ext cx="304560" cy="101736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3962160" y="2971800"/>
                    <a:ext cx="304560" cy="101736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0" name=""/>
                <p:cNvSpPr/>
                <p:nvPr/>
              </p:nvSpPr>
              <p:spPr>
                <a:xfrm>
                  <a:off x="3657600" y="3989160"/>
                  <a:ext cx="609480" cy="4932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3048120" y="2971800"/>
                <a:ext cx="609480" cy="1066320"/>
                <a:chOff x="3048120" y="2971800"/>
                <a:chExt cx="609480" cy="1066320"/>
              </a:xfrm>
            </p:grpSpPr>
            <p:grpSp>
              <p:nvGrpSpPr>
                <p:cNvPr id="712" name=""/>
                <p:cNvGrpSpPr/>
                <p:nvPr/>
              </p:nvGrpSpPr>
              <p:grpSpPr>
                <a:xfrm>
                  <a:off x="3048120" y="2971800"/>
                  <a:ext cx="609120" cy="1018080"/>
                  <a:chOff x="3048120" y="2971800"/>
                  <a:chExt cx="609120" cy="101808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 flipH="1">
                    <a:off x="3048120" y="297180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3352680" y="297180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5" name=""/>
                <p:cNvSpPr/>
                <p:nvPr/>
              </p:nvSpPr>
              <p:spPr>
                <a:xfrm>
                  <a:off x="3048120" y="3989880"/>
                  <a:ext cx="60948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266720" y="2971800"/>
                <a:ext cx="610200" cy="1066320"/>
                <a:chOff x="4266720" y="2971800"/>
                <a:chExt cx="610200" cy="1066320"/>
              </a:xfrm>
            </p:grpSpPr>
            <p:grpSp>
              <p:nvGrpSpPr>
                <p:cNvPr id="717" name=""/>
                <p:cNvGrpSpPr/>
                <p:nvPr/>
              </p:nvGrpSpPr>
              <p:grpSpPr>
                <a:xfrm>
                  <a:off x="4266720" y="2971800"/>
                  <a:ext cx="610200" cy="1018080"/>
                  <a:chOff x="4266720" y="2971800"/>
                  <a:chExt cx="610200" cy="101808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 flipH="1">
                    <a:off x="4266720" y="2971800"/>
                    <a:ext cx="30492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572000" y="2971800"/>
                    <a:ext cx="30492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0" name=""/>
                <p:cNvSpPr/>
                <p:nvPr/>
              </p:nvSpPr>
              <p:spPr>
                <a:xfrm>
                  <a:off x="4267080" y="3989880"/>
                  <a:ext cx="60984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486400" y="2971800"/>
                <a:ext cx="609480" cy="1066320"/>
                <a:chOff x="5486400" y="2971800"/>
                <a:chExt cx="609480" cy="106632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5486400" y="2971800"/>
                  <a:ext cx="609120" cy="1018080"/>
                  <a:chOff x="5486400" y="2971800"/>
                  <a:chExt cx="609120" cy="101808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H="1">
                    <a:off x="5486400" y="297180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5790960" y="297180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>
                  <a:off x="5486400" y="3989880"/>
                  <a:ext cx="60948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4876920" y="2971800"/>
                <a:ext cx="609480" cy="1066320"/>
                <a:chOff x="4876920" y="2971800"/>
                <a:chExt cx="609480" cy="1066320"/>
              </a:xfrm>
            </p:grpSpPr>
            <p:grpSp>
              <p:nvGrpSpPr>
                <p:cNvPr id="727" name=""/>
                <p:cNvGrpSpPr/>
                <p:nvPr/>
              </p:nvGrpSpPr>
              <p:grpSpPr>
                <a:xfrm>
                  <a:off x="4876920" y="2971800"/>
                  <a:ext cx="609120" cy="1018080"/>
                  <a:chOff x="4876920" y="2971800"/>
                  <a:chExt cx="609120" cy="101808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 flipH="1">
                    <a:off x="4876920" y="297180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5181480" y="297180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0" name=""/>
                <p:cNvSpPr/>
                <p:nvPr/>
              </p:nvSpPr>
              <p:spPr>
                <a:xfrm>
                  <a:off x="4876920" y="3989880"/>
                  <a:ext cx="60948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1" name=""/>
            <p:cNvGrpSpPr/>
            <p:nvPr/>
          </p:nvGrpSpPr>
          <p:grpSpPr>
            <a:xfrm>
              <a:off x="3352320" y="2895120"/>
              <a:ext cx="2439000" cy="1066680"/>
              <a:chOff x="3352320" y="2895120"/>
              <a:chExt cx="2439000" cy="106668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3962520" y="2895120"/>
                <a:ext cx="609480" cy="1066680"/>
                <a:chOff x="3962520" y="2895120"/>
                <a:chExt cx="609480" cy="106668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3962520" y="2944440"/>
                  <a:ext cx="609120" cy="1017360"/>
                  <a:chOff x="3962520" y="2944440"/>
                  <a:chExt cx="609120" cy="101736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flipH="1" flipV="1">
                    <a:off x="3962520" y="2944440"/>
                    <a:ext cx="304560" cy="101736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V="1">
                    <a:off x="4267080" y="2944440"/>
                    <a:ext cx="304560" cy="101736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6" name=""/>
                <p:cNvSpPr/>
                <p:nvPr/>
              </p:nvSpPr>
              <p:spPr>
                <a:xfrm flipV="1">
                  <a:off x="3962520" y="2894760"/>
                  <a:ext cx="609480" cy="4932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3352320" y="2895480"/>
                <a:ext cx="610200" cy="1066320"/>
                <a:chOff x="3352320" y="2895480"/>
                <a:chExt cx="610200" cy="1066320"/>
              </a:xfrm>
            </p:grpSpPr>
            <p:grpSp>
              <p:nvGrpSpPr>
                <p:cNvPr id="738" name=""/>
                <p:cNvGrpSpPr/>
                <p:nvPr/>
              </p:nvGrpSpPr>
              <p:grpSpPr>
                <a:xfrm>
                  <a:off x="3352320" y="2943720"/>
                  <a:ext cx="610200" cy="1018080"/>
                  <a:chOff x="3352320" y="2943720"/>
                  <a:chExt cx="610200" cy="101808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 flipH="1" flipV="1">
                    <a:off x="3352320" y="2943720"/>
                    <a:ext cx="30492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flipV="1">
                    <a:off x="3657600" y="2943720"/>
                    <a:ext cx="30492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1" name=""/>
                <p:cNvSpPr/>
                <p:nvPr/>
              </p:nvSpPr>
              <p:spPr>
                <a:xfrm flipV="1">
                  <a:off x="3352680" y="2895480"/>
                  <a:ext cx="60984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4572000" y="2895480"/>
                <a:ext cx="609480" cy="1066320"/>
                <a:chOff x="4572000" y="2895480"/>
                <a:chExt cx="609480" cy="1066320"/>
              </a:xfrm>
            </p:grpSpPr>
            <p:grpSp>
              <p:nvGrpSpPr>
                <p:cNvPr id="743" name=""/>
                <p:cNvGrpSpPr/>
                <p:nvPr/>
              </p:nvGrpSpPr>
              <p:grpSpPr>
                <a:xfrm>
                  <a:off x="4572000" y="2943720"/>
                  <a:ext cx="609120" cy="1018080"/>
                  <a:chOff x="4572000" y="2943720"/>
                  <a:chExt cx="609120" cy="101808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 flipH="1" flipV="1">
                    <a:off x="4572000" y="294372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V="1">
                    <a:off x="4876560" y="2943720"/>
                    <a:ext cx="30456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6" name=""/>
                <p:cNvSpPr/>
                <p:nvPr/>
              </p:nvSpPr>
              <p:spPr>
                <a:xfrm flipV="1">
                  <a:off x="4572000" y="2895480"/>
                  <a:ext cx="60948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5181120" y="2895480"/>
                <a:ext cx="610200" cy="1066320"/>
                <a:chOff x="5181120" y="2895480"/>
                <a:chExt cx="610200" cy="1066320"/>
              </a:xfrm>
            </p:grpSpPr>
            <p:grpSp>
              <p:nvGrpSpPr>
                <p:cNvPr id="748" name=""/>
                <p:cNvGrpSpPr/>
                <p:nvPr/>
              </p:nvGrpSpPr>
              <p:grpSpPr>
                <a:xfrm>
                  <a:off x="5181120" y="2943720"/>
                  <a:ext cx="610200" cy="1018080"/>
                  <a:chOff x="5181120" y="2943720"/>
                  <a:chExt cx="610200" cy="101808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 flipH="1" flipV="1">
                    <a:off x="5181120" y="2943720"/>
                    <a:ext cx="30492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>
                    <a:off x="5486400" y="2943720"/>
                    <a:ext cx="304920" cy="1018080"/>
                  </a:xfrm>
                  <a:prstGeom prst="line">
                    <a:avLst/>
                  </a:prstGeom>
                  <a:ln w="47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1" name=""/>
                <p:cNvSpPr/>
                <p:nvPr/>
              </p:nvSpPr>
              <p:spPr>
                <a:xfrm flipV="1">
                  <a:off x="5181480" y="2895480"/>
                  <a:ext cx="609840" cy="48240"/>
                </a:xfrm>
                <a:custGeom>
                  <a:avLst/>
                  <a:gdLst/>
                  <a:ahLst/>
                  <a:rect l="l" t="t" r="r" b="b"/>
                  <a:pathLst>
                    <a:path w="576" h="48">
                      <a:moveTo>
                        <a:pt x="0" y="0"/>
                      </a:moveTo>
                      <a:cubicBezTo>
                        <a:pt x="96" y="24"/>
                        <a:pt x="192" y="48"/>
                        <a:pt x="288" y="48"/>
                      </a:cubicBezTo>
                      <a:cubicBezTo>
                        <a:pt x="384" y="48"/>
                        <a:pt x="528" y="8"/>
                        <a:pt x="576" y="0"/>
                      </a:cubicBez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2" name=""/>
          <p:cNvSpPr/>
          <p:nvPr/>
        </p:nvSpPr>
        <p:spPr>
          <a:xfrm>
            <a:off x="971640" y="9079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近似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04920" y="380880"/>
            <a:ext cx="86104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做一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根据下面所给的条件，求圆的面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只列式不计算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半径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4cm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直径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9dm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周长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31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3213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3.14x(9÷2 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564000" y="436572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.14x(314÷3.14÷2 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635280" y="19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.14x4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1:48:54Z</dcterms:created>
  <dc:creator>微软用户</dc:creator>
  <dc:description/>
  <dc:language>en-US</dc:language>
  <cp:lastModifiedBy>微软用户</cp:lastModifiedBy>
  <dcterms:modified xsi:type="dcterms:W3CDTF">2012-10-23T16:00:05Z</dcterms:modified>
  <cp:revision>29</cp:revision>
  <dc:subject/>
  <dc:title>幻灯片 1</dc:title>
</cp:coreProperties>
</file>