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move the slide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2D3-3520-436B-B77D-C0FA2069AA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F3C-FC9F-49ED-AA31-B825483CED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21A-A76E-47F2-BB0E-58DF81D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6EE-6846-4E68-BF7F-25EE3BA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A5D1D-2ADA-4F4A-A120-2B50483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58571-861B-4D9D-9F03-B158C31D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D4AC5-DB11-4DC7-99D1-25FF7C6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46EE9-D903-4075-85FE-BFB16D3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D6B66-85C7-4826-BC75-20DCACE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A50C-6D52-4EA5-B863-38E557E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CC2F-FCAA-4E02-9746-0DB280FA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3C1BC-36C0-4DA1-99BC-C356A0A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1B7D-7BC9-4086-B962-FAF22154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927A5-044C-455F-8543-B83F4049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310-BF7E-403E-8E3E-2B5305A9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FEE3-6B5B-4503-9401-8614F98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B9C08-3E39-4A6E-A7FB-6D32815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A391-E9B7-4277-9E14-A2EDF1E2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83397-99E2-4BD8-916C-458B0ACD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23CF4-2478-4932-903D-29FCD5C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7D3EC-65F7-4579-BF84-C533621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65DE4-21F0-483B-857D-61C62802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18A7C-6D46-48C4-8D59-0B22D9E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E92E9-E53A-4F04-8AB9-BF290D69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74E94-E7BB-4B34-ACB4-E7442CAF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4BD-FAD2-417F-BCFD-3D86E6B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0BAEE-8B28-4F30-9C59-DE74A814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67C0-E54A-4B86-BE85-FB824B2F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E65FC-051A-42C1-9B49-C64C17ED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F7AEE-2677-4A8A-9CAB-17137D0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99DF-A2AA-478B-A910-7FBEA28D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88FE-2C17-45F0-8E2C-0FA09997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4A3A9-22AD-41A9-AA16-2C7928BE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4D886-F2EE-4350-B566-C15A3DD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E36F-8EBF-41E4-A0C2-F43E0CB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8A91-9CB3-4ABE-A055-B2F1E60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022C-5FE1-4C5E-8527-1800141A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E04D-938D-44E9-8535-0A71579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C6296-2C59-4F5D-B635-263C148C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FCAD9-DFA5-45B9-9A6E-A4EF057D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D3B52-62DE-41C6-973C-2AA36638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18EC7-2DEC-49B1-B887-B7DC3D86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67A5-FE46-4C86-ADE1-B015340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C440-D0E6-45D5-A45F-38B940B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5E31F-9E75-4365-BFD2-2D2A6BF9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FB6D4-DDC9-4242-BDBC-08F78CC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E5051-E5B3-4678-A693-128AC08D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CBC6-BD61-411D-8833-FC0AB41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6421-56AB-4095-9075-6F879BC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EC537-F0E0-4100-AFA2-6989412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A879D-E338-44CA-9741-B2E56111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B354-6509-4073-92B7-B62E9C0C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16B6C-F053-459F-8FE3-D202177E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6F794-268B-4BA3-94DB-2094E1FC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FB88C-40CD-4077-A495-2F0B6B7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3A7FD-637A-4DD2-8A9A-2EE0406C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36D28-B271-4211-A8EB-3A7063AD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74E29-C875-4AC8-952B-82CBCAC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2D4-DB9F-4795-8AC7-2F04849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A05DF-3696-4A67-BB91-9D9EDAB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C72B8-007B-47CB-B090-07DB9AF4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C895B-B43E-4181-B339-7A67F0D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CA2EA-3701-48F4-929A-BBB1907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8F362-2165-4C26-82C8-692D08F1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F8EDA-E27D-4ECC-92A8-68824E7D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F0510-ADE4-4217-B195-0D3E7961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8DD3-3999-4821-A05E-49E4AB0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01E4-4C2F-48B2-9625-770AC9B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F72-A6F3-4648-84EE-778C22C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1B14-18DE-47C3-87CB-E93321B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3FC-1FB1-4855-8D5F-92B2B919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0763-225C-4B4B-91C1-94C4099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A63-D31C-48D2-BB68-5B9F369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7774-BE0F-46F6-8BC9-E01E36A9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3C2B-4038-41B4-959F-CA512CC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839-3CB9-4DA6-AED5-24BC303A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88B14-F221-427B-9D01-5B0A1E9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364C-6FA5-4C53-B9FB-BF1265F1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08AB-01C5-498B-8073-A91F658C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142C-CF1F-40BB-A83A-C5A7009E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37BA-C4C3-48A4-8476-AD362D2B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F9F-50CA-406A-89B5-E0BFBDC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89C8-0658-47F4-A243-ABC956C2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E9AF-01E1-4950-86FE-2E3AC22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0009-7B36-46CA-BE6B-DF28209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FB86-E8CE-421A-9A8D-9816121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4AD0-D3D6-4F6D-A707-EF7DC17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3E13-E8E2-494C-A55B-ECCAAE30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8EAF-BFFC-4B17-A156-4314B80D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247D-413C-42FC-B60C-C3B0086F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EEAF-4A73-439C-AD27-4D75312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8CEE-464E-4E78-AF37-D08E105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BAC-0BD0-4B2E-A6E6-2FA4005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409F-AC7D-4EE9-8A09-984F70A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1A7F-69B6-410E-A48D-E3D01C0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2A7F-5630-4103-B150-DCF2A7D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AD26-700B-4B81-BAB4-06BD2FD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17D4-1845-44C2-9DBD-D1B55E2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56EC-6251-48F8-843B-D0439A3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6AF6-5770-49F5-8492-3446FC3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B33DA-059F-46B7-9C26-B6F74C7A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A4F3-1186-4BB0-A534-E40B2091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86C6-7533-472C-AAF0-ACB6A061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827-B3B9-41AD-BB5E-22778E1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93DE-654A-4668-A77B-8254DEC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7BE8-30F7-4A58-AE81-86A9533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AF37-4DEE-461A-827B-D26F270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BB51-A6E0-41B7-8DB1-330AB60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8C9B-4D0B-471D-806B-6448BC1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584C-A70A-4B7F-B194-05CE837E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A1DA-DBDC-4C0A-A425-3DA0C3C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186F-5C0C-4977-8CD8-0C636D2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BA42-3CA7-44A1-B941-229B6EAD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31D1-D087-4E55-A203-B750F9DD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4D0-E938-4539-B522-8DFF4AD1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13B7-48FA-41A3-8D13-09E234F3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0EEE-163F-414B-84A2-E61F7759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D4A2-9570-4730-8BC9-C734EAB1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E101-F80A-4EA7-A33B-7F88A01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B1F2-1165-4681-86BA-4650365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38BF-2DAE-4AAE-8EF6-50B6087C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E3C2-BD11-4FF8-A15D-3E05B1F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DFE9-E8FF-47ED-8347-AE0BF60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44AC-AB98-4AA8-A178-9AD1508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11973-D1A8-46C3-BA56-B1E8970A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130-60DC-4D39-9917-3A3EF9E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EFC7B-AA76-4000-9D88-63CFB4B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1447-CC8E-45E5-8B80-33BB8266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6F81-5667-4213-BDF0-E69C85C9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A184-0393-4CD1-8529-94A0FA52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C317-C7E4-4F06-A880-9A345E08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3914-942B-475C-A661-2A21FE1D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F2C7-2FBE-4653-901B-2688FA45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81FC-C2F9-47CD-B93F-0E5E985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AEB6-9EAD-4123-B654-0E92A36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7DAD-F406-4216-9767-F90CE851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AE9-F834-41B3-9FF1-F49AB83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C691-9E8B-4B61-90DE-38086F6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63DA-7140-41B7-BC4D-6AB22661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3F82-7962-484A-B92D-4A96313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D22A-D582-4F7F-88E5-4A807A1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89575-5FE7-4368-AA4F-CD409094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5ED6-48E9-4039-87FC-4ADE0FC7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9A8F-09FE-4645-AFD3-52E57AB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1FE8-DA5A-490C-9C28-03FA2FF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1B7C4-AF4A-422C-BC55-13E47B23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B67C-2E4E-4086-87BE-DEBFB63D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1F1-0774-4C55-AB1C-C7C71AC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05E35-A421-45A0-BD8F-E443ADA9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B27DE-31F1-4AF5-9F9C-B74C3EB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746D7-D919-4969-BD11-8802A16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4639-41EE-4B7F-88BD-EA622E5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59A1-62E9-4B39-AC62-3E37C01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D551-D10D-4436-87FB-B68215A2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8DDC-96F5-4C9A-8B2A-60F7545D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D5D39-F458-470F-90EE-BAD8EC86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EAFF-087C-4ECD-9E12-03436C3E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E5F38-5BEB-47A6-8F35-1145302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B1F-9463-4C35-B713-6367AA3B25D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1FB-9048-4ED0-B617-53491F37E4E7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B59-1EA6-4482-B612-73C8A533094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F339-BA22-45AE-AB94-6A0A842A320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A59A-06E9-4347-B4E2-A11283F0557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0792-A6E5-42E9-B664-65243CDBB1E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47A3-25EB-4F3C-844A-F43C28DF8B0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C21-BCDF-47AB-8161-B1BACE55E09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2CA2-330D-490D-91F4-5E1626E5702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451E-1550-4A11-A1A5-E16B5032B03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752-5251-481A-8259-031F4FCE934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576-32A6-413C-A5CD-62EE2CEE584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CB5D-5C0F-4393-8900-8BD4D6864DF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539640" y="1413000"/>
            <a:ext cx="80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1f0ff"/>
                </a:solidFill>
                <a:latin typeface="Arial Narrow"/>
              </a:rPr>
              <a:t>高二年级     英语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Word Power, Unit3, Module5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260280"/>
            <a:ext cx="921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6.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You can’t find the order of the numbers in a group of members. So can you describe the order of the numbers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977080" y="220500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(</a:t>
            </a:r>
            <a:r>
              <a:rPr b="1" lang="en-US" sz="3600" spc="-1" strike="noStrike">
                <a:solidFill>
                  <a:srgbClr val="268868"/>
                </a:solidFill>
                <a:latin typeface="Arial Narrow"/>
              </a:rPr>
              <a:t>I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r</a:t>
            </a: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regular</a:t>
            </a: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.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71640" y="5734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(</a:t>
            </a:r>
            <a:r>
              <a:rPr b="1" lang="en-US" sz="3600" spc="-1" strike="noStrike">
                <a:solidFill>
                  <a:srgbClr val="268868"/>
                </a:solidFill>
                <a:latin typeface="Arial Narrow"/>
              </a:rPr>
              <a:t>Mi</a:t>
            </a:r>
            <a:r>
              <a:rPr b="1" lang="en-US" sz="3600" spc="-1" strike="noStrike">
                <a:solidFill>
                  <a:srgbClr val="6600ff"/>
                </a:solidFill>
                <a:latin typeface="Arial Narrow"/>
              </a:rPr>
              <a:t>s</a:t>
            </a: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leading.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2997360"/>
            <a:ext cx="88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7. Some ads say that if you take their pills, you’ll be healthy, look younger, become smarter and sleep better. What can you say about these ads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2987640" y="20145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is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gre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en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4" name="Line 3"/>
          <p:cNvSpPr/>
          <p:nvPr/>
        </p:nvSpPr>
        <p:spPr>
          <a:xfrm flipH="1">
            <a:off x="2700000" y="2637000"/>
            <a:ext cx="647640" cy="52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39640" y="3284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refix</a:t>
            </a:r>
            <a:r>
              <a:rPr b="1" lang="en-US" sz="3600" spc="-1" strike="noStrike">
                <a:solidFill>
                  <a:srgbClr val="663300"/>
                </a:solidFill>
                <a:latin typeface="Arial Narrow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前缀</a:t>
            </a:r>
            <a:r>
              <a:rPr b="1" lang="en-US" sz="3600" spc="-1" strike="noStrike">
                <a:solidFill>
                  <a:srgbClr val="663300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132000" y="3284640"/>
            <a:ext cx="29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root </a:t>
            </a:r>
            <a:r>
              <a:rPr b="1" lang="en-US" sz="3600" spc="-1" strike="noStrike">
                <a:solidFill>
                  <a:srgbClr val="663300"/>
                </a:solidFill>
                <a:latin typeface="Arial Narrow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词根</a:t>
            </a:r>
            <a:r>
              <a:rPr b="1" lang="en-US" sz="3600" spc="-1" strike="noStrike">
                <a:solidFill>
                  <a:srgbClr val="663300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5796000" y="328464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uffix(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后缀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4284720" y="2728800"/>
            <a:ext cx="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219640" y="2655720"/>
            <a:ext cx="8636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684360" y="198900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Narrow"/>
              </a:rPr>
              <a:t>Work in pairs and try to guess what a word means by looking at its prefix and suffix. (Page46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324000" y="2602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Narrow"/>
              </a:rPr>
              <a:t>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79280" y="968400"/>
          <a:ext cx="8748720" cy="4873680"/>
        </p:xfrm>
        <a:graphic>
          <a:graphicData uri="http://schemas.openxmlformats.org/drawingml/2006/table">
            <a:tbl>
              <a:tblPr/>
              <a:tblGrid>
                <a:gridCol w="1765440"/>
                <a:gridCol w="69832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Prefix 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Example 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anti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ntisocial; antifreeze; antibody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dis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iscontinue; disallow; dishonst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in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im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il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ir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action; incautious; inconvenient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mpersonal; immobile; imbalance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llogical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rresponsible; irreligious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395280" y="1197000"/>
          <a:ext cx="8424720" cy="4307040"/>
        </p:xfrm>
        <a:graphic>
          <a:graphicData uri="http://schemas.openxmlformats.org/drawingml/2006/table">
            <a:tbl>
              <a:tblPr/>
              <a:tblGrid>
                <a:gridCol w="1827360"/>
                <a:gridCol w="659736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Prefix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Example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pre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heat; prejudge; pre-record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pro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-cloning; pro-European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un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nbalance(v.); unarguable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nashamed; unarmed; unasked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Narrow"/>
                        </a:rPr>
                        <a:t>re-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organize; reorder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684360" y="1916280"/>
            <a:ext cx="79200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1) </a:t>
            </a:r>
            <a:r>
              <a:rPr b="1" lang="en-US" sz="4000" spc="-1" strike="noStrike">
                <a:solidFill>
                  <a:srgbClr val="ff3300"/>
                </a:solidFill>
                <a:latin typeface="Arial Narrow"/>
                <a:ea typeface="华文行楷"/>
              </a:rPr>
              <a:t>il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legal</a:t>
            </a:r>
            <a:r>
              <a:rPr b="1" lang="en-US" sz="4000" spc="-1" strike="noStrike">
                <a:solidFill>
                  <a:srgbClr val="0000ff"/>
                </a:solidFill>
                <a:latin typeface="Arial Narrow"/>
                <a:ea typeface="华文行楷"/>
              </a:rPr>
              <a:t>      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2) </a:t>
            </a:r>
            <a:r>
              <a:rPr b="1" lang="en-US" sz="4000" spc="-1" strike="noStrike">
                <a:solidFill>
                  <a:srgbClr val="ff3300"/>
                </a:solidFill>
                <a:latin typeface="Arial Narrow"/>
                <a:ea typeface="华文行楷"/>
              </a:rPr>
              <a:t>dis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respect</a:t>
            </a:r>
            <a:r>
              <a:rPr b="1" lang="en-US" sz="4000" spc="-1" strike="noStrike">
                <a:solidFill>
                  <a:srgbClr val="0000ff"/>
                </a:solidFill>
                <a:latin typeface="Arial Narrow"/>
                <a:ea typeface="华文行楷"/>
              </a:rPr>
              <a:t>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3) hope</a:t>
            </a:r>
            <a:r>
              <a:rPr b="1" lang="en-US" sz="4000" spc="-1" strike="noStrike">
                <a:solidFill>
                  <a:srgbClr val="ff3300"/>
                </a:solidFill>
                <a:latin typeface="Arial Narrow"/>
                <a:ea typeface="华文行楷"/>
              </a:rPr>
              <a:t>less</a:t>
            </a:r>
            <a:r>
              <a:rPr b="1" lang="en-US" sz="4000" spc="-1" strike="noStrike">
                <a:solidFill>
                  <a:srgbClr val="0000ff"/>
                </a:solidFill>
                <a:latin typeface="Arial Narrow"/>
                <a:ea typeface="华文行楷"/>
              </a:rPr>
              <a:t> 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4) </a:t>
            </a:r>
            <a:r>
              <a:rPr b="1" lang="en-US" sz="4000" spc="-1" strike="noStrike">
                <a:solidFill>
                  <a:srgbClr val="ff3300"/>
                </a:solidFill>
                <a:latin typeface="Arial Narrow"/>
                <a:ea typeface="华文行楷"/>
              </a:rPr>
              <a:t>un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certain</a:t>
            </a:r>
            <a:r>
              <a:rPr b="1" lang="en-US" sz="4000" spc="-1" strike="noStrike">
                <a:solidFill>
                  <a:srgbClr val="0000ff"/>
                </a:solidFill>
                <a:latin typeface="Arial Narrow"/>
                <a:ea typeface="华文行楷"/>
              </a:rPr>
              <a:t>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5) understand</a:t>
            </a:r>
            <a:r>
              <a:rPr b="1" lang="en-US" sz="4000" spc="-1" strike="noStrike">
                <a:solidFill>
                  <a:srgbClr val="ff3300"/>
                </a:solidFill>
                <a:latin typeface="Arial Narrow"/>
                <a:ea typeface="华文行楷"/>
              </a:rPr>
              <a:t>able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5" name="WordArt 3"/>
          <p:cNvSpPr txBox="1"/>
          <p:nvPr/>
        </p:nvSpPr>
        <p:spPr>
          <a:xfrm>
            <a:off x="2050920" y="260280"/>
            <a:ext cx="4400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ractice; P.4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BAN_167"/>
          <p:cNvPicPr/>
          <p:nvPr/>
        </p:nvPicPr>
        <p:blipFill>
          <a:blip r:embed="rId1"/>
          <a:stretch/>
        </p:blipFill>
        <p:spPr>
          <a:xfrm>
            <a:off x="395280" y="270000"/>
            <a:ext cx="4392720" cy="164628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 rot="734400">
            <a:off x="4284360" y="2636640"/>
            <a:ext cx="93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1" lang="en-US" sz="8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826920" y="1052640"/>
            <a:ext cx="36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22200" y="468360"/>
          <a:ext cx="8569440" cy="5913360"/>
        </p:xfrm>
        <a:graphic>
          <a:graphicData uri="http://schemas.openxmlformats.org/drawingml/2006/table">
            <a:tbl>
              <a:tblPr/>
              <a:tblGrid>
                <a:gridCol w="1370160"/>
                <a:gridCol w="4751280"/>
                <a:gridCol w="2448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refix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xample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Meaning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Text Box 32"/>
          <p:cNvSpPr/>
          <p:nvPr/>
        </p:nvSpPr>
        <p:spPr>
          <a:xfrm>
            <a:off x="395280" y="1197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de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322200" y="2131920"/>
            <a:ext cx="11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mal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2" name="Text Box 34"/>
          <p:cNvSpPr/>
          <p:nvPr/>
        </p:nvSpPr>
        <p:spPr>
          <a:xfrm>
            <a:off x="322200" y="3139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non</a:t>
            </a:r>
            <a:r>
              <a:rPr b="1" lang="en-US" sz="4000" spc="-1" strike="noStrike">
                <a:solidFill>
                  <a:srgbClr val="d60093"/>
                </a:solidFill>
                <a:latin typeface="Arial Narrow"/>
              </a:rPr>
              <a:t>-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3" name="Text Box 35"/>
          <p:cNvSpPr/>
          <p:nvPr/>
        </p:nvSpPr>
        <p:spPr>
          <a:xfrm>
            <a:off x="6730920" y="31399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no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4" name="Text Box 36"/>
          <p:cNvSpPr/>
          <p:nvPr/>
        </p:nvSpPr>
        <p:spPr>
          <a:xfrm>
            <a:off x="2268360" y="1341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efros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5" name="Text Box 37"/>
          <p:cNvSpPr/>
          <p:nvPr/>
        </p:nvSpPr>
        <p:spPr>
          <a:xfrm>
            <a:off x="2050920" y="220500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malnutritio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6" name="Text Box 38"/>
          <p:cNvSpPr/>
          <p:nvPr/>
        </p:nvSpPr>
        <p:spPr>
          <a:xfrm>
            <a:off x="2050920" y="32846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n-profi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7" name="Text Box 39"/>
          <p:cNvSpPr/>
          <p:nvPr/>
        </p:nvSpPr>
        <p:spPr>
          <a:xfrm>
            <a:off x="6588000" y="134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removi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8" name="Text Box 40"/>
          <p:cNvSpPr/>
          <p:nvPr/>
        </p:nvSpPr>
        <p:spPr>
          <a:xfrm>
            <a:off x="644364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badly/ bad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9" name="Text Box 41"/>
          <p:cNvSpPr/>
          <p:nvPr/>
        </p:nvSpPr>
        <p:spPr>
          <a:xfrm>
            <a:off x="250920" y="42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inter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0" name="Text Box 42"/>
          <p:cNvSpPr/>
          <p:nvPr/>
        </p:nvSpPr>
        <p:spPr>
          <a:xfrm>
            <a:off x="1619280" y="436572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international, interaction</a:t>
            </a:r>
            <a:r>
              <a:rPr b="1" lang="en-US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1" name="Text Box 43"/>
          <p:cNvSpPr/>
          <p:nvPr/>
        </p:nvSpPr>
        <p:spPr>
          <a:xfrm>
            <a:off x="6732720" y="436572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betwee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2" name="Text Box 44"/>
          <p:cNvSpPr/>
          <p:nvPr/>
        </p:nvSpPr>
        <p:spPr>
          <a:xfrm>
            <a:off x="324000" y="530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 Narrow"/>
              </a:rPr>
              <a:t>te</a:t>
            </a: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le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3" name="Text Box 45"/>
          <p:cNvSpPr/>
          <p:nvPr/>
        </p:nvSpPr>
        <p:spPr>
          <a:xfrm>
            <a:off x="1763640" y="514188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lescope, telecommunicatio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4" name="Text Box 46"/>
          <p:cNvSpPr/>
          <p:nvPr/>
        </p:nvSpPr>
        <p:spPr>
          <a:xfrm>
            <a:off x="6804000" y="5300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far off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836640"/>
          <a:ext cx="8424720" cy="5184720"/>
        </p:xfrm>
        <a:graphic>
          <a:graphicData uri="http://schemas.openxmlformats.org/drawingml/2006/table">
            <a:tbl>
              <a:tblPr/>
              <a:tblGrid>
                <a:gridCol w="1512720"/>
                <a:gridCol w="4535640"/>
                <a:gridCol w="23763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refix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xample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Meaning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 Box 28"/>
          <p:cNvSpPr/>
          <p:nvPr/>
        </p:nvSpPr>
        <p:spPr>
          <a:xfrm>
            <a:off x="460440" y="1701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trans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1835280" y="170028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transatlantic, transpor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8" name="Text Box 30"/>
          <p:cNvSpPr/>
          <p:nvPr/>
        </p:nvSpPr>
        <p:spPr>
          <a:xfrm>
            <a:off x="6804000" y="1700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acros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9" name="Text Box 31"/>
          <p:cNvSpPr/>
          <p:nvPr/>
        </p:nvSpPr>
        <p:spPr>
          <a:xfrm>
            <a:off x="468360" y="270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mis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0" name="Text Box 32"/>
          <p:cNvSpPr/>
          <p:nvPr/>
        </p:nvSpPr>
        <p:spPr>
          <a:xfrm>
            <a:off x="1836720" y="2565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isunderstand, mislead, misdeed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6877080" y="2852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wro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468360" y="3790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sub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3" name="Text Box 35"/>
          <p:cNvSpPr/>
          <p:nvPr/>
        </p:nvSpPr>
        <p:spPr>
          <a:xfrm>
            <a:off x="1979640" y="3716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ubtitle, subway, submarin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4" name="Text Box 36"/>
          <p:cNvSpPr/>
          <p:nvPr/>
        </p:nvSpPr>
        <p:spPr>
          <a:xfrm>
            <a:off x="6877080" y="4005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under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5" name="Text Box 37"/>
          <p:cNvSpPr/>
          <p:nvPr/>
        </p:nvSpPr>
        <p:spPr>
          <a:xfrm>
            <a:off x="468360" y="4726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Narrow"/>
              </a:rPr>
              <a:t>over-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6" name="Text Box 38"/>
          <p:cNvSpPr/>
          <p:nvPr/>
        </p:nvSpPr>
        <p:spPr>
          <a:xfrm>
            <a:off x="1979640" y="483084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vereat, overwork,  overproductio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7" name="Text Box 39"/>
          <p:cNvSpPr/>
          <p:nvPr/>
        </p:nvSpPr>
        <p:spPr>
          <a:xfrm>
            <a:off x="662472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too much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"/>
          <p:cNvGraphicFramePr/>
          <p:nvPr/>
        </p:nvGraphicFramePr>
        <p:xfrm>
          <a:off x="274680" y="765000"/>
          <a:ext cx="8667720" cy="5462640"/>
        </p:xfrm>
        <a:graphic>
          <a:graphicData uri="http://schemas.openxmlformats.org/drawingml/2006/table">
            <a:tbl>
              <a:tblPr/>
              <a:tblGrid>
                <a:gridCol w="1157400"/>
                <a:gridCol w="4076640"/>
                <a:gridCol w="343368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Text Box 28"/>
          <p:cNvSpPr/>
          <p:nvPr/>
        </p:nvSpPr>
        <p:spPr>
          <a:xfrm>
            <a:off x="419040" y="838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-al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0" name="Text Box 29"/>
          <p:cNvSpPr/>
          <p:nvPr/>
        </p:nvSpPr>
        <p:spPr>
          <a:xfrm>
            <a:off x="1619280" y="98100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ultural, national,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1" name="Text Box 30"/>
          <p:cNvSpPr/>
          <p:nvPr/>
        </p:nvSpPr>
        <p:spPr>
          <a:xfrm>
            <a:off x="5543640" y="90972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of or concerni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2" name="Text Box 31"/>
          <p:cNvSpPr/>
          <p:nvPr/>
        </p:nvSpPr>
        <p:spPr>
          <a:xfrm>
            <a:off x="324000" y="1700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-io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3" name="Text Box 32"/>
          <p:cNvSpPr/>
          <p:nvPr/>
        </p:nvSpPr>
        <p:spPr>
          <a:xfrm>
            <a:off x="1619280" y="1700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protectio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4" name="Text Box 33"/>
          <p:cNvSpPr/>
          <p:nvPr/>
        </p:nvSpPr>
        <p:spPr>
          <a:xfrm>
            <a:off x="5580000" y="177336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action of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5" name="Text Box 34"/>
          <p:cNvSpPr/>
          <p:nvPr/>
        </p:nvSpPr>
        <p:spPr>
          <a:xfrm>
            <a:off x="5545080" y="2637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state/ group of skill a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6" name="Text Box 35"/>
          <p:cNvSpPr/>
          <p:nvPr/>
        </p:nvSpPr>
        <p:spPr>
          <a:xfrm>
            <a:off x="352440" y="31478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-ship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7" name="Text Box 36"/>
          <p:cNvSpPr/>
          <p:nvPr/>
        </p:nvSpPr>
        <p:spPr>
          <a:xfrm>
            <a:off x="1619280" y="242100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rdship,   membership, musicianship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8" name="Text Box 37"/>
          <p:cNvSpPr/>
          <p:nvPr/>
        </p:nvSpPr>
        <p:spPr>
          <a:xfrm>
            <a:off x="250920" y="4149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-dom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9" name="Text Box 38"/>
          <p:cNvSpPr/>
          <p:nvPr/>
        </p:nvSpPr>
        <p:spPr>
          <a:xfrm>
            <a:off x="1619280" y="4221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freedom, kingdom,</a:t>
            </a:r>
            <a:r>
              <a:rPr b="1" lang="en-US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0" name="Text Box 39"/>
          <p:cNvSpPr/>
          <p:nvPr/>
        </p:nvSpPr>
        <p:spPr>
          <a:xfrm>
            <a:off x="5435640" y="407664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state or rank of… an area ruled by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1" name="Text Box 40"/>
          <p:cNvSpPr/>
          <p:nvPr/>
        </p:nvSpPr>
        <p:spPr>
          <a:xfrm>
            <a:off x="5508720" y="530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of the nature of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2" name="Text Box 41"/>
          <p:cNvSpPr/>
          <p:nvPr/>
        </p:nvSpPr>
        <p:spPr>
          <a:xfrm>
            <a:off x="289080" y="5226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-ish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3" name="Text Box 42"/>
          <p:cNvSpPr/>
          <p:nvPr/>
        </p:nvSpPr>
        <p:spPr>
          <a:xfrm>
            <a:off x="1619280" y="522936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hildish, selfish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979640" y="2781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New Word Revision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412920" y="795240"/>
          <a:ext cx="8262720" cy="5784840"/>
        </p:xfrm>
        <a:graphic>
          <a:graphicData uri="http://schemas.openxmlformats.org/drawingml/2006/table">
            <a:tbl>
              <a:tblPr/>
              <a:tblGrid>
                <a:gridCol w="1350720"/>
                <a:gridCol w="4537080"/>
                <a:gridCol w="2374920"/>
              </a:tblGrid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8"/>
          <p:cNvSpPr/>
          <p:nvPr/>
        </p:nvSpPr>
        <p:spPr>
          <a:xfrm>
            <a:off x="395280" y="8031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proof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6" name="Text Box 29"/>
          <p:cNvSpPr/>
          <p:nvPr/>
        </p:nvSpPr>
        <p:spPr>
          <a:xfrm>
            <a:off x="1793880" y="828720"/>
            <a:ext cx="44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waterproof, fireproof, soundproof, rainproof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7" name="Text Box 30"/>
          <p:cNvSpPr/>
          <p:nvPr/>
        </p:nvSpPr>
        <p:spPr>
          <a:xfrm>
            <a:off x="6305400" y="7952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tect agains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8" name="Text Box 31"/>
          <p:cNvSpPr/>
          <p:nvPr/>
        </p:nvSpPr>
        <p:spPr>
          <a:xfrm>
            <a:off x="409680" y="216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e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1763640" y="21636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den, sharpen, shorten, threaten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0" name="Text Box 33"/>
          <p:cNvSpPr/>
          <p:nvPr/>
        </p:nvSpPr>
        <p:spPr>
          <a:xfrm>
            <a:off x="6353280" y="2092320"/>
            <a:ext cx="217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ke or becom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31640" y="3532320"/>
            <a:ext cx="15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ward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1771560" y="3460680"/>
            <a:ext cx="438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eastward, homeward, backward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3" name="Text Box 36"/>
          <p:cNvSpPr/>
          <p:nvPr/>
        </p:nvSpPr>
        <p:spPr>
          <a:xfrm>
            <a:off x="6300720" y="353232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in the direction of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4" name="Text Box 37"/>
          <p:cNvSpPr/>
          <p:nvPr/>
        </p:nvSpPr>
        <p:spPr>
          <a:xfrm>
            <a:off x="480960" y="4827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lik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5" name="Text Box 38"/>
          <p:cNvSpPr/>
          <p:nvPr/>
        </p:nvSpPr>
        <p:spPr>
          <a:xfrm>
            <a:off x="1817640" y="4827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manlike, childlik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6305400" y="482760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milar to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7" name="Text Box 40"/>
          <p:cNvSpPr/>
          <p:nvPr/>
        </p:nvSpPr>
        <p:spPr>
          <a:xfrm>
            <a:off x="468360" y="566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es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1805040" y="5661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gshaes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9" name="Text Box 42"/>
          <p:cNvSpPr/>
          <p:nvPr/>
        </p:nvSpPr>
        <p:spPr>
          <a:xfrm>
            <a:off x="6516720" y="573408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8868"/>
                </a:solidFill>
                <a:latin typeface="Times New Roman"/>
              </a:rPr>
              <a:t>- - -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2004_4_5113340"/>
          <p:cNvPicPr/>
          <p:nvPr/>
        </p:nvPicPr>
        <p:blipFill>
          <a:blip r:embed="rId1"/>
          <a:stretch/>
        </p:blipFill>
        <p:spPr>
          <a:xfrm>
            <a:off x="2556000" y="1341360"/>
            <a:ext cx="3978000" cy="52563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179280" y="18900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organs of the body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5796000" y="1125360"/>
            <a:ext cx="1512720" cy="663840"/>
          </a:xfrm>
          <a:prstGeom prst="wedgeRoundRectCallout">
            <a:avLst>
              <a:gd name="adj1" fmla="val -138037"/>
              <a:gd name="adj2" fmla="val 55263"/>
              <a:gd name="adj3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f0ff"/>
                </a:solidFill>
                <a:latin typeface="Arial Narrow"/>
                <a:ea typeface="华文中宋"/>
              </a:rPr>
              <a:t>throat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684360" y="4365720"/>
            <a:ext cx="2663640" cy="718920"/>
          </a:xfrm>
          <a:prstGeom prst="wedgeRoundRectCallout">
            <a:avLst>
              <a:gd name="adj1" fmla="val 65972"/>
              <a:gd name="adj2" fmla="val -75384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gallbladder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4" name="AutoShape 6"/>
          <p:cNvSpPr/>
          <p:nvPr/>
        </p:nvSpPr>
        <p:spPr>
          <a:xfrm>
            <a:off x="6588000" y="2421000"/>
            <a:ext cx="2087640" cy="792000"/>
          </a:xfrm>
          <a:prstGeom prst="wedgeRoundRectCallout">
            <a:avLst>
              <a:gd name="adj1" fmla="val -140569"/>
              <a:gd name="adj2" fmla="val 165430"/>
              <a:gd name="adj3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stomach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971640" y="3430440"/>
            <a:ext cx="1368360" cy="646200"/>
          </a:xfrm>
          <a:prstGeom prst="wedgeRoundRectCallout">
            <a:avLst>
              <a:gd name="adj1" fmla="val 166356"/>
              <a:gd name="adj2" fmla="val 17074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liver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1042920" y="2781360"/>
            <a:ext cx="1441440" cy="561960"/>
          </a:xfrm>
          <a:prstGeom prst="wedgeRoundRectCallout">
            <a:avLst>
              <a:gd name="adj1" fmla="val 188435"/>
              <a:gd name="adj2" fmla="val 10736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heart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7" name="AutoShape 9"/>
          <p:cNvSpPr/>
          <p:nvPr/>
        </p:nvSpPr>
        <p:spPr>
          <a:xfrm>
            <a:off x="900000" y="1844640"/>
            <a:ext cx="1368360" cy="647640"/>
          </a:xfrm>
          <a:prstGeom prst="wedgeRoundRectCallout">
            <a:avLst>
              <a:gd name="adj1" fmla="val 167634"/>
              <a:gd name="adj2" fmla="val 81370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lu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1258920" y="1052640"/>
            <a:ext cx="1873080" cy="720720"/>
          </a:xfrm>
          <a:prstGeom prst="wedgeRoundRectCallout">
            <a:avLst>
              <a:gd name="adj1" fmla="val 119152"/>
              <a:gd name="adj2" fmla="val 80398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trachea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395280" y="5300640"/>
            <a:ext cx="2160720" cy="1224000"/>
          </a:xfrm>
          <a:prstGeom prst="wedgeRoundRectCallout">
            <a:avLst>
              <a:gd name="adj1" fmla="val 99597"/>
              <a:gd name="adj2" fmla="val -82037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large intestin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6877080" y="4581360"/>
            <a:ext cx="2087640" cy="1295640"/>
          </a:xfrm>
          <a:prstGeom prst="wedgeRoundRectCallout">
            <a:avLst>
              <a:gd name="adj1" fmla="val -159657"/>
              <a:gd name="adj2" fmla="val -24634"/>
              <a:gd name="adj3" fmla="val 1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small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intestin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WordArt 2"/>
          <p:cNvSpPr txBox="1"/>
          <p:nvPr/>
        </p:nvSpPr>
        <p:spPr>
          <a:xfrm>
            <a:off x="2195640" y="189000"/>
            <a:ext cx="44575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omework;P.47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076560" y="198900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1" lang="en-US" sz="4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75280" y="2924280"/>
            <a:ext cx="556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1.brain             2. heart</a:t>
            </a:r>
            <a:endParaRPr b="1" lang="en-US" sz="44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3. liver             4. lung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s</a:t>
            </a:r>
            <a:endParaRPr b="1" lang="en-US" sz="44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5. stomach      6. kidney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s</a:t>
            </a:r>
            <a:endParaRPr b="1" lang="en-US" sz="44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249480" y="189000"/>
            <a:ext cx="73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Fill in the blanks with proper words: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50920" y="836640"/>
            <a:ext cx="8893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_____ of the sending of Shenzhou Ⅻ was broadcast to the nation.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Please come to see me at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 working hours from eight to six.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he scientists are seeking for a 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____ in cancer research.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4.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f you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 like that, you'll get yourself disliked.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403280" y="836640"/>
            <a:ext cx="40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announcemen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5292720" y="1916280"/>
            <a:ext cx="18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normal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765080" y="407664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behave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755640" y="357336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breakthrough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79280" y="33336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5. If you behave so foolishly you must be ready to take the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____, I will not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be responsible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.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She is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 about telling secrets 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7.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his food provides all the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 your dog needs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8.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He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__ reducing military spending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9.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Prices have risen steadily during the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past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__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92436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  <a:ea typeface="楷体_GB2312"/>
              </a:rPr>
              <a:t>consequence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799240" y="278136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nutrition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97964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cautious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331640" y="400536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advocates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1619280" y="522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decade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7021440" y="141300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lone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324000" y="2540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0 He is famous in this town as a ‘JAY-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____’.</a:t>
            </a:r>
            <a:r>
              <a:rPr b="1" lang="en-US" sz="3600" spc="-1" strike="noStrike">
                <a:solidFill>
                  <a:srgbClr val="00ff00"/>
                </a:solidFill>
                <a:latin typeface="Arial Narrow"/>
                <a:ea typeface="楷体_GB2312"/>
              </a:rPr>
              <a:t>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0" y="2708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1 It’s reported that over a thousand babies become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v______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of polluted milk powder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2126160" y="3284640"/>
            <a:ext cx="12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楷体_GB2312"/>
              </a:rPr>
              <a:t>ictims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2916360" y="549360"/>
            <a:ext cx="3143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ord power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57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431640" y="2205000"/>
          <a:ext cx="8352000" cy="155412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able     agree        appear       lead  </a:t>
                      </a:r>
                      <a:br>
                        <a:rPr sz="4000"/>
                      </a:b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novel        regular       respect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0" name="Text Box 8"/>
          <p:cNvSpPr/>
          <p:nvPr/>
        </p:nvSpPr>
        <p:spPr>
          <a:xfrm>
            <a:off x="287280" y="620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Read the following words and answer the questions with them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250920" y="37180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1. You can’t find your pen. What happened to your pen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684360" y="530064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(It </a:t>
            </a:r>
            <a:r>
              <a:rPr b="1" lang="en-US" sz="4000" spc="-1" strike="noStrike">
                <a:solidFill>
                  <a:srgbClr val="0000ff"/>
                </a:solidFill>
                <a:latin typeface="Arial Narrow"/>
              </a:rPr>
              <a:t>dis</a:t>
            </a: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appeared.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79280" y="476280"/>
            <a:ext cx="87138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. Do you think you are able to walk on  the moon now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449280" indent="-449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449280" indent="-449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3. The two groups don’t agree with each other. They argued fiercely. So what is the problem between them called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116000" y="1916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(I am </a:t>
            </a:r>
            <a:r>
              <a:rPr b="1" lang="en-US" sz="4000" spc="-1" strike="noStrike">
                <a:solidFill>
                  <a:srgbClr val="3333ff"/>
                </a:solidFill>
                <a:latin typeface="Arial Narrow"/>
              </a:rPr>
              <a:t>un</a:t>
            </a: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able to do so.)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826920" y="551664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Arial Narrow"/>
              </a:rPr>
              <a:t>Dis</a:t>
            </a: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agree</a:t>
            </a:r>
            <a:r>
              <a:rPr b="1" lang="en-US" sz="4000" spc="-1" strike="noStrike">
                <a:solidFill>
                  <a:srgbClr val="3333ff"/>
                </a:solidFill>
                <a:latin typeface="Arial Narrow"/>
              </a:rPr>
              <a:t>ment</a:t>
            </a: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.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250920" y="333360"/>
            <a:ext cx="87138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4. Many people respect Mr. Li and think he is a good man. He helps people out and is a good citizen and friend. So can you find a word to describe Mr. Li?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Mr. Wang has published several books. He loves his job writing novels. So what is Mr. Wang’s occupation?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611280" y="2708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(Respect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able.)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826920" y="537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(A novel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st</a:t>
            </a:r>
            <a:r>
              <a:rPr b="1" lang="en-US" sz="3200" spc="-1" strike="noStrike">
                <a:solidFill>
                  <a:srgbClr val="e1f0ff"/>
                </a:solidFill>
                <a:latin typeface="Arial Narrow"/>
              </a:rPr>
              <a:t>.)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0-10-29T02:38:56Z</dcterms:modified>
  <cp:revision>0</cp:revision>
  <dc:subject/>
  <dc:title>PowerPoint Presentation</dc:title>
</cp:coreProperties>
</file>