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B30-AB5A-4CAB-93FF-59D1DDDF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D08-3F4F-4062-A69C-9A0E4ED5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F1E-0E3D-49AD-AEE6-25D08E9E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0B3-A027-451D-8997-2ACF7045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BB88-C973-4B0A-AFD1-D589F10B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AAE9-199D-4610-9DA2-BAE418DC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92E4-646E-4358-8138-FCFFBA1A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3A59-54D0-4B72-A539-838FCE41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5B1C-C4D9-4814-B923-31D4B860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5F09-ACD2-4299-BC76-4164D583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5BA0-302C-4C6D-AC24-A0F9D55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D97-59ED-48EA-BF32-42EB9A7B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745E-879D-410A-8F3E-3260507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28D6-814D-40CB-A182-0CFC034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A6C0-CFBE-410A-9415-CDF55AA3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D806-5E3D-48D4-953C-7F92C596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AAFB-08AA-458F-B855-240CE7AA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60AC-2E90-4DE2-9766-0FB96C57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0C02-DEDB-4CE8-9930-C3FD4F89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5A15-187D-4BE1-B3C9-5F9D3DB8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B9B0-1D4E-4ABE-ABA3-EDA39857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E893-8BB5-4353-9791-7DE1EE1C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EF3-A0C2-4F89-B57C-189FF2D0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0D97-AB79-4078-95E0-E84D6CF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5760-18B2-4419-9BA6-D9AB4A6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80C0-D439-462F-ACF2-7B9667C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8EE3-AE59-415F-AC4B-3634660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2964-052C-4C6A-963F-3A461C88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FA9C-D171-404E-810C-5DCFD9E8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1277-D8D6-41C8-AA2D-1A312AC6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93E-A08C-419D-B130-5AD31D62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D8F-C8F3-4FEF-A17E-445A9DB4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6C0-9330-4E63-A5B1-F7DCE37D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199-4F7F-4CB2-9F50-47EFC28B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6E5-064A-4F90-8C38-580ADB7C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E67-A670-4E54-9424-8C1E6DB9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9750-396B-4C1E-8F2F-FC95BE2479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3A91-4832-4E34-AD07-56AF909B9F9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177-F81B-4287-A5E5-A25DFC58274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0988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问题探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2682" t="3321" r="9699" b="5915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30270" t="14759" r="12354" b="30123"/>
          <a:stretch/>
        </p:blipFill>
        <p:spPr>
          <a:xfrm>
            <a:off x="250920" y="1268280"/>
            <a:ext cx="6913440" cy="49831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651640" y="2924280"/>
            <a:ext cx="3168360" cy="2064600"/>
            <a:chOff x="5651640" y="2924280"/>
            <a:chExt cx="3168360" cy="2064600"/>
          </a:xfrm>
        </p:grpSpPr>
        <p:sp>
          <p:nvSpPr>
            <p:cNvPr id="161" name=""/>
            <p:cNvSpPr/>
            <p:nvPr/>
          </p:nvSpPr>
          <p:spPr>
            <a:xfrm>
              <a:off x="7020000" y="2924280"/>
              <a:ext cx="18000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724360" y="3211560"/>
              <a:ext cx="129564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39322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51640" y="407484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951480" y="333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罗伯特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481788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变形虫摄取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53000" cy="30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荧光标记的小鼠和人细胞融合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22212" t="30796" r="12437" b="39152"/>
          <a:stretch/>
        </p:blipFill>
        <p:spPr>
          <a:xfrm>
            <a:off x="0" y="1185840"/>
            <a:ext cx="91440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25066" r="4320" b="39854"/>
          <a:stretch/>
        </p:blipFill>
        <p:spPr>
          <a:xfrm>
            <a:off x="0" y="1268280"/>
            <a:ext cx="9144000" cy="5113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659640" y="3789360"/>
            <a:ext cx="136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4000" y="1413000"/>
            <a:ext cx="136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581360"/>
            <a:ext cx="136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49360"/>
            <a:ext cx="100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189000"/>
            <a:ext cx="43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膜的流动镶嵌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44360" y="43164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流动镶嵌模型的基本内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50440" y="170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膜的基本骨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2708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的分布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21720" y="3645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膜的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07480" y="216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1125360"/>
            <a:ext cx="239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膜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151720" y="1773360"/>
            <a:ext cx="6263640" cy="531000"/>
            <a:chOff x="2151720" y="1773360"/>
            <a:chExt cx="6263640" cy="531000"/>
          </a:xfrm>
        </p:grpSpPr>
        <p:sp>
          <p:nvSpPr>
            <p:cNvPr id="184" name=""/>
            <p:cNvSpPr/>
            <p:nvPr/>
          </p:nvSpPr>
          <p:spPr>
            <a:xfrm>
              <a:off x="2151720" y="177336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约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15720" y="184464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约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79960" y="17733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%—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521800" y="1052640"/>
            <a:ext cx="3733920" cy="1087200"/>
            <a:chOff x="2521800" y="1052640"/>
            <a:chExt cx="3733920" cy="1087200"/>
          </a:xfrm>
        </p:grpSpPr>
        <p:sp>
          <p:nvSpPr>
            <p:cNvPr id="188" name=""/>
            <p:cNvSpPr/>
            <p:nvPr/>
          </p:nvSpPr>
          <p:spPr>
            <a:xfrm>
              <a:off x="2521800" y="105264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脂质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8720" y="1123920"/>
              <a:ext cx="1377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蛋白质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877080" y="112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糖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183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为磷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7620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双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2840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骨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65120" y="2637000"/>
            <a:ext cx="91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细胞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功能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04960" y="2781360"/>
            <a:ext cx="127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者糖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合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糖蛋白、糖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80160" y="2476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三、细胞膜的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5960" y="15066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将细胞与外界环境分隔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54280" y="28209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控制物质的进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7440" y="3573360"/>
            <a:ext cx="25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点：选择透过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行细胞间的信息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6978" t="62371" r="58838" b="20304"/>
          <a:stretch/>
        </p:blipFill>
        <p:spPr>
          <a:xfrm>
            <a:off x="0" y="907920"/>
            <a:ext cx="4537080" cy="3221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rcRect l="38028" t="65126" r="34260" b="20918"/>
          <a:stretch/>
        </p:blipFill>
        <p:spPr>
          <a:xfrm>
            <a:off x="4716360" y="3500280"/>
            <a:ext cx="4067280" cy="287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rcRect l="63955" t="62060" r="3640" b="20067"/>
          <a:stretch/>
        </p:blipFill>
        <p:spPr>
          <a:xfrm>
            <a:off x="5076720" y="476280"/>
            <a:ext cx="40672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86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2200" y="105264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细胞最外面的结构一定是细胞膜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74000" y="1916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是的，植物细胞最外面的是细胞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5960" y="357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植物细胞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72960" y="2997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纤维素和果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432160" y="2854440"/>
            <a:ext cx="1816560" cy="2087280"/>
            <a:chOff x="2432160" y="2854440"/>
            <a:chExt cx="1816560" cy="2087280"/>
          </a:xfrm>
        </p:grpSpPr>
        <p:sp>
          <p:nvSpPr>
            <p:cNvPr id="210" name=""/>
            <p:cNvSpPr/>
            <p:nvPr/>
          </p:nvSpPr>
          <p:spPr>
            <a:xfrm>
              <a:off x="2432160" y="2854440"/>
              <a:ext cx="215640" cy="20872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54360 h 2087280"/>
                <a:gd name="textAreaBottom" fmla="*/ 2032920 h 20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53600" y="29973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主要成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03200" y="4292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功能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800240" y="4292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植物细胞有支持和保护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86480" y="53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85280" y="148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是脂质核蛋白质，还有少量糖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91560" y="2349360"/>
            <a:ext cx="3289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动镶嵌模型：磷脂双分子层作为基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骨架，蛋白质分子镶嵌其中，它们大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可以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11080" y="3141720"/>
            <a:ext cx="63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结构特点为具有一定的流动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71840" y="544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40000" y="3933720"/>
            <a:ext cx="3317760" cy="1572120"/>
            <a:chOff x="2340000" y="3933720"/>
            <a:chExt cx="3317760" cy="1572120"/>
          </a:xfrm>
        </p:grpSpPr>
        <p:sp>
          <p:nvSpPr>
            <p:cNvPr id="220" name=""/>
            <p:cNvSpPr/>
            <p:nvPr/>
          </p:nvSpPr>
          <p:spPr>
            <a:xfrm>
              <a:off x="3008160" y="3933720"/>
              <a:ext cx="26496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将细胞与外界环境分隔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控制物质进出细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行细胞间的信息交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40000" y="4005360"/>
              <a:ext cx="73080" cy="136836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411280" y="5157720"/>
            <a:ext cx="55454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功能特点：选择特过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98520" y="1413000"/>
            <a:ext cx="1560600" cy="3240000"/>
            <a:chOff x="398520" y="1413000"/>
            <a:chExt cx="1560600" cy="3240000"/>
          </a:xfrm>
        </p:grpSpPr>
        <p:sp>
          <p:nvSpPr>
            <p:cNvPr id="224" name=""/>
            <p:cNvSpPr/>
            <p:nvPr/>
          </p:nvSpPr>
          <p:spPr>
            <a:xfrm>
              <a:off x="1229760" y="1413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成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9760" y="2852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结构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9760" y="4149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功能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8520" y="267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细胞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0000" y="1628640"/>
              <a:ext cx="216000" cy="3024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78840 h 3024360"/>
                <a:gd name="textAreaBottom" fmla="*/ 2945520 h 302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怎样区分光学显微镜下的细胞和气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学显微镜下能看到细胞膜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15772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能观察到细胞与外界环境之间是有界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84480" y="2637000"/>
            <a:ext cx="48747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泡是光亮的，里面只有空气。细胞是 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细胞膜、细胞质、细胞核的复杂结构，而且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立体结构，在显微镜下，通过调节焦距可以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察到细胞的不同层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6978" t="5797" r="50006" b="80147"/>
          <a:stretch/>
        </p:blipFill>
        <p:spPr>
          <a:xfrm>
            <a:off x="0" y="0"/>
            <a:ext cx="9144000" cy="3870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制备细胞膜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860640"/>
            <a:ext cx="583236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什么选用动物细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什么选用红细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方法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P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讨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5400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膜膜成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比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31680" y="907920"/>
            <a:ext cx="9175680" cy="5616360"/>
            <a:chOff x="-31680" y="907920"/>
            <a:chExt cx="9175680" cy="5616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rcRect l="6233" t="28426" r="71307" b="54923"/>
            <a:stretch/>
          </p:blipFill>
          <p:spPr>
            <a:xfrm>
              <a:off x="-31680" y="951120"/>
              <a:ext cx="4027320" cy="55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rcRect l="36816" t="28426" r="54843" b="54923"/>
            <a:stretch/>
          </p:blipFill>
          <p:spPr>
            <a:xfrm>
              <a:off x="3900600" y="928440"/>
              <a:ext cx="1496880" cy="55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rcRect l="56678" t="28426" r="29257" b="54923"/>
            <a:stretch/>
          </p:blipFill>
          <p:spPr>
            <a:xfrm>
              <a:off x="5153040" y="921240"/>
              <a:ext cx="2527200" cy="55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4"/>
            <a:srcRect l="80338" t="28426" r="10031" b="54923"/>
            <a:stretch/>
          </p:blipFill>
          <p:spPr>
            <a:xfrm>
              <a:off x="7415280" y="907920"/>
              <a:ext cx="1728720" cy="557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981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材料一：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世纪末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欧文顿发现，凡溶于脂质的物  质比不溶于脂质的物质更容易进入细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933720"/>
            <a:ext cx="56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60159" t="39001" r="2931" b="10418"/>
          <a:stretch/>
        </p:blipFill>
        <p:spPr>
          <a:xfrm>
            <a:off x="611280" y="2276640"/>
            <a:ext cx="7705800" cy="4084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细胞膜的成分和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38606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4365720"/>
            <a:ext cx="66978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2133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67467" t="9706" r="12769" b="63558"/>
          <a:stretch/>
        </p:blipFill>
        <p:spPr>
          <a:xfrm>
            <a:off x="2239920" y="0"/>
            <a:ext cx="2548080" cy="4941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0" t="5732" r="46229" b="0"/>
          <a:stretch/>
        </p:blipFill>
        <p:spPr>
          <a:xfrm>
            <a:off x="5796000" y="189000"/>
            <a:ext cx="3025800" cy="592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rcRect l="52337" t="14713" r="41848" b="74755"/>
          <a:stretch/>
        </p:blipFill>
        <p:spPr>
          <a:xfrm>
            <a:off x="395280" y="620640"/>
            <a:ext cx="1758960" cy="263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rcRect l="78256" t="32121" r="6444" b="42904"/>
          <a:stretch/>
        </p:blipFill>
        <p:spPr>
          <a:xfrm>
            <a:off x="395280" y="260280"/>
            <a:ext cx="4175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620640"/>
            <a:ext cx="8317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位荷兰的科学家用丙酮从人的红细胞中提取脂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空气——水界面上铺展成单分子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测得单分子层的面积恰为红细胞表面积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说明了什么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8855" t="21658" r="54966" b="54710"/>
          <a:stretch/>
        </p:blipFill>
        <p:spPr>
          <a:xfrm>
            <a:off x="1547640" y="3357720"/>
            <a:ext cx="59058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981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材料一：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世纪末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欧文顿发现，凡溶于脂质的物质比不溶于脂质的物质更容易进入细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3933720"/>
            <a:ext cx="56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60159" t="39001" r="2931" b="10418"/>
          <a:stretch/>
        </p:blipFill>
        <p:spPr>
          <a:xfrm>
            <a:off x="611280" y="2276640"/>
            <a:ext cx="7705800" cy="4084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细胞膜的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38606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6640" t="43317" r="55715" b="6467"/>
          <a:stretch/>
        </p:blipFill>
        <p:spPr>
          <a:xfrm>
            <a:off x="2484360" y="836640"/>
            <a:ext cx="41482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4:26:18Z</dcterms:created>
  <dc:creator>qyx</dc:creator>
  <dc:description/>
  <dc:language>en-US</dc:language>
  <cp:lastModifiedBy>杨芬</cp:lastModifiedBy>
  <dcterms:modified xsi:type="dcterms:W3CDTF">2007-10-31T07:03:36Z</dcterms:modified>
  <cp:revision>81</cp:revision>
  <dc:subject/>
  <dc:title>幻灯片 1</dc:title>
</cp:coreProperties>
</file>