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3B2-C8AD-4FA2-B36F-81C24F7F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FE9-53AC-477E-8D6A-BD80F43A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DF9-AE4B-44E3-BA90-D67E9A03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B52-A8F7-4F56-85C3-01E3D527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9D2-7270-4C0F-B3EE-C6D74C9C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6DB-B732-43C1-8114-23170750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729-C8C8-455F-A28E-40A4BA6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A17-0933-49DB-9B48-E4645C57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AB3-31B2-4B8F-BB29-5CE621D5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F91-91C7-4167-BEEA-6384C08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D28-581A-4B0C-8FB0-66C7473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614-C809-4A07-82CA-2D4CBA1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517-1DE4-4415-A05C-1C8BE6FC78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16720" y="404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1840" y="-316080"/>
            <a:ext cx="1521000" cy="71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细胞核－系统控制中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3544920"/>
            <a:ext cx="549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3838320"/>
            <a:ext cx="54612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新中高一生物 备课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0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料四：伞藻核移植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44331" t="0" r="0" b="0"/>
          <a:stretch/>
        </p:blipFill>
        <p:spPr>
          <a:xfrm>
            <a:off x="468360" y="2205000"/>
            <a:ext cx="990720" cy="2376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44331" t="0" r="0" b="0"/>
          <a:stretch/>
        </p:blipFill>
        <p:spPr>
          <a:xfrm>
            <a:off x="6659640" y="2708280"/>
            <a:ext cx="990360" cy="2376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297" t="0" r="55372" b="66688"/>
          <a:stretch/>
        </p:blipFill>
        <p:spPr>
          <a:xfrm>
            <a:off x="6588000" y="2852640"/>
            <a:ext cx="1008360" cy="754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rcRect l="0" t="0" r="55456" b="0"/>
          <a:stretch/>
        </p:blipFill>
        <p:spPr>
          <a:xfrm>
            <a:off x="2340000" y="1197000"/>
            <a:ext cx="9349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403280" y="4365720"/>
            <a:ext cx="2592360" cy="1168200"/>
            <a:chOff x="1403280" y="4365720"/>
            <a:chExt cx="2592360" cy="1168200"/>
          </a:xfrm>
        </p:grpSpPr>
        <p:sp>
          <p:nvSpPr>
            <p:cNvPr id="183" name=""/>
            <p:cNvSpPr/>
            <p:nvPr/>
          </p:nvSpPr>
          <p:spPr>
            <a:xfrm>
              <a:off x="1403280" y="4365720"/>
              <a:ext cx="2592360" cy="647640"/>
            </a:xfrm>
            <a:custGeom>
              <a:avLst/>
              <a:gdLst/>
              <a:ahLst/>
              <a:rect l="l" t="t" r="r" b="b"/>
              <a:pathLst>
                <a:path w="1440" h="192">
                  <a:moveTo>
                    <a:pt x="0" y="0"/>
                  </a:moveTo>
                  <a:cubicBezTo>
                    <a:pt x="112" y="56"/>
                    <a:pt x="224" y="112"/>
                    <a:pt x="336" y="144"/>
                  </a:cubicBezTo>
                  <a:cubicBezTo>
                    <a:pt x="448" y="176"/>
                    <a:pt x="560" y="192"/>
                    <a:pt x="672" y="192"/>
                  </a:cubicBezTo>
                  <a:cubicBezTo>
                    <a:pt x="784" y="192"/>
                    <a:pt x="896" y="168"/>
                    <a:pt x="1008" y="144"/>
                  </a:cubicBezTo>
                  <a:cubicBezTo>
                    <a:pt x="1120" y="120"/>
                    <a:pt x="1272" y="72"/>
                    <a:pt x="1344" y="48"/>
                  </a:cubicBezTo>
                  <a:cubicBezTo>
                    <a:pt x="1416" y="24"/>
                    <a:pt x="1428" y="12"/>
                    <a:pt x="144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0920" y="501336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去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43280" y="2852640"/>
            <a:ext cx="1386000" cy="1081080"/>
            <a:chOff x="2843280" y="2852640"/>
            <a:chExt cx="1386000" cy="1081080"/>
          </a:xfrm>
        </p:grpSpPr>
        <p:sp>
          <p:nvSpPr>
            <p:cNvPr id="186" name=""/>
            <p:cNvSpPr/>
            <p:nvPr/>
          </p:nvSpPr>
          <p:spPr>
            <a:xfrm>
              <a:off x="2843280" y="3357720"/>
              <a:ext cx="1081080" cy="576000"/>
            </a:xfrm>
            <a:custGeom>
              <a:avLst/>
              <a:gdLst/>
              <a:ahLst/>
              <a:rect l="l" t="t" r="r" b="b"/>
              <a:pathLst>
                <a:path w="528" h="208">
                  <a:moveTo>
                    <a:pt x="0" y="64"/>
                  </a:moveTo>
                  <a:cubicBezTo>
                    <a:pt x="44" y="44"/>
                    <a:pt x="88" y="24"/>
                    <a:pt x="144" y="16"/>
                  </a:cubicBezTo>
                  <a:cubicBezTo>
                    <a:pt x="200" y="8"/>
                    <a:pt x="280" y="0"/>
                    <a:pt x="336" y="16"/>
                  </a:cubicBezTo>
                  <a:cubicBezTo>
                    <a:pt x="392" y="32"/>
                    <a:pt x="448" y="80"/>
                    <a:pt x="480" y="112"/>
                  </a:cubicBezTo>
                  <a:cubicBezTo>
                    <a:pt x="512" y="144"/>
                    <a:pt x="520" y="192"/>
                    <a:pt x="528" y="2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3640" y="2852640"/>
              <a:ext cx="10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取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59280" y="407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1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" y="17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楷体"/>
              </a:rPr>
              <a:t>伞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9172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楷体"/>
              </a:rPr>
              <a:t>菊花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03360" y="220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菊花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95640" y="2276640"/>
            <a:ext cx="1109880" cy="2663640"/>
            <a:chOff x="3995640" y="2276640"/>
            <a:chExt cx="1109880" cy="266364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44331" t="0" r="0" b="0"/>
            <a:stretch/>
          </p:blipFill>
          <p:spPr>
            <a:xfrm>
              <a:off x="3995640" y="2276640"/>
              <a:ext cx="110988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284720" y="4437000"/>
              <a:ext cx="216000" cy="14292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932360" y="3500280"/>
            <a:ext cx="1584360" cy="649440"/>
            <a:chOff x="4932360" y="3500280"/>
            <a:chExt cx="1584360" cy="649440"/>
          </a:xfrm>
        </p:grpSpPr>
        <p:sp>
          <p:nvSpPr>
            <p:cNvPr id="197" name=""/>
            <p:cNvSpPr/>
            <p:nvPr/>
          </p:nvSpPr>
          <p:spPr>
            <a:xfrm>
              <a:off x="4932360" y="4149720"/>
              <a:ext cx="158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34920" y="3500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生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24000" y="2781360"/>
            <a:ext cx="8137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资料</a:t>
            </a: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说明：生物体形态结构的建成主要与细胞核有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7380360" y="59500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457200"/>
            <a:ext cx="67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概述：细胞核的功能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18920" y="24922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细胞核与细胞的分裂分化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32846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细胞核控制着细胞的生命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76000" y="112536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生物体性状的遗传主要是由细胞核控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177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生物体形态结构的建成主要与细胞核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852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141300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278136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7440" y="1268280"/>
            <a:ext cx="115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4797360"/>
            <a:ext cx="756144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rnd" w="5724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细胞核控制着细胞的代谢和遗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60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量的事实表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54960" y="765000"/>
            <a:ext cx="4243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细胞核控制着细胞的代谢和遗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619280" y="1844640"/>
            <a:ext cx="5256360" cy="4843440"/>
            <a:chOff x="1619280" y="1844640"/>
            <a:chExt cx="5256360" cy="484344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619280" y="2565360"/>
              <a:ext cx="5256360" cy="41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315160" y="1844640"/>
              <a:ext cx="42375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隶书"/>
                </a:rPr>
                <a:t>细胞的“大脑”，细胞的“控制中心”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427760" y="1449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因此有人把细胞核比喻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816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资料３  变形虫切割、核移植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6087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5651640" y="3860640"/>
            <a:ext cx="1841040" cy="790560"/>
            <a:chOff x="5651640" y="3860640"/>
            <a:chExt cx="1841040" cy="790560"/>
          </a:xfrm>
        </p:grpSpPr>
        <p:sp>
          <p:nvSpPr>
            <p:cNvPr id="221" name=""/>
            <p:cNvSpPr/>
            <p:nvPr/>
          </p:nvSpPr>
          <p:spPr>
            <a:xfrm>
              <a:off x="5651640" y="3860640"/>
              <a:ext cx="749880" cy="3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606000" y="3973680"/>
              <a:ext cx="886680" cy="67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？</a:t>
              </a:r>
              <a:endPara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095480" y="5489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你还能获得什么结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5600" y="5445000"/>
            <a:ext cx="4021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细胞只有保持其完整性才能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各项生命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64000" y="692280"/>
            <a:ext cx="2040120" cy="677880"/>
            <a:chOff x="5364000" y="692280"/>
            <a:chExt cx="2040120" cy="677880"/>
          </a:xfrm>
        </p:grpSpPr>
        <p:sp>
          <p:nvSpPr>
            <p:cNvPr id="226" name=""/>
            <p:cNvSpPr txBox="1"/>
            <p:nvPr/>
          </p:nvSpPr>
          <p:spPr>
            <a:xfrm>
              <a:off x="6516720" y="692280"/>
              <a:ext cx="88740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？</a:t>
              </a:r>
              <a:endPara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364000" y="836280"/>
              <a:ext cx="1008360" cy="431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250920" y="404640"/>
            <a:ext cx="4464000" cy="3312000"/>
            <a:chOff x="250920" y="404640"/>
            <a:chExt cx="4464000" cy="3312000"/>
          </a:xfrm>
        </p:grpSpPr>
        <p:grpSp>
          <p:nvGrpSpPr>
            <p:cNvPr id="229" name=""/>
            <p:cNvGrpSpPr/>
            <p:nvPr/>
          </p:nvGrpSpPr>
          <p:grpSpPr>
            <a:xfrm>
              <a:off x="250920" y="404640"/>
              <a:ext cx="4464000" cy="3312000"/>
              <a:chOff x="250920" y="404640"/>
              <a:chExt cx="4464000" cy="33120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50920" y="404640"/>
                <a:ext cx="4464000" cy="3312000"/>
                <a:chOff x="250920" y="404640"/>
                <a:chExt cx="4464000" cy="331200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250920" y="404640"/>
                  <a:ext cx="4464000" cy="3312000"/>
                  <a:chOff x="250920" y="404640"/>
                  <a:chExt cx="4464000" cy="3312000"/>
                </a:xfrm>
              </p:grpSpPr>
              <p:pic>
                <p:nvPicPr>
                  <p:cNvPr id="23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50920" y="404640"/>
                    <a:ext cx="4464000" cy="33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3" name=""/>
                  <p:cNvSpPr/>
                  <p:nvPr/>
                </p:nvSpPr>
                <p:spPr>
                  <a:xfrm>
                    <a:off x="2972520" y="2358000"/>
                    <a:ext cx="147132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3" h="177">
                        <a:moveTo>
                          <a:pt x="217" y="80"/>
                        </a:moveTo>
                        <a:cubicBezTo>
                          <a:pt x="283" y="75"/>
                          <a:pt x="361" y="77"/>
                          <a:pt x="425" y="56"/>
                        </a:cubicBezTo>
                        <a:cubicBezTo>
                          <a:pt x="446" y="24"/>
                          <a:pt x="436" y="12"/>
                          <a:pt x="473" y="0"/>
                        </a:cubicBezTo>
                        <a:cubicBezTo>
                          <a:pt x="537" y="21"/>
                          <a:pt x="457" y="0"/>
                          <a:pt x="521" y="0"/>
                        </a:cubicBezTo>
                        <a:cubicBezTo>
                          <a:pt x="542" y="0"/>
                          <a:pt x="564" y="5"/>
                          <a:pt x="585" y="8"/>
                        </a:cubicBezTo>
                        <a:cubicBezTo>
                          <a:pt x="627" y="22"/>
                          <a:pt x="670" y="21"/>
                          <a:pt x="713" y="32"/>
                        </a:cubicBezTo>
                        <a:cubicBezTo>
                          <a:pt x="723" y="63"/>
                          <a:pt x="716" y="112"/>
                          <a:pt x="689" y="136"/>
                        </a:cubicBezTo>
                        <a:cubicBezTo>
                          <a:pt x="675" y="149"/>
                          <a:pt x="641" y="168"/>
                          <a:pt x="641" y="168"/>
                        </a:cubicBezTo>
                        <a:cubicBezTo>
                          <a:pt x="514" y="164"/>
                          <a:pt x="307" y="177"/>
                          <a:pt x="185" y="96"/>
                        </a:cubicBezTo>
                        <a:cubicBezTo>
                          <a:pt x="145" y="109"/>
                          <a:pt x="124" y="96"/>
                          <a:pt x="89" y="80"/>
                        </a:cubicBezTo>
                        <a:cubicBezTo>
                          <a:pt x="74" y="73"/>
                          <a:pt x="57" y="69"/>
                          <a:pt x="41" y="64"/>
                        </a:cubicBezTo>
                        <a:cubicBezTo>
                          <a:pt x="33" y="61"/>
                          <a:pt x="17" y="56"/>
                          <a:pt x="17" y="56"/>
                        </a:cubicBezTo>
                        <a:cubicBezTo>
                          <a:pt x="0" y="5"/>
                          <a:pt x="9" y="48"/>
                          <a:pt x="33" y="48"/>
                        </a:cubicBezTo>
                        <a:cubicBezTo>
                          <a:pt x="43" y="48"/>
                          <a:pt x="49" y="37"/>
                          <a:pt x="57" y="32"/>
                        </a:cubicBezTo>
                        <a:cubicBezTo>
                          <a:pt x="94" y="44"/>
                          <a:pt x="122" y="51"/>
                          <a:pt x="153" y="72"/>
                        </a:cubicBezTo>
                        <a:cubicBezTo>
                          <a:pt x="177" y="69"/>
                          <a:pt x="202" y="72"/>
                          <a:pt x="225" y="64"/>
                        </a:cubicBezTo>
                        <a:cubicBezTo>
                          <a:pt x="233" y="61"/>
                          <a:pt x="209" y="57"/>
                          <a:pt x="201" y="56"/>
                        </a:cubicBezTo>
                        <a:cubicBezTo>
                          <a:pt x="174" y="54"/>
                          <a:pt x="148" y="56"/>
                          <a:pt x="121" y="56"/>
                        </a:cubicBezTo>
                        <a:lnTo>
                          <a:pt x="529" y="120"/>
                        </a:lnTo>
                        <a:lnTo>
                          <a:pt x="577" y="72"/>
                        </a:ln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 flipV="1">
                  <a:off x="3345120" y="2336760"/>
                  <a:ext cx="716760" cy="275760"/>
                </a:xfrm>
                <a:custGeom>
                  <a:avLst/>
                  <a:gdLst/>
                  <a:ahLst/>
                  <a:rect l="l" t="t" r="r" b="b"/>
                  <a:pathLst>
                    <a:path w="296" h="136">
                      <a:moveTo>
                        <a:pt x="0" y="104"/>
                      </a:moveTo>
                      <a:cubicBezTo>
                        <a:pt x="3" y="85"/>
                        <a:pt x="4" y="66"/>
                        <a:pt x="8" y="48"/>
                      </a:cubicBezTo>
                      <a:cubicBezTo>
                        <a:pt x="12" y="32"/>
                        <a:pt x="24" y="0"/>
                        <a:pt x="24" y="0"/>
                      </a:cubicBezTo>
                      <a:cubicBezTo>
                        <a:pt x="99" y="3"/>
                        <a:pt x="174" y="1"/>
                        <a:pt x="248" y="8"/>
                      </a:cubicBezTo>
                      <a:cubicBezTo>
                        <a:pt x="265" y="9"/>
                        <a:pt x="296" y="24"/>
                        <a:pt x="296" y="24"/>
                      </a:cubicBezTo>
                      <a:cubicBezTo>
                        <a:pt x="296" y="24"/>
                        <a:pt x="288" y="86"/>
                        <a:pt x="280" y="96"/>
                      </a:cubicBezTo>
                      <a:cubicBezTo>
                        <a:pt x="248" y="136"/>
                        <a:pt x="175" y="132"/>
                        <a:pt x="136" y="136"/>
                      </a:cubicBezTo>
                      <a:cubicBezTo>
                        <a:pt x="98" y="131"/>
                        <a:pt x="30" y="134"/>
                        <a:pt x="0" y="10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954520" y="2377440"/>
                <a:ext cx="248040" cy="118440"/>
              </a:xfrm>
              <a:custGeom>
                <a:avLst/>
                <a:gdLst/>
                <a:ahLst/>
                <a:rect l="l" t="t" r="r" b="b"/>
                <a:pathLst>
                  <a:path w="122" h="62">
                    <a:moveTo>
                      <a:pt x="104" y="11"/>
                    </a:moveTo>
                    <a:cubicBezTo>
                      <a:pt x="71" y="0"/>
                      <a:pt x="0" y="19"/>
                      <a:pt x="0" y="19"/>
                    </a:cubicBezTo>
                    <a:cubicBezTo>
                      <a:pt x="14" y="61"/>
                      <a:pt x="29" y="62"/>
                      <a:pt x="72" y="51"/>
                    </a:cubicBezTo>
                    <a:cubicBezTo>
                      <a:pt x="80" y="49"/>
                      <a:pt x="117" y="37"/>
                      <a:pt x="120" y="27"/>
                    </a:cubicBezTo>
                    <a:cubicBezTo>
                      <a:pt x="122" y="20"/>
                      <a:pt x="109" y="16"/>
                      <a:pt x="104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182760" y="2314080"/>
              <a:ext cx="260280" cy="29880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72" y="20"/>
                  </a:moveTo>
                  <a:cubicBezTo>
                    <a:pt x="80" y="23"/>
                    <a:pt x="90" y="22"/>
                    <a:pt x="96" y="28"/>
                  </a:cubicBezTo>
                  <a:cubicBezTo>
                    <a:pt x="120" y="52"/>
                    <a:pt x="82" y="67"/>
                    <a:pt x="128" y="36"/>
                  </a:cubicBezTo>
                  <a:cubicBezTo>
                    <a:pt x="119" y="30"/>
                    <a:pt x="86" y="0"/>
                    <a:pt x="72" y="28"/>
                  </a:cubicBezTo>
                  <a:cubicBezTo>
                    <a:pt x="68" y="36"/>
                    <a:pt x="88" y="33"/>
                    <a:pt x="96" y="36"/>
                  </a:cubicBezTo>
                  <a:cubicBezTo>
                    <a:pt x="102" y="38"/>
                    <a:pt x="107" y="41"/>
                    <a:pt x="112" y="44"/>
                  </a:cubicBezTo>
                  <a:lnTo>
                    <a:pt x="48" y="156"/>
                  </a:lnTo>
                  <a:lnTo>
                    <a:pt x="0" y="108"/>
                  </a:lnTo>
                  <a:lnTo>
                    <a:pt x="48" y="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189080" y="3860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面结构模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3080" y="486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间结构模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20720" y="566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镜下细胞核的照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987640" y="0"/>
            <a:ext cx="6155640" cy="4723920"/>
            <a:chOff x="2987640" y="0"/>
            <a:chExt cx="6155640" cy="472392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2987640" y="255960"/>
              <a:ext cx="5969520" cy="4467960"/>
            </a:xfrm>
            <a:prstGeom prst="rect">
              <a:avLst/>
            </a:prstGeom>
            <a:ln w="28440">
              <a:solidFill>
                <a:srgbClr val="ff6600"/>
              </a:solidFill>
              <a:miter/>
            </a:ln>
          </p:spPr>
        </p:pic>
        <p:grpSp>
          <p:nvGrpSpPr>
            <p:cNvPr id="242" name=""/>
            <p:cNvGrpSpPr/>
            <p:nvPr/>
          </p:nvGrpSpPr>
          <p:grpSpPr>
            <a:xfrm>
              <a:off x="2987640" y="0"/>
              <a:ext cx="6155640" cy="4172400"/>
              <a:chOff x="2987640" y="0"/>
              <a:chExt cx="6155640" cy="4172400"/>
            </a:xfrm>
          </p:grpSpPr>
          <p:sp>
            <p:nvSpPr>
              <p:cNvPr id="243" name=""/>
              <p:cNvSpPr/>
              <p:nvPr/>
            </p:nvSpPr>
            <p:spPr>
              <a:xfrm>
                <a:off x="4271760" y="910080"/>
                <a:ext cx="830880" cy="22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87640" y="454680"/>
                <a:ext cx="143568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Arial"/>
                  </a:rPr>
                  <a:t>核膜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839640" y="682560"/>
                <a:ext cx="829440" cy="759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688440" y="3717720"/>
                <a:ext cx="907200" cy="454680"/>
                <a:chOff x="6688440" y="3717720"/>
                <a:chExt cx="907200" cy="454680"/>
              </a:xfrm>
            </p:grpSpPr>
            <p:sp>
              <p:nvSpPr>
                <p:cNvPr id="247" name=""/>
                <p:cNvSpPr/>
                <p:nvPr/>
              </p:nvSpPr>
              <p:spPr>
                <a:xfrm flipV="1">
                  <a:off x="6688440" y="3717720"/>
                  <a:ext cx="83052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688440" y="3717720"/>
                  <a:ext cx="907200" cy="45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 flipH="1">
                <a:off x="4194720" y="2275560"/>
                <a:ext cx="1058760" cy="106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79840" y="0"/>
                <a:ext cx="196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Arial"/>
                  </a:rPr>
                  <a:t>染色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56400" y="3337920"/>
                <a:ext cx="1586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Arial"/>
                  </a:rPr>
                  <a:t>核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87640" y="3263040"/>
                <a:ext cx="1435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Arial"/>
                  </a:rPr>
                  <a:t>核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8496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47640" y="260280"/>
            <a:ext cx="66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二、细胞核的结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206064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细胞核由哪几部分构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它们的作用分别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观察讨论核膜与细胞膜有何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体会生物学中结构与功能相适应的观点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14037" t="73863" r="55693" b="5339"/>
          <a:stretch/>
        </p:blipFill>
        <p:spPr>
          <a:xfrm>
            <a:off x="0" y="260280"/>
            <a:ext cx="3780000" cy="4111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340000" y="76500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49400" y="149688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46240" y="2192400"/>
            <a:ext cx="136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627280" y="3500280"/>
            <a:ext cx="48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549360"/>
            <a:ext cx="612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膜（双层膜，把核内物质与细胞质分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1268280"/>
            <a:ext cx="670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染色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2060640"/>
            <a:ext cx="58676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仁（与某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合成以及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形成有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3357720"/>
            <a:ext cx="58676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孔（实现核质之间频繁的物质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信息交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1680" y="395280"/>
            <a:ext cx="5735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67" name=""/>
          <p:cNvSpPr/>
          <p:nvPr/>
        </p:nvSpPr>
        <p:spPr>
          <a:xfrm>
            <a:off x="5967360" y="2838600"/>
            <a:ext cx="17845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2781360"/>
            <a:ext cx="11649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1700280"/>
            <a:ext cx="1314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08360" y="2276640"/>
            <a:ext cx="387360" cy="393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356000" y="3429000"/>
            <a:ext cx="1656000" cy="696960"/>
            <a:chOff x="4356000" y="3429000"/>
            <a:chExt cx="1656000" cy="696960"/>
          </a:xfrm>
        </p:grpSpPr>
        <p:sp>
          <p:nvSpPr>
            <p:cNvPr id="272" name=""/>
            <p:cNvSpPr/>
            <p:nvPr/>
          </p:nvSpPr>
          <p:spPr>
            <a:xfrm flipH="1">
              <a:off x="5651280" y="3429000"/>
              <a:ext cx="360360" cy="523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356000" y="3429000"/>
              <a:ext cx="1656000" cy="6969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051680" y="44280"/>
            <a:ext cx="13366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141720"/>
            <a:ext cx="15127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380360" y="549360"/>
            <a:ext cx="387360" cy="4730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染色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5280" y="1268280"/>
            <a:ext cx="244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关于染色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3400" y="105264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主要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1760" y="981000"/>
            <a:ext cx="37047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DNA+</a:t>
            </a: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蛋白质</a:t>
            </a: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染色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00400" y="1967040"/>
            <a:ext cx="2923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易被碱性染料染成深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63640" y="4941720"/>
            <a:ext cx="5256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同一物质在细胞的不同时期的两种不同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27400" y="2997360"/>
            <a:ext cx="39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染色质和染色体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3716280"/>
            <a:ext cx="5688000" cy="581400"/>
            <a:chOff x="0" y="3716280"/>
            <a:chExt cx="5688000" cy="581400"/>
          </a:xfrm>
        </p:grpSpPr>
        <p:sp>
          <p:nvSpPr>
            <p:cNvPr id="286" name=""/>
            <p:cNvSpPr/>
            <p:nvPr/>
          </p:nvSpPr>
          <p:spPr>
            <a:xfrm>
              <a:off x="0" y="371628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染色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1640" y="3933720"/>
              <a:ext cx="29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771640" y="342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度螺旋、变短变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65292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771280" y="4076640"/>
            <a:ext cx="3024720" cy="543240"/>
            <a:chOff x="2771280" y="4076640"/>
            <a:chExt cx="3024720" cy="543240"/>
          </a:xfrm>
        </p:grpSpPr>
        <p:sp>
          <p:nvSpPr>
            <p:cNvPr id="291" name=""/>
            <p:cNvSpPr/>
            <p:nvPr/>
          </p:nvSpPr>
          <p:spPr>
            <a:xfrm flipH="1">
              <a:off x="2771280" y="4076640"/>
              <a:ext cx="29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1640" y="422100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解开螺旋、恢复细长丝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79320" y="44146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分裂间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80120" y="43387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分裂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1938" t="1839" r="2726" b="3779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6411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、细胞核的功能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635280" y="981000"/>
            <a:ext cx="1917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细胞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染色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细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80000" y="1125360"/>
            <a:ext cx="3124440" cy="4038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02280" y="1949400"/>
            <a:ext cx="2448000" cy="321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40320" y="2527200"/>
            <a:ext cx="1857600" cy="247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93040" y="3021120"/>
            <a:ext cx="1434960" cy="181296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46840" y="3598920"/>
            <a:ext cx="1013040" cy="106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08800" y="129060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93040" y="261000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染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08800" y="20318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细胞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76920" y="3186000"/>
            <a:ext cx="11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华文细黑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04000" y="371628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50920" y="1125360"/>
            <a:ext cx="3352680" cy="4038480"/>
            <a:chOff x="250920" y="1125360"/>
            <a:chExt cx="3352680" cy="4038480"/>
          </a:xfrm>
        </p:grpSpPr>
        <p:sp>
          <p:nvSpPr>
            <p:cNvPr id="308" name=""/>
            <p:cNvSpPr/>
            <p:nvPr/>
          </p:nvSpPr>
          <p:spPr>
            <a:xfrm>
              <a:off x="250920" y="1125360"/>
              <a:ext cx="3352680" cy="4038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3200" y="1582560"/>
              <a:ext cx="2819520" cy="3352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5480" y="2420640"/>
              <a:ext cx="12193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27080" y="2420640"/>
              <a:ext cx="1143000" cy="19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6200" y="1353960"/>
              <a:ext cx="12193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41280" y="1963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细黑"/>
                </a:rPr>
                <a:t>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1800" y="29541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细黑"/>
                </a:rPr>
                <a:t>动物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79720" y="2954160"/>
              <a:ext cx="76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华文细黑"/>
                </a:rPr>
                <a:t>植物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93920" y="1201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华文细黑"/>
                </a:rPr>
                <a:t>生物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50920" y="260280"/>
            <a:ext cx="8459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ahoma"/>
              </a:rPr>
              <a:t>按下图方法，用图示表示下列概念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在细胞核中，与其功能有关的最重要的物质是什么？为什么？这种物质位于什么结构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620640"/>
            <a:ext cx="7634520" cy="181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细胞核中，与其功能有关的最重要的物质    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原因从两方面理解：在遗传和代谢方面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5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蛋白质紧密结合成染色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78520" y="234936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细胞核的功能完整的表述应该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8680" y="3838680"/>
            <a:ext cx="50450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细胞核是遗传信息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是细胞代谢和遗传的控制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30492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核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27432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核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79640" y="1413000"/>
            <a:ext cx="13716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染色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3716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核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533520"/>
            <a:ext cx="152640" cy="2361960"/>
          </a:xfrm>
          <a:custGeom>
            <a:avLst/>
            <a:gdLst>
              <a:gd name="textAreaLeft" fmla="*/ 97560 w 152640"/>
              <a:gd name="textAreaRight" fmla="*/ 15300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螺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缩短变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10080" y="14479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2682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1735200"/>
            <a:ext cx="14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175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1143000"/>
            <a:ext cx="13539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ＤＮ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16765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04960" y="175248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53880" y="2057400"/>
            <a:ext cx="9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2080" y="2057400"/>
            <a:ext cx="10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裂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1752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旋，恢复丝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9280" y="380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楷体_GB2312"/>
                <a:ea typeface="楷体_GB2312"/>
              </a:rPr>
              <a:t>（双层膜、有核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76360" y="3429000"/>
            <a:ext cx="583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完整理解细胞核的功能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24280"/>
            <a:ext cx="8243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核是细胞代谢和遗传的控制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遗传信息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447920" y="4800600"/>
            <a:ext cx="5254200" cy="810000"/>
            <a:chOff x="1447920" y="4800600"/>
            <a:chExt cx="5254200" cy="810000"/>
          </a:xfrm>
        </p:grpSpPr>
        <p:sp>
          <p:nvSpPr>
            <p:cNvPr id="342" name=""/>
            <p:cNvSpPr/>
            <p:nvPr/>
          </p:nvSpPr>
          <p:spPr>
            <a:xfrm>
              <a:off x="1447920" y="4953240"/>
              <a:ext cx="152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结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037680" y="4800600"/>
              <a:ext cx="2143080" cy="533520"/>
              <a:chOff x="3037680" y="4800600"/>
              <a:chExt cx="2143080" cy="533520"/>
            </a:xfrm>
          </p:grpSpPr>
          <p:sp>
            <p:nvSpPr>
              <p:cNvPr id="344" name=""/>
              <p:cNvSpPr/>
              <p:nvPr/>
            </p:nvSpPr>
            <p:spPr>
              <a:xfrm>
                <a:off x="3037680" y="5334120"/>
                <a:ext cx="214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9760" y="4800600"/>
                <a:ext cx="131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相适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5388480" y="5029200"/>
              <a:ext cx="131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功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4360" y="836640"/>
            <a:ext cx="7948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关于细胞核的说法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正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细胞核是遗传物质储存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细胞核控制细胞的代谢和遗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细胞核位于细胞的正中央，故它是细胞的            控制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存在于细胞核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的主要化学成分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蛋白质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蛋白质　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蛋白质和脂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核内行使遗传功能的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膜　　　　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质　　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132000" y="0"/>
            <a:ext cx="32194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巩固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49" name=""/>
          <p:cNvSpPr/>
          <p:nvPr/>
        </p:nvSpPr>
        <p:spPr>
          <a:xfrm>
            <a:off x="7525440" y="83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24720" y="3427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0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对细胞核的功能的阐述中，较为全面的是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遗传信息库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细胞代谢和遗传的控制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正确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没有细胞核，细胞就不能分裂和生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4480" y="1557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科学家将雌黑鼠乳腺细胞核移入白鼠去核的卵细胞内，待发育成早期胚胎后移植入褐鼠的子宫内，该褐鼠产下小鼠的体色和性别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黑雌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褐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白雄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黑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4920" y="3068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人的红细胞和精子的寿命都比较短，这一事实体现了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核质的相互依存　　　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境因素对细胞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特定的遗传物质在起决定作用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细胞的功能对其寿命起决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520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395280" y="2060640"/>
          <a:ext cx="3965760" cy="1828800"/>
        </p:xfrm>
        <a:graphic>
          <a:graphicData uri="http://schemas.openxmlformats.org/drawingml/2006/table">
            <a:tbl>
              <a:tblPr/>
              <a:tblGrid>
                <a:gridCol w="1028880"/>
                <a:gridCol w="2936880"/>
              </a:tblGrid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细胞无核部分的存活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52280" y="68580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了研究细胞核是否为活细胞所必须，一位生物学家做了这样的实验。他研究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细胞，把每个细胞都分成两部分，一部分含有细胞核，另一部分没有细胞核。所有的细胞都放在一定的相同的条件下培养。他得到下面的实验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0" y="1844640"/>
          <a:ext cx="4191120" cy="2065320"/>
        </p:xfrm>
        <a:graphic>
          <a:graphicData uri="http://schemas.openxmlformats.org/drawingml/2006/table">
            <a:tbl>
              <a:tblPr/>
              <a:tblGrid>
                <a:gridCol w="1066680"/>
                <a:gridCol w="3124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细胞有核部分的存活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514600" y="120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技能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39625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细胞无核部分随着培养天数的增加，死亡个数迅速增加，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就没有存活的了，这是因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48200" y="5589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隶书"/>
              </a:rPr>
              <a:t>为什么有核细胞也有死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4005360"/>
            <a:ext cx="82072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没有细胞核，细胞的生命活动就无法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9080" y="4797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细胞有核部分存活个数和时间都要比无核部分多和长，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49760" y="4724280"/>
            <a:ext cx="48441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细胞核对于细胞的生命活动是不可缺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4005360"/>
            <a:ext cx="83818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细胞有核部分出现死亡现象的可能原因有两个方面：一是实验过程中人为因素对细胞造成了伤害，导致部分细胞死亡；二是细胞的正常凋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286000" y="2286000"/>
            <a:ext cx="45720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尝试构建细胞结构模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990720"/>
            <a:ext cx="4114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动动手比比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84720" y="345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细胞核的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58440" y="14986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绝大多数真核生物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细胞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8160" y="249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多数是球形或卵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19280" y="1484280"/>
            <a:ext cx="1516320" cy="3745080"/>
            <a:chOff x="1619280" y="1484280"/>
            <a:chExt cx="1516320" cy="3745080"/>
          </a:xfrm>
        </p:grpSpPr>
        <p:sp>
          <p:nvSpPr>
            <p:cNvPr id="51" name=""/>
            <p:cNvSpPr/>
            <p:nvPr/>
          </p:nvSpPr>
          <p:spPr>
            <a:xfrm>
              <a:off x="1619280" y="1484280"/>
              <a:ext cx="144360" cy="3745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97560 h 3745080"/>
                <a:gd name="textAreaBottom" fmla="*/ 364752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007720" y="1557360"/>
              <a:ext cx="1127880" cy="3316680"/>
              <a:chOff x="2007720" y="1557360"/>
              <a:chExt cx="1127880" cy="3316680"/>
            </a:xfrm>
          </p:grpSpPr>
          <p:sp>
            <p:nvSpPr>
              <p:cNvPr id="53" name=""/>
              <p:cNvSpPr/>
              <p:nvPr/>
            </p:nvSpPr>
            <p:spPr>
              <a:xfrm>
                <a:off x="2223360" y="155736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ahoma"/>
                    <a:ea typeface="华文楷体"/>
                  </a:rPr>
                  <a:t>分布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152080" y="249228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ahoma"/>
                    <a:ea typeface="华文楷体"/>
                  </a:rPr>
                  <a:t>形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07720" y="429264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ahoma"/>
                    <a:ea typeface="华文楷体"/>
                  </a:rPr>
                  <a:t>数目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2771640" y="3357720"/>
            <a:ext cx="4798440" cy="3018600"/>
            <a:chOff x="2771640" y="3357720"/>
            <a:chExt cx="4798440" cy="3018600"/>
          </a:xfrm>
        </p:grpSpPr>
        <p:sp>
          <p:nvSpPr>
            <p:cNvPr id="57" name=""/>
            <p:cNvSpPr/>
            <p:nvPr/>
          </p:nvSpPr>
          <p:spPr>
            <a:xfrm>
              <a:off x="4083840" y="3357720"/>
              <a:ext cx="3486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、多数一个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如大多数生物的体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、有的没有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哺乳动物成熟的红细胞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植物韧皮部中的筛管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华文楷体"/>
                </a:rPr>
                <a:t>、有的多个，如人骨骼肌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3716280"/>
              <a:ext cx="216000" cy="2305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0120 h 2305080"/>
                <a:gd name="textAreaBottom" fmla="*/ 22449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713800" cy="648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604000" cy="56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16000" y="549360"/>
            <a:ext cx="8928000" cy="583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9280" y="907920"/>
          <a:ext cx="8964720" cy="4608720"/>
        </p:xfrm>
        <a:graphic>
          <a:graphicData uri="http://schemas.openxmlformats.org/drawingml/2006/table">
            <a:tbl>
              <a:tblPr/>
              <a:tblGrid>
                <a:gridCol w="2381400"/>
                <a:gridCol w="658332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实验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结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美西螈核移植实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伞藻嫁接与核移植实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蝾螈受精卵横缢实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变形虫切割及核移植实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771640" y="1844640"/>
            <a:ext cx="60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物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性状的遗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由细胞核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4724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细胞核是细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生命活动的控制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27813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物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形态结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建成主要与细胞核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2050920" y="501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2050920" y="306864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2124000" y="213372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3794"/>
                </a:moveTo>
                <a:lnTo>
                  <a:pt x="17820" y="10800"/>
                </a:lnTo>
                <a:lnTo>
                  <a:pt x="38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2050920" y="400536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0"/>
            <a:ext cx="29545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问题探究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8172360" y="5950080"/>
            <a:ext cx="441360" cy="380880"/>
          </a:xfrm>
          <a:custGeom>
            <a:avLst/>
            <a:gdLst>
              <a:gd name="textAreaLeft" fmla="*/ 24480 w 441360"/>
              <a:gd name="textAreaRight" fmla="*/ 416880 w 441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027" h="21600">
                <a:moveTo>
                  <a:pt x="0" y="0"/>
                </a:moveTo>
                <a:lnTo>
                  <a:pt x="25027" y="0"/>
                </a:lnTo>
                <a:lnTo>
                  <a:pt x="25027" y="21600"/>
                </a:lnTo>
                <a:lnTo>
                  <a:pt x="0" y="21600"/>
                </a:lnTo>
                <a:close/>
              </a:path>
              <a:path fill="lightenLess" w="25027" h="21600">
                <a:moveTo>
                  <a:pt x="0" y="0"/>
                </a:moveTo>
                <a:lnTo>
                  <a:pt x="25027" y="0"/>
                </a:lnTo>
                <a:lnTo>
                  <a:pt x="23627" y="1400"/>
                </a:lnTo>
                <a:lnTo>
                  <a:pt x="1400" y="1400"/>
                </a:lnTo>
                <a:close/>
              </a:path>
              <a:path fill="darken" w="25027" h="21600">
                <a:moveTo>
                  <a:pt x="25027" y="0"/>
                </a:moveTo>
                <a:lnTo>
                  <a:pt x="25027" y="21600"/>
                </a:lnTo>
                <a:lnTo>
                  <a:pt x="23627" y="20200"/>
                </a:lnTo>
                <a:lnTo>
                  <a:pt x="23627" y="1400"/>
                </a:lnTo>
                <a:close/>
              </a:path>
              <a:path fill="darkenLess" w="25027" h="21600">
                <a:moveTo>
                  <a:pt x="25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27" y="20200"/>
                </a:lnTo>
                <a:close/>
              </a:path>
              <a:path fill="lighten" w="25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27" h="21600">
                <a:moveTo>
                  <a:pt x="5507" y="3794"/>
                </a:moveTo>
                <a:lnTo>
                  <a:pt x="19520" y="10800"/>
                </a:lnTo>
                <a:lnTo>
                  <a:pt x="55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371628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细胞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控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着细胞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分裂、分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116000" y="692280"/>
            <a:ext cx="3989160" cy="4593600"/>
            <a:chOff x="1116000" y="692280"/>
            <a:chExt cx="3989160" cy="4593600"/>
          </a:xfrm>
        </p:grpSpPr>
        <p:sp>
          <p:nvSpPr>
            <p:cNvPr id="75" name=""/>
            <p:cNvSpPr/>
            <p:nvPr/>
          </p:nvSpPr>
          <p:spPr>
            <a:xfrm>
              <a:off x="1535400" y="1164240"/>
              <a:ext cx="629640" cy="607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45280" y="1366920"/>
              <a:ext cx="209880" cy="20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84640" y="1164240"/>
              <a:ext cx="629280" cy="607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4880" y="1366920"/>
              <a:ext cx="209880" cy="20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04880" y="3326400"/>
              <a:ext cx="209880" cy="20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45280" y="2516400"/>
              <a:ext cx="0" cy="67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5520" y="3393360"/>
              <a:ext cx="629280" cy="6073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64000" y="2583360"/>
              <a:ext cx="0" cy="67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024280" y="4676760"/>
              <a:ext cx="631080" cy="609120"/>
              <a:chOff x="2024280" y="4676760"/>
              <a:chExt cx="631080" cy="609120"/>
            </a:xfrm>
          </p:grpSpPr>
          <p:sp>
            <p:nvSpPr>
              <p:cNvPr id="84" name=""/>
              <p:cNvSpPr/>
              <p:nvPr/>
            </p:nvSpPr>
            <p:spPr>
              <a:xfrm>
                <a:off x="2024280" y="4676760"/>
                <a:ext cx="631080" cy="60912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234160" y="4880520"/>
                <a:ext cx="209880" cy="20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745280" y="3731400"/>
              <a:ext cx="700200" cy="47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74200" y="3934080"/>
              <a:ext cx="839160" cy="27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74560" y="4204800"/>
              <a:ext cx="0" cy="47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85120" y="692280"/>
              <a:ext cx="14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黑美西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65240" y="69228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白美西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04200" y="19058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卵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6000" y="1905840"/>
              <a:ext cx="14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胚胎细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34920" y="2650320"/>
              <a:ext cx="14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去细胞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14760" y="265032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取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0"/>
            <a:ext cx="9144000" cy="5532480"/>
            <a:chOff x="0" y="0"/>
            <a:chExt cx="9144000" cy="5532480"/>
          </a:xfrm>
        </p:grpSpPr>
        <p:sp>
          <p:nvSpPr>
            <p:cNvPr id="96" name=""/>
            <p:cNvSpPr/>
            <p:nvPr/>
          </p:nvSpPr>
          <p:spPr>
            <a:xfrm>
              <a:off x="0" y="0"/>
              <a:ext cx="5472000" cy="576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资料１　美西螈核移植实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5651640" y="73080"/>
              <a:ext cx="3492360" cy="2597040"/>
            </a:xfrm>
            <a:prstGeom prst="rect">
              <a:avLst/>
            </a:prstGeom>
            <a:ln w="28440">
              <a:solidFill>
                <a:srgbClr val="ff66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5610240" y="2881440"/>
              <a:ext cx="3533760" cy="2651040"/>
            </a:xfrm>
            <a:prstGeom prst="rect">
              <a:avLst/>
            </a:prstGeom>
            <a:ln w="28440">
              <a:solidFill>
                <a:srgbClr val="ff6600"/>
              </a:solidFill>
              <a:miter/>
            </a:ln>
          </p:spPr>
        </p:pic>
      </p:grpSp>
      <p:sp>
        <p:nvSpPr>
          <p:cNvPr id="99" name=""/>
          <p:cNvSpPr/>
          <p:nvPr/>
        </p:nvSpPr>
        <p:spPr>
          <a:xfrm>
            <a:off x="2771640" y="494172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653000"/>
            <a:ext cx="22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黑色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516640"/>
            <a:ext cx="88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西螈的肤色有谁控制？生物体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由谁控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08360" y="4508640"/>
            <a:ext cx="64764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>
            <a:hlinkClick r:id="rId7" action="ppaction://hlinksldjump"/>
          </p:cNvPr>
          <p:cNvSpPr/>
          <p:nvPr/>
        </p:nvSpPr>
        <p:spPr>
          <a:xfrm>
            <a:off x="8675640" y="6237360"/>
            <a:ext cx="468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9640" y="4502160"/>
            <a:ext cx="1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734080"/>
            <a:ext cx="8028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生物的性状的遗传是由细胞核控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62280" y="1724040"/>
            <a:ext cx="986040" cy="127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081320" y="2209320"/>
            <a:ext cx="15264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资料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　蝾螈受精卵横缢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9249" t="9827" r="80093" b="71700"/>
          <a:stretch/>
        </p:blipFill>
        <p:spPr>
          <a:xfrm>
            <a:off x="1757520" y="1676520"/>
            <a:ext cx="1153800" cy="144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71600" y="3124080"/>
            <a:ext cx="20574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头发将蝾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受精卵横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保证一边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一边无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7680" y="1905120"/>
            <a:ext cx="1066680" cy="916920"/>
            <a:chOff x="1147680" y="1905120"/>
            <a:chExt cx="1066680" cy="916920"/>
          </a:xfrm>
        </p:grpSpPr>
        <p:grpSp>
          <p:nvGrpSpPr>
            <p:cNvPr id="112" name=""/>
            <p:cNvGrpSpPr/>
            <p:nvPr/>
          </p:nvGrpSpPr>
          <p:grpSpPr>
            <a:xfrm>
              <a:off x="1147680" y="2362320"/>
              <a:ext cx="1066680" cy="459720"/>
              <a:chOff x="1147680" y="2362320"/>
              <a:chExt cx="1066680" cy="459720"/>
            </a:xfrm>
          </p:grpSpPr>
          <p:sp>
            <p:nvSpPr>
              <p:cNvPr id="113" name=""/>
              <p:cNvSpPr/>
              <p:nvPr/>
            </p:nvSpPr>
            <p:spPr>
              <a:xfrm>
                <a:off x="1147680" y="2362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有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33480" y="2590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147680" y="1905120"/>
              <a:ext cx="1066680" cy="459720"/>
              <a:chOff x="1147680" y="1905120"/>
              <a:chExt cx="1066680" cy="459720"/>
            </a:xfrm>
          </p:grpSpPr>
          <p:sp>
            <p:nvSpPr>
              <p:cNvPr id="116" name=""/>
              <p:cNvSpPr/>
              <p:nvPr/>
            </p:nvSpPr>
            <p:spPr>
              <a:xfrm>
                <a:off x="1147680" y="1905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无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1337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2443320" y="1752480"/>
            <a:ext cx="1371600" cy="1145520"/>
            <a:chOff x="2443320" y="1752480"/>
            <a:chExt cx="1371600" cy="1145520"/>
          </a:xfrm>
        </p:grpSpPr>
        <p:grpSp>
          <p:nvGrpSpPr>
            <p:cNvPr id="119" name=""/>
            <p:cNvGrpSpPr/>
            <p:nvPr/>
          </p:nvGrpSpPr>
          <p:grpSpPr>
            <a:xfrm>
              <a:off x="2443320" y="1752480"/>
              <a:ext cx="1371600" cy="459720"/>
              <a:chOff x="2443320" y="1752480"/>
              <a:chExt cx="1371600" cy="459720"/>
            </a:xfrm>
          </p:grpSpPr>
          <p:sp>
            <p:nvSpPr>
              <p:cNvPr id="120" name=""/>
              <p:cNvSpPr/>
              <p:nvPr/>
            </p:nvSpPr>
            <p:spPr>
              <a:xfrm>
                <a:off x="2671920" y="17524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不分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443320" y="1981080"/>
                <a:ext cx="3049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443320" y="2438280"/>
              <a:ext cx="1079640" cy="459720"/>
              <a:chOff x="2443320" y="2438280"/>
              <a:chExt cx="1079640" cy="459720"/>
            </a:xfrm>
          </p:grpSpPr>
          <p:sp>
            <p:nvSpPr>
              <p:cNvPr id="123" name=""/>
              <p:cNvSpPr/>
              <p:nvPr/>
            </p:nvSpPr>
            <p:spPr>
              <a:xfrm>
                <a:off x="2684520" y="24382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分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43320" y="2590920"/>
                <a:ext cx="3049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3505320" y="3124080"/>
            <a:ext cx="2057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有核一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细胞核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无核的一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2362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581280" y="1143000"/>
            <a:ext cx="838440" cy="914400"/>
            <a:chOff x="3581280" y="1143000"/>
            <a:chExt cx="838440" cy="914400"/>
          </a:xfrm>
        </p:grpSpPr>
        <p:sp>
          <p:nvSpPr>
            <p:cNvPr id="128" name=""/>
            <p:cNvSpPr/>
            <p:nvPr/>
          </p:nvSpPr>
          <p:spPr>
            <a:xfrm>
              <a:off x="3581280" y="1143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有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038480" y="16002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381560" y="1600200"/>
            <a:ext cx="2628000" cy="1679400"/>
            <a:chOff x="4381560" y="1600200"/>
            <a:chExt cx="2628000" cy="1679400"/>
          </a:xfrm>
        </p:grpSpPr>
        <p:grpSp>
          <p:nvGrpSpPr>
            <p:cNvPr id="131" name=""/>
            <p:cNvGrpSpPr/>
            <p:nvPr/>
          </p:nvGrpSpPr>
          <p:grpSpPr>
            <a:xfrm>
              <a:off x="4495680" y="1600200"/>
              <a:ext cx="2513880" cy="1679400"/>
              <a:chOff x="4495680" y="1600200"/>
              <a:chExt cx="2513880" cy="1679400"/>
            </a:xfrm>
          </p:grpSpPr>
          <p:pic>
            <p:nvPicPr>
              <p:cNvPr id="132" name="" descr=""/>
              <p:cNvPicPr/>
              <p:nvPr/>
            </p:nvPicPr>
            <p:blipFill>
              <a:blip r:embed="rId3"/>
              <a:srcRect l="9249" t="49192" r="80093" b="33260"/>
              <a:stretch/>
            </p:blipFill>
            <p:spPr>
              <a:xfrm>
                <a:off x="5598360" y="1600200"/>
                <a:ext cx="141120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4495680" y="213372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20520" y="269244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381560" y="1676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始分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80160" y="1397160"/>
            <a:ext cx="2158920" cy="2031840"/>
            <a:chOff x="6680160" y="1397160"/>
            <a:chExt cx="2158920" cy="2031840"/>
          </a:xfrm>
        </p:grpSpPr>
        <p:grpSp>
          <p:nvGrpSpPr>
            <p:cNvPr id="137" name=""/>
            <p:cNvGrpSpPr/>
            <p:nvPr/>
          </p:nvGrpSpPr>
          <p:grpSpPr>
            <a:xfrm>
              <a:off x="7988400" y="1397160"/>
              <a:ext cx="685440" cy="1143000"/>
              <a:chOff x="7988400" y="1397160"/>
              <a:chExt cx="685440" cy="1143000"/>
            </a:xfrm>
          </p:grpSpPr>
          <p:pic>
            <p:nvPicPr>
              <p:cNvPr id="138" name="" descr=""/>
              <p:cNvPicPr/>
              <p:nvPr/>
            </p:nvPicPr>
            <p:blipFill>
              <a:blip r:embed="rId4"/>
              <a:srcRect l="68682" t="80093" r="23532" b="9232"/>
              <a:stretch/>
            </p:blipFill>
            <p:spPr>
              <a:xfrm>
                <a:off x="8028360" y="1397160"/>
                <a:ext cx="64548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5"/>
              <a:srcRect l="68682" t="80093" r="28887" b="18502"/>
              <a:stretch/>
            </p:blipFill>
            <p:spPr>
              <a:xfrm>
                <a:off x="7988400" y="1962720"/>
                <a:ext cx="120960" cy="9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" descr=""/>
            <p:cNvPicPr/>
            <p:nvPr/>
          </p:nvPicPr>
          <p:blipFill>
            <a:blip r:embed="rId6"/>
            <a:srcRect l="75986" t="81249" r="14281" b="10641"/>
            <a:stretch/>
          </p:blipFill>
          <p:spPr>
            <a:xfrm>
              <a:off x="7912080" y="2362320"/>
              <a:ext cx="92700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6705720" y="1600200"/>
              <a:ext cx="1523880" cy="459720"/>
              <a:chOff x="6705720" y="1600200"/>
              <a:chExt cx="1523880" cy="459720"/>
            </a:xfrm>
          </p:grpSpPr>
          <p:sp>
            <p:nvSpPr>
              <p:cNvPr id="142" name=""/>
              <p:cNvSpPr/>
              <p:nvPr/>
            </p:nvSpPr>
            <p:spPr>
              <a:xfrm>
                <a:off x="6781680" y="205740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160020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发育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慢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680160" y="2362320"/>
              <a:ext cx="1523880" cy="459720"/>
              <a:chOff x="6680160" y="2362320"/>
              <a:chExt cx="1523880" cy="459720"/>
            </a:xfrm>
          </p:grpSpPr>
          <p:sp>
            <p:nvSpPr>
              <p:cNvPr id="145" name=""/>
              <p:cNvSpPr/>
              <p:nvPr/>
            </p:nvSpPr>
            <p:spPr>
              <a:xfrm>
                <a:off x="6743520" y="2819520"/>
                <a:ext cx="121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80160" y="236232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发育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快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4920" y="1981080"/>
            <a:ext cx="761760" cy="676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253692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蝾螈的受精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3320" y="2362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8" action="ppaction://hlinksldjump"/>
          </p:cNvPr>
          <p:cNvSpPr/>
          <p:nvPr/>
        </p:nvSpPr>
        <p:spPr>
          <a:xfrm>
            <a:off x="831708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229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细胞核与细胞的分裂、分化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941720"/>
            <a:ext cx="7696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没有细胞核，细胞就不能分裂、分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816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资料３  变形虫切割、核移植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5444640"/>
            <a:ext cx="6084720" cy="62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资料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得出什么结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317080" y="5950080"/>
            <a:ext cx="46800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5445000"/>
            <a:ext cx="7596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细胞核是细胞生命活动的控制中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216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伞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125360"/>
          <a:ext cx="5940360" cy="49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5940360" cy="49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6156360" y="1916280"/>
            <a:ext cx="1106280" cy="3025080"/>
            <a:chOff x="6156360" y="1916280"/>
            <a:chExt cx="1106280" cy="3025080"/>
          </a:xfrm>
        </p:grpSpPr>
        <p:graphicFrame>
          <p:nvGraphicFramePr>
            <p:cNvPr id="162" name=""/>
            <p:cNvGraphicFramePr/>
            <p:nvPr/>
          </p:nvGraphicFramePr>
          <p:xfrm>
            <a:off x="6156360" y="1916280"/>
            <a:ext cx="1106280" cy="3025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6360" y="1916280"/>
                      <a:ext cx="1106280" cy="30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6543360" y="4293720"/>
              <a:ext cx="142560" cy="21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V="1">
            <a:off x="7236000" y="1915920"/>
            <a:ext cx="647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328464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4437000"/>
            <a:ext cx="1368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02400" y="149076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帽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85000" y="4292640"/>
            <a:ext cx="12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假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细胞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28000" y="299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100080"/>
            <a:ext cx="9144000" cy="549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料４：伞藻嫁接和核移植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5724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588000" y="3141720"/>
            <a:ext cx="86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3500280"/>
            <a:ext cx="2160720" cy="20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楷体"/>
              </a:rPr>
              <a:t>1111111111111111111111111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3429000"/>
            <a:ext cx="2160720" cy="20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楷体"/>
              </a:rPr>
              <a:t>1111111111111111111111111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0"/>
            <a:ext cx="43927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资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：伞藻嫁接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1:40:23Z</dcterms:created>
  <dc:creator>杨芬</dc:creator>
  <dc:description/>
  <dc:language>en-US</dc:language>
  <cp:lastModifiedBy>杨芬</cp:lastModifiedBy>
  <dcterms:modified xsi:type="dcterms:W3CDTF">2007-11-07T06:57:50Z</dcterms:modified>
  <cp:revision>23</cp:revision>
  <dc:subject/>
  <dc:title>幻灯片 1</dc:title>
</cp:coreProperties>
</file>