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B36-F44C-43C2-8A7B-41BE4C43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4E2-1E96-4044-9B31-5004217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A69-E147-4D72-A852-8580302A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F7E-E1EC-427E-A5EA-8921C0D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011-6AA7-44C0-A6B2-A8F8A7F8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472-47B1-4E95-9E68-A51307D8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404-A1E9-47D7-99BC-7328BCE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F0E-6A46-4533-BC7B-DA3479F6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0BB-1078-49CA-8B51-2BD0F680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3EF-4697-43BD-9840-343CC04D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BDE-3F61-48B4-BBE5-4CC259C2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51E-1DF3-48D7-9E3E-FF0B9EF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5AF-D1E2-40C9-9E58-6106CE8344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0197" t="0" r="0" b="3653"/>
          <a:stretch/>
        </p:blipFill>
        <p:spPr>
          <a:xfrm>
            <a:off x="2195640" y="1676520"/>
            <a:ext cx="517212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522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内部就像一个繁忙的工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8380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车间：是一些具一定结构的细胞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关于叶绿体和线粒体结构与成分的叙述中错误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276720"/>
            <a:ext cx="761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者都与能量转换有关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者都具有双层膜结构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者的基质成分与功能不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者所含有的酶作用相同</a:t>
            </a:r>
            <a:r>
              <a:rPr b="1" lang="zh-CN" sz="4400" spc="-1" strike="noStrike">
                <a:solidFill>
                  <a:srgbClr val="ccff99"/>
                </a:solidFill>
                <a:latin typeface="Times New Roman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4210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20" y="178020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内  质  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6960" y="2781360"/>
            <a:ext cx="47527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单层膜，扩大了细胞内膜的面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54936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     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86040" y="354024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类  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28464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306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粗面型内质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62360" y="4038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滑面型内质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63520" y="2243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态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869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蛋白质合成和加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及脂质合成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4000" y="476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绝大多数动植物细胞都有内质网。细胞核附近较多，并与核膜有一定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77840" y="2276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单层膜结构连接而成的网状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848880" y="1828800"/>
            <a:ext cx="1642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内  质  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2440" y="4879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比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56360" y="1773360"/>
            <a:ext cx="2666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蛋白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装配车间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8900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520" y="40766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       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47520" y="5013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态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7340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00536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附着在内质网上或游离在细胞质 基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40280" y="5029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椭球形的粒状小体，无膜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597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905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520" y="157860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核  糖  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9079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比   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0"/>
            <a:ext cx="5256000" cy="3765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8440" y="5648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合成蛋白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09480" y="2514600"/>
            <a:ext cx="6629400" cy="413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228600"/>
            <a:ext cx="81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高尔基体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－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来自内质网的蛋白质进行加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和包装的“车间”及“发送站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23623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单层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765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      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836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动植物细胞中细胞核附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59000" y="1700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态结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8400" y="1773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扁平囊状结构，有大小囊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50028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功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141720"/>
            <a:ext cx="578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动物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细胞分泌物的形成有关，对蛋白质进行加工和转运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5373720"/>
            <a:ext cx="43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“加工工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848880" y="1523880"/>
            <a:ext cx="164268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高 尔 基 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7520" y="530064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比     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0" r="23947" b="0"/>
          <a:stretch/>
        </p:blipFill>
        <p:spPr>
          <a:xfrm>
            <a:off x="0" y="1913040"/>
            <a:ext cx="4114800" cy="4944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3720" y="442764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9625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胞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124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液泡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5335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液泡－－调节植物细胞内的环境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3160" y="1165320"/>
            <a:ext cx="61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使植物细胞保持坚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1337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单层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2160" y="3505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液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34290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640" y="4923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分布于成熟的植物细胞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92880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中心体－－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与细胞的有丝分裂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2461" r="41546" b="2260"/>
          <a:stretch/>
        </p:blipFill>
        <p:spPr>
          <a:xfrm>
            <a:off x="76320" y="289548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505320" y="198108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存在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动物细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和　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某些低等植物的细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e.g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团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4197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没有膜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92880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溶酶体－－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消化车间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2927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0" y="19890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单层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5445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：含有多种水解酶，分解衰   老损伤的细胞器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杀死入侵的病毒和病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838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双层膜：线粒体、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6286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层膜：内质网、高尔基体、液泡、溶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349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膜：核糖体、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733920"/>
            <a:ext cx="79261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原核生物：只有核糖体，无其他细胞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28600"/>
            <a:ext cx="4325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真核生物的细胞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2565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　细胞器之间的分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95280" y="12193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植物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2952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动物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209680"/>
            <a:ext cx="4724640" cy="4267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2133720"/>
            <a:ext cx="4724640" cy="4267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8954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核糖体　线粒体　　内质网　　高尔基体溶酶体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657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叶绿体液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3886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0"/>
            <a:ext cx="5791320" cy="1191240"/>
          </a:xfrm>
          <a:prstGeom prst="rect">
            <a:avLst/>
          </a:prstGeom>
          <a:solidFill>
            <a:srgbClr val="f5f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    </a:t>
            </a: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细胞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990720"/>
          <a:ext cx="9144000" cy="5891040"/>
        </p:xfrm>
        <a:graphic>
          <a:graphicData uri="http://schemas.openxmlformats.org/drawingml/2006/table">
            <a:tbl>
              <a:tblPr/>
              <a:tblGrid>
                <a:gridCol w="1487520"/>
                <a:gridCol w="1333440"/>
                <a:gridCol w="1657440"/>
                <a:gridCol w="1871640"/>
                <a:gridCol w="279396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膜结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   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   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主要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心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液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95280" y="-204480"/>
            <a:ext cx="3855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ffff"/>
              </a:solidFill>
              <a:latin typeface="Arial"/>
              <a:ea typeface="华文隶书"/>
            </a:endParaRPr>
          </a:p>
        </p:txBody>
      </p:sp>
      <p:sp>
        <p:nvSpPr>
          <p:cNvPr id="180" name=""/>
          <p:cNvSpPr/>
          <p:nvPr/>
        </p:nvSpPr>
        <p:spPr>
          <a:xfrm>
            <a:off x="1648080" y="17002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双层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48080" y="242100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双层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26840" y="378936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无膜结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31520" y="479736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无膜结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48080" y="3141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单层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8080" y="422100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单层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48080" y="5589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单层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48080" y="6165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单层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44600" y="17002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71520" y="55897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6760" y="23544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动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60000" y="31417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动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6760" y="37227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动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6760" y="42210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动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5480" y="61707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动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19440" y="4653000"/>
            <a:ext cx="17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动物和低等植物细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1800" y="1700280"/>
            <a:ext cx="135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光合作用的场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55760" y="249228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有氧呼吸主要场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2924280"/>
            <a:ext cx="24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有机物合成的车间加工和运输的通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5760" y="378936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蛋白质合成的场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360" y="422100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参与细胞分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27400" y="479736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参与细胞有丝分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533088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水和养料的仓库维持细胞形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5280" y="609300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水解酶的仓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155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基粒、基质、酶色素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227664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嵴、基质、酶、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D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530064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黑体"/>
              </a:rPr>
              <a:t>色素、糖类无机盐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0360" y="152280"/>
            <a:ext cx="26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各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PMingLiU"/>
              </a:rPr>
              <a:t>细胞器的比较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40984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674720"/>
            <a:ext cx="9144000" cy="5183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62560" y="0"/>
            <a:ext cx="51426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小结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识图说出下图各结构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名称和主要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89280" y="609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物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18480" y="6119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植物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-667080" y="1484280"/>
            <a:ext cx="152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植  物  细  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424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71640" y="-14400"/>
          <a:ext cx="8172360" cy="66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-14400"/>
                    <a:ext cx="817236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31472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质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62040" y="2849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液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72428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954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叶绿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00880" y="166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18440" y="2430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71080" y="2963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核糖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86920" y="403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4080" y="5151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细胞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27432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二　细胞器之间的协调配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14013" t="35559" r="18711" b="38598"/>
          <a:stretch/>
        </p:blipFill>
        <p:spPr>
          <a:xfrm>
            <a:off x="0" y="1052640"/>
            <a:ext cx="9144000" cy="557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76360" y="1890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分泌蛋白的合成和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ShockwaveFlash1"/>
          <p:cNvGraphicFramePr/>
          <p:nvPr/>
        </p:nvGraphicFramePr>
        <p:xfrm>
          <a:off x="12600" y="126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2600"/>
                    <a:ext cx="9144000" cy="6858000"/>
                  </a:xfrm>
                  <a:prstGeom prst="rect">
                    <a:avLst/>
                  </a:prstGeom>
                  <a:ln w="6336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981080" y="152280"/>
            <a:ext cx="6781680" cy="6248160"/>
            <a:chOff x="1981080" y="152280"/>
            <a:chExt cx="6781680" cy="624816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rcRect l="56617" t="6231" r="1477" b="65854"/>
            <a:stretch/>
          </p:blipFill>
          <p:spPr>
            <a:xfrm>
              <a:off x="1981080" y="152280"/>
              <a:ext cx="678168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981080" y="152280"/>
              <a:ext cx="1436040" cy="76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81080" y="5577840"/>
              <a:ext cx="877320" cy="7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447920" y="2438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981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囊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800600"/>
            <a:ext cx="2210040" cy="2057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能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752480" y="2133360"/>
            <a:ext cx="441972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152280" y="3733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交通枢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981080" y="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Times New Roman"/>
                <a:ea typeface="隶书"/>
              </a:rPr>
              <a:t>资料分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7002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糖体、内质网、高尔基体、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线粒体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细胞膜等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6960" y="765000"/>
            <a:ext cx="14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429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质网上的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152280" y="4267080"/>
            <a:ext cx="28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合成蛋白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429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加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囊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尔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4419720"/>
            <a:ext cx="29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进一步修饰加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囊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3657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009920" y="419112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蛋白质分泌到细胞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26920" y="5516640"/>
            <a:ext cx="7315200" cy="809640"/>
            <a:chOff x="826920" y="5516640"/>
            <a:chExt cx="7315200" cy="809640"/>
          </a:xfrm>
        </p:grpSpPr>
        <p:sp>
          <p:nvSpPr>
            <p:cNvPr id="260" name=""/>
            <p:cNvSpPr/>
            <p:nvPr/>
          </p:nvSpPr>
          <p:spPr>
            <a:xfrm>
              <a:off x="3978000" y="57448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07fb"/>
                  </a:solidFill>
                  <a:latin typeface="Times New Roman"/>
                </a:rPr>
                <a:t>线粒体供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6920" y="55926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6920" y="6126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80160" y="61261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42120" y="5516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79280" y="2997360"/>
            <a:ext cx="84963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此可见，细胞内的各种生物膜在功能上也既有分工，又有紧密的联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16765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泌蛋白的形成过程中所需要的细胞器和细胞结构有哪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4290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核糖体　内质网　高尔基体　　　线粒体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6206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胞器在哪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191628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进行多种化学反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3213000"/>
            <a:ext cx="6934320" cy="581400"/>
          </a:xfrm>
          <a:prstGeom prst="rect">
            <a:avLst/>
          </a:prstGeom>
          <a:solidFill>
            <a:srgbClr val="f5f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呈胶质状，由水、无机盐、脂质、糖类、氨基酸、核苷酸、多种酶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99240" y="2205000"/>
            <a:ext cx="4514040" cy="2925000"/>
            <a:chOff x="399240" y="2205000"/>
            <a:chExt cx="4514040" cy="2925000"/>
          </a:xfrm>
        </p:grpSpPr>
        <p:sp>
          <p:nvSpPr>
            <p:cNvPr id="49" name=""/>
            <p:cNvSpPr/>
            <p:nvPr/>
          </p:nvSpPr>
          <p:spPr>
            <a:xfrm>
              <a:off x="1258920" y="2205000"/>
              <a:ext cx="158760" cy="266688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7640" y="2276640"/>
              <a:ext cx="336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细胞质基质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47640" y="4365720"/>
              <a:ext cx="251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细胞器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9240" y="2333880"/>
              <a:ext cx="789840" cy="21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细胞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27432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三　细胞的生物膜系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76400" y="1724040"/>
            <a:ext cx="4114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胞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胞器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核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88160" y="6858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胞的生物膜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71840" y="202896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76360" y="457200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组成成分和结构相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和功能上紧密联系，进一步体现了细胞内各种结构间的协调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63760" y="8128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生物膜的化学组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186560" y="2060640"/>
            <a:ext cx="304920" cy="3124080"/>
          </a:xfrm>
          <a:custGeom>
            <a:avLst/>
            <a:gdLst>
              <a:gd name="textAreaLeft" fmla="*/ -360 w 304920"/>
              <a:gd name="textAreaRight" fmla="*/ 109800 w 3049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47880" y="1905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52680" y="342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糖   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99920" y="47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脂  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98560" y="42670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19520" y="373392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66840" y="2895480"/>
            <a:ext cx="2863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b5b"/>
                </a:solidFill>
                <a:latin typeface="Arial"/>
              </a:rPr>
              <a:t>细胞内的各种生物膜不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b5b"/>
                </a:solidFill>
                <a:latin typeface="Arial"/>
              </a:rPr>
              <a:t>在化学组成大致相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0b5b"/>
                </a:solidFill>
                <a:latin typeface="Arial"/>
              </a:rPr>
              <a:t>在结构上也相互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286000"/>
            <a:ext cx="83844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4360" y="1341360"/>
            <a:ext cx="7643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6402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№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细胞具有一个相对稳定的内部环境。在物质的运输与交换及信息传递中起决定性作用。</a:t>
            </a:r>
            <a:br>
              <a:rPr sz="3200"/>
            </a:br>
            <a:r>
              <a:rPr b="1" lang="zh-CN" sz="3200" spc="-1" strike="noStrike">
                <a:solidFill>
                  <a:srgbClr val="096402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№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大膜的面积，供酶、核糖体等附着在上面。使各种化学反应有序进行。</a:t>
            </a:r>
            <a:br>
              <a:rPr sz="3200"/>
            </a:br>
            <a:r>
              <a:rPr b="1" lang="zh-CN" sz="3200" spc="-1" strike="noStrike">
                <a:solidFill>
                  <a:srgbClr val="096402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№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细胞分隔成许多小区室，使各种化学反应能同时进行而不互相干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60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细胞的生物膜系统的功能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652320" y="1081080"/>
          <a:ext cx="7848720" cy="449568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生物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蛋白质（质量分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%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脂类（质量分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%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糖类（质量分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%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人红细胞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大鼠肝细胞核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内质网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含量很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线粒体外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含量很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线粒体内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含量很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1996560" y="409680"/>
            <a:ext cx="34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e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6e00"/>
                </a:solidFill>
                <a:latin typeface="华文中宋"/>
                <a:ea typeface="华文中宋"/>
              </a:rPr>
              <a:t>不同生物膜成分含量的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76360" y="5742000"/>
            <a:ext cx="685800" cy="792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15920" y="5797440"/>
            <a:ext cx="71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000"/>
                </a:solidFill>
                <a:latin typeface="华文中宋"/>
                <a:ea typeface="华文中宋"/>
              </a:rPr>
              <a:t>不同膜的化学组成及各成分的含量是否相同</a:t>
            </a:r>
            <a:r>
              <a:rPr b="0" lang="zh-CN" sz="2800" spc="-1" strike="noStrike">
                <a:solidFill>
                  <a:srgbClr val="005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348640" y="704880"/>
            <a:ext cx="361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组成生物膜系统的生物膜是指：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结构上直接相连的生物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的所有生物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单层膜的细胞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双层膜的细胞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24800" y="116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7fb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4640" y="3371760"/>
            <a:ext cx="844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种细胞器的部分生物膜是怎样转移到另一种细胞器的？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细胞质的流动到达特定部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高尔基体到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内质网直接到达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形成具有膜的小泡而转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40440" y="382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7fb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00160" y="509760"/>
            <a:ext cx="888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列有关生物膜的叙述，不正确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各种生物膜的化学组成和结构完全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不同细胞器或细胞结构的生物膜之间是可相互转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物膜的研究已经进入到分子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细胞内的生物膜既各司其职，又相互协作共同完成细胞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29480" y="474840"/>
            <a:ext cx="3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7f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7040" y="3733920"/>
            <a:ext cx="702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物膜化学组成的表达最全面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蛋白质、糖类、类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糖蛋白、类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蛋白质、糖类、脂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糖蛋白、脂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1544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07fb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159760" y="3525840"/>
            <a:ext cx="144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89000"/>
            <a:ext cx="856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 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定的时间内使用某种动物细胞吸收放射性同位素标记的氨基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检查发现放射性同位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先后出现在图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据图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2276640"/>
            <a:ext cx="597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图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7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, [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功能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   ]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合成糖蛋白。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来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图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4]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形成的是成熟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[7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式分泌出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 [7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合成、加工和运输过程所需的大量能量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   ]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供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此动物细胞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7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243480" y="2517840"/>
            <a:ext cx="2665440" cy="3921120"/>
            <a:chOff x="6243480" y="2517840"/>
            <a:chExt cx="2665440" cy="3921120"/>
          </a:xfrm>
        </p:grpSpPr>
        <p:pic>
          <p:nvPicPr>
            <p:cNvPr id="301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243480" y="2517840"/>
              <a:ext cx="266544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43640" y="2781360"/>
              <a:ext cx="458640" cy="36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16720" y="2781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16720" y="5589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16720" y="50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4364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8000" y="40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88000" y="3500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88000" y="3068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604360" y="3573360"/>
            <a:ext cx="21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72360" y="3543480"/>
            <a:ext cx="111240" cy="330120"/>
          </a:xfrm>
          <a:custGeom>
            <a:avLst/>
            <a:gdLst/>
            <a:ahLst/>
            <a:rect l="l" t="t" r="r" b="b"/>
            <a:pathLst>
              <a:path w="53" h="208">
                <a:moveTo>
                  <a:pt x="43" y="0"/>
                </a:moveTo>
                <a:cubicBezTo>
                  <a:pt x="0" y="29"/>
                  <a:pt x="19" y="43"/>
                  <a:pt x="43" y="80"/>
                </a:cubicBezTo>
                <a:cubicBezTo>
                  <a:pt x="40" y="88"/>
                  <a:pt x="41" y="98"/>
                  <a:pt x="35" y="104"/>
                </a:cubicBezTo>
                <a:cubicBezTo>
                  <a:pt x="29" y="110"/>
                  <a:pt x="14" y="104"/>
                  <a:pt x="11" y="112"/>
                </a:cubicBezTo>
                <a:cubicBezTo>
                  <a:pt x="1" y="143"/>
                  <a:pt x="26" y="159"/>
                  <a:pt x="43" y="176"/>
                </a:cubicBezTo>
                <a:cubicBezTo>
                  <a:pt x="53" y="205"/>
                  <a:pt x="51" y="208"/>
                  <a:pt x="19" y="208"/>
                </a:cubicBezTo>
              </a:path>
            </a:pathLst>
          </a:custGeom>
          <a:solidFill>
            <a:srgbClr val="00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213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Times New Roman"/>
              </a:rPr>
              <a:t>分泌</a:t>
            </a: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590920"/>
            <a:ext cx="24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合成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5280" y="299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内质网的小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高尔基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800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5013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07fb"/>
                </a:solidFill>
                <a:latin typeface="Arial"/>
              </a:rPr>
              <a:t>8    </a:t>
            </a: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线粒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80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合成和分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08360" y="263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2     </a:t>
            </a:r>
            <a:r>
              <a:rPr b="1" lang="zh-CN" sz="2400" spc="-1" strike="noStrike">
                <a:solidFill>
                  <a:srgbClr val="1307fb"/>
                </a:solidFill>
                <a:latin typeface="Arial"/>
              </a:rPr>
              <a:t>内质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82160" y="37418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4842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离各种细胞器的方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285264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差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心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线粒体－－“动力车间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38477" r="1996" b="18126"/>
          <a:stretch/>
        </p:blipFill>
        <p:spPr>
          <a:xfrm>
            <a:off x="457200" y="2225520"/>
            <a:ext cx="5943600" cy="4023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5638680" y="3962160"/>
            <a:ext cx="761760" cy="1447560"/>
            <a:chOff x="5638680" y="3962160"/>
            <a:chExt cx="761760" cy="1447560"/>
          </a:xfrm>
        </p:grpSpPr>
        <p:sp>
          <p:nvSpPr>
            <p:cNvPr id="58" name=""/>
            <p:cNvSpPr/>
            <p:nvPr/>
          </p:nvSpPr>
          <p:spPr>
            <a:xfrm flipV="1">
              <a:off x="6019920" y="3962160"/>
              <a:ext cx="0" cy="88452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5638680" y="5007960"/>
              <a:ext cx="761760" cy="40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外膜</a:t>
              </a:r>
              <a:endParaRPr b="1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29200" y="3733560"/>
            <a:ext cx="685440" cy="2143080"/>
            <a:chOff x="5029200" y="3733560"/>
            <a:chExt cx="685440" cy="2143080"/>
          </a:xfrm>
        </p:grpSpPr>
        <p:sp>
          <p:nvSpPr>
            <p:cNvPr id="61" name=""/>
            <p:cNvSpPr/>
            <p:nvPr/>
          </p:nvSpPr>
          <p:spPr>
            <a:xfrm flipV="1">
              <a:off x="5372280" y="3733560"/>
              <a:ext cx="0" cy="161676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029200" y="5491800"/>
              <a:ext cx="685440" cy="38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内膜</a:t>
              </a:r>
              <a:endPara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14800" y="3467160"/>
            <a:ext cx="747720" cy="2590920"/>
            <a:chOff x="4114800" y="3467160"/>
            <a:chExt cx="747720" cy="2590920"/>
          </a:xfrm>
        </p:grpSpPr>
        <p:sp>
          <p:nvSpPr>
            <p:cNvPr id="64" name=""/>
            <p:cNvSpPr/>
            <p:nvPr/>
          </p:nvSpPr>
          <p:spPr>
            <a:xfrm flipH="1" flipV="1">
              <a:off x="4419720" y="3467160"/>
              <a:ext cx="7920" cy="209880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114800" y="5676840"/>
              <a:ext cx="74772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基质</a:t>
              </a:r>
              <a:endPara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52480" y="2743200"/>
            <a:ext cx="417600" cy="2291040"/>
            <a:chOff x="1752480" y="2743200"/>
            <a:chExt cx="417600" cy="2291040"/>
          </a:xfrm>
        </p:grpSpPr>
        <p:sp>
          <p:nvSpPr>
            <p:cNvPr id="67" name=""/>
            <p:cNvSpPr/>
            <p:nvPr/>
          </p:nvSpPr>
          <p:spPr>
            <a:xfrm flipH="1" flipV="1">
              <a:off x="1937520" y="3203280"/>
              <a:ext cx="46080" cy="183096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752480" y="2743200"/>
              <a:ext cx="41760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嵴</a:t>
              </a:r>
              <a:endPara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133720" y="1905120"/>
            <a:ext cx="175248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838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进行有氧呼吸的主要场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3276720"/>
            <a:ext cx="762120" cy="609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590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双层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能量转换：稳定的化学能→活跃的化学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200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扩大内膜面积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56400" y="4365720"/>
            <a:ext cx="331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含少量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和有关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90792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160720" cy="1393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71640" y="170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在成年人的心肌细胞中线粒体数量比腹肌细胞显著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213000"/>
            <a:ext cx="80773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心肌细胞每时每刻都处在收缩和舒张的运动过程中，需要消耗能量，这些能量大部分来自线粒体，腹肌细胞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动较心肌细胞弱，所需能量少，所以线粒体的数量较心肌细胞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52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叶绿体－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养料制造车间”　“能量转换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1134" t="4075" r="3284" b="-968"/>
          <a:stretch/>
        </p:blipFill>
        <p:spPr>
          <a:xfrm>
            <a:off x="609480" y="2057400"/>
            <a:ext cx="7391520" cy="3608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371600" y="4647960"/>
            <a:ext cx="761760" cy="1447560"/>
            <a:chOff x="1371600" y="4647960"/>
            <a:chExt cx="761760" cy="1447560"/>
          </a:xfrm>
        </p:grpSpPr>
        <p:sp>
          <p:nvSpPr>
            <p:cNvPr id="84" name=""/>
            <p:cNvSpPr/>
            <p:nvPr/>
          </p:nvSpPr>
          <p:spPr>
            <a:xfrm flipV="1">
              <a:off x="1752840" y="4647960"/>
              <a:ext cx="0" cy="88452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371600" y="5693760"/>
              <a:ext cx="761760" cy="40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外膜</a:t>
              </a:r>
              <a:endParaRPr b="1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62320" y="4266720"/>
            <a:ext cx="685440" cy="2143080"/>
            <a:chOff x="2362320" y="4266720"/>
            <a:chExt cx="685440" cy="2143080"/>
          </a:xfrm>
        </p:grpSpPr>
        <p:sp>
          <p:nvSpPr>
            <p:cNvPr id="87" name=""/>
            <p:cNvSpPr/>
            <p:nvPr/>
          </p:nvSpPr>
          <p:spPr>
            <a:xfrm flipV="1">
              <a:off x="2705400" y="4266720"/>
              <a:ext cx="0" cy="161676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362320" y="6024960"/>
              <a:ext cx="685440" cy="38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内膜</a:t>
              </a:r>
              <a:endPara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76720" y="4191120"/>
            <a:ext cx="747720" cy="2209320"/>
            <a:chOff x="3276720" y="4191120"/>
            <a:chExt cx="747720" cy="2209320"/>
          </a:xfrm>
        </p:grpSpPr>
        <p:sp>
          <p:nvSpPr>
            <p:cNvPr id="90" name=""/>
            <p:cNvSpPr/>
            <p:nvPr/>
          </p:nvSpPr>
          <p:spPr>
            <a:xfrm flipH="1" flipV="1">
              <a:off x="3581640" y="4191120"/>
              <a:ext cx="7920" cy="178992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276720" y="6075360"/>
              <a:ext cx="747720" cy="32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基质</a:t>
              </a:r>
              <a:endPara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876920" y="3124080"/>
            <a:ext cx="838080" cy="3352680"/>
            <a:chOff x="4876920" y="3124080"/>
            <a:chExt cx="838080" cy="3352680"/>
          </a:xfrm>
        </p:grpSpPr>
        <p:sp>
          <p:nvSpPr>
            <p:cNvPr id="93" name=""/>
            <p:cNvSpPr/>
            <p:nvPr/>
          </p:nvSpPr>
          <p:spPr>
            <a:xfrm flipV="1">
              <a:off x="5181480" y="3124080"/>
              <a:ext cx="0" cy="2743200"/>
            </a:xfrm>
            <a:prstGeom prst="line">
              <a:avLst/>
            </a:prstGeom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876920" y="5943600"/>
              <a:ext cx="838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基粒</a:t>
              </a:r>
              <a:endParaRPr b="1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629400" y="2057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双层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71600"/>
            <a:ext cx="73152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能量转换：光能→稳定的化学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3716280"/>
            <a:ext cx="4176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含少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有关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7240" y="2133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叶绿体存在于哪些细胞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485640"/>
            <a:ext cx="1944720" cy="125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3809880"/>
            <a:ext cx="74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般分布于绿色植物的叶肉细胞 和嫩茎皮层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914400"/>
            <a:ext cx="23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051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一分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CO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从叶肉细胞的线粒体基质中扩散出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进入一相邻细胞的叶绿体基质内，共穿越过的生物膜的层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85720" y="4941720"/>
            <a:ext cx="9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4:17:10Z</dcterms:created>
  <dc:creator>MC SYSTEM</dc:creator>
  <dc:description/>
  <dc:language>en-US</dc:language>
  <cp:lastModifiedBy>杨芬</cp:lastModifiedBy>
  <dcterms:modified xsi:type="dcterms:W3CDTF">2007-11-02T04:33:14Z</dcterms:modified>
  <cp:revision>6</cp:revision>
  <dc:subject/>
  <dc:title>幻灯片 1</dc:title>
</cp:coreProperties>
</file>