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FF34-558A-46EA-8E01-4777ADE27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7DE6-5486-456B-BB9E-26173157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19D1-80B8-4ABF-A334-18A813FF0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0A2B-0BB8-47AA-B4B4-C81FE81C3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E635-7B10-46B5-8A2B-14C2558B4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FB44-33E3-4F62-B347-6C955392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3C6E-14DE-4DD0-800D-7D0499F3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88BF-2B67-41B4-873F-86BE8E4F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9158-03CB-4050-9B38-B294081C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723D-D173-456E-9B38-E0303695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8438-7DEB-41AE-BBD9-A8629B18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5075-C864-4D8A-9597-09C325BE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9AAA-DF9F-4C21-9E2C-23BF4F75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64FF-A5BB-4D43-81AA-35964D52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BAEE-0362-4C11-A278-53D9E6A6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5916-2D1B-4B57-A893-8BE2C968D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FE3B-98F1-424D-9198-1C340B75D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E55B-DD96-4478-9D28-A0148CCA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2B92-9EB5-4AA2-BB3D-1DCFF759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E2E6-E8F4-4E0E-BB7F-325A9799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083C-30B8-4946-8391-D7D764CD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5465-EB3E-474E-8F7D-872A6005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BB4D-D537-4736-BFCE-B25D1A18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83B8-7AC4-4AEA-AB45-5B3D7C8D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58A6-CFB6-4109-9A01-48F34F1187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080E-D049-4274-A61D-CA88BD991D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7.xml"/><Relationship Id="rId3" Type="http://schemas.openxmlformats.org/officeDocument/2006/relationships/image" Target="../media/image1.png"/><Relationship Id="rId4" Type="http://schemas.openxmlformats.org/officeDocument/2006/relationships/audio" Target="file:///tmp/home/.config/libreoffice/4/user/gallery/eyepiece.wav" TargetMode="External"/><Relationship Id="rId5" Type="http://schemas.microsoft.com/office/2007/relationships/media" Target="file:///tmp/home/.config/libreoffice/4/user/gallery/eyepiece.wav" TargetMode="Externa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9.xml"/><Relationship Id="rId13" Type="http://schemas.openxmlformats.org/officeDocument/2006/relationships/slide" Target="slide2.xml"/><Relationship Id="rId14" Type="http://schemas.openxmlformats.org/officeDocument/2006/relationships/slide" Target="slide3.xml"/><Relationship Id="rId15" Type="http://schemas.openxmlformats.org/officeDocument/2006/relationships/hyperlink" Target="file:///tmp/home/.config/libreoffice/4/user/gallery/GLASS.WAV" TargetMode="External"/><Relationship Id="rId16" Type="http://schemas.openxmlformats.org/officeDocument/2006/relationships/image" Target="../media/image3.jpeg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SHREG.WAV" TargetMode="External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SHREG.WAV" TargetMode="External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SHREG.WAV" TargetMode="External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yepiece.wav" TargetMode="External"/><Relationship Id="rId2" Type="http://schemas.openxmlformats.org/officeDocument/2006/relationships/hyperlink" Target="file:///tmp/home/.config/libreoffice/4/user/gallery/CASHREG.WAV" TargetMode="External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SHREG.WAV" TargetMode="External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SHREG.WAV" TargetMode="External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SHREG.WAV" TargetMode="External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SHREG.WAV" TargetMode="External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SHREG.WAV" TargetMode="External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SHREG.WAV" TargetMode="External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SHREG.WAV" TargetMode="External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2590920" y="0"/>
          <a:ext cx="44956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0"/>
                    <a:ext cx="4495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-685800" y="3048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2" name="">
            <a:hlinkClick r:id="rId7" action="ppaction://hlinksldjump"/>
          </p:cNvPr>
          <p:cNvSpPr/>
          <p:nvPr/>
        </p:nvSpPr>
        <p:spPr>
          <a:xfrm>
            <a:off x="5867280" y="2133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86400" y="12193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72200" y="2971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>
            <a:hlinkClick r:id="rId8" action="ppaction://hlinksldjump"/>
          </p:cNvPr>
          <p:cNvSpPr/>
          <p:nvPr/>
        </p:nvSpPr>
        <p:spPr>
          <a:xfrm>
            <a:off x="2666880" y="20574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>
            <a:hlinkClick r:id="rId9" action="ppaction://hlinksldjump"/>
          </p:cNvPr>
          <p:cNvSpPr/>
          <p:nvPr/>
        </p:nvSpPr>
        <p:spPr>
          <a:xfrm>
            <a:off x="510552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>
            <a:hlinkClick r:id="rId10" action="ppaction://hlinksldjump"/>
          </p:cNvPr>
          <p:cNvSpPr/>
          <p:nvPr/>
        </p:nvSpPr>
        <p:spPr>
          <a:xfrm>
            <a:off x="5867280" y="2133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>
            <a:hlinkClick r:id="rId11" action="ppaction://hlinksldjump"/>
          </p:cNvPr>
          <p:cNvSpPr/>
          <p:nvPr/>
        </p:nvSpPr>
        <p:spPr>
          <a:xfrm>
            <a:off x="2133720" y="3886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43434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>
            <a:hlinkClick r:id="rId12" action="ppaction://hlinksldjump"/>
          </p:cNvPr>
          <p:cNvSpPr/>
          <p:nvPr/>
        </p:nvSpPr>
        <p:spPr>
          <a:xfrm>
            <a:off x="5943600" y="495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>
            <a:hlinkClick r:id="rId13" action="ppaction://hlinksldjump"/>
          </p:cNvPr>
          <p:cNvSpPr/>
          <p:nvPr/>
        </p:nvSpPr>
        <p:spPr>
          <a:xfrm>
            <a:off x="6172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38280" y="495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54864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>
            <a:hlinkClick r:id="rId14" action="ppaction://hlinksldjump"/>
          </p:cNvPr>
          <p:cNvSpPr/>
          <p:nvPr/>
        </p:nvSpPr>
        <p:spPr>
          <a:xfrm>
            <a:off x="6172200" y="3581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722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>
            <a:hlinkClick r:id="rId15"/>
          </p:cNvPr>
          <p:cNvSpPr/>
          <p:nvPr/>
        </p:nvSpPr>
        <p:spPr>
          <a:xfrm>
            <a:off x="8305920" y="60958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8377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  <a:path fill="darken" w="23752" h="21600">
                <a:moveTo>
                  <a:pt x="4869" y="3794"/>
                </a:moveTo>
                <a:lnTo>
                  <a:pt x="6532" y="3794"/>
                </a:lnTo>
                <a:lnTo>
                  <a:pt x="6532" y="17806"/>
                </a:lnTo>
                <a:lnTo>
                  <a:pt x="4869" y="17806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61760" y="616104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9900"/>
                </a:solidFill>
                <a:latin typeface="Times New Roman"/>
                <a:ea typeface="黑体"/>
              </a:rPr>
              <a:t>版权所有：深圳华人教育有限公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华人教育网logo" descr=""/>
          <p:cNvPicPr/>
          <p:nvPr/>
        </p:nvPicPr>
        <p:blipFill>
          <a:blip r:embed="rId16"/>
          <a:stretch/>
        </p:blipFill>
        <p:spPr>
          <a:xfrm>
            <a:off x="609480" y="380880"/>
            <a:ext cx="1619280" cy="64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17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宋体"/>
                <a:ea typeface="宋体"/>
              </a:rPr>
              <a:t>光圈调节器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调节通过样本的光的数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firstslide"/>
            <a:hlinkClick r:id="rId1"/>
          </p:cNvPr>
          <p:cNvSpPr/>
          <p:nvPr/>
        </p:nvSpPr>
        <p:spPr>
          <a:xfrm>
            <a:off x="8305920" y="62485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11350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9504" y="3794"/>
                </a:lnTo>
                <a:lnTo>
                  <a:pt x="9504" y="17806"/>
                </a:lnTo>
                <a:lnTo>
                  <a:pt x="7842" y="17806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61760" y="616104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  <a:ea typeface="黑体"/>
              </a:rPr>
              <a:t>版权所有：深圳华人教育有限公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华人教育网logo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1619280" cy="64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宋体"/>
                <a:ea typeface="宋体"/>
              </a:rPr>
              <a:t>反光镜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反射光到样本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反光镜的一面是平的而另一面是凹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firstslide"/>
            <a:hlinkClick r:id="rId1"/>
          </p:cNvPr>
          <p:cNvSpPr/>
          <p:nvPr/>
        </p:nvSpPr>
        <p:spPr>
          <a:xfrm>
            <a:off x="8305920" y="62485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11350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9504" y="3794"/>
                </a:lnTo>
                <a:lnTo>
                  <a:pt x="9504" y="17806"/>
                </a:lnTo>
                <a:lnTo>
                  <a:pt x="7842" y="17806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61760" y="616104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  <a:ea typeface="黑体"/>
              </a:rPr>
              <a:t>版权所有：深圳华人教育有限公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华人教育网logo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1619280" cy="64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宋体"/>
                <a:ea typeface="宋体"/>
              </a:rPr>
              <a:t>镜座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支撑显微镜</a:t>
            </a:r>
            <a:r>
              <a:rPr b="0" lang="zh-TW" sz="3200" spc="-1" strike="noStrike">
                <a:solidFill>
                  <a:srgbClr val="ffffff"/>
                </a:solidFill>
                <a:latin typeface="宋体"/>
                <a:ea typeface="宋体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  <a:hlinkClick r:id="rId1"/>
          </p:cNvPr>
          <p:cNvSpPr/>
          <p:nvPr/>
        </p:nvSpPr>
        <p:spPr>
          <a:xfrm>
            <a:off x="8305920" y="62485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11350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9504" y="3794"/>
                </a:lnTo>
                <a:lnTo>
                  <a:pt x="9504" y="17806"/>
                </a:lnTo>
                <a:lnTo>
                  <a:pt x="7842" y="17806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61760" y="616104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  <a:ea typeface="黑体"/>
              </a:rPr>
              <a:t>版权所有：深圳华人教育有限公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华人教育网logo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1619280" cy="64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76720" y="60912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宋体"/>
                <a:ea typeface="宋体"/>
              </a:rPr>
              <a:t>接目鏡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种可调的凸透镜，具有以下几种放大能力：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5X, 10X and 15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位于镜筒的顶部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>
            <a:hlinkClick r:id="rId1"/>
          </p:cNvPr>
          <p:cNvSpPr/>
          <p:nvPr/>
        </p:nvSpPr>
        <p:spPr>
          <a:xfrm>
            <a:off x="3733920" y="609480"/>
            <a:ext cx="2819160" cy="1143000"/>
          </a:xfrm>
          <a:custGeom>
            <a:avLst/>
            <a:gdLst>
              <a:gd name="textAreaLeft" fmla="*/ 73800 w 2819160"/>
              <a:gd name="textAreaRight" fmla="*/ 2745360 w 28191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3265" h="21600">
                <a:moveTo>
                  <a:pt x="0" y="0"/>
                </a:moveTo>
                <a:lnTo>
                  <a:pt x="53265" y="0"/>
                </a:lnTo>
                <a:lnTo>
                  <a:pt x="53265" y="21600"/>
                </a:lnTo>
                <a:lnTo>
                  <a:pt x="0" y="21600"/>
                </a:lnTo>
                <a:close/>
              </a:path>
              <a:path fill="lightenLess" w="53265" h="21600">
                <a:moveTo>
                  <a:pt x="0" y="0"/>
                </a:moveTo>
                <a:lnTo>
                  <a:pt x="53265" y="0"/>
                </a:lnTo>
                <a:lnTo>
                  <a:pt x="51866" y="1400"/>
                </a:lnTo>
                <a:lnTo>
                  <a:pt x="1400" y="1400"/>
                </a:lnTo>
                <a:close/>
              </a:path>
              <a:path fill="darken" w="53265" h="21600">
                <a:moveTo>
                  <a:pt x="53265" y="0"/>
                </a:moveTo>
                <a:lnTo>
                  <a:pt x="53265" y="21600"/>
                </a:lnTo>
                <a:lnTo>
                  <a:pt x="51866" y="20200"/>
                </a:lnTo>
                <a:lnTo>
                  <a:pt x="51866" y="1400"/>
                </a:lnTo>
                <a:close/>
              </a:path>
              <a:path fill="darkenLess" w="53265" h="21600">
                <a:moveTo>
                  <a:pt x="532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866" y="20200"/>
                </a:lnTo>
                <a:close/>
              </a:path>
              <a:path fill="lighten" w="532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firstslide"/>
            <a:hlinkClick r:id="rId2"/>
          </p:cNvPr>
          <p:cNvSpPr/>
          <p:nvPr/>
        </p:nvSpPr>
        <p:spPr>
          <a:xfrm>
            <a:off x="8305920" y="62485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11350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9504" y="3794"/>
                </a:lnTo>
                <a:lnTo>
                  <a:pt x="9504" y="17806"/>
                </a:lnTo>
                <a:lnTo>
                  <a:pt x="7842" y="17806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61760" y="616104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  <a:ea typeface="黑体"/>
              </a:rPr>
              <a:t>版权所有：深圳华人教育有限公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华人教育网logo" descr=""/>
          <p:cNvPicPr/>
          <p:nvPr/>
        </p:nvPicPr>
        <p:blipFill>
          <a:blip r:embed="rId3"/>
          <a:stretch/>
        </p:blipFill>
        <p:spPr>
          <a:xfrm>
            <a:off x="609480" y="380880"/>
            <a:ext cx="1619280" cy="64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宋体"/>
                <a:ea typeface="宋体"/>
              </a:rPr>
              <a:t>物镜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种可调的凸透镜，具有以下几种放大能力：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5X, 10X, 40Xor 60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拧在旋转盘的前端孔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firstslide"/>
            <a:hlinkClick r:id="rId1"/>
          </p:cNvPr>
          <p:cNvSpPr/>
          <p:nvPr/>
        </p:nvSpPr>
        <p:spPr>
          <a:xfrm>
            <a:off x="8305920" y="62485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11350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9504" y="3794"/>
                </a:lnTo>
                <a:lnTo>
                  <a:pt x="9504" y="17806"/>
                </a:lnTo>
                <a:lnTo>
                  <a:pt x="7842" y="17806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61760" y="616104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  <a:ea typeface="黑体"/>
              </a:rPr>
              <a:t>版权所有：深圳华人教育有限公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华人教育网logo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1619280" cy="64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宋体"/>
                <a:ea typeface="宋体"/>
              </a:rPr>
              <a:t>粗调节器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快速上下移动镜筒获得粗略的焦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firstslide"/>
            <a:hlinkClick r:id="rId1"/>
          </p:cNvPr>
          <p:cNvSpPr/>
          <p:nvPr/>
        </p:nvSpPr>
        <p:spPr>
          <a:xfrm>
            <a:off x="8305920" y="62485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11350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9504" y="3794"/>
                </a:lnTo>
                <a:lnTo>
                  <a:pt x="9504" y="17806"/>
                </a:lnTo>
                <a:lnTo>
                  <a:pt x="7842" y="17806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61760" y="616104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  <a:ea typeface="黑体"/>
              </a:rPr>
              <a:t>版权所有：深圳华人教育有限公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华人教育网logo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1619280" cy="64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宋体"/>
                <a:ea typeface="宋体"/>
              </a:rPr>
              <a:t>微调节器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慢慢上下移动镜筒得到精确的焦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firstslide"/>
            <a:hlinkClick r:id="rId1"/>
          </p:cNvPr>
          <p:cNvSpPr/>
          <p:nvPr/>
        </p:nvSpPr>
        <p:spPr>
          <a:xfrm>
            <a:off x="8305920" y="62485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11350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9504" y="3794"/>
                </a:lnTo>
                <a:lnTo>
                  <a:pt x="9504" y="17806"/>
                </a:lnTo>
                <a:lnTo>
                  <a:pt x="7842" y="17806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61760" y="616104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  <a:ea typeface="黑体"/>
              </a:rPr>
              <a:t>版权所有：深圳华人教育有限公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华人教育网logo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1619280" cy="64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宋体"/>
                <a:ea typeface="宋体"/>
              </a:rPr>
              <a:t>镜筒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把目镜和接物镜聚合起来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firstslide"/>
            <a:hlinkClick r:id="rId1"/>
          </p:cNvPr>
          <p:cNvSpPr/>
          <p:nvPr/>
        </p:nvSpPr>
        <p:spPr>
          <a:xfrm>
            <a:off x="8305920" y="62485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11350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9504" y="3794"/>
                </a:lnTo>
                <a:lnTo>
                  <a:pt x="9504" y="17806"/>
                </a:lnTo>
                <a:lnTo>
                  <a:pt x="7842" y="17806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61760" y="616104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  <a:ea typeface="黑体"/>
              </a:rPr>
              <a:t>版权所有：深圳华人教育有限公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华人教育网logo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1619280" cy="64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宋体"/>
                <a:ea typeface="宋体"/>
              </a:rPr>
              <a:t>弹簧夹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两片夹子把显微镜片牢固地置于载物盘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样本置于显微镜片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firstslide"/>
            <a:hlinkClick r:id="rId1"/>
          </p:cNvPr>
          <p:cNvSpPr/>
          <p:nvPr/>
        </p:nvSpPr>
        <p:spPr>
          <a:xfrm>
            <a:off x="8305920" y="62485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11350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9504" y="3794"/>
                </a:lnTo>
                <a:lnTo>
                  <a:pt x="9504" y="17806"/>
                </a:lnTo>
                <a:lnTo>
                  <a:pt x="7842" y="17806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161760" y="616104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  <a:ea typeface="黑体"/>
              </a:rPr>
              <a:t>版权所有：深圳华人教育有限公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华人教育网logo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1619280" cy="64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宋体"/>
                <a:ea typeface="宋体"/>
              </a:rPr>
              <a:t>聚光器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聚焦从反光镜照到样本上的光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firstslide"/>
            <a:hlinkClick r:id="rId1"/>
          </p:cNvPr>
          <p:cNvSpPr/>
          <p:nvPr/>
        </p:nvSpPr>
        <p:spPr>
          <a:xfrm>
            <a:off x="8305920" y="62485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11350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9504" y="3794"/>
                </a:lnTo>
                <a:lnTo>
                  <a:pt x="9504" y="17806"/>
                </a:lnTo>
                <a:lnTo>
                  <a:pt x="7842" y="17806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61760" y="616104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  <a:ea typeface="黑体"/>
              </a:rPr>
              <a:t>版权所有：深圳华人教育有限公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华人教育网logo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1619280" cy="64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宋体"/>
                <a:ea typeface="宋体"/>
              </a:rPr>
              <a:t>聚光调节器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上下移动聚光器以聚焦从反光镜照到样本上的反射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firstslide"/>
            <a:hlinkClick r:id="rId1"/>
          </p:cNvPr>
          <p:cNvSpPr/>
          <p:nvPr/>
        </p:nvSpPr>
        <p:spPr>
          <a:xfrm>
            <a:off x="8305920" y="62485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11350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9504" y="3794"/>
                </a:lnTo>
                <a:lnTo>
                  <a:pt x="9504" y="17806"/>
                </a:lnTo>
                <a:lnTo>
                  <a:pt x="7842" y="17806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61760" y="616104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  <a:ea typeface="黑体"/>
              </a:rPr>
              <a:t>版权所有：深圳华人教育有限公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华人教育网logo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1619280" cy="64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1T20:32:13Z</dcterms:created>
  <dc:creator>Stanley Cheung</dc:creator>
  <dc:description/>
  <dc:language>en-US</dc:language>
  <cp:lastModifiedBy>chenyuzheng</cp:lastModifiedBy>
  <dcterms:modified xsi:type="dcterms:W3CDTF">2001-01-02T07:04:02Z</dcterms:modified>
  <cp:revision>16</cp:revision>
  <dc:subject/>
  <dc:title>無投影片標題</dc:title>
</cp:coreProperties>
</file>