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lick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8F1-83D6-4AE9-92CB-B34A3745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128-0EE4-4326-8C78-D237A9C0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B0B-B4D3-44EB-97C1-FE2CA5C6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011-CE11-4877-8641-56BEF738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C04-C5C7-4482-9F76-044C6205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FEE-E613-432E-8ACA-3277BAF5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004-A1D0-4BC8-A23B-B3F48E27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D1A-344B-4E33-9CA9-7A7E511E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CF4-72F8-4DEC-B8E7-8F9B56D0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505-0D74-45F6-B417-89C86BE3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EEF-DDFD-454F-924D-34735F0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66C-6C75-4FA3-AFC9-4A049D5D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AE13-9047-457C-BA05-CD8171E626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6000" y="71280"/>
            <a:ext cx="2952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第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2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章 组成细胞的分子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688000" y="71280"/>
            <a:ext cx="3168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细胞中的元素和化合物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880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生物与非生物的元素组成基本相同，说明其具有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_______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，但元素含量差别很大，说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________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60" y="131292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统一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40360" y="131292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差异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2033640"/>
            <a:ext cx="226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大量元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2752560"/>
            <a:ext cx="21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微量元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05080" y="2104920"/>
            <a:ext cx="6659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Ca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g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8000" y="2825640"/>
            <a:ext cx="597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Fe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Mn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Zn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Cu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Mo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60" y="3402000"/>
            <a:ext cx="608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生物体中含量最多的元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2000" y="3473280"/>
            <a:ext cx="2951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4121280"/>
            <a:ext cx="4211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细胞的最基本元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4221000"/>
            <a:ext cx="6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760" y="5346720"/>
            <a:ext cx="27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含量最多的有机物是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28960" y="469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64080" y="532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蛋白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4720" y="4770360"/>
            <a:ext cx="34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细胞中含量最多的化合物是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3200" y="5923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占干重比例最大的是化合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04080" y="5921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蛋白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66480" y="381240"/>
            <a:ext cx="6971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某 胰岛素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条链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氨基酸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氨基酸，这两条肽链中应有肽键的个数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 48          B. 49          C. 50          D. 5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细胞内的脱氧核糖主要分布在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细胞质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细胞核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尔基体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心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下列有关糖类生理作用的叙述中，不正确的是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核糖和脱氧核糖是核酸的组成成分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葡萄糖是重要的能源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糖原是所有生物体储备的能源物质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纤维素是植物细胞壁的主要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74520" y="765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34880" y="1916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53800" y="407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2680" y="301680"/>
            <a:ext cx="6229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某氨基酸分子中含有两个氨基，其中一个氨基和羧基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同一个碳原子上，则另一个氨基的部位应是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在羧基上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和羧基连在同一个碳原子上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基上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在氨基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下列物质中都属于蛋白质的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胰岛素、抗体    　　　　　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胰岛素、雄性激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维生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胆固醇   　　　　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生长素、纤维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 淀粉和糖元在酶的作用下最后彻底水解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O</a:t>
            </a:r>
            <a:r>
              <a:rPr b="1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水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前者为麦芽糖，后者为乳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葡萄糖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前者为果糖，后者为葡萄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氨基酸形成多肽链的方式是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水解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还原反应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脱水缩合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聚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89800" y="1287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800" y="179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46160" y="3232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46160" y="450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2520" y="240120"/>
            <a:ext cx="7261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细胞中脂肪的作用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激素的主要成分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储能的主要物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酶的主要成分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细胞膜的主要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细胞内携带遗传信息的物质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核苷酸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核酸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 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糖类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组成抗体的基本单位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氨基酸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脱氧核苷酸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核苷酸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下列脂质物质中能促进人和动物生殖器官的发育以及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殖细胞的形成的是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09760"/>
                <a:tab algn="l" pos="2790720"/>
                <a:tab algn="l" pos="3848040"/>
                <a:tab algn="l" pos="458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脂肪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磷脂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固醇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脂肪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69800" y="549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4880" y="1916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6160" y="3141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87240" y="5373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8000" y="71280"/>
            <a:ext cx="51847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遗传信息的携带者 —核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981000"/>
            <a:ext cx="84391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核酸的基本组成元素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基本组成单位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____,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由哪些分子组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90792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H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O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华文行楷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557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4365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4365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2781360"/>
            <a:ext cx="1639800" cy="1628640"/>
          </a:xfrm>
          <a:prstGeom prst="pentagon">
            <a:avLst/>
          </a:prstGeom>
          <a:solidFill>
            <a:srgbClr val="9900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五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2349360"/>
            <a:ext cx="1260720" cy="109224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3429000"/>
            <a:ext cx="13446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2852640"/>
            <a:ext cx="1727280" cy="936720"/>
          </a:xfrm>
          <a:prstGeom prst="rect">
            <a:avLst/>
          </a:prstGeom>
          <a:solidFill>
            <a:srgbClr val="ffff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23640" y="2781000"/>
            <a:ext cx="792360" cy="673200"/>
            <a:chOff x="2123640" y="2781000"/>
            <a:chExt cx="792360" cy="673200"/>
          </a:xfrm>
        </p:grpSpPr>
        <p:sp>
          <p:nvSpPr>
            <p:cNvPr id="187" name=""/>
            <p:cNvSpPr/>
            <p:nvPr/>
          </p:nvSpPr>
          <p:spPr>
            <a:xfrm flipH="1">
              <a:off x="2520720" y="345420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2123640" y="2781000"/>
              <a:ext cx="395640" cy="672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95280" y="4292640"/>
            <a:ext cx="84391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核苷酸共有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种，碱基有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_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51642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所有生物的遗传物质都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DN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95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病毒外，所有生物的遗传物质都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DNA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79280" y="736560"/>
          <a:ext cx="8785440" cy="5873760"/>
        </p:xfrm>
        <a:graphic>
          <a:graphicData uri="http://schemas.openxmlformats.org/drawingml/2006/table">
            <a:tbl>
              <a:tblPr/>
              <a:tblGrid>
                <a:gridCol w="2673360"/>
                <a:gridCol w="3260880"/>
                <a:gridCol w="2851200"/>
              </a:tblGrid>
              <a:tr h="60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隶书"/>
                        </a:rPr>
                        <a:t>D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隶书"/>
                        </a:rPr>
                        <a:t>R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中文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基本单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五碳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含氮碱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结   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主要存在部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显色反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547640" y="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DN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主要区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88560" y="2133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脱氧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5480" y="2133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核糖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94120" y="28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隶书"/>
                <a:ea typeface="隶书"/>
              </a:rPr>
              <a:t>脱氧核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42680" y="28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隶书"/>
                <a:ea typeface="隶书"/>
              </a:rPr>
              <a:t>核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74480" y="3500280"/>
            <a:ext cx="24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88920" y="429264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双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73760" y="422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单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链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50320" y="4797360"/>
            <a:ext cx="198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800080"/>
                </a:solidFill>
                <a:latin typeface="隶书"/>
                <a:ea typeface="隶书"/>
              </a:rPr>
              <a:t>细胞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隶书"/>
                <a:ea typeface="隶书"/>
              </a:rPr>
              <a:t>（线粒体、叶绿体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51680" y="508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隶书"/>
                <a:ea typeface="隶书"/>
              </a:rPr>
              <a:t>细胞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9760" y="3500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5950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遇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甲基绿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呈</a:t>
            </a:r>
            <a:r>
              <a:rPr b="1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绿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80160" y="59450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遇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吡罗红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呈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97560" y="141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脱氧核糖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核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86120" y="1484280"/>
            <a:ext cx="11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核糖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核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920" y="115920"/>
            <a:ext cx="3924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细胞中的糖类和脂质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620640"/>
            <a:ext cx="84391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细胞的主要能源物质是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___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，其基本组成元素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_____,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可分为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____________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549360"/>
            <a:ext cx="15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  <a:ea typeface="隶书"/>
              </a:rPr>
              <a:t>糖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34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H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134136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单糖、二糖、多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1916280"/>
            <a:ext cx="8820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单糖中的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细胞生命活动的主要能源物质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植物特有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动物特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20574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华文行楷"/>
              </a:rPr>
              <a:t>葡萄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2708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行楷"/>
              </a:rPr>
              <a:t>果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2565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半乳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500280"/>
            <a:ext cx="8820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二糖包括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______________,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动物特有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植物特有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5640" y="3500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华文行楷"/>
              </a:rPr>
              <a:t>麦芽糖、蔗糖、乳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67640" y="357336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乳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行楷"/>
              </a:rPr>
              <a:t>麦芽糖、蔗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941720"/>
            <a:ext cx="9144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糖包括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___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基本组成单位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植物特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_____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动物特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4941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华文行楷"/>
              </a:rPr>
              <a:t>淀粉、纤维素、糖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58972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葡萄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56577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行楷"/>
              </a:rPr>
              <a:t>淀粉、纤维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23280" y="565776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糖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1592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脂质的基本元素组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49600" y="115920"/>
            <a:ext cx="469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  <a:ea typeface="华文中宋"/>
              </a:rPr>
              <a:t>C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  <a:ea typeface="华文中宋"/>
              </a:rPr>
              <a:t>H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  <a:ea typeface="华文中宋"/>
              </a:rPr>
              <a:t>O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  <a:ea typeface="华文中宋"/>
              </a:rPr>
              <a:t>，</a:t>
            </a:r>
            <a:r>
              <a:rPr b="1" lang="zh-CN" sz="3000" spc="-1" strike="noStrike">
                <a:solidFill>
                  <a:srgbClr val="0000cc"/>
                </a:solidFill>
                <a:latin typeface="Tahoma"/>
                <a:ea typeface="华文中宋"/>
              </a:rPr>
              <a:t>有些</a:t>
            </a:r>
            <a:r>
              <a:rPr b="1" lang="zh-CN" sz="3000" spc="-1" strike="noStrike">
                <a:solidFill>
                  <a:srgbClr val="0000cc"/>
                </a:solidFill>
                <a:latin typeface="Tahoma"/>
                <a:ea typeface="华文中宋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Tahoma"/>
                <a:ea typeface="华文中宋"/>
              </a:rPr>
              <a:t>、</a:t>
            </a:r>
            <a:r>
              <a:rPr b="1" lang="zh-CN" sz="3000" spc="-1" strike="noStrike">
                <a:solidFill>
                  <a:srgbClr val="0000cc"/>
                </a:solidFill>
                <a:latin typeface="Tahoma"/>
                <a:ea typeface="华文中宋"/>
              </a:rPr>
              <a:t>N</a:t>
            </a:r>
            <a:r>
              <a:rPr b="1" lang="zh-CN" sz="3000" spc="-1" strike="noStrike">
                <a:solidFill>
                  <a:srgbClr val="0000cc"/>
                </a:solidFill>
                <a:latin typeface="Tahoma"/>
                <a:ea typeface="华文中宋"/>
              </a:rPr>
              <a:t>（如磷脂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411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隶书"/>
              </a:rPr>
              <a:t>固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368136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49160" y="3603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胆固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49160" y="4683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性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9800" y="5873760"/>
            <a:ext cx="14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维生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8242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1736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隶书"/>
              </a:rPr>
              <a:t>脂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2744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隶书"/>
              </a:rPr>
              <a:t>磷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87640" y="180972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储存能量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华文新魏"/>
              </a:rPr>
              <a:t>，保温，缓冲和减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2097000"/>
            <a:ext cx="287280" cy="2521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81772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华文新魏"/>
              </a:rPr>
              <a:t>生物膜的重要成分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磷脂双分子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3321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生物膜的重要成分，参与血液中脂质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16360" y="4559400"/>
            <a:ext cx="41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华文新魏"/>
              </a:rPr>
              <a:t>促进动物生殖器官发育以及生殖细胞形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58388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华文新魏"/>
              </a:rPr>
              <a:t>促进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Ca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华文新魏"/>
              </a:rPr>
              <a:t>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P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华文新魏"/>
              </a:rPr>
              <a:t>的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1125360"/>
            <a:ext cx="7561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隶书"/>
              </a:rPr>
              <a:t>O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隶书"/>
              </a:rPr>
              <a:t>％比糖类少，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隶书"/>
              </a:rPr>
              <a:t>H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隶书"/>
              </a:rPr>
              <a:t>％比糖类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50080" y="97200"/>
            <a:ext cx="6223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物体内的蛋白质千差万别，其原因不可能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成肽键的化学元素不同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成蛋白质的氨基酸种类和数量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氨基酸排列顺序不同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蛋白质的空间结构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下列对核酸的叙述不正确的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核酸是生物的遗传物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核酸的基本组成单位是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核酸分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种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核酸只存在于细胞核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人体中，既是构成细胞膜的重要成分，还参与血液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质的运输的物质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脂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生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61800" y="62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34880" y="2349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50520" y="530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73200" y="153720"/>
            <a:ext cx="7753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下列选项中都是单糖的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葡萄糖      ②乳糖   ③纤维素    ④麦芽糖     ⑤核糖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糖原    ⑦淀粉 ⑧脱氧核糖       ⑨果糖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 ①②⑥⑨   B.  ①⑤⑧⑨    C. ③⑤⑥⑨   D. ③⑥⑦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纤维素是一种多糖，在下列哪种生物中容易找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乳酸菌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草履虫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水稻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竹节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高等生物之所以表现出第二性征，就化学成分而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由于何种物质作用的结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Ａ．蛋白质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核酸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糖类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脂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79240" y="189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90520" y="278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50520" y="530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488000" cy="335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577520" y="-24120"/>
            <a:ext cx="62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下列物质中有的是氨基酸，有的不是，其中能组成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体蛋白质分子的全部氨基酸经缩合反应形成的物质叫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7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69440" y="2637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60080" y="4719600"/>
            <a:ext cx="53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动物细胞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最重要的二糖和多糖分别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 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核糖和淀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葡萄糖和糖原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麦芽糖和淀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乳糖和糖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22160" y="5373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71280" y="692280"/>
          <a:ext cx="8964720" cy="2989080"/>
        </p:xfrm>
        <a:graphic>
          <a:graphicData uri="http://schemas.openxmlformats.org/drawingml/2006/table">
            <a:tbl>
              <a:tblPr/>
              <a:tblGrid>
                <a:gridCol w="1494000"/>
                <a:gridCol w="2124000"/>
                <a:gridCol w="1494000"/>
                <a:gridCol w="38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定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含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结合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隶书"/>
                        </a:rPr>
                        <a:t>自由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584360" y="227664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细胞中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游离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的水，可以自由流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84360" y="1019160"/>
            <a:ext cx="207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细胞中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与其他化合物结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的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65960" y="2637000"/>
            <a:ext cx="14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95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%</a:t>
            </a: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1840" y="1557360"/>
            <a:ext cx="13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约</a:t>
            </a: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2060640"/>
            <a:ext cx="40672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是细胞内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良好溶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参与细胞内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生化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运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养料和代谢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39800" y="1413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是细胞的组成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7680" y="39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自由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11680" y="400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结合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92000" y="429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代谢活动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旺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92000" y="3773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代谢活动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下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426096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331640" y="4403880"/>
            <a:ext cx="2160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15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细胞中的无机物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407664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黑体"/>
              </a:rPr>
              <a:t>含水量越多，代谢越旺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50640" y="5108400"/>
            <a:ext cx="687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细胞中的无机盐大多数以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_____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的形式存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是叶绿素的成分，动物细胞血液中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会发生抽搐，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_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会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67800" y="5021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离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5040" y="5423040"/>
            <a:ext cx="11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Mg</a:t>
            </a:r>
            <a:r>
              <a:rPr b="1" lang="zh-CN" sz="32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84080" y="5589720"/>
            <a:ext cx="10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Ca</a:t>
            </a:r>
            <a:r>
              <a:rPr b="1" lang="zh-CN" sz="32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11760" y="6021360"/>
            <a:ext cx="10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Fe</a:t>
            </a:r>
            <a:r>
              <a:rPr b="1" lang="zh-CN" sz="32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47640" y="97200"/>
            <a:ext cx="7905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人体活细胞里的核酸中，含氮碱基、核苷酸、五碳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依次有 （    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下列各种糖类物质中，既存在于动物细胞内又存在于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物细胞内的是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淀粉和核糖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葡萄糖、核糖和麦芽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核糖、脱氧核糖和葡萄糖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糖原、乳糖、蔗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血红蛋白和胰岛素都是蛋白质，但它们的功能各不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同。这是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氨基酸的种类和数目不同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氨基酸的排列顺序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肽链的空间结构不同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.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都正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95240" y="62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97800" y="278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29800" y="4941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90240" y="308160"/>
            <a:ext cx="6493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ARS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病毒中不可能含有的碱基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尿嘧啶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腺嘌呤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鸟嘌呤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以下各组细胞结构中，都含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细胞核、线粒体、细胞膜   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线粒体、叶绿体、细胞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核膜、线粒体、叶绿体          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核膜、细胞膜、拟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合成下列物质需要供给氮源的是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糖原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脂肪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淀粉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 医生给低血糖休克病人在静脉内注射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﹪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葡萄糖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液，其目的是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供给全面营养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供给能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维持细胞的渗透压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供给水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22160" y="189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191628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30160" y="3357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82520" y="4941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12800" y="525600"/>
            <a:ext cx="7840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子蕴藏的信息所支配合成的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完全水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后，得到的化学物质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脱氧核糖、碱基和磷酸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脱氧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核糖、碱基和磷酸   　　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核苷酸和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已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氨基酸的平均分子量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现有一蛋白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子，它由两条多肽链组成，共有肽键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9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。此蛋白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相对分子量最接近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12800         B.12544       C.11036        D.122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人体免疫球蛋白中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IgG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条肽链组成，共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6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氨基酸，则该蛋白质分子中至少含有游离的氨基和羧基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别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76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64        B.76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60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.76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62        D.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82160" y="855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90160" y="321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58520" y="5373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29080" y="-37080"/>
            <a:ext cx="5751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组成大熊猫身体的主要元素是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u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Ｋ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组成生物体的最基本元素是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H          B.O        C.N       D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体血液中缺乏那种无机盐时，肌肉会抽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钙盐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钠盐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磷盐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铁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许多酶的活化剂，例如能激活硝酸还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酶。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植物就无法利用硝酸盐，这说明无机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维持细胞形态和功能有重要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维持生物体的生命活动有重要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维持细胞的酸碱平衡有重要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1467000"/>
                <a:tab algn="l" pos="2867040"/>
                <a:tab algn="l" pos="386712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调节细胞内的渗透压有重要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10880" y="62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58520" y="2205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69800" y="306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79240" y="47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42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现有含水量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％、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％、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％、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％的小麦，分别贮存于条件相同的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粮仓中。在贮存过程中，有机物损耗最少的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微量元素是指人体中总含量不到万分之一，质量总和不到人体质量千分之一的二十种元素，这些元素对人体的正常代谢和健康起着重要作用，下列元素中不属于微量元素的是（　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I            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K           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e         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下列与无机盐的功能无关的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是细胞中能源物质之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是某些复杂化合物的重要组成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能维持生物体的生命活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能维持细胞的形态和功能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69800" y="105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46160" y="3284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69800" y="402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8000" y="11592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生物体内含量极少，但对维持生物体正常生命活动必不可少的元素有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Ａ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e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Ｍ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Zn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g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u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Zn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u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Ｍ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Zn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o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u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9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在不同生长发育期，其体内含水量也不同。以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时期中，含水量最多的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)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老年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年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青少年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幼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2160" y="134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95240" y="3284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200" y="4221000"/>
            <a:ext cx="621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农民在水稻收获后要将种子晒干，而在播种前又要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，这主要是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由水含量影响新陈代谢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结合水是细胞重要组成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是光合作用的重要原料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是呼吸作用的重要原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86880" y="5877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41120" y="836640"/>
          <a:ext cx="8820360" cy="3423960"/>
        </p:xfrm>
        <a:graphic>
          <a:graphicData uri="http://schemas.openxmlformats.org/drawingml/2006/table">
            <a:tbl>
              <a:tblPr/>
              <a:tblGrid>
                <a:gridCol w="2268720"/>
                <a:gridCol w="2143080"/>
                <a:gridCol w="2203560"/>
                <a:gridCol w="220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材 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合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试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苹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花生种子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马铃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豆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5119920" y="1413000"/>
            <a:ext cx="10342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隶书"/>
              </a:rPr>
              <a:t>斐林试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71560" y="2205000"/>
            <a:ext cx="537480" cy="991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隶书"/>
              </a:rPr>
              <a:t>苏丹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隶书"/>
              </a:rPr>
              <a:t>（或苏丹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240" y="321300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隶书"/>
              </a:rPr>
              <a:t>碘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50800" y="3716280"/>
            <a:ext cx="12474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隶书"/>
              </a:rPr>
              <a:t>双缩脲试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84240" y="1413000"/>
            <a:ext cx="12474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砖红色沉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84240" y="2276640"/>
            <a:ext cx="124740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橘黄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（或红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19240" y="321300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蓝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19240" y="371628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4920" y="260280"/>
            <a:ext cx="867564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实验：检测生物组织中的糖类、脂肪和蛋白质</a:t>
            </a:r>
            <a:endParaRPr b="1" lang="en-US" sz="24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6" name=""/>
          <p:cNvSpPr/>
          <p:nvPr/>
        </p:nvSpPr>
        <p:spPr>
          <a:xfrm>
            <a:off x="2319480" y="1341360"/>
            <a:ext cx="228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还原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Arial"/>
                <a:ea typeface="黑体"/>
              </a:rPr>
              <a:t>（葡萄糖、果糖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5260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脂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4160" y="321156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淀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32640" y="378936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蛋白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6200" y="44280"/>
            <a:ext cx="5618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生命活动的主要承担者 —蛋白质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620640"/>
            <a:ext cx="843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蛋白质的基本组成元素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基本组成单位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单体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)_________,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有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_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种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3080" y="10587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氨基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10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5840" y="2303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结构通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2374920"/>
            <a:ext cx="37335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简写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COO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308720" y="2211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5520" y="172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19160" y="2432160"/>
            <a:ext cx="4560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O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19640" y="22827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5800" y="1798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419640" y="28062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5800" y="3022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280" y="3527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华文行楷"/>
                <a:ea typeface="华文行楷"/>
              </a:rPr>
              <a:t>氨基酸的判断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16000" y="372744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NH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COOH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是否连在同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4535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氨基酸的结合方式：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__________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形成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______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4462560"/>
            <a:ext cx="27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脱水缩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96728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肽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5680" y="5327640"/>
            <a:ext cx="30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简写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76600" y="5327640"/>
            <a:ext cx="178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5830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4920" y="5830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5830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6118200"/>
            <a:ext cx="5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611964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476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H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O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34880" y="836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氨基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种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6680" y="14158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氨基酸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数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68040" y="1957320"/>
            <a:ext cx="21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氨基酸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排列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9360" y="2462040"/>
            <a:ext cx="21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空间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981000"/>
            <a:ext cx="34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结构的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567600" y="1052640"/>
            <a:ext cx="1293120" cy="1800000"/>
            <a:chOff x="3567600" y="1052640"/>
            <a:chExt cx="1293120" cy="1800000"/>
          </a:xfrm>
        </p:grpSpPr>
        <p:sp>
          <p:nvSpPr>
            <p:cNvPr id="142" name=""/>
            <p:cNvSpPr/>
            <p:nvPr/>
          </p:nvSpPr>
          <p:spPr>
            <a:xfrm>
              <a:off x="3636720" y="1052640"/>
              <a:ext cx="73080" cy="180000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67600" y="122616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9900cc"/>
                  </a:solidFill>
                  <a:latin typeface="Arial"/>
                  <a:ea typeface="华文行楷"/>
                </a:rPr>
                <a:t>不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84720" y="1773000"/>
              <a:ext cx="576000" cy="431640"/>
            </a:xfrm>
            <a:custGeom>
              <a:avLst/>
              <a:gdLst>
                <a:gd name="textAreaLeft" fmla="*/ 90000 w 576000"/>
                <a:gd name="textAreaRight" fmla="*/ 504000 w 576000"/>
                <a:gd name="textAreaTop" fmla="*/ 108000 h 431640"/>
                <a:gd name="textAreaBottom" fmla="*/ 324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588640" y="1397160"/>
            <a:ext cx="2538360" cy="1025280"/>
            <a:chOff x="5588640" y="1397160"/>
            <a:chExt cx="2538360" cy="1025280"/>
          </a:xfrm>
        </p:grpSpPr>
        <p:sp>
          <p:nvSpPr>
            <p:cNvPr id="146" name=""/>
            <p:cNvSpPr/>
            <p:nvPr/>
          </p:nvSpPr>
          <p:spPr>
            <a:xfrm>
              <a:off x="6531120" y="1397160"/>
              <a:ext cx="360360" cy="504720"/>
            </a:xfrm>
            <a:prstGeom prst="downArrow">
              <a:avLst>
                <a:gd name="adj1" fmla="val 50000"/>
                <a:gd name="adj2" fmla="val 35015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88640" y="1901880"/>
              <a:ext cx="253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质功能的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380360" y="170028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多样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6000" y="836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多样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蛋白质的结构为什么会有多样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85640" y="3500280"/>
            <a:ext cx="1887120" cy="301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、结构蛋白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肌肉、头发、羽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、催化作用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绝大多数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、运输作用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血红蛋白、载体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、调节生命活动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胰岛素、生长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、免疫作用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、识别作用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糖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2708280"/>
            <a:ext cx="503280" cy="649440"/>
          </a:xfrm>
          <a:prstGeom prst="downArrow">
            <a:avLst>
              <a:gd name="adj1" fmla="val 50000"/>
              <a:gd name="adj2" fmla="val 322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lick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052640"/>
            <a:ext cx="453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＝ 脱去的水分子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1640" y="105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肽键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87160" y="1587600"/>
            <a:ext cx="20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＝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n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4280"/>
            <a:ext cx="8893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氨基酸形成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条肽链时，形成几个肽键？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脱掉几个水分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276640"/>
            <a:ext cx="91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某蛋白质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n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个氨基酸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m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条肽链组成，至少含游离氨基（－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NH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）与游离羧基（－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COOH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____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7440" y="2781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86064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某蛋白质含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氨基酸，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条多肽链构成的，共若每个氨基酸分子量均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则该蛋白质的相对分子量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7800" y="5229360"/>
            <a:ext cx="33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an - 18(n-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1700280"/>
            <a:ext cx="482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＝ 氨基酸数—肽链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8:47:35Z</dcterms:created>
  <dc:creator>DeLL</dc:creator>
  <dc:description/>
  <dc:language>en-US</dc:language>
  <cp:lastModifiedBy>DeLL</cp:lastModifiedBy>
  <dcterms:modified xsi:type="dcterms:W3CDTF">2008-07-08T08:49:02Z</dcterms:modified>
  <cp:revision>1</cp:revision>
  <dc:subject/>
  <dc:title>幻灯片 1</dc:title>
</cp:coreProperties>
</file>