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15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81106-28EF-4DEA-9004-398F54CAF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AB5DA-0A5E-4969-8F6B-5460FE07C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9C082-2FC2-41E3-A51C-15B64F397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9BFBE-CB75-405B-859E-6732B8702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8AD3D-043D-4CDF-8A82-A42621D2C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D8790-5B84-45AE-8D2B-1A6296257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C0820-4D6E-4B92-ACFC-2249B6DA0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81AD2-77F0-4E0E-999F-4F1DE8B51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DE16D-16E6-408E-BB92-337526EDA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F3EF0-4BD3-49C5-B45E-3305657E7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7DD87-B109-4F50-9EDB-8516D26AD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AB2EA-B12E-4EC4-B199-819952F89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17B86-1C02-4642-9D8F-145A87A88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A2FAC-2D53-46B6-89B8-2AC828B15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1321D-E9D8-404B-806E-B18F09D9F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47499-0A6F-4100-BBD7-5F6128771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A8650-72A8-4239-B066-EFDDE4ACE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C8A0B-92EE-468E-B089-EF758CDDA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49A38-5AD0-4F9A-A857-99B765BA6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DA86E-159A-4681-BA86-5363308C6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1EACB-0E1D-4835-A18E-532BEAC49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78E54-BDC7-4B8C-A9AE-170485893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E30A2-329C-424D-AB33-7FC444196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01730-4F6B-4E72-BF4F-C5738C49C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1FDA5-979F-4C46-9C27-1EEDF03771E7}" type="slidenum">
              <a:rPr b="0" lang="zh-CN" sz="14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62160" y="1066680"/>
            <a:ext cx="46479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13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0764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B5D42-4D1D-49B3-8ECB-DF53986B3567}" type="slidenum">
              <a:rPr b="0" lang="zh-CN" sz="14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hyperlink" Target="http://news.xinhuanet.com/food/2005-03/24/content_2737600.htm" TargetMode="External"/><Relationship Id="rId4" Type="http://schemas.openxmlformats.org/officeDocument/2006/relationships/image" Target="../media/image8.jpeg"/><Relationship Id="rId5" Type="http://schemas.openxmlformats.org/officeDocument/2006/relationships/hyperlink" Target="http://www.jmdg.cn/Article_Print.asp?ArticleID=176" TargetMode="External"/><Relationship Id="rId6" Type="http://schemas.openxmlformats.org/officeDocument/2006/relationships/image" Target="../media/image9.jpeg"/><Relationship Id="rId7" Type="http://schemas.openxmlformats.org/officeDocument/2006/relationships/hyperlink" Target="http://www.hd88.goodsres.com/product/show_html/37/02/99127.html" TargetMode="External"/><Relationship Id="rId8" Type="http://schemas.openxmlformats.org/officeDocument/2006/relationships/image" Target="../media/image10.jpe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14036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4175280" y="0"/>
            <a:ext cx="4968720" cy="330372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4"/>
          <a:stretch/>
        </p:blipFill>
        <p:spPr>
          <a:xfrm>
            <a:off x="4211640" y="3379680"/>
            <a:ext cx="4932360" cy="3478320"/>
          </a:xfrm>
          <a:prstGeom prst="rect">
            <a:avLst/>
          </a:prstGeom>
          <a:ln w="0">
            <a:noFill/>
          </a:ln>
        </p:spPr>
      </p:pic>
      <p:grpSp>
        <p:nvGrpSpPr>
          <p:cNvPr id="84" name=""/>
          <p:cNvGrpSpPr/>
          <p:nvPr/>
        </p:nvGrpSpPr>
        <p:grpSpPr>
          <a:xfrm>
            <a:off x="755640" y="476280"/>
            <a:ext cx="7416720" cy="5570640"/>
            <a:chOff x="755640" y="476280"/>
            <a:chExt cx="7416720" cy="5570640"/>
          </a:xfrm>
        </p:grpSpPr>
        <p:pic>
          <p:nvPicPr>
            <p:cNvPr id="85" name="" descr=""/>
            <p:cNvPicPr/>
            <p:nvPr/>
          </p:nvPicPr>
          <p:blipFill>
            <a:blip r:embed="rId5"/>
            <a:stretch/>
          </p:blipFill>
          <p:spPr>
            <a:xfrm>
              <a:off x="755640" y="476280"/>
              <a:ext cx="7416720" cy="557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"/>
            <p:cNvSpPr/>
            <p:nvPr/>
          </p:nvSpPr>
          <p:spPr>
            <a:xfrm>
              <a:off x="1332000" y="5084640"/>
              <a:ext cx="6192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33cc"/>
                  </a:solidFill>
                  <a:latin typeface="Arial"/>
                  <a:ea typeface="ＭＳ Ｐゴシック"/>
                </a:rPr>
                <a:t>2006.2</a:t>
              </a:r>
              <a:r>
                <a:rPr b="1" lang="zh-CN" sz="3600" spc="-1" strike="noStrike">
                  <a:solidFill>
                    <a:srgbClr val="0033cc"/>
                  </a:solidFill>
                  <a:latin typeface="Arial"/>
                  <a:ea typeface="ＭＳ Ｐゴシック"/>
                </a:rPr>
                <a:t>湖南株洲再现大头娃娃</a:t>
              </a:r>
              <a:endParaRPr b="0" lang="en-US" sz="36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92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192" fill="hold"/>
                                        <p:tgtEl>
                                          <p:spTgt spid="8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192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192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92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" dur="192" fill="hold"/>
                                        <p:tgtEl>
                                          <p:spTgt spid="8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0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1" dur="192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2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" dur="192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4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92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" dur="192" fill="hold"/>
                                        <p:tgtEl>
                                          <p:spTgt spid="8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1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2" dur="192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3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4" dur="192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5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92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1" dur="192" fill="hold"/>
                                        <p:tgtEl>
                                          <p:spTgt spid="8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2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3" dur="192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4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5" dur="192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6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324000" y="90756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  <a:ea typeface="华文中宋"/>
              </a:rPr>
              <a:t>蛋白质能够承担多种多样的功能，这与它的结构有什么关系？关于蛋白质的结构你了解多少？</a:t>
            </a:r>
            <a:endParaRPr b="0" lang="en-US" sz="5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572"/>
                </a:solidFill>
                <a:latin typeface="Arial"/>
              </a:rPr>
              <a:t>【合作学习】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-360" y="1125000"/>
            <a:ext cx="884556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5050"/>
                </a:solidFill>
                <a:latin typeface="Arial"/>
              </a:rPr>
              <a:t>一、再认蛋白质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  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比较下面几种物质的相对分子质量，你能得出什么结论？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0" y="3357720"/>
          <a:ext cx="8820000" cy="2549520"/>
        </p:xfrm>
        <a:graphic>
          <a:graphicData uri="http://schemas.openxmlformats.org/drawingml/2006/table">
            <a:tbl>
              <a:tblPr/>
              <a:tblGrid>
                <a:gridCol w="1440000"/>
                <a:gridCol w="1295280"/>
                <a:gridCol w="1800360"/>
                <a:gridCol w="4284360"/>
              </a:tblGrid>
              <a:tr h="164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名称</a:t>
                      </a:r>
                      <a:endParaRPr b="0" lang="en-US" sz="32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1368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H</a:t>
                      </a:r>
                      <a:r>
                        <a:rPr b="1" lang="zh-CN" sz="3200" spc="-1" strike="noStrike" baseline="-25000">
                          <a:solidFill>
                            <a:srgbClr val="0033cc"/>
                          </a:solidFill>
                          <a:latin typeface="Arial"/>
                        </a:rPr>
                        <a:t>2</a:t>
                      </a:r>
                      <a:r>
                        <a:rPr b="1" lang="zh-CN" sz="32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O</a:t>
                      </a:r>
                      <a:endParaRPr b="0" lang="en-US" sz="32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（水）</a:t>
                      </a:r>
                      <a:endParaRPr b="0" lang="en-US" sz="32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1368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H</a:t>
                      </a:r>
                      <a:r>
                        <a:rPr b="1" lang="zh-CN" sz="3200" spc="-1" strike="noStrike" baseline="-25000">
                          <a:solidFill>
                            <a:srgbClr val="0033cc"/>
                          </a:solidFill>
                          <a:latin typeface="Arial"/>
                        </a:rPr>
                        <a:t>2</a:t>
                      </a:r>
                      <a:r>
                        <a:rPr b="1" lang="zh-CN" sz="32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SO</a:t>
                      </a:r>
                      <a:r>
                        <a:rPr b="1" lang="zh-CN" sz="3200" spc="-1" strike="noStrike" baseline="-25000">
                          <a:solidFill>
                            <a:srgbClr val="0033cc"/>
                          </a:solidFill>
                          <a:latin typeface="Arial"/>
                        </a:rPr>
                        <a:t>4</a:t>
                      </a:r>
                      <a:endParaRPr b="0" lang="en-US" sz="32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（硫酸）</a:t>
                      </a:r>
                      <a:endParaRPr b="0" lang="en-US" sz="32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1368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C</a:t>
                      </a:r>
                      <a:r>
                        <a:rPr b="1" lang="zh-CN" sz="3200" spc="-1" strike="noStrike" baseline="-25000">
                          <a:solidFill>
                            <a:srgbClr val="0033cc"/>
                          </a:solidFill>
                          <a:latin typeface="Arial"/>
                        </a:rPr>
                        <a:t>30</a:t>
                      </a:r>
                      <a:r>
                        <a:rPr b="1" lang="zh-CN" sz="32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H</a:t>
                      </a:r>
                      <a:r>
                        <a:rPr b="1" lang="zh-CN" sz="3200" spc="-1" strike="noStrike" baseline="-25000">
                          <a:solidFill>
                            <a:srgbClr val="0033cc"/>
                          </a:solidFill>
                          <a:latin typeface="Arial"/>
                        </a:rPr>
                        <a:t>4816</a:t>
                      </a:r>
                      <a:r>
                        <a:rPr b="1" lang="zh-CN" sz="32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O</a:t>
                      </a:r>
                      <a:r>
                        <a:rPr b="1" lang="zh-CN" sz="3200" spc="-1" strike="noStrike" baseline="-25000">
                          <a:solidFill>
                            <a:srgbClr val="0033cc"/>
                          </a:solidFill>
                          <a:latin typeface="Arial"/>
                        </a:rPr>
                        <a:t>872</a:t>
                      </a:r>
                      <a:r>
                        <a:rPr b="1" lang="zh-CN" sz="32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N</a:t>
                      </a:r>
                      <a:r>
                        <a:rPr b="1" lang="zh-CN" sz="3200" spc="-1" strike="noStrike" baseline="-25000">
                          <a:solidFill>
                            <a:srgbClr val="0033cc"/>
                          </a:solidFill>
                          <a:latin typeface="Arial"/>
                        </a:rPr>
                        <a:t>280</a:t>
                      </a:r>
                      <a:r>
                        <a:rPr b="1" lang="zh-CN" sz="32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S</a:t>
                      </a:r>
                      <a:r>
                        <a:rPr b="1" lang="zh-CN" sz="3200" spc="-1" strike="noStrike" baseline="-25000">
                          <a:solidFill>
                            <a:srgbClr val="0033cc"/>
                          </a:solidFill>
                          <a:latin typeface="Arial"/>
                        </a:rPr>
                        <a:t>8</a:t>
                      </a:r>
                      <a:r>
                        <a:rPr b="1" lang="zh-CN" sz="32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Fe</a:t>
                      </a:r>
                      <a:r>
                        <a:rPr b="1" lang="zh-CN" sz="3200" spc="-1" strike="noStrike" baseline="-25000">
                          <a:solidFill>
                            <a:srgbClr val="0033cc"/>
                          </a:solidFill>
                          <a:latin typeface="Arial"/>
                        </a:rPr>
                        <a:t>4</a:t>
                      </a:r>
                      <a:r>
                        <a:rPr b="1" lang="zh-CN" sz="32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 </a:t>
                      </a:r>
                      <a:r>
                        <a:rPr b="1" lang="zh-CN" sz="32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（血红蛋白）</a:t>
                      </a:r>
                      <a:endParaRPr b="0" lang="en-US" sz="32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cc"/>
                      </a:solidFill>
                    </a:lnL>
                    <a:lnR w="13680">
                      <a:solidFill>
                        <a:srgbClr val="0033cc"/>
                      </a:solidFill>
                    </a:lnR>
                    <a:lnT w="1368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90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分子量</a:t>
                      </a:r>
                      <a:endParaRPr b="0" lang="en-US" sz="32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1368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32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1368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98</a:t>
                      </a:r>
                      <a:endParaRPr b="0" lang="en-US" sz="32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1368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22329</a:t>
                      </a:r>
                      <a:endParaRPr b="0" lang="en-US" sz="32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cc"/>
                      </a:solidFill>
                    </a:lnL>
                    <a:lnR w="1368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13680">
                      <a:solidFill>
                        <a:srgbClr val="0033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9" name=""/>
          <p:cNvSpPr/>
          <p:nvPr/>
        </p:nvSpPr>
        <p:spPr>
          <a:xfrm>
            <a:off x="0" y="58770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5050"/>
                </a:solidFill>
                <a:latin typeface="Arial"/>
              </a:rPr>
              <a:t>结论：蛋白质是一种高分子有机化合物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079640" y="1125360"/>
            <a:ext cx="200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000000"/>
                </a:solidFill>
                <a:latin typeface="Arial"/>
                <a:ea typeface="华文新魏"/>
              </a:rPr>
              <a:t>食物中蛋白质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422360" y="292428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cc"/>
                </a:solidFill>
                <a:latin typeface="Arial"/>
                <a:ea typeface="华文新魏"/>
              </a:rPr>
              <a:t>氨基酸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987640" y="3357720"/>
            <a:ext cx="2089080" cy="0"/>
          </a:xfrm>
          <a:prstGeom prst="line">
            <a:avLst/>
          </a:prstGeom>
          <a:ln w="255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258920" y="1773360"/>
            <a:ext cx="72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方正舒体"/>
              </a:rPr>
              <a:t>消化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748320" y="256536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cc"/>
                </a:solidFill>
                <a:latin typeface="Arial"/>
                <a:ea typeface="方正舒体"/>
              </a:rPr>
              <a:t>吸收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710320" y="2997360"/>
            <a:ext cx="261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cc"/>
                </a:solidFill>
                <a:latin typeface="Arial"/>
                <a:ea typeface="华文新魏"/>
              </a:rPr>
              <a:t>组织细胞中氨基酸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979640" y="1844640"/>
            <a:ext cx="0" cy="1152720"/>
          </a:xfrm>
          <a:prstGeom prst="line">
            <a:avLst/>
          </a:prstGeom>
          <a:ln w="255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796000" y="3645000"/>
            <a:ext cx="72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方正舒体"/>
              </a:rPr>
              <a:t>合成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659640" y="3789360"/>
            <a:ext cx="0" cy="1087560"/>
          </a:xfrm>
          <a:prstGeom prst="line">
            <a:avLst/>
          </a:prstGeom>
          <a:ln w="255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830920" y="4797360"/>
            <a:ext cx="200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000000"/>
                </a:solidFill>
                <a:latin typeface="Arial"/>
                <a:ea typeface="华文新魏"/>
              </a:rPr>
              <a:t>人体内蛋白质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324320" y="5445000"/>
            <a:ext cx="453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cc"/>
                </a:solidFill>
                <a:latin typeface="Arial"/>
                <a:ea typeface="华文新魏"/>
              </a:rPr>
              <a:t>氨基酸是蛋白质的基本单位。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150920" y="189000"/>
            <a:ext cx="2009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华文中宋"/>
              </a:rPr>
              <a:t>知识回顾：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0676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5050"/>
                </a:solidFill>
                <a:latin typeface="Arial"/>
              </a:rPr>
              <a:t>二、细看氨基酸</a:t>
            </a:r>
            <a:br>
              <a:rPr sz="4000"/>
            </a:br>
            <a:r>
              <a:rPr b="1" lang="zh-CN" sz="4000" spc="-1" strike="noStrike">
                <a:solidFill>
                  <a:srgbClr val="007572"/>
                </a:solidFill>
                <a:latin typeface="Arial"/>
              </a:rPr>
              <a:t>   探究活动</a:t>
            </a:r>
            <a:r>
              <a:rPr b="1" lang="zh-CN" sz="4000" spc="-1" strike="noStrike">
                <a:solidFill>
                  <a:srgbClr val="007572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007572"/>
                </a:solidFill>
                <a:latin typeface="Arial"/>
              </a:rPr>
              <a:t>：</a:t>
            </a:r>
            <a:endParaRPr b="0" lang="en-US" sz="4000" spc="-1" strike="noStrike">
              <a:solidFill>
                <a:srgbClr val="007572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0" y="1557360"/>
            <a:ext cx="9144000" cy="403236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548496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请仔细比较上述氨基酸，讨论它们有什么共同点？判断某分子是不是氨基酸的依据是什么？不同氨基酸区别在哪里？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562120" y="3567240"/>
            <a:ext cx="200160" cy="693720"/>
          </a:xfrm>
          <a:custGeom>
            <a:avLst/>
            <a:gdLst>
              <a:gd name="textAreaLeft" fmla="*/ 127800 w 200160"/>
              <a:gd name="textAreaRight" fmla="*/ 200520 w 200160"/>
              <a:gd name="textAreaTop" fmla="*/ 18000 h 693720"/>
              <a:gd name="textAreaBottom" fmla="*/ 675720 h 693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2421000"/>
            <a:ext cx="8839080" cy="33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marL="260640" indent="-260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5050"/>
                </a:solidFill>
                <a:latin typeface="Arial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ff5050"/>
                </a:solidFill>
                <a:latin typeface="Arial"/>
                <a:ea typeface="楷体_GB2312"/>
              </a:rPr>
              <a:t>结构特点：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260640" indent="-260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33cc"/>
                </a:solidFill>
                <a:latin typeface="宋体"/>
              </a:rPr>
              <a:t>每种氨基酸分子</a:t>
            </a:r>
            <a:r>
              <a:rPr b="1" lang="zh-CN" sz="2800" spc="-1" strike="noStrike" u="sng">
                <a:solidFill>
                  <a:srgbClr val="0033cc"/>
                </a:solidFill>
                <a:uFillTx/>
                <a:latin typeface="宋体"/>
              </a:rPr>
              <a:t>　　　</a:t>
            </a:r>
            <a:r>
              <a:rPr b="1" lang="zh-CN" sz="2800" spc="-1" strike="noStrike">
                <a:solidFill>
                  <a:srgbClr val="0033cc"/>
                </a:solidFill>
                <a:latin typeface="宋体"/>
              </a:rPr>
              <a:t>都含有</a:t>
            </a:r>
            <a:r>
              <a:rPr b="1" lang="zh-CN" sz="2800" spc="-1" strike="noStrike" u="sng">
                <a:solidFill>
                  <a:srgbClr val="0033cc"/>
                </a:solidFill>
                <a:uFillTx/>
                <a:latin typeface="宋体"/>
              </a:rPr>
              <a:t>　　　　</a:t>
            </a:r>
            <a:r>
              <a:rPr b="1" lang="zh-CN" sz="2800" spc="-1" strike="noStrike">
                <a:solidFill>
                  <a:srgbClr val="0033cc"/>
                </a:solidFill>
                <a:latin typeface="宋体"/>
              </a:rPr>
              <a:t>（</a:t>
            </a:r>
            <a:r>
              <a:rPr b="1" lang="zh-CN" sz="2800" spc="-1" strike="noStrike" u="sng">
                <a:solidFill>
                  <a:srgbClr val="0033cc"/>
                </a:solidFill>
                <a:uFillTx/>
                <a:latin typeface="宋体"/>
              </a:rPr>
              <a:t>　　　</a:t>
            </a:r>
            <a:r>
              <a:rPr b="1" lang="zh-CN" sz="2800" spc="-1" strike="noStrike">
                <a:solidFill>
                  <a:srgbClr val="0033cc"/>
                </a:solidFill>
                <a:latin typeface="宋体"/>
              </a:rPr>
              <a:t>）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260640" indent="-260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宋体"/>
              </a:rPr>
              <a:t>　和</a:t>
            </a:r>
            <a:r>
              <a:rPr b="1" lang="zh-CN" sz="2800" spc="-1" strike="noStrike" u="sng">
                <a:solidFill>
                  <a:srgbClr val="0033cc"/>
                </a:solidFill>
                <a:uFillTx/>
                <a:latin typeface="宋体"/>
              </a:rPr>
              <a:t>　　　　　</a:t>
            </a:r>
            <a:r>
              <a:rPr b="1" lang="zh-CN" sz="2800" spc="-1" strike="noStrike">
                <a:solidFill>
                  <a:srgbClr val="0033cc"/>
                </a:solidFill>
                <a:latin typeface="宋体"/>
              </a:rPr>
              <a:t>（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宋体"/>
              </a:rPr>
              <a:t>　　　　</a:t>
            </a:r>
            <a:r>
              <a:rPr b="1" lang="zh-CN" sz="2800" spc="-1" strike="noStrike">
                <a:solidFill>
                  <a:srgbClr val="0033cc"/>
                </a:solidFill>
                <a:latin typeface="宋体"/>
              </a:rPr>
              <a:t>）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260640" indent="-260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33cc"/>
                </a:solidFill>
                <a:latin typeface="宋体"/>
              </a:rPr>
              <a:t>且都有一个氨基和一个羧基连接在</a:t>
            </a:r>
            <a:r>
              <a:rPr b="1" lang="zh-CN" sz="2800" spc="-1" strike="noStrike" u="sng">
                <a:solidFill>
                  <a:srgbClr val="0033cc"/>
                </a:solidFill>
                <a:uFillTx/>
                <a:latin typeface="宋体"/>
              </a:rPr>
              <a:t>　　　　　　</a:t>
            </a:r>
            <a:r>
              <a:rPr b="1" lang="zh-CN" sz="2800" spc="-1" strike="noStrike">
                <a:solidFill>
                  <a:srgbClr val="0033cc"/>
                </a:solidFill>
                <a:latin typeface="宋体"/>
              </a:rPr>
              <a:t>上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260640" indent="-260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33cc"/>
                </a:solidFill>
                <a:latin typeface="宋体"/>
              </a:rPr>
              <a:t>氨基酸分子不同，就不同在</a:t>
            </a:r>
            <a:r>
              <a:rPr b="1" lang="zh-CN" sz="2800" spc="-1" strike="noStrike" u="sng">
                <a:solidFill>
                  <a:srgbClr val="0033cc"/>
                </a:solidFill>
                <a:uFillTx/>
                <a:latin typeface="宋体"/>
              </a:rPr>
              <a:t>     </a:t>
            </a:r>
            <a:r>
              <a:rPr b="1" lang="zh-CN" sz="2800" spc="-1" strike="noStrike">
                <a:solidFill>
                  <a:srgbClr val="0033cc"/>
                </a:solidFill>
                <a:latin typeface="宋体"/>
              </a:rPr>
              <a:t>。如甘氨酸</a:t>
            </a:r>
            <a:r>
              <a:rPr b="1" lang="zh-CN" sz="2800" spc="-1" strike="noStrike">
                <a:solidFill>
                  <a:srgbClr val="0033cc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0033cc"/>
                </a:solidFill>
                <a:latin typeface="宋体"/>
              </a:rPr>
              <a:t>丙氨酸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260640" indent="-260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                                                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必需氨基酸：</a:t>
            </a:r>
            <a:r>
              <a:rPr b="1" lang="zh-CN" sz="3200" spc="-1" strike="noStrike" u="sng">
                <a:solidFill>
                  <a:srgbClr val="0033cc"/>
                </a:solidFill>
                <a:uFillTx/>
                <a:latin typeface="Arial"/>
              </a:rPr>
              <a:t>                          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260640" indent="-260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氨基酸约有</a:t>
            </a:r>
            <a:r>
              <a:rPr b="1" lang="zh-CN" sz="3200" spc="-1" strike="noStrike" u="sng">
                <a:solidFill>
                  <a:srgbClr val="0033cc"/>
                </a:solidFill>
                <a:uFillTx/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种，其中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260640" indent="-260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                                                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非必需氨基酸：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916360" y="2924280"/>
            <a:ext cx="122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至少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003640" y="2997360"/>
            <a:ext cx="194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一个氨基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804000" y="2924280"/>
            <a:ext cx="1368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宋体"/>
              </a:rPr>
              <a:t>—</a:t>
            </a:r>
            <a:r>
              <a:rPr b="1" lang="en-US" sz="2800" spc="-1" strike="noStrike">
                <a:solidFill>
                  <a:srgbClr val="ff3300"/>
                </a:solidFill>
                <a:latin typeface="宋体"/>
              </a:rPr>
              <a:t>NH</a:t>
            </a:r>
            <a:r>
              <a:rPr b="1" lang="en-US" sz="2800" spc="-1" strike="noStrike" baseline="-25000">
                <a:solidFill>
                  <a:srgbClr val="ff3300"/>
                </a:solidFill>
                <a:latin typeface="宋体"/>
              </a:rPr>
              <a:t>2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900000" y="3429000"/>
            <a:ext cx="208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一个羧基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771640" y="350028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—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COOH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356000" y="1125360"/>
            <a:ext cx="1035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C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4859280" y="1483920"/>
            <a:ext cx="576360" cy="20520"/>
          </a:xfrm>
          <a:prstGeom prst="line">
            <a:avLst/>
          </a:prstGeom>
          <a:ln w="572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87840" y="735120"/>
            <a:ext cx="0" cy="546120"/>
          </a:xfrm>
          <a:prstGeom prst="line">
            <a:avLst/>
          </a:prstGeom>
          <a:ln w="572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3635280" y="1557000"/>
            <a:ext cx="647640" cy="20520"/>
          </a:xfrm>
          <a:prstGeom prst="line">
            <a:avLst/>
          </a:prstGeom>
          <a:ln w="572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572000" y="1773360"/>
            <a:ext cx="12600" cy="523800"/>
          </a:xfrm>
          <a:prstGeom prst="line">
            <a:avLst/>
          </a:prstGeom>
          <a:ln w="572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356000" y="2133720"/>
            <a:ext cx="719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5050"/>
                </a:solidFill>
                <a:latin typeface="楷体_GB2312"/>
                <a:ea typeface="楷体_GB2312"/>
              </a:rPr>
              <a:t>H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580000" y="1052640"/>
            <a:ext cx="2071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COOH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700360" y="1125360"/>
            <a:ext cx="164772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NH</a:t>
            </a:r>
            <a:r>
              <a:rPr b="1" lang="en-US" sz="4400" spc="-1" strike="noStrike" baseline="-25000">
                <a:solidFill>
                  <a:srgbClr val="ff3300"/>
                </a:solidFill>
                <a:latin typeface="楷体_GB2312"/>
                <a:ea typeface="楷体_GB2312"/>
              </a:rPr>
              <a:t>2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344840" y="44280"/>
            <a:ext cx="962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R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260280"/>
            <a:ext cx="4535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氨基酸的结构通式：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724360" y="3933720"/>
            <a:ext cx="252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同一个</a:t>
            </a:r>
            <a:r>
              <a:rPr b="1" lang="zh-CN" sz="2800" spc="-1" strike="noStrike">
                <a:solidFill>
                  <a:srgbClr val="0033cc"/>
                </a:solidFill>
                <a:latin typeface="宋体"/>
              </a:rPr>
              <a:t>碳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原子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16360" y="4437000"/>
            <a:ext cx="11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R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基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5516640"/>
            <a:ext cx="871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楷体_GB2312"/>
              </a:rPr>
              <a:t>     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56000" y="558972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20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-1116000" y="-243000"/>
            <a:ext cx="6264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5050"/>
                </a:solidFill>
                <a:latin typeface="Arial"/>
                <a:ea typeface="华文新魏"/>
              </a:rPr>
              <a:t>  </a:t>
            </a:r>
            <a:r>
              <a:rPr b="1" lang="zh-CN" sz="5400" spc="-1" strike="noStrike">
                <a:solidFill>
                  <a:srgbClr val="ff5050"/>
                </a:solidFill>
                <a:latin typeface="Arial"/>
                <a:ea typeface="华文新魏"/>
              </a:rPr>
              <a:t>我的发现：</a:t>
            </a:r>
            <a:endParaRPr b="0" lang="en-US" sz="5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3280" y="5950080"/>
            <a:ext cx="1150920" cy="360360"/>
          </a:xfrm>
          <a:prstGeom prst="line">
            <a:avLst/>
          </a:prstGeom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4716360" y="5445000"/>
            <a:ext cx="792360" cy="432000"/>
          </a:xfrm>
          <a:prstGeom prst="line">
            <a:avLst/>
          </a:prstGeom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6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73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78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83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88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9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98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0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08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11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14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17" dur="5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20" dur="5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23" dur="5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26" dur="500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29" dur="500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34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3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4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49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5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5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6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75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0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8" dur="5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1802880" y="1695600"/>
            <a:ext cx="5141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华文中宋"/>
                <a:ea typeface="华文中宋"/>
              </a:rPr>
              <a:t>完成书本</a:t>
            </a:r>
            <a:r>
              <a:rPr b="0" lang="zh-CN" sz="5400" spc="-1" strike="noStrike">
                <a:solidFill>
                  <a:srgbClr val="000000"/>
                </a:solidFill>
                <a:latin typeface="华文中宋"/>
                <a:ea typeface="华文中宋"/>
              </a:rPr>
              <a:t>24</a:t>
            </a:r>
            <a:r>
              <a:rPr b="0" lang="zh-CN" sz="5400" spc="-1" strike="noStrike">
                <a:solidFill>
                  <a:srgbClr val="000000"/>
                </a:solidFill>
                <a:latin typeface="华文中宋"/>
                <a:ea typeface="华文中宋"/>
              </a:rPr>
              <a:t>页基础题</a:t>
            </a:r>
            <a:r>
              <a:rPr b="0" lang="zh-CN" sz="5400" spc="-1" strike="noStrike">
                <a:solidFill>
                  <a:srgbClr val="000000"/>
                </a:solidFill>
                <a:latin typeface="华文中宋"/>
                <a:ea typeface="华文中宋"/>
              </a:rPr>
              <a:t>2</a:t>
            </a:r>
            <a:endParaRPr b="0" lang="en-US" sz="5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250920" y="6919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华文中宋"/>
              </a:rPr>
              <a:t>氨基酸分子是怎样形成蛋白质的呢？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华文行楷"/>
              </a:rPr>
              <a:t>三看蛋白质（阅读书本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华文行楷"/>
              </a:rPr>
              <a:t>21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华文行楷"/>
              </a:rPr>
              <a:t>页图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华文行楷"/>
              </a:rPr>
              <a:t>2-4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华文行楷"/>
              </a:rPr>
              <a:t>）说说从氨基酸到蛋白质大致有哪些结构层次？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179280" y="2133360"/>
            <a:ext cx="9144000" cy="55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中宋"/>
                <a:ea typeface="华文中宋"/>
              </a:rPr>
              <a:t>氨基酸→二肽→三肽→多肽（肽链）→蛋白质 （一条或多条肽链）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0" y="764640"/>
            <a:ext cx="9144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华文中宋"/>
                <a:ea typeface="华文中宋"/>
              </a:rPr>
              <a:t>观察书本</a:t>
            </a:r>
            <a:r>
              <a:rPr b="1" lang="zh-CN" sz="4400" spc="-1" strike="noStrike">
                <a:solidFill>
                  <a:srgbClr val="000000"/>
                </a:solidFill>
                <a:latin typeface="华文中宋"/>
                <a:ea typeface="华文中宋"/>
              </a:rPr>
              <a:t>22</a:t>
            </a:r>
            <a:r>
              <a:rPr b="1" lang="zh-CN" sz="4400" spc="-1" strike="noStrike">
                <a:solidFill>
                  <a:srgbClr val="000000"/>
                </a:solidFill>
                <a:latin typeface="华文中宋"/>
                <a:ea typeface="华文中宋"/>
              </a:rPr>
              <a:t>页“氨基酸脱水缩合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华文中宋"/>
                <a:ea typeface="华文中宋"/>
              </a:rPr>
              <a:t>示意图”，阅读氨基酸脱水缩合过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华文中宋"/>
                <a:ea typeface="华文中宋"/>
              </a:rPr>
              <a:t>程的文字、图解，以同桌为单位讨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华文中宋"/>
                <a:ea typeface="华文中宋"/>
              </a:rPr>
              <a:t>论交流，并作出描述。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4851360" y="4610160"/>
            <a:ext cx="1143000" cy="914400"/>
          </a:xfrm>
          <a:prstGeom prst="rect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971800" y="2209680"/>
            <a:ext cx="2438280" cy="990720"/>
          </a:xfrm>
          <a:prstGeom prst="rect">
            <a:avLst/>
          </a:prstGeom>
          <a:solidFill>
            <a:srgbClr val="a64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676520" y="1828800"/>
            <a:ext cx="2481840" cy="1583280"/>
            <a:chOff x="1676520" y="1828800"/>
            <a:chExt cx="2481840" cy="1583280"/>
          </a:xfrm>
        </p:grpSpPr>
        <p:sp>
          <p:nvSpPr>
            <p:cNvPr id="156" name=""/>
            <p:cNvSpPr/>
            <p:nvPr/>
          </p:nvSpPr>
          <p:spPr>
            <a:xfrm>
              <a:off x="2514600" y="2971440"/>
              <a:ext cx="4568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R</a:t>
              </a:r>
              <a:r>
                <a:rPr b="1" lang="en-US" sz="2000" spc="-1" strike="noStrike" baseline="-25000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076560" y="2361960"/>
              <a:ext cx="38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20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514600" y="1828800"/>
              <a:ext cx="456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H</a:t>
              </a:r>
              <a:endParaRPr b="0" lang="en-US" sz="20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676520" y="2361960"/>
              <a:ext cx="7617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H</a:t>
              </a:r>
              <a:r>
                <a:rPr b="1" lang="en-US" sz="2000" spc="-1" strike="noStrike" baseline="-25000">
                  <a:solidFill>
                    <a:srgbClr val="ffffff"/>
                  </a:solidFill>
                  <a:latin typeface="Times New Roman"/>
                </a:rPr>
                <a:t>2</a:t>
              </a: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N</a:t>
              </a:r>
              <a:endParaRPr b="0" lang="en-US" sz="20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514600" y="238752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20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260440" y="2574720"/>
              <a:ext cx="27108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852640" y="2574720"/>
              <a:ext cx="27108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 flipV="1">
              <a:off x="2693880" y="2722320"/>
              <a:ext cx="0" cy="3060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 flipV="1">
              <a:off x="2693880" y="2145960"/>
              <a:ext cx="0" cy="3060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581280" y="2361960"/>
              <a:ext cx="577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OH</a:t>
              </a:r>
              <a:endParaRPr b="0" lang="en-US" sz="20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352680" y="2562120"/>
              <a:ext cx="27108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grpSp>
          <p:nvGrpSpPr>
            <p:cNvPr id="167" name=""/>
            <p:cNvGrpSpPr/>
            <p:nvPr/>
          </p:nvGrpSpPr>
          <p:grpSpPr>
            <a:xfrm>
              <a:off x="3096360" y="2666880"/>
              <a:ext cx="378720" cy="611280"/>
              <a:chOff x="3096360" y="2666880"/>
              <a:chExt cx="378720" cy="611280"/>
            </a:xfrm>
          </p:grpSpPr>
          <p:sp>
            <p:nvSpPr>
              <p:cNvPr id="168" name=""/>
              <p:cNvSpPr/>
              <p:nvPr/>
            </p:nvSpPr>
            <p:spPr>
              <a:xfrm>
                <a:off x="3096360" y="2879280"/>
                <a:ext cx="378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Times New Roman"/>
                  </a:rPr>
                  <a:t>O</a:t>
                </a:r>
                <a:endParaRPr b="0" lang="en-US" sz="20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 flipV="1">
                <a:off x="3247560" y="2666880"/>
                <a:ext cx="0" cy="30600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 flipV="1">
                <a:off x="3323880" y="2666880"/>
                <a:ext cx="0" cy="30600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</p:grpSp>
      <p:grpSp>
        <p:nvGrpSpPr>
          <p:cNvPr id="171" name=""/>
          <p:cNvGrpSpPr/>
          <p:nvPr/>
        </p:nvGrpSpPr>
        <p:grpSpPr>
          <a:xfrm>
            <a:off x="2971800" y="1311120"/>
            <a:ext cx="1371240" cy="2041560"/>
            <a:chOff x="2971800" y="1311120"/>
            <a:chExt cx="1371240" cy="2041560"/>
          </a:xfrm>
        </p:grpSpPr>
        <p:grpSp>
          <p:nvGrpSpPr>
            <p:cNvPr id="172" name=""/>
            <p:cNvGrpSpPr/>
            <p:nvPr/>
          </p:nvGrpSpPr>
          <p:grpSpPr>
            <a:xfrm>
              <a:off x="2971800" y="1311120"/>
              <a:ext cx="1371240" cy="398880"/>
              <a:chOff x="2971800" y="1311120"/>
              <a:chExt cx="1371240" cy="398880"/>
            </a:xfrm>
          </p:grpSpPr>
          <p:sp>
            <p:nvSpPr>
              <p:cNvPr id="173" name=""/>
              <p:cNvSpPr/>
              <p:nvPr/>
            </p:nvSpPr>
            <p:spPr>
              <a:xfrm>
                <a:off x="3202200" y="1311120"/>
                <a:ext cx="1140840" cy="398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Times New Roman"/>
                  </a:rPr>
                  <a:t>COOH</a:t>
                </a:r>
                <a:endParaRPr b="0" lang="en-US" sz="20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2971800" y="1541880"/>
                <a:ext cx="3124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2971800" y="1676160"/>
              <a:ext cx="1143000" cy="1676520"/>
              <a:chOff x="2971800" y="1676160"/>
              <a:chExt cx="1143000" cy="1676520"/>
            </a:xfrm>
          </p:grpSpPr>
          <p:sp>
            <p:nvSpPr>
              <p:cNvPr id="176" name=""/>
              <p:cNvSpPr/>
              <p:nvPr/>
            </p:nvSpPr>
            <p:spPr>
              <a:xfrm>
                <a:off x="2971800" y="1981080"/>
                <a:ext cx="1143000" cy="13716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3581280" y="1676160"/>
                <a:ext cx="152280" cy="457200"/>
              </a:xfrm>
              <a:prstGeom prst="upArrow">
                <a:avLst>
                  <a:gd name="adj1" fmla="val 50000"/>
                  <a:gd name="adj2" fmla="val 75059"/>
                </a:avLst>
              </a:prstGeom>
              <a:solidFill>
                <a:srgbClr val="93ff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4419720" y="1828800"/>
            <a:ext cx="2590200" cy="1583280"/>
            <a:chOff x="4419720" y="1828800"/>
            <a:chExt cx="2590200" cy="1583280"/>
          </a:xfrm>
        </p:grpSpPr>
        <p:sp>
          <p:nvSpPr>
            <p:cNvPr id="179" name=""/>
            <p:cNvSpPr/>
            <p:nvPr/>
          </p:nvSpPr>
          <p:spPr>
            <a:xfrm>
              <a:off x="5486400" y="2971440"/>
              <a:ext cx="6091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R</a:t>
              </a:r>
              <a:r>
                <a:rPr b="1" lang="en-US" sz="2000" spc="-1" strike="noStrike" baseline="-25000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19560" y="2381040"/>
              <a:ext cx="99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COOH</a:t>
              </a:r>
              <a:endParaRPr b="0" lang="en-US" sz="20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454360" y="1828800"/>
              <a:ext cx="456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H</a:t>
              </a:r>
              <a:endParaRPr b="0" lang="en-US" sz="20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876560" y="2361960"/>
              <a:ext cx="456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N</a:t>
              </a:r>
              <a:endParaRPr b="0" lang="en-US" sz="20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454360" y="2387520"/>
              <a:ext cx="609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20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200560" y="2574720"/>
              <a:ext cx="27108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792760" y="2574720"/>
              <a:ext cx="27108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 flipV="1">
              <a:off x="5634000" y="2722320"/>
              <a:ext cx="0" cy="3060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V="1">
              <a:off x="5634000" y="2145960"/>
              <a:ext cx="0" cy="3060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876560" y="2876400"/>
              <a:ext cx="6062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H</a:t>
              </a:r>
              <a:r>
                <a:rPr b="1" lang="en-US" sz="2000" spc="-1" strike="noStrike" baseline="-25000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419720" y="2361960"/>
              <a:ext cx="6062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H</a:t>
              </a:r>
              <a:r>
                <a:rPr b="1" lang="en-US" sz="2000" spc="-1" strike="noStrike" baseline="-25000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690800" y="2562120"/>
              <a:ext cx="27108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5076720" y="2666880"/>
              <a:ext cx="0" cy="3060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4419720" y="1371600"/>
            <a:ext cx="1066680" cy="1980360"/>
            <a:chOff x="4419720" y="1371600"/>
            <a:chExt cx="1066680" cy="1980360"/>
          </a:xfrm>
        </p:grpSpPr>
        <p:grpSp>
          <p:nvGrpSpPr>
            <p:cNvPr id="193" name=""/>
            <p:cNvGrpSpPr/>
            <p:nvPr/>
          </p:nvGrpSpPr>
          <p:grpSpPr>
            <a:xfrm>
              <a:off x="4419720" y="1371600"/>
              <a:ext cx="956520" cy="440640"/>
              <a:chOff x="4419720" y="1371600"/>
              <a:chExt cx="956520" cy="440640"/>
            </a:xfrm>
          </p:grpSpPr>
          <p:sp>
            <p:nvSpPr>
              <p:cNvPr id="194" name=""/>
              <p:cNvSpPr/>
              <p:nvPr/>
            </p:nvSpPr>
            <p:spPr>
              <a:xfrm>
                <a:off x="4614480" y="1371600"/>
                <a:ext cx="761760" cy="4406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Times New Roman"/>
                  </a:rPr>
                  <a:t>NH</a:t>
                </a:r>
                <a:r>
                  <a:rPr b="1" lang="en-US" sz="2000" spc="-1" strike="noStrike" baseline="-25000">
                    <a:solidFill>
                      <a:srgbClr val="ffffff"/>
                    </a:solidFill>
                    <a:latin typeface="Times New Roman"/>
                  </a:rPr>
                  <a:t>2</a:t>
                </a:r>
                <a:endParaRPr b="0" lang="en-US" sz="20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4419720" y="1571040"/>
                <a:ext cx="2710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grpSp>
          <p:nvGrpSpPr>
            <p:cNvPr id="196" name=""/>
            <p:cNvGrpSpPr/>
            <p:nvPr/>
          </p:nvGrpSpPr>
          <p:grpSpPr>
            <a:xfrm>
              <a:off x="4419720" y="1676160"/>
              <a:ext cx="1066680" cy="1675800"/>
              <a:chOff x="4419720" y="1676160"/>
              <a:chExt cx="1066680" cy="1675800"/>
            </a:xfrm>
          </p:grpSpPr>
          <p:sp>
            <p:nvSpPr>
              <p:cNvPr id="197" name=""/>
              <p:cNvSpPr/>
              <p:nvPr/>
            </p:nvSpPr>
            <p:spPr>
              <a:xfrm>
                <a:off x="4419720" y="1980720"/>
                <a:ext cx="1066680" cy="13712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4876560" y="1676160"/>
                <a:ext cx="152280" cy="456840"/>
              </a:xfrm>
              <a:prstGeom prst="upArrow">
                <a:avLst>
                  <a:gd name="adj1" fmla="val 50000"/>
                  <a:gd name="adj2" fmla="val 75000"/>
                </a:avLst>
              </a:prstGeom>
              <a:solidFill>
                <a:srgbClr val="93ff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</p:grpSp>
      <p:sp>
        <p:nvSpPr>
          <p:cNvPr id="199" name=""/>
          <p:cNvSpPr/>
          <p:nvPr/>
        </p:nvSpPr>
        <p:spPr>
          <a:xfrm>
            <a:off x="3505320" y="2394000"/>
            <a:ext cx="1295280" cy="392040"/>
          </a:xfrm>
          <a:prstGeom prst="rect">
            <a:avLst/>
          </a:prstGeom>
          <a:noFill/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772080" y="283536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缩 合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934320" y="2590920"/>
            <a:ext cx="761760" cy="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581280" y="4114800"/>
            <a:ext cx="4038480" cy="1583280"/>
            <a:chOff x="3581280" y="4114800"/>
            <a:chExt cx="4038480" cy="1583280"/>
          </a:xfrm>
        </p:grpSpPr>
        <p:grpSp>
          <p:nvGrpSpPr>
            <p:cNvPr id="203" name=""/>
            <p:cNvGrpSpPr/>
            <p:nvPr/>
          </p:nvGrpSpPr>
          <p:grpSpPr>
            <a:xfrm>
              <a:off x="5486400" y="4114800"/>
              <a:ext cx="2133360" cy="1583280"/>
              <a:chOff x="5486400" y="4114800"/>
              <a:chExt cx="2133360" cy="1583280"/>
            </a:xfrm>
          </p:grpSpPr>
          <p:sp>
            <p:nvSpPr>
              <p:cNvPr id="204" name=""/>
              <p:cNvSpPr/>
              <p:nvPr/>
            </p:nvSpPr>
            <p:spPr>
              <a:xfrm>
                <a:off x="6095880" y="5257440"/>
                <a:ext cx="60948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Times New Roman"/>
                  </a:rPr>
                  <a:t>R</a:t>
                </a:r>
                <a:r>
                  <a:rPr b="1" lang="en-US" sz="2000" spc="-1" strike="noStrike" baseline="-25000">
                    <a:solidFill>
                      <a:srgbClr val="ffffff"/>
                    </a:solidFill>
                    <a:latin typeface="Times New Roman"/>
                  </a:rPr>
                  <a:t>2</a:t>
                </a:r>
                <a:endParaRPr b="0" lang="en-US" sz="20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6629400" y="4667040"/>
                <a:ext cx="990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Times New Roman"/>
                  </a:rPr>
                  <a:t>COOH</a:t>
                </a:r>
                <a:endParaRPr b="0" lang="en-US" sz="20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6064200" y="4114800"/>
                <a:ext cx="457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Times New Roman"/>
                  </a:rPr>
                  <a:t>H</a:t>
                </a:r>
                <a:endParaRPr b="0" lang="en-US" sz="20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5486400" y="4647960"/>
                <a:ext cx="457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Times New Roman"/>
                  </a:rPr>
                  <a:t>N</a:t>
                </a:r>
                <a:endParaRPr b="0" lang="en-US" sz="20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6064200" y="4673520"/>
                <a:ext cx="609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Times New Roman"/>
                  </a:rPr>
                  <a:t>C</a:t>
                </a:r>
                <a:endParaRPr b="0" lang="en-US" sz="20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5810040" y="4860720"/>
                <a:ext cx="27144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6402240" y="4860720"/>
                <a:ext cx="27144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flipV="1">
                <a:off x="6243480" y="5008320"/>
                <a:ext cx="0" cy="30600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flipV="1">
                <a:off x="6243480" y="4431960"/>
                <a:ext cx="0" cy="30600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5486400" y="5162400"/>
                <a:ext cx="60624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Times New Roman"/>
                  </a:rPr>
                  <a:t>H</a:t>
                </a:r>
                <a:r>
                  <a:rPr b="1" lang="en-US" sz="2000" spc="-1" strike="noStrike" baseline="-25000">
                    <a:solidFill>
                      <a:srgbClr val="ffffff"/>
                    </a:solidFill>
                    <a:latin typeface="Times New Roman"/>
                  </a:rPr>
                  <a:t> </a:t>
                </a:r>
                <a:endParaRPr b="0" lang="en-US" sz="20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V="1">
                <a:off x="5686200" y="4952880"/>
                <a:ext cx="0" cy="30600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grpSp>
          <p:nvGrpSpPr>
            <p:cNvPr id="215" name=""/>
            <p:cNvGrpSpPr/>
            <p:nvPr/>
          </p:nvGrpSpPr>
          <p:grpSpPr>
            <a:xfrm>
              <a:off x="3581280" y="4114800"/>
              <a:ext cx="1962000" cy="1583280"/>
              <a:chOff x="3581280" y="4114800"/>
              <a:chExt cx="1962000" cy="1583280"/>
            </a:xfrm>
          </p:grpSpPr>
          <p:sp>
            <p:nvSpPr>
              <p:cNvPr id="216" name=""/>
              <p:cNvSpPr/>
              <p:nvPr/>
            </p:nvSpPr>
            <p:spPr>
              <a:xfrm>
                <a:off x="4419360" y="5257440"/>
                <a:ext cx="45720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Times New Roman"/>
                  </a:rPr>
                  <a:t>R</a:t>
                </a:r>
                <a:r>
                  <a:rPr b="1" lang="en-US" sz="2000" spc="-1" strike="noStrike" baseline="-25000">
                    <a:solidFill>
                      <a:srgbClr val="ffffff"/>
                    </a:solidFill>
                    <a:latin typeface="Times New Roman"/>
                  </a:rPr>
                  <a:t>1</a:t>
                </a:r>
                <a:endParaRPr b="0" lang="en-US" sz="20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4981320" y="4647960"/>
                <a:ext cx="380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Times New Roman"/>
                  </a:rPr>
                  <a:t>C</a:t>
                </a:r>
                <a:endParaRPr b="0" lang="en-US" sz="20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4419360" y="4114800"/>
                <a:ext cx="457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Times New Roman"/>
                  </a:rPr>
                  <a:t>H</a:t>
                </a:r>
                <a:endParaRPr b="0" lang="en-US" sz="20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3581280" y="4647960"/>
                <a:ext cx="76176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Times New Roman"/>
                  </a:rPr>
                  <a:t>H</a:t>
                </a:r>
                <a:r>
                  <a:rPr b="1" lang="en-US" sz="2000" spc="-1" strike="noStrike" baseline="-25000">
                    <a:solidFill>
                      <a:srgbClr val="ffffff"/>
                    </a:solidFill>
                    <a:latin typeface="Times New Roman"/>
                  </a:rPr>
                  <a:t>2</a:t>
                </a:r>
                <a:r>
                  <a:rPr b="1" lang="en-US" sz="2000" spc="-1" strike="noStrike">
                    <a:solidFill>
                      <a:srgbClr val="ffffff"/>
                    </a:solidFill>
                    <a:latin typeface="Times New Roman"/>
                  </a:rPr>
                  <a:t>N</a:t>
                </a:r>
                <a:endParaRPr b="0" lang="en-US" sz="20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4419360" y="4673520"/>
                <a:ext cx="609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Times New Roman"/>
                  </a:rPr>
                  <a:t>C</a:t>
                </a:r>
                <a:endParaRPr b="0" lang="en-US" sz="20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4165200" y="4860720"/>
                <a:ext cx="27180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4757400" y="4860720"/>
                <a:ext cx="27144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flipV="1">
                <a:off x="4598640" y="5008320"/>
                <a:ext cx="0" cy="30600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V="1">
                <a:off x="4598640" y="4431960"/>
                <a:ext cx="0" cy="30600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5271840" y="4862160"/>
                <a:ext cx="271440" cy="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5001480" y="4952880"/>
                <a:ext cx="378720" cy="611280"/>
                <a:chOff x="5001480" y="4952880"/>
                <a:chExt cx="378720" cy="61128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001480" y="5165280"/>
                  <a:ext cx="3787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Times New Roman"/>
                    </a:rPr>
                    <a:t>O</a:t>
                  </a:r>
                  <a:endParaRPr b="0" lang="en-US" sz="20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 flipV="1">
                  <a:off x="5152680" y="4952880"/>
                  <a:ext cx="0" cy="306000"/>
                </a:xfrm>
                <a:prstGeom prst="line">
                  <a:avLst/>
                </a:prstGeom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 flipV="1">
                  <a:off x="5229000" y="4952880"/>
                  <a:ext cx="0" cy="306000"/>
                </a:xfrm>
                <a:prstGeom prst="line">
                  <a:avLst/>
                </a:prstGeom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0" name=""/>
          <p:cNvSpPr/>
          <p:nvPr/>
        </p:nvSpPr>
        <p:spPr>
          <a:xfrm>
            <a:off x="2438280" y="4648320"/>
            <a:ext cx="762120" cy="440640"/>
          </a:xfrm>
          <a:prstGeom prst="rect">
            <a:avLst/>
          </a:prstGeom>
          <a:noFill/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461484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＋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334120" y="4251240"/>
            <a:ext cx="8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肽键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rot="16200000">
            <a:off x="5410080" y="4038480"/>
            <a:ext cx="152640" cy="3353040"/>
          </a:xfrm>
          <a:custGeom>
            <a:avLst/>
            <a:gdLst>
              <a:gd name="textAreaLeft" fmla="*/ 97560 w 152640"/>
              <a:gd name="textAreaRight" fmla="*/ 153000 w 152640"/>
              <a:gd name="textAreaTop" fmla="*/ 87120 h 3353040"/>
              <a:gd name="textAreaBottom" fmla="*/ 3265920 h 3353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105520" y="5791320"/>
            <a:ext cx="8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  <a:ea typeface="黑体"/>
              </a:rPr>
              <a:t>二肽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200400" y="2631960"/>
            <a:ext cx="1025640" cy="1879560"/>
          </a:xfrm>
          <a:custGeom>
            <a:avLst/>
            <a:gdLst/>
            <a:ahLst/>
            <a:rect l="l" t="t" r="r" b="b"/>
            <a:pathLst>
              <a:path w="554" h="1248">
                <a:moveTo>
                  <a:pt x="552" y="0"/>
                </a:moveTo>
                <a:cubicBezTo>
                  <a:pt x="549" y="61"/>
                  <a:pt x="554" y="257"/>
                  <a:pt x="532" y="368"/>
                </a:cubicBezTo>
                <a:cubicBezTo>
                  <a:pt x="510" y="479"/>
                  <a:pt x="471" y="570"/>
                  <a:pt x="422" y="667"/>
                </a:cubicBezTo>
                <a:cubicBezTo>
                  <a:pt x="373" y="764"/>
                  <a:pt x="306" y="855"/>
                  <a:pt x="236" y="952"/>
                </a:cubicBezTo>
                <a:cubicBezTo>
                  <a:pt x="166" y="1049"/>
                  <a:pt x="49" y="1186"/>
                  <a:pt x="0" y="1248"/>
                </a:cubicBezTo>
              </a:path>
            </a:pathLst>
          </a:custGeom>
          <a:noFill/>
          <a:ln w="25560">
            <a:solidFill>
              <a:srgbClr val="66ff33"/>
            </a:solidFill>
            <a:round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191120" y="3063960"/>
            <a:ext cx="1143000" cy="1447560"/>
          </a:xfrm>
          <a:custGeom>
            <a:avLst/>
            <a:gdLst/>
            <a:ahLst/>
            <a:rect l="l" t="t" r="r" b="b"/>
            <a:pathLst>
              <a:path w="828" h="924">
                <a:moveTo>
                  <a:pt x="0" y="0"/>
                </a:moveTo>
                <a:cubicBezTo>
                  <a:pt x="31" y="60"/>
                  <a:pt x="102" y="245"/>
                  <a:pt x="188" y="360"/>
                </a:cubicBezTo>
                <a:cubicBezTo>
                  <a:pt x="274" y="475"/>
                  <a:pt x="409" y="594"/>
                  <a:pt x="516" y="688"/>
                </a:cubicBezTo>
                <a:cubicBezTo>
                  <a:pt x="623" y="782"/>
                  <a:pt x="763" y="875"/>
                  <a:pt x="828" y="924"/>
                </a:cubicBezTo>
              </a:path>
            </a:pathLst>
          </a:custGeom>
          <a:noFill/>
          <a:ln w="25560">
            <a:solidFill>
              <a:srgbClr val="66ff33"/>
            </a:solidFill>
            <a:round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8360" y="404640"/>
            <a:ext cx="48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氨基酸的脱水缩合过程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: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6360" y="6159600"/>
            <a:ext cx="968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肽键还可以写成：—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CO—NH—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或  —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NH—CO—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00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5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10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16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21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27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2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7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42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47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52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57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62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6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72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77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82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7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50920" y="981000"/>
            <a:ext cx="1671624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华文行楷"/>
              </a:rPr>
              <a:t>据调查他们普遍服用了劣质奶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华文行楷"/>
              </a:rPr>
              <a:t>粉。劣质奶粉中某种营养成分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华文行楷"/>
              </a:rPr>
              <a:t>几乎接近于零，长期食用这种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华文行楷"/>
              </a:rPr>
              <a:t>奶粉的婴儿会因严重营养不良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华文行楷"/>
              </a:rPr>
              <a:t>长成“大头娃娃”。你知道劣质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华文行楷"/>
              </a:rPr>
              <a:t>奶粉中含量近于零的是什么成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华文行楷"/>
              </a:rPr>
              <a:t>分么？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4851360" y="4610160"/>
            <a:ext cx="1143000" cy="914400"/>
          </a:xfrm>
          <a:prstGeom prst="rect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971800" y="2209680"/>
            <a:ext cx="2438280" cy="990720"/>
          </a:xfrm>
          <a:prstGeom prst="rect">
            <a:avLst/>
          </a:prstGeom>
          <a:solidFill>
            <a:srgbClr val="a64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1676520" y="1828800"/>
            <a:ext cx="2481840" cy="1583280"/>
            <a:chOff x="1676520" y="1828800"/>
            <a:chExt cx="2481840" cy="1583280"/>
          </a:xfrm>
        </p:grpSpPr>
        <p:sp>
          <p:nvSpPr>
            <p:cNvPr id="242" name=""/>
            <p:cNvSpPr/>
            <p:nvPr/>
          </p:nvSpPr>
          <p:spPr>
            <a:xfrm>
              <a:off x="2514600" y="2971440"/>
              <a:ext cx="4568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R</a:t>
              </a:r>
              <a:r>
                <a:rPr b="1" lang="en-US" sz="2000" spc="-1" strike="noStrike" baseline="-25000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076560" y="2361960"/>
              <a:ext cx="38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20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514600" y="1828800"/>
              <a:ext cx="456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H</a:t>
              </a:r>
              <a:endParaRPr b="0" lang="en-US" sz="20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676520" y="2361960"/>
              <a:ext cx="7617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H</a:t>
              </a:r>
              <a:r>
                <a:rPr b="1" lang="en-US" sz="2000" spc="-1" strike="noStrike" baseline="-25000">
                  <a:solidFill>
                    <a:srgbClr val="ffffff"/>
                  </a:solidFill>
                  <a:latin typeface="Times New Roman"/>
                </a:rPr>
                <a:t>2</a:t>
              </a: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N</a:t>
              </a:r>
              <a:endParaRPr b="0" lang="en-US" sz="20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514600" y="238752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20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260440" y="2574720"/>
              <a:ext cx="27108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852640" y="2574720"/>
              <a:ext cx="27108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 flipV="1">
              <a:off x="2693880" y="2722320"/>
              <a:ext cx="0" cy="3060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 flipV="1">
              <a:off x="2693880" y="2145960"/>
              <a:ext cx="0" cy="3060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581280" y="2361960"/>
              <a:ext cx="577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OH</a:t>
              </a:r>
              <a:endParaRPr b="0" lang="en-US" sz="20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3352680" y="2562120"/>
              <a:ext cx="27108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grpSp>
          <p:nvGrpSpPr>
            <p:cNvPr id="253" name=""/>
            <p:cNvGrpSpPr/>
            <p:nvPr/>
          </p:nvGrpSpPr>
          <p:grpSpPr>
            <a:xfrm>
              <a:off x="3096360" y="2666880"/>
              <a:ext cx="378720" cy="611280"/>
              <a:chOff x="3096360" y="2666880"/>
              <a:chExt cx="378720" cy="611280"/>
            </a:xfrm>
          </p:grpSpPr>
          <p:sp>
            <p:nvSpPr>
              <p:cNvPr id="254" name=""/>
              <p:cNvSpPr/>
              <p:nvPr/>
            </p:nvSpPr>
            <p:spPr>
              <a:xfrm>
                <a:off x="3096360" y="2879280"/>
                <a:ext cx="378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Times New Roman"/>
                  </a:rPr>
                  <a:t>O</a:t>
                </a:r>
                <a:endParaRPr b="0" lang="en-US" sz="20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flipV="1">
                <a:off x="3247560" y="2666880"/>
                <a:ext cx="0" cy="30600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flipV="1">
                <a:off x="3323880" y="2666880"/>
                <a:ext cx="0" cy="30600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</p:grpSp>
      <p:grpSp>
        <p:nvGrpSpPr>
          <p:cNvPr id="257" name=""/>
          <p:cNvGrpSpPr/>
          <p:nvPr/>
        </p:nvGrpSpPr>
        <p:grpSpPr>
          <a:xfrm>
            <a:off x="2971800" y="1311120"/>
            <a:ext cx="1371240" cy="2041560"/>
            <a:chOff x="2971800" y="1311120"/>
            <a:chExt cx="1371240" cy="2041560"/>
          </a:xfrm>
        </p:grpSpPr>
        <p:grpSp>
          <p:nvGrpSpPr>
            <p:cNvPr id="258" name=""/>
            <p:cNvGrpSpPr/>
            <p:nvPr/>
          </p:nvGrpSpPr>
          <p:grpSpPr>
            <a:xfrm>
              <a:off x="2971800" y="1311120"/>
              <a:ext cx="1371240" cy="398880"/>
              <a:chOff x="2971800" y="1311120"/>
              <a:chExt cx="1371240" cy="398880"/>
            </a:xfrm>
          </p:grpSpPr>
          <p:sp>
            <p:nvSpPr>
              <p:cNvPr id="259" name=""/>
              <p:cNvSpPr/>
              <p:nvPr/>
            </p:nvSpPr>
            <p:spPr>
              <a:xfrm>
                <a:off x="3202200" y="1311120"/>
                <a:ext cx="1140840" cy="398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Times New Roman"/>
                  </a:rPr>
                  <a:t>COOH</a:t>
                </a:r>
                <a:endParaRPr b="0" lang="en-US" sz="20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2971800" y="1541880"/>
                <a:ext cx="3124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grpSp>
          <p:nvGrpSpPr>
            <p:cNvPr id="261" name=""/>
            <p:cNvGrpSpPr/>
            <p:nvPr/>
          </p:nvGrpSpPr>
          <p:grpSpPr>
            <a:xfrm>
              <a:off x="2971800" y="1676160"/>
              <a:ext cx="1143000" cy="1676520"/>
              <a:chOff x="2971800" y="1676160"/>
              <a:chExt cx="1143000" cy="1676520"/>
            </a:xfrm>
          </p:grpSpPr>
          <p:sp>
            <p:nvSpPr>
              <p:cNvPr id="262" name=""/>
              <p:cNvSpPr/>
              <p:nvPr/>
            </p:nvSpPr>
            <p:spPr>
              <a:xfrm>
                <a:off x="2971800" y="1981080"/>
                <a:ext cx="1143000" cy="13716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3581280" y="1676160"/>
                <a:ext cx="152280" cy="457200"/>
              </a:xfrm>
              <a:prstGeom prst="upArrow">
                <a:avLst>
                  <a:gd name="adj1" fmla="val 50000"/>
                  <a:gd name="adj2" fmla="val 75059"/>
                </a:avLst>
              </a:prstGeom>
              <a:solidFill>
                <a:srgbClr val="93ff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</p:grpSp>
      <p:grpSp>
        <p:nvGrpSpPr>
          <p:cNvPr id="264" name=""/>
          <p:cNvGrpSpPr/>
          <p:nvPr/>
        </p:nvGrpSpPr>
        <p:grpSpPr>
          <a:xfrm>
            <a:off x="4419720" y="1828800"/>
            <a:ext cx="2590200" cy="1583280"/>
            <a:chOff x="4419720" y="1828800"/>
            <a:chExt cx="2590200" cy="1583280"/>
          </a:xfrm>
        </p:grpSpPr>
        <p:sp>
          <p:nvSpPr>
            <p:cNvPr id="265" name=""/>
            <p:cNvSpPr/>
            <p:nvPr/>
          </p:nvSpPr>
          <p:spPr>
            <a:xfrm>
              <a:off x="5486400" y="2971440"/>
              <a:ext cx="6091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R</a:t>
              </a:r>
              <a:r>
                <a:rPr b="1" lang="en-US" sz="2000" spc="-1" strike="noStrike" baseline="-25000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019560" y="2381040"/>
              <a:ext cx="99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COOH</a:t>
              </a:r>
              <a:endParaRPr b="0" lang="en-US" sz="20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454360" y="1828800"/>
              <a:ext cx="456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H</a:t>
              </a:r>
              <a:endParaRPr b="0" lang="en-US" sz="20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876560" y="2361960"/>
              <a:ext cx="456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N</a:t>
              </a:r>
              <a:endParaRPr b="0" lang="en-US" sz="20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54360" y="2387520"/>
              <a:ext cx="609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20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200560" y="2574720"/>
              <a:ext cx="27108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792760" y="2574720"/>
              <a:ext cx="27108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5634000" y="2722320"/>
              <a:ext cx="0" cy="3060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5634000" y="2145960"/>
              <a:ext cx="0" cy="3060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876560" y="2876400"/>
              <a:ext cx="6062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H</a:t>
              </a:r>
              <a:r>
                <a:rPr b="1" lang="en-US" sz="2000" spc="-1" strike="noStrike" baseline="-25000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419720" y="2361960"/>
              <a:ext cx="6062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H</a:t>
              </a:r>
              <a:r>
                <a:rPr b="1" lang="en-US" sz="2000" spc="-1" strike="noStrike" baseline="-25000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690800" y="2562120"/>
              <a:ext cx="27108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flipV="1">
              <a:off x="5076720" y="2666880"/>
              <a:ext cx="0" cy="3060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278" name=""/>
          <p:cNvGrpSpPr/>
          <p:nvPr/>
        </p:nvGrpSpPr>
        <p:grpSpPr>
          <a:xfrm>
            <a:off x="4419720" y="1371600"/>
            <a:ext cx="1066680" cy="1980360"/>
            <a:chOff x="4419720" y="1371600"/>
            <a:chExt cx="1066680" cy="1980360"/>
          </a:xfrm>
        </p:grpSpPr>
        <p:grpSp>
          <p:nvGrpSpPr>
            <p:cNvPr id="279" name=""/>
            <p:cNvGrpSpPr/>
            <p:nvPr/>
          </p:nvGrpSpPr>
          <p:grpSpPr>
            <a:xfrm>
              <a:off x="4419720" y="1371600"/>
              <a:ext cx="956520" cy="440640"/>
              <a:chOff x="4419720" y="1371600"/>
              <a:chExt cx="956520" cy="440640"/>
            </a:xfrm>
          </p:grpSpPr>
          <p:sp>
            <p:nvSpPr>
              <p:cNvPr id="280" name=""/>
              <p:cNvSpPr/>
              <p:nvPr/>
            </p:nvSpPr>
            <p:spPr>
              <a:xfrm>
                <a:off x="4614480" y="1371600"/>
                <a:ext cx="761760" cy="4406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Times New Roman"/>
                  </a:rPr>
                  <a:t>NH</a:t>
                </a:r>
                <a:r>
                  <a:rPr b="1" lang="en-US" sz="2000" spc="-1" strike="noStrike" baseline="-25000">
                    <a:solidFill>
                      <a:srgbClr val="ffffff"/>
                    </a:solidFill>
                    <a:latin typeface="Times New Roman"/>
                  </a:rPr>
                  <a:t>2</a:t>
                </a:r>
                <a:endParaRPr b="0" lang="en-US" sz="20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4419720" y="1571040"/>
                <a:ext cx="2710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grpSp>
          <p:nvGrpSpPr>
            <p:cNvPr id="282" name=""/>
            <p:cNvGrpSpPr/>
            <p:nvPr/>
          </p:nvGrpSpPr>
          <p:grpSpPr>
            <a:xfrm>
              <a:off x="4419720" y="1676160"/>
              <a:ext cx="1066680" cy="1675800"/>
              <a:chOff x="4419720" y="1676160"/>
              <a:chExt cx="1066680" cy="1675800"/>
            </a:xfrm>
          </p:grpSpPr>
          <p:sp>
            <p:nvSpPr>
              <p:cNvPr id="283" name=""/>
              <p:cNvSpPr/>
              <p:nvPr/>
            </p:nvSpPr>
            <p:spPr>
              <a:xfrm>
                <a:off x="4419720" y="1980720"/>
                <a:ext cx="1066680" cy="13712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4876560" y="1676160"/>
                <a:ext cx="152280" cy="456840"/>
              </a:xfrm>
              <a:prstGeom prst="upArrow">
                <a:avLst>
                  <a:gd name="adj1" fmla="val 50000"/>
                  <a:gd name="adj2" fmla="val 75000"/>
                </a:avLst>
              </a:prstGeom>
              <a:solidFill>
                <a:srgbClr val="93ff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</p:grpSp>
      <p:sp>
        <p:nvSpPr>
          <p:cNvPr id="285" name=""/>
          <p:cNvSpPr/>
          <p:nvPr/>
        </p:nvSpPr>
        <p:spPr>
          <a:xfrm>
            <a:off x="3505320" y="2394000"/>
            <a:ext cx="1295280" cy="392040"/>
          </a:xfrm>
          <a:prstGeom prst="rect">
            <a:avLst/>
          </a:prstGeom>
          <a:noFill/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772080" y="283536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缩 合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934320" y="2590920"/>
            <a:ext cx="761760" cy="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3581280" y="4114800"/>
            <a:ext cx="4038480" cy="1583280"/>
            <a:chOff x="3581280" y="4114800"/>
            <a:chExt cx="4038480" cy="1583280"/>
          </a:xfrm>
        </p:grpSpPr>
        <p:grpSp>
          <p:nvGrpSpPr>
            <p:cNvPr id="289" name=""/>
            <p:cNvGrpSpPr/>
            <p:nvPr/>
          </p:nvGrpSpPr>
          <p:grpSpPr>
            <a:xfrm>
              <a:off x="5486400" y="4114800"/>
              <a:ext cx="2133360" cy="1583280"/>
              <a:chOff x="5486400" y="4114800"/>
              <a:chExt cx="2133360" cy="1583280"/>
            </a:xfrm>
          </p:grpSpPr>
          <p:sp>
            <p:nvSpPr>
              <p:cNvPr id="290" name=""/>
              <p:cNvSpPr/>
              <p:nvPr/>
            </p:nvSpPr>
            <p:spPr>
              <a:xfrm>
                <a:off x="6095880" y="5257440"/>
                <a:ext cx="60948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Times New Roman"/>
                  </a:rPr>
                  <a:t>R</a:t>
                </a:r>
                <a:r>
                  <a:rPr b="1" lang="en-US" sz="2000" spc="-1" strike="noStrike" baseline="-25000">
                    <a:solidFill>
                      <a:srgbClr val="ffffff"/>
                    </a:solidFill>
                    <a:latin typeface="Times New Roman"/>
                  </a:rPr>
                  <a:t>2</a:t>
                </a:r>
                <a:endParaRPr b="0" lang="en-US" sz="20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6629400" y="4667040"/>
                <a:ext cx="990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Times New Roman"/>
                  </a:rPr>
                  <a:t>COOH</a:t>
                </a:r>
                <a:endParaRPr b="0" lang="en-US" sz="20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6064200" y="4114800"/>
                <a:ext cx="457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Times New Roman"/>
                  </a:rPr>
                  <a:t>H</a:t>
                </a:r>
                <a:endParaRPr b="0" lang="en-US" sz="20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5486400" y="4647960"/>
                <a:ext cx="457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Times New Roman"/>
                  </a:rPr>
                  <a:t>N</a:t>
                </a:r>
                <a:endParaRPr b="0" lang="en-US" sz="20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6064200" y="4673520"/>
                <a:ext cx="609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Times New Roman"/>
                  </a:rPr>
                  <a:t>C</a:t>
                </a:r>
                <a:endParaRPr b="0" lang="en-US" sz="20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5810040" y="4860720"/>
                <a:ext cx="27144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6402240" y="4860720"/>
                <a:ext cx="27144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V="1">
                <a:off x="6243480" y="5008320"/>
                <a:ext cx="0" cy="30600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6243480" y="4431960"/>
                <a:ext cx="0" cy="30600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86400" y="5162400"/>
                <a:ext cx="60624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Times New Roman"/>
                  </a:rPr>
                  <a:t>H</a:t>
                </a:r>
                <a:r>
                  <a:rPr b="1" lang="en-US" sz="2000" spc="-1" strike="noStrike" baseline="-25000">
                    <a:solidFill>
                      <a:srgbClr val="ffffff"/>
                    </a:solidFill>
                    <a:latin typeface="Times New Roman"/>
                  </a:rPr>
                  <a:t> </a:t>
                </a:r>
                <a:endParaRPr b="0" lang="en-US" sz="20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flipV="1">
                <a:off x="5686200" y="4952880"/>
                <a:ext cx="0" cy="30600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grpSp>
          <p:nvGrpSpPr>
            <p:cNvPr id="301" name=""/>
            <p:cNvGrpSpPr/>
            <p:nvPr/>
          </p:nvGrpSpPr>
          <p:grpSpPr>
            <a:xfrm>
              <a:off x="3581280" y="4114800"/>
              <a:ext cx="1962000" cy="1583280"/>
              <a:chOff x="3581280" y="4114800"/>
              <a:chExt cx="1962000" cy="1583280"/>
            </a:xfrm>
          </p:grpSpPr>
          <p:sp>
            <p:nvSpPr>
              <p:cNvPr id="302" name=""/>
              <p:cNvSpPr/>
              <p:nvPr/>
            </p:nvSpPr>
            <p:spPr>
              <a:xfrm>
                <a:off x="4419360" y="5257440"/>
                <a:ext cx="45720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Times New Roman"/>
                  </a:rPr>
                  <a:t>R</a:t>
                </a:r>
                <a:r>
                  <a:rPr b="1" lang="en-US" sz="2000" spc="-1" strike="noStrike" baseline="-25000">
                    <a:solidFill>
                      <a:srgbClr val="ffffff"/>
                    </a:solidFill>
                    <a:latin typeface="Times New Roman"/>
                  </a:rPr>
                  <a:t>1</a:t>
                </a:r>
                <a:endParaRPr b="0" lang="en-US" sz="20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4981320" y="4647960"/>
                <a:ext cx="380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Times New Roman"/>
                  </a:rPr>
                  <a:t>C</a:t>
                </a:r>
                <a:endParaRPr b="0" lang="en-US" sz="20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4419360" y="4114800"/>
                <a:ext cx="457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Times New Roman"/>
                  </a:rPr>
                  <a:t>H</a:t>
                </a:r>
                <a:endParaRPr b="0" lang="en-US" sz="20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3581280" y="4647960"/>
                <a:ext cx="76176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Times New Roman"/>
                  </a:rPr>
                  <a:t>H</a:t>
                </a:r>
                <a:r>
                  <a:rPr b="1" lang="en-US" sz="2000" spc="-1" strike="noStrike" baseline="-25000">
                    <a:solidFill>
                      <a:srgbClr val="ffffff"/>
                    </a:solidFill>
                    <a:latin typeface="Times New Roman"/>
                  </a:rPr>
                  <a:t>2</a:t>
                </a:r>
                <a:r>
                  <a:rPr b="1" lang="en-US" sz="2000" spc="-1" strike="noStrike">
                    <a:solidFill>
                      <a:srgbClr val="ffffff"/>
                    </a:solidFill>
                    <a:latin typeface="Times New Roman"/>
                  </a:rPr>
                  <a:t>N</a:t>
                </a:r>
                <a:endParaRPr b="0" lang="en-US" sz="20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4419360" y="4673520"/>
                <a:ext cx="609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Times New Roman"/>
                  </a:rPr>
                  <a:t>C</a:t>
                </a:r>
                <a:endParaRPr b="0" lang="en-US" sz="20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4165200" y="4860720"/>
                <a:ext cx="27180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4757400" y="4860720"/>
                <a:ext cx="27144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flipV="1">
                <a:off x="4598640" y="5008320"/>
                <a:ext cx="0" cy="30600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4598640" y="4431960"/>
                <a:ext cx="0" cy="30600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5271840" y="4862160"/>
                <a:ext cx="271440" cy="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grpSp>
            <p:nvGrpSpPr>
              <p:cNvPr id="312" name=""/>
              <p:cNvGrpSpPr/>
              <p:nvPr/>
            </p:nvGrpSpPr>
            <p:grpSpPr>
              <a:xfrm>
                <a:off x="5001480" y="4952880"/>
                <a:ext cx="378720" cy="611280"/>
                <a:chOff x="5001480" y="4952880"/>
                <a:chExt cx="378720" cy="611280"/>
              </a:xfrm>
            </p:grpSpPr>
            <p:sp>
              <p:nvSpPr>
                <p:cNvPr id="313" name=""/>
                <p:cNvSpPr/>
                <p:nvPr/>
              </p:nvSpPr>
              <p:spPr>
                <a:xfrm>
                  <a:off x="5001480" y="5165280"/>
                  <a:ext cx="3787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Times New Roman"/>
                    </a:rPr>
                    <a:t>O</a:t>
                  </a:r>
                  <a:endParaRPr b="0" lang="en-US" sz="20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 flipV="1">
                  <a:off x="5152680" y="4952880"/>
                  <a:ext cx="0" cy="306000"/>
                </a:xfrm>
                <a:prstGeom prst="line">
                  <a:avLst/>
                </a:prstGeom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 flipV="1">
                  <a:off x="5229000" y="4952880"/>
                  <a:ext cx="0" cy="306000"/>
                </a:xfrm>
                <a:prstGeom prst="line">
                  <a:avLst/>
                </a:prstGeom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16" name=""/>
          <p:cNvSpPr/>
          <p:nvPr/>
        </p:nvSpPr>
        <p:spPr>
          <a:xfrm>
            <a:off x="2438280" y="4648320"/>
            <a:ext cx="762120" cy="440640"/>
          </a:xfrm>
          <a:prstGeom prst="rect">
            <a:avLst/>
          </a:prstGeom>
          <a:noFill/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200400" y="461484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＋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5334120" y="4251240"/>
            <a:ext cx="8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肽键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5410080" y="4038480"/>
            <a:ext cx="152640" cy="3353040"/>
          </a:xfrm>
          <a:custGeom>
            <a:avLst/>
            <a:gdLst>
              <a:gd name="textAreaLeft" fmla="*/ 97560 w 152640"/>
              <a:gd name="textAreaRight" fmla="*/ 153000 w 152640"/>
              <a:gd name="textAreaTop" fmla="*/ 87120 h 3353040"/>
              <a:gd name="textAreaBottom" fmla="*/ 3265920 h 3353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5105520" y="5791320"/>
            <a:ext cx="8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  <a:ea typeface="黑体"/>
              </a:rPr>
              <a:t>二肽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200400" y="2631960"/>
            <a:ext cx="1025640" cy="1879560"/>
          </a:xfrm>
          <a:custGeom>
            <a:avLst/>
            <a:gdLst/>
            <a:ahLst/>
            <a:rect l="l" t="t" r="r" b="b"/>
            <a:pathLst>
              <a:path w="554" h="1248">
                <a:moveTo>
                  <a:pt x="552" y="0"/>
                </a:moveTo>
                <a:cubicBezTo>
                  <a:pt x="549" y="61"/>
                  <a:pt x="554" y="257"/>
                  <a:pt x="532" y="368"/>
                </a:cubicBezTo>
                <a:cubicBezTo>
                  <a:pt x="510" y="479"/>
                  <a:pt x="471" y="570"/>
                  <a:pt x="422" y="667"/>
                </a:cubicBezTo>
                <a:cubicBezTo>
                  <a:pt x="373" y="764"/>
                  <a:pt x="306" y="855"/>
                  <a:pt x="236" y="952"/>
                </a:cubicBezTo>
                <a:cubicBezTo>
                  <a:pt x="166" y="1049"/>
                  <a:pt x="49" y="1186"/>
                  <a:pt x="0" y="1248"/>
                </a:cubicBezTo>
              </a:path>
            </a:pathLst>
          </a:custGeom>
          <a:noFill/>
          <a:ln w="25560">
            <a:solidFill>
              <a:srgbClr val="66ff33"/>
            </a:solidFill>
            <a:round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4191120" y="3063960"/>
            <a:ext cx="1143000" cy="1447560"/>
          </a:xfrm>
          <a:custGeom>
            <a:avLst/>
            <a:gdLst/>
            <a:ahLst/>
            <a:rect l="l" t="t" r="r" b="b"/>
            <a:pathLst>
              <a:path w="828" h="924">
                <a:moveTo>
                  <a:pt x="0" y="0"/>
                </a:moveTo>
                <a:cubicBezTo>
                  <a:pt x="31" y="60"/>
                  <a:pt x="102" y="245"/>
                  <a:pt x="188" y="360"/>
                </a:cubicBezTo>
                <a:cubicBezTo>
                  <a:pt x="274" y="475"/>
                  <a:pt x="409" y="594"/>
                  <a:pt x="516" y="688"/>
                </a:cubicBezTo>
                <a:cubicBezTo>
                  <a:pt x="623" y="782"/>
                  <a:pt x="763" y="875"/>
                  <a:pt x="828" y="924"/>
                </a:cubicBezTo>
              </a:path>
            </a:pathLst>
          </a:custGeom>
          <a:noFill/>
          <a:ln w="25560">
            <a:solidFill>
              <a:srgbClr val="66ff33"/>
            </a:solidFill>
            <a:round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68360" y="404640"/>
            <a:ext cx="48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氨基酸的脱水缩合过程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: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6360" y="6159600"/>
            <a:ext cx="968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肽键还可以写成：—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CO—NH—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或  —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NH—CO—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94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9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04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0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10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15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21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26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31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3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41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46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56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61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66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71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76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1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7572"/>
                </a:solidFill>
                <a:latin typeface="Arial"/>
              </a:rPr>
              <a:t>探究活动</a:t>
            </a:r>
            <a:r>
              <a:rPr b="1" lang="zh-CN" sz="4800" spc="-1" strike="noStrike">
                <a:solidFill>
                  <a:srgbClr val="007572"/>
                </a:solidFill>
                <a:latin typeface="Arial"/>
              </a:rPr>
              <a:t>2</a:t>
            </a:r>
            <a:r>
              <a:rPr b="1" lang="zh-CN" sz="4800" spc="-1" strike="noStrike">
                <a:solidFill>
                  <a:srgbClr val="007572"/>
                </a:solidFill>
                <a:latin typeface="Arial"/>
              </a:rPr>
              <a:t>：</a:t>
            </a:r>
            <a:endParaRPr b="0" lang="en-US" sz="48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79280" y="1557360"/>
            <a:ext cx="8785440" cy="35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找规律：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33cc"/>
                </a:solidFill>
                <a:latin typeface="Arial"/>
              </a:rPr>
              <a:t>    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氨基酸、肽键、肽链、水分子数的关系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327" name="" descr=""/>
          <p:cNvPicPr/>
          <p:nvPr/>
        </p:nvPicPr>
        <p:blipFill>
          <a:blip r:embed="rId2">
            <a:lum contrast="24000"/>
          </a:blip>
          <a:srcRect l="1539" t="4493" r="1148" b="35349"/>
          <a:stretch/>
        </p:blipFill>
        <p:spPr>
          <a:xfrm>
            <a:off x="0" y="4076640"/>
            <a:ext cx="9144000" cy="28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1116000" y="620640"/>
            <a:ext cx="66247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思考作答：（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）两个氨基酸脱水缩合反应生成一个二肽，失去几分子水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形成几个肽键？至少剩几个氨基？几个羧基？（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）三个氨基酸脱水缩合呢？（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）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个氨基酸脱水缩合反应呢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9" name=""/>
          <p:cNvGraphicFramePr/>
          <p:nvPr/>
        </p:nvGraphicFramePr>
        <p:xfrm>
          <a:off x="0" y="260280"/>
          <a:ext cx="9036000" cy="4989600"/>
        </p:xfrm>
        <a:graphic>
          <a:graphicData uri="http://schemas.openxmlformats.org/drawingml/2006/table">
            <a:tbl>
              <a:tblPr/>
              <a:tblGrid>
                <a:gridCol w="1633680"/>
                <a:gridCol w="1425600"/>
                <a:gridCol w="1800000"/>
                <a:gridCol w="1728720"/>
                <a:gridCol w="2448000"/>
              </a:tblGrid>
              <a:tr h="114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33cc"/>
                          </a:solidFill>
                          <a:latin typeface="华文中宋"/>
                          <a:ea typeface="华文中宋"/>
                        </a:rPr>
                        <a:t>氨基酸</a:t>
                      </a:r>
                      <a:endParaRPr b="0" lang="en-US" sz="2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33cc"/>
                          </a:solidFill>
                          <a:latin typeface="华文中宋"/>
                          <a:ea typeface="华文中宋"/>
                        </a:rPr>
                        <a:t>  </a:t>
                      </a:r>
                      <a:r>
                        <a:rPr b="1" lang="zh-CN" sz="2400" spc="-1" strike="noStrike">
                          <a:solidFill>
                            <a:srgbClr val="0033cc"/>
                          </a:solidFill>
                          <a:latin typeface="华文中宋"/>
                          <a:ea typeface="华文中宋"/>
                        </a:rPr>
                        <a:t>分子数</a:t>
                      </a:r>
                      <a:endParaRPr b="0" lang="en-US" sz="2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33cc"/>
                          </a:solidFill>
                          <a:latin typeface="华文中宋"/>
                          <a:ea typeface="华文中宋"/>
                        </a:rPr>
                        <a:t>形成的</a:t>
                      </a:r>
                      <a:endParaRPr b="0" lang="en-US" sz="2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33cc"/>
                          </a:solidFill>
                          <a:latin typeface="华文中宋"/>
                          <a:ea typeface="华文中宋"/>
                        </a:rPr>
                        <a:t>肽链数</a:t>
                      </a:r>
                      <a:endParaRPr b="0" lang="en-US" sz="2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33cc"/>
                          </a:solidFill>
                          <a:latin typeface="华文中宋"/>
                          <a:ea typeface="华文中宋"/>
                        </a:rPr>
                        <a:t>  </a:t>
                      </a:r>
                      <a:r>
                        <a:rPr b="1" lang="zh-CN" sz="2400" spc="-1" strike="noStrike">
                          <a:solidFill>
                            <a:srgbClr val="0033cc"/>
                          </a:solidFill>
                          <a:latin typeface="华文中宋"/>
                          <a:ea typeface="华文中宋"/>
                        </a:rPr>
                        <a:t>脱去的</a:t>
                      </a:r>
                      <a:endParaRPr b="0" lang="en-US" sz="2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33cc"/>
                          </a:solidFill>
                          <a:latin typeface="华文中宋"/>
                          <a:ea typeface="华文中宋"/>
                        </a:rPr>
                        <a:t>水分子数</a:t>
                      </a:r>
                      <a:endParaRPr b="0" lang="en-US" sz="2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33cc"/>
                          </a:solidFill>
                          <a:latin typeface="华文中宋"/>
                          <a:ea typeface="华文中宋"/>
                        </a:rPr>
                        <a:t>  </a:t>
                      </a:r>
                      <a:r>
                        <a:rPr b="1" lang="zh-CN" sz="2400" spc="-1" strike="noStrike">
                          <a:solidFill>
                            <a:srgbClr val="0033cc"/>
                          </a:solidFill>
                          <a:latin typeface="华文中宋"/>
                          <a:ea typeface="华文中宋"/>
                        </a:rPr>
                        <a:t>形成的</a:t>
                      </a:r>
                      <a:endParaRPr b="0" lang="en-US" sz="2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33cc"/>
                          </a:solidFill>
                          <a:latin typeface="华文中宋"/>
                          <a:ea typeface="华文中宋"/>
                        </a:rPr>
                        <a:t>  </a:t>
                      </a:r>
                      <a:r>
                        <a:rPr b="1" lang="zh-CN" sz="2400" spc="-1" strike="noStrike">
                          <a:solidFill>
                            <a:srgbClr val="0033cc"/>
                          </a:solidFill>
                          <a:latin typeface="华文中宋"/>
                          <a:ea typeface="华文中宋"/>
                        </a:rPr>
                        <a:t>肽键数</a:t>
                      </a:r>
                      <a:endParaRPr b="0" lang="en-US" sz="2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33cc"/>
                          </a:solidFill>
                          <a:latin typeface="华文中宋"/>
                          <a:ea typeface="华文中宋"/>
                        </a:rPr>
                        <a:t> </a:t>
                      </a:r>
                      <a:r>
                        <a:rPr b="1" lang="zh-CN" sz="2400" spc="-1" strike="noStrike">
                          <a:solidFill>
                            <a:srgbClr val="0033cc"/>
                          </a:solidFill>
                          <a:latin typeface="华文中宋"/>
                          <a:ea typeface="华文中宋"/>
                        </a:rPr>
                        <a:t>形成的</a:t>
                      </a:r>
                      <a:endParaRPr b="0" lang="en-US" sz="2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33cc"/>
                          </a:solidFill>
                          <a:latin typeface="华文中宋"/>
                          <a:ea typeface="华文中宋"/>
                        </a:rPr>
                        <a:t>化合物名称</a:t>
                      </a:r>
                      <a:endParaRPr b="0" lang="en-US" sz="2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93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33cc"/>
                          </a:solidFill>
                          <a:latin typeface="Arial"/>
                          <a:ea typeface="华文新魏"/>
                        </a:rPr>
                        <a:t> </a:t>
                      </a:r>
                      <a:endParaRPr b="0" lang="en-US" sz="32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86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100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0" name=""/>
          <p:cNvSpPr/>
          <p:nvPr/>
        </p:nvSpPr>
        <p:spPr>
          <a:xfrm>
            <a:off x="324000" y="5486400"/>
            <a:ext cx="842472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000000"/>
                </a:solidFill>
                <a:latin typeface="华文中宋"/>
                <a:ea typeface="华文中宋"/>
              </a:rPr>
              <a:t>水分子数＝肽键数</a:t>
            </a:r>
            <a:br>
              <a:rPr sz="4200"/>
            </a:br>
            <a:r>
              <a:rPr b="1" lang="zh-CN" sz="42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　　　　＝氨基酸数－肽链数</a:t>
            </a:r>
            <a:endParaRPr b="0" lang="en-US" sz="4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11280" y="1557360"/>
            <a:ext cx="115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635280" y="1628640"/>
            <a:ext cx="122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292720" y="1557360"/>
            <a:ext cx="100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6732720" y="1484280"/>
            <a:ext cx="194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华文新魏"/>
              </a:rPr>
              <a:t>二肽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539640" y="2565360"/>
            <a:ext cx="158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3635280" y="2565360"/>
            <a:ext cx="107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292720" y="2565360"/>
            <a:ext cx="86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6767640" y="2421000"/>
            <a:ext cx="23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华文新魏"/>
              </a:rPr>
              <a:t>三肽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1763640" y="4365720"/>
            <a:ext cx="79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ff5050"/>
                </a:solidFill>
                <a:latin typeface="Arial"/>
              </a:rPr>
              <a:t>m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1908000" y="3500280"/>
            <a:ext cx="79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324000" y="443700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5050"/>
                </a:solidFill>
                <a:latin typeface="Arial"/>
              </a:rPr>
              <a:t>n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3419640" y="3429000"/>
            <a:ext cx="180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n--1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3492360" y="4365720"/>
            <a:ext cx="165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5050"/>
                </a:solidFill>
                <a:latin typeface="Arial"/>
              </a:rPr>
              <a:t>n--m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148360" y="3429000"/>
            <a:ext cx="187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n--1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148360" y="4437000"/>
            <a:ext cx="165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5050"/>
                </a:solidFill>
                <a:latin typeface="Arial"/>
              </a:rPr>
              <a:t>n--m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6659640" y="3429000"/>
            <a:ext cx="24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n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肽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（多肽）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659640" y="4365720"/>
            <a:ext cx="24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5050"/>
                </a:solidFill>
                <a:latin typeface="Arial"/>
              </a:rPr>
              <a:t>n</a:t>
            </a:r>
            <a:r>
              <a:rPr b="1" lang="zh-CN" sz="3200" spc="-1" strike="noStrike">
                <a:solidFill>
                  <a:srgbClr val="ff5050"/>
                </a:solidFill>
                <a:latin typeface="Arial"/>
              </a:rPr>
              <a:t>肽</a:t>
            </a:r>
            <a:r>
              <a:rPr b="1" lang="zh-CN" sz="2800" spc="-1" strike="noStrike">
                <a:solidFill>
                  <a:srgbClr val="ff5050"/>
                </a:solidFill>
                <a:latin typeface="Arial"/>
              </a:rPr>
              <a:t>（多肽）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395280" y="350028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n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6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/>
          <p:nvPr/>
        </p:nvSpPr>
        <p:spPr>
          <a:xfrm>
            <a:off x="2018880" y="2276640"/>
            <a:ext cx="5141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华文中宋"/>
                <a:ea typeface="华文中宋"/>
              </a:rPr>
              <a:t>完成书本</a:t>
            </a:r>
            <a:r>
              <a:rPr b="0" lang="zh-CN" sz="5400" spc="-1" strike="noStrike">
                <a:solidFill>
                  <a:srgbClr val="000000"/>
                </a:solidFill>
                <a:latin typeface="华文中宋"/>
                <a:ea typeface="华文中宋"/>
              </a:rPr>
              <a:t>24</a:t>
            </a:r>
            <a:r>
              <a:rPr b="0" lang="zh-CN" sz="5400" spc="-1" strike="noStrike">
                <a:solidFill>
                  <a:srgbClr val="000000"/>
                </a:solidFill>
                <a:latin typeface="华文中宋"/>
                <a:ea typeface="华文中宋"/>
              </a:rPr>
              <a:t>页基础题</a:t>
            </a:r>
            <a:r>
              <a:rPr b="0" lang="zh-CN" sz="5400" spc="-1" strike="noStrike">
                <a:solidFill>
                  <a:srgbClr val="000000"/>
                </a:solidFill>
                <a:latin typeface="华文中宋"/>
                <a:ea typeface="华文中宋"/>
              </a:rPr>
              <a:t>3</a:t>
            </a:r>
            <a:endParaRPr b="0" lang="en-US" sz="5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179280" y="1700280"/>
            <a:ext cx="17927640" cy="347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华文中宋"/>
              </a:rPr>
              <a:t>思维拓展：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华文中宋"/>
              </a:rPr>
              <a:t>一种毒蘑菇含有的毒素叫鹅膏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华文中宋"/>
              </a:rPr>
              <a:t>草碱，是一种环状八肽，它合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华文中宋"/>
              </a:rPr>
              <a:t>成时失去几个水分子？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1955520" y="777960"/>
            <a:ext cx="511848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  <a:ea typeface="华文中宋"/>
              </a:rPr>
              <a:t>思考：组成生物体的氨基酸</a:t>
            </a:r>
            <a:endParaRPr b="0" lang="en-US" sz="54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  <a:ea typeface="华文中宋"/>
              </a:rPr>
              <a:t>种类有限，为什么蛋白质的</a:t>
            </a:r>
            <a:endParaRPr b="0" lang="en-US" sz="54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  <a:ea typeface="华文中宋"/>
              </a:rPr>
              <a:t>种类却有很多？</a:t>
            </a:r>
            <a:endParaRPr b="0" lang="en-US" sz="5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0" y="1178280"/>
            <a:ext cx="914400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华文中宋"/>
                <a:ea typeface="华文中宋"/>
              </a:rPr>
              <a:t>　　下列四组图分别表示蛋白质结构多样性形成的原因，试把各组力求提供的信息用精练文字叙述表达出来。（△、○表示不同的氨基酸，</a:t>
            </a:r>
            <a:r>
              <a:rPr b="1" lang="zh-CN" sz="3200" spc="-1" strike="noStrike">
                <a:solidFill>
                  <a:srgbClr val="0033cc"/>
                </a:solidFill>
                <a:latin typeface="华文中宋"/>
                <a:ea typeface="华文中宋"/>
              </a:rPr>
              <a:t>--</a:t>
            </a:r>
            <a:r>
              <a:rPr b="1" lang="zh-CN" sz="3200" spc="-1" strike="noStrike">
                <a:solidFill>
                  <a:srgbClr val="0033cc"/>
                </a:solidFill>
                <a:latin typeface="华文中宋"/>
                <a:ea typeface="华文中宋"/>
              </a:rPr>
              <a:t>、</a:t>
            </a:r>
            <a:r>
              <a:rPr b="1" lang="zh-CN" sz="3200" spc="-1" strike="noStrike">
                <a:solidFill>
                  <a:srgbClr val="0033cc"/>
                </a:solidFill>
                <a:latin typeface="华文中宋"/>
                <a:ea typeface="华文中宋"/>
              </a:rPr>
              <a:t>~~</a:t>
            </a:r>
            <a:r>
              <a:rPr b="1" lang="zh-CN" sz="3200" spc="-1" strike="noStrike">
                <a:solidFill>
                  <a:srgbClr val="0033cc"/>
                </a:solidFill>
                <a:latin typeface="华文中宋"/>
                <a:ea typeface="华文中宋"/>
              </a:rPr>
              <a:t>表示同种肽链在空间上不同形状）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华文中宋"/>
                <a:ea typeface="华文中宋"/>
              </a:rPr>
              <a:t>A</a:t>
            </a:r>
            <a:r>
              <a:rPr b="1" lang="zh-CN" sz="3200" spc="-1" strike="noStrike">
                <a:solidFill>
                  <a:srgbClr val="0033cc"/>
                </a:solidFill>
                <a:latin typeface="华文中宋"/>
                <a:ea typeface="华文中宋"/>
              </a:rPr>
              <a:t>、△－△－△　　　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华文中宋"/>
                <a:ea typeface="华文中宋"/>
              </a:rPr>
              <a:t>     △</a:t>
            </a:r>
            <a:r>
              <a:rPr b="1" lang="zh-CN" sz="3200" spc="-1" strike="noStrike">
                <a:solidFill>
                  <a:srgbClr val="0033cc"/>
                </a:solidFill>
                <a:latin typeface="华文中宋"/>
                <a:ea typeface="华文中宋"/>
              </a:rPr>
              <a:t>－△－△－△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华文中宋"/>
                <a:ea typeface="华文中宋"/>
              </a:rPr>
              <a:t>B</a:t>
            </a:r>
            <a:r>
              <a:rPr b="1" lang="zh-CN" sz="3200" spc="-1" strike="noStrike">
                <a:solidFill>
                  <a:srgbClr val="0033cc"/>
                </a:solidFill>
                <a:latin typeface="华文中宋"/>
                <a:ea typeface="华文中宋"/>
              </a:rPr>
              <a:t>、△－△－△－△　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华文中宋"/>
                <a:ea typeface="华文中宋"/>
              </a:rPr>
              <a:t>     ○</a:t>
            </a:r>
            <a:r>
              <a:rPr b="1" lang="zh-CN" sz="3200" spc="-1" strike="noStrike">
                <a:solidFill>
                  <a:srgbClr val="0033cc"/>
                </a:solidFill>
                <a:latin typeface="华文中宋"/>
                <a:ea typeface="华文中宋"/>
              </a:rPr>
              <a:t>－○－○－○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华文中宋"/>
                <a:ea typeface="华文中宋"/>
              </a:rPr>
              <a:t>C</a:t>
            </a:r>
            <a:r>
              <a:rPr b="1" lang="zh-CN" sz="3200" spc="-1" strike="noStrike">
                <a:solidFill>
                  <a:srgbClr val="0033cc"/>
                </a:solidFill>
                <a:latin typeface="华文中宋"/>
                <a:ea typeface="华文中宋"/>
              </a:rPr>
              <a:t>、△－○－○－△　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华文中宋"/>
                <a:ea typeface="华文中宋"/>
              </a:rPr>
              <a:t>      ○</a:t>
            </a:r>
            <a:r>
              <a:rPr b="1" lang="zh-CN" sz="3200" spc="-1" strike="noStrike">
                <a:solidFill>
                  <a:srgbClr val="0033cc"/>
                </a:solidFill>
                <a:latin typeface="华文中宋"/>
                <a:ea typeface="华文中宋"/>
              </a:rPr>
              <a:t>－△－△－○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华文中宋"/>
                <a:ea typeface="华文中宋"/>
              </a:rPr>
              <a:t>D</a:t>
            </a:r>
            <a:r>
              <a:rPr b="1" lang="zh-CN" sz="3200" spc="-1" strike="noStrike">
                <a:solidFill>
                  <a:srgbClr val="0033cc"/>
                </a:solidFill>
                <a:latin typeface="华文中宋"/>
                <a:ea typeface="华文中宋"/>
              </a:rPr>
              <a:t>、</a:t>
            </a:r>
            <a:r>
              <a:rPr b="1" lang="zh-CN" sz="3200" spc="-1" strike="noStrike">
                <a:solidFill>
                  <a:srgbClr val="0033cc"/>
                </a:solidFill>
                <a:latin typeface="华文中宋"/>
                <a:ea typeface="华文中宋"/>
              </a:rPr>
              <a:t>-----------------</a:t>
            </a:r>
            <a:r>
              <a:rPr b="1" lang="zh-CN" sz="3200" spc="-1" strike="noStrike">
                <a:solidFill>
                  <a:srgbClr val="0033cc"/>
                </a:solidFill>
                <a:latin typeface="华文中宋"/>
                <a:ea typeface="华文中宋"/>
              </a:rPr>
              <a:t>　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华文中宋"/>
                <a:ea typeface="华文中宋"/>
              </a:rPr>
              <a:t>     </a:t>
            </a:r>
            <a:r>
              <a:rPr b="1" lang="zh-CN" sz="3200" spc="-1" strike="noStrike">
                <a:solidFill>
                  <a:srgbClr val="0033cc"/>
                </a:solidFill>
                <a:latin typeface="华文中宋"/>
                <a:ea typeface="华文中宋"/>
              </a:rPr>
              <a:t>~~~~~~~~~~~~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195640" y="0"/>
            <a:ext cx="44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5050"/>
                </a:solidFill>
                <a:latin typeface="华文中宋"/>
                <a:ea typeface="华文中宋"/>
              </a:rPr>
              <a:t>蛋白质结构的多样性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3708360" y="2637000"/>
            <a:ext cx="511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华文中宋"/>
              </a:rPr>
              <a:t>组成每种蛋白质的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氨基酸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华文中宋"/>
              </a:rPr>
              <a:t>分子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数目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华文中宋"/>
              </a:rPr>
              <a:t>不同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4777560" y="3716280"/>
            <a:ext cx="2954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组成每种蛋白质的氨基酸分子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种类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不同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886200" y="4724280"/>
            <a:ext cx="525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组成每种蛋白质的氨基酸分子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排列顺序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不同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780000" y="5661000"/>
            <a:ext cx="536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由氨基酸分子构成的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肽链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的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空间结构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千差万别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7" dur="indefinite" restart="never" nodeType="tmRoot">
          <p:childTnLst>
            <p:seq>
              <p:cTn id="598" dur="indefinite" nodeType="mainSeq">
                <p:childTnLst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9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4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9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自带球棍模型！！！演示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159080" cy="311940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3"/>
          <a:stretch/>
        </p:blipFill>
        <p:spPr>
          <a:xfrm>
            <a:off x="0" y="3271680"/>
            <a:ext cx="4211640" cy="3586320"/>
          </a:xfrm>
          <a:prstGeom prst="rect">
            <a:avLst/>
          </a:prstGeom>
          <a:ln w="0">
            <a:noFill/>
          </a:ln>
        </p:spPr>
      </p:pic>
      <p:pic>
        <p:nvPicPr>
          <p:cNvPr id="362" name="" descr=""/>
          <p:cNvPicPr/>
          <p:nvPr/>
        </p:nvPicPr>
        <p:blipFill>
          <a:blip r:embed="rId4"/>
          <a:stretch/>
        </p:blipFill>
        <p:spPr>
          <a:xfrm>
            <a:off x="4284720" y="0"/>
            <a:ext cx="4643280" cy="672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684360" y="2060640"/>
            <a:ext cx="7272360" cy="13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600" spc="-1" strike="noStrike">
                <a:solidFill>
                  <a:srgbClr val="000000"/>
                </a:solidFill>
                <a:latin typeface="华文行楷"/>
                <a:ea typeface="华文行楷"/>
              </a:rPr>
              <a:t>第</a:t>
            </a:r>
            <a:r>
              <a:rPr b="0" lang="zh-CN" sz="5600" spc="-1" strike="noStrike">
                <a:solidFill>
                  <a:srgbClr val="000000"/>
                </a:solidFill>
                <a:latin typeface="华文行楷"/>
                <a:ea typeface="华文行楷"/>
              </a:rPr>
              <a:t>2</a:t>
            </a:r>
            <a:r>
              <a:rPr b="0" lang="zh-CN" sz="5600" spc="-1" strike="noStrike">
                <a:solidFill>
                  <a:srgbClr val="000000"/>
                </a:solidFill>
                <a:latin typeface="华文行楷"/>
                <a:ea typeface="华文行楷"/>
              </a:rPr>
              <a:t>节 生命活动的主要承担者——蛋白质</a:t>
            </a:r>
            <a:endParaRPr b="0" lang="en-US" sz="5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/>
          <p:nvPr/>
        </p:nvSpPr>
        <p:spPr>
          <a:xfrm>
            <a:off x="0" y="1268280"/>
            <a:ext cx="9144000" cy="2287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　　</a:t>
            </a:r>
            <a:r>
              <a:rPr b="1" lang="zh-CN" sz="4800" spc="-1" strike="noStrike">
                <a:solidFill>
                  <a:srgbClr val="0033cc"/>
                </a:solidFill>
                <a:latin typeface="Times New Roman"/>
              </a:rPr>
              <a:t>由于组成蛋白质的氨基酸</a:t>
            </a:r>
            <a:r>
              <a:rPr b="1" lang="zh-CN" sz="4800" spc="-1" strike="noStrike" u="sng">
                <a:solidFill>
                  <a:srgbClr val="ff5050"/>
                </a:solidFill>
                <a:uFillTx/>
                <a:latin typeface="Times New Roman"/>
              </a:rPr>
              <a:t>种类</a:t>
            </a:r>
            <a:r>
              <a:rPr b="1" lang="zh-CN" sz="4800" spc="-1" strike="noStrike">
                <a:solidFill>
                  <a:srgbClr val="0033cc"/>
                </a:solidFill>
                <a:latin typeface="Times New Roman"/>
              </a:rPr>
              <a:t>、</a:t>
            </a:r>
            <a:r>
              <a:rPr b="1" lang="zh-CN" sz="4800" spc="-1" strike="noStrike" u="sng">
                <a:solidFill>
                  <a:srgbClr val="ff5050"/>
                </a:solidFill>
                <a:uFillTx/>
                <a:latin typeface="Times New Roman"/>
              </a:rPr>
              <a:t>数目</a:t>
            </a:r>
            <a:r>
              <a:rPr b="1" lang="zh-CN" sz="4800" spc="-1" strike="noStrike">
                <a:solidFill>
                  <a:srgbClr val="0033cc"/>
                </a:solidFill>
                <a:latin typeface="Times New Roman"/>
              </a:rPr>
              <a:t>、</a:t>
            </a:r>
            <a:r>
              <a:rPr b="1" lang="zh-CN" sz="4800" spc="-1" strike="noStrike" u="sng">
                <a:solidFill>
                  <a:srgbClr val="ff5050"/>
                </a:solidFill>
                <a:uFillTx/>
                <a:latin typeface="Times New Roman"/>
              </a:rPr>
              <a:t>排列顺序</a:t>
            </a:r>
            <a:r>
              <a:rPr b="1" lang="zh-CN" sz="4800" spc="-1" strike="noStrike">
                <a:solidFill>
                  <a:srgbClr val="0033cc"/>
                </a:solidFill>
                <a:latin typeface="Times New Roman"/>
              </a:rPr>
              <a:t>和</a:t>
            </a:r>
            <a:r>
              <a:rPr b="0" lang="zh-CN" sz="4800" spc="-1" strike="noStrike" u="sng">
                <a:solidFill>
                  <a:srgbClr val="ff5050"/>
                </a:solidFill>
                <a:uFillTx/>
                <a:latin typeface="Times New Roman"/>
                <a:ea typeface="黑体"/>
              </a:rPr>
              <a:t>肽链</a:t>
            </a:r>
            <a:r>
              <a:rPr b="1" lang="zh-CN" sz="4800" spc="-1" strike="noStrike" u="sng">
                <a:solidFill>
                  <a:srgbClr val="ff5050"/>
                </a:solidFill>
                <a:uFillTx/>
                <a:latin typeface="Times New Roman"/>
              </a:rPr>
              <a:t>空间结构</a:t>
            </a:r>
            <a:r>
              <a:rPr b="1" lang="zh-CN" sz="4800" spc="-1" strike="noStrike">
                <a:solidFill>
                  <a:srgbClr val="0033cc"/>
                </a:solidFill>
                <a:latin typeface="Times New Roman"/>
              </a:rPr>
              <a:t>的不同，决定了</a:t>
            </a:r>
            <a:r>
              <a:rPr b="1" lang="zh-CN" sz="4800" spc="-1" strike="noStrike" u="sng">
                <a:solidFill>
                  <a:srgbClr val="ff5050"/>
                </a:solidFill>
                <a:uFillTx/>
                <a:latin typeface="Times New Roman"/>
              </a:rPr>
              <a:t>蛋白质结构的多样性</a:t>
            </a:r>
            <a:r>
              <a:rPr b="1" lang="zh-CN" sz="4800" spc="-1" strike="noStrike">
                <a:solidFill>
                  <a:srgbClr val="0033cc"/>
                </a:solidFill>
                <a:latin typeface="Times New Roman"/>
              </a:rPr>
              <a:t>。从而决定了</a:t>
            </a:r>
            <a:r>
              <a:rPr b="1" lang="zh-CN" sz="4800" spc="-1" strike="noStrike" u="sng">
                <a:solidFill>
                  <a:srgbClr val="000000"/>
                </a:solidFill>
                <a:uFillTx/>
                <a:latin typeface="Times New Roman"/>
              </a:rPr>
              <a:t>生物的多样性</a:t>
            </a:r>
            <a:r>
              <a:rPr b="1" lang="zh-CN" sz="4800" spc="-1" strike="noStrike" u="sng">
                <a:solidFill>
                  <a:srgbClr val="ff66cc"/>
                </a:solidFill>
                <a:uFillTx/>
                <a:latin typeface="Times New Roman"/>
              </a:rPr>
              <a:t>。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735120" y="48751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1874520" y="4508640"/>
            <a:ext cx="5382000" cy="20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华文中宋"/>
              </a:rPr>
              <a:t>蛋白质结构具有多样性，功能也具有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华文中宋"/>
              </a:rPr>
              <a:t>多样性，它们之间是什么关系呢？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0" dur="indefinite" restart="never" nodeType="tmRoot">
          <p:childTnLst>
            <p:seq>
              <p:cTn id="621" dur="indefinite" nodeType="mainSeq">
                <p:childTnLst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2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0" y="-387360"/>
            <a:ext cx="9144000" cy="698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755640" y="764640"/>
            <a:ext cx="7416720" cy="331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700"/>
            </a:br>
            <a:r>
              <a:rPr b="1" lang="zh-CN" sz="4700" spc="-1" strike="noStrike">
                <a:solidFill>
                  <a:srgbClr val="007572"/>
                </a:solidFill>
                <a:latin typeface="Arial"/>
              </a:rPr>
              <a:t> </a:t>
            </a:r>
            <a:r>
              <a:rPr b="1" lang="zh-CN" sz="6200" spc="-1" strike="noStrike">
                <a:solidFill>
                  <a:srgbClr val="000000"/>
                </a:solidFill>
                <a:latin typeface="Arial"/>
              </a:rPr>
              <a:t>【学以致用】</a:t>
            </a:r>
            <a:r>
              <a:rPr b="1" lang="zh-CN" sz="47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700"/>
            </a:br>
            <a:r>
              <a:rPr b="1" lang="zh-CN" sz="47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47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华文中宋"/>
              </a:rPr>
              <a:t>阅读书本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华文中宋"/>
              </a:rPr>
              <a:t>23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华文中宋"/>
              </a:rPr>
              <a:t>页与生活的联系，讨论说明为什么真丝、羊毛衣物不能用热水洗涤？</a:t>
            </a:r>
            <a:endParaRPr b="0" lang="en-US" sz="4000" spc="-1" strike="noStrike">
              <a:solidFill>
                <a:srgbClr val="00757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479520" y="260280"/>
            <a:ext cx="866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宋体"/>
              </a:rPr>
              <a:t>情境一：医院里用高温蒸煮、紫外线照射、喷洒苯酚溶液、在伤口处涂抹酒精溶液等方法来消毒杀菌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0" y="6165720"/>
            <a:ext cx="85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华文楷体"/>
              </a:rPr>
              <a:t>波尔多液中的重金属盐硫酸铜使蛋白质凝结，来消灭病虫害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50920" y="1844640"/>
            <a:ext cx="853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宋体"/>
              </a:rPr>
              <a:t>情境二：生物实验室用甲醛溶液（福尔马林）保存动物标本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324000" y="2997360"/>
            <a:ext cx="830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宋体"/>
              </a:rPr>
              <a:t>情境三：在农业上常用波尔多液（由硫酸铜、生石灰和水制成）来消灭病虫害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539640" y="436572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cc"/>
                </a:solidFill>
                <a:latin typeface="宋体"/>
                <a:ea typeface="华文楷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华文楷体"/>
              </a:rPr>
              <a:t>高温、紫外线、苯酚、酒精能使病毒和细菌中的蛋白质凝结而失去生理活性，从而起到消毒杀菌的作用。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0920" y="5157720"/>
            <a:ext cx="838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cc"/>
                </a:solidFill>
                <a:latin typeface="宋体"/>
                <a:ea typeface="华文楷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华文楷体"/>
              </a:rPr>
              <a:t>甲醛溶液使动物中的蛋白质凝结，丧失了原有的可溶性，不易腐烂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3" dur="indefinite" restart="never" nodeType="tmRoot">
          <p:childTnLst>
            <p:seq>
              <p:cTn id="634" dur="indefinite" nodeType="mainSeq">
                <p:childTnLst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39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4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49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/>
          </p:nvPr>
        </p:nvSpPr>
        <p:spPr>
          <a:xfrm>
            <a:off x="250560" y="980640"/>
            <a:ext cx="88930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33cc"/>
                </a:solidFill>
                <a:latin typeface="Arial"/>
              </a:rPr>
              <a:t>  </a:t>
            </a:r>
            <a:r>
              <a:rPr b="1" lang="zh-CN" sz="4800" spc="-1" strike="noStrike">
                <a:solidFill>
                  <a:srgbClr val="0033cc"/>
                </a:solidFill>
                <a:latin typeface="Arial"/>
              </a:rPr>
              <a:t>蛋白质变性在实际应用上具有重要意义。在临床工作中经常应用酒精、加热、紫外线等来消毒、杀菌，这实际上也就是利用这些手段，使菌体和病毒的蛋白质变性而失去其致病性和繁殖能力。 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/>
          </p:nvPr>
        </p:nvSpPr>
        <p:spPr>
          <a:xfrm>
            <a:off x="324000" y="333000"/>
            <a:ext cx="8494560" cy="619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、找几份食品的成分说明书看一看，了解其中的主要成分及作用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、 搜集有关人工合成蛋白质材料，联系本书的科学家访谈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1. 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如果你是中国人工合成牛胰岛素科研领导小组的成员，你认为首先应做哪些方面的工作以免少走弯路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2. 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设计一个怎样的方案，以期更科学、更合理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?(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方案要合理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3.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如果人工合成的牛胰岛素没有达到预期的结果，你应该做哪些方面的分析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500720" cy="314316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3154320"/>
            <a:ext cx="4500720" cy="370368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284720" y="3429000"/>
            <a:ext cx="4859280" cy="34290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6426360" y="0"/>
            <a:ext cx="2717640" cy="34290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4371840" y="44989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916360" y="476280"/>
            <a:ext cx="4680000" cy="2592360"/>
          </a:xfrm>
          <a:prstGeom prst="cloudCallout">
            <a:avLst>
              <a:gd name="adj1" fmla="val -19740"/>
              <a:gd name="adj2" fmla="val 127157"/>
            </a:avLst>
          </a:prstGeom>
          <a:noFill/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方正舒体"/>
                <a:ea typeface="方正舒体"/>
              </a:rPr>
              <a:t>许多地方都有我的身影唷</a:t>
            </a:r>
            <a:r>
              <a:rPr b="0" lang="zh-CN" sz="4000" spc="-1" strike="noStrike">
                <a:solidFill>
                  <a:srgbClr val="ff0000"/>
                </a:solidFill>
                <a:latin typeface="方正舒体"/>
                <a:ea typeface="方正舒体"/>
              </a:rPr>
              <a:t>!!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4648320" y="609480"/>
            <a:ext cx="3657600" cy="25956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609480" y="609480"/>
            <a:ext cx="3657600" cy="26593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609480" y="3429000"/>
            <a:ext cx="3657600" cy="28195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4952880" y="4191120"/>
            <a:ext cx="342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豆类及豆制品含丰富的蛋白质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395280" y="198864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华文中宋"/>
              </a:rPr>
              <a:t>为什么缺乏蛋白质导致发育异常的大头娃娃出现？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84360" y="907920"/>
            <a:ext cx="5587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  <a:ea typeface="华文中宋"/>
              </a:rPr>
              <a:t>你知道吗？：</a:t>
            </a:r>
            <a:endParaRPr b="0" lang="en-US" sz="5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初识蛋白质：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0" y="1557360"/>
            <a:ext cx="8964720" cy="53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测一测：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你知道人体内有哪些蛋白质？   它们各有哪些功能？有人说“没有蛋白质就没有生命”，此话你如何理解？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79280" y="404640"/>
            <a:ext cx="8713800" cy="41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1</a:t>
            </a:r>
            <a:r>
              <a:rPr b="0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、许多蛋白质是构成细胞和生物体重要结构的物质，称为结构蛋白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2</a:t>
            </a:r>
            <a:r>
              <a:rPr b="0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、细胞内的化学反应离不开酶的催化。绝大多数酶都是蛋白质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3</a:t>
            </a:r>
            <a:r>
              <a:rPr b="0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、有些蛋白质具有运输载体的作用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4</a:t>
            </a:r>
            <a:r>
              <a:rPr b="0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、有些蛋白质起信息传递作用，能够调节机体生命活动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5</a:t>
            </a:r>
            <a:r>
              <a:rPr b="0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、有些蛋白质有免疫功能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5050"/>
                </a:solidFill>
                <a:latin typeface="Arial"/>
                <a:ea typeface="华文中宋"/>
              </a:rPr>
              <a:t>记忆小窍门：组催运免调</a:t>
            </a:r>
            <a:r>
              <a:rPr b="0" lang="zh-CN" sz="4000" spc="-1" strike="noStrike">
                <a:solidFill>
                  <a:srgbClr val="ff5050"/>
                </a:solidFill>
                <a:latin typeface="Arial"/>
                <a:ea typeface="华文中宋"/>
              </a:rPr>
              <a:t>（组长催着运输面条）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4000" y="685800"/>
            <a:ext cx="8216640" cy="32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华文中宋"/>
              </a:rPr>
              <a:t>一切生命活动都离不开蛋白质，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华文中宋"/>
              </a:rPr>
              <a:t>蛋白质是生命活动的主要承担者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26T14:52:57Z</dcterms:created>
  <dc:creator>pan-4</dc:creator>
  <dc:description/>
  <dc:language>en-US</dc:language>
  <cp:lastModifiedBy>walkinnet</cp:lastModifiedBy>
  <dcterms:modified xsi:type="dcterms:W3CDTF">2007-04-10T05:22:17Z</dcterms:modified>
  <cp:revision>109</cp:revision>
  <dc:subject/>
  <dc:title>新课程的尝试</dc:title>
</cp:coreProperties>
</file>