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DB12-E113-45CD-9477-DBEED880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71A4-E147-43F4-850C-A98A2A06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432F-AF01-4758-9425-7CB84BCD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9D45-5C47-435D-885B-9BAF7D2F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5770-1E01-4E30-B25E-E61C5D3B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A5AE-55A7-4FD5-A82C-637D8E54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D539-41E7-40AE-98B2-9FB135F0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29B3-1C9F-43CD-9B60-81F82A11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BADA-838B-4138-83E3-E711D632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436A-C7C1-4452-BB59-B1DD4740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B32E-1805-419D-AFAF-F8281525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579F-72F5-46E7-AE03-369BD9AD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EDE2-CBFF-4BAB-AD6F-1B159175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39B1-CA01-412F-9BA1-2B1A1A62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5366-9D5E-4E03-8AC7-6AA0F5AC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7626-63B1-4843-A795-A63585DC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C60E-D4BD-4323-B943-04B724E0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0E1C-85AC-400F-B6EC-53E71622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8F0E-9758-4705-A1E4-EA4E73E8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E6CC-3FAE-4F20-BA5D-5429F3FD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0CBE-8271-4700-8EFB-BBA2C540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3840-EB54-4728-ADA1-D574E3DF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E65F-8418-4748-AFC0-758F98FA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75AC-4F67-427C-BFE8-C5506AFB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A337-CB70-45A4-8AD1-601D59F476F4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74D5-9CFA-4905-B390-748C4890BA7B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news.xinhuanet.com/food/2005-03/24/content_2737600.htm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jmdg.cn/Article_Print.asp?ArticleID=176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www.hd88.goodsres.com/product/show_html/37/02/99127.html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175280" y="0"/>
            <a:ext cx="4968720" cy="3303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211640" y="3379680"/>
            <a:ext cx="4932360" cy="347832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755640" y="476280"/>
            <a:ext cx="7416720" cy="5570640"/>
            <a:chOff x="755640" y="476280"/>
            <a:chExt cx="7416720" cy="5570640"/>
          </a:xfrm>
        </p:grpSpPr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755640" y="476280"/>
              <a:ext cx="7416720" cy="557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332000" y="5084640"/>
              <a:ext cx="619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cc"/>
                  </a:solidFill>
                  <a:latin typeface="Arial"/>
                  <a:ea typeface="ＭＳ Ｐゴシック"/>
                </a:rPr>
                <a:t>2006.2</a:t>
              </a:r>
              <a:r>
                <a:rPr b="1" lang="zh-CN" sz="3600" spc="-1" strike="noStrike">
                  <a:solidFill>
                    <a:srgbClr val="0033cc"/>
                  </a:solidFill>
                  <a:latin typeface="Arial"/>
                  <a:ea typeface="ＭＳ Ｐゴシック"/>
                </a:rPr>
                <a:t>湖南株洲再现大头娃娃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92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92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92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92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92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192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192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192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92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192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192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192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92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192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192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192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蛋白质能够承担多种多样的功能，这与它的结构有什么关系？关于蛋白质的结构你了解多少？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【合作学习】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8455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一、再认蛋白质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比较下面几种物质的相对分子质量，你能得出什么结论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3357720"/>
          <a:ext cx="8820000" cy="2549520"/>
        </p:xfrm>
        <a:graphic>
          <a:graphicData uri="http://schemas.openxmlformats.org/drawingml/2006/table">
            <a:tbl>
              <a:tblPr/>
              <a:tblGrid>
                <a:gridCol w="1440000"/>
                <a:gridCol w="1295280"/>
                <a:gridCol w="1800360"/>
                <a:gridCol w="4284360"/>
              </a:tblGrid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名称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H</a:t>
                      </a:r>
                      <a:r>
                        <a:rPr b="1" lang="zh-CN" sz="3200" spc="-1" strike="noStrike" baseline="-25000">
                          <a:solidFill>
                            <a:srgbClr val="0033cc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O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（水）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H</a:t>
                      </a:r>
                      <a:r>
                        <a:rPr b="1" lang="zh-CN" sz="3200" spc="-1" strike="noStrike" baseline="-25000">
                          <a:solidFill>
                            <a:srgbClr val="0033cc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SO</a:t>
                      </a:r>
                      <a:r>
                        <a:rPr b="1" lang="zh-CN" sz="3200" spc="-1" strike="noStrike" baseline="-25000">
                          <a:solidFill>
                            <a:srgbClr val="0033cc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（硫酸）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200" spc="-1" strike="noStrike" baseline="-25000">
                          <a:solidFill>
                            <a:srgbClr val="0033cc"/>
                          </a:solidFill>
                          <a:latin typeface="Arial"/>
                        </a:rPr>
                        <a:t>30</a:t>
                      </a: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H</a:t>
                      </a:r>
                      <a:r>
                        <a:rPr b="1" lang="zh-CN" sz="3200" spc="-1" strike="noStrike" baseline="-25000">
                          <a:solidFill>
                            <a:srgbClr val="0033cc"/>
                          </a:solidFill>
                          <a:latin typeface="Arial"/>
                        </a:rPr>
                        <a:t>4816</a:t>
                      </a: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O</a:t>
                      </a:r>
                      <a:r>
                        <a:rPr b="1" lang="zh-CN" sz="3200" spc="-1" strike="noStrike" baseline="-25000">
                          <a:solidFill>
                            <a:srgbClr val="0033cc"/>
                          </a:solidFill>
                          <a:latin typeface="Arial"/>
                        </a:rPr>
                        <a:t>872</a:t>
                      </a: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N</a:t>
                      </a:r>
                      <a:r>
                        <a:rPr b="1" lang="zh-CN" sz="3200" spc="-1" strike="noStrike" baseline="-25000">
                          <a:solidFill>
                            <a:srgbClr val="0033cc"/>
                          </a:solidFill>
                          <a:latin typeface="Arial"/>
                        </a:rPr>
                        <a:t>280</a:t>
                      </a: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S</a:t>
                      </a:r>
                      <a:r>
                        <a:rPr b="1" lang="zh-CN" sz="3200" spc="-1" strike="noStrike" baseline="-25000">
                          <a:solidFill>
                            <a:srgbClr val="0033cc"/>
                          </a:solidFill>
                          <a:latin typeface="Arial"/>
                        </a:rPr>
                        <a:t>8</a:t>
                      </a: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Fe</a:t>
                      </a:r>
                      <a:r>
                        <a:rPr b="1" lang="zh-CN" sz="3200" spc="-1" strike="noStrike" baseline="-25000">
                          <a:solidFill>
                            <a:srgbClr val="0033cc"/>
                          </a:solidFill>
                          <a:latin typeface="Arial"/>
                        </a:rPr>
                        <a:t>4</a:t>
                      </a: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（血红蛋白）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分子量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98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2329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0" y="5877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结论：蛋白质是一种高分子有机化合物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79640" y="11253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食物中蛋白质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22360" y="2924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华文新魏"/>
              </a:rPr>
              <a:t>氨基酸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3357720"/>
            <a:ext cx="2089080" cy="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17733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消化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48320" y="2565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方正舒体"/>
              </a:rPr>
              <a:t>吸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10320" y="299736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华文新魏"/>
              </a:rPr>
              <a:t>组织细胞中氨基酸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79640" y="1844640"/>
            <a:ext cx="0" cy="115272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6000" y="364500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合成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59640" y="3789360"/>
            <a:ext cx="0" cy="108756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30920" y="47973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人体内蛋白质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24320" y="544500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华文新魏"/>
              </a:rPr>
              <a:t>氨基酸是蛋白质的基本单位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50920" y="18900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知识回顾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0676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二、细看氨基酸</a:t>
            </a:r>
            <a:br>
              <a:rPr sz="4000"/>
            </a:b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   探究活动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4032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5484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请仔细比较上述氨基酸，讨论它们有什么共同点？判断某分子是不是氨基酸的依据是什么？不同氨基酸区别在哪里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62120" y="3567240"/>
            <a:ext cx="200160" cy="693720"/>
          </a:xfrm>
          <a:custGeom>
            <a:avLst/>
            <a:gdLst>
              <a:gd name="textAreaLeft" fmla="*/ 127800 w 200160"/>
              <a:gd name="textAreaRight" fmla="*/ 200520 w 200160"/>
              <a:gd name="textAreaTop" fmla="*/ 18000 h 693720"/>
              <a:gd name="textAreaBottom" fmla="*/ 675720 h 69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421000"/>
            <a:ext cx="883908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楷体_GB2312"/>
              </a:rPr>
              <a:t>结构特点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每种氨基酸分子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宋体"/>
              </a:rPr>
              <a:t>　　　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都含有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宋体"/>
              </a:rPr>
              <a:t>　　　　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宋体"/>
              </a:rPr>
              <a:t>　　　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　和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宋体"/>
              </a:rPr>
              <a:t>　　　　　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　　　　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且都有一个氨基和一个羧基连接在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宋体"/>
              </a:rPr>
              <a:t>　　　　　　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上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氨基酸分子不同，就不同在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。如甘氨酸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丙氨酸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                   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必需氨基酸：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氨基酸约有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种，其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                   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非必需氨基酸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16360" y="292428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至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03640" y="2997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一个氨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04000" y="2924280"/>
            <a:ext cx="136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—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N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3429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个羧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71640" y="3500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—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COOH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1125360"/>
            <a:ext cx="103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C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859280" y="1483920"/>
            <a:ext cx="576360" cy="2052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87840" y="735120"/>
            <a:ext cx="0" cy="54612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635280" y="1557000"/>
            <a:ext cx="647640" cy="2052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1773360"/>
            <a:ext cx="12600" cy="52380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56000" y="213372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H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105264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OH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360" y="1125360"/>
            <a:ext cx="1647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H</a:t>
            </a:r>
            <a:r>
              <a:rPr b="1" lang="en-US" sz="4400" spc="-1" strike="noStrike" baseline="-25000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44840" y="44280"/>
            <a:ext cx="96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60280"/>
            <a:ext cx="45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酸的结构通式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24360" y="3933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同一个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碳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子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6360" y="4437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516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56000" y="5589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1116000" y="-243000"/>
            <a:ext cx="626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Arial"/>
                <a:ea typeface="华文新魏"/>
              </a:rPr>
              <a:t>  </a:t>
            </a:r>
            <a:r>
              <a:rPr b="1" lang="zh-CN" sz="5400" spc="-1" strike="noStrike">
                <a:solidFill>
                  <a:srgbClr val="ff5050"/>
                </a:solidFill>
                <a:latin typeface="Arial"/>
                <a:ea typeface="华文新魏"/>
              </a:rPr>
              <a:t>我的发现：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3280" y="5950080"/>
            <a:ext cx="1150920" cy="36036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716360" y="5445000"/>
            <a:ext cx="792360" cy="4320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3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6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9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802880" y="1695600"/>
            <a:ext cx="51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完成书本</a:t>
            </a:r>
            <a:r>
              <a:rPr b="0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4</a:t>
            </a:r>
            <a:r>
              <a:rPr b="0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页基础题</a:t>
            </a:r>
            <a:r>
              <a:rPr b="0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氨基酸分子是怎样形成蛋白质的呢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三看蛋白质（阅读书本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2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页图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2-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）说说从氨基酸到蛋白质大致有哪些结构层次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79280" y="2133360"/>
            <a:ext cx="9144000" cy="55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氨基酸→二肽→三肽→多肽（肽链）→蛋白质 （一条或多条肽链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观察书本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2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页“氨基酸脱水缩合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示意图”，阅读氨基酸脱水缩合过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程的文字、图解，以同桌为单位讨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论交流，并作出描述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851360" y="4610160"/>
            <a:ext cx="1143000" cy="9144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2209680"/>
            <a:ext cx="2438280" cy="990720"/>
          </a:xfrm>
          <a:prstGeom prst="rect">
            <a:avLst/>
          </a:prstGeom>
          <a:solidFill>
            <a:srgbClr val="a64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676520" y="1828800"/>
            <a:ext cx="2481840" cy="1583280"/>
            <a:chOff x="1676520" y="1828800"/>
            <a:chExt cx="2481840" cy="1583280"/>
          </a:xfrm>
        </p:grpSpPr>
        <p:sp>
          <p:nvSpPr>
            <p:cNvPr id="156" name=""/>
            <p:cNvSpPr/>
            <p:nvPr/>
          </p:nvSpPr>
          <p:spPr>
            <a:xfrm>
              <a:off x="2514600" y="2971440"/>
              <a:ext cx="456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76560" y="236196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14600" y="182880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76520" y="2361960"/>
              <a:ext cx="761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14600" y="238752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60440" y="2574720"/>
              <a:ext cx="271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52640" y="2574720"/>
              <a:ext cx="271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693880" y="2722320"/>
              <a:ext cx="0" cy="30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693880" y="2145960"/>
              <a:ext cx="0" cy="30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81280" y="23619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H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52680" y="2562120"/>
              <a:ext cx="271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3096360" y="2666880"/>
              <a:ext cx="378720" cy="611280"/>
              <a:chOff x="3096360" y="2666880"/>
              <a:chExt cx="378720" cy="611280"/>
            </a:xfrm>
          </p:grpSpPr>
          <p:sp>
            <p:nvSpPr>
              <p:cNvPr id="168" name=""/>
              <p:cNvSpPr/>
              <p:nvPr/>
            </p:nvSpPr>
            <p:spPr>
              <a:xfrm>
                <a:off x="3096360" y="287928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3247560" y="2666880"/>
                <a:ext cx="0" cy="306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3323880" y="2666880"/>
                <a:ext cx="0" cy="306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2971800" y="1311120"/>
            <a:ext cx="1371240" cy="2041560"/>
            <a:chOff x="2971800" y="1311120"/>
            <a:chExt cx="1371240" cy="2041560"/>
          </a:xfrm>
        </p:grpSpPr>
        <p:grpSp>
          <p:nvGrpSpPr>
            <p:cNvPr id="172" name=""/>
            <p:cNvGrpSpPr/>
            <p:nvPr/>
          </p:nvGrpSpPr>
          <p:grpSpPr>
            <a:xfrm>
              <a:off x="2971800" y="1311120"/>
              <a:ext cx="1371240" cy="398880"/>
              <a:chOff x="2971800" y="1311120"/>
              <a:chExt cx="1371240" cy="398880"/>
            </a:xfrm>
          </p:grpSpPr>
          <p:sp>
            <p:nvSpPr>
              <p:cNvPr id="173" name=""/>
              <p:cNvSpPr/>
              <p:nvPr/>
            </p:nvSpPr>
            <p:spPr>
              <a:xfrm>
                <a:off x="3202200" y="1311120"/>
                <a:ext cx="11408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OOH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71800" y="1541880"/>
                <a:ext cx="312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971800" y="1676160"/>
              <a:ext cx="1143000" cy="1676520"/>
              <a:chOff x="2971800" y="1676160"/>
              <a:chExt cx="1143000" cy="1676520"/>
            </a:xfrm>
          </p:grpSpPr>
          <p:sp>
            <p:nvSpPr>
              <p:cNvPr id="176" name=""/>
              <p:cNvSpPr/>
              <p:nvPr/>
            </p:nvSpPr>
            <p:spPr>
              <a:xfrm>
                <a:off x="2971800" y="1981080"/>
                <a:ext cx="1143000" cy="13716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581280" y="1676160"/>
                <a:ext cx="152280" cy="457200"/>
              </a:xfrm>
              <a:prstGeom prst="upArrow">
                <a:avLst>
                  <a:gd name="adj1" fmla="val 50000"/>
                  <a:gd name="adj2" fmla="val 75059"/>
                </a:avLst>
              </a:prstGeom>
              <a:solidFill>
                <a:srgbClr val="93ff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4419720" y="1828800"/>
            <a:ext cx="2590200" cy="1583280"/>
            <a:chOff x="4419720" y="1828800"/>
            <a:chExt cx="2590200" cy="1583280"/>
          </a:xfrm>
        </p:grpSpPr>
        <p:sp>
          <p:nvSpPr>
            <p:cNvPr id="179" name=""/>
            <p:cNvSpPr/>
            <p:nvPr/>
          </p:nvSpPr>
          <p:spPr>
            <a:xfrm>
              <a:off x="5486400" y="2971440"/>
              <a:ext cx="609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19560" y="238104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OH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54360" y="182880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236196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54360" y="23875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00560" y="2574720"/>
              <a:ext cx="271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2760" y="2574720"/>
              <a:ext cx="271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634000" y="2722320"/>
              <a:ext cx="0" cy="30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634000" y="2145960"/>
              <a:ext cx="0" cy="30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76560" y="2876400"/>
              <a:ext cx="606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19720" y="2361960"/>
              <a:ext cx="606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90800" y="2562120"/>
              <a:ext cx="271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076720" y="2666880"/>
              <a:ext cx="0" cy="30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419720" y="1371600"/>
            <a:ext cx="1066680" cy="1980360"/>
            <a:chOff x="4419720" y="1371600"/>
            <a:chExt cx="1066680" cy="1980360"/>
          </a:xfrm>
        </p:grpSpPr>
        <p:grpSp>
          <p:nvGrpSpPr>
            <p:cNvPr id="193" name=""/>
            <p:cNvGrpSpPr/>
            <p:nvPr/>
          </p:nvGrpSpPr>
          <p:grpSpPr>
            <a:xfrm>
              <a:off x="4419720" y="1371600"/>
              <a:ext cx="956520" cy="440640"/>
              <a:chOff x="4419720" y="1371600"/>
              <a:chExt cx="956520" cy="440640"/>
            </a:xfrm>
          </p:grpSpPr>
          <p:sp>
            <p:nvSpPr>
              <p:cNvPr id="194" name=""/>
              <p:cNvSpPr/>
              <p:nvPr/>
            </p:nvSpPr>
            <p:spPr>
              <a:xfrm>
                <a:off x="4614480" y="1371600"/>
                <a:ext cx="761760" cy="440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NH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419720" y="1571040"/>
                <a:ext cx="27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4419720" y="1676160"/>
              <a:ext cx="1066680" cy="1675800"/>
              <a:chOff x="4419720" y="1676160"/>
              <a:chExt cx="1066680" cy="1675800"/>
            </a:xfrm>
          </p:grpSpPr>
          <p:sp>
            <p:nvSpPr>
              <p:cNvPr id="197" name=""/>
              <p:cNvSpPr/>
              <p:nvPr/>
            </p:nvSpPr>
            <p:spPr>
              <a:xfrm>
                <a:off x="4419720" y="1980720"/>
                <a:ext cx="1066680" cy="13712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876560" y="1676160"/>
                <a:ext cx="152280" cy="456840"/>
              </a:xfrm>
              <a:prstGeom prst="upArrow">
                <a:avLst>
                  <a:gd name="adj1" fmla="val 50000"/>
                  <a:gd name="adj2" fmla="val 75000"/>
                </a:avLst>
              </a:prstGeom>
              <a:solidFill>
                <a:srgbClr val="93ff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3505320" y="2394000"/>
            <a:ext cx="1295280" cy="39204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72080" y="28353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缩 合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2590920"/>
            <a:ext cx="76176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581280" y="4114800"/>
            <a:ext cx="4038480" cy="1583280"/>
            <a:chOff x="3581280" y="4114800"/>
            <a:chExt cx="4038480" cy="1583280"/>
          </a:xfrm>
        </p:grpSpPr>
        <p:grpSp>
          <p:nvGrpSpPr>
            <p:cNvPr id="203" name=""/>
            <p:cNvGrpSpPr/>
            <p:nvPr/>
          </p:nvGrpSpPr>
          <p:grpSpPr>
            <a:xfrm>
              <a:off x="5486400" y="4114800"/>
              <a:ext cx="2133360" cy="1583280"/>
              <a:chOff x="5486400" y="4114800"/>
              <a:chExt cx="2133360" cy="1583280"/>
            </a:xfrm>
          </p:grpSpPr>
          <p:sp>
            <p:nvSpPr>
              <p:cNvPr id="204" name=""/>
              <p:cNvSpPr/>
              <p:nvPr/>
            </p:nvSpPr>
            <p:spPr>
              <a:xfrm>
                <a:off x="6095880" y="525744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629400" y="4667040"/>
                <a:ext cx="9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OOH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064200" y="411480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86400" y="464796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064200" y="467352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10040" y="4860720"/>
                <a:ext cx="271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402240" y="4860720"/>
                <a:ext cx="271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6243480" y="5008320"/>
                <a:ext cx="0" cy="306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6243480" y="4431960"/>
                <a:ext cx="0" cy="306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486400" y="5162400"/>
                <a:ext cx="606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5686200" y="4952880"/>
                <a:ext cx="0" cy="306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3581280" y="4114800"/>
              <a:ext cx="1962000" cy="1583280"/>
              <a:chOff x="3581280" y="4114800"/>
              <a:chExt cx="1962000" cy="1583280"/>
            </a:xfrm>
          </p:grpSpPr>
          <p:sp>
            <p:nvSpPr>
              <p:cNvPr id="216" name=""/>
              <p:cNvSpPr/>
              <p:nvPr/>
            </p:nvSpPr>
            <p:spPr>
              <a:xfrm>
                <a:off x="4419360" y="5257440"/>
                <a:ext cx="457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981320" y="464796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419360" y="411480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581280" y="4647960"/>
                <a:ext cx="761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19360" y="467352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165200" y="4860720"/>
                <a:ext cx="271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757400" y="4860720"/>
                <a:ext cx="271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4598640" y="5008320"/>
                <a:ext cx="0" cy="306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4598640" y="4431960"/>
                <a:ext cx="0" cy="306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271840" y="4862160"/>
                <a:ext cx="2714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5001480" y="4952880"/>
                <a:ext cx="378720" cy="611280"/>
                <a:chOff x="5001480" y="4952880"/>
                <a:chExt cx="378720" cy="6112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001480" y="516528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O</a:t>
                  </a:r>
                  <a:endParaRPr b="0" lang="en-US" sz="20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V="1">
                  <a:off x="5152680" y="4952880"/>
                  <a:ext cx="0" cy="3060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5229000" y="4952880"/>
                  <a:ext cx="0" cy="3060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0" name=""/>
          <p:cNvSpPr/>
          <p:nvPr/>
        </p:nvSpPr>
        <p:spPr>
          <a:xfrm>
            <a:off x="2438280" y="4648320"/>
            <a:ext cx="762120" cy="44064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4614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＋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4120" y="42512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肽键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5410080" y="4038480"/>
            <a:ext cx="152640" cy="3353040"/>
          </a:xfrm>
          <a:custGeom>
            <a:avLst/>
            <a:gdLst>
              <a:gd name="textAreaLeft" fmla="*/ 97560 w 152640"/>
              <a:gd name="textAreaRight" fmla="*/ 153000 w 15264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57913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二肽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2631960"/>
            <a:ext cx="1025640" cy="1879560"/>
          </a:xfrm>
          <a:custGeom>
            <a:avLst/>
            <a:gdLst/>
            <a:ahLst/>
            <a:rect l="l" t="t" r="r" b="b"/>
            <a:pathLst>
              <a:path w="554" h="1248">
                <a:moveTo>
                  <a:pt x="552" y="0"/>
                </a:moveTo>
                <a:cubicBezTo>
                  <a:pt x="549" y="61"/>
                  <a:pt x="554" y="257"/>
                  <a:pt x="532" y="368"/>
                </a:cubicBezTo>
                <a:cubicBezTo>
                  <a:pt x="510" y="479"/>
                  <a:pt x="471" y="570"/>
                  <a:pt x="422" y="667"/>
                </a:cubicBezTo>
                <a:cubicBezTo>
                  <a:pt x="373" y="764"/>
                  <a:pt x="306" y="855"/>
                  <a:pt x="236" y="952"/>
                </a:cubicBezTo>
                <a:cubicBezTo>
                  <a:pt x="166" y="1049"/>
                  <a:pt x="49" y="1186"/>
                  <a:pt x="0" y="1248"/>
                </a:cubicBezTo>
              </a:path>
            </a:pathLst>
          </a:custGeom>
          <a:noFill/>
          <a:ln w="25560">
            <a:solidFill>
              <a:srgbClr val="66ff33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191120" y="3063960"/>
            <a:ext cx="1143000" cy="1447560"/>
          </a:xfrm>
          <a:custGeom>
            <a:avLst/>
            <a:gdLst/>
            <a:ahLst/>
            <a:rect l="l" t="t" r="r" b="b"/>
            <a:pathLst>
              <a:path w="828" h="924">
                <a:moveTo>
                  <a:pt x="0" y="0"/>
                </a:moveTo>
                <a:cubicBezTo>
                  <a:pt x="31" y="60"/>
                  <a:pt x="102" y="245"/>
                  <a:pt x="188" y="360"/>
                </a:cubicBezTo>
                <a:cubicBezTo>
                  <a:pt x="274" y="475"/>
                  <a:pt x="409" y="594"/>
                  <a:pt x="516" y="688"/>
                </a:cubicBezTo>
                <a:cubicBezTo>
                  <a:pt x="623" y="782"/>
                  <a:pt x="763" y="875"/>
                  <a:pt x="828" y="924"/>
                </a:cubicBezTo>
              </a:path>
            </a:pathLst>
          </a:custGeom>
          <a:noFill/>
          <a:ln w="25560">
            <a:solidFill>
              <a:srgbClr val="66ff3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4046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氨基酸的脱水缩合过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360" y="6159600"/>
            <a:ext cx="96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肽键还可以写成：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—NH—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  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H—CO—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0920" y="981000"/>
            <a:ext cx="167162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据调查他们普遍服用了劣质奶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粉。劣质奶粉中某种营养成分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几乎接近于零，长期食用这种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奶粉的婴儿会因严重营养不良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长成“大头娃娃”。你知道劣质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奶粉中含量近于零的是什么成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分么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851360" y="4610160"/>
            <a:ext cx="1143000" cy="9144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2209680"/>
            <a:ext cx="2438280" cy="990720"/>
          </a:xfrm>
          <a:prstGeom prst="rect">
            <a:avLst/>
          </a:prstGeom>
          <a:solidFill>
            <a:srgbClr val="a64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676520" y="1828800"/>
            <a:ext cx="2481840" cy="1583280"/>
            <a:chOff x="1676520" y="1828800"/>
            <a:chExt cx="2481840" cy="1583280"/>
          </a:xfrm>
        </p:grpSpPr>
        <p:sp>
          <p:nvSpPr>
            <p:cNvPr id="242" name=""/>
            <p:cNvSpPr/>
            <p:nvPr/>
          </p:nvSpPr>
          <p:spPr>
            <a:xfrm>
              <a:off x="2514600" y="2971440"/>
              <a:ext cx="456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76560" y="236196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4600" y="182880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76520" y="2361960"/>
              <a:ext cx="761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14600" y="238752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60440" y="2574720"/>
              <a:ext cx="271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52640" y="2574720"/>
              <a:ext cx="271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693880" y="2722320"/>
              <a:ext cx="0" cy="30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693880" y="2145960"/>
              <a:ext cx="0" cy="30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81280" y="23619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H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52680" y="2562120"/>
              <a:ext cx="271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3096360" y="2666880"/>
              <a:ext cx="378720" cy="611280"/>
              <a:chOff x="3096360" y="2666880"/>
              <a:chExt cx="378720" cy="611280"/>
            </a:xfrm>
          </p:grpSpPr>
          <p:sp>
            <p:nvSpPr>
              <p:cNvPr id="254" name=""/>
              <p:cNvSpPr/>
              <p:nvPr/>
            </p:nvSpPr>
            <p:spPr>
              <a:xfrm>
                <a:off x="3096360" y="287928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3247560" y="2666880"/>
                <a:ext cx="0" cy="306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3323880" y="2666880"/>
                <a:ext cx="0" cy="306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257" name=""/>
          <p:cNvGrpSpPr/>
          <p:nvPr/>
        </p:nvGrpSpPr>
        <p:grpSpPr>
          <a:xfrm>
            <a:off x="2971800" y="1311120"/>
            <a:ext cx="1371240" cy="2041560"/>
            <a:chOff x="2971800" y="1311120"/>
            <a:chExt cx="1371240" cy="2041560"/>
          </a:xfrm>
        </p:grpSpPr>
        <p:grpSp>
          <p:nvGrpSpPr>
            <p:cNvPr id="258" name=""/>
            <p:cNvGrpSpPr/>
            <p:nvPr/>
          </p:nvGrpSpPr>
          <p:grpSpPr>
            <a:xfrm>
              <a:off x="2971800" y="1311120"/>
              <a:ext cx="1371240" cy="398880"/>
              <a:chOff x="2971800" y="1311120"/>
              <a:chExt cx="1371240" cy="398880"/>
            </a:xfrm>
          </p:grpSpPr>
          <p:sp>
            <p:nvSpPr>
              <p:cNvPr id="259" name=""/>
              <p:cNvSpPr/>
              <p:nvPr/>
            </p:nvSpPr>
            <p:spPr>
              <a:xfrm>
                <a:off x="3202200" y="1311120"/>
                <a:ext cx="11408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OOH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971800" y="1541880"/>
                <a:ext cx="312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2971800" y="1676160"/>
              <a:ext cx="1143000" cy="1676520"/>
              <a:chOff x="2971800" y="1676160"/>
              <a:chExt cx="1143000" cy="1676520"/>
            </a:xfrm>
          </p:grpSpPr>
          <p:sp>
            <p:nvSpPr>
              <p:cNvPr id="262" name=""/>
              <p:cNvSpPr/>
              <p:nvPr/>
            </p:nvSpPr>
            <p:spPr>
              <a:xfrm>
                <a:off x="2971800" y="1981080"/>
                <a:ext cx="1143000" cy="13716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581280" y="1676160"/>
                <a:ext cx="152280" cy="457200"/>
              </a:xfrm>
              <a:prstGeom prst="upArrow">
                <a:avLst>
                  <a:gd name="adj1" fmla="val 50000"/>
                  <a:gd name="adj2" fmla="val 75059"/>
                </a:avLst>
              </a:prstGeom>
              <a:solidFill>
                <a:srgbClr val="93ff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4419720" y="1828800"/>
            <a:ext cx="2590200" cy="1583280"/>
            <a:chOff x="4419720" y="1828800"/>
            <a:chExt cx="2590200" cy="1583280"/>
          </a:xfrm>
        </p:grpSpPr>
        <p:sp>
          <p:nvSpPr>
            <p:cNvPr id="265" name=""/>
            <p:cNvSpPr/>
            <p:nvPr/>
          </p:nvSpPr>
          <p:spPr>
            <a:xfrm>
              <a:off x="5486400" y="2971440"/>
              <a:ext cx="609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19560" y="238104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OH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54360" y="182880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76560" y="236196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54360" y="23875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00560" y="2574720"/>
              <a:ext cx="271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92760" y="2574720"/>
              <a:ext cx="271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5634000" y="2722320"/>
              <a:ext cx="0" cy="30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5634000" y="2145960"/>
              <a:ext cx="0" cy="30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76560" y="2876400"/>
              <a:ext cx="606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19720" y="2361960"/>
              <a:ext cx="606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90800" y="2562120"/>
              <a:ext cx="271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5076720" y="2666880"/>
              <a:ext cx="0" cy="30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419720" y="1371600"/>
            <a:ext cx="1066680" cy="1980360"/>
            <a:chOff x="4419720" y="1371600"/>
            <a:chExt cx="1066680" cy="1980360"/>
          </a:xfrm>
        </p:grpSpPr>
        <p:grpSp>
          <p:nvGrpSpPr>
            <p:cNvPr id="279" name=""/>
            <p:cNvGrpSpPr/>
            <p:nvPr/>
          </p:nvGrpSpPr>
          <p:grpSpPr>
            <a:xfrm>
              <a:off x="4419720" y="1371600"/>
              <a:ext cx="956520" cy="440640"/>
              <a:chOff x="4419720" y="1371600"/>
              <a:chExt cx="956520" cy="440640"/>
            </a:xfrm>
          </p:grpSpPr>
          <p:sp>
            <p:nvSpPr>
              <p:cNvPr id="280" name=""/>
              <p:cNvSpPr/>
              <p:nvPr/>
            </p:nvSpPr>
            <p:spPr>
              <a:xfrm>
                <a:off x="4614480" y="1371600"/>
                <a:ext cx="761760" cy="440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NH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19720" y="1571040"/>
                <a:ext cx="27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419720" y="1676160"/>
              <a:ext cx="1066680" cy="1675800"/>
              <a:chOff x="4419720" y="1676160"/>
              <a:chExt cx="1066680" cy="1675800"/>
            </a:xfrm>
          </p:grpSpPr>
          <p:sp>
            <p:nvSpPr>
              <p:cNvPr id="283" name=""/>
              <p:cNvSpPr/>
              <p:nvPr/>
            </p:nvSpPr>
            <p:spPr>
              <a:xfrm>
                <a:off x="4419720" y="1980720"/>
                <a:ext cx="1066680" cy="13712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876560" y="1676160"/>
                <a:ext cx="152280" cy="456840"/>
              </a:xfrm>
              <a:prstGeom prst="upArrow">
                <a:avLst>
                  <a:gd name="adj1" fmla="val 50000"/>
                  <a:gd name="adj2" fmla="val 75000"/>
                </a:avLst>
              </a:prstGeom>
              <a:solidFill>
                <a:srgbClr val="93ff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285" name=""/>
          <p:cNvSpPr/>
          <p:nvPr/>
        </p:nvSpPr>
        <p:spPr>
          <a:xfrm>
            <a:off x="3505320" y="2394000"/>
            <a:ext cx="1295280" cy="39204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72080" y="28353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缩 合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934320" y="2590920"/>
            <a:ext cx="76176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581280" y="4114800"/>
            <a:ext cx="4038480" cy="1583280"/>
            <a:chOff x="3581280" y="4114800"/>
            <a:chExt cx="4038480" cy="1583280"/>
          </a:xfrm>
        </p:grpSpPr>
        <p:grpSp>
          <p:nvGrpSpPr>
            <p:cNvPr id="289" name=""/>
            <p:cNvGrpSpPr/>
            <p:nvPr/>
          </p:nvGrpSpPr>
          <p:grpSpPr>
            <a:xfrm>
              <a:off x="5486400" y="4114800"/>
              <a:ext cx="2133360" cy="1583280"/>
              <a:chOff x="5486400" y="4114800"/>
              <a:chExt cx="2133360" cy="1583280"/>
            </a:xfrm>
          </p:grpSpPr>
          <p:sp>
            <p:nvSpPr>
              <p:cNvPr id="290" name=""/>
              <p:cNvSpPr/>
              <p:nvPr/>
            </p:nvSpPr>
            <p:spPr>
              <a:xfrm>
                <a:off x="6095880" y="525744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629400" y="4667040"/>
                <a:ext cx="9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OOH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064200" y="411480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486400" y="464796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064200" y="467352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10040" y="4860720"/>
                <a:ext cx="271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402240" y="4860720"/>
                <a:ext cx="271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6243480" y="5008320"/>
                <a:ext cx="0" cy="306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6243480" y="4431960"/>
                <a:ext cx="0" cy="306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86400" y="5162400"/>
                <a:ext cx="606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5686200" y="4952880"/>
                <a:ext cx="0" cy="306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3581280" y="4114800"/>
              <a:ext cx="1962000" cy="1583280"/>
              <a:chOff x="3581280" y="4114800"/>
              <a:chExt cx="1962000" cy="1583280"/>
            </a:xfrm>
          </p:grpSpPr>
          <p:sp>
            <p:nvSpPr>
              <p:cNvPr id="302" name=""/>
              <p:cNvSpPr/>
              <p:nvPr/>
            </p:nvSpPr>
            <p:spPr>
              <a:xfrm>
                <a:off x="4419360" y="5257440"/>
                <a:ext cx="457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981320" y="464796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19360" y="411480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581280" y="4647960"/>
                <a:ext cx="761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419360" y="467352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165200" y="4860720"/>
                <a:ext cx="271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757400" y="4860720"/>
                <a:ext cx="271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4598640" y="5008320"/>
                <a:ext cx="0" cy="306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4598640" y="4431960"/>
                <a:ext cx="0" cy="306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271840" y="4862160"/>
                <a:ext cx="2714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5001480" y="4952880"/>
                <a:ext cx="378720" cy="611280"/>
                <a:chOff x="5001480" y="4952880"/>
                <a:chExt cx="378720" cy="6112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001480" y="516528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O</a:t>
                  </a:r>
                  <a:endParaRPr b="0" lang="en-US" sz="20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5152680" y="4952880"/>
                  <a:ext cx="0" cy="3060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5229000" y="4952880"/>
                  <a:ext cx="0" cy="3060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6" name=""/>
          <p:cNvSpPr/>
          <p:nvPr/>
        </p:nvSpPr>
        <p:spPr>
          <a:xfrm>
            <a:off x="2438280" y="4648320"/>
            <a:ext cx="762120" cy="44064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00400" y="4614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＋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34120" y="42512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肽键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5410080" y="4038480"/>
            <a:ext cx="152640" cy="3353040"/>
          </a:xfrm>
          <a:custGeom>
            <a:avLst/>
            <a:gdLst>
              <a:gd name="textAreaLeft" fmla="*/ 97560 w 152640"/>
              <a:gd name="textAreaRight" fmla="*/ 153000 w 15264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05520" y="57913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二肽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2631960"/>
            <a:ext cx="1025640" cy="1879560"/>
          </a:xfrm>
          <a:custGeom>
            <a:avLst/>
            <a:gdLst/>
            <a:ahLst/>
            <a:rect l="l" t="t" r="r" b="b"/>
            <a:pathLst>
              <a:path w="554" h="1248">
                <a:moveTo>
                  <a:pt x="552" y="0"/>
                </a:moveTo>
                <a:cubicBezTo>
                  <a:pt x="549" y="61"/>
                  <a:pt x="554" y="257"/>
                  <a:pt x="532" y="368"/>
                </a:cubicBezTo>
                <a:cubicBezTo>
                  <a:pt x="510" y="479"/>
                  <a:pt x="471" y="570"/>
                  <a:pt x="422" y="667"/>
                </a:cubicBezTo>
                <a:cubicBezTo>
                  <a:pt x="373" y="764"/>
                  <a:pt x="306" y="855"/>
                  <a:pt x="236" y="952"/>
                </a:cubicBezTo>
                <a:cubicBezTo>
                  <a:pt x="166" y="1049"/>
                  <a:pt x="49" y="1186"/>
                  <a:pt x="0" y="1248"/>
                </a:cubicBezTo>
              </a:path>
            </a:pathLst>
          </a:custGeom>
          <a:noFill/>
          <a:ln w="25560">
            <a:solidFill>
              <a:srgbClr val="66ff33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191120" y="3063960"/>
            <a:ext cx="1143000" cy="1447560"/>
          </a:xfrm>
          <a:custGeom>
            <a:avLst/>
            <a:gdLst/>
            <a:ahLst/>
            <a:rect l="l" t="t" r="r" b="b"/>
            <a:pathLst>
              <a:path w="828" h="924">
                <a:moveTo>
                  <a:pt x="0" y="0"/>
                </a:moveTo>
                <a:cubicBezTo>
                  <a:pt x="31" y="60"/>
                  <a:pt x="102" y="245"/>
                  <a:pt x="188" y="360"/>
                </a:cubicBezTo>
                <a:cubicBezTo>
                  <a:pt x="274" y="475"/>
                  <a:pt x="409" y="594"/>
                  <a:pt x="516" y="688"/>
                </a:cubicBezTo>
                <a:cubicBezTo>
                  <a:pt x="623" y="782"/>
                  <a:pt x="763" y="875"/>
                  <a:pt x="828" y="924"/>
                </a:cubicBezTo>
              </a:path>
            </a:pathLst>
          </a:custGeom>
          <a:noFill/>
          <a:ln w="25560">
            <a:solidFill>
              <a:srgbClr val="66ff3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8360" y="4046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氨基酸的脱水缩合过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60" y="6159600"/>
            <a:ext cx="96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肽键还可以写成：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—NH—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  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H—CO—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探究活动</a:t>
            </a: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找规律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氨基酸、肽键、肽链、水分子数的关系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>
            <a:lum contrast="24000"/>
          </a:blip>
          <a:srcRect l="1539" t="4493" r="1148" b="35349"/>
          <a:stretch/>
        </p:blipFill>
        <p:spPr>
          <a:xfrm>
            <a:off x="0" y="4076640"/>
            <a:ext cx="91440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16000" y="620640"/>
            <a:ext cx="66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考作答：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两个氨基酸脱水缩合反应生成一个二肽，失去几分子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形成几个肽键？至少剩几个氨基？几个羧基？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三个氨基酸脱水缩合呢？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个氨基酸脱水缩合反应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0" y="260280"/>
          <a:ext cx="9036000" cy="4989600"/>
        </p:xfrm>
        <a:graphic>
          <a:graphicData uri="http://schemas.openxmlformats.org/drawingml/2006/table">
            <a:tbl>
              <a:tblPr/>
              <a:tblGrid>
                <a:gridCol w="1633680"/>
                <a:gridCol w="1425600"/>
                <a:gridCol w="1800000"/>
                <a:gridCol w="1728720"/>
                <a:gridCol w="2448000"/>
              </a:tblGrid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华文中宋"/>
                          <a:ea typeface="华文中宋"/>
                        </a:rPr>
                        <a:t>氨基酸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华文中宋"/>
                          <a:ea typeface="华文中宋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华文中宋"/>
                          <a:ea typeface="华文中宋"/>
                        </a:rPr>
                        <a:t>分子数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华文中宋"/>
                          <a:ea typeface="华文中宋"/>
                        </a:rPr>
                        <a:t>形成的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华文中宋"/>
                          <a:ea typeface="华文中宋"/>
                        </a:rPr>
                        <a:t>肽链数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华文中宋"/>
                          <a:ea typeface="华文中宋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华文中宋"/>
                          <a:ea typeface="华文中宋"/>
                        </a:rPr>
                        <a:t>脱去的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华文中宋"/>
                          <a:ea typeface="华文中宋"/>
                        </a:rPr>
                        <a:t>水分子数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华文中宋"/>
                          <a:ea typeface="华文中宋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华文中宋"/>
                          <a:ea typeface="华文中宋"/>
                        </a:rPr>
                        <a:t>形成的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华文中宋"/>
                          <a:ea typeface="华文中宋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华文中宋"/>
                          <a:ea typeface="华文中宋"/>
                        </a:rPr>
                        <a:t>肽键数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华文中宋"/>
                          <a:ea typeface="华文中宋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华文中宋"/>
                          <a:ea typeface="华文中宋"/>
                        </a:rPr>
                        <a:t>形成的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华文中宋"/>
                          <a:ea typeface="华文中宋"/>
                        </a:rPr>
                        <a:t>化合物名称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9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  <a:ea typeface="华文新魏"/>
                        </a:rPr>
                        <a:t> 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6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324000" y="5486400"/>
            <a:ext cx="8424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水分子数＝肽键数</a:t>
            </a:r>
            <a:br>
              <a:rPr sz="4200"/>
            </a:br>
            <a:r>
              <a:rPr b="1" lang="zh-CN" sz="4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　　＝氨基酸数－肽链数</a:t>
            </a:r>
            <a:endParaRPr b="0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1280" y="1557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635280" y="1628640"/>
            <a:ext cx="122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292720" y="1557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732720" y="1484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二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9640" y="2565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35280" y="2565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92720" y="256536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67640" y="242100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三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763640" y="436572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08000" y="350028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4000" y="44370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19640" y="3429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n--1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492360" y="436572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n--m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342900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n--1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148360" y="443700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n--m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59640" y="34290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肽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多肽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59640" y="436572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肽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（多肽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5280" y="35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018880" y="2276640"/>
            <a:ext cx="51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完成书本</a:t>
            </a:r>
            <a:r>
              <a:rPr b="0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4</a:t>
            </a:r>
            <a:r>
              <a:rPr b="0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页基础题</a:t>
            </a:r>
            <a:r>
              <a:rPr b="0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79280" y="1700280"/>
            <a:ext cx="17927640" cy="34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思维拓展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一种毒蘑菇含有的毒素叫鹅膏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草碱，是一种环状八肽，它合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成时失去几个水分子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955520" y="777960"/>
            <a:ext cx="511848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思考：组成生物体的氨基酸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种类有限，为什么蛋白质的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种类却有很多？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117828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　　下列四组图分别表示蛋白质结构多样性形成的原因，试把各组力求提供的信息用精练文字叙述表达出来。（△、○表示不同的氨基酸，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--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~~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表示同种肽链在空间上不同形状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△－△－△　　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  △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－△－△－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△－△－△－△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  ○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－○－○－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△－○－○－△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   ○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－△－△－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D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-----------------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~~~~~~~~~~~~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195640" y="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华文中宋"/>
                <a:ea typeface="华文中宋"/>
              </a:rPr>
              <a:t>蛋白质结构的多样性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08360" y="263700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组成每种蛋白质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氨基酸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分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目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不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77560" y="3716280"/>
            <a:ext cx="295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组成每种蛋白质的氨基酸分子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种类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不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86200" y="47242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组成每种蛋白质的氨基酸分子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排列顺序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不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780000" y="5661000"/>
            <a:ext cx="53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由氨基酸分子构成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肽链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空间结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千差万别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自带球棍模型！！！演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59080" cy="31194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0" y="3271680"/>
            <a:ext cx="4211640" cy="35863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4284720" y="0"/>
            <a:ext cx="46432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4360" y="2060640"/>
            <a:ext cx="727236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第</a:t>
            </a:r>
            <a:r>
              <a:rPr b="0" lang="zh-CN" sz="5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5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节 生命活动的主要承担者——蛋白质</a:t>
            </a:r>
            <a:endParaRPr b="0" lang="en-US" sz="5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1268280"/>
            <a:ext cx="91440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　　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由于组成蛋白质的氨基酸</a:t>
            </a:r>
            <a:r>
              <a:rPr b="1" lang="zh-CN" sz="4800" spc="-1" strike="noStrike" u="sng">
                <a:solidFill>
                  <a:srgbClr val="ff5050"/>
                </a:solidFill>
                <a:uFillTx/>
                <a:latin typeface="Times New Roman"/>
              </a:rPr>
              <a:t>种类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4800" spc="-1" strike="noStrike" u="sng">
                <a:solidFill>
                  <a:srgbClr val="ff5050"/>
                </a:solidFill>
                <a:uFillTx/>
                <a:latin typeface="Times New Roman"/>
              </a:rPr>
              <a:t>数目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4800" spc="-1" strike="noStrike" u="sng">
                <a:solidFill>
                  <a:srgbClr val="ff5050"/>
                </a:solidFill>
                <a:uFillTx/>
                <a:latin typeface="Times New Roman"/>
              </a:rPr>
              <a:t>排列顺序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和</a:t>
            </a:r>
            <a:r>
              <a:rPr b="0" lang="zh-CN" sz="4800" spc="-1" strike="noStrike" u="sng">
                <a:solidFill>
                  <a:srgbClr val="ff5050"/>
                </a:solidFill>
                <a:uFillTx/>
                <a:latin typeface="Times New Roman"/>
                <a:ea typeface="黑体"/>
              </a:rPr>
              <a:t>肽链</a:t>
            </a:r>
            <a:r>
              <a:rPr b="1" lang="zh-CN" sz="4800" spc="-1" strike="noStrike" u="sng">
                <a:solidFill>
                  <a:srgbClr val="ff5050"/>
                </a:solidFill>
                <a:uFillTx/>
                <a:latin typeface="Times New Roman"/>
              </a:rPr>
              <a:t>空间结构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的不同，决定了</a:t>
            </a:r>
            <a:r>
              <a:rPr b="1" lang="zh-CN" sz="4800" spc="-1" strike="noStrike" u="sng">
                <a:solidFill>
                  <a:srgbClr val="ff5050"/>
                </a:solidFill>
                <a:uFillTx/>
                <a:latin typeface="Times New Roman"/>
              </a:rPr>
              <a:t>蛋白质结构的多样性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。从而决定了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生物的多样性</a:t>
            </a:r>
            <a:r>
              <a:rPr b="1" lang="zh-CN" sz="4800" spc="-1" strike="noStrike" u="sng">
                <a:solidFill>
                  <a:srgbClr val="ff66cc"/>
                </a:solidFill>
                <a:uFillTx/>
                <a:latin typeface="Times New Roman"/>
              </a:rPr>
              <a:t>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5120" y="4875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74520" y="4508640"/>
            <a:ext cx="53820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蛋白质结构具有多样性，功能也具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多样性，它们之间是什么关系呢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0" y="-387360"/>
            <a:ext cx="9144000" cy="69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416720" cy="33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r>
              <a:rPr b="1" lang="zh-CN" sz="4700" spc="-1" strike="noStrike">
                <a:solidFill>
                  <a:srgbClr val="007572"/>
                </a:solidFill>
                <a:latin typeface="Arial"/>
              </a:rPr>
              <a:t> </a:t>
            </a:r>
            <a:r>
              <a:rPr b="1" lang="zh-CN" sz="6200" spc="-1" strike="noStrike">
                <a:solidFill>
                  <a:srgbClr val="000000"/>
                </a:solidFill>
                <a:latin typeface="Arial"/>
              </a:rPr>
              <a:t>【学以致用】</a:t>
            </a:r>
            <a:r>
              <a:rPr b="1" lang="zh-CN" sz="4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700"/>
            </a:br>
            <a:r>
              <a:rPr b="1" lang="zh-CN" sz="47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7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阅读书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2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页与生活的联系，讨论说明为什么真丝、羊毛衣物不能用热水洗涤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479520" y="260280"/>
            <a:ext cx="86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情境一：医院里用高温蒸煮、紫外线照射、喷洒苯酚溶液、在伤口处涂抹酒精溶液等方法来消毒杀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61657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华文楷体"/>
              </a:rPr>
              <a:t>波尔多液中的重金属盐硫酸铜使蛋白质凝结，来消灭病虫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0920" y="184464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情境二：生物实验室用甲醛溶液（福尔马林）保存动物标本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4000" y="299736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情境三：在农业上常用波尔多液（由硫酸铜、生石灰和水制成）来消灭病虫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39640" y="4365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宋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华文楷体"/>
              </a:rPr>
              <a:t>高温、紫外线、苯酚、酒精能使病毒和细菌中的蛋白质凝结而失去生理活性，从而起到消毒杀菌的作用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0920" y="5157720"/>
            <a:ext cx="83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宋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华文楷体"/>
              </a:rPr>
              <a:t>甲醛溶液使动物中的蛋白质凝结，丧失了原有的可溶性，不易腐烂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蛋白质变性在实际应用上具有重要意义。在临床工作中经常应用酒精、加热、紫外线等来消毒、杀菌，这实际上也就是利用这些手段，使菌体和病毒的蛋白质变性而失去其致病性和繁殖能力。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4560" cy="61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找几份食品的成分说明书看一看，了解其中的主要成分及作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 搜集有关人工合成蛋白质材料，联系本书的科学家访谈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如果你是中国人工合成牛胰岛素科研领导小组的成员，你认为首先应做哪些方面的工作以免少走弯路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设计一个怎样的方案，以期更科学、更合理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?(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方案要合理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如果人工合成的牛胰岛素没有达到预期的结果，你应该做哪些方面的分析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3143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154320"/>
            <a:ext cx="4500720" cy="3703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4720" y="3429000"/>
            <a:ext cx="4859280" cy="3429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26360" y="0"/>
            <a:ext cx="2717640" cy="3429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371840" y="4498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6360" y="476280"/>
            <a:ext cx="4680000" cy="2592360"/>
          </a:xfrm>
          <a:prstGeom prst="cloudCallout">
            <a:avLst>
              <a:gd name="adj1" fmla="val -19740"/>
              <a:gd name="adj2" fmla="val 127157"/>
            </a:avLst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许多地方都有我的身影唷</a:t>
            </a:r>
            <a:r>
              <a:rPr b="0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!!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48320" y="609480"/>
            <a:ext cx="3657600" cy="2595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09480" y="609480"/>
            <a:ext cx="3657600" cy="2659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09480" y="3429000"/>
            <a:ext cx="3657600" cy="2819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52880" y="41911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豆类及豆制品含丰富的蛋白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为什么缺乏蛋白质导致发育异常的大头娃娃出现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907920"/>
            <a:ext cx="558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你知道吗？：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初识蛋白质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测一测：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你知道人体内有哪些蛋白质？   它们各有哪些功能？有人说“没有蛋白质就没有生命”，此话你如何理解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9280" y="404640"/>
            <a:ext cx="871380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许多蛋白质是构成细胞和生物体重要结构的物质，称为结构蛋白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细胞内的化学反应离不开酶的催化。绝大多数酶都是蛋白质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有些蛋白质具有运输载体的作用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有些蛋白质起信息传递作用，能够调节机体生命活动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有些蛋白质有免疫功能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050"/>
                </a:solidFill>
                <a:latin typeface="Arial"/>
                <a:ea typeface="华文中宋"/>
              </a:rPr>
              <a:t>记忆小窍门：组催运免调</a:t>
            </a:r>
            <a:r>
              <a:rPr b="0" lang="zh-CN" sz="4000" spc="-1" strike="noStrike">
                <a:solidFill>
                  <a:srgbClr val="ff5050"/>
                </a:solidFill>
                <a:latin typeface="Arial"/>
                <a:ea typeface="华文中宋"/>
              </a:rPr>
              <a:t>（组长催着运输面条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685800"/>
            <a:ext cx="8216640" cy="32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一切生命活动都离不开蛋白质，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蛋白质是生命活动的主要承担者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6T14:52:57Z</dcterms:created>
  <dc:creator>pan-4</dc:creator>
  <dc:description/>
  <dc:language>en-US</dc:language>
  <cp:lastModifiedBy>walkinnet</cp:lastModifiedBy>
  <dcterms:modified xsi:type="dcterms:W3CDTF">2007-04-10T05:22:17Z</dcterms:modified>
  <cp:revision>109</cp:revision>
  <dc:subject/>
  <dc:title>新课程的尝试</dc:title>
</cp:coreProperties>
</file>