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4.jpeg" ContentType="image/jpeg"/>
  <Override PartName="/ppt/media/image31.jpeg" ContentType="image/jpeg"/>
  <Override PartName="/ppt/media/image5.jpeg" ContentType="image/jpeg"/>
  <Override PartName="/ppt/media/image13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136-3E37-43CB-BA7E-274B086C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6D6-586E-40AD-961A-6AA8B6DF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B90-093F-436D-B8AF-DA8D25F5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0DF-F702-41C4-B018-B8C5C267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1A15-8094-4C50-A144-0EC8B187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346B-21C6-4779-97C3-752C4E95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F6D8-9168-42DD-A1E2-8B287D0A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EED6-FECA-4B02-A8C9-26F1294E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ADF4-23FD-47B5-BBF0-8BF9F057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31D4-93CB-419D-BC26-FC302687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4FD9-4587-4A02-9AAC-0EBFA81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40E-60C7-48E3-B915-A945B5B6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AEA4-14F0-41A7-9C1A-A451448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41B8-E5FE-4781-B5A2-6D7E343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924-35CC-4767-B118-757065C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3CAB-E4D3-44EB-BA9A-7F82043E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3A4A-5713-487B-B66F-200E9416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FF4-B880-4F07-A69F-96BC2E9A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E72-D320-42B5-9139-63BD89F7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BCA-89D3-43A4-9CF5-B60C26B3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326-807F-44A0-A1E2-F2E8BABD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005-1405-4D32-A457-2A47571B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20E-91FA-4D22-9D29-24A3E74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2F1-8EBB-48A9-8F6C-1E46F47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9501-976E-4D20-8DCC-3195B707516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2119-3FDE-4CDD-84E8-D95453FCF91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5.xml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w.dgzx.net/uploadfiles/&#26080;&#26426;&#29289;.ppt" TargetMode="Externa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" Target="slide69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" Target="slide69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6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4842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章 组成细胞的分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429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第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节  细胞中的元素和化合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20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人教 版新教材必修一《分子与细胞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19320" y="167652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质主要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化学元素组成，很多还含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元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3276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蛋白质是由多种氨基酸按照不同的方式结合形成的，氨基酸是组成蛋白质的基本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7621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、氨基酸及其种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7786" t="73383" r="11385" b="6938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352400" y="533520"/>
            <a:ext cx="3387960" cy="3037320"/>
            <a:chOff x="4352400" y="533520"/>
            <a:chExt cx="3387960" cy="3037320"/>
          </a:xfrm>
        </p:grpSpPr>
        <p:grpSp>
          <p:nvGrpSpPr>
            <p:cNvPr id="189" name=""/>
            <p:cNvGrpSpPr/>
            <p:nvPr/>
          </p:nvGrpSpPr>
          <p:grpSpPr>
            <a:xfrm>
              <a:off x="4941000" y="533520"/>
              <a:ext cx="2799360" cy="3037320"/>
              <a:chOff x="4941000" y="533520"/>
              <a:chExt cx="2799360" cy="30373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4941000" y="533520"/>
                <a:ext cx="1874520" cy="3037320"/>
                <a:chOff x="4941000" y="533520"/>
                <a:chExt cx="1874520" cy="30373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638680" y="533520"/>
                  <a:ext cx="47484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837040" y="1859400"/>
                  <a:ext cx="0" cy="48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638680" y="131004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5936040" y="1665720"/>
                  <a:ext cx="497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334560" y="1471320"/>
                  <a:ext cx="4809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37040" y="1083600"/>
                  <a:ext cx="0" cy="48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37600" y="2247840"/>
                  <a:ext cx="480960" cy="13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239440" y="1665720"/>
                  <a:ext cx="49752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941000" y="1471320"/>
                  <a:ext cx="4809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314400" y="1327680"/>
                <a:ext cx="142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352400" y="1275840"/>
              <a:ext cx="90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Comic Sans MS"/>
              </a:rPr>
              <a:t>结构通式为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279600"/>
            <a:ext cx="81532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每种氨基酸分子至少都含有一个氨基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(--NH</a:t>
            </a:r>
            <a:r>
              <a:rPr b="1" lang="zh-CN" sz="2800" spc="-1" strike="noStrike" baseline="-25000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和一个羧基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(--COOH)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，还有一分子氢和一个特有的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基团，它们都连在同一个碳原子上。此碳原子叫中心碳原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6250e"/>
                </a:solidFill>
                <a:latin typeface="Comic Sans MS"/>
              </a:rPr>
              <a:t>R</a:t>
            </a:r>
            <a:r>
              <a:rPr b="1" lang="zh-CN" sz="4000" spc="-1" strike="noStrike">
                <a:solidFill>
                  <a:srgbClr val="96250e"/>
                </a:solidFill>
                <a:latin typeface="Comic Sans MS"/>
              </a:rPr>
              <a:t>基不同，氨基酸就不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28191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如：甘氨酸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基是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丙氨酸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基是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363680" y="2133720"/>
            <a:ext cx="5883480" cy="1493280"/>
            <a:chOff x="1363680" y="2133720"/>
            <a:chExt cx="5883480" cy="1493280"/>
          </a:xfrm>
        </p:grpSpPr>
        <p:sp>
          <p:nvSpPr>
            <p:cNvPr id="207" name=""/>
            <p:cNvSpPr/>
            <p:nvPr/>
          </p:nvSpPr>
          <p:spPr>
            <a:xfrm>
              <a:off x="1363680" y="21337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苏氨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34360" y="2216160"/>
              <a:ext cx="90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5920" y="2543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93120" y="22161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21000" y="2619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77280" y="3019320"/>
              <a:ext cx="8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1520" y="2543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07520" y="22161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35400" y="2619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15440" y="2978280"/>
              <a:ext cx="90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40320" y="2543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21200" y="221616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373040" y="4076640"/>
            <a:ext cx="6064560" cy="1548720"/>
            <a:chOff x="1373040" y="4076640"/>
            <a:chExt cx="6064560" cy="1548720"/>
          </a:xfrm>
        </p:grpSpPr>
        <p:sp>
          <p:nvSpPr>
            <p:cNvPr id="220" name=""/>
            <p:cNvSpPr/>
            <p:nvPr/>
          </p:nvSpPr>
          <p:spPr>
            <a:xfrm>
              <a:off x="1373040" y="40766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苯丙氨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811240" y="4236840"/>
              <a:ext cx="762120" cy="381240"/>
              <a:chOff x="2811240" y="4236840"/>
              <a:chExt cx="762120" cy="381240"/>
            </a:xfrm>
          </p:grpSpPr>
          <p:sp>
            <p:nvSpPr>
              <p:cNvPr id="222" name=""/>
              <p:cNvSpPr/>
              <p:nvPr/>
            </p:nvSpPr>
            <p:spPr>
              <a:xfrm>
                <a:off x="2811240" y="4236840"/>
                <a:ext cx="762120" cy="381240"/>
              </a:xfrm>
              <a:prstGeom prst="hexagon">
                <a:avLst>
                  <a:gd name="adj" fmla="val 49976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75760" y="4300200"/>
                <a:ext cx="384480" cy="222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3573360" y="44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9200" y="4138560"/>
              <a:ext cx="90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6360" y="44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7960" y="41385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25840" y="4618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29920" y="4976640"/>
              <a:ext cx="90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0760" y="44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1640" y="413856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42960" y="90792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Arial"/>
              </a:rPr>
              <a:t>请写出下面两种氨基酸的</a:t>
            </a:r>
            <a:r>
              <a:rPr b="1" lang="zh-CN" sz="3200" spc="-1" strike="noStrike">
                <a:solidFill>
                  <a:srgbClr val="703dff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703dff"/>
                </a:solidFill>
                <a:latin typeface="Arial"/>
              </a:rPr>
              <a:t>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Comic Sans MS"/>
              </a:rPr>
              <a:t>二、蛋白质的结构及其多样性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78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请同学们阅读课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p2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p2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初步了解①脱水缩合②肽键③二肽、三肽、多肽这几个概念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rcRect l="13920" t="58595" r="16694" b="604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666880" y="6858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703dff"/>
                </a:solidFill>
                <a:latin typeface="Times New Roman"/>
              </a:rPr>
              <a:t>氨基酸形成二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646440" cy="2606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800600" y="2133720"/>
            <a:ext cx="3954600" cy="259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124080" y="3276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8600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38098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3276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4191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3276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213372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55308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38098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685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Times New Roman"/>
              </a:rPr>
              <a:t>氨基酸形成二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124080"/>
            <a:ext cx="1676520" cy="838440"/>
          </a:xfrm>
          <a:prstGeom prst="rect">
            <a:avLst/>
          </a:prstGeom>
          <a:noFill/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3124080"/>
            <a:ext cx="1676520" cy="838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124080" y="3276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13372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28600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8098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3276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191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3276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21337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55308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53080" y="38098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685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Times New Roman"/>
              </a:rPr>
              <a:t>氨基酸形成二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3276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3124080"/>
            <a:ext cx="3200400" cy="838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38840" y="5029200"/>
            <a:ext cx="9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3581280"/>
            <a:ext cx="1143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590920" y="3048120"/>
            <a:ext cx="3782880" cy="1154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2590920" y="3048120"/>
            <a:ext cx="3782880" cy="1154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590920" y="3048120"/>
            <a:ext cx="3782880" cy="11541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2590920" y="3048120"/>
            <a:ext cx="3782880" cy="11541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289" name=""/>
          <p:cNvSpPr/>
          <p:nvPr/>
        </p:nvSpPr>
        <p:spPr>
          <a:xfrm flipV="1">
            <a:off x="4343400" y="2209320"/>
            <a:ext cx="838080" cy="838440"/>
          </a:xfrm>
          <a:prstGeom prst="line">
            <a:avLst/>
          </a:prstGeom>
          <a:ln w="2844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肽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肽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肽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肽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167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肽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rcRect l="9931" t="4642" r="53902" b="73159"/>
          <a:stretch/>
        </p:blipFill>
        <p:spPr>
          <a:xfrm>
            <a:off x="76320" y="1465200"/>
            <a:ext cx="4343400" cy="386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55320" t="5158" r="7803" b="73159"/>
          <a:stretch/>
        </p:blipFill>
        <p:spPr>
          <a:xfrm>
            <a:off x="4419720" y="1447920"/>
            <a:ext cx="4572000" cy="3886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3520" y="5014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组成细胞的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560" y="26028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个氨基酸分子的羧基和另一个氨基酸分子的氨基相连接，脱去一分子的水，这种结合方式叫做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脱水缩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1762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两个氨基酸分子的化学键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O—NH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肽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7813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两分子氨基酸分子缩合而成的化合物，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3429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多个氨基酸分子缩合而成的，含有多个肽键的化合物，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多肽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肽所呈的链状结构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肽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4692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肽链具备一定的空间结构后即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蛋白质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蛋白质与多肽的差别在于有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空间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92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氨基酸、多肽和蛋白质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3520" y="1484280"/>
            <a:ext cx="8229600" cy="1066680"/>
            <a:chOff x="533520" y="1484280"/>
            <a:chExt cx="8229600" cy="1066680"/>
          </a:xfrm>
        </p:grpSpPr>
        <p:graphicFrame>
          <p:nvGraphicFramePr>
            <p:cNvPr id="302" name=""/>
            <p:cNvGraphicFramePr/>
            <p:nvPr/>
          </p:nvGraphicFramePr>
          <p:xfrm>
            <a:off x="2057400" y="1484280"/>
            <a:ext cx="1066680" cy="1066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148428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"/>
            <p:cNvGraphicFramePr/>
            <p:nvPr/>
          </p:nvGraphicFramePr>
          <p:xfrm>
            <a:off x="3124080" y="1484280"/>
            <a:ext cx="838440" cy="1066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24080" y="1484280"/>
                      <a:ext cx="83844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6" name=""/>
            <p:cNvGraphicFramePr/>
            <p:nvPr/>
          </p:nvGraphicFramePr>
          <p:xfrm>
            <a:off x="3962520" y="1484280"/>
            <a:ext cx="3733560" cy="1066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62520" y="1484280"/>
                      <a:ext cx="373356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"/>
            <p:cNvGraphicFramePr/>
            <p:nvPr/>
          </p:nvGraphicFramePr>
          <p:xfrm>
            <a:off x="7620120" y="1484280"/>
            <a:ext cx="1143000" cy="1066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620120" y="1484280"/>
                      <a:ext cx="114300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914400" y="1484280"/>
            <a:ext cx="1181160" cy="10666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14400" y="1484280"/>
                      <a:ext cx="1181160" cy="1066680"/>
                    </a:xfrm>
                    <a:prstGeom prst="rect">
                      <a:avLst/>
                    </a:prstGeom>
                    <a:ln w="9360">
                      <a:solidFill>
                        <a:srgbClr val="ffcc99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533520" y="1484280"/>
            <a:ext cx="380880" cy="10666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33520" y="1484280"/>
                      <a:ext cx="3808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4" name=""/>
          <p:cNvGrpSpPr/>
          <p:nvPr/>
        </p:nvGrpSpPr>
        <p:grpSpPr>
          <a:xfrm>
            <a:off x="380880" y="3141720"/>
            <a:ext cx="7925040" cy="1061640"/>
            <a:chOff x="380880" y="3141720"/>
            <a:chExt cx="7925040" cy="1061640"/>
          </a:xfrm>
        </p:grpSpPr>
        <p:sp>
          <p:nvSpPr>
            <p:cNvPr id="315" name=""/>
            <p:cNvSpPr/>
            <p:nvPr/>
          </p:nvSpPr>
          <p:spPr>
            <a:xfrm>
              <a:off x="380880" y="314172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dff"/>
                  </a:solidFill>
                  <a:latin typeface="Times New Roman"/>
                </a:rPr>
                <a:t>失去水的分子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337824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76720" y="353052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9880" y="314964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dff"/>
                  </a:solidFill>
                  <a:latin typeface="Times New Roman"/>
                </a:rPr>
                <a:t>肽键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76720" y="391140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720" y="406404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3682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dff"/>
                  </a:solidFill>
                  <a:latin typeface="Times New Roman"/>
                </a:rPr>
                <a:t>氨基酸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86400" y="398772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36828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dff"/>
                  </a:solidFill>
                  <a:latin typeface="Times New Roman"/>
                </a:rPr>
                <a:t>肽链的条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52280" y="4876920"/>
            <a:ext cx="8991720" cy="1252080"/>
            <a:chOff x="152280" y="4876920"/>
            <a:chExt cx="8991720" cy="1252080"/>
          </a:xfrm>
        </p:grpSpPr>
        <p:sp>
          <p:nvSpPr>
            <p:cNvPr id="325" name=""/>
            <p:cNvSpPr/>
            <p:nvPr/>
          </p:nvSpPr>
          <p:spPr>
            <a:xfrm>
              <a:off x="152280" y="48909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dff"/>
                  </a:solidFill>
                  <a:latin typeface="Times New Roman"/>
                </a:rPr>
                <a:t>蛋白质的分子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24080" y="510552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24080" y="525780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05320" y="48769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dff"/>
                  </a:solidFill>
                  <a:latin typeface="Times New Roman"/>
                </a:rPr>
                <a:t>氨基酸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409720" y="4952880"/>
              <a:ext cx="30492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10080" y="4952880"/>
              <a:ext cx="381240" cy="381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400" y="48769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dff"/>
                  </a:solidFill>
                  <a:latin typeface="Times New Roman"/>
                </a:rPr>
                <a:t>氨基酸平均分子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33920" y="579132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38480" y="556272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dff"/>
                  </a:solidFill>
                  <a:latin typeface="Times New Roman"/>
                </a:rPr>
                <a:t>失去水的分子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009920" y="5638680"/>
              <a:ext cx="3049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0280" y="5638680"/>
              <a:ext cx="38124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5200" y="54864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Times New Roman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3. 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蛋白质多样性的原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2280" y="2349360"/>
            <a:ext cx="8915400" cy="2666520"/>
            <a:chOff x="152280" y="2349360"/>
            <a:chExt cx="8915400" cy="2666520"/>
          </a:xfrm>
        </p:grpSpPr>
        <p:sp>
          <p:nvSpPr>
            <p:cNvPr id="339" name=""/>
            <p:cNvSpPr/>
            <p:nvPr/>
          </p:nvSpPr>
          <p:spPr>
            <a:xfrm>
              <a:off x="693720" y="3068640"/>
              <a:ext cx="31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氨基酸数目成百上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2280" y="383544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氨基酸排列顺序千变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9800" y="4556160"/>
              <a:ext cx="34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肽链空间结构千差万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2492280"/>
              <a:ext cx="457200" cy="23623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91120" y="36576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13280" y="3213000"/>
              <a:ext cx="179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蛋白质结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其多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29400" y="365760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05680" y="3200400"/>
              <a:ext cx="196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蛋白质种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其多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38160" y="234936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氨基酸的种类不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04920" y="495000"/>
            <a:ext cx="5943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三、蛋白质的功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48656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Comic Sans MS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结构物质，是构成细胞和生物体的重要物质。（肌球蛋白、肌动蛋白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25909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催化作用（酶）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3276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输作用（血红蛋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40384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作用（激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48006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功能（抗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549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Arial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647720"/>
            <a:ext cx="799308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同一草场上的牛和羊吃了同样的草，可牛肉和羊肉的口味却有差异，这是由于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同种植物对不同生物的影响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牛和羊的消化功能强弱有差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牛和羊的蛋白质结构存在差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牛和羊的亲缘关系比较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12000" y="205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24000" y="620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下面是日常生活中的一些实例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你知道为什么吗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5640" y="386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含丰富蛋白质的食物最好煮熟后再食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2708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加酶的洗衣粉不宜用开水溶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1413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沾有血渍、牛奶的衣服不易用热水洗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198900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血渍、牛奶的主要成分是蛋白质，一般温度下，蛋白质能以胶体的形态溶解于水中，一旦受热，它就会凝固起来，不易溶解于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321300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绝大多数酶为蛋白质成分，蛋白质在高温时会变性，失去蛋白酶的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443700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加热以后，具备一定空间结构的螺旋形蛋白质分子链会松开，这是蛋白质的变性，蛋白质在变性后更加容易消化和吸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39640" y="549360"/>
            <a:ext cx="83534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个氨基酸分子缩合形成二肽，并生成一分子水，这分子水中的氢来自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羧基               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氨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羧基和氨基    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连接在碳原子上的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1280" y="2781360"/>
            <a:ext cx="79930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谷氨酸的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基为－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800" spc="-1" strike="noStrike" baseline="-25000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703d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O</a:t>
            </a:r>
            <a:r>
              <a:rPr b="1" lang="zh-CN" sz="28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，在一个谷氨酸分子中，含有碳和氧的原子数分别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4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4        B.5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4         C.4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5        D.5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4422600"/>
            <a:ext cx="8209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人体免疫球蛋白由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条肽链构成，共有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764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个氨基酸，则该蛋白质分子中至少含有游离的氨基和羧基数分别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746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764   B.760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760    C.762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762    D.4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78160" y="905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02160" y="3137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0720" y="5226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68360" y="620640"/>
            <a:ext cx="820908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下列叙述中，哪项是对蛋白质功能的高度概括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细胞和生物体重要的结构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收缩、运输、免疫等活动的物质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703dff"/>
                </a:solidFill>
                <a:latin typeface="Arial"/>
              </a:rPr>
              <a:t>调节细胞和生物体新陈代谢的重要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703dff"/>
                </a:solidFill>
                <a:latin typeface="Arial"/>
              </a:rPr>
              <a:t>生命活动的主要体现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3971880"/>
            <a:ext cx="8748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蛋白质和多肽的主要区别是在于蛋白质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含有的氨基酸更多      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空间结构更复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相对分子质量更大      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能水解成多种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58920" y="1125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7440" y="97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76736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50920" y="620640"/>
            <a:ext cx="84978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下列关于蛋白质的叙述中，正确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蛋白质是以一定方式形成的具有复杂空间结构的高分子化合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蛋白质是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每种蛋白质都由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种氨基酸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每种蛋白质都含有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Fe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等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3789360"/>
            <a:ext cx="8820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鸡蛋煮熟后，蛋白质变性失活，这是由于高温破坏了蛋白质的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肽键                 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肽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空间结构          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36000" y="62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6200" y="42210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3964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8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下列物质中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有的属于构成蛋白质的氨基酸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有的不是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若将其中构成蛋白质的氨基酸缩合成蛋白质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则其中含有的氨基，羧基和肽键的数目依次是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(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844640"/>
            <a:ext cx="30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(1)N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51280" y="1844640"/>
            <a:ext cx="32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(2)N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2421000"/>
            <a:ext cx="29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(3)N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H-C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97080" y="287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1280" y="2421000"/>
            <a:ext cx="30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(4)N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H-C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640" y="3357720"/>
            <a:ext cx="30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(5)N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CH-(C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-N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733840"/>
            <a:ext cx="0" cy="2156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94400" y="2882880"/>
            <a:ext cx="136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NH</a:t>
            </a:r>
            <a:r>
              <a:rPr b="1" lang="en-US" sz="20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6280" y="2746440"/>
            <a:ext cx="0" cy="2160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32000" y="3814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3665520"/>
            <a:ext cx="0" cy="2160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4365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Arial"/>
              </a:rPr>
              <a:t>A.2,2,2        B.3,3,2         C.4,3,3         D.3,4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19640" y="126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914400"/>
            <a:ext cx="81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大量元素：</a:t>
            </a: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 （含量在万分之一以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1752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3440" y="2590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微量元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3526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4724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是构成细胞的基本元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68360" y="620640"/>
            <a:ext cx="806436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谷胱甘肽（分子式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N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S)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是存在于动植物和微生物细胞中的重要三肽，它是由谷氨酸（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N)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甘氨酸（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）和半胱氨酸缩合而成，则半胱氨酸可能的分子式为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C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NS    B.C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ONS     C.C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NS      D.C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79640" y="1747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2922480"/>
            <a:ext cx="792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下列面料中，从物质组成的主要化学成分上看，不属于同类的是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毛织品 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丝织品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棉麻织品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皮革制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56000" y="3332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451152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下列各项与蛋白质无关的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催化与调节 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运动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运送物质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贮存遗传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91280" y="4484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95280" y="549360"/>
            <a:ext cx="81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已知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种氨基酸的平均相对分子质量是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28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，现有一蛋白质分子由两条多肽链组成，共有肽键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98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个，此蛋白质的相对分子质量最接近于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12800        B.12544         C.11036        D.12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306864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5280" y="2708280"/>
            <a:ext cx="8209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下列属于微量元素的一组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 C,H,N,P,Mn                  B. Cl,Fe,S,N,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. B,Cu,Zn,Mn,Mo           D. N,P,K,Cu,Fe,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165800" y="134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26370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4581360"/>
            <a:ext cx="820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脂肪细胞中含量最多的有机化合物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糖原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蛋白质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脂质  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2472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95280" y="620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几十年前，新西兰有一个牧场的大片牧草长势很弱，有的甚至发黄枯萎，即使施用了大量的氮、磷、钾肥也无济于事。后来，人们偶然发现牧场内的一小片牧草长得很茂盛。经观察和研究后才知道这附近有一座钼矿，矿工上下班总是抄近路走，他们的鞋子上粘有钼矿粉，正是矿工鞋子踩过的地方牧草长得绿油油的。经过科学家的化验和分析，一公顷的牧草只需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150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克钼就足够了。下列关于这一现象的解释，正确的是（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3716280"/>
            <a:ext cx="6121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d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703dff"/>
                </a:solidFill>
                <a:latin typeface="Arial"/>
              </a:rPr>
              <a:t>．钼是植物必需的微量元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dff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703dff"/>
                </a:solidFill>
                <a:latin typeface="Arial"/>
              </a:rPr>
              <a:t>．钼是植物必需的大量元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703dff"/>
                </a:solidFill>
                <a:latin typeface="Arial"/>
              </a:rPr>
              <a:t>．钼是一种高效肥料，植物有了钼就能正常生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dff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703dff"/>
                </a:solidFill>
                <a:latin typeface="Arial"/>
              </a:rPr>
              <a:t>．钼在植物生长发育过程中的作用是可以代替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95640" y="3141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50920" y="2133720"/>
            <a:ext cx="93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549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下表是人体和玉米所含的几种化学元素的含量（占细胞干重的质量分数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％），读表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77840" y="1633680"/>
          <a:ext cx="8642160" cy="1363680"/>
        </p:xfrm>
        <a:graphic>
          <a:graphicData uri="http://schemas.openxmlformats.org/drawingml/2006/table">
            <a:tbl>
              <a:tblPr/>
              <a:tblGrid>
                <a:gridCol w="720720"/>
                <a:gridCol w="863640"/>
                <a:gridCol w="911160"/>
                <a:gridCol w="758880"/>
                <a:gridCol w="758880"/>
                <a:gridCol w="760320"/>
                <a:gridCol w="758880"/>
                <a:gridCol w="758880"/>
                <a:gridCol w="760320"/>
                <a:gridCol w="757080"/>
                <a:gridCol w="8334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人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玉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79280" y="3141720"/>
            <a:ext cx="882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）在上述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种元素中，最可能是碳元素的是         ，最可能是微量元素的是          （填写序号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）分析比较上表，可以得出哪些结论？      </a:t>
            </a:r>
            <a:r>
              <a:rPr b="1" lang="zh-CN" sz="2800" spc="-1" strike="noStrike" u="sng">
                <a:solidFill>
                  <a:srgbClr val="703dff"/>
                </a:solidFill>
                <a:uFillTx/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740720" y="350028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5640" y="400536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37280" y="2987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68720" y="3497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8200" y="471492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组成生物体的元素大体相同；不同生物体内各种化学元素的含量相差很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68360" y="836640"/>
            <a:ext cx="792000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胰岛素是一种蛋白质分子，它含有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条多肽链，其中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链有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个氨基酸，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链有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个氨基酸，据此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从理论上分析，胰岛素分子至少含有 </a:t>
            </a:r>
            <a:r>
              <a:rPr b="1" lang="zh-CN" sz="2800" spc="-1" strike="noStrike" u="sng">
                <a:solidFill>
                  <a:srgbClr val="703dff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糖尿病病人只能注射而不能口服胰岛素的原因什么？</a:t>
            </a:r>
            <a:r>
              <a:rPr b="1" lang="zh-CN" sz="2800" spc="-1" strike="noStrike" u="sng">
                <a:solidFill>
                  <a:srgbClr val="703dff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49800" y="206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4221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因为胰岛素是一种蛋白质，口服会在消化道里以蛋白质的形式被消化成氨基酸，而失去胰岛素的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4582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18.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据下列结构式，回答问题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CH3             H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   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H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  ｜            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|           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｜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N—C—CO—NH—C—CO—NH—C—COOH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  ｜　　　　    ｜　　　　   ｜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　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CH2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CH2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　　　　　      ｜　　　　   ｜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　　　　　 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CO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　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COOH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　　　　　      ｜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　　　　　　　　 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NH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）该化合物中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Comic Sans MS"/>
              </a:rPr>
              <a:t>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种氨基酸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）该化合物中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Comic Sans MS"/>
              </a:rPr>
              <a:t>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个肽键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）该化合物是由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Comic Sans MS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个氨基酸失去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Comic Sans MS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分子水而形成的，这样的反应叫做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Comic Sans MS"/>
              </a:rPr>
              <a:t>              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）该化合物叫做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Comic Sans MS"/>
              </a:rPr>
              <a:t>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表为某同学所定的一日三餐的食谱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早餐：油条、馒头、烧土豆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午餐：米饭、炒蔬菜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晚餐：花卷、糕点、稀粥、咸菜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此食谱主要缺乏的营养物质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若长期使用此食谱，会导致生长发育迟缓，体重过轻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食谱中应经常添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___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类食物，这类食物进入消化道后，最终水解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___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被小肠绒毛上皮细胞吸收到体内，它可在细胞中合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与机体的免疫功能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rcRect l="14174" t="40932" r="12393" b="47892"/>
          <a:stretch/>
        </p:blipFill>
        <p:spPr>
          <a:xfrm>
            <a:off x="1042920" y="692280"/>
            <a:ext cx="8101080" cy="1695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6836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分析下面的资料并回答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5080" y="765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200"/>
                </a:solidFill>
                <a:latin typeface="Arial"/>
              </a:rPr>
              <a:t>资料</a:t>
            </a:r>
            <a:r>
              <a:rPr b="1" lang="zh-CN" sz="2000" spc="-1" strike="noStrike">
                <a:solidFill>
                  <a:srgbClr val="00b2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"/>
          <a:srcRect l="8032" t="63955" r="24841" b="15860"/>
          <a:stretch/>
        </p:blipFill>
        <p:spPr>
          <a:xfrm>
            <a:off x="1692360" y="3735360"/>
            <a:ext cx="7451640" cy="3122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95280" y="2492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上图式中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R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R’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R’’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R’’’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可能是相同或不同的原子团或碳链，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703dff"/>
                </a:solidFill>
                <a:latin typeface="Arial"/>
              </a:rPr>
              <a:t>分别表示不同的化学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3213000"/>
            <a:ext cx="820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资料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：现有一多肽，化学式为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C</a:t>
            </a:r>
            <a:r>
              <a:rPr b="1" lang="zh-CN" sz="1800" spc="-1" strike="noStrike" baseline="-25000">
                <a:solidFill>
                  <a:srgbClr val="ff3399"/>
                </a:solidFill>
                <a:latin typeface="Arial"/>
              </a:rPr>
              <a:t>55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zh-CN" sz="1800" spc="-1" strike="noStrike" baseline="-25000">
                <a:solidFill>
                  <a:srgbClr val="ff3399"/>
                </a:solidFill>
                <a:latin typeface="Arial"/>
              </a:rPr>
              <a:t>70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1800" spc="-1" strike="noStrike" baseline="-25000">
                <a:solidFill>
                  <a:srgbClr val="ff3399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N</a:t>
            </a:r>
            <a:r>
              <a:rPr b="1" lang="zh-CN" sz="1800" spc="-1" strike="noStrike" baseline="-25000">
                <a:solidFill>
                  <a:srgbClr val="ff3399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，已知将它彻底水解后得到下列四种氨基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68360" y="1125360"/>
            <a:ext cx="792144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述四种氨基酸的结构通式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；四种氨基酸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基分别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资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肽链水解时，断裂的化学键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用字母表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依据资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该多肽的化学式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Arial"/>
              </a:rPr>
              <a:t>5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推算，它在完全水解后得到氨基酸有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11640" y="32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3488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39640" y="2924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Gulim"/>
                <a:ea typeface="Gulim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Gulim"/>
                <a:ea typeface="Gulim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Gulim"/>
                <a:ea typeface="Gulim"/>
              </a:rPr>
              <a:t>节  遗传信息的携带者——核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03280" y="1413000"/>
            <a:ext cx="6343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45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500" spc="-1" strike="noStrike">
                <a:solidFill>
                  <a:srgbClr val="0000ff"/>
                </a:solidFill>
                <a:latin typeface="隶书"/>
                <a:ea typeface="隶书"/>
              </a:rPr>
              <a:t>章 组成细胞的分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620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人教 版新教材必修一《分子与细胞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2771640" cy="1406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二、组成细胞的化合物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112920" y="1773360"/>
            <a:ext cx="720720" cy="2663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0920" y="155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无机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32200" y="41497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有机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37280" y="112536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64200" y="3284640"/>
            <a:ext cx="289080" cy="2592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53280" y="836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11960" y="3068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糖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19880" y="38862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脂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48006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24560" y="5589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核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53280" y="2205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无机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54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一、核酸的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198108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421280" y="1397160"/>
            <a:ext cx="5455800" cy="1749600"/>
            <a:chOff x="1421280" y="1397160"/>
            <a:chExt cx="5455800" cy="1749600"/>
          </a:xfrm>
        </p:grpSpPr>
        <p:sp>
          <p:nvSpPr>
            <p:cNvPr id="438" name=""/>
            <p:cNvSpPr/>
            <p:nvPr/>
          </p:nvSpPr>
          <p:spPr>
            <a:xfrm>
              <a:off x="1421280" y="1700280"/>
              <a:ext cx="66780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</a:rPr>
                <a:t>核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4000" y="1557360"/>
              <a:ext cx="223920" cy="154944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40320 h 1549440"/>
                <a:gd name="textAreaBottom" fmla="*/ 1509120 h 15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97160"/>
              <a:ext cx="46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Times New Roman"/>
                </a:rPr>
                <a:t>脱氧核糖核酸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DNA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16160" y="2565360"/>
              <a:ext cx="372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Times New Roman"/>
                </a:rPr>
                <a:t>核糖核酸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RNA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900000" y="386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是细胞内携带遗传信息的物质，在生物体的遗传、变异和蛋白质的生物合成中具有极其重要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759600" y="2787480"/>
            <a:ext cx="7162200" cy="2587320"/>
            <a:chOff x="759600" y="2787480"/>
            <a:chExt cx="7162200" cy="2587320"/>
          </a:xfrm>
        </p:grpSpPr>
        <p:sp>
          <p:nvSpPr>
            <p:cNvPr id="444" name=""/>
            <p:cNvSpPr/>
            <p:nvPr/>
          </p:nvSpPr>
          <p:spPr>
            <a:xfrm>
              <a:off x="759600" y="3290760"/>
              <a:ext cx="6678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核    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48000" y="3074760"/>
              <a:ext cx="216000" cy="2089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36720" y="2787480"/>
              <a:ext cx="608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DNA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主要分布在细胞核中，少量存       在于线粒体、叶绿体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60720" y="4732200"/>
              <a:ext cx="59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RNA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主要分布在细胞质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68360" y="4842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Arial"/>
              </a:rPr>
              <a:t>二、核酸在细胞中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1341360"/>
            <a:ext cx="7272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观察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RNA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在细胞中的分布”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实验原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甲基绿使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呈现绿色，吡罗红使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呈现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55640" y="1989000"/>
            <a:ext cx="6121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方正水柱简体"/>
                <a:ea typeface="方正水柱简体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方正水柱简体"/>
                <a:ea typeface="方正水柱简体"/>
              </a:rPr>
              <a:t>、核酸的基本组成单位：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2852640"/>
            <a:ext cx="7416720" cy="2265480"/>
            <a:chOff x="971640" y="2852640"/>
            <a:chExt cx="7416720" cy="2265480"/>
          </a:xfrm>
        </p:grpSpPr>
        <p:sp>
          <p:nvSpPr>
            <p:cNvPr id="452" name=""/>
            <p:cNvSpPr/>
            <p:nvPr/>
          </p:nvSpPr>
          <p:spPr>
            <a:xfrm>
              <a:off x="3059280" y="3716280"/>
              <a:ext cx="1800000" cy="1401840"/>
            </a:xfrm>
            <a:prstGeom prst="pentagon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五碳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12000" y="3933720"/>
              <a:ext cx="2376360" cy="76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含氮碱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71640" y="2852640"/>
              <a:ext cx="1200240" cy="93816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磷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88000" y="4292640"/>
              <a:ext cx="1224000" cy="0"/>
            </a:xfrm>
            <a:prstGeom prst="line">
              <a:avLst/>
            </a:prstGeom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87280" y="3547800"/>
              <a:ext cx="1008720" cy="696960"/>
            </a:xfrm>
            <a:prstGeom prst="line">
              <a:avLst/>
            </a:prstGeom>
            <a:ln w="57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68360" y="47628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dff"/>
                </a:solidFill>
                <a:latin typeface="Arial"/>
              </a:rPr>
              <a:t>三、核酸的化学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341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核酸的组成元素：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539640" y="33336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DNA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化学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826920" y="1773360"/>
            <a:ext cx="3168720" cy="2160360"/>
            <a:chOff x="826920" y="1773360"/>
            <a:chExt cx="3168720" cy="2160360"/>
          </a:xfrm>
        </p:grpSpPr>
        <p:grpSp>
          <p:nvGrpSpPr>
            <p:cNvPr id="461" name=""/>
            <p:cNvGrpSpPr/>
            <p:nvPr/>
          </p:nvGrpSpPr>
          <p:grpSpPr>
            <a:xfrm>
              <a:off x="826920" y="1773360"/>
              <a:ext cx="3168720" cy="2160360"/>
              <a:chOff x="826920" y="1773360"/>
              <a:chExt cx="3168720" cy="2160360"/>
            </a:xfrm>
          </p:grpSpPr>
          <p:sp>
            <p:nvSpPr>
              <p:cNvPr id="462" name=""/>
              <p:cNvSpPr/>
              <p:nvPr/>
            </p:nvSpPr>
            <p:spPr>
              <a:xfrm>
                <a:off x="826920" y="1773360"/>
                <a:ext cx="3168720" cy="2160360"/>
              </a:xfrm>
              <a:prstGeom prst="rect">
                <a:avLst/>
              </a:prstGeom>
              <a:solidFill>
                <a:srgbClr val="ffb8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1207080" y="2071440"/>
                <a:ext cx="2319480" cy="1087560"/>
                <a:chOff x="1207080" y="2071440"/>
                <a:chExt cx="2319480" cy="10875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897200" y="2514960"/>
                  <a:ext cx="576720" cy="644040"/>
                </a:xfrm>
                <a:prstGeom prst="pentagon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949840" y="2572560"/>
                  <a:ext cx="576720" cy="369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207080" y="2071440"/>
                  <a:ext cx="366840" cy="431280"/>
                </a:xfrm>
                <a:prstGeom prst="ellipse">
                  <a:avLst/>
                </a:prstGeom>
                <a:solidFill>
                  <a:srgbClr val="00cc00"/>
                </a:solidFill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477160" y="2763360"/>
                  <a:ext cx="47268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531440" y="2452680"/>
                  <a:ext cx="370800" cy="2908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9" name=""/>
            <p:cNvSpPr/>
            <p:nvPr/>
          </p:nvSpPr>
          <p:spPr>
            <a:xfrm>
              <a:off x="3078720" y="2468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716360" y="1773360"/>
            <a:ext cx="3168720" cy="2160360"/>
            <a:chOff x="4716360" y="1773360"/>
            <a:chExt cx="3168720" cy="2160360"/>
          </a:xfrm>
        </p:grpSpPr>
        <p:grpSp>
          <p:nvGrpSpPr>
            <p:cNvPr id="471" name=""/>
            <p:cNvGrpSpPr/>
            <p:nvPr/>
          </p:nvGrpSpPr>
          <p:grpSpPr>
            <a:xfrm>
              <a:off x="4716360" y="1773360"/>
              <a:ext cx="3168720" cy="2160360"/>
              <a:chOff x="4716360" y="1773360"/>
              <a:chExt cx="3168720" cy="2160360"/>
            </a:xfrm>
          </p:grpSpPr>
          <p:sp>
            <p:nvSpPr>
              <p:cNvPr id="472" name=""/>
              <p:cNvSpPr/>
              <p:nvPr/>
            </p:nvSpPr>
            <p:spPr>
              <a:xfrm>
                <a:off x="4716360" y="1773360"/>
                <a:ext cx="3168720" cy="2160360"/>
              </a:xfrm>
              <a:prstGeom prst="rect">
                <a:avLst/>
              </a:prstGeom>
              <a:solidFill>
                <a:srgbClr val="ffb8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5121720" y="2071440"/>
                <a:ext cx="2319480" cy="1087560"/>
                <a:chOff x="5121720" y="2071440"/>
                <a:chExt cx="2319480" cy="1087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811840" y="2514960"/>
                  <a:ext cx="576720" cy="644040"/>
                </a:xfrm>
                <a:prstGeom prst="pentagon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864480" y="2572560"/>
                  <a:ext cx="576720" cy="3693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121720" y="2071440"/>
                  <a:ext cx="366840" cy="431280"/>
                </a:xfrm>
                <a:prstGeom prst="ellipse">
                  <a:avLst/>
                </a:prstGeom>
                <a:solidFill>
                  <a:srgbClr val="00cc00"/>
                </a:solidFill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91800" y="2763360"/>
                  <a:ext cx="47268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446080" y="2452680"/>
                  <a:ext cx="370800" cy="2908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"/>
            <p:cNvSpPr/>
            <p:nvPr/>
          </p:nvSpPr>
          <p:spPr>
            <a:xfrm>
              <a:off x="6969600" y="24994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900000" y="4221000"/>
            <a:ext cx="3095640" cy="2087640"/>
            <a:chOff x="900000" y="4221000"/>
            <a:chExt cx="3095640" cy="2087640"/>
          </a:xfrm>
        </p:grpSpPr>
        <p:grpSp>
          <p:nvGrpSpPr>
            <p:cNvPr id="481" name=""/>
            <p:cNvGrpSpPr/>
            <p:nvPr/>
          </p:nvGrpSpPr>
          <p:grpSpPr>
            <a:xfrm>
              <a:off x="900000" y="4221000"/>
              <a:ext cx="3095640" cy="2087640"/>
              <a:chOff x="900000" y="4221000"/>
              <a:chExt cx="3095640" cy="2087640"/>
            </a:xfrm>
          </p:grpSpPr>
          <p:sp>
            <p:nvSpPr>
              <p:cNvPr id="482" name=""/>
              <p:cNvSpPr/>
              <p:nvPr/>
            </p:nvSpPr>
            <p:spPr>
              <a:xfrm>
                <a:off x="900000" y="4221000"/>
                <a:ext cx="3095640" cy="2087640"/>
              </a:xfrm>
              <a:prstGeom prst="rect">
                <a:avLst/>
              </a:prstGeom>
              <a:solidFill>
                <a:srgbClr val="ffb8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1333440" y="4509000"/>
                <a:ext cx="2265840" cy="1050480"/>
                <a:chOff x="1333440" y="4509000"/>
                <a:chExt cx="2265840" cy="10504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2007720" y="4937400"/>
                  <a:ext cx="563400" cy="622080"/>
                </a:xfrm>
                <a:prstGeom prst="pentagon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035880" y="4992840"/>
                  <a:ext cx="563400" cy="356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333440" y="4509000"/>
                  <a:ext cx="358560" cy="416520"/>
                </a:xfrm>
                <a:prstGeom prst="ellipse">
                  <a:avLst/>
                </a:prstGeom>
                <a:solidFill>
                  <a:srgbClr val="00cc00"/>
                </a:solidFill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574000" y="5177160"/>
                  <a:ext cx="46152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650600" y="4875480"/>
                  <a:ext cx="361800" cy="28404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9" name=""/>
            <p:cNvSpPr/>
            <p:nvPr/>
          </p:nvSpPr>
          <p:spPr>
            <a:xfrm>
              <a:off x="3128760" y="4924080"/>
              <a:ext cx="3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716360" y="4221000"/>
            <a:ext cx="3227400" cy="2087640"/>
            <a:chOff x="4716360" y="4221000"/>
            <a:chExt cx="3227400" cy="2087640"/>
          </a:xfrm>
        </p:grpSpPr>
        <p:sp>
          <p:nvSpPr>
            <p:cNvPr id="491" name=""/>
            <p:cNvSpPr/>
            <p:nvPr/>
          </p:nvSpPr>
          <p:spPr>
            <a:xfrm>
              <a:off x="4716360" y="4221000"/>
              <a:ext cx="3227400" cy="2087640"/>
            </a:xfrm>
            <a:prstGeom prst="rect">
              <a:avLst/>
            </a:prstGeom>
            <a:solidFill>
              <a:srgbClr val="ffb8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129280" y="4509000"/>
              <a:ext cx="2362320" cy="1050480"/>
              <a:chOff x="5129280" y="4509000"/>
              <a:chExt cx="2362320" cy="1050480"/>
            </a:xfrm>
          </p:grpSpPr>
          <p:sp>
            <p:nvSpPr>
              <p:cNvPr id="493" name=""/>
              <p:cNvSpPr/>
              <p:nvPr/>
            </p:nvSpPr>
            <p:spPr>
              <a:xfrm>
                <a:off x="5832360" y="4937400"/>
                <a:ext cx="587520" cy="62208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904080" y="4992840"/>
                <a:ext cx="587520" cy="3567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9280" y="4509000"/>
                <a:ext cx="373680" cy="41652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22760" y="5177160"/>
                <a:ext cx="48132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59760" y="4869360"/>
                <a:ext cx="377640" cy="2962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7041960" y="4922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971640" y="335772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腺嘌呤脱氧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32360" y="3357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嘌呤脱氧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1600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胞嘧啶脱氧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88000" y="5780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胸腺嘧啶脱氧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26920" y="1052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基本组成单位：脱氧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68360" y="51588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703dff"/>
                </a:solidFill>
                <a:latin typeface="方正水柱简体"/>
                <a:ea typeface="方正水柱简体"/>
              </a:rPr>
              <a:t>脱氧核苷酸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2120" y="2133720"/>
            <a:ext cx="733320" cy="298116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  <a:effectLst>
            <a:outerShdw dist="107932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连    接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203640" y="1276200"/>
            <a:ext cx="2057040" cy="820080"/>
            <a:chOff x="3203640" y="1276200"/>
            <a:chExt cx="2057040" cy="820080"/>
          </a:xfrm>
        </p:grpSpPr>
        <p:grpSp>
          <p:nvGrpSpPr>
            <p:cNvPr id="507" name=""/>
            <p:cNvGrpSpPr/>
            <p:nvPr/>
          </p:nvGrpSpPr>
          <p:grpSpPr>
            <a:xfrm>
              <a:off x="3203640" y="1276200"/>
              <a:ext cx="2057040" cy="820080"/>
              <a:chOff x="3203640" y="1276200"/>
              <a:chExt cx="2057040" cy="820080"/>
            </a:xfrm>
          </p:grpSpPr>
          <p:sp>
            <p:nvSpPr>
              <p:cNvPr id="508" name=""/>
              <p:cNvSpPr/>
              <p:nvPr/>
            </p:nvSpPr>
            <p:spPr>
              <a:xfrm>
                <a:off x="3816000" y="1610640"/>
                <a:ext cx="51156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49120" y="1654200"/>
                <a:ext cx="511560" cy="278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203640" y="127620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30080" y="1797840"/>
                <a:ext cx="419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1280" y="1544400"/>
                <a:ext cx="329040" cy="2577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824360" y="1603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03640" y="2571840"/>
            <a:ext cx="2057040" cy="820080"/>
            <a:chOff x="3203640" y="2571840"/>
            <a:chExt cx="2057040" cy="820080"/>
          </a:xfrm>
        </p:grpSpPr>
        <p:grpSp>
          <p:nvGrpSpPr>
            <p:cNvPr id="515" name=""/>
            <p:cNvGrpSpPr/>
            <p:nvPr/>
          </p:nvGrpSpPr>
          <p:grpSpPr>
            <a:xfrm>
              <a:off x="3203640" y="2571840"/>
              <a:ext cx="2057040" cy="820080"/>
              <a:chOff x="3203640" y="2571840"/>
              <a:chExt cx="2057040" cy="820080"/>
            </a:xfrm>
          </p:grpSpPr>
          <p:sp>
            <p:nvSpPr>
              <p:cNvPr id="516" name=""/>
              <p:cNvSpPr/>
              <p:nvPr/>
            </p:nvSpPr>
            <p:spPr>
              <a:xfrm>
                <a:off x="3816000" y="2906280"/>
                <a:ext cx="51156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49120" y="2949840"/>
                <a:ext cx="511560" cy="278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203640" y="257184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330080" y="3093480"/>
                <a:ext cx="419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491280" y="2840040"/>
                <a:ext cx="329040" cy="2577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4824720" y="28987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203640" y="3867120"/>
            <a:ext cx="2057040" cy="820080"/>
            <a:chOff x="3203640" y="3867120"/>
            <a:chExt cx="2057040" cy="820080"/>
          </a:xfrm>
        </p:grpSpPr>
        <p:grpSp>
          <p:nvGrpSpPr>
            <p:cNvPr id="523" name=""/>
            <p:cNvGrpSpPr/>
            <p:nvPr/>
          </p:nvGrpSpPr>
          <p:grpSpPr>
            <a:xfrm>
              <a:off x="3203640" y="3867120"/>
              <a:ext cx="2057040" cy="820080"/>
              <a:chOff x="3203640" y="3867120"/>
              <a:chExt cx="2057040" cy="820080"/>
            </a:xfrm>
          </p:grpSpPr>
          <p:sp>
            <p:nvSpPr>
              <p:cNvPr id="524" name=""/>
              <p:cNvSpPr/>
              <p:nvPr/>
            </p:nvSpPr>
            <p:spPr>
              <a:xfrm>
                <a:off x="3816000" y="4201560"/>
                <a:ext cx="51156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49120" y="4245120"/>
                <a:ext cx="511560" cy="278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03640" y="386712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30080" y="4388760"/>
                <a:ext cx="419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91280" y="4135320"/>
                <a:ext cx="329040" cy="2577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4824000" y="4194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203640" y="5162400"/>
            <a:ext cx="2057040" cy="820080"/>
            <a:chOff x="3203640" y="5162400"/>
            <a:chExt cx="2057040" cy="820080"/>
          </a:xfrm>
        </p:grpSpPr>
        <p:grpSp>
          <p:nvGrpSpPr>
            <p:cNvPr id="531" name=""/>
            <p:cNvGrpSpPr/>
            <p:nvPr/>
          </p:nvGrpSpPr>
          <p:grpSpPr>
            <a:xfrm>
              <a:off x="3203640" y="5162400"/>
              <a:ext cx="2057040" cy="820080"/>
              <a:chOff x="3203640" y="5162400"/>
              <a:chExt cx="2057040" cy="820080"/>
            </a:xfrm>
          </p:grpSpPr>
          <p:sp>
            <p:nvSpPr>
              <p:cNvPr id="532" name=""/>
              <p:cNvSpPr/>
              <p:nvPr/>
            </p:nvSpPr>
            <p:spPr>
              <a:xfrm>
                <a:off x="3816000" y="5496840"/>
                <a:ext cx="51156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49120" y="5540400"/>
                <a:ext cx="511560" cy="278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03640" y="516240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330080" y="5684040"/>
                <a:ext cx="419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491280" y="5430600"/>
                <a:ext cx="329040" cy="2577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824360" y="5489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 flipH="1">
            <a:off x="3470400" y="3390840"/>
            <a:ext cx="457200" cy="53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451320" y="2095560"/>
            <a:ext cx="457200" cy="53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470400" y="4686480"/>
            <a:ext cx="457200" cy="5331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89480" y="5962680"/>
            <a:ext cx="457200" cy="53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870160" y="990720"/>
            <a:ext cx="2054520" cy="5219280"/>
            <a:chOff x="5870160" y="990720"/>
            <a:chExt cx="2054520" cy="5219280"/>
          </a:xfrm>
        </p:grpSpPr>
        <p:grpSp>
          <p:nvGrpSpPr>
            <p:cNvPr id="543" name=""/>
            <p:cNvGrpSpPr/>
            <p:nvPr/>
          </p:nvGrpSpPr>
          <p:grpSpPr>
            <a:xfrm>
              <a:off x="5870520" y="2800080"/>
              <a:ext cx="2054160" cy="818640"/>
              <a:chOff x="5870520" y="2800080"/>
              <a:chExt cx="2054160" cy="818640"/>
            </a:xfrm>
          </p:grpSpPr>
          <p:sp>
            <p:nvSpPr>
              <p:cNvPr id="544" name=""/>
              <p:cNvSpPr/>
              <p:nvPr/>
            </p:nvSpPr>
            <p:spPr>
              <a:xfrm rot="10800000">
                <a:off x="6802200" y="2800080"/>
                <a:ext cx="51084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0800000">
                <a:off x="5870520" y="2952360"/>
                <a:ext cx="511200" cy="27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0800000">
                <a:off x="7599240" y="3293640"/>
                <a:ext cx="325440" cy="32508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6404040" y="3105000"/>
                <a:ext cx="419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7309080" y="3091680"/>
                <a:ext cx="329760" cy="2588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870160" y="1504800"/>
              <a:ext cx="2053800" cy="819360"/>
              <a:chOff x="5870160" y="1504800"/>
              <a:chExt cx="2053800" cy="819360"/>
            </a:xfrm>
          </p:grpSpPr>
          <p:sp>
            <p:nvSpPr>
              <p:cNvPr id="550" name=""/>
              <p:cNvSpPr/>
              <p:nvPr/>
            </p:nvSpPr>
            <p:spPr>
              <a:xfrm rot="10800000">
                <a:off x="6801840" y="1504800"/>
                <a:ext cx="510840" cy="48600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0800000">
                <a:off x="5870160" y="1657440"/>
                <a:ext cx="510840" cy="2793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0800000">
                <a:off x="7598880" y="1998720"/>
                <a:ext cx="32508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403320" y="1809720"/>
                <a:ext cx="41868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>
                <a:off x="7308360" y="1796760"/>
                <a:ext cx="329400" cy="2588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870520" y="5390640"/>
              <a:ext cx="2054160" cy="819360"/>
              <a:chOff x="5870520" y="5390640"/>
              <a:chExt cx="2054160" cy="819360"/>
            </a:xfrm>
          </p:grpSpPr>
          <p:sp>
            <p:nvSpPr>
              <p:cNvPr id="556" name=""/>
              <p:cNvSpPr/>
              <p:nvPr/>
            </p:nvSpPr>
            <p:spPr>
              <a:xfrm rot="10800000">
                <a:off x="6802200" y="5390640"/>
                <a:ext cx="51120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0800000">
                <a:off x="5870520" y="5543280"/>
                <a:ext cx="511200" cy="2793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0800000">
                <a:off x="7599240" y="588456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403320" y="5695920"/>
                <a:ext cx="419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7308720" y="5682960"/>
                <a:ext cx="329760" cy="2592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5870520" y="4095360"/>
              <a:ext cx="2054160" cy="819360"/>
              <a:chOff x="5870520" y="4095360"/>
              <a:chExt cx="2054160" cy="819360"/>
            </a:xfrm>
          </p:grpSpPr>
          <p:sp>
            <p:nvSpPr>
              <p:cNvPr id="562" name=""/>
              <p:cNvSpPr/>
              <p:nvPr/>
            </p:nvSpPr>
            <p:spPr>
              <a:xfrm rot="10800000">
                <a:off x="6802560" y="4095360"/>
                <a:ext cx="51120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0800000">
                <a:off x="5870520" y="4248000"/>
                <a:ext cx="511200" cy="2793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0800000">
                <a:off x="7599240" y="458928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6404040" y="4400280"/>
                <a:ext cx="419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7309440" y="4386960"/>
                <a:ext cx="329400" cy="2595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 flipH="1">
              <a:off x="7203600" y="2286000"/>
              <a:ext cx="456840" cy="5335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184520" y="990720"/>
              <a:ext cx="456840" cy="5331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222320" y="3581280"/>
              <a:ext cx="456840" cy="5335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184520" y="4876920"/>
              <a:ext cx="456840" cy="5331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5261040" y="180972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61040" y="308628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61040" y="440064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61040" y="569592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451320" y="2095560"/>
            <a:ext cx="457200" cy="53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470400" y="2076480"/>
            <a:ext cx="457200" cy="53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70400" y="2076480"/>
            <a:ext cx="457200" cy="53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61040" y="180972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61040" y="180972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61040" y="180972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539640" y="62064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9640" y="692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</a:rPr>
              <a:t>分子的多样性和特异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1700280"/>
            <a:ext cx="671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样性：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四种脱氧核苷酸的数目、比率和排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列顺序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00000" y="335772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特异性：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不同生物个体具有不同的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684360" y="1916280"/>
            <a:ext cx="3809880" cy="2209680"/>
            <a:chOff x="684360" y="1916280"/>
            <a:chExt cx="3809880" cy="2209680"/>
          </a:xfrm>
        </p:grpSpPr>
        <p:grpSp>
          <p:nvGrpSpPr>
            <p:cNvPr id="586" name=""/>
            <p:cNvGrpSpPr/>
            <p:nvPr/>
          </p:nvGrpSpPr>
          <p:grpSpPr>
            <a:xfrm>
              <a:off x="684360" y="1916280"/>
              <a:ext cx="3809880" cy="2209680"/>
              <a:chOff x="684360" y="1916280"/>
              <a:chExt cx="3809880" cy="2209680"/>
            </a:xfrm>
          </p:grpSpPr>
          <p:sp>
            <p:nvSpPr>
              <p:cNvPr id="587" name=""/>
              <p:cNvSpPr/>
              <p:nvPr/>
            </p:nvSpPr>
            <p:spPr>
              <a:xfrm>
                <a:off x="684360" y="1916280"/>
                <a:ext cx="3809880" cy="2209680"/>
              </a:xfrm>
              <a:prstGeom prst="rect">
                <a:avLst/>
              </a:prstGeom>
              <a:solidFill>
                <a:srgbClr val="ffb8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1141560" y="2221200"/>
                <a:ext cx="2789280" cy="1112760"/>
                <a:chOff x="1141560" y="2221200"/>
                <a:chExt cx="2789280" cy="11127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971720" y="2675160"/>
                  <a:ext cx="693720" cy="658800"/>
                </a:xfrm>
                <a:prstGeom prst="pentagon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37120" y="2733840"/>
                  <a:ext cx="693720" cy="3780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41560" y="2221200"/>
                  <a:ext cx="441360" cy="441360"/>
                </a:xfrm>
                <a:prstGeom prst="ellipse">
                  <a:avLst/>
                </a:prstGeom>
                <a:solidFill>
                  <a:srgbClr val="00cc00"/>
                </a:solidFill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668680" y="2928960"/>
                  <a:ext cx="56844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532160" y="2585160"/>
                  <a:ext cx="445680" cy="3499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3391560" y="2627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716360" y="1916280"/>
            <a:ext cx="3809880" cy="2209680"/>
            <a:chOff x="4716360" y="1916280"/>
            <a:chExt cx="3809880" cy="2209680"/>
          </a:xfrm>
        </p:grpSpPr>
        <p:grpSp>
          <p:nvGrpSpPr>
            <p:cNvPr id="596" name=""/>
            <p:cNvGrpSpPr/>
            <p:nvPr/>
          </p:nvGrpSpPr>
          <p:grpSpPr>
            <a:xfrm>
              <a:off x="4716360" y="1916280"/>
              <a:ext cx="3809880" cy="2209680"/>
              <a:chOff x="4716360" y="1916280"/>
              <a:chExt cx="3809880" cy="2209680"/>
            </a:xfrm>
          </p:grpSpPr>
          <p:sp>
            <p:nvSpPr>
              <p:cNvPr id="597" name=""/>
              <p:cNvSpPr/>
              <p:nvPr/>
            </p:nvSpPr>
            <p:spPr>
              <a:xfrm>
                <a:off x="4716360" y="1916280"/>
                <a:ext cx="3809880" cy="2209680"/>
              </a:xfrm>
              <a:prstGeom prst="rect">
                <a:avLst/>
              </a:prstGeom>
              <a:solidFill>
                <a:srgbClr val="ffb8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5203800" y="2221200"/>
                <a:ext cx="2789280" cy="1112760"/>
                <a:chOff x="5203800" y="2221200"/>
                <a:chExt cx="2789280" cy="11127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6033960" y="2675160"/>
                  <a:ext cx="693720" cy="658800"/>
                </a:xfrm>
                <a:prstGeom prst="pentagon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299360" y="2733840"/>
                  <a:ext cx="693720" cy="3780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203800" y="2221200"/>
                  <a:ext cx="441360" cy="441360"/>
                </a:xfrm>
                <a:prstGeom prst="ellipse">
                  <a:avLst/>
                </a:prstGeom>
                <a:solidFill>
                  <a:srgbClr val="00cc00"/>
                </a:solidFill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730920" y="2928960"/>
                  <a:ext cx="56844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594400" y="2585160"/>
                  <a:ext cx="445680" cy="3499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" name=""/>
            <p:cNvSpPr/>
            <p:nvPr/>
          </p:nvSpPr>
          <p:spPr>
            <a:xfrm>
              <a:off x="7423200" y="26593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4360" y="4292640"/>
            <a:ext cx="3809880" cy="2209680"/>
            <a:chOff x="684360" y="4292640"/>
            <a:chExt cx="3809880" cy="2209680"/>
          </a:xfrm>
        </p:grpSpPr>
        <p:grpSp>
          <p:nvGrpSpPr>
            <p:cNvPr id="606" name=""/>
            <p:cNvGrpSpPr/>
            <p:nvPr/>
          </p:nvGrpSpPr>
          <p:grpSpPr>
            <a:xfrm>
              <a:off x="684360" y="4292640"/>
              <a:ext cx="3809880" cy="2209680"/>
              <a:chOff x="684360" y="4292640"/>
              <a:chExt cx="3809880" cy="2209680"/>
            </a:xfrm>
          </p:grpSpPr>
          <p:sp>
            <p:nvSpPr>
              <p:cNvPr id="607" name=""/>
              <p:cNvSpPr/>
              <p:nvPr/>
            </p:nvSpPr>
            <p:spPr>
              <a:xfrm>
                <a:off x="684360" y="4292640"/>
                <a:ext cx="3809880" cy="2209680"/>
              </a:xfrm>
              <a:prstGeom prst="rect">
                <a:avLst/>
              </a:prstGeom>
              <a:solidFill>
                <a:srgbClr val="ffb8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1217880" y="4597200"/>
                <a:ext cx="2789280" cy="1112040"/>
                <a:chOff x="1217880" y="4597200"/>
                <a:chExt cx="2789280" cy="11120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048040" y="5050800"/>
                  <a:ext cx="693720" cy="658440"/>
                </a:xfrm>
                <a:prstGeom prst="pentagon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313440" y="5109480"/>
                  <a:ext cx="693720" cy="3776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17880" y="4597200"/>
                  <a:ext cx="441360" cy="441000"/>
                </a:xfrm>
                <a:prstGeom prst="ellipse">
                  <a:avLst/>
                </a:prstGeom>
                <a:solidFill>
                  <a:srgbClr val="00cc00"/>
                </a:solidFill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745000" y="5304600"/>
                  <a:ext cx="56844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608120" y="4960800"/>
                  <a:ext cx="446040" cy="34956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"/>
            <p:cNvSpPr/>
            <p:nvPr/>
          </p:nvSpPr>
          <p:spPr>
            <a:xfrm>
              <a:off x="3427560" y="5035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716360" y="4221000"/>
            <a:ext cx="3809880" cy="2210040"/>
            <a:chOff x="4716360" y="4221000"/>
            <a:chExt cx="3809880" cy="2210040"/>
          </a:xfrm>
        </p:grpSpPr>
        <p:sp>
          <p:nvSpPr>
            <p:cNvPr id="616" name=""/>
            <p:cNvSpPr/>
            <p:nvPr/>
          </p:nvSpPr>
          <p:spPr>
            <a:xfrm>
              <a:off x="4716360" y="4221000"/>
              <a:ext cx="3809880" cy="2210040"/>
            </a:xfrm>
            <a:prstGeom prst="rect">
              <a:avLst/>
            </a:prstGeom>
            <a:solidFill>
              <a:srgbClr val="ffb8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5203800" y="4525920"/>
              <a:ext cx="2789280" cy="1112760"/>
              <a:chOff x="5203800" y="4525920"/>
              <a:chExt cx="2789280" cy="1112760"/>
            </a:xfrm>
          </p:grpSpPr>
          <p:sp>
            <p:nvSpPr>
              <p:cNvPr id="618" name=""/>
              <p:cNvSpPr/>
              <p:nvPr/>
            </p:nvSpPr>
            <p:spPr>
              <a:xfrm>
                <a:off x="6033960" y="4979880"/>
                <a:ext cx="693720" cy="65880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299360" y="5038560"/>
                <a:ext cx="693720" cy="378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203800" y="4525920"/>
                <a:ext cx="441360" cy="44136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730920" y="5233680"/>
                <a:ext cx="5684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94400" y="4889880"/>
                <a:ext cx="445680" cy="34992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7461720" y="4964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66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295280" y="36576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腺嘌呤核糖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410080" y="3657600"/>
            <a:ext cx="29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鸟嘌呤核糖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71600" y="6058080"/>
            <a:ext cx="29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胞嘧啶核糖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97320" y="6021360"/>
            <a:ext cx="29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尿嘧啶核糖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8360" y="33336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RN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化学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5640" y="119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基本组成单位：核糖核苷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539640" y="47628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方正水柱简体"/>
                <a:ea typeface="方正水柱简体"/>
              </a:rPr>
              <a:t>核糖核苷酸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84360" y="2421000"/>
            <a:ext cx="1830600" cy="2625840"/>
          </a:xfrm>
          <a:prstGeom prst="rect">
            <a:avLst/>
          </a:prstGeom>
          <a:solidFill>
            <a:srgbClr val="ffff00"/>
          </a:solidFill>
          <a:ln w="88920">
            <a:solidFill>
              <a:srgbClr val="ff0000"/>
            </a:solidFill>
            <a:miter/>
          </a:ln>
          <a:effectLst>
            <a:outerShdw dist="107932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连    接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180400" y="1449720"/>
            <a:ext cx="2058840" cy="819360"/>
            <a:chOff x="5180400" y="1449720"/>
            <a:chExt cx="2058840" cy="819360"/>
          </a:xfrm>
        </p:grpSpPr>
        <p:grpSp>
          <p:nvGrpSpPr>
            <p:cNvPr id="633" name=""/>
            <p:cNvGrpSpPr/>
            <p:nvPr/>
          </p:nvGrpSpPr>
          <p:grpSpPr>
            <a:xfrm>
              <a:off x="5180400" y="1449720"/>
              <a:ext cx="2058840" cy="819360"/>
              <a:chOff x="5180400" y="1449720"/>
              <a:chExt cx="2058840" cy="819360"/>
            </a:xfrm>
          </p:grpSpPr>
          <p:sp>
            <p:nvSpPr>
              <p:cNvPr id="634" name=""/>
              <p:cNvSpPr/>
              <p:nvPr/>
            </p:nvSpPr>
            <p:spPr>
              <a:xfrm rot="21590400">
                <a:off x="5793840" y="1782720"/>
                <a:ext cx="51156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590400">
                <a:off x="6727320" y="1823760"/>
                <a:ext cx="511560" cy="278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1590400">
                <a:off x="5180760" y="145008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308280" y="1968120"/>
                <a:ext cx="419040" cy="10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68760" y="1718280"/>
                <a:ext cx="329760" cy="257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 rot="21590400">
              <a:off x="6802200" y="177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180400" y="2745000"/>
            <a:ext cx="2058840" cy="819360"/>
            <a:chOff x="5180400" y="2745000"/>
            <a:chExt cx="2058840" cy="819360"/>
          </a:xfrm>
        </p:grpSpPr>
        <p:grpSp>
          <p:nvGrpSpPr>
            <p:cNvPr id="641" name=""/>
            <p:cNvGrpSpPr/>
            <p:nvPr/>
          </p:nvGrpSpPr>
          <p:grpSpPr>
            <a:xfrm>
              <a:off x="5180400" y="2745000"/>
              <a:ext cx="2058840" cy="819360"/>
              <a:chOff x="5180400" y="2745000"/>
              <a:chExt cx="2058840" cy="819360"/>
            </a:xfrm>
          </p:grpSpPr>
          <p:sp>
            <p:nvSpPr>
              <p:cNvPr id="642" name=""/>
              <p:cNvSpPr/>
              <p:nvPr/>
            </p:nvSpPr>
            <p:spPr>
              <a:xfrm rot="21590400">
                <a:off x="5793840" y="3078000"/>
                <a:ext cx="51156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1590400">
                <a:off x="6727320" y="3119040"/>
                <a:ext cx="511560" cy="278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21590400">
                <a:off x="5180760" y="274536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308280" y="3263400"/>
                <a:ext cx="419040" cy="10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68760" y="3013560"/>
                <a:ext cx="329760" cy="257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rot="21590400">
              <a:off x="6802200" y="3066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5180400" y="4040280"/>
            <a:ext cx="2058840" cy="819360"/>
            <a:chOff x="5180400" y="4040280"/>
            <a:chExt cx="2058840" cy="819360"/>
          </a:xfrm>
        </p:grpSpPr>
        <p:grpSp>
          <p:nvGrpSpPr>
            <p:cNvPr id="649" name=""/>
            <p:cNvGrpSpPr/>
            <p:nvPr/>
          </p:nvGrpSpPr>
          <p:grpSpPr>
            <a:xfrm>
              <a:off x="5180400" y="4040280"/>
              <a:ext cx="2058840" cy="819360"/>
              <a:chOff x="5180400" y="4040280"/>
              <a:chExt cx="2058840" cy="819360"/>
            </a:xfrm>
          </p:grpSpPr>
          <p:sp>
            <p:nvSpPr>
              <p:cNvPr id="650" name=""/>
              <p:cNvSpPr/>
              <p:nvPr/>
            </p:nvSpPr>
            <p:spPr>
              <a:xfrm rot="21590400">
                <a:off x="5793840" y="4373280"/>
                <a:ext cx="51156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21590400">
                <a:off x="6727320" y="4414320"/>
                <a:ext cx="511560" cy="278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21590400">
                <a:off x="5180760" y="404064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308280" y="4558680"/>
                <a:ext cx="419040" cy="10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68760" y="4308840"/>
                <a:ext cx="329760" cy="257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 rot="21590400">
              <a:off x="6801840" y="43628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180400" y="5335920"/>
            <a:ext cx="2058840" cy="819360"/>
            <a:chOff x="5180400" y="5335920"/>
            <a:chExt cx="2058840" cy="819360"/>
          </a:xfrm>
        </p:grpSpPr>
        <p:grpSp>
          <p:nvGrpSpPr>
            <p:cNvPr id="657" name=""/>
            <p:cNvGrpSpPr/>
            <p:nvPr/>
          </p:nvGrpSpPr>
          <p:grpSpPr>
            <a:xfrm>
              <a:off x="5180400" y="5335920"/>
              <a:ext cx="2058840" cy="819360"/>
              <a:chOff x="5180400" y="5335920"/>
              <a:chExt cx="2058840" cy="819360"/>
            </a:xfrm>
          </p:grpSpPr>
          <p:sp>
            <p:nvSpPr>
              <p:cNvPr id="658" name=""/>
              <p:cNvSpPr/>
              <p:nvPr/>
            </p:nvSpPr>
            <p:spPr>
              <a:xfrm rot="21590400">
                <a:off x="5793840" y="5668920"/>
                <a:ext cx="511560" cy="485640"/>
              </a:xfrm>
              <a:prstGeom prst="pentagon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1590400">
                <a:off x="6727320" y="5709960"/>
                <a:ext cx="511560" cy="278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21590400">
                <a:off x="5180760" y="5336280"/>
                <a:ext cx="325440" cy="32544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6308280" y="5854320"/>
                <a:ext cx="419040" cy="10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68760" y="5604480"/>
                <a:ext cx="329760" cy="257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rot="21590400">
              <a:off x="6802200" y="56584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>
            <a:off x="5446440" y="3563640"/>
            <a:ext cx="460800" cy="53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427360" y="2268360"/>
            <a:ext cx="460800" cy="53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446440" y="4859280"/>
            <a:ext cx="460800" cy="530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465520" y="6135480"/>
            <a:ext cx="460800" cy="53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427360" y="2268360"/>
            <a:ext cx="460800" cy="53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446440" y="2249280"/>
            <a:ext cx="460800" cy="53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446440" y="2249280"/>
            <a:ext cx="460800" cy="53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304920" y="1752480"/>
          <a:ext cx="8610480" cy="402768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276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"/>
          <p:cNvSpPr/>
          <p:nvPr/>
        </p:nvSpPr>
        <p:spPr>
          <a:xfrm>
            <a:off x="755640" y="40464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DNA</a:t>
            </a:r>
            <a:r>
              <a:rPr b="1" lang="zh-CN" sz="66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与</a:t>
            </a:r>
            <a:r>
              <a:rPr b="1" lang="zh-CN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RNA</a:t>
            </a:r>
            <a:r>
              <a:rPr b="1" lang="zh-CN" sz="6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的比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90920" y="1752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1752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920" y="2514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要存在部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32000" y="251460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细胞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43640" y="251460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细胞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28000" y="3176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基本组成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2" action="ppaction://hlinksldjump"/>
          </p:cNvPr>
          <p:cNvSpPr/>
          <p:nvPr/>
        </p:nvSpPr>
        <p:spPr>
          <a:xfrm>
            <a:off x="2987640" y="3124080"/>
            <a:ext cx="23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脱氧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3" action="ppaction://hlinksldjump"/>
          </p:cNvPr>
          <p:cNvSpPr/>
          <p:nvPr/>
        </p:nvSpPr>
        <p:spPr>
          <a:xfrm>
            <a:off x="6172200" y="3124080"/>
            <a:ext cx="24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核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56880" y="3862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碱基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977560" y="3711600"/>
            <a:ext cx="22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096600" y="3711600"/>
            <a:ext cx="22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89920" y="4548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五碳糖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87640" y="4495680"/>
            <a:ext cx="21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脱氧核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502320" y="451800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核    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83800" y="5234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核苷酸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>
            <a:hlinkClick r:id="rId4" action="ppaction://hlinksldjump"/>
          </p:cNvPr>
          <p:cNvSpPr/>
          <p:nvPr/>
        </p:nvSpPr>
        <p:spPr>
          <a:xfrm>
            <a:off x="5508720" y="518148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条核糖核苷酸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>
            <a:hlinkClick r:id="rId5" action="ppaction://hlinksldjump"/>
          </p:cNvPr>
          <p:cNvSpPr/>
          <p:nvPr/>
        </p:nvSpPr>
        <p:spPr>
          <a:xfrm>
            <a:off x="2484360" y="5181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条脱氧核苷酸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66560" y="981000"/>
            <a:ext cx="78487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下列关于核酸的叙述，正确的是（       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核酸由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四种元素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在真核细胞内，核酸只存在于细胞核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组成核酸的基本单位有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除病毒外，一切生物都含有核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6560" y="3357720"/>
            <a:ext cx="7561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由碱基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可以组成的核苷酸种类是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8          B.5          C.6           D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5280" y="2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8360" y="4437000"/>
            <a:ext cx="7920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玉米根细胞中的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分布在下列哪些结构中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细胞核     ②叶绿体       ③线粒体        ④细胞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 ① ②       B. ① ③        C. ① ② ③         D. ① ② ③ 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97080" y="1027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930000" y="337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8252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rcRect l="47738" t="37867" r="4000" b="42492"/>
          <a:stretch/>
        </p:blipFill>
        <p:spPr>
          <a:xfrm>
            <a:off x="609480" y="1066680"/>
            <a:ext cx="8077320" cy="452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68360" y="549360"/>
            <a:ext cx="806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细胞内的遗传物质是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DNA        B.RNA        C.DNA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RNA      D.DNA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8360" y="1628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将用甲基绿和吡罗红染色的人口腔上皮细胞装片放在显微镜下观察，可以看到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细胞核内呈现红色，细胞质内呈现绿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细胞核内呈现绿色，细胞质内呈现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细胞核和细胞质都呈现绿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细胞核和细胞质都呈现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4292640"/>
            <a:ext cx="799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分子完全水解后，得到的化学物质是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核苷酸、五碳糖、碱基       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核苷酸、磷酸、碱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核糖、五碳糖、碱基              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脱氧核糖、磷酸、碱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58160" y="52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1380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09524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68360" y="620640"/>
            <a:ext cx="7775640" cy="40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课后探讨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在临床上，医生常给患急性肠炎的病人点滴输入葡萄糖盐水，想一想医生为什么这样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糖类都是甜的吗？米饭和馒头在嘴里多嚼一会会感到有甜味，这是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儿童适当多晒太阳，有利于预防佝偻病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种子在入库储存前为什么要晒干处理？但为什么不能加热烘烤干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703dff"/>
                </a:solidFill>
                <a:latin typeface="Arial"/>
              </a:rPr>
              <a:t>、为什么很多老年人晚上睡觉时常有抽搐（通常称做“抽筋”）现象？应该怎样预防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407664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节 细胞中的糖类和脂质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492280"/>
            <a:ext cx="6343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66"/>
                </a:solidFill>
                <a:latin typeface="隶书"/>
                <a:ea typeface="隶书"/>
              </a:rPr>
              <a:t>第</a:t>
            </a:r>
            <a:r>
              <a:rPr b="1" lang="zh-CN" sz="45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1" lang="zh-CN" sz="4500" spc="-1" strike="noStrike">
                <a:solidFill>
                  <a:srgbClr val="ff0066"/>
                </a:solidFill>
                <a:latin typeface="隶书"/>
                <a:ea typeface="隶书"/>
              </a:rPr>
              <a:t>章 组成细胞的分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11280" y="620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人教版新教材必修一《分子与细胞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505320" y="1219320"/>
            <a:ext cx="563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这些食物含有的能量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图中能尽快补充能量的食物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501336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ahoma"/>
                <a:ea typeface="黑体"/>
              </a:rPr>
              <a:t>糖类是主要的能源物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ff"/>
                </a:solidFill>
                <a:latin typeface="Comic Sans MS"/>
                <a:ea typeface="隶书"/>
              </a:rPr>
              <a:t>一、细胞中的糖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"/>
          <p:cNvSpPr/>
          <p:nvPr/>
        </p:nvSpPr>
        <p:spPr>
          <a:xfrm>
            <a:off x="1483200" y="1657440"/>
            <a:ext cx="205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元素组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种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中宋"/>
              </a:rPr>
              <a:t>功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755240" y="1733400"/>
            <a:ext cx="264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Tahoma"/>
                <a:ea typeface="华文中宋"/>
              </a:rPr>
              <a:t>C</a:t>
            </a:r>
            <a:r>
              <a:rPr b="1" lang="zh-CN" sz="3600" spc="-1" strike="noStrike">
                <a:solidFill>
                  <a:srgbClr val="cc66ff"/>
                </a:solidFill>
                <a:latin typeface="Tahoma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cc66ff"/>
                </a:solidFill>
                <a:latin typeface="Tahoma"/>
                <a:ea typeface="华文中宋"/>
              </a:rPr>
              <a:t>H</a:t>
            </a:r>
            <a:r>
              <a:rPr b="1" lang="zh-CN" sz="3600" spc="-1" strike="noStrike">
                <a:solidFill>
                  <a:srgbClr val="cc66ff"/>
                </a:solidFill>
                <a:latin typeface="Tahoma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cc66ff"/>
                </a:solidFill>
                <a:latin typeface="Tahoma"/>
                <a:ea typeface="华文中宋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Tahoma"/>
                <a:ea typeface="华文中宋"/>
              </a:rPr>
              <a:t>单糖、二糖、多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Tahoma"/>
                <a:ea typeface="华文中宋"/>
              </a:rPr>
              <a:t>生命活动的主要能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14400" y="5105520"/>
            <a:ext cx="7391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阅读课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30-31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胞中的糖类”并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完成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1828800"/>
                <a:gridCol w="2438280"/>
                <a:gridCol w="1828800"/>
              </a:tblGrid>
              <a:tr h="527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分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黑体"/>
                          <a:hlinkClick r:id="rId2" action="ppaction://hlinksldjump"/>
                        </a:rPr>
                        <a:t>单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ff"/>
                          </a:solidFill>
                          <a:latin typeface="Comic Sans MS"/>
                          <a:ea typeface="黑体"/>
                        </a:rPr>
                        <a:t>五碳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66ff"/>
                          </a:solidFill>
                          <a:latin typeface="Comic Sans MS"/>
                          <a:ea typeface="黑体"/>
                        </a:rPr>
                        <a:t>六碳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黑体"/>
                          <a:hlinkClick r:id="rId3" action="ppaction://hlinksldjump"/>
                        </a:rPr>
                        <a:t>二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黑体"/>
                          <a:hlinkClick r:id="rId4" action="ppaction://hlinksldjump"/>
                        </a:rPr>
                        <a:t>多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"/>
          <p:cNvSpPr/>
          <p:nvPr/>
        </p:nvSpPr>
        <p:spPr>
          <a:xfrm>
            <a:off x="8229600" y="6248520"/>
            <a:ext cx="762120" cy="380880"/>
          </a:xfrm>
          <a:prstGeom prst="rect">
            <a:avLst/>
          </a:prstGeom>
          <a:solidFill>
            <a:srgbClr val="599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Tahoma"/>
                <a:ea typeface="华文行楷"/>
                <a:hlinkClick r:id="rId5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0" y="380880"/>
          <a:ext cx="9144000" cy="6195960"/>
        </p:xfrm>
        <a:graphic>
          <a:graphicData uri="http://schemas.openxmlformats.org/drawingml/2006/table">
            <a:tbl>
              <a:tblPr/>
              <a:tblGrid>
                <a:gridCol w="685800"/>
                <a:gridCol w="1295280"/>
                <a:gridCol w="1600200"/>
                <a:gridCol w="2286000"/>
                <a:gridCol w="3276720"/>
              </a:tblGrid>
              <a:tr h="609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分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单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五碳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六碳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>
            <a:off x="2353680" y="12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核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26728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脱氧核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424600" y="3505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43000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果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424600" y="571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半乳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14720" y="12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细胞中都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91040" y="2362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细胞中都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9104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细胞中都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167360" y="457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植物细胞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167360" y="57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动物细胞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372000" y="121932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组成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RNA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的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0040" y="23623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组成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DNA</a:t>
            </a: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的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595200" y="3505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主要的能源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18520" y="456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提供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610680" y="56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提供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81880" y="0"/>
            <a:ext cx="762120" cy="380880"/>
          </a:xfrm>
          <a:prstGeom prst="rect">
            <a:avLst/>
          </a:prstGeom>
          <a:solidFill>
            <a:srgbClr val="599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Tahoma"/>
                <a:ea typeface="华文行楷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380880" y="914400"/>
          <a:ext cx="8763120" cy="4419720"/>
        </p:xfrm>
        <a:graphic>
          <a:graphicData uri="http://schemas.openxmlformats.org/drawingml/2006/table">
            <a:tbl>
              <a:tblPr/>
              <a:tblGrid>
                <a:gridCol w="1067040"/>
                <a:gridCol w="1752480"/>
                <a:gridCol w="2895480"/>
                <a:gridCol w="3048120"/>
              </a:tblGrid>
              <a:tr h="762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分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二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4" name=""/>
          <p:cNvSpPr/>
          <p:nvPr/>
        </p:nvSpPr>
        <p:spPr>
          <a:xfrm>
            <a:off x="1891440" y="1905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麦芽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7280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蔗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972800" y="434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乳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175248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发芽的小麦、谷粒中含量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76720" y="2971800"/>
            <a:ext cx="29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蔗糖、甜菜中含量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4267080"/>
            <a:ext cx="29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人和动物乳汁中含量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66920" y="3124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中宋"/>
              </a:rPr>
              <a:t>都能提供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81880" y="0"/>
            <a:ext cx="762120" cy="380880"/>
          </a:xfrm>
          <a:prstGeom prst="rect">
            <a:avLst/>
          </a:prstGeom>
          <a:solidFill>
            <a:srgbClr val="599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Tahoma"/>
                <a:ea typeface="华文行楷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76320" y="380880"/>
          <a:ext cx="8915400" cy="5581800"/>
        </p:xfrm>
        <a:graphic>
          <a:graphicData uri="http://schemas.openxmlformats.org/drawingml/2006/table">
            <a:tbl>
              <a:tblPr/>
              <a:tblGrid>
                <a:gridCol w="990720"/>
                <a:gridCol w="1600200"/>
                <a:gridCol w="3047760"/>
                <a:gridCol w="3276720"/>
              </a:tblGrid>
              <a:tr h="608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分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华文中宋"/>
                        </a:rPr>
                        <a:t>多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3" name=""/>
          <p:cNvSpPr/>
          <p:nvPr/>
        </p:nvSpPr>
        <p:spPr>
          <a:xfrm>
            <a:off x="1363320" y="16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淀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357920" y="297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纤维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357920" y="4038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肝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434240" y="52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肌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27360" y="106668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植物粮食作物的种子、变态茎或根等储藏器官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90920" y="2590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植物细胞的细胞壁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7920" y="3962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动物的肝脏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61520" y="5105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Tahoma"/>
                <a:ea typeface="华文中宋"/>
              </a:rPr>
              <a:t>动物的肌肉组织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610680" y="144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储存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24280" y="2819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支持保护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248520" y="3733920"/>
            <a:ext cx="22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储存能量，调节血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62960" y="5105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中宋"/>
              </a:rPr>
              <a:t>储存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单糖、二糖、多糖是怎样区分的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2068560" y="1052640"/>
            <a:ext cx="270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单糖：不能水解的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二糖：由两分子的单糖脱水缩合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47560" y="571680"/>
            <a:ext cx="8048880" cy="5715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1628640"/>
            <a:ext cx="2851200" cy="1386000"/>
          </a:xfrm>
          <a:prstGeom prst="wedgeEllipseCallout">
            <a:avLst>
              <a:gd name="adj1" fmla="val -88754"/>
              <a:gd name="adj2" fmla="val 5240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体内有丰富的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4820400" y="587700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多糖：由许多的葡萄糖分子连接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36576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构成它们的基本单位都是葡萄糖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447920" y="762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单糖、二糖和多糖的转化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162920" y="4267080"/>
            <a:ext cx="1218960" cy="642600"/>
          </a:xfrm>
          <a:prstGeom prst="rect">
            <a:avLst/>
          </a:prstGeom>
          <a:noFill/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单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267080" y="4267080"/>
            <a:ext cx="1219320" cy="642600"/>
          </a:xfrm>
          <a:prstGeom prst="rect">
            <a:avLst/>
          </a:prstGeom>
          <a:noFill/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二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4267080"/>
            <a:ext cx="1218960" cy="642600"/>
          </a:xfrm>
          <a:prstGeom prst="rect">
            <a:avLst/>
          </a:prstGeom>
          <a:noFill/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多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2120" y="3048120"/>
            <a:ext cx="1001520" cy="11016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352680" y="3200400"/>
            <a:ext cx="1295640" cy="990720"/>
          </a:xfrm>
          <a:prstGeom prst="line">
            <a:avLst/>
          </a:prstGeom>
          <a:ln cap="sq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228600" y="2362320"/>
          <a:ext cx="106668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362320"/>
                    <a:ext cx="1066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1143000" y="2362320"/>
          <a:ext cx="1447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2362320"/>
                    <a:ext cx="1447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2590920" y="2362320"/>
          <a:ext cx="144756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2362320"/>
                    <a:ext cx="1447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3886200" y="2362320"/>
          <a:ext cx="137160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6200" y="2362320"/>
                    <a:ext cx="1371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5257800" y="2362320"/>
          <a:ext cx="121932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236232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6477120" y="2362320"/>
          <a:ext cx="135252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77120" y="2362320"/>
                    <a:ext cx="1352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7772400" y="2362320"/>
          <a:ext cx="914400" cy="914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72400" y="236232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6019920" y="3200400"/>
            <a:ext cx="1600200" cy="990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43200" y="4648320"/>
            <a:ext cx="12193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562720" y="4572000"/>
            <a:ext cx="13716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441360" y="609480"/>
            <a:ext cx="8245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糖尿病与糖的摄取有关吗？为什么要严格限制糖尿病人的甜味食品以及馒头、米饭等主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有人认为，吃糖过多或吃得过饱，即使不吃肥肉也很容易引起肥胖，你认为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3049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华文行楷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11480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男性：标准体重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＝身高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女性：标准体重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＝身高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900000" y="2602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ahoma"/>
                <a:ea typeface="隶书"/>
              </a:rPr>
              <a:t>二、细胞中的脂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" y="1143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组成元素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主要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，有些含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" y="1905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种类及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2743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  <a:ea typeface="华文中宋"/>
              </a:rPr>
              <a:t>脂肪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09480" y="3992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  <a:ea typeface="华文中宋"/>
              </a:rPr>
              <a:t>磷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5334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  <a:ea typeface="华文中宋"/>
              </a:rPr>
              <a:t>固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33720" y="2590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细胞内良好的储能物质，还具有隔热、保温、缓冲和减压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13372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构成细胞膜、细胞器膜和核膜的主要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133720" y="5257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胆固醇、性激素和维生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对人体的代谢起到很重要的调节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7128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与生活的联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69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  <a:ea typeface="黑体"/>
              </a:rPr>
              <a:t>过多地摄入脂肪又缺少运动时，就可能导致肥胖．故脂肪类食物的摄入应适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  <a:ea typeface="黑体"/>
              </a:rPr>
              <a:t>过多地摄入胆固醇，会在血管壁上形成沉积，造成血管堵塞，危及生命．因此注意限制高胆固醇类食物的过量摄入如动物内脏和蛋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134136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ahoma"/>
                <a:ea typeface="隶书"/>
              </a:rPr>
              <a:t>三、生物大分子以碳链为骨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68360" y="3068640"/>
            <a:ext cx="784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每一个单体都以若干个相连的碳原子构成的碳链为基本骨架，由许多单体连接成多聚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6920" y="-800280"/>
            <a:ext cx="6870960" cy="160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练习题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水解法研究下列物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解产物不全是葡萄糖的是……………………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...(    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淀粉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原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纤维素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蔗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动植细胞中都具有的单糖是…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糖和糖原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糖和蔗糖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和麦芽糖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氧核糖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6804000" y="1844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524720" y="3284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-387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评价反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84232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苹果细胞中含量最丰的多糖是…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(  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蔗糖 麦芽糖　　  Ｂ．淀粉　糖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Ｃ．淀粉　纤维素　　Ｄ．糖原　纤维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列既存在于植物体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又存在于动物体内的单糖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……………………..(     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淀粉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糖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氧核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题中不属于动植物细胞共有的糖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8028000" y="1341360"/>
            <a:ext cx="3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36000" y="3716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812000" y="4869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节 细胞中的无机物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1476360" y="2205000"/>
            <a:ext cx="6343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66"/>
                </a:solidFill>
                <a:latin typeface="隶书"/>
                <a:ea typeface="隶书"/>
              </a:rPr>
              <a:t>第</a:t>
            </a:r>
            <a:r>
              <a:rPr b="1" lang="zh-CN" sz="45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1" lang="zh-CN" sz="4500" spc="-1" strike="noStrike">
                <a:solidFill>
                  <a:srgbClr val="ff0066"/>
                </a:solidFill>
                <a:latin typeface="隶书"/>
                <a:ea typeface="隶书"/>
              </a:rPr>
              <a:t>章 组成细胞的分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11280" y="620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人教版新教材必修一《分子与细胞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547640" y="2602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一、细胞中的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572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水在细胞中的含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" y="1843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生物种类不同含水量不同：水生生物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&gt;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陆生生物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rId2"/>
          </p:cNvPr>
          <p:cNvSpPr/>
          <p:nvPr/>
        </p:nvSpPr>
        <p:spPr>
          <a:xfrm>
            <a:off x="7315200" y="2514600"/>
            <a:ext cx="160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楷体_GB2312"/>
                <a:hlinkClick r:id="rId3" action="ppaction://hlinksldjump"/>
              </a:rPr>
              <a:t>水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3352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同一生物在生长发育的不同时期，含水量也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447920" y="4038480"/>
            <a:ext cx="26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楷体_GB2312"/>
                <a:hlinkClick r:id="rId4" action="ppaction://hlinksldjump"/>
              </a:rPr>
              <a:t>幼儿和老年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43400" y="4038480"/>
            <a:ext cx="434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楷体_GB2312"/>
                <a:hlinkClick r:id="rId5" action="ppaction://hlinksldjump"/>
              </a:rPr>
              <a:t>幼儿和成人体内的含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33520" y="4952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在不同的组织、器官中，水的含量也不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620120" cy="5699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76720" y="1125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奶和奶的制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682000" y="476280"/>
            <a:ext cx="34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水的存在形式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228600" y="1424160"/>
          <a:ext cx="8686800" cy="4900320"/>
        </p:xfrm>
        <a:graphic>
          <a:graphicData uri="http://schemas.openxmlformats.org/drawingml/2006/table">
            <a:tbl>
              <a:tblPr/>
              <a:tblGrid>
                <a:gridCol w="1447920"/>
                <a:gridCol w="2057400"/>
                <a:gridCol w="1447560"/>
                <a:gridCol w="3733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定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含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自由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结合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1676520" y="2438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细胞中游离态的水，可以自由流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752480" y="4646520"/>
            <a:ext cx="20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细胞中与其他化合物结合的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59480" y="2757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95%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以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764160" y="50436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4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181480" y="2286000"/>
            <a:ext cx="380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是细胞内的良好溶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参与细胞内的生化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运送养料和代谢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999760" y="5119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Arial"/>
                <a:ea typeface="华文中宋"/>
              </a:rPr>
              <a:t>是细胞的组成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2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457200" y="990720"/>
            <a:ext cx="815328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刚刚收获的小麦种子经暴晒，失去了大量的水份，这些水属于（            ）；再将晒干的种子放在试管内用酒精灯加热，试管上将出现小水珠，这些水属于（            ）；再点燃种子，最终会得到一些灰白色的灰烬，这些灰烬是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二、细胞中的无机盐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1905120" y="2400480"/>
                <a:ext cx="133164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925560" y="17002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存在形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484440" y="1773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大多数以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离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的形式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925560" y="234936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生理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68360" y="314172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细胞中许多有机物的重要组成成分 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Mg2+  Fe2+  CaCO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维持细胞和生物体的生命活动 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Ca2+           B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花而不实”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Z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维持细胞的酸碱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2362320" y="620640"/>
            <a:ext cx="4038480" cy="460872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3505320" y="53341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中宋"/>
              </a:rPr>
              <a:t>水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rId3" action="ppaction://hlinksldjump"/>
          </p:cNvPr>
          <p:cNvSpPr/>
          <p:nvPr/>
        </p:nvSpPr>
        <p:spPr>
          <a:xfrm>
            <a:off x="7924680" y="5867280"/>
            <a:ext cx="890640" cy="738360"/>
          </a:xfrm>
          <a:custGeom>
            <a:avLst/>
            <a:gdLst>
              <a:gd name="textAreaLeft" fmla="*/ 47520 w 890640"/>
              <a:gd name="textAreaRight" fmla="*/ 843120 w 89064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6053" h="21600">
                <a:moveTo>
                  <a:pt x="0" y="0"/>
                </a:moveTo>
                <a:lnTo>
                  <a:pt x="26053" y="0"/>
                </a:lnTo>
                <a:lnTo>
                  <a:pt x="26053" y="21600"/>
                </a:lnTo>
                <a:lnTo>
                  <a:pt x="0" y="21600"/>
                </a:lnTo>
                <a:close/>
              </a:path>
              <a:path fill="lightenLess" w="26053" h="21600">
                <a:moveTo>
                  <a:pt x="0" y="0"/>
                </a:moveTo>
                <a:lnTo>
                  <a:pt x="26053" y="0"/>
                </a:lnTo>
                <a:lnTo>
                  <a:pt x="24653" y="1400"/>
                </a:lnTo>
                <a:lnTo>
                  <a:pt x="1400" y="1400"/>
                </a:lnTo>
                <a:close/>
              </a:path>
              <a:path fill="darken" w="26053" h="21600">
                <a:moveTo>
                  <a:pt x="26053" y="0"/>
                </a:moveTo>
                <a:lnTo>
                  <a:pt x="26053" y="21600"/>
                </a:lnTo>
                <a:lnTo>
                  <a:pt x="24653" y="20200"/>
                </a:lnTo>
                <a:lnTo>
                  <a:pt x="24653" y="1400"/>
                </a:lnTo>
                <a:close/>
              </a:path>
              <a:path fill="darkenLess" w="26053" h="21600">
                <a:moveTo>
                  <a:pt x="26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3" y="20200"/>
                </a:lnTo>
                <a:close/>
              </a:path>
              <a:path fill="lighten" w="26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3" h="21600">
                <a:moveTo>
                  <a:pt x="13026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8" y="4707"/>
                </a:lnTo>
                <a:lnTo>
                  <a:pt x="17378" y="8224"/>
                </a:lnTo>
                <a:lnTo>
                  <a:pt x="19989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7" y="17989"/>
                </a:lnTo>
                <a:lnTo>
                  <a:pt x="7717" y="10800"/>
                </a:lnTo>
                <a:lnTo>
                  <a:pt x="6063" y="10800"/>
                </a:lnTo>
                <a:close/>
              </a:path>
              <a:path fill="darkenLess" w="26053" h="21600">
                <a:moveTo>
                  <a:pt x="15603" y="6448"/>
                </a:moveTo>
                <a:lnTo>
                  <a:pt x="15603" y="4707"/>
                </a:lnTo>
                <a:lnTo>
                  <a:pt x="17378" y="4707"/>
                </a:lnTo>
                <a:lnTo>
                  <a:pt x="17378" y="8224"/>
                </a:lnTo>
                <a:close/>
              </a:path>
              <a:path fill="darkenLess" w="26053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7" y="10800"/>
                </a:lnTo>
                <a:lnTo>
                  <a:pt x="7717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421080" cy="494208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3"/>
          <a:stretch/>
        </p:blipFill>
        <p:spPr>
          <a:xfrm>
            <a:off x="4788000" y="438120"/>
            <a:ext cx="3744720" cy="48960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2819520" y="55627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中宋"/>
              </a:rPr>
              <a:t>幼儿和老年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rId4" action="ppaction://hlinksldjump"/>
          </p:cNvPr>
          <p:cNvSpPr/>
          <p:nvPr/>
        </p:nvSpPr>
        <p:spPr>
          <a:xfrm>
            <a:off x="8077320" y="5867280"/>
            <a:ext cx="890640" cy="738360"/>
          </a:xfrm>
          <a:custGeom>
            <a:avLst/>
            <a:gdLst>
              <a:gd name="textAreaLeft" fmla="*/ 47520 w 890640"/>
              <a:gd name="textAreaRight" fmla="*/ 843120 w 89064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6053" h="21600">
                <a:moveTo>
                  <a:pt x="0" y="0"/>
                </a:moveTo>
                <a:lnTo>
                  <a:pt x="26053" y="0"/>
                </a:lnTo>
                <a:lnTo>
                  <a:pt x="26053" y="21600"/>
                </a:lnTo>
                <a:lnTo>
                  <a:pt x="0" y="21600"/>
                </a:lnTo>
                <a:close/>
              </a:path>
              <a:path fill="lightenLess" w="26053" h="21600">
                <a:moveTo>
                  <a:pt x="0" y="0"/>
                </a:moveTo>
                <a:lnTo>
                  <a:pt x="26053" y="0"/>
                </a:lnTo>
                <a:lnTo>
                  <a:pt x="24653" y="1400"/>
                </a:lnTo>
                <a:lnTo>
                  <a:pt x="1400" y="1400"/>
                </a:lnTo>
                <a:close/>
              </a:path>
              <a:path fill="darken" w="26053" h="21600">
                <a:moveTo>
                  <a:pt x="26053" y="0"/>
                </a:moveTo>
                <a:lnTo>
                  <a:pt x="26053" y="21600"/>
                </a:lnTo>
                <a:lnTo>
                  <a:pt x="24653" y="20200"/>
                </a:lnTo>
                <a:lnTo>
                  <a:pt x="24653" y="1400"/>
                </a:lnTo>
                <a:close/>
              </a:path>
              <a:path fill="darkenLess" w="26053" h="21600">
                <a:moveTo>
                  <a:pt x="26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3" y="20200"/>
                </a:lnTo>
                <a:close/>
              </a:path>
              <a:path fill="lighten" w="26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3" h="21600">
                <a:moveTo>
                  <a:pt x="13026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8" y="4707"/>
                </a:lnTo>
                <a:lnTo>
                  <a:pt x="17378" y="8224"/>
                </a:lnTo>
                <a:lnTo>
                  <a:pt x="19989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7" y="17989"/>
                </a:lnTo>
                <a:lnTo>
                  <a:pt x="7717" y="10800"/>
                </a:lnTo>
                <a:lnTo>
                  <a:pt x="6063" y="10800"/>
                </a:lnTo>
                <a:close/>
              </a:path>
              <a:path fill="darkenLess" w="26053" h="21600">
                <a:moveTo>
                  <a:pt x="15603" y="6448"/>
                </a:moveTo>
                <a:lnTo>
                  <a:pt x="15603" y="4707"/>
                </a:lnTo>
                <a:lnTo>
                  <a:pt x="17378" y="4707"/>
                </a:lnTo>
                <a:lnTo>
                  <a:pt x="17378" y="8224"/>
                </a:lnTo>
                <a:close/>
              </a:path>
              <a:path fill="darkenLess" w="26053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7" y="10800"/>
                </a:lnTo>
                <a:lnTo>
                  <a:pt x="7717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2133720" y="380880"/>
            <a:ext cx="4844880" cy="48261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1676520" y="556272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中宋"/>
              </a:rPr>
              <a:t>幼儿和成人体内的含水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rId3" action="ppaction://hlinksldjump"/>
          </p:cNvPr>
          <p:cNvSpPr/>
          <p:nvPr/>
        </p:nvSpPr>
        <p:spPr>
          <a:xfrm>
            <a:off x="8001000" y="5867280"/>
            <a:ext cx="890640" cy="738360"/>
          </a:xfrm>
          <a:custGeom>
            <a:avLst/>
            <a:gdLst>
              <a:gd name="textAreaLeft" fmla="*/ 47520 w 890640"/>
              <a:gd name="textAreaRight" fmla="*/ 843120 w 89064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6053" h="21600">
                <a:moveTo>
                  <a:pt x="0" y="0"/>
                </a:moveTo>
                <a:lnTo>
                  <a:pt x="26053" y="0"/>
                </a:lnTo>
                <a:lnTo>
                  <a:pt x="26053" y="21600"/>
                </a:lnTo>
                <a:lnTo>
                  <a:pt x="0" y="21600"/>
                </a:lnTo>
                <a:close/>
              </a:path>
              <a:path fill="lightenLess" w="26053" h="21600">
                <a:moveTo>
                  <a:pt x="0" y="0"/>
                </a:moveTo>
                <a:lnTo>
                  <a:pt x="26053" y="0"/>
                </a:lnTo>
                <a:lnTo>
                  <a:pt x="24653" y="1400"/>
                </a:lnTo>
                <a:lnTo>
                  <a:pt x="1400" y="1400"/>
                </a:lnTo>
                <a:close/>
              </a:path>
              <a:path fill="darken" w="26053" h="21600">
                <a:moveTo>
                  <a:pt x="26053" y="0"/>
                </a:moveTo>
                <a:lnTo>
                  <a:pt x="26053" y="21600"/>
                </a:lnTo>
                <a:lnTo>
                  <a:pt x="24653" y="20200"/>
                </a:lnTo>
                <a:lnTo>
                  <a:pt x="24653" y="1400"/>
                </a:lnTo>
                <a:close/>
              </a:path>
              <a:path fill="darkenLess" w="26053" h="21600">
                <a:moveTo>
                  <a:pt x="26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3" y="20200"/>
                </a:lnTo>
                <a:close/>
              </a:path>
              <a:path fill="lighten" w="26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3" h="21600">
                <a:moveTo>
                  <a:pt x="13026" y="3837"/>
                </a:moveTo>
                <a:lnTo>
                  <a:pt x="15603" y="6448"/>
                </a:lnTo>
                <a:lnTo>
                  <a:pt x="15603" y="4707"/>
                </a:lnTo>
                <a:lnTo>
                  <a:pt x="17378" y="4707"/>
                </a:lnTo>
                <a:lnTo>
                  <a:pt x="17378" y="8224"/>
                </a:lnTo>
                <a:lnTo>
                  <a:pt x="19989" y="10800"/>
                </a:lnTo>
                <a:lnTo>
                  <a:pt x="18336" y="10800"/>
                </a:lnTo>
                <a:lnTo>
                  <a:pt x="18336" y="17989"/>
                </a:lnTo>
                <a:lnTo>
                  <a:pt x="7717" y="17989"/>
                </a:lnTo>
                <a:lnTo>
                  <a:pt x="7717" y="10800"/>
                </a:lnTo>
                <a:lnTo>
                  <a:pt x="6063" y="10800"/>
                </a:lnTo>
                <a:close/>
              </a:path>
              <a:path fill="darkenLess" w="26053" h="21600">
                <a:moveTo>
                  <a:pt x="15603" y="6448"/>
                </a:moveTo>
                <a:lnTo>
                  <a:pt x="15603" y="4707"/>
                </a:lnTo>
                <a:lnTo>
                  <a:pt x="17378" y="4707"/>
                </a:lnTo>
                <a:lnTo>
                  <a:pt x="17378" y="8224"/>
                </a:lnTo>
                <a:close/>
              </a:path>
              <a:path fill="darkenLess" w="26053" h="21600">
                <a:moveTo>
                  <a:pt x="12104" y="14299"/>
                </a:moveTo>
                <a:lnTo>
                  <a:pt x="13949" y="14299"/>
                </a:lnTo>
                <a:lnTo>
                  <a:pt x="13949" y="17989"/>
                </a:lnTo>
                <a:lnTo>
                  <a:pt x="18336" y="17989"/>
                </a:lnTo>
                <a:lnTo>
                  <a:pt x="18336" y="10800"/>
                </a:lnTo>
                <a:lnTo>
                  <a:pt x="7717" y="10800"/>
                </a:lnTo>
                <a:lnTo>
                  <a:pt x="7717" y="17989"/>
                </a:lnTo>
                <a:lnTo>
                  <a:pt x="12104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657600" cy="2595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3657600" cy="2659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952880" y="4191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豆类及豆制品含丰富的蛋白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858000" cy="1981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第</a:t>
            </a: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节 生命活动的主要承担者——蛋白质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1:52:54Z</dcterms:created>
  <dc:creator>cmn</dc:creator>
  <dc:description/>
  <dc:language>en-US</dc:language>
  <cp:lastModifiedBy>lenovo</cp:lastModifiedBy>
  <dcterms:modified xsi:type="dcterms:W3CDTF">2006-09-08T06:21:32Z</dcterms:modified>
  <cp:revision>92</cp:revision>
  <dc:subject/>
  <dc:title>第2节 生命活动的主要承担者——蛋白质</dc:title>
</cp:coreProperties>
</file>