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move the slide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3DFF-FB2F-403A-8581-86AEF53D3BC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C476-E25F-4CC7-AD90-C4E353D6A5F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FDED-16DD-4D11-A89E-FB6EF57FF96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2CC8-ECEC-4DB6-8D2A-F0509978B83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9AB2-A69D-4AC4-88B4-78E4A226103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81FD-8F35-475E-9047-35FB7BB3192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A79E-B74F-410D-A044-F9A275FB13B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930F-216C-487E-B4B7-344CE0F2580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B6CA-AA82-4282-A9A9-49B587D529F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388B-856B-4E43-B30F-0AEA6C825FA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9F2A-8255-49E1-BADE-E3B1F7C36DF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E3F1-CAF5-41CC-AF6D-2602B629EC9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4366-4CF1-4B6C-BFED-9AB79BC3C25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3598-7CEA-41B1-8B22-F79BC260084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6B44-25D4-47C5-9369-157C607C614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1D96-9B55-419D-A80F-D652DBF1303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E733-C25A-4A10-97E7-08D8E9B2F69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B4DE-17E5-4D39-901D-914E96376A8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8B3F-50EC-44A2-AEA2-41A0815AF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DB89-36C7-4416-8520-9AC6F6CC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2436E-6BFE-4C80-AE30-94446469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E026A-5693-4B1C-9226-143BCC60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DD81F-1BAD-420C-A8E6-F2EC9768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1A6FF-F485-498E-AF11-148F7DB8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5DAFF-B933-4299-A903-E1040993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D4855-C8CB-4DF7-AB98-9E828863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69D52-BFB0-4D9A-9FF2-8D7B5487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57DD0-DBE7-47DD-A955-D72965427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C7056-272A-48D1-AEAF-67D76E44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FBDA9-2EE6-49D1-81FD-5C6F9ED2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72C9-2C4B-4077-AB6B-E019D918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4FDD5-C2FA-4186-99DD-11B75EF9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A3E88-D39D-412D-BFF6-41A7C570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7183F4-8251-4F6E-A03A-969F7CA9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BDAEF-2172-4658-918C-EA7D8C57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CF235-3776-406F-AA85-FDCE616B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EB7B7-F128-4479-B99E-8B84682D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AC767-7D79-4680-B47C-92479489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95AB5-5D11-4FF2-AFB8-6B97AABB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1BFBC-3788-4668-981C-ADF9B1A3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55370-FA74-48AD-A187-CAF0EE886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17B3-25D3-4C82-B4F8-93980B246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6901C-DB26-45ED-9D81-736B8362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6906C-4B1B-4E64-8021-873E5576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42C01-70FF-4B79-B8A9-292F0B8F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61BE3-71B9-42E3-B1A6-80076743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5290C-D501-4728-9D4C-32F0DDD5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20F05-B35C-4D0A-8EDF-71EB9390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935FA-E1BA-4E0B-9870-B6CD84E0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2B2AF-25A8-4E34-9E5D-CB36C9C0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F7331-0BE3-4178-9A68-AA6F130A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B7B3C-03CD-46AD-BBFE-722418B9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3FA6-42A0-46B0-B78F-A1454F9A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99A05-C836-4183-A3A8-BE5DB320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69A7F-FB9D-44C4-B7D0-88FA7DC7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9C439-92D7-475C-A13B-97DEF4A1A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28C36-CCEE-4F2D-B143-AB008565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AAFDE-7BE8-4DEB-959A-9C50DBDF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4C42B-EACD-49B6-A771-DA0CEFFC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4CA0FC-4D20-4D8D-8E9C-D737E817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73860-70F9-4E41-8679-A707C7E7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B2165-BAEF-428A-B890-FD8F6CF1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4B658-BCA4-4DC5-A975-94ECDDC4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9D1D-6CF1-4436-A71B-4EA73FD8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3EA49-EC64-4DCF-9639-A9505EAB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4A9467-48E2-410F-9534-0504A127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6D0CA9-8DA1-4BA9-9EF3-1A67AB05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77DB0F-C260-41CE-9844-FBC9081C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EC191E-D122-4F7F-9625-686AF4FB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1664-8B6E-4028-8E7B-7AB5A1BF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5CE0-FC93-4C5C-9E99-9637AD5E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1190-336E-4DA2-956B-2896533A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88EA-8208-45C1-9986-CDF7758D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CB35-7FC9-4040-87E7-FC59D9D5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4E72-FFC3-40CA-BA37-D1253DBE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D271-27DF-46C4-AF14-CC51CB78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5B4E-DFB9-4DF3-B56A-71BDBAD7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AB53-257E-438A-9817-82175F6F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C0DF-AC3A-4DF1-BEB1-0444E2F3D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36E6-DA72-4A26-B69B-624B87A7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D29F4-4E63-4933-8FCE-725315F6F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CDD5B-D650-4DE1-B2E6-D13E27B4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32B89-F19E-4227-BF2F-683654DC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DA318-238F-413A-94B7-9C40EEA6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0F27A-C257-4808-8804-91298F82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35B1-1A32-4F7D-BAD2-99D853CB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81D6B-4E84-4B64-90C2-C015A427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9B3CC-C68D-470B-900C-C7370ABC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5562A-8516-43E7-AE32-830EBD5D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C6A62-8678-46AC-BAF1-F7809C41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CE34D-7221-4EE1-8694-296FAF03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031DE-2AAA-4FDC-A5D9-3DAF01A3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618B4-ED2D-4D00-8D9A-07418D74B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01A95-B14F-4A97-BB44-C30B27E9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F0C3E-2453-46FA-897F-ABBE95A0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85E85-156C-4A90-8F24-4D1CFBDD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796F-8E70-4AE9-845F-5CD63DF9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7674F-6803-4612-A4E2-9D20C959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F34DE-99D5-424E-842E-76BA9338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054F9-B6AD-4F33-A005-BF7114AA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95FB1-486E-4B74-AA23-9FAE86D7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554C7-3D76-4CD2-BECA-23DD2634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F999F-78B2-4E53-B1C1-BD808551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09A97-A00C-47F4-B3BB-2272AA9F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A58D6-B87A-44E6-A965-8D22E906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C6EB3-0FD8-4CAA-95A3-31D32FB90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78910-A0D6-4A05-9CF4-4FC27964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C61C-B6F4-4805-82D2-C9434DA3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E62FE-0519-44E9-AD98-2BAFB0DB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28CC0-D5E0-4BB8-80AE-AC9144C1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C7924-40A0-42AA-B40B-546DE74F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073A0-B1E9-4588-B437-DD15E366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3C50F-9C15-41E0-BAB0-46AEA970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1DF89-CDD3-43A2-BB40-4F544240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C8698-0B9A-4267-BDEC-5444C9FB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45172-F42B-4DAA-BCA5-C374B57F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CCDE6-5CFC-491D-BADE-3EE53B85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CD2AF-04BD-4981-BA86-158167101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4226-C18D-4EBD-8C16-8E856652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82EAD-B189-4F0A-ACED-B6DAB0073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4838E-5A6D-4CD2-AC1B-5B369512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3B25E-14CA-4C0A-A00C-25EEF117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6187F-9582-4393-B6D2-E87536F2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344A0-9824-4BC7-ABCD-02EC35B5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D56CD-A693-495F-8BE4-765BB9C7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E1641-8B1F-4277-8BDE-9DE3FCE1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6644B-626A-4268-9335-558F7784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8BEE9-C2D1-488D-B3E1-0D37035E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39A2E-F9D7-4DDD-8CE6-FA905677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5A30-EDC7-4B68-8F5A-13A570B7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56A2E-F864-41BB-A10A-5598C0B0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F3CB2-2FBB-4C6D-A2D1-0C902507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BE327-B0F9-4F69-A72D-56DEB8B3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BDBDA-A918-4412-A570-3A6A8559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5789E-AB88-4754-ADEA-3D7D0D2E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FD18E-8A81-4B91-BBE0-73CC6255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4D50A-841B-4E5A-8DA6-79A564ED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0592B-8B06-4B4A-B5E3-CBCC0ADF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50665-6CBC-45AE-8217-F45AFB79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5AE79-399F-46F0-8E5B-29AD6C79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E83A-F012-4ACE-A778-9F3E896A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5A118-C9CF-4E70-A7F5-DBF8C8B3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CACBA-D20D-4815-975E-25CB55E5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9B53B-19D0-4B24-9E50-3C05F7E1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86EC9-D86B-4ABB-AF17-96C998679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5F5A7-4B0C-492E-AFF7-CADDABC67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3DA59-F9AB-495B-8174-7EA3F99B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ADBC9-D01B-47B6-890E-AEFF9CC4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05401-8910-483D-BF01-C9B6BA33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0A3CD-39DD-4A81-9508-73FA656D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3E9F4-A99A-4D3D-94F9-65F8F90F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A5A4-C2F5-44C6-A463-5DC780F0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8D1A4-5BEA-4F91-BC98-E4B1DD34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295F7-5179-4D38-895C-BCE6FF56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BCFBB-621E-48DF-885E-AA9AEEDE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6C115-B828-44DC-A46C-6AF25639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535B4-446A-4593-8970-57981183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B0FFD-0F1B-4CF7-8DA4-0F8772F24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C5D97-E187-4063-B83D-46F01F6EB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15A5D-B5F5-43A8-940F-147DEA47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D7E51-F3FC-46D5-B902-C47A9E53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E86EF-5DCD-45EB-8562-3A79BEF8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3281-FE65-41FB-8F0A-BB5F0877A517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9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1f0ff"/>
                </a:solidFill>
                <a:latin typeface="Arial"/>
              </a:endParaRPr>
            </a:p>
          </p:txBody>
        </p:sp>
      </p:grpSp>
      <p:pic>
        <p:nvPicPr>
          <p:cNvPr id="39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0912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286000" y="6492960"/>
            <a:ext cx="264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58880" y="5859000"/>
            <a:ext cx="435960" cy="282240"/>
          </a:xfrm>
          <a:prstGeom prst="rect">
            <a:avLst/>
          </a:prstGeom>
          <a:noFill/>
          <a:ln w="25560">
            <a:solidFill>
              <a:srgbClr val="50742f"/>
            </a:solidFill>
            <a:miter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F4F3-3C08-48ED-8A54-BA9CF93BE52A}" type="slidenum">
              <a:rPr b="0" lang="zh-CN" sz="1200" spc="-1" strike="noStrike">
                <a:solidFill>
                  <a:srgbClr val="ffffff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44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1f0ff"/>
                </a:solidFill>
                <a:latin typeface="Arial"/>
              </a:endParaRPr>
            </a:p>
          </p:txBody>
        </p:sp>
      </p:grpSp>
      <p:pic>
        <p:nvPicPr>
          <p:cNvPr id="44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558B-FB5C-4CC1-960B-E82012B092FD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48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1f0ff"/>
                </a:solidFill>
                <a:latin typeface="Arial"/>
              </a:endParaRPr>
            </a:p>
          </p:txBody>
        </p:sp>
      </p:grpSp>
      <p:pic>
        <p:nvPicPr>
          <p:cNvPr id="48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A746-3FA8-465B-904A-30E95D322CF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3"/>
          <a:stretch/>
        </p:blipFill>
        <p:spPr>
          <a:xfrm>
            <a:off x="-6480" y="5205240"/>
            <a:ext cx="1481400" cy="1659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6928-7FAF-4C6B-94F3-BE8879FED664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84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1f0ff"/>
                </a:solidFill>
                <a:latin typeface="Arial"/>
              </a:endParaRPr>
            </a:p>
          </p:txBody>
        </p:sp>
      </p:grpSp>
      <p:pic>
        <p:nvPicPr>
          <p:cNvPr id="86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376B-5D28-46AE-88D1-620A3D19F50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6" descr=""/>
          <p:cNvPicPr/>
          <p:nvPr/>
        </p:nvPicPr>
        <p:blipFill>
          <a:blip r:embed="rId3"/>
          <a:stretch/>
        </p:blipFill>
        <p:spPr>
          <a:xfrm>
            <a:off x="7473960" y="-6480"/>
            <a:ext cx="1676520" cy="2371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A33D-6D3C-4997-BFC3-F939C00D28E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矩形 6"/>
          <p:cNvGrpSpPr/>
          <p:nvPr/>
        </p:nvGrpSpPr>
        <p:grpSpPr>
          <a:xfrm>
            <a:off x="-6480" y="-6480"/>
            <a:ext cx="665280" cy="6870960"/>
            <a:chOff x="-6480" y="-6480"/>
            <a:chExt cx="665280" cy="6870960"/>
          </a:xfrm>
        </p:grpSpPr>
        <p:pic>
          <p:nvPicPr>
            <p:cNvPr id="17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652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0" y="0"/>
              <a:ext cx="6555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1f0ff"/>
                </a:solidFill>
                <a:latin typeface="Arial"/>
              </a:endParaRPr>
            </a:p>
          </p:txBody>
        </p:sp>
      </p:grpSp>
      <p:pic>
        <p:nvPicPr>
          <p:cNvPr id="17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8F85-1B88-4B3C-ACC5-66897FB5D867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矩形 6"/>
          <p:cNvGrpSpPr/>
          <p:nvPr/>
        </p:nvGrpSpPr>
        <p:grpSpPr>
          <a:xfrm>
            <a:off x="-6480" y="-6480"/>
            <a:ext cx="652680" cy="6870960"/>
            <a:chOff x="-6480" y="-6480"/>
            <a:chExt cx="652680" cy="6870960"/>
          </a:xfrm>
        </p:grpSpPr>
        <p:pic>
          <p:nvPicPr>
            <p:cNvPr id="21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52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6415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1f0ff"/>
                </a:solidFill>
                <a:latin typeface="Arial"/>
              </a:endParaRPr>
            </a:p>
          </p:txBody>
        </p:sp>
      </p:grpSp>
      <p:pic>
        <p:nvPicPr>
          <p:cNvPr id="21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0F38-834F-47E4-9B3E-2840CB16854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26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1f0ff"/>
                </a:solidFill>
                <a:latin typeface="Arial"/>
              </a:endParaRPr>
            </a:p>
          </p:txBody>
        </p:sp>
      </p:grpSp>
      <p:pic>
        <p:nvPicPr>
          <p:cNvPr id="26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0AF2-05A9-4A2B-B699-77AF7431C850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0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1f0ff"/>
                </a:solidFill>
                <a:latin typeface="Arial"/>
              </a:endParaRPr>
            </a:p>
          </p:txBody>
        </p:sp>
      </p:grpSp>
      <p:pic>
        <p:nvPicPr>
          <p:cNvPr id="30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6932-B4B5-412E-BB28-3B4C2E2E4A7E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5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0" y="0"/>
              <a:ext cx="6732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1f0ff"/>
                </a:solidFill>
                <a:latin typeface="Arial"/>
              </a:endParaRPr>
            </a:p>
          </p:txBody>
        </p:sp>
      </p:grpSp>
      <p:pic>
        <p:nvPicPr>
          <p:cNvPr id="35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3AB9-3185-47F0-B999-9CF1C01D282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2"/>
          <p:cNvSpPr/>
          <p:nvPr/>
        </p:nvSpPr>
        <p:spPr>
          <a:xfrm>
            <a:off x="1042920" y="1413000"/>
            <a:ext cx="7561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1f0ff"/>
                </a:solidFill>
                <a:latin typeface="Arial Narrow"/>
              </a:rPr>
              <a:t>高二年级     英语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1f0ff"/>
                </a:solidFill>
                <a:latin typeface="Arial Narrow"/>
              </a:rPr>
              <a:t>Language Points, Unit3, Module5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2"/>
          <p:cNvSpPr/>
          <p:nvPr/>
        </p:nvSpPr>
        <p:spPr>
          <a:xfrm>
            <a:off x="539640" y="2935440"/>
            <a:ext cx="82090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Dr. King gives his patients lots a advice, but at the same time, he smokes and drinks a great deal.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539640" y="404640"/>
            <a:ext cx="840924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Narrow"/>
              </a:rPr>
              <a:t>Mr. Smith is a very strict teacher at school. But he is very gentle to his son.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Arial Narrow"/>
              </a:rPr>
              <a:t>On the one hand,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Mr. Smith is a very strict teacher at school.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5050"/>
                </a:solidFill>
                <a:latin typeface="Arial Narrow"/>
              </a:rPr>
              <a:t>On the other hand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he is very gentle to his son.    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539640" y="4497480"/>
            <a:ext cx="82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On one hand,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Dr. King gives his patients lots a advice.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On the other hand,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he smokes and drinks a great deal.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179280" y="360360"/>
            <a:ext cx="89647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3. point out     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指出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①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He points out my shortcoming.         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en-US" sz="3600" spc="-1" strike="noStrike">
                <a:solidFill>
                  <a:srgbClr val="66ffff"/>
                </a:solidFill>
                <a:latin typeface="Arial Narrow"/>
                <a:ea typeface="宋体"/>
              </a:rPr>
              <a:t>②  </a:t>
            </a:r>
            <a:r>
              <a:rPr b="1" lang="en-US" sz="3600" spc="-1" strike="noStrike">
                <a:solidFill>
                  <a:srgbClr val="66ffff"/>
                </a:solidFill>
                <a:latin typeface="Arial Narrow"/>
                <a:ea typeface="宋体"/>
              </a:rPr>
              <a:t>point at = point to </a:t>
            </a:r>
            <a:r>
              <a:rPr b="1" lang="zh-CN" sz="3600" spc="-1" strike="noStrike">
                <a:solidFill>
                  <a:srgbClr val="66ffff"/>
                </a:solidFill>
                <a:latin typeface="Arial Narrow"/>
                <a:ea typeface="宋体"/>
              </a:rPr>
              <a:t>指着，指向某人</a:t>
            </a:r>
            <a:r>
              <a:rPr b="1" lang="en-US" sz="3600" spc="-1" strike="noStrike">
                <a:solidFill>
                  <a:srgbClr val="66ffff"/>
                </a:solidFill>
                <a:latin typeface="Arial Narrow"/>
                <a:ea typeface="宋体"/>
              </a:rPr>
              <a:t>/ </a:t>
            </a:r>
            <a:r>
              <a:rPr b="1" lang="zh-CN" sz="3600" spc="-1" strike="noStrike">
                <a:solidFill>
                  <a:srgbClr val="66ffff"/>
                </a:solidFill>
                <a:latin typeface="Arial Narrow"/>
                <a:ea typeface="宋体"/>
              </a:rPr>
              <a:t>某物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③  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point at 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对准，瞄准（用枪等对准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…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She is pointing at the target.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Arial Narrow"/>
                <a:ea typeface="宋体"/>
              </a:rPr>
              <a:t>    ④  </a:t>
            </a:r>
            <a:r>
              <a:rPr b="1" lang="en-US" sz="3600" spc="-1" strike="noStrike">
                <a:solidFill>
                  <a:srgbClr val="66ffff"/>
                </a:solidFill>
                <a:latin typeface="Arial Narrow"/>
                <a:ea typeface="宋体"/>
              </a:rPr>
              <a:t>point to </a:t>
            </a:r>
            <a:r>
              <a:rPr b="1" lang="zh-CN" sz="3600" spc="-1" strike="noStrike">
                <a:solidFill>
                  <a:srgbClr val="66ffff"/>
                </a:solidFill>
                <a:latin typeface="Arial Narrow"/>
                <a:ea typeface="宋体"/>
              </a:rPr>
              <a:t>表明，暗示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The evidence points to him as the criminal.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          </a:t>
            </a:r>
            <a:r>
              <a:rPr b="1" lang="zh-CN" sz="3600" spc="-1" strike="noStrike">
                <a:solidFill>
                  <a:srgbClr val="66ffff"/>
                </a:solidFill>
                <a:latin typeface="Arial Narrow"/>
                <a:ea typeface="宋体"/>
              </a:rPr>
              <a:t>所有的事实都说明同样的结论。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All the facts point to the same conclusion.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</p:txBody>
      </p:sp>
      <p:pic>
        <p:nvPicPr>
          <p:cNvPr id="590" name="Picture 3" descr="20070330104038877"/>
          <p:cNvPicPr/>
          <p:nvPr/>
        </p:nvPicPr>
        <p:blipFill>
          <a:blip r:embed="rId1"/>
          <a:stretch/>
        </p:blipFill>
        <p:spPr>
          <a:xfrm>
            <a:off x="684360" y="333360"/>
            <a:ext cx="8208720" cy="61578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4" descr="IMAG1205307958080797"/>
          <p:cNvPicPr/>
          <p:nvPr/>
        </p:nvPicPr>
        <p:blipFill>
          <a:blip r:embed="rId2"/>
          <a:stretch/>
        </p:blipFill>
        <p:spPr>
          <a:xfrm>
            <a:off x="468360" y="476280"/>
            <a:ext cx="755964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2"/>
          <p:cNvSpPr/>
          <p:nvPr/>
        </p:nvSpPr>
        <p:spPr>
          <a:xfrm>
            <a:off x="395280" y="946080"/>
            <a:ext cx="8424720" cy="55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4. fear </a:t>
            </a:r>
            <a:r>
              <a:rPr b="1" i="1" lang="en-US" sz="3600" spc="-1" strike="noStrike">
                <a:solidFill>
                  <a:srgbClr val="ff0000"/>
                </a:solidFill>
                <a:latin typeface="Arial Narrow"/>
              </a:rPr>
              <a:t>vt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. = be afraid of / that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fear sth     </a:t>
            </a:r>
            <a:r>
              <a:rPr b="1" lang="zh-CN" sz="2800" spc="-1" strike="noStrike">
                <a:solidFill>
                  <a:srgbClr val="ffffff"/>
                </a:solidFill>
                <a:latin typeface="Arial Narrow"/>
              </a:rPr>
              <a:t>害怕某物</a:t>
            </a:r>
            <a:endParaRPr b="1" lang="en-US" sz="28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Arial Narrow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Arial Narrow"/>
              </a:rPr>
              <a:t>fear to do sth  </a:t>
            </a:r>
            <a:r>
              <a:rPr b="1" lang="zh-CN" sz="3200" spc="-1" strike="noStrike">
                <a:solidFill>
                  <a:srgbClr val="0000ff"/>
                </a:solidFill>
                <a:latin typeface="Arial Narrow"/>
              </a:rPr>
              <a:t>害怕做某事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fear that… </a:t>
            </a:r>
            <a:r>
              <a:rPr b="1" lang="zh-CN" sz="2800" spc="-1" strike="noStrike">
                <a:solidFill>
                  <a:srgbClr val="ffffff"/>
                </a:solidFill>
                <a:latin typeface="Arial Narrow"/>
              </a:rPr>
              <a:t>害怕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Arial Narrow"/>
              </a:rPr>
              <a:t>恐怕</a:t>
            </a:r>
            <a:endParaRPr b="1" lang="en-US" sz="28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3600" spc="-1" strike="noStrike">
                <a:solidFill>
                  <a:srgbClr val="0000ff"/>
                </a:solidFill>
                <a:latin typeface="Arial Narrow"/>
              </a:rPr>
              <a:t>1) Are you afraid of cockroaches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Arial Narrow"/>
              </a:rPr>
              <a:t>蟑螂</a:t>
            </a: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)?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2) They had broken the classroom window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and feared to see their teacher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Arial Narrow"/>
              </a:rPr>
              <a:t>3) I fear that they are going to lose the game</a:t>
            </a:r>
            <a:r>
              <a:rPr b="1" lang="en-US" sz="3600" spc="-1" strike="noStrike">
                <a:solidFill>
                  <a:srgbClr val="66ffff"/>
                </a:solidFill>
                <a:latin typeface="Arial Narrow"/>
              </a:rPr>
              <a:t>.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Rectangle 2" descr=""/>
          <p:cNvPicPr/>
          <p:nvPr/>
        </p:nvPicPr>
        <p:blipFill>
          <a:blip r:embed="rId1"/>
          <a:stretch/>
        </p:blipFill>
        <p:spPr>
          <a:xfrm>
            <a:off x="42840" y="920880"/>
            <a:ext cx="8515440" cy="93168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 txBox="1"/>
          <p:nvPr/>
        </p:nvSpPr>
        <p:spPr>
          <a:xfrm>
            <a:off x="178920" y="1744200"/>
            <a:ext cx="871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宋体"/>
              </a:rPr>
              <a:t>1) His eyes are wide 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宋体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宋体"/>
              </a:rPr>
              <a:t>open because 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宋体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宋体"/>
              </a:rPr>
              <a:t>he’s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宋体"/>
              </a:rPr>
              <a:t>in fear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Narrow"/>
                <a:ea typeface="宋体"/>
              </a:rPr>
              <a:t>2) The baby stares 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Narrow"/>
                <a:ea typeface="宋体"/>
              </a:rPr>
              <a:t>     </a:t>
            </a:r>
            <a:r>
              <a:rPr b="1" lang="en-US" sz="3600" spc="-1" strike="noStrike">
                <a:solidFill>
                  <a:srgbClr val="0000ff"/>
                </a:solidFill>
                <a:latin typeface="Arial Narrow"/>
                <a:ea typeface="宋体"/>
              </a:rPr>
              <a:t>at the shower 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Narrow"/>
                <a:ea typeface="宋体"/>
              </a:rPr>
              <a:t>     </a:t>
            </a:r>
            <a:r>
              <a:rPr b="1" lang="en-US" sz="3600" spc="-1" strike="noStrike">
                <a:solidFill>
                  <a:srgbClr val="0000ff"/>
                </a:solidFill>
                <a:latin typeface="Arial Narrow"/>
                <a:ea typeface="宋体"/>
              </a:rPr>
              <a:t>nozzle (</a:t>
            </a:r>
            <a:r>
              <a:rPr b="1" lang="zh-CN" sz="2800" spc="-1" strike="noStrike">
                <a:solidFill>
                  <a:srgbClr val="0000ff"/>
                </a:solidFill>
                <a:latin typeface="Arial Narrow"/>
                <a:ea typeface="宋体"/>
              </a:rPr>
              <a:t>莲蓬头</a:t>
            </a:r>
            <a:r>
              <a:rPr b="1" lang="en-US" sz="3600" spc="-1" strike="noStrike">
                <a:solidFill>
                  <a:srgbClr val="0000ff"/>
                </a:solidFill>
                <a:latin typeface="Arial Narrow"/>
                <a:ea typeface="宋体"/>
              </a:rPr>
              <a:t>)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  <a:ea typeface="宋体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宋体"/>
              </a:rPr>
              <a:t>in fear. 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</p:txBody>
      </p:sp>
      <p:pic>
        <p:nvPicPr>
          <p:cNvPr id="595" name="Picture 4" descr="1213790008"/>
          <p:cNvPicPr/>
          <p:nvPr/>
        </p:nvPicPr>
        <p:blipFill>
          <a:blip r:embed="rId2"/>
          <a:stretch/>
        </p:blipFill>
        <p:spPr>
          <a:xfrm>
            <a:off x="4321080" y="3432240"/>
            <a:ext cx="4643640" cy="31161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5" descr="04"/>
          <p:cNvPicPr/>
          <p:nvPr/>
        </p:nvPicPr>
        <p:blipFill>
          <a:blip r:embed="rId3"/>
          <a:stretch/>
        </p:blipFill>
        <p:spPr>
          <a:xfrm>
            <a:off x="4356000" y="404640"/>
            <a:ext cx="46306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7" name=""/>
          <p:cNvGraphicFramePr/>
          <p:nvPr/>
        </p:nvGraphicFramePr>
        <p:xfrm>
          <a:off x="395280" y="765000"/>
          <a:ext cx="8569440" cy="250524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25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. </a:t>
                      </a:r>
                      <a:r>
                        <a:rPr b="1" lang="en-US" sz="3600" spc="-1" strike="noStrike">
                          <a:solidFill>
                            <a:srgbClr val="000099"/>
                          </a:solidFill>
                          <a:latin typeface="FrysBaskerville BT"/>
                        </a:rPr>
                        <a:t>…</a:t>
                      </a:r>
                      <a:r>
                        <a:rPr b="1" lang="en-US" sz="3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they may be on their way to </a:t>
                      </a:r>
                      <a:endParaRPr b="1" lang="en-US" sz="36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3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oducing a real life Frankenstein</a:t>
                      </a:r>
                      <a:r>
                        <a:rPr b="1" lang="en-US" sz="3600" spc="-1" strike="noStrike">
                          <a:solidFill>
                            <a:srgbClr val="000099"/>
                          </a:solidFill>
                          <a:latin typeface="FrysBaskerville BT"/>
                        </a:rPr>
                        <a:t>’</a:t>
                      </a:r>
                      <a:r>
                        <a:rPr b="1" lang="en-US" sz="3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 </a:t>
                      </a:r>
                      <a:endParaRPr b="1" lang="en-US" sz="36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3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onster.</a:t>
                      </a:r>
                      <a:r>
                        <a:rPr b="1" lang="zh-CN" sz="3600" spc="-1" strike="noStrike">
                          <a:solidFill>
                            <a:srgbClr val="ff0066"/>
                          </a:solidFill>
                          <a:latin typeface="Arial Narrow"/>
                        </a:rPr>
                        <a:t>（</a:t>
                      </a: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Arial Narrow"/>
                        </a:rPr>
                        <a:t>line 7</a:t>
                      </a:r>
                      <a:r>
                        <a:rPr b="1" lang="zh-CN" sz="3600" spc="-1" strike="noStrike">
                          <a:solidFill>
                            <a:srgbClr val="ff0066"/>
                          </a:solidFill>
                          <a:latin typeface="Arial Narrow"/>
                        </a:rPr>
                        <a:t>）</a:t>
                      </a:r>
                      <a:endParaRPr b="1" lang="en-US" sz="36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8" name=""/>
          <p:cNvGraphicFramePr/>
          <p:nvPr/>
        </p:nvGraphicFramePr>
        <p:xfrm>
          <a:off x="901800" y="2662200"/>
          <a:ext cx="7702560" cy="3054240"/>
        </p:xfrm>
        <a:graphic>
          <a:graphicData uri="http://schemas.openxmlformats.org/drawingml/2006/table">
            <a:tbl>
              <a:tblPr/>
              <a:tblGrid>
                <a:gridCol w="7702560"/>
              </a:tblGrid>
              <a:tr h="306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n one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FrysBaskerville BT"/>
                        </a:rPr>
                        <a:t>’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 (the) way to doing sth.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FrysBaskerville BT"/>
                        </a:rPr>
                        <a:t>“</a:t>
                      </a: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正在做某事的过程中</a:t>
                      </a: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FrysBaskerville BT"/>
                        </a:rPr>
                        <a:t>”</a:t>
                      </a: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.  to</a:t>
                      </a: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是介词，</a:t>
                      </a:r>
                      <a:endParaRPr b="1" lang="en-US" sz="36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后接名词、代词或动名词短语</a:t>
                      </a: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. </a:t>
                      </a:r>
                      <a:endParaRPr b="1" lang="en-US" sz="36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ir team is on the way to winning the championship.</a:t>
                      </a:r>
                      <a:endParaRPr b="1" lang="en-US" sz="36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9" name=""/>
          <p:cNvGraphicFramePr/>
          <p:nvPr/>
        </p:nvGraphicFramePr>
        <p:xfrm>
          <a:off x="0" y="1081080"/>
          <a:ext cx="6012000" cy="5126040"/>
        </p:xfrm>
        <a:graphic>
          <a:graphicData uri="http://schemas.openxmlformats.org/drawingml/2006/table">
            <a:tbl>
              <a:tblPr/>
              <a:tblGrid>
                <a:gridCol w="6012000"/>
              </a:tblGrid>
              <a:tr h="44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on one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FrysBaskerville BT"/>
                        </a:rPr>
                        <a:t>’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 / the way to</a:t>
                      </a:r>
                      <a:endParaRPr b="1" lang="en-US" sz="32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y the way</a:t>
                      </a:r>
                      <a:endParaRPr b="1" lang="en-US" sz="32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y way of</a:t>
                      </a:r>
                      <a:endParaRPr b="1" lang="en-US" sz="32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in a way</a:t>
                      </a:r>
                      <a:endParaRPr b="1" lang="en-US" sz="32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the way</a:t>
                      </a:r>
                      <a:endParaRPr b="1" lang="en-US" sz="32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in this way</a:t>
                      </a:r>
                      <a:endParaRPr b="1" lang="en-US" sz="32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0" name="Text Box 9"/>
          <p:cNvSpPr/>
          <p:nvPr/>
        </p:nvSpPr>
        <p:spPr>
          <a:xfrm>
            <a:off x="4788000" y="981000"/>
            <a:ext cx="4176720" cy="44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 Narrow"/>
              </a:rPr>
              <a:t>在去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…</a:t>
            </a:r>
            <a:r>
              <a:rPr b="1" lang="zh-CN" sz="2800" spc="-1" strike="noStrike">
                <a:solidFill>
                  <a:srgbClr val="0000ff"/>
                </a:solidFill>
                <a:latin typeface="Arial Narrow"/>
              </a:rPr>
              <a:t>的途中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1" lang="en-US" sz="28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Narrow"/>
              </a:rPr>
              <a:t>顺便问问，顺便说说</a:t>
            </a:r>
            <a:endParaRPr b="1" lang="en-US" sz="28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 Narrow"/>
              </a:rPr>
              <a:t>途经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Narrow"/>
              </a:rPr>
              <a:t>在某种意义上</a:t>
            </a:r>
            <a:endParaRPr b="1" lang="en-US" sz="28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 Narrow"/>
              </a:rPr>
              <a:t>挡路</a:t>
            </a:r>
            <a:r>
              <a:rPr b="1" lang="zh-CN" sz="2800" spc="-1" strike="noStrike">
                <a:solidFill>
                  <a:srgbClr val="66ffff"/>
                </a:solidFill>
                <a:latin typeface="Arial Narrow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    </a:t>
            </a:r>
            <a:endParaRPr b="1" lang="en-US" sz="28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Narrow"/>
              </a:rPr>
              <a:t>用这种方式 </a:t>
            </a:r>
            <a:endParaRPr b="1" lang="en-US" sz="28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2"/>
          <p:cNvSpPr/>
          <p:nvPr/>
        </p:nvSpPr>
        <p:spPr>
          <a:xfrm>
            <a:off x="900000" y="1844640"/>
            <a:ext cx="7345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4. The first mammal to be cloned successfully from an adult cell was Dolly the sheep.  (L8)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1332000" y="1916280"/>
            <a:ext cx="52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 Narrow"/>
              </a:rPr>
              <a:t>_______________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7164360" y="260496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 Narrow"/>
              </a:rPr>
              <a:t>___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900000" y="3357720"/>
            <a:ext cx="52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 Narrow"/>
              </a:rPr>
              <a:t>____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4932360" y="191628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 Narrow"/>
              </a:rPr>
              <a:t>___________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06" name="Text Box 7"/>
          <p:cNvSpPr/>
          <p:nvPr/>
        </p:nvSpPr>
        <p:spPr>
          <a:xfrm>
            <a:off x="900000" y="2604960"/>
            <a:ext cx="63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 Narrow"/>
              </a:rPr>
              <a:t>__________________________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07" name="Text Box 8"/>
          <p:cNvSpPr/>
          <p:nvPr/>
        </p:nvSpPr>
        <p:spPr>
          <a:xfrm>
            <a:off x="1979640" y="3357720"/>
            <a:ext cx="52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 Narrow"/>
              </a:rPr>
              <a:t>_________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180720" y="864720"/>
            <a:ext cx="878364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Narrow"/>
                <a:ea typeface="宋体"/>
              </a:rPr>
              <a:t>6.</a:t>
            </a:r>
            <a:r>
              <a:rPr b="1" lang="en-US" sz="3600" spc="-1" strike="noStrike">
                <a:solidFill>
                  <a:srgbClr val="66ffff"/>
                </a:solidFill>
                <a:latin typeface="Arial Narrow"/>
                <a:ea typeface="宋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宋体"/>
              </a:rPr>
              <a:t>in general</a:t>
            </a:r>
            <a:r>
              <a:rPr b="1" lang="zh-CN" sz="3600" spc="-1" strike="noStrike">
                <a:solidFill>
                  <a:srgbClr val="0000ff"/>
                </a:solidFill>
                <a:latin typeface="Arial Narrow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 Narrow"/>
                <a:ea typeface="宋体"/>
              </a:rPr>
              <a:t>line12</a:t>
            </a:r>
            <a:r>
              <a:rPr b="1" lang="zh-CN" sz="3600" spc="-1" strike="noStrike">
                <a:solidFill>
                  <a:srgbClr val="0000ff"/>
                </a:solidFill>
                <a:latin typeface="Arial Narrow"/>
                <a:ea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 Narrow"/>
                <a:ea typeface="宋体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Arial Narrow"/>
                <a:ea typeface="宋体"/>
              </a:rPr>
              <a:t>usually, in most situation, generally speaking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Arial Narrow"/>
                <a:ea typeface="宋体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宋体"/>
              </a:rPr>
              <a:t>1)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Narrow"/>
                <a:ea typeface="宋体"/>
              </a:rPr>
              <a:t>In general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宋体"/>
              </a:rPr>
              <a:t>, the metallic (</a:t>
            </a:r>
            <a:r>
              <a:rPr b="1" lang="zh-CN" sz="2800" spc="-1" strike="noStrike">
                <a:solidFill>
                  <a:srgbClr val="ffffff"/>
                </a:solidFill>
                <a:latin typeface="Arial Narrow"/>
                <a:ea typeface="宋体"/>
              </a:rPr>
              <a:t>金属色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宋体"/>
              </a:rPr>
              <a:t>) is the most  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宋体"/>
              </a:rPr>
              <a:t>       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宋体"/>
              </a:rPr>
              <a:t>popular color of this season.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Arial Narrow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 Narrow"/>
                <a:ea typeface="宋体"/>
              </a:rPr>
              <a:t>总的来说，当季最流行金属色。</a:t>
            </a:r>
            <a:endParaRPr b="0" lang="en-US" sz="28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Arial Narrow"/>
                <a:ea typeface="宋体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宋体"/>
              </a:rPr>
              <a:t>3) Pandas are very gentle and cute in general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Arial Narrow"/>
                <a:ea typeface="宋体"/>
              </a:rPr>
              <a:t>	</a:t>
            </a:r>
            <a:r>
              <a:rPr b="1" lang="en-US" sz="3600" spc="-1" strike="noStrike">
                <a:solidFill>
                  <a:srgbClr val="66ffff"/>
                </a:solidFill>
                <a:latin typeface="Arial Narrow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Arial Narrow"/>
                <a:ea typeface="宋体"/>
              </a:rPr>
              <a:t>通常来说，熊猫是非常温和可爱的。</a:t>
            </a:r>
            <a:endParaRPr b="0" lang="en-US" sz="28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324000" y="693360"/>
            <a:ext cx="88200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宋体"/>
              </a:rPr>
              <a:t>7. She was born in 1996, and died in 2003, at a 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宋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宋体"/>
              </a:rPr>
              <a:t>much younger age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  <a:ea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  <a:ea typeface="宋体"/>
              </a:rPr>
              <a:t>than normal. </a:t>
            </a:r>
            <a:r>
              <a:rPr b="1" lang="en-US" sz="3200" spc="-1" strike="noStrike">
                <a:solidFill>
                  <a:srgbClr val="0000ff"/>
                </a:solidFill>
                <a:latin typeface="Arial Narrow"/>
                <a:ea typeface="宋体"/>
              </a:rPr>
              <a:t>(Line 10)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Arial Narrow"/>
                <a:ea typeface="宋体"/>
              </a:rPr>
              <a:t>1) They discovered a kind of rice that grew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  <a:ea typeface="宋体"/>
              </a:rPr>
              <a:t>        </a:t>
            </a:r>
            <a:r>
              <a:rPr b="1" lang="en-US" sz="3200" spc="-1" strike="noStrike">
                <a:solidFill>
                  <a:srgbClr val="0000ff"/>
                </a:solidFill>
                <a:latin typeface="Arial Narrow"/>
                <a:ea typeface="宋体"/>
              </a:rPr>
              <a:t>a little higher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  <a:ea typeface="宋体"/>
              </a:rPr>
              <a:t>than normal.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宋体"/>
              </a:rPr>
              <a:t>2)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宋体"/>
              </a:rPr>
              <a:t>The boys began to work harder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  <a:ea typeface="宋体"/>
              </a:rPr>
              <a:t>than ever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宋体"/>
              </a:rPr>
              <a:t> when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宋体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宋体"/>
              </a:rPr>
              <a:t>they realized the exams were drawing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宋体"/>
              </a:rPr>
              <a:t>near.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 Narrow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Arial Narrow"/>
                <a:ea typeface="宋体"/>
              </a:rPr>
              <a:t>3) When they met again two months later, she 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  <a:ea typeface="宋体"/>
              </a:rPr>
              <a:t>        </a:t>
            </a:r>
            <a:r>
              <a:rPr b="1" lang="en-US" sz="3200" spc="-1" strike="noStrike">
                <a:solidFill>
                  <a:srgbClr val="0000ff"/>
                </a:solidFill>
                <a:latin typeface="Arial Narrow"/>
                <a:ea typeface="宋体"/>
              </a:rPr>
              <a:t>found the boy was much taller</a:t>
            </a:r>
            <a:r>
              <a:rPr b="1" lang="en-US" sz="3200" spc="-1" strike="noStrike">
                <a:solidFill>
                  <a:srgbClr val="66ffff"/>
                </a:solidFill>
                <a:latin typeface="Arial Narrow"/>
                <a:ea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  <a:ea typeface="宋体"/>
              </a:rPr>
              <a:t>than before</a:t>
            </a:r>
            <a:r>
              <a:rPr b="1" lang="en-US" sz="3200" spc="-1" strike="noStrike">
                <a:solidFill>
                  <a:srgbClr val="66ffff"/>
                </a:solidFill>
                <a:latin typeface="Arial Narrow"/>
                <a:ea typeface="宋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宋体"/>
              </a:rPr>
              <a:t>4) She had to get up much earlier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  <a:ea typeface="宋体"/>
              </a:rPr>
              <a:t>than usual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宋体"/>
              </a:rPr>
              <a:t> in 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宋体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宋体"/>
              </a:rPr>
              <a:t>order to catch the first bus.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Arial Narrow"/>
                <a:ea typeface="宋体"/>
              </a:rPr>
              <a:t>5) He finished the work earlier</a:t>
            </a:r>
            <a:r>
              <a:rPr b="1" lang="en-US" sz="3200" spc="-1" strike="noStrike">
                <a:solidFill>
                  <a:srgbClr val="66ffff"/>
                </a:solidFill>
                <a:latin typeface="Arial Narrow"/>
                <a:ea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  <a:ea typeface="宋体"/>
              </a:rPr>
              <a:t>than expected</a:t>
            </a:r>
            <a:r>
              <a:rPr b="1" lang="en-US" sz="3200" spc="-1" strike="noStrike">
                <a:solidFill>
                  <a:srgbClr val="66ffff"/>
                </a:solidFill>
                <a:latin typeface="Arial Narrow"/>
                <a:ea typeface="宋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6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6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6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6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34920" y="793800"/>
            <a:ext cx="9144000" cy="58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Narrow"/>
                <a:ea typeface="宋体"/>
              </a:rPr>
              <a:t>8. However. In general the scientists</a:t>
            </a:r>
            <a:r>
              <a:rPr b="1" lang="en-US" sz="3600" spc="-1" strike="noStrike">
                <a:solidFill>
                  <a:srgbClr val="66ffff"/>
                </a:solidFill>
                <a:latin typeface="Arial Narrow"/>
                <a:ea typeface="宋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宋体"/>
              </a:rPr>
              <a:t>were praised for</a:t>
            </a:r>
            <a:r>
              <a:rPr b="1" lang="en-US" sz="3600" spc="-1" strike="noStrike">
                <a:solidFill>
                  <a:srgbClr val="66ffff"/>
                </a:solidFill>
                <a:latin typeface="Arial Narrow"/>
                <a:ea typeface="宋体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 Narrow"/>
                <a:ea typeface="宋体"/>
              </a:rPr>
              <a:t>their wonder scientific breakthrough</a:t>
            </a:r>
            <a:r>
              <a:rPr b="1" lang="en-US" sz="3200" spc="-1" strike="noStrike">
                <a:solidFill>
                  <a:srgbClr val="0000ff"/>
                </a:solidFill>
                <a:latin typeface="Arial Narrow"/>
                <a:ea typeface="宋体"/>
              </a:rPr>
              <a:t>. </a:t>
            </a:r>
            <a:r>
              <a:rPr b="1" lang="en-US" sz="3200" spc="-1" strike="noStrike">
                <a:solidFill>
                  <a:srgbClr val="ff0066"/>
                </a:solidFill>
                <a:latin typeface="Arial Narrow"/>
                <a:ea typeface="宋体"/>
              </a:rPr>
              <a:t>(Line12)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  <a:ea typeface="宋体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宋体"/>
              </a:rPr>
              <a:t>praise sb. for (doing) sth.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Arial Narrow"/>
                <a:ea typeface="宋体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宋体"/>
              </a:rPr>
              <a:t>1) the boy, help the old man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        </a:t>
            </a:r>
            <a:r>
              <a:rPr b="1" lang="en-US" sz="3600" spc="-1" strike="noStrike">
                <a:solidFill>
                  <a:srgbClr val="0000ff"/>
                </a:solidFill>
                <a:latin typeface="Arial Narrow"/>
                <a:ea typeface="宋体"/>
              </a:rPr>
              <a:t>The boy was praised for helping the old man.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宋体"/>
              </a:rPr>
              <a:t>2) the teacher, the girl, her excellent writing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        </a:t>
            </a:r>
            <a:r>
              <a:rPr b="1" lang="en-US" sz="3600" spc="-1" strike="noStrike">
                <a:solidFill>
                  <a:srgbClr val="0000ff"/>
                </a:solidFill>
                <a:latin typeface="Arial Narrow"/>
                <a:ea typeface="宋体"/>
              </a:rPr>
              <a:t>They teacher praised the girl for her 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Narrow"/>
                <a:ea typeface="宋体"/>
              </a:rPr>
              <a:t>        </a:t>
            </a:r>
            <a:r>
              <a:rPr b="1" lang="en-US" sz="3600" spc="-1" strike="noStrike">
                <a:solidFill>
                  <a:srgbClr val="0000ff"/>
                </a:solidFill>
                <a:latin typeface="Arial Narrow"/>
                <a:ea typeface="宋体"/>
              </a:rPr>
              <a:t>excellent writing. 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-108000" y="825480"/>
            <a:ext cx="9144000" cy="32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A recent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rial Narrow"/>
              </a:rPr>
              <a:t>announcement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by scientists   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         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(that they have successfully cloned the 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         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first human embryo)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Narrow"/>
              </a:rPr>
              <a:t>has caused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much 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         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debate and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Narrow"/>
              </a:rPr>
              <a:t>has shocked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many people 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         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around the world.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(L1)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95280" y="4076640"/>
            <a:ext cx="84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Arial Narrow"/>
              </a:rPr>
              <a:t>       </a:t>
            </a:r>
            <a:r>
              <a:rPr b="1" lang="zh-CN" sz="2800" spc="-1" strike="noStrike">
                <a:solidFill>
                  <a:srgbClr val="3333cc"/>
                </a:solidFill>
                <a:latin typeface="Arial Narrow"/>
              </a:rPr>
              <a:t>科学家最近宣布，他们已成功克隆出  </a:t>
            </a:r>
            <a:endParaRPr b="1" lang="en-US" sz="28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 Narrow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Arial Narrow"/>
              </a:rPr>
              <a:t>第一个人类胚胎。这一消息引起许多争  </a:t>
            </a:r>
            <a:endParaRPr b="1" lang="en-US" sz="28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 Narrow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Arial Narrow"/>
              </a:rPr>
              <a:t>论，也使世界各地的人震惊。</a:t>
            </a:r>
            <a:endParaRPr b="1" lang="en-US" sz="28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468360" y="333000"/>
            <a:ext cx="8424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宋体"/>
              </a:rPr>
              <a:t>3) thank sb. for (doing) sth.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  <a:ea typeface="宋体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宋体"/>
              </a:rPr>
              <a:t>the old man, the girl, help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Arial Narrow"/>
                <a:ea typeface="宋体"/>
              </a:rPr>
              <a:t>The old man thanked the girl for her help.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宋体"/>
              </a:rPr>
              <a:t>4) scold sb. for (doing) sth.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宋体"/>
              </a:rPr>
              <a:t>the mother, the boy, be lazy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Arial Narrow"/>
                <a:ea typeface="宋体"/>
              </a:rPr>
              <a:t>The mother scolded the boy for being lazy. 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宋体"/>
              </a:rPr>
              <a:t>5) apologize to sb. for (doing) sth.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Arial Narrow"/>
                <a:ea typeface="宋体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Arial Narrow"/>
                <a:ea typeface="宋体"/>
              </a:rPr>
              <a:t>I, the teacher, not do my homework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宋体"/>
              </a:rPr>
              <a:t>I apologized to the teacher for not doing my homework. 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6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6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6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6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250560" y="764640"/>
            <a:ext cx="86756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宋体"/>
              </a:rPr>
              <a:t>9. However some people consider that cloning human embryos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宋体"/>
              </a:rPr>
              <a:t>with the intention of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宋体"/>
              </a:rPr>
              <a:t>destroying them shows no respect for human life</a:t>
            </a:r>
            <a:r>
              <a:rPr b="1" lang="en-US" sz="3600" spc="-1" strike="noStrike">
                <a:solidFill>
                  <a:srgbClr val="0000ff"/>
                </a:solidFill>
                <a:latin typeface="Arial Narrow"/>
                <a:ea typeface="宋体"/>
              </a:rPr>
              <a:t>. (line 19)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  <a:ea typeface="宋体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宋体"/>
              </a:rPr>
              <a:t>with the intention of = with the purpose of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宋体"/>
              </a:rPr>
              <a:t>With the intention of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 Narrow"/>
                <a:ea typeface="宋体"/>
              </a:rPr>
              <a:t>hiding from the police,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Narrow"/>
                <a:ea typeface="宋体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Arial Narrow"/>
                <a:ea typeface="宋体"/>
              </a:rPr>
              <a:t>the thief ran away by boat.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宋体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宋体"/>
              </a:rPr>
              <a:t>I’m sorry I hit you. It wasn’t my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宋体"/>
              </a:rPr>
              <a:t>intention.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宋体"/>
              </a:rPr>
              <a:t>I’m sorry I hit you. But I didn’t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宋体"/>
              </a:rPr>
              <a:t>intend to.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2"/>
          <p:cNvSpPr/>
          <p:nvPr/>
        </p:nvSpPr>
        <p:spPr>
          <a:xfrm>
            <a:off x="324000" y="1268280"/>
            <a:ext cx="874872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7. If I 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Arial Narrow"/>
              </a:rPr>
              <a:t>had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the chance, I 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Arial Narrow"/>
              </a:rPr>
              <a:t>would have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a cloned baby 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Arial Narrow"/>
              </a:rPr>
              <a:t>tomorrow</a:t>
            </a:r>
            <a:r>
              <a:rPr b="1" lang="en-US" sz="3600" spc="-1" strike="noStrike">
                <a:solidFill>
                  <a:srgbClr val="ff0066"/>
                </a:solidFill>
                <a:latin typeface="Arial Narrow"/>
              </a:rPr>
              <a:t>.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 (L25) 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If I</a:t>
            </a:r>
            <a:r>
              <a:rPr b="1" lang="en-US" sz="3600" spc="-1" strike="noStrike">
                <a:solidFill>
                  <a:srgbClr val="ff0066"/>
                </a:solidFill>
                <a:latin typeface="Arial Narrow"/>
              </a:rPr>
              <a:t> 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Arial Narrow"/>
              </a:rPr>
              <a:t>had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the opportunity, I 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Arial Narrow"/>
              </a:rPr>
              <a:t>would clone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her immediately so that I could be with her again. 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(L54) </a:t>
            </a:r>
            <a:r>
              <a:rPr b="1" lang="zh-CN" sz="3200" spc="-1" strike="noStrike">
                <a:solidFill>
                  <a:srgbClr val="0000ff"/>
                </a:solidFill>
                <a:latin typeface="Arial Narrow"/>
              </a:rPr>
              <a:t>与将来相反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 Narrow"/>
              </a:rPr>
              <a:t>虚拟语气用于非真实条件句中。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2"/>
          <p:cNvSpPr/>
          <p:nvPr/>
        </p:nvSpPr>
        <p:spPr>
          <a:xfrm>
            <a:off x="108000" y="1052640"/>
            <a:ext cx="9036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7.1)If I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 Narrow"/>
              </a:rPr>
              <a:t>got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 the ticket, I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 Narrow"/>
              </a:rPr>
              <a:t>would go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 immediately.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If I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 Narrow"/>
              </a:rPr>
              <a:t>were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 him, I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 Narrow"/>
              </a:rPr>
              <a:t>would not commit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 suicide.   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2)If I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 Narrow"/>
              </a:rPr>
              <a:t>had got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 the ticket, I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 Narrow"/>
              </a:rPr>
              <a:t>would have left Changsha yesterday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3)If I </a:t>
            </a: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 Narrow"/>
              </a:rPr>
              <a:t>got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 the ticket, I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 Narrow"/>
              </a:rPr>
              <a:t>would go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 with you tomorrow.                   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15" name="Text Box 3"/>
          <p:cNvSpPr/>
          <p:nvPr/>
        </p:nvSpPr>
        <p:spPr>
          <a:xfrm>
            <a:off x="2340000" y="4653000"/>
            <a:ext cx="554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 Narrow"/>
              </a:rPr>
              <a:t>(were to get)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 / </a:t>
            </a:r>
            <a:r>
              <a:rPr b="1" lang="en-US" sz="4000" spc="-1" strike="noStrike">
                <a:solidFill>
                  <a:srgbClr val="ff0066"/>
                </a:solidFill>
                <a:latin typeface="Arial Narrow"/>
              </a:rPr>
              <a:t>(should get)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      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 Box 2"/>
          <p:cNvSpPr/>
          <p:nvPr/>
        </p:nvSpPr>
        <p:spPr>
          <a:xfrm>
            <a:off x="324000" y="1549440"/>
            <a:ext cx="8424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8. </a:t>
            </a:r>
            <a:r>
              <a:rPr b="1" lang="en-US" sz="4000" spc="-1" strike="noStrike">
                <a:solidFill>
                  <a:srgbClr val="cc0099"/>
                </a:solidFill>
                <a:latin typeface="Arial Narrow"/>
              </a:rPr>
              <a:t>While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 cloning human embryos is illegal in many countries, some scientists are already pushing ahead with research so as to deliver a cloned human baby.   (L27)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5435640" y="2270160"/>
            <a:ext cx="33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 Narrow"/>
              </a:rPr>
              <a:t>_____________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18" name="Text Box 4"/>
          <p:cNvSpPr/>
          <p:nvPr/>
        </p:nvSpPr>
        <p:spPr>
          <a:xfrm>
            <a:off x="250920" y="306216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 Narrow"/>
              </a:rPr>
              <a:t>___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2627280" y="306216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 Narrow"/>
              </a:rPr>
              <a:t>_________________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20" name="Text Box 6"/>
          <p:cNvSpPr/>
          <p:nvPr/>
        </p:nvSpPr>
        <p:spPr>
          <a:xfrm>
            <a:off x="6732720" y="306216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 Narrow"/>
              </a:rPr>
              <a:t>_______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21" name="Text Box 7"/>
          <p:cNvSpPr/>
          <p:nvPr/>
        </p:nvSpPr>
        <p:spPr>
          <a:xfrm>
            <a:off x="324000" y="378144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 Narrow"/>
              </a:rPr>
              <a:t>________________________________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22" name="Text Box 8"/>
          <p:cNvSpPr/>
          <p:nvPr/>
        </p:nvSpPr>
        <p:spPr>
          <a:xfrm>
            <a:off x="611280" y="147780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 Narrow"/>
              </a:rPr>
              <a:t>(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23" name="Text Box 9"/>
          <p:cNvSpPr/>
          <p:nvPr/>
        </p:nvSpPr>
        <p:spPr>
          <a:xfrm>
            <a:off x="5148360" y="227016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 Narrow"/>
              </a:rPr>
              <a:t>)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24" name="Text Box 10"/>
          <p:cNvSpPr/>
          <p:nvPr/>
        </p:nvSpPr>
        <p:spPr>
          <a:xfrm>
            <a:off x="971640" y="901800"/>
            <a:ext cx="42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 Narrow"/>
              </a:rPr>
              <a:t>Although / Though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2"/>
          <p:cNvSpPr/>
          <p:nvPr/>
        </p:nvSpPr>
        <p:spPr>
          <a:xfrm>
            <a:off x="395280" y="476280"/>
            <a:ext cx="856944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尽管他是个孩子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他已经是明星了。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Narrow"/>
              </a:rPr>
              <a:t>Although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he is a child, he is a superstar.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Narrow"/>
              </a:rPr>
              <a:t>Though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 /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Narrow"/>
              </a:rPr>
              <a:t>While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Narrow"/>
              </a:rPr>
              <a:t>Despite the fact that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Narrow"/>
              </a:rPr>
              <a:t>In spite of the fact that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 Narrow"/>
              </a:rPr>
              <a:t>Child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as / though he is, he is a superstar.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Narrow"/>
              </a:rPr>
              <a:t>Hard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as he worked, he was not promoted.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Try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as he might, he couldn’t find a job.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216000" y="1717560"/>
            <a:ext cx="8748720" cy="21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9. In China, scientists hav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Narrow"/>
              </a:rPr>
              <a:t>focused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their effort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Narrow"/>
              </a:rPr>
              <a:t>on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cloning animals, as well as stem cell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Narrow"/>
              </a:rPr>
              <a:t>to be used in medical research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.  (L31)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      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27" name="Text Box 3"/>
          <p:cNvSpPr/>
          <p:nvPr/>
        </p:nvSpPr>
        <p:spPr>
          <a:xfrm>
            <a:off x="5364000" y="114156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 Narrow"/>
              </a:rPr>
              <a:t>concentrated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28" name="Text Box 4"/>
          <p:cNvSpPr/>
          <p:nvPr/>
        </p:nvSpPr>
        <p:spPr>
          <a:xfrm>
            <a:off x="1332000" y="378936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 Narrow"/>
              </a:rPr>
              <a:t>定语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2"/>
          <p:cNvSpPr/>
          <p:nvPr/>
        </p:nvSpPr>
        <p:spPr>
          <a:xfrm>
            <a:off x="216000" y="620640"/>
            <a:ext cx="90360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10. China ha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Narrow"/>
              </a:rPr>
              <a:t>succeeded in producing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clones of cows and goats, and continues to research way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Narrow"/>
              </a:rPr>
              <a:t>in which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cloning can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benefit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mankind.  (L32)      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0" y="1916280"/>
            <a:ext cx="230364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 Narrow"/>
              </a:rPr>
              <a:t>(              )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 Narrow"/>
              </a:rPr>
              <a:t>    </a:t>
            </a:r>
            <a:r>
              <a:rPr b="1" lang="en-US" sz="3200" spc="-1" strike="noStrike">
                <a:solidFill>
                  <a:srgbClr val="cc0099"/>
                </a:solidFill>
                <a:latin typeface="Arial Narrow"/>
              </a:rPr>
              <a:t>( that )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324000" y="3357720"/>
            <a:ext cx="84960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This book wil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Narrow"/>
              </a:rPr>
              <a:t>benefit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you.  (vt.)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You wil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Narrow"/>
              </a:rPr>
              <a:t>benefit from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this book.  (vi.)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This book wil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Narrow"/>
              </a:rPr>
              <a:t>be of benefit to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you.  (n.)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This book wil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Narrow"/>
              </a:rPr>
              <a:t>be beneficial to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you.  (adj.)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2"/>
          <p:cNvSpPr/>
          <p:nvPr/>
        </p:nvSpPr>
        <p:spPr>
          <a:xfrm>
            <a:off x="216000" y="1717560"/>
            <a:ext cx="9036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11. Surely w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 Narrow"/>
              </a:rPr>
              <a:t>should be having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 fewer babies in order to reduce Earth’s population,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 Narrow"/>
              </a:rPr>
              <a:t>not cloning more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.  (L41)      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33" name="Text Box 3"/>
          <p:cNvSpPr/>
          <p:nvPr/>
        </p:nvSpPr>
        <p:spPr>
          <a:xfrm>
            <a:off x="1692360" y="3933720"/>
            <a:ext cx="698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(we should not be cloning more)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 Box 2"/>
          <p:cNvSpPr/>
          <p:nvPr/>
        </p:nvSpPr>
        <p:spPr>
          <a:xfrm>
            <a:off x="216000" y="1197000"/>
            <a:ext cx="90360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12.  (L50)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Narrow"/>
              </a:rPr>
              <a:t>After all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, scientist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Narrow"/>
              </a:rPr>
              <a:t>have been challenging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questions of morality for centuries. Why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Narrow"/>
              </a:rPr>
              <a:t>should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we stop them now?      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35" name="Text Box 3"/>
          <p:cNvSpPr/>
          <p:nvPr/>
        </p:nvSpPr>
        <p:spPr>
          <a:xfrm>
            <a:off x="216000" y="3213000"/>
            <a:ext cx="896436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why ( how / who / what )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 Narrow"/>
              </a:rPr>
              <a:t>should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 sb./ sth. do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    </a:t>
            </a:r>
            <a:r>
              <a:rPr b="1" lang="zh-CN" sz="3600" spc="-1" strike="noStrike">
                <a:solidFill>
                  <a:srgbClr val="e1f0ff"/>
                </a:solidFill>
                <a:latin typeface="Arial Narrow"/>
              </a:rPr>
              <a:t>表拒绝</a:t>
            </a:r>
            <a:r>
              <a:rPr b="1" lang="en-US" sz="3600" spc="-1" strike="noStrike">
                <a:solidFill>
                  <a:srgbClr val="e1f0ff"/>
                </a:solidFill>
                <a:latin typeface="Arial Narrow"/>
              </a:rPr>
              <a:t>﹑</a:t>
            </a:r>
            <a:r>
              <a:rPr b="1" lang="zh-CN" sz="3600" spc="-1" strike="noStrike">
                <a:solidFill>
                  <a:srgbClr val="e1f0ff"/>
                </a:solidFill>
                <a:latin typeface="Arial Narrow"/>
              </a:rPr>
              <a:t>恼怒或惊讶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f0ff"/>
                </a:solidFill>
                <a:latin typeface="Arial Narrow"/>
              </a:rPr>
              <a:t>How </a:t>
            </a:r>
            <a:r>
              <a:rPr b="1" lang="en-US" sz="3600" spc="-1" strike="noStrike" u="sng">
                <a:solidFill>
                  <a:srgbClr val="e1f0ff"/>
                </a:solidFill>
                <a:uFillTx/>
                <a:latin typeface="Arial Narrow"/>
              </a:rPr>
              <a:t>should</a:t>
            </a:r>
            <a:r>
              <a:rPr b="1" lang="en-US" sz="3600" spc="-1" strike="noStrike">
                <a:solidFill>
                  <a:srgbClr val="e1f0ff"/>
                </a:solidFill>
                <a:latin typeface="Arial Narrow"/>
              </a:rPr>
              <a:t> I know where you’ve put it?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f0ff"/>
                </a:solidFill>
                <a:latin typeface="Arial Narrow"/>
              </a:rPr>
              <a:t>Why </a:t>
            </a:r>
            <a:r>
              <a:rPr b="1" lang="en-US" sz="3600" spc="-1" strike="noStrike" u="sng">
                <a:solidFill>
                  <a:srgbClr val="e1f0ff"/>
                </a:solidFill>
                <a:uFillTx/>
                <a:latin typeface="Arial Narrow"/>
              </a:rPr>
              <a:t>should</a:t>
            </a:r>
            <a:r>
              <a:rPr b="1" lang="en-US" sz="3600" spc="-1" strike="noStrike">
                <a:solidFill>
                  <a:srgbClr val="e1f0ff"/>
                </a:solidFill>
                <a:latin typeface="Arial Narrow"/>
              </a:rPr>
              <a:t> I help him? He’s so mean.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0" name=""/>
          <p:cNvGraphicFramePr/>
          <p:nvPr/>
        </p:nvGraphicFramePr>
        <p:xfrm>
          <a:off x="71280" y="981000"/>
          <a:ext cx="9109080" cy="647640"/>
        </p:xfrm>
        <a:graphic>
          <a:graphicData uri="http://schemas.openxmlformats.org/drawingml/2006/table">
            <a:tbl>
              <a:tblPr/>
              <a:tblGrid>
                <a:gridCol w="91090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1" name=""/>
          <p:cNvGraphicFramePr/>
          <p:nvPr/>
        </p:nvGraphicFramePr>
        <p:xfrm>
          <a:off x="646200" y="1627200"/>
          <a:ext cx="8640720" cy="187308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187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. declare / declaration &amp; announce / announcement,</a:t>
                      </a:r>
                      <a:r>
                        <a:rPr b="1" lang="en-US" sz="3600" spc="-1" strike="noStrike">
                          <a:solidFill>
                            <a:srgbClr val="66ffff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which is more formal?</a:t>
                      </a:r>
                      <a:endParaRPr b="1" lang="en-US" sz="36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719280" y="3139920"/>
          <a:ext cx="8245440" cy="2305080"/>
        </p:xfrm>
        <a:graphic>
          <a:graphicData uri="http://schemas.openxmlformats.org/drawingml/2006/table">
            <a:tbl>
              <a:tblPr/>
              <a:tblGrid>
                <a:gridCol w="8245440"/>
              </a:tblGrid>
              <a:tr h="23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In most cases,</a:t>
                      </a:r>
                      <a:r>
                        <a:rPr b="1" lang="en-US" sz="3600" spc="-1" strike="noStrike">
                          <a:solidFill>
                            <a:srgbClr val="66ffff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eclare / declaration</a:t>
                      </a:r>
                      <a:r>
                        <a:rPr b="1" lang="en-US" sz="3600" spc="-1" strike="noStrike">
                          <a:solidFill>
                            <a:srgbClr val="66ffff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is more formal than announce /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nnouncement.</a:t>
                      </a:r>
                      <a:endParaRPr b="1" lang="en-US" sz="36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 Box 2"/>
          <p:cNvSpPr/>
          <p:nvPr/>
        </p:nvSpPr>
        <p:spPr>
          <a:xfrm>
            <a:off x="108000" y="907920"/>
            <a:ext cx="878508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More useful expressions: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1.a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Narrow"/>
              </a:rPr>
              <a:t>anti- or pro-cloning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point of view (Q1)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2.the first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Narrow"/>
              </a:rPr>
              <a:t>cloned mammal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(Q2)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3.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Narrow"/>
              </a:rPr>
              <a:t>at a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much younge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Narrow"/>
              </a:rPr>
              <a:t>age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than normal  (L10)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4.i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Narrow"/>
              </a:rPr>
              <a:t>general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(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Narrow"/>
              </a:rPr>
              <a:t>generally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speaking)   (L12)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5.be praised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Narrow"/>
              </a:rPr>
              <a:t>for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  (L13)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6.with the intentin of doing sth.   (L19)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611280" y="620640"/>
            <a:ext cx="799308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7.cause a lot of anxiety    (L21)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8.a child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Narrow"/>
              </a:rPr>
              <a:t>of my own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    (L23)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9.adopt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Narrow"/>
              </a:rPr>
              <a:t>someone else’s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child   (L23)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10.totally immoral   (L36)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11.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Narrow"/>
              </a:rPr>
              <a:t>interfere with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nature   (L36)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12.deal with the consequences   (L37)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13.end up +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Narrow"/>
              </a:rPr>
              <a:t>doing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sth.  / +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Narrow"/>
              </a:rPr>
              <a:t>adj.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  (L38)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38" name="Text Box 3"/>
          <p:cNvSpPr/>
          <p:nvPr/>
        </p:nvSpPr>
        <p:spPr>
          <a:xfrm>
            <a:off x="971640" y="5084640"/>
            <a:ext cx="23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(finish up)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2"/>
          <p:cNvSpPr/>
          <p:nvPr/>
        </p:nvSpPr>
        <p:spPr>
          <a:xfrm>
            <a:off x="611280" y="836640"/>
            <a:ext cx="828180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14.for sale / on sale    (L40)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15.sb. use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up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sth.   (L41)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    →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sth. be used up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eat up / dry up / finish up - - -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16.comment on sth.   (L48)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17.be in complete agreement with  (L49)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18.on a personal note   (L52)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40" name="Oval 3"/>
          <p:cNvSpPr/>
          <p:nvPr/>
        </p:nvSpPr>
        <p:spPr>
          <a:xfrm>
            <a:off x="3635280" y="4941720"/>
            <a:ext cx="1152720" cy="648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41" name="Text Box 4"/>
          <p:cNvSpPr/>
          <p:nvPr/>
        </p:nvSpPr>
        <p:spPr>
          <a:xfrm>
            <a:off x="3492360" y="5589720"/>
            <a:ext cx="1511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 Narrow"/>
              </a:rPr>
              <a:t>口气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)</a:t>
            </a:r>
            <a:endParaRPr b="1" lang="en-US" sz="32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"/>
          <p:cNvSpPr/>
          <p:nvPr/>
        </p:nvSpPr>
        <p:spPr>
          <a:xfrm>
            <a:off x="468360" y="333360"/>
            <a:ext cx="799308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Reading strategy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19.come across   (L1, P1)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20.be prepared to do  (L2, P1)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21.as a whole 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/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on the whole (L4, P1)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22.begin by doing - - -   (L4,  P1)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23.appear to make sense   (L2,  P2)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24.read through    (L1,  P3)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25.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Narrow"/>
              </a:rPr>
              <a:t>upon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/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Narrow"/>
              </a:rPr>
              <a:t>on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further readings   (L2,  P3)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643" name="Text Box 3"/>
          <p:cNvSpPr/>
          <p:nvPr/>
        </p:nvSpPr>
        <p:spPr>
          <a:xfrm>
            <a:off x="611280" y="5516640"/>
            <a:ext cx="4392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(immediately after)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 Box 2"/>
          <p:cNvSpPr/>
          <p:nvPr/>
        </p:nvSpPr>
        <p:spPr>
          <a:xfrm>
            <a:off x="1258920" y="2421000"/>
            <a:ext cx="64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Homework: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prepare wordpower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3" name=""/>
          <p:cNvGraphicFramePr/>
          <p:nvPr/>
        </p:nvGraphicFramePr>
        <p:xfrm>
          <a:off x="34920" y="44280"/>
          <a:ext cx="9109080" cy="648000"/>
        </p:xfrm>
        <a:graphic>
          <a:graphicData uri="http://schemas.openxmlformats.org/drawingml/2006/table">
            <a:tbl>
              <a:tblPr/>
              <a:tblGrid>
                <a:gridCol w="910908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Text Box 8"/>
          <p:cNvSpPr/>
          <p:nvPr/>
        </p:nvSpPr>
        <p:spPr>
          <a:xfrm>
            <a:off x="396720" y="1255680"/>
            <a:ext cx="8496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 Narrow"/>
              </a:rPr>
              <a:t>declare 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意为“宣称”，表示有信心地、正式地公开讲明某 事，有时指在公共场合对某事表明态度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.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 Narrow"/>
              </a:rPr>
              <a:t>announce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意为“宣布”，不及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declare </a:t>
            </a: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正式，尤其将有益之 事公之于众，如消息或新闻等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250560" y="148392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Narrow"/>
                <a:ea typeface="宋体"/>
              </a:rPr>
              <a:t>1) In 1941, America _________ a war on Japan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Narrow"/>
                <a:ea typeface="宋体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Arial Narrow"/>
                <a:ea typeface="宋体"/>
              </a:rPr>
              <a:t>after Japanese army attacked Pearl Harbor.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宋体"/>
              </a:rPr>
              <a:t>2) The film star __________ his wedding in the 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宋体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宋体"/>
              </a:rPr>
              <a:t>newspaper.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Narrow"/>
                <a:ea typeface="宋体"/>
              </a:rPr>
              <a:t>3) The _____________ of the meeting was 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Narrow"/>
                <a:ea typeface="宋体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Arial Narrow"/>
                <a:ea typeface="宋体"/>
              </a:rPr>
              <a:t>broadcast on the radio. 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宋体"/>
              </a:rPr>
              <a:t>4) On Oct.1st 1949, Chairman Mao ________ the 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宋体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宋体"/>
              </a:rPr>
              <a:t>founding of the PRC.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3057480" y="1844640"/>
            <a:ext cx="19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3346560" y="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1828080" y="293760"/>
            <a:ext cx="540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 Narrow"/>
              </a:rPr>
              <a:t>A. declare / declaration 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 Narrow"/>
              </a:rPr>
              <a:t>B. announce / announcement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49" name="Rectangle 6"/>
          <p:cNvSpPr/>
          <p:nvPr/>
        </p:nvSpPr>
        <p:spPr>
          <a:xfrm>
            <a:off x="3926160" y="1419120"/>
            <a:ext cx="17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 Narrow"/>
              </a:rPr>
              <a:t>declared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50" name="Rectangle 7"/>
          <p:cNvSpPr/>
          <p:nvPr/>
        </p:nvSpPr>
        <p:spPr>
          <a:xfrm>
            <a:off x="3038760" y="2637000"/>
            <a:ext cx="21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announced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51" name="Rectangle 8"/>
          <p:cNvSpPr/>
          <p:nvPr/>
        </p:nvSpPr>
        <p:spPr>
          <a:xfrm>
            <a:off x="1473120" y="3860640"/>
            <a:ext cx="284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announcement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52" name="Rectangle 9"/>
          <p:cNvSpPr/>
          <p:nvPr/>
        </p:nvSpPr>
        <p:spPr>
          <a:xfrm>
            <a:off x="6442560" y="5013360"/>
            <a:ext cx="17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declared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468000" y="2676600"/>
            <a:ext cx="867564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宋体"/>
              </a:rPr>
              <a:t>5) The __________ of Independence </a:t>
            </a:r>
            <a:r>
              <a:rPr b="1" lang="zh-CN" sz="3600" spc="-1" strike="noStrike">
                <a:solidFill>
                  <a:srgbClr val="ffffff"/>
                </a:solidFill>
                <a:latin typeface="Arial Narrow"/>
                <a:ea typeface="宋体"/>
              </a:rPr>
              <a:t>独立宣言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Narrow"/>
                <a:ea typeface="宋体"/>
              </a:rPr>
              <a:t>6) The bell __________ the end of the class.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宋体"/>
              </a:rPr>
              <a:t>7) The captain __________ that the flight would 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宋体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宋体"/>
              </a:rPr>
              <a:t>be delayed.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2413080" y="328608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 Narrow"/>
              </a:rPr>
              <a:t>announced 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55" name="Text Box 4"/>
          <p:cNvSpPr/>
          <p:nvPr/>
        </p:nvSpPr>
        <p:spPr>
          <a:xfrm>
            <a:off x="1692360" y="267660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Declaration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3059280" y="400536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announced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57" name="Rectangle 6"/>
          <p:cNvSpPr/>
          <p:nvPr/>
        </p:nvSpPr>
        <p:spPr>
          <a:xfrm>
            <a:off x="1974240" y="1085760"/>
            <a:ext cx="540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A. declare / declaration 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B. announce / announcement</a:t>
            </a:r>
            <a:endParaRPr b="1" lang="en-US" sz="36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2"/>
          <p:cNvSpPr/>
          <p:nvPr/>
        </p:nvSpPr>
        <p:spPr>
          <a:xfrm>
            <a:off x="647640" y="1700280"/>
            <a:ext cx="7885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2. On the one hand, some scientists point out that if you clone an embryo, you can produce valuable tissues and organs that could be used to save human lives.     (L3)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59" name="Text Box 3"/>
          <p:cNvSpPr/>
          <p:nvPr/>
        </p:nvSpPr>
        <p:spPr>
          <a:xfrm>
            <a:off x="4645080" y="1700280"/>
            <a:ext cx="338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_____________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60" name="Text Box 4"/>
          <p:cNvSpPr/>
          <p:nvPr/>
        </p:nvSpPr>
        <p:spPr>
          <a:xfrm>
            <a:off x="611280" y="2492280"/>
            <a:ext cx="295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 Narrow"/>
              </a:rPr>
              <a:t>________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2411280" y="2421000"/>
            <a:ext cx="58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(                                         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        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)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62" name="Text Box 6"/>
          <p:cNvSpPr/>
          <p:nvPr/>
        </p:nvSpPr>
        <p:spPr>
          <a:xfrm>
            <a:off x="612720" y="3213000"/>
            <a:ext cx="295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___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63" name="Text Box 7"/>
          <p:cNvSpPr/>
          <p:nvPr/>
        </p:nvSpPr>
        <p:spPr>
          <a:xfrm>
            <a:off x="1549440" y="3213000"/>
            <a:ext cx="295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 Narrow"/>
              </a:rPr>
              <a:t>__________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64" name="Text Box 8"/>
          <p:cNvSpPr/>
          <p:nvPr/>
        </p:nvSpPr>
        <p:spPr>
          <a:xfrm>
            <a:off x="4140360" y="3181320"/>
            <a:ext cx="44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 Narrow"/>
              </a:rPr>
              <a:t>_________________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65" name="Text Box 9"/>
          <p:cNvSpPr/>
          <p:nvPr/>
        </p:nvSpPr>
        <p:spPr>
          <a:xfrm>
            <a:off x="612720" y="3900600"/>
            <a:ext cx="44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 Narrow"/>
              </a:rPr>
              <a:t>______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66" name="Text Box 10"/>
          <p:cNvSpPr/>
          <p:nvPr/>
        </p:nvSpPr>
        <p:spPr>
          <a:xfrm>
            <a:off x="1979640" y="3860640"/>
            <a:ext cx="44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 Narrow"/>
              </a:rPr>
              <a:t>(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 Narrow"/>
              </a:rPr>
              <a:t>          </a:t>
            </a:r>
            <a:r>
              <a:rPr b="1" lang="en-US" sz="4000" spc="-1" strike="noStrike">
                <a:solidFill>
                  <a:srgbClr val="008000"/>
                </a:solidFill>
                <a:latin typeface="Arial Narrow"/>
              </a:rPr>
              <a:t>)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67" name="Text Box 11"/>
          <p:cNvSpPr/>
          <p:nvPr/>
        </p:nvSpPr>
        <p:spPr>
          <a:xfrm>
            <a:off x="3276720" y="2421000"/>
            <a:ext cx="52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 Narrow"/>
              </a:rPr>
              <a:t>(                                         )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68" name="Text Box 12"/>
          <p:cNvSpPr/>
          <p:nvPr/>
        </p:nvSpPr>
        <p:spPr>
          <a:xfrm>
            <a:off x="1116000" y="1700280"/>
            <a:ext cx="44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 Narrow"/>
              </a:rPr>
              <a:t>______________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2"/>
          <p:cNvSpPr/>
          <p:nvPr/>
        </p:nvSpPr>
        <p:spPr>
          <a:xfrm>
            <a:off x="539640" y="1700280"/>
            <a:ext cx="8352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3. On the other hand, many people, including some scientists, disagree and fear that if mankind interferes with nature in this way, they may be on their way to producing a real-life Frankenstein’s monster.        (L5)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70" name="Text Box 3"/>
          <p:cNvSpPr/>
          <p:nvPr/>
        </p:nvSpPr>
        <p:spPr>
          <a:xfrm>
            <a:off x="4824360" y="1557360"/>
            <a:ext cx="30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 Narrow"/>
              </a:rPr>
              <a:t>___________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5867280" y="2173320"/>
            <a:ext cx="30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 Narrow"/>
              </a:rPr>
              <a:t>___________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539640" y="2820960"/>
            <a:ext cx="30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 Narrow"/>
              </a:rPr>
              <a:t>___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73" name="Text Box 6"/>
          <p:cNvSpPr/>
          <p:nvPr/>
        </p:nvSpPr>
        <p:spPr>
          <a:xfrm>
            <a:off x="1258920" y="2781360"/>
            <a:ext cx="71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 Narrow"/>
              </a:rPr>
              <a:t>(                                                                                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5327640" y="4621320"/>
            <a:ext cx="30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 Narrow"/>
              </a:rPr>
              <a:t>)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4248000" y="3397320"/>
            <a:ext cx="30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 Narrow"/>
              </a:rPr>
              <a:t>____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5292720" y="3397320"/>
            <a:ext cx="30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______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6767640" y="339732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 Narrow"/>
              </a:rPr>
              <a:t>_______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78" name="Text Box 11"/>
          <p:cNvSpPr/>
          <p:nvPr/>
        </p:nvSpPr>
        <p:spPr>
          <a:xfrm>
            <a:off x="539640" y="4005360"/>
            <a:ext cx="61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 Narrow"/>
              </a:rPr>
              <a:t>_____________________________________________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79" name="Text Box 12"/>
          <p:cNvSpPr/>
          <p:nvPr/>
        </p:nvSpPr>
        <p:spPr>
          <a:xfrm>
            <a:off x="2195640" y="2781360"/>
            <a:ext cx="30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(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80" name="Text Box 13"/>
          <p:cNvSpPr/>
          <p:nvPr/>
        </p:nvSpPr>
        <p:spPr>
          <a:xfrm>
            <a:off x="4032360" y="3429000"/>
            <a:ext cx="30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)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81" name="Text Box 14"/>
          <p:cNvSpPr/>
          <p:nvPr/>
        </p:nvSpPr>
        <p:spPr>
          <a:xfrm>
            <a:off x="1042920" y="1557360"/>
            <a:ext cx="38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 Narrow"/>
              </a:rPr>
              <a:t>_______________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82" name="Text Box 15"/>
          <p:cNvSpPr/>
          <p:nvPr/>
        </p:nvSpPr>
        <p:spPr>
          <a:xfrm>
            <a:off x="539640" y="2205000"/>
            <a:ext cx="52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 Narrow"/>
              </a:rPr>
              <a:t>_____________________</a:t>
            </a:r>
            <a:endParaRPr b="1" lang="en-US" sz="40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3" name=""/>
          <p:cNvGraphicFramePr/>
          <p:nvPr/>
        </p:nvGraphicFramePr>
        <p:xfrm>
          <a:off x="504720" y="942840"/>
          <a:ext cx="8244000" cy="1511280"/>
        </p:xfrm>
        <a:graphic>
          <a:graphicData uri="http://schemas.openxmlformats.org/drawingml/2006/table">
            <a:tbl>
              <a:tblPr/>
              <a:tblGrid>
                <a:gridCol w="8244000"/>
              </a:tblGrid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. on (the) one hand…  on the other (hand)…</a:t>
                      </a:r>
                      <a:endParaRPr b="1" lang="en-US" sz="36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rial Narrow"/>
                          <a:ea typeface="楷体_GB2312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 Narrow"/>
                          <a:ea typeface="楷体_GB2312"/>
                        </a:rPr>
                        <a:t>一方面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Arial Narrow"/>
                          <a:ea typeface="楷体_GB2312"/>
                        </a:rPr>
                        <a:t>…</a:t>
                      </a: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 Narrow"/>
                          <a:ea typeface="楷体_GB2312"/>
                        </a:rPr>
                        <a:t>另一方面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Arial Narrow"/>
                          <a:ea typeface="楷体_GB2312"/>
                        </a:rPr>
                        <a:t>… 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Arial Narrow"/>
                          <a:ea typeface="楷体_GB2312"/>
                        </a:rPr>
                        <a:t>(</a:t>
                      </a: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 Narrow"/>
                          <a:ea typeface="楷体_GB2312"/>
                        </a:rPr>
                        <a:t>指前后相矛盾的事情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Arial Narrow"/>
                          <a:ea typeface="楷体_GB2312"/>
                        </a:rPr>
                        <a:t>)</a:t>
                      </a:r>
                      <a:endParaRPr b="1" lang="en-US" sz="32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828720" y="2327400"/>
          <a:ext cx="8280360" cy="2286000"/>
        </p:xfrm>
        <a:graphic>
          <a:graphicData uri="http://schemas.openxmlformats.org/drawingml/2006/table">
            <a:tbl>
              <a:tblPr/>
              <a:tblGrid>
                <a:gridCol w="828036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Arial Narrow"/>
                        </a:rPr>
                        <a:t>On one hand,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apid development of the economy will improve the living conditions of the people.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Arial Narrow"/>
                        </a:rPr>
                        <a:t>On the other hand,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t will speed up environmental destruction.    </a:t>
                      </a:r>
                      <a:endParaRPr b="1" lang="en-US" sz="3600" spc="-1" strike="noStrike">
                        <a:solidFill>
                          <a:srgbClr val="e1f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5" name="Text Box 14"/>
          <p:cNvSpPr/>
          <p:nvPr/>
        </p:nvSpPr>
        <p:spPr>
          <a:xfrm>
            <a:off x="900000" y="4687920"/>
            <a:ext cx="7704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 Narrow"/>
              </a:rPr>
              <a:t>一方面经济的迅速发展会改善人们的生活状况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 Narrow"/>
              </a:rPr>
              <a:t>另一方面它会加速环境的破坏。</a:t>
            </a:r>
            <a:endParaRPr b="1" lang="en-US" sz="28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雨林木风</cp:lastModifiedBy>
  <dcterms:modified xsi:type="dcterms:W3CDTF">2010-10-29T02:35:42Z</dcterms:modified>
  <cp:revision>0</cp:revision>
  <dc:subject/>
  <dc:title>PowerPoint Presentation</dc:title>
</cp:coreProperties>
</file>