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74D2-7DEE-4889-A06A-3B326713C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BF52-720D-4A38-AFA0-DBBE30BE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A0E0-6921-47E8-92CF-9D923797A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9EBF-2808-4BBE-8C28-74524A5B6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7712-3DE2-4039-86A6-6A6A0BD0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6F85-E57D-40EF-880F-0AC9C8E4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B4B4-675C-4A0C-AA55-BD1D1F59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401C-5DD1-409E-913C-32230C3F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617D-2A0D-4271-9828-35EB1E0E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23EB-6A51-4388-B86E-B97CED78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038E-C0BF-4B2A-B807-8C5B2F09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6D83-9237-4413-8C21-57E1ADA8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E42E-86B1-4EB6-A853-5E301CB968F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C25D-C210-49A1-A6D0-21064542B2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826920" y="981000"/>
            <a:ext cx="7704360" cy="11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Unit 6 Sunshine for all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2340000" y="2828880"/>
            <a:ext cx="4984560" cy="153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Grammar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4360" y="5373720"/>
            <a:ext cx="460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礼河实验学校 刘文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626400" y="5589720"/>
            <a:ext cx="795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___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proper/ a lost pe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963720" y="5516640"/>
            <a:ext cx="68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It's proper to take care of a lost p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468360" y="460440"/>
            <a:ext cx="8351640" cy="582120"/>
          </a:xfrm>
          <a:prstGeom prst="rect">
            <a:avLst/>
          </a:prstGeom>
          <a:solidFill>
            <a:srgbClr val="cfde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donat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e   give   help   keep   plant   take car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Gramma04"/>
          <p:cNvPicPr/>
          <p:nvPr/>
        </p:nvPicPr>
        <p:blipFill>
          <a:blip r:embed="rId2"/>
          <a:srcRect l="13146" t="4639" r="14085" b="5887"/>
          <a:stretch/>
        </p:blipFill>
        <p:spPr>
          <a:xfrm>
            <a:off x="2340000" y="1608120"/>
            <a:ext cx="4032360" cy="3718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502560" y="5373720"/>
            <a:ext cx="841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_____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important/ more tre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047600" y="5373720"/>
            <a:ext cx="650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It's important to plant more tre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468360" y="460440"/>
            <a:ext cx="8445600" cy="582120"/>
          </a:xfrm>
          <a:prstGeom prst="rect">
            <a:avLst/>
          </a:prstGeom>
          <a:solidFill>
            <a:srgbClr val="cfde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donat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e   give   help   keep   plant   take car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Gramma05"/>
          <p:cNvPicPr/>
          <p:nvPr/>
        </p:nvPicPr>
        <p:blipFill>
          <a:blip r:embed="rId2"/>
          <a:srcRect l="6520" t="8419" r="5584" b="8419"/>
          <a:stretch/>
        </p:blipFill>
        <p:spPr>
          <a:xfrm>
            <a:off x="2268360" y="1844640"/>
            <a:ext cx="4464360" cy="3166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600840" y="5192640"/>
            <a:ext cx="818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____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necessary/parks/clea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973800" y="5157720"/>
            <a:ext cx="658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It's necessary to keep parks cle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468360" y="460440"/>
            <a:ext cx="8315280" cy="582120"/>
          </a:xfrm>
          <a:prstGeom prst="rect">
            <a:avLst/>
          </a:prstGeom>
          <a:solidFill>
            <a:srgbClr val="cfde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donat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e   give   help   keep   plant   take car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Gramma06"/>
          <p:cNvPicPr/>
          <p:nvPr/>
        </p:nvPicPr>
        <p:blipFill>
          <a:blip r:embed="rId2"/>
          <a:srcRect l="2750" t="10946" r="3689" b="4639"/>
          <a:stretch/>
        </p:blipFill>
        <p:spPr>
          <a:xfrm>
            <a:off x="2340000" y="1844640"/>
            <a:ext cx="4537080" cy="30704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285840" y="907920"/>
            <a:ext cx="86040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meaningful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 u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do something f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 who need hel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对我们来说为需要帮助的人做些事情很有意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08000" y="333360"/>
          <a:ext cx="8856720" cy="4267080"/>
        </p:xfrm>
        <a:graphic>
          <a:graphicData uri="http://schemas.openxmlformats.org/drawingml/2006/table">
            <a:tbl>
              <a:tblPr/>
              <a:tblGrid>
                <a:gridCol w="981000"/>
                <a:gridCol w="1955880"/>
                <a:gridCol w="777960"/>
                <a:gridCol w="1760400"/>
                <a:gridCol w="338148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t i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djectiv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omeo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infinitiv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688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 i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0099"/>
                          </a:solidFill>
                          <a:latin typeface="Times New Roman"/>
                        </a:rPr>
                        <a:t>importa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0099"/>
                          </a:solidFill>
                          <a:latin typeface="Times New Roman"/>
                        </a:rPr>
                        <a:t>fo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op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0099"/>
                          </a:solidFill>
                          <a:latin typeface="Times New Roman"/>
                        </a:rPr>
                        <a:t>to learn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good manners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6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0099"/>
                          </a:solidFill>
                          <a:latin typeface="Times New Roman"/>
                        </a:rPr>
                        <a:t>difficul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 Ha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0099"/>
                          </a:solidFill>
                          <a:latin typeface="Times New Roman"/>
                        </a:rPr>
                        <a:t>to win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he competition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5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0099"/>
                          </a:solidFill>
                          <a:latin typeface="Times New Roman"/>
                        </a:rPr>
                        <a:t>possib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0099"/>
                          </a:solidFill>
                          <a:latin typeface="Times New Roman"/>
                        </a:rPr>
                        <a:t>to work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for the charity on Saturday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81" name="AutoShape 62"/>
          <p:cNvSpPr/>
          <p:nvPr/>
        </p:nvSpPr>
        <p:spPr>
          <a:xfrm flipH="1">
            <a:off x="3276000" y="4626000"/>
            <a:ext cx="431640" cy="1396800"/>
          </a:xfrm>
          <a:prstGeom prst="upArrow">
            <a:avLst>
              <a:gd name="adj1" fmla="val 50000"/>
              <a:gd name="adj2" fmla="val 8090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3"/>
          <p:cNvSpPr/>
          <p:nvPr/>
        </p:nvSpPr>
        <p:spPr>
          <a:xfrm>
            <a:off x="2022120" y="6022800"/>
            <a:ext cx="300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引出逻辑主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324000" y="1255680"/>
            <a:ext cx="842472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Asking about the volunteer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imon is a volunteer now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works for people with intellectual disabilities. Amy is asking him about his work. Complete their conversation with the phrases in the box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81080" y="117360"/>
            <a:ext cx="8783640" cy="2044440"/>
          </a:xfrm>
          <a:prstGeom prst="rect">
            <a:avLst/>
          </a:prstGeom>
          <a:solidFill>
            <a:srgbClr val="ff9900">
              <a:alpha val="8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easy for people           fantastic for me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mportant for us        impossible for organizations                necessary for volunteers        wonderful for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81080" y="1803240"/>
            <a:ext cx="8524800" cy="49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m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    Why do you want to be a volunte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Simo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cause any help would mean a lo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ny organizations provide help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ople with intellectual disabilities, b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's (1) ___________________ to do the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k one-to-one without the help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olunte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m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    I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’s (2) __________________ to be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olunteer. Do you need experi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2770560" y="3930480"/>
            <a:ext cx="361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impossible fo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833560" y="5594400"/>
            <a:ext cx="332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wonderful for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79280" y="2052720"/>
            <a:ext cx="87854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3489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400" spc="-1" strike="noStrike">
                <a:solidFill>
                  <a:srgbClr val="000000"/>
                </a:solidFill>
                <a:latin typeface="Times New Roman"/>
              </a:rPr>
              <a:t>Simon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: No. It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’s not (3) ____________________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489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to have any experience, but it’s very (4)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489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______________ to be kind and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489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riendl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489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400" spc="-1" strike="noStrike">
                <a:solidFill>
                  <a:srgbClr val="000000"/>
                </a:solidFill>
                <a:latin typeface="Times New Roman"/>
              </a:rPr>
              <a:t>Amy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:    What are your task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489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400" spc="-1" strike="noStrike">
                <a:solidFill>
                  <a:srgbClr val="000000"/>
                </a:solidFill>
                <a:latin typeface="Times New Roman"/>
              </a:rPr>
              <a:t>Simon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I’m in the sports group. I chat with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489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them, help them practise and mak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489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ure they’re safe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1560960" y="3235320"/>
            <a:ext cx="3333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important for u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318200" y="2082960"/>
            <a:ext cx="4642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necessary for volunte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181080" y="333360"/>
            <a:ext cx="8783640" cy="2044440"/>
          </a:xfrm>
          <a:prstGeom prst="rect">
            <a:avLst/>
          </a:prstGeom>
          <a:solidFill>
            <a:srgbClr val="ff9900">
              <a:alpha val="8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easy for people           fantastic for me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mportant for us        impossible for organizations                necessary for volunteers        wonderful for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79280" y="1916280"/>
            <a:ext cx="878544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I think it’s (5) ______________ to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ork with these special peopl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400" spc="-1" strike="noStrike">
                <a:solidFill>
                  <a:srgbClr val="000000"/>
                </a:solidFill>
                <a:latin typeface="Times New Roman"/>
              </a:rPr>
              <a:t>Amy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:    Do you have any trouble talking to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people with intellectual disabilitie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400" spc="-1" strike="noStrike">
                <a:solidFill>
                  <a:srgbClr val="000000"/>
                </a:solidFill>
                <a:latin typeface="Times New Roman"/>
              </a:rPr>
              <a:t>Simon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: Yes, a little. We need to be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mor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patient. However, it’s very (6)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_______________ to make friend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ith them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4222080" y="1916280"/>
            <a:ext cx="3082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fantastic for m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837080" y="5340240"/>
            <a:ext cx="2940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easy for peop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181080" y="117360"/>
            <a:ext cx="8783640" cy="2044440"/>
          </a:xfrm>
          <a:prstGeom prst="rect">
            <a:avLst/>
          </a:prstGeom>
          <a:solidFill>
            <a:srgbClr val="ff9900">
              <a:alpha val="8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easy for people           fantastic for me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mportant for us        impossible for organizations                necessary for volunteers        wonderful for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139840" y="938160"/>
            <a:ext cx="496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Work out the rul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324000" y="2030400"/>
            <a:ext cx="8640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We can use ______________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(subject pronouns, object pronouns) after fo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915280" y="2090880"/>
            <a:ext cx="405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object pronou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81200" y="2247840"/>
            <a:ext cx="717552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ate            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t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捐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ity            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慈善，慈善机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tion   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机构，组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              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2509920" y="907920"/>
            <a:ext cx="3960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New words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396720" y="836640"/>
            <a:ext cx="84232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's kind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f you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do something for people who need hel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你能为需要帮助的人做些事情真的很善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430200" y="3716280"/>
            <a:ext cx="83898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can use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 It is + adjective + of... + to-infinitiv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o express what we think of someone's ac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179280" y="487440"/>
          <a:ext cx="8929800" cy="2870280"/>
        </p:xfrm>
        <a:graphic>
          <a:graphicData uri="http://schemas.openxmlformats.org/drawingml/2006/table">
            <a:tbl>
              <a:tblPr/>
              <a:tblGrid>
                <a:gridCol w="978120"/>
                <a:gridCol w="1807920"/>
                <a:gridCol w="790560"/>
                <a:gridCol w="2033640"/>
                <a:gridCol w="3319560"/>
              </a:tblGrid>
              <a:tr h="63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t is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djectiv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f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omeo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-infinitiv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62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 i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0099"/>
                          </a:solidFill>
                          <a:latin typeface="Times New Roman"/>
                        </a:rPr>
                        <a:t>kin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0099"/>
                          </a:solidFill>
                          <a:latin typeface="Times New Roman"/>
                        </a:rPr>
                        <a:t>of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s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unteer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 </a:t>
                      </a:r>
                      <a:r>
                        <a:rPr b="1" lang="en-US" sz="3200" spc="-1" strike="noStrike">
                          <a:solidFill>
                            <a:srgbClr val="cc0099"/>
                          </a:solidFill>
                          <a:latin typeface="Times New Roman"/>
                        </a:rPr>
                        <a:t>work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n their spare time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6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0099"/>
                          </a:solidFill>
                          <a:latin typeface="Times New Roman"/>
                        </a:rPr>
                        <a:t>brav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0099"/>
                          </a:solidFill>
                          <a:latin typeface="Times New Roman"/>
                        </a:rPr>
                        <a:t>to take part in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he competition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02" name="Text Box 51"/>
          <p:cNvSpPr/>
          <p:nvPr/>
        </p:nvSpPr>
        <p:spPr>
          <a:xfrm>
            <a:off x="254160" y="3429000"/>
            <a:ext cx="84945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该句型中的形容词描述的是人的特征、品质等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v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areless, clever, foolish, generous, good, helpful, honest, kind, nice, polite, silly, stupid, wrong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2465640" y="1163520"/>
            <a:ext cx="384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Good or ba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58920" y="1987560"/>
            <a:ext cx="84610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r Wu wants to know what the Class 1, Grade 8 students think about the actions below. Help them organize their thoughts by rearranging the words below to form senten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4920" y="907920"/>
            <a:ext cx="9001080" cy="49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 carless/ the tap/ the boy/ to/it is/running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eave/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the girl/it is/bad/of/pick flowers/in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ark/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____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682560" y="2130480"/>
            <a:ext cx="784872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t is careless of the boy to leave the tap runn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84360" y="4578480"/>
            <a:ext cx="73936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t is bad of the girl to pick flowers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the par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06200" y="549360"/>
            <a:ext cx="8929800" cy="49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wrong/it is/of/drop litter/to/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eople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veryw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 of/kind/it is/to/donate blood/the you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/to people in n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______________________________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725400" y="4216320"/>
            <a:ext cx="802332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t is kind of the young m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 to dona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blood to people in ne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765720" y="1773360"/>
            <a:ext cx="752004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t is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rong of the people to drop li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verywhe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06200" y="1565280"/>
            <a:ext cx="892980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 smoke/to/not right/it is/the man/of /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ublic pla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764640" y="2774880"/>
            <a:ext cx="742104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t is not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ight of the man to smoke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public pla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241200" y="1378080"/>
            <a:ext cx="8651880" cy="49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donate ... to ...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捐……给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nate money to char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给慈善机构捐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nate blood to people in n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给有需要的人献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I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kind of you to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nat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se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thes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ject Hop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你把这些衣服捐给希望工程真善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5"/>
          <p:cNvSpPr txBox="1"/>
          <p:nvPr/>
        </p:nvSpPr>
        <p:spPr>
          <a:xfrm>
            <a:off x="2484360" y="431640"/>
            <a:ext cx="410364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Language point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7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24000" y="620640"/>
            <a:ext cx="849600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experience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经验，经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表示经验时是不可数名词，表示经历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是可数名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reatest teacher is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experienc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经验是最好的老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ease tell us your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experience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ric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请你告诉我们你在美洲的经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898560" y="260280"/>
            <a:ext cx="7777080" cy="61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have trouble (in) doing sth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做某事有麻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have trouble i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earn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lish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你在英语上有困难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相关短语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no trouble in doing s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做某事没困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some trouble in doing s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做……方面有困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7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0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6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9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2918160" y="785880"/>
            <a:ext cx="330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99"/>
                </a:solidFill>
                <a:latin typeface="Arial"/>
              </a:rPr>
              <a:t>Summa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09440" y="4334040"/>
            <a:ext cx="83851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We can use 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It is + adjective + of... + to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infinitiv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to express what we think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omeone's ac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09440" y="3027240"/>
            <a:ext cx="83851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We can add 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for someon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to specify wh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are talking abou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08000" y="1658880"/>
            <a:ext cx="8856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 We use 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It is + adjective + to-infinitiv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o express what we think about someth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11280" y="188640"/>
            <a:ext cx="76708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nswer the questions about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eading pa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826920" y="350028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611280" y="1557360"/>
            <a:ext cx="79214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 it fantastic to work as a volunte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 it important to support the Special Olympics World Gam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611280" y="3841920"/>
            <a:ext cx="806436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es.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It is </a:t>
            </a:r>
            <a:r>
              <a:rPr b="1" lang="en-US" sz="3600" spc="-1" strike="noStrike" u="sng">
                <a:solidFill>
                  <a:srgbClr val="3333ff"/>
                </a:solidFill>
                <a:uFillTx/>
                <a:latin typeface="Times New Roman"/>
              </a:rPr>
              <a:t>fantastic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009999"/>
                </a:solidFill>
                <a:uFillTx/>
                <a:latin typeface="Times New Roman"/>
              </a:rPr>
              <a:t>to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 work as a volunte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es.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It is </a:t>
            </a:r>
            <a:r>
              <a:rPr b="1" lang="en-US" sz="3600" spc="-1" strike="noStrike" u="sng">
                <a:solidFill>
                  <a:srgbClr val="3333ff"/>
                </a:solidFill>
                <a:uFillTx/>
                <a:latin typeface="Times New Roman"/>
              </a:rPr>
              <a:t>important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009999"/>
                </a:solidFill>
                <a:uFillTx/>
                <a:latin typeface="Times New Roman"/>
              </a:rPr>
              <a:t>to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 support the Special Olympics World Ga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9280" y="1077840"/>
            <a:ext cx="878688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I. </a:t>
            </a:r>
            <a:r>
              <a:rPr b="1" lang="zh-CN" sz="34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用所给单词的适当形式填空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Is it __________ (mean) to protect the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ment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It’s ______ (help) of him to help the old woman carry the baske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It’s necessary to be _______ (friend) to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mal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It’s careless of him ________ (make) so  many mistake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481040" y="1700280"/>
            <a:ext cx="2266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meaningfu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336680" y="2852640"/>
            <a:ext cx="1474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helpfu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4217760" y="3933720"/>
            <a:ext cx="1643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friendl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283640" y="5084640"/>
            <a:ext cx="165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to mak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9"/>
          <p:cNvSpPr txBox="1"/>
          <p:nvPr/>
        </p:nvSpPr>
        <p:spPr>
          <a:xfrm>
            <a:off x="2557440" y="333360"/>
            <a:ext cx="3527280" cy="71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Exercise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trips dir="lu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81080" y="333360"/>
            <a:ext cx="892800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II. 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汉译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他对老年人大喊大叫是没有礼貌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t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’s rude of him to shout at the elder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志愿者们对运动员友好是很有必要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t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’s necessary for volunteers to be friendl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 athle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时我们和智力有障碍的人交谈有困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metimes we have trouble talking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ople with intellectual disabilit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3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1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6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9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95280" y="969840"/>
          <a:ext cx="8261280" cy="3838680"/>
        </p:xfrm>
        <a:graphic>
          <a:graphicData uri="http://schemas.openxmlformats.org/drawingml/2006/table">
            <a:tbl>
              <a:tblPr/>
              <a:tblGrid>
                <a:gridCol w="998640"/>
                <a:gridCol w="2295360"/>
                <a:gridCol w="4967280"/>
              </a:tblGrid>
              <a:tr h="752760"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It i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adjectiv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to-infinitiv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fdef3"/>
                    </a:solidFill>
                  </a:tcPr>
                </a:tc>
              </a:tr>
              <a:tr h="1017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t i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fantasti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to work</a:t>
                      </a: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as avolunteer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improtan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to support</a:t>
                      </a: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the Special Olympics World Games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 Box 36"/>
          <p:cNvSpPr/>
          <p:nvPr/>
        </p:nvSpPr>
        <p:spPr>
          <a:xfrm>
            <a:off x="627120" y="4581360"/>
            <a:ext cx="8102520" cy="1410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We use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 It is + adjective + to-infinitive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to express what we think about someth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468360" y="1268280"/>
            <a:ext cx="81518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该句型中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形容词表示不定式所具备的特征或客观情况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如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ap, convenient, dangerous, difficult, easy, exciting, expensive, important, interesting, necessary, normal, possible, useful, wonderful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19280" y="772920"/>
            <a:ext cx="568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Ways to hel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31672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my is thinking about what she can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help society. Help her use the words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rackets and those in the box to m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nten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611280" y="460440"/>
            <a:ext cx="8137440" cy="582120"/>
          </a:xfrm>
          <a:prstGeom prst="rect">
            <a:avLst/>
          </a:prstGeom>
          <a:solidFill>
            <a:srgbClr val="cfde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donat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e   give   help   keep   plant   take car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73080" y="5451480"/>
            <a:ext cx="90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_______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right/seats/the elderly/t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833040" y="5451480"/>
            <a:ext cx="68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It's right to give seats to the elder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Gramma01"/>
          <p:cNvPicPr/>
          <p:nvPr/>
        </p:nvPicPr>
        <p:blipFill>
          <a:blip r:embed="rId2"/>
          <a:srcRect l="10311" t="8419" r="10311" b="8419"/>
          <a:stretch/>
        </p:blipFill>
        <p:spPr>
          <a:xfrm>
            <a:off x="2340000" y="1773360"/>
            <a:ext cx="4032360" cy="31683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74520" y="5445000"/>
            <a:ext cx="863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______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good/blind people/cross the roa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17440" y="54529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It's good to help blind people cross the ro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468360" y="460440"/>
            <a:ext cx="8246880" cy="582120"/>
          </a:xfrm>
          <a:prstGeom prst="rect">
            <a:avLst/>
          </a:prstGeom>
          <a:solidFill>
            <a:srgbClr val="cfde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donat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e   give   help   keep   plant   take car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Gramma02"/>
          <p:cNvPicPr/>
          <p:nvPr/>
        </p:nvPicPr>
        <p:blipFill>
          <a:blip r:embed="rId2"/>
          <a:srcRect l="11250" t="8419" r="11250" b="8419"/>
          <a:stretch/>
        </p:blipFill>
        <p:spPr>
          <a:xfrm>
            <a:off x="1908000" y="1500120"/>
            <a:ext cx="4464360" cy="35942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167400" y="5492880"/>
            <a:ext cx="886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_______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helpful/money/to chariti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456120" y="5516640"/>
            <a:ext cx="778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It's helpful to donate money to charit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468360" y="460440"/>
            <a:ext cx="8351640" cy="582120"/>
          </a:xfrm>
          <a:prstGeom prst="rect">
            <a:avLst/>
          </a:prstGeom>
          <a:solidFill>
            <a:srgbClr val="cfde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donat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e   give   help   keep   plant   take car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Gramma03"/>
          <p:cNvPicPr/>
          <p:nvPr/>
        </p:nvPicPr>
        <p:blipFill>
          <a:blip r:embed="rId2"/>
          <a:srcRect l="18812" t="7167" r="19751" b="7167"/>
          <a:stretch/>
        </p:blipFill>
        <p:spPr>
          <a:xfrm>
            <a:off x="2411280" y="1341360"/>
            <a:ext cx="3511800" cy="3672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/>
  <dc:language>en-US</dc:language>
  <cp:lastModifiedBy>111</cp:lastModifiedBy>
  <dcterms:modified xsi:type="dcterms:W3CDTF">2017-03-17T08:05:03Z</dcterms:modified>
  <cp:revision>45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