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6420-05D7-4BA6-9883-BCC6E37A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39F9-DCB1-4BA1-A970-FA8010F8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DB6-4724-4796-B65F-7D4E8B17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2A17-91E2-44E7-9639-BDD0408B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8152-8EA0-4F2E-A53D-FD6D1A43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968C-7350-4D85-B1AE-8B50BA32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CB89-C56A-4E77-A239-5BCC1C82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0BD7-0FC7-4962-97B6-310D2CD1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AE52-CB7E-4853-860E-F3787F0A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9DC7-1075-4161-BB86-7E5FBEF7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BFE6-2530-470E-9B35-480D0D06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97AF-88F5-443E-B9AB-9262F4CF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68D2-7704-4AD0-8F27-06B10FADC6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3276720"/>
            <a:ext cx="67294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Integrated skills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11280" y="1557360"/>
            <a:ext cx="7439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54000"/>
                  </a:srgbClr>
                </a:solidFill>
                <a:latin typeface="Arial"/>
              </a:rPr>
              <a:t>   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54000"/>
                  </a:srgbClr>
                </a:solidFill>
                <a:latin typeface="Arial"/>
              </a:rPr>
              <a:t>Unit 7     Films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54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59280" y="587700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礼河实验学校 刘文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333360"/>
            <a:ext cx="91440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Love 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ype of film: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(12) _________fi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ame of cinema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13) ___________ on (14) 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tory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woman falls in love with a man wh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travels (15) __________, but wh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y start to (16) ______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ogether, something terrible happ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49440" y="148428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roman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13200" y="4221000"/>
            <a:ext cx="231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on a 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79520" y="4803840"/>
            <a:ext cx="365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plan their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88000" y="256536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ABC Cin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26160" y="2565360"/>
            <a:ext cx="284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Forest Ro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91520" y="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60280"/>
            <a:ext cx="914400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Gungsuh"/>
              </a:rPr>
              <a:t>What is on at cine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Gungsuh"/>
              </a:rPr>
              <a:t>Here is some information about the three films now showing at cinem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Arial"/>
                <a:ea typeface="Gungsuh"/>
              </a:rPr>
              <a:t>Tales of Old Beiji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Gungsuh"/>
              </a:rPr>
              <a:t> is now showing 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Gungsuh"/>
              </a:rPr>
              <a:t>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inema on ____________. It is a ____________  which is suitable for _______.   It tells the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Gungsuh"/>
              </a:rPr>
              <a:t>story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at ___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8360" y="3174840"/>
            <a:ext cx="305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Arial"/>
              </a:rPr>
              <a:t>Olympic Ro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640" y="4005360"/>
            <a:ext cx="28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document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18160" y="4653000"/>
            <a:ext cx="18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0360" y="321300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Olym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0" y="4653000"/>
            <a:ext cx="175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all 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47280" y="5300640"/>
            <a:ext cx="53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zh-CN" sz="3600" spc="-1" strike="noStrike">
                <a:solidFill>
                  <a:srgbClr val="ff0000"/>
                </a:solidFill>
                <a:latin typeface="Arial"/>
              </a:rPr>
              <a:t>once lived in the hut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50160" y="393372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37440" y="475452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0647600">
            <a:off x="3203280" y="4508640"/>
            <a:ext cx="936720" cy="288720"/>
          </a:xfrm>
          <a:custGeom>
            <a:avLst/>
            <a:gdLst>
              <a:gd name="textAreaLeft" fmla="*/ 0 w 936720"/>
              <a:gd name="textAreaRight" fmla="*/ 937080 w 936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40680" y="537372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22160" y="544500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24720" y="5229360"/>
            <a:ext cx="503280" cy="865080"/>
          </a:xfrm>
          <a:custGeom>
            <a:avLst/>
            <a:gdLst>
              <a:gd name="textAreaLeft" fmla="*/ 167760 w 503280"/>
              <a:gd name="textAreaRight" fmla="*/ 431280 w 503280"/>
              <a:gd name="textAreaTop" fmla="*/ 498240 h 865080"/>
              <a:gd name="textAreaBottom" fmla="*/ 740880 h 865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0920" y="47628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76280"/>
            <a:ext cx="9144000" cy="59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unshine Cinema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on ______________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now showing a film called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World of Dinosaurs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 It is a ____________ film,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ich brings _________ alive on screen.   A _____________ is chosen  to be the ____________ of the dinosaurs famil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. This film is suitable for 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87640" y="907920"/>
            <a:ext cx="33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Sunshine Ro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80360" y="2349360"/>
            <a:ext cx="30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cience fi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3640" y="2997360"/>
            <a:ext cx="21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inosa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3789360"/>
            <a:ext cx="31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aby dinosa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720" y="451656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future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640" y="5157720"/>
            <a:ext cx="175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l 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602136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647600">
            <a:off x="4932000" y="3645000"/>
            <a:ext cx="936720" cy="288720"/>
          </a:xfrm>
          <a:custGeom>
            <a:avLst/>
            <a:gdLst>
              <a:gd name="textAreaLeft" fmla="*/ 0 w 936720"/>
              <a:gd name="textAreaRight" fmla="*/ 937080 w 936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181080" y="314172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48720" y="3068640"/>
            <a:ext cx="12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71640" y="616572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2682800">
            <a:off x="7380360" y="2923560"/>
            <a:ext cx="720720" cy="360360"/>
          </a:xfrm>
          <a:custGeom>
            <a:avLst/>
            <a:gdLst>
              <a:gd name="textAreaLeft" fmla="*/ 0 w 720720"/>
              <a:gd name="textAreaRight" fmla="*/ 721080 w 7207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9640" y="33336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60280"/>
            <a:ext cx="914400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Love Ship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 is now shown at ___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n ______________It is a _________ film that is not suitable for _________. It is about a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oman  who falls in love with a man when she travels __________,   but something terrible happens when they start to ___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ogether, The ticket price is _________ but there is a special offer on __________ and before _________ on Fri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36000" y="333360"/>
            <a:ext cx="28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BC Cin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0360" y="987480"/>
            <a:ext cx="26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Forest Ro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6720" y="987480"/>
            <a:ext cx="19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oman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360" y="1557360"/>
            <a:ext cx="17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hild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20000" y="285264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n a 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6000" y="3508200"/>
            <a:ext cx="33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lan their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36360" y="415620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60 yu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20360" y="473220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uesd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04720" y="537372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6.00p.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05440" y="220500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1800" y="285264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0647600">
            <a:off x="1042560" y="2781360"/>
            <a:ext cx="936720" cy="288720"/>
          </a:xfrm>
          <a:custGeom>
            <a:avLst/>
            <a:gdLst>
              <a:gd name="textAreaLeft" fmla="*/ 0 w 936720"/>
              <a:gd name="textAreaRight" fmla="*/ 937080 w 936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5373720"/>
            <a:ext cx="2881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7621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Cannes International Film Festi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戛纳国际电影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066680" y="2590920"/>
            <a:ext cx="3733920" cy="3184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029200" y="2133720"/>
            <a:ext cx="278748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12193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Shanghai International Film Festi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上海国际电影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666880" y="2743200"/>
            <a:ext cx="372744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5334120" cy="3578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143000" y="10666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Berlin International Film Festi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柏林国际电影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676520" y="7621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Venice Film Festi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威尼斯电影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828800" y="2286000"/>
            <a:ext cx="5715000" cy="39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4920" y="1305000"/>
            <a:ext cx="830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What is Sandy’s favourite kind of film?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Sandy likes romantic films because they usually have beautiful sto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What is Daniel’s favourite kind of film?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Daniel likes action films because they are really excit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457200"/>
            <a:ext cx="1695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Answer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38080" y="1905120"/>
            <a:ext cx="7696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What does Daniel think of horror fil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Daniel doesn’t like horror films because they seem to be full of mysteries, but in fact, they are quite stup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1760400" cy="2376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4000" y="26028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 types of films are th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400536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rror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16360" y="39337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ction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59280" y="5516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cience fiction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028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Leading-i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39640" y="1484280"/>
            <a:ext cx="1749600" cy="2449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68360" y="4869000"/>
            <a:ext cx="2374920" cy="178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03480" y="1258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24360" y="170028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omanti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4292640"/>
            <a:ext cx="266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4005360"/>
            <a:ext cx="3095640" cy="2316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140360" y="465300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cumen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4360" y="476280"/>
            <a:ext cx="2695320" cy="29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70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Answer the following questions according to the information in Part A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at are the name of the three fil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Which cinema is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The world of Dinosaur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on 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Where is ABC Cine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What’s the price of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Tales of Old Beiji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What kind of people can see the film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love sh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628640"/>
            <a:ext cx="9144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i="1" lang="zh-CN" sz="3200" spc="-1" strike="noStrike">
                <a:solidFill>
                  <a:srgbClr val="ff0066"/>
                </a:solidFill>
                <a:latin typeface="Arial"/>
              </a:rPr>
              <a:t>Tales of Old Beijing, The World of Dinosaurs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and</a:t>
            </a:r>
            <a:r>
              <a:rPr b="1" i="1" lang="zh-CN" sz="3200" spc="-1" strike="noStrike">
                <a:solidFill>
                  <a:srgbClr val="ff0066"/>
                </a:solidFill>
                <a:latin typeface="Arial"/>
              </a:rPr>
              <a:t> Love 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3114720"/>
            <a:ext cx="914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i="1" lang="zh-CN" sz="3200" spc="-1" strike="noStrike">
                <a:solidFill>
                  <a:srgbClr val="ff0066"/>
                </a:solidFill>
                <a:latin typeface="Arial"/>
              </a:rPr>
              <a:t>Sunshine Cin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4149720"/>
            <a:ext cx="914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On Forest 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4915080"/>
            <a:ext cx="914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66"/>
                </a:solidFill>
                <a:latin typeface="Arial"/>
              </a:rPr>
              <a:t>40 yu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36360" y="6237360"/>
            <a:ext cx="914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i="1" lang="zh-CN" sz="3200" spc="-1" strike="noStrike">
                <a:solidFill>
                  <a:srgbClr val="ff0066"/>
                </a:solidFill>
                <a:latin typeface="Arial"/>
              </a:rPr>
              <a:t>Ad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324000" y="404640"/>
            <a:ext cx="9144000" cy="38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zh-CN" sz="6000" spc="-1" strike="noStrike" u="sng">
                <a:solidFill>
                  <a:srgbClr val="333399"/>
                </a:solidFill>
                <a:uFillTx/>
                <a:latin typeface="Arial"/>
              </a:rPr>
              <a:t>Step 1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Listen to the tape for the first time and answer the ques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What type of film is each fil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74640" y="3500280"/>
            <a:ext cx="441432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66"/>
                </a:solidFill>
                <a:latin typeface="Arial Narrow"/>
              </a:rPr>
              <a:t>a  </a:t>
            </a:r>
            <a:r>
              <a:rPr b="1" i="1" lang="zh-CN" sz="3200" spc="-1" strike="noStrike">
                <a:solidFill>
                  <a:srgbClr val="00ff00"/>
                </a:solidFill>
                <a:latin typeface="Arial Narrow"/>
              </a:rPr>
              <a:t>three-hour </a:t>
            </a:r>
            <a:r>
              <a:rPr b="1" i="1" lang="zh-CN" sz="3200" spc="-1" strike="noStrike">
                <a:solidFill>
                  <a:srgbClr val="ff0066"/>
                </a:solidFill>
                <a:latin typeface="Arial Narrow"/>
              </a:rPr>
              <a:t>documen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66"/>
                </a:solidFill>
                <a:latin typeface="Arial Narrow"/>
              </a:rPr>
              <a:t>a science fiction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66"/>
                </a:solidFill>
                <a:latin typeface="Arial Narrow"/>
              </a:rPr>
              <a:t>a romantic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60" y="3597120"/>
            <a:ext cx="54723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 Narrow"/>
              </a:rPr>
              <a:t>Tales of Old Beij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 Narrow"/>
              </a:rPr>
              <a:t>The World of Dinosa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 Narrow"/>
              </a:rPr>
              <a:t>Love Ship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19280" y="1197000"/>
            <a:ext cx="655308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tep 2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 Narrow"/>
              </a:rPr>
              <a:t>Listen to the tape again and fill in the blanks of Part A1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58920" y="765000"/>
            <a:ext cx="7710480" cy="36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333399"/>
                </a:solidFill>
                <a:uFillTx/>
                <a:latin typeface="Arial"/>
              </a:rPr>
              <a:t>Step 3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Fill in the blanks of Part A3 according to Part A1 &amp; Part A2.</a:t>
            </a:r>
            <a:r>
              <a:rPr b="1" i="1" lang="en-US" sz="6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756720" cy="7101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Tales of Old 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ype of film: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(1) ____________documentary that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ows you what Beijing was lik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2) ____________ 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ame of cinema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3) ______________ on (4) ____________ Sto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story of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5)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＿＿＿＿＿＿＿＿＿＿＿＿＿＿＿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49440" y="141300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three-h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3280" y="2637000"/>
            <a:ext cx="269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many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42920" y="58118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a family that lived in the hut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73440" y="3933720"/>
            <a:ext cx="376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Olympic Cin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25240" y="3933720"/>
            <a:ext cx="32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Olympic Ro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91520" y="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549360"/>
            <a:ext cx="94680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The World of Dinosa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ype of film: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(6) ________________ ab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7)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ame of cinema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8) _________________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9) 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tory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10) ______________ is chosen to be th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11) ___________of the dinosaure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26520" y="1708200"/>
            <a:ext cx="442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science fiction fi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09800" y="227808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dinosa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18880" y="5014800"/>
            <a:ext cx="381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a baby dinosa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72600" y="5518080"/>
            <a:ext cx="25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future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26160" y="3357720"/>
            <a:ext cx="40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Sunshine Cin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26520" y="3933720"/>
            <a:ext cx="35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Sunshine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Ro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91520" y="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0:04:53Z</dcterms:created>
  <dc:creator>微软用户</dc:creator>
  <dc:description/>
  <dc:language>en-US</dc:language>
  <cp:lastModifiedBy>111</cp:lastModifiedBy>
  <dcterms:modified xsi:type="dcterms:W3CDTF">2017-03-17T08:05:41Z</dcterms:modified>
  <cp:revision>74</cp:revision>
  <dc:subject/>
  <dc:title>幻灯片 1</dc:title>
</cp:coreProperties>
</file>