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610480" y="6521400"/>
            <a:ext cx="53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625544-4D5D-4C6E-89EE-F371C3C5DC31}" type="slidenum">
              <a:rPr b="0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023240" y="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k BT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Eras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Eras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k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Eras Bk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Eras Bk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k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Eras Bk BT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Eras Bk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Bk B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Eras Bk B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k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Bk B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Eras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k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Bk B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Eras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k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10"/>
          <p:cNvSpPr txBox="1"/>
          <p:nvPr/>
        </p:nvSpPr>
        <p:spPr>
          <a:xfrm>
            <a:off x="4427640" y="907920"/>
            <a:ext cx="38559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Arial Black"/>
              </a:rPr>
              <a:t>Reading I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" name="Picture 12" descr="link"/>
          <p:cNvPicPr/>
          <p:nvPr/>
        </p:nvPicPr>
        <p:blipFill>
          <a:blip r:embed="rId2"/>
          <a:stretch/>
        </p:blipFill>
        <p:spPr>
          <a:xfrm>
            <a:off x="1403280" y="2205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13"/>
          <p:cNvSpPr txBox="1"/>
          <p:nvPr/>
        </p:nvSpPr>
        <p:spPr>
          <a:xfrm>
            <a:off x="684360" y="836640"/>
            <a:ext cx="380664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8A Unit 2 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1979640" y="2349360"/>
            <a:ext cx="410364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School lives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407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礼河实验学校  刘文华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145" name="图片 7" descr=""/>
          <p:cNvPicPr/>
          <p:nvPr/>
        </p:nvPicPr>
        <p:blipFill>
          <a:blip r:embed="rId1"/>
          <a:stretch/>
        </p:blipFill>
        <p:spPr>
          <a:xfrm>
            <a:off x="36360" y="0"/>
            <a:ext cx="9136080" cy="688644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23"/>
          <p:cNvSpPr/>
          <p:nvPr/>
        </p:nvSpPr>
        <p:spPr>
          <a:xfrm>
            <a:off x="2987640" y="189000"/>
            <a:ext cx="30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Ex.B2</a:t>
            </a: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05440" y="1054080"/>
            <a:ext cx="3490920" cy="2521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12720" y="1054080"/>
            <a:ext cx="3417840" cy="2563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529080" cy="258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12720" y="4076640"/>
            <a:ext cx="3384720" cy="2540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68520" y="1049400"/>
            <a:ext cx="628920" cy="703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7813800" y="1074600"/>
            <a:ext cx="576000" cy="703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4076640"/>
            <a:ext cx="628560" cy="703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7885080" y="4076640"/>
            <a:ext cx="576360" cy="703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663480" y="10936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112536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149720"/>
            <a:ext cx="3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41497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7" descr=""/>
          <p:cNvPicPr/>
          <p:nvPr/>
        </p:nvPicPr>
        <p:blipFill>
          <a:blip r:embed="rId1"/>
          <a:stretch/>
        </p:blipFill>
        <p:spPr>
          <a:xfrm>
            <a:off x="1440" y="189000"/>
            <a:ext cx="9107640" cy="118260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3"/>
          <p:cNvSpPr/>
          <p:nvPr/>
        </p:nvSpPr>
        <p:spPr>
          <a:xfrm>
            <a:off x="2987640" y="189000"/>
            <a:ext cx="30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Ex.B2</a:t>
            </a: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8608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In a ______ school, boys and girls study _______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In the __________ , older students help new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tudents learn more about ____________ 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During ______________ , students can _______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 from the library and can bring in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__ from home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Some students ______________ after school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d they ______________ every time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1413000"/>
            <a:ext cx="14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ixed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165800" y="141300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ogether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227664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uddy Club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788000" y="270972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he school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836720" y="36100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he Reading Week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57336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orrow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400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ore books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4437000"/>
            <a:ext cx="44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ooks and magazines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302080"/>
            <a:ext cx="29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lay baseball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5734080"/>
            <a:ext cx="34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ractice hard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376200" y="279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58760" y="339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-69840" y="115920"/>
            <a:ext cx="932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Daniel wrote about schools in the two countries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wever , he made some mistakes. Write a T if a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entence is true or an F if it is false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50920" y="1125360"/>
            <a:ext cx="926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 1. Both Nancy an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Joh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Grade8 students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 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ncy’s favourite subject is English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 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is a Reading Week at Nancy’s school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year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 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ncy always brings in more books than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classmates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 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lasses at John’s school are not the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e every day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  ) 6.John and his friends often go shopping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 Friday afternoon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541800" y="335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9800" y="4149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539640" y="14842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468360" y="24922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39640" y="508464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516720" y="1989000"/>
            <a:ext cx="172872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ench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3995640" y="3141720"/>
            <a:ext cx="1368360" cy="58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s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68360" y="19162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6372360" y="4941720"/>
            <a:ext cx="2087280" cy="58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sports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186" name="图片 7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9200" cy="6842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836640"/>
            <a:ext cx="9144000" cy="56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Comic Sans MS"/>
              </a:rPr>
              <a:t>language points</a:t>
            </a:r>
            <a:endParaRPr b="1" i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 Year 8   =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n Grade 8  = in the 8th grade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Learning foreign languages is fun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动名词作主语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eg. 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Swimming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more interesting than fish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o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ports is good for our health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189" name="图片 7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9200" cy="6842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404640"/>
            <a:ext cx="9144000" cy="56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ime seems to go faster when we are reading interesting books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我们阅读有趣的书的时候，时间似乎过得更快。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offer me help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b sth = offer sth to sb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Our school ends earlier than usual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usual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像往常一样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wice a week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周两次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month       three times a week       many times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192" name="图片 7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9200" cy="6842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2472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play baseball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ay football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volleyball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sketball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nnis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/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able tennis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badminton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ess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cards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practice hard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ing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our team won two games last month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 —— won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 the game / match / competition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590920" y="1943280"/>
            <a:ext cx="4981320" cy="19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njoy your school life,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njoy every day!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684360" y="836640"/>
            <a:ext cx="759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700" spc="-1" strike="noStrike">
                <a:solidFill>
                  <a:srgbClr val="ff3399"/>
                </a:solidFill>
                <a:latin typeface="Monotype Corsiva"/>
              </a:rPr>
              <a:t>C</a:t>
            </a:r>
            <a:r>
              <a:rPr b="1" i="1" lang="en-US" sz="4800" spc="-1" strike="noStrike">
                <a:solidFill>
                  <a:srgbClr val="3333cc"/>
                </a:solidFill>
                <a:latin typeface="Arial Black"/>
              </a:rPr>
              <a:t>hinese school life</a:t>
            </a: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6" descr="红旗"/>
          <p:cNvPicPr/>
          <p:nvPr/>
        </p:nvPicPr>
        <p:blipFill>
          <a:blip r:embed="rId2"/>
          <a:stretch/>
        </p:blipFill>
        <p:spPr>
          <a:xfrm>
            <a:off x="3276720" y="3284640"/>
            <a:ext cx="3816360" cy="2598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HaoSc25_1070_20052511565458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4383000"/>
            <a:ext cx="965160" cy="1067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0" y="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Introduce your school life .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43280" y="1125360"/>
            <a:ext cx="3097080" cy="576360"/>
            <a:chOff x="2843280" y="1125360"/>
            <a:chExt cx="3097080" cy="576360"/>
          </a:xfrm>
        </p:grpSpPr>
        <p:sp>
          <p:nvSpPr>
            <p:cNvPr id="201" name="AutoShape 12"/>
            <p:cNvSpPr/>
            <p:nvPr/>
          </p:nvSpPr>
          <p:spPr>
            <a:xfrm>
              <a:off x="2843280" y="1125360"/>
              <a:ext cx="3097080" cy="576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2916360" y="112536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oper Black"/>
                </a:rPr>
                <a:t>My school life</a:t>
              </a: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0" y="1844640"/>
            <a:ext cx="9143280" cy="3938040"/>
            <a:chOff x="0" y="1844640"/>
            <a:chExt cx="9143280" cy="3938040"/>
          </a:xfrm>
        </p:grpSpPr>
        <p:sp>
          <p:nvSpPr>
            <p:cNvPr id="204" name="AutoShape 22"/>
            <p:cNvSpPr/>
            <p:nvPr/>
          </p:nvSpPr>
          <p:spPr>
            <a:xfrm>
              <a:off x="0" y="1844640"/>
              <a:ext cx="9143280" cy="39380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3"/>
            <p:cNvSpPr/>
            <p:nvPr/>
          </p:nvSpPr>
          <p:spPr>
            <a:xfrm>
              <a:off x="215640" y="1844640"/>
              <a:ext cx="8717040" cy="37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oper Black"/>
                </a:rPr>
                <a:t>1. grade, school:</a:t>
              </a: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oper Black"/>
                </a:rPr>
                <a:t>2. favourite subject:</a:t>
              </a: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oper Black"/>
                </a:rPr>
                <a:t>3. favourite sport/</a:t>
              </a: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oper Black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oper Black"/>
                </a:rPr>
                <a:t>activity/club:</a:t>
              </a: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oper Black"/>
                </a:rPr>
                <a:t>4. buddy </a:t>
              </a: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oper Black"/>
                </a:rPr>
                <a:t>5. ……</a:t>
              </a: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6" name="Text Box 25"/>
          <p:cNvSpPr/>
          <p:nvPr/>
        </p:nvSpPr>
        <p:spPr>
          <a:xfrm>
            <a:off x="3995640" y="1897200"/>
            <a:ext cx="5473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oper Black"/>
              </a:rPr>
              <a:t>Which?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oper Black"/>
              </a:rPr>
              <a:t>What? Why?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oper Black"/>
              </a:rPr>
              <a:t>What? How often? How?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oper Black"/>
              </a:rPr>
              <a:t>……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oper Black"/>
              </a:rPr>
              <a:t>Who?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oper Black"/>
              </a:rPr>
              <a:t>……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 flipV="1">
            <a:off x="4500720" y="2276280"/>
            <a:ext cx="0" cy="487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4500720" y="3357360"/>
            <a:ext cx="0" cy="50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 flipH="1">
            <a:off x="2555640" y="3284640"/>
            <a:ext cx="649080" cy="215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5580000" y="2474640"/>
            <a:ext cx="71928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843280" y="2637000"/>
            <a:ext cx="3313080" cy="776160"/>
            <a:chOff x="2843280" y="2637000"/>
            <a:chExt cx="3313080" cy="776160"/>
          </a:xfrm>
        </p:grpSpPr>
        <p:sp>
          <p:nvSpPr>
            <p:cNvPr id="50" name="Oval 9"/>
            <p:cNvSpPr/>
            <p:nvPr/>
          </p:nvSpPr>
          <p:spPr>
            <a:xfrm>
              <a:off x="2916360" y="2692440"/>
              <a:ext cx="3240000" cy="72072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2843280" y="2637000"/>
              <a:ext cx="316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school life</a:t>
              </a:r>
              <a:endParaRPr b="1" i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" name="Text Box 11"/>
          <p:cNvSpPr/>
          <p:nvPr/>
        </p:nvSpPr>
        <p:spPr>
          <a:xfrm>
            <a:off x="3255840" y="6818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564000" y="162864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mixed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39640" y="393372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French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6588000" y="62064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discuss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539640" y="4654440"/>
            <a:ext cx="29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foreign language</a:t>
            </a: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6156360" y="5877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uddy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25"/>
          <p:cNvSpPr/>
          <p:nvPr/>
        </p:nvSpPr>
        <p:spPr>
          <a:xfrm>
            <a:off x="3348000" y="58770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ase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all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32" descr="垒球1"/>
          <p:cNvPicPr/>
          <p:nvPr/>
        </p:nvPicPr>
        <p:blipFill>
          <a:blip r:embed="rId1"/>
          <a:stretch/>
        </p:blipFill>
        <p:spPr>
          <a:xfrm>
            <a:off x="4067280" y="386064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9"/>
          <p:cNvSpPr/>
          <p:nvPr/>
        </p:nvSpPr>
        <p:spPr>
          <a:xfrm>
            <a:off x="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oper Black"/>
              </a:rPr>
              <a:t>Pre-reading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45" descr="20110414163038863"/>
          <p:cNvPicPr/>
          <p:nvPr/>
        </p:nvPicPr>
        <p:blipFill>
          <a:blip r:embed="rId2"/>
          <a:stretch/>
        </p:blipFill>
        <p:spPr>
          <a:xfrm>
            <a:off x="3132000" y="0"/>
            <a:ext cx="2664000" cy="1784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8000" y="1270080"/>
            <a:ext cx="2592360" cy="2808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300720" y="134136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5" name="云层" descr=""/>
          <p:cNvPicPr/>
          <p:nvPr/>
        </p:nvPicPr>
        <p:blipFill>
          <a:blip r:embed="rId2"/>
          <a:srcRect l="13813" t="9223" r="29255" b="5969"/>
          <a:stretch/>
        </p:blipFill>
        <p:spPr>
          <a:xfrm rot="238800">
            <a:off x="10683360" y="592200"/>
            <a:ext cx="2978280" cy="181764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23"/>
          <p:cNvSpPr/>
          <p:nvPr/>
        </p:nvSpPr>
        <p:spPr>
          <a:xfrm>
            <a:off x="2987640" y="189000"/>
            <a:ext cx="30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Ex.B1</a:t>
            </a: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44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foreign (line5)      ___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language(line5)   ___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discuss (line9)     ___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offer (line17)       ___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win (line23)         ___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1052640"/>
            <a:ext cx="496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talk about something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give something to someone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be best or first in a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not in or from your own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. words used in speaking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d writing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98100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d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844640"/>
            <a:ext cx="5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e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2637000"/>
            <a:ext cx="4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a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3500280"/>
            <a:ext cx="58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43657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c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77556E-017 L -0.83099 2.77556E-017 E">
                                      <p:cBhvr>
                                        <p:cTn id="57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未命名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32360" y="549360"/>
            <a:ext cx="3838680" cy="645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未命名-1"/>
          <p:cNvPicPr/>
          <p:nvPr/>
        </p:nvPicPr>
        <p:blipFill>
          <a:blip r:embed="rId3"/>
          <a:stretch/>
        </p:blipFill>
        <p:spPr>
          <a:xfrm>
            <a:off x="395280" y="620640"/>
            <a:ext cx="3638520" cy="6467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4354560"/>
            <a:ext cx="9144000" cy="25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oper Black"/>
              </a:rPr>
              <a:t>Grade:</a:t>
            </a: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oper Black"/>
              </a:rPr>
              <a:t>School:</a:t>
            </a: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4" descr="0f8e759776d91670d0135ef2"/>
          <p:cNvPicPr/>
          <p:nvPr/>
        </p:nvPicPr>
        <p:blipFill>
          <a:blip r:embed="rId4"/>
          <a:stretch/>
        </p:blipFill>
        <p:spPr>
          <a:xfrm>
            <a:off x="2124000" y="4930920"/>
            <a:ext cx="1440000" cy="984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547640" y="5913360"/>
            <a:ext cx="266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oodland School</a:t>
            </a:r>
            <a:endParaRPr b="1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979640" y="356220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645080" y="3860640"/>
            <a:ext cx="4500360" cy="57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oper Black"/>
              </a:rPr>
              <a:t>John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692360" y="4427640"/>
            <a:ext cx="237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oper Black"/>
              </a:rPr>
              <a:t>in Year 8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003640" y="549360"/>
            <a:ext cx="414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0" y="3860640"/>
            <a:ext cx="4716360" cy="57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oper Black"/>
              </a:rPr>
              <a:t>Nancy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12" descr="034965f4706df7e9f3d3854a"/>
          <p:cNvPicPr/>
          <p:nvPr/>
        </p:nvPicPr>
        <p:blipFill>
          <a:blip r:embed="rId5"/>
          <a:stretch/>
        </p:blipFill>
        <p:spPr>
          <a:xfrm>
            <a:off x="6012000" y="4867200"/>
            <a:ext cx="1479240" cy="998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3"/>
          <p:cNvSpPr/>
          <p:nvPr/>
        </p:nvSpPr>
        <p:spPr>
          <a:xfrm>
            <a:off x="4716360" y="5950080"/>
            <a:ext cx="44276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cky Mountain High School</a:t>
            </a:r>
            <a:endParaRPr b="1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ar Denver</a:t>
            </a:r>
            <a:endParaRPr b="1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508720" y="4354560"/>
            <a:ext cx="2879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oper Black"/>
              </a:rPr>
              <a:t>in the </a:t>
            </a:r>
            <a:r>
              <a:rPr b="1" lang="zh-CN" sz="2800" spc="-1" strike="noStrike">
                <a:solidFill>
                  <a:srgbClr val="ff3300"/>
                </a:solidFill>
                <a:latin typeface="Cooper Black"/>
              </a:rPr>
              <a:t>8</a:t>
            </a:r>
            <a:r>
              <a:rPr b="1" lang="en-US" sz="2800" spc="-1" strike="noStrike">
                <a:solidFill>
                  <a:srgbClr val="ff3300"/>
                </a:solidFill>
                <a:latin typeface="Cooper Black"/>
              </a:rPr>
              <a:t>th grade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1404000" y="616500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['w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,l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æ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d]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4948560" y="623664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['r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ɔ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]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Cooper Black"/>
              </a:rPr>
              <a:t>while</a:t>
            </a:r>
            <a:r>
              <a:rPr b="1" lang="en-US" sz="3600" spc="-1" strike="noStrike">
                <a:solidFill>
                  <a:srgbClr val="3333cc"/>
                </a:solidFill>
                <a:latin typeface="Cooper Black"/>
              </a:rPr>
              <a:t>-reading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908000" y="1413000"/>
            <a:ext cx="78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fe in a </a:t>
            </a:r>
            <a:r>
              <a:rPr b="1" i="1" lang="zh-CN" sz="54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B</a:t>
            </a:r>
            <a:r>
              <a:rPr b="1" i="1" lang="zh-CN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tish school</a:t>
            </a:r>
            <a:endParaRPr b="1" i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6" descr="034965f4706df7e9f3d3854a"/>
          <p:cNvPicPr/>
          <p:nvPr/>
        </p:nvPicPr>
        <p:blipFill>
          <a:blip r:embed="rId2"/>
          <a:stretch/>
        </p:blipFill>
        <p:spPr>
          <a:xfrm>
            <a:off x="3492360" y="3357720"/>
            <a:ext cx="3600720" cy="243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203640" y="1989000"/>
            <a:ext cx="352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156360" y="981000"/>
            <a:ext cx="201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Cooper Black"/>
              </a:rPr>
              <a:t>French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340000" y="98100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81080" y="693720"/>
            <a:ext cx="4103280" cy="1296720"/>
            <a:chOff x="1981080" y="693720"/>
            <a:chExt cx="4103280" cy="1296720"/>
          </a:xfrm>
        </p:grpSpPr>
        <p:sp>
          <p:nvSpPr>
            <p:cNvPr id="96" name="Oval 10"/>
            <p:cNvSpPr/>
            <p:nvPr/>
          </p:nvSpPr>
          <p:spPr>
            <a:xfrm>
              <a:off x="1981080" y="693720"/>
              <a:ext cx="3925440" cy="12967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2075040" y="879120"/>
              <a:ext cx="4009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oper Black"/>
                </a:rPr>
                <a:t>Nancy</a:t>
              </a:r>
              <a:r>
                <a:rPr b="1" lang="en-US" sz="3200" spc="-1" strike="noStrike">
                  <a:solidFill>
                    <a:srgbClr val="000000"/>
                  </a:solidFill>
                  <a:latin typeface="Cooper Black"/>
                </a:rPr>
                <a:t>’s favourite subject</a:t>
              </a:r>
              <a:endParaRPr b="1" i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" name="Text Box 12"/>
          <p:cNvSpPr/>
          <p:nvPr/>
        </p:nvSpPr>
        <p:spPr>
          <a:xfrm>
            <a:off x="539640" y="3718080"/>
            <a:ext cx="2448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oper Black"/>
              </a:rPr>
              <a:t>The Reading Week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2916360" y="3500280"/>
            <a:ext cx="647640" cy="2087640"/>
          </a:xfrm>
          <a:custGeom>
            <a:avLst/>
            <a:gdLst>
              <a:gd name="textAreaLeft" fmla="*/ 414000 w 647640"/>
              <a:gd name="textAreaRight" fmla="*/ 648000 w 647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564000" y="3500280"/>
            <a:ext cx="158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oper Black"/>
              </a:rPr>
              <a:t>where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3635280" y="5084640"/>
            <a:ext cx="158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oper Black"/>
              </a:rPr>
              <a:t>what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81080" y="2062080"/>
            <a:ext cx="4103280" cy="1296720"/>
            <a:chOff x="1981080" y="2062080"/>
            <a:chExt cx="4103280" cy="1296720"/>
          </a:xfrm>
        </p:grpSpPr>
        <p:sp>
          <p:nvSpPr>
            <p:cNvPr id="103" name="Oval 18"/>
            <p:cNvSpPr/>
            <p:nvPr/>
          </p:nvSpPr>
          <p:spPr>
            <a:xfrm>
              <a:off x="1981080" y="2062080"/>
              <a:ext cx="3925440" cy="12967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2075040" y="2245680"/>
              <a:ext cx="4009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oper Black"/>
                </a:rPr>
                <a:t>Nancy</a:t>
              </a:r>
              <a:r>
                <a:rPr b="1" lang="en-US" sz="3200" spc="-1" strike="noStrike">
                  <a:solidFill>
                    <a:srgbClr val="000000"/>
                  </a:solidFill>
                  <a:latin typeface="Cooper Black"/>
                </a:rPr>
                <a:t>’s favourite activity</a:t>
              </a:r>
              <a:endParaRPr b="1" i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AutoShape 20"/>
          <p:cNvSpPr/>
          <p:nvPr/>
        </p:nvSpPr>
        <p:spPr>
          <a:xfrm>
            <a:off x="4932360" y="364500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932360" y="522936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6084720" y="5013360"/>
            <a:ext cx="270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Cooper Black"/>
              </a:rPr>
              <a:t>read books, discuss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6084720" y="350028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oper Black"/>
              </a:rPr>
              <a:t>library, homes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ectangle 43"/>
          <p:cNvSpPr/>
          <p:nvPr/>
        </p:nvSpPr>
        <p:spPr>
          <a:xfrm>
            <a:off x="2035440" y="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Cooper Black"/>
              </a:rPr>
              <a:t>Nancy</a:t>
            </a:r>
            <a:r>
              <a:rPr b="1" lang="en-US" sz="3600" spc="-1" strike="noStrike">
                <a:solidFill>
                  <a:srgbClr val="3333cc"/>
                </a:solidFill>
                <a:latin typeface="Cooper Black"/>
              </a:rPr>
              <a:t>’s school life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45" descr="04p_biuIAboQnobi"/>
          <p:cNvPicPr/>
          <p:nvPr/>
        </p:nvPicPr>
        <p:blipFill>
          <a:blip r:embed="rId1"/>
          <a:stretch/>
        </p:blipFill>
        <p:spPr>
          <a:xfrm>
            <a:off x="3591000" y="6638760"/>
            <a:ext cx="5553000" cy="21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6" descr="04p_biuIAboQnobi"/>
          <p:cNvPicPr/>
          <p:nvPr/>
        </p:nvPicPr>
        <p:blipFill>
          <a:blip r:embed="rId2"/>
          <a:stretch/>
        </p:blipFill>
        <p:spPr>
          <a:xfrm>
            <a:off x="0" y="6638760"/>
            <a:ext cx="5553000" cy="219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332000" y="1197000"/>
            <a:ext cx="83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fe in an </a:t>
            </a:r>
            <a:r>
              <a:rPr b="1" i="1" lang="zh-CN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A</a:t>
            </a:r>
            <a:r>
              <a:rPr b="1" i="1" lang="zh-CN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rican school</a:t>
            </a: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4" descr="0f8e759776d91670d0135ef2"/>
          <p:cNvPicPr/>
          <p:nvPr/>
        </p:nvPicPr>
        <p:blipFill>
          <a:blip r:embed="rId2"/>
          <a:stretch/>
        </p:blipFill>
        <p:spPr>
          <a:xfrm>
            <a:off x="3419640" y="3284640"/>
            <a:ext cx="3671640" cy="2509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03640" y="1989000"/>
            <a:ext cx="352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997360"/>
          <a:ext cx="9144000" cy="3860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2463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ooper Black"/>
                          <a:ea typeface="M 中黑體"/>
                        </a:rPr>
                        <a:t>Sport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284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ooper Black"/>
                          <a:ea typeface="M 中黑體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ooper Black"/>
                          <a:ea typeface="M 中黑體"/>
                        </a:rPr>
                        <a:t>Club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330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ooper Black"/>
                          <a:ea typeface="M 中黑體"/>
                        </a:rPr>
                        <a:t>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ooper Black"/>
                          <a:ea typeface="M 中黑體"/>
                        </a:rPr>
                        <a:t>Buddy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68"/>
          <p:cNvSpPr/>
          <p:nvPr/>
        </p:nvSpPr>
        <p:spPr>
          <a:xfrm>
            <a:off x="1547640" y="1052640"/>
            <a:ext cx="6337440" cy="702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oper Black"/>
              </a:rPr>
              <a:t>John</a:t>
            </a:r>
            <a:r>
              <a:rPr b="1" lang="en-US" sz="4000" spc="-1" strike="noStrike">
                <a:solidFill>
                  <a:srgbClr val="000000"/>
                </a:solidFill>
                <a:latin typeface="Cooper Black"/>
              </a:rPr>
              <a:t>’s favourites</a:t>
            </a: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AutoShape 61"/>
          <p:cNvSpPr/>
          <p:nvPr/>
        </p:nvSpPr>
        <p:spPr>
          <a:xfrm>
            <a:off x="1619280" y="371628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66"/>
          <p:cNvSpPr/>
          <p:nvPr/>
        </p:nvSpPr>
        <p:spPr>
          <a:xfrm>
            <a:off x="1619280" y="472428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67"/>
          <p:cNvSpPr/>
          <p:nvPr/>
        </p:nvSpPr>
        <p:spPr>
          <a:xfrm>
            <a:off x="1619280" y="609300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69"/>
          <p:cNvSpPr/>
          <p:nvPr/>
        </p:nvSpPr>
        <p:spPr>
          <a:xfrm>
            <a:off x="2916360" y="3500280"/>
            <a:ext cx="482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oper Black"/>
              </a:rPr>
              <a:t>base</a:t>
            </a: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ball (twice a week)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71"/>
          <p:cNvSpPr/>
          <p:nvPr/>
        </p:nvSpPr>
        <p:spPr>
          <a:xfrm>
            <a:off x="3492360" y="5877000"/>
            <a:ext cx="26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oper Black"/>
              </a:rPr>
              <a:t>Tony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3995640" y="1413000"/>
            <a:ext cx="38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84"/>
          <p:cNvSpPr/>
          <p:nvPr/>
        </p:nvSpPr>
        <p:spPr>
          <a:xfrm>
            <a:off x="3492360" y="4508640"/>
            <a:ext cx="26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Buddy Club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403280" y="189000"/>
            <a:ext cx="7128000" cy="3743280"/>
            <a:chOff x="1403280" y="189000"/>
            <a:chExt cx="7128000" cy="3743280"/>
          </a:xfrm>
        </p:grpSpPr>
        <p:sp>
          <p:nvSpPr>
            <p:cNvPr id="125" name="AutoShape 75"/>
            <p:cNvSpPr/>
            <p:nvPr/>
          </p:nvSpPr>
          <p:spPr>
            <a:xfrm>
              <a:off x="1403280" y="189000"/>
              <a:ext cx="7128000" cy="3743280"/>
            </a:xfrm>
            <a:prstGeom prst="wedgeEllipseCallout">
              <a:avLst>
                <a:gd name="adj1" fmla="val 1356"/>
                <a:gd name="adj2" fmla="val 6924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1434240" y="1500480"/>
              <a:ext cx="5419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oper Black"/>
                </a:rPr>
                <a:t>Older students:</a:t>
              </a:r>
              <a:endParaRPr b="1" i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oper Black"/>
                </a:rPr>
                <a:t>Nancy’s buddy:</a:t>
              </a:r>
              <a:endParaRPr b="1" i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7" name="Text Box 82"/>
          <p:cNvSpPr/>
          <p:nvPr/>
        </p:nvSpPr>
        <p:spPr>
          <a:xfrm>
            <a:off x="4427640" y="1125360"/>
            <a:ext cx="41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Cooper Black"/>
              </a:rPr>
              <a:t>help...learn </a:t>
            </a:r>
            <a:r>
              <a:rPr b="1" lang="en-US" sz="3200" spc="-1" strike="noStrike">
                <a:solidFill>
                  <a:srgbClr val="3333cc"/>
                </a:solidFill>
                <a:latin typeface="Cooper Black"/>
              </a:rPr>
              <a:t>more about the school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4427640" y="2349360"/>
            <a:ext cx="4032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Cooper Black"/>
              </a:rPr>
              <a:t>listen </a:t>
            </a:r>
            <a:r>
              <a:rPr b="1" lang="en-US" sz="3200" spc="-1" strike="noStrike">
                <a:solidFill>
                  <a:srgbClr val="009900"/>
                </a:solidFill>
                <a:latin typeface="Cooper Black"/>
              </a:rPr>
              <a:t>carefully to my problems 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oper Black"/>
              </a:rPr>
              <a:t>offer me help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476280"/>
            <a:ext cx="96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The comparison between their school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lives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2771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348000" y="515772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3203640" y="5373720"/>
            <a:ext cx="230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3780000" y="5661000"/>
            <a:ext cx="40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1413000"/>
          <a:ext cx="9036000" cy="5341680"/>
        </p:xfrm>
        <a:graphic>
          <a:graphicData uri="http://schemas.openxmlformats.org/drawingml/2006/table">
            <a:tbl>
              <a:tblPr/>
              <a:tblGrid>
                <a:gridCol w="2941560"/>
                <a:gridCol w="3044880"/>
                <a:gridCol w="3049560"/>
              </a:tblGrid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oper Black"/>
                          <a:ea typeface="M 中黑體"/>
                        </a:rPr>
                        <a:t>Name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3333cc"/>
                          </a:solidFill>
                          <a:latin typeface="Cooper Black"/>
                          <a:ea typeface="M 中黑體"/>
                        </a:rPr>
                        <a:t>Nancy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3333cc"/>
                          </a:solidFill>
                          <a:latin typeface="Cooper Black"/>
                          <a:ea typeface="M 中黑體"/>
                        </a:rPr>
                        <a:t>John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oper Black"/>
                          <a:ea typeface="M 中黑體"/>
                        </a:rPr>
                        <a:t>School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33cc"/>
                          </a:solidFill>
                          <a:latin typeface="Cooper Black"/>
                          <a:ea typeface="M 中黑體"/>
                        </a:rPr>
                        <a:t>Grade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33cc"/>
                          </a:solidFill>
                          <a:latin typeface="Cooper Black"/>
                          <a:ea typeface="M 中黑體"/>
                        </a:rPr>
                        <a:t>Subjects/lessons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33cc"/>
                          </a:solidFill>
                          <a:latin typeface="Cooper Black"/>
                          <a:ea typeface="M 中黑體"/>
                        </a:rPr>
                        <a:t>Mentioned(</a:t>
                      </a:r>
                      <a:r>
                        <a:rPr b="1" i="1" lang="zh-CN" sz="2400" spc="-1" strike="noStrike">
                          <a:solidFill>
                            <a:srgbClr val="3333cc"/>
                          </a:solidFill>
                          <a:latin typeface="Cooper Black"/>
                          <a:ea typeface="M 中黑體"/>
                        </a:rPr>
                        <a:t>提及</a:t>
                      </a:r>
                      <a:r>
                        <a:rPr b="1" i="1" lang="en-US" sz="2400" spc="-1" strike="noStrike">
                          <a:solidFill>
                            <a:srgbClr val="3333cc"/>
                          </a:solidFill>
                          <a:latin typeface="Cooper Black"/>
                          <a:ea typeface="M 中黑體"/>
                        </a:rPr>
                        <a:t>)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oper Black"/>
                          <a:ea typeface="M 中黑體"/>
                        </a:rPr>
                        <a:t>Club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oper Black"/>
                          <a:ea typeface="M 中黑體"/>
                        </a:rPr>
                        <a:t>Activities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140"/>
          <p:cNvSpPr/>
          <p:nvPr/>
        </p:nvSpPr>
        <p:spPr>
          <a:xfrm>
            <a:off x="6300720" y="4221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oper Black"/>
                <a:ea typeface="M 中黑體"/>
              </a:rPr>
              <a:t>different classes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142"/>
          <p:cNvSpPr/>
          <p:nvPr/>
        </p:nvSpPr>
        <p:spPr>
          <a:xfrm>
            <a:off x="2629080" y="429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oper Black"/>
                <a:ea typeface="M 中黑體"/>
              </a:rPr>
              <a:t>Fench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143"/>
          <p:cNvSpPr/>
          <p:nvPr/>
        </p:nvSpPr>
        <p:spPr>
          <a:xfrm>
            <a:off x="3133800" y="2276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oper Black"/>
                <a:ea typeface="M 中黑體"/>
              </a:rPr>
              <a:t>Woodland School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44"/>
          <p:cNvSpPr/>
          <p:nvPr/>
        </p:nvSpPr>
        <p:spPr>
          <a:xfrm>
            <a:off x="2700360" y="6021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oper Black"/>
                <a:ea typeface="M 中黑體"/>
              </a:rPr>
              <a:t>Reading Week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145"/>
          <p:cNvSpPr/>
          <p:nvPr/>
        </p:nvSpPr>
        <p:spPr>
          <a:xfrm>
            <a:off x="5832360" y="6006960"/>
            <a:ext cx="3311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oper Black"/>
                <a:ea typeface="M 中黑體"/>
              </a:rPr>
              <a:t>do sports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oper Black"/>
                <a:ea typeface="M 中黑體"/>
              </a:rPr>
              <a:t>play baseball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46"/>
          <p:cNvSpPr/>
          <p:nvPr/>
        </p:nvSpPr>
        <p:spPr>
          <a:xfrm>
            <a:off x="6083280" y="2276640"/>
            <a:ext cx="280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Black"/>
                <a:ea typeface="M 中黑體"/>
              </a:rPr>
              <a:t>Rocky Mountain</a:t>
            </a:r>
            <a:endParaRPr b="1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Black"/>
                <a:ea typeface="M 中黑體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oper Black"/>
                <a:ea typeface="M 中黑體"/>
              </a:rPr>
              <a:t>High School</a:t>
            </a:r>
            <a:endParaRPr b="1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147"/>
          <p:cNvSpPr/>
          <p:nvPr/>
        </p:nvSpPr>
        <p:spPr>
          <a:xfrm>
            <a:off x="6156360" y="5084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oper Black"/>
                <a:ea typeface="M 中黑體"/>
              </a:rPr>
              <a:t>Buddy Club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48"/>
          <p:cNvSpPr/>
          <p:nvPr/>
        </p:nvSpPr>
        <p:spPr>
          <a:xfrm>
            <a:off x="2916360" y="342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oper Black"/>
                <a:ea typeface="M 中黑體"/>
              </a:rPr>
              <a:t>in Year 8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49"/>
          <p:cNvSpPr/>
          <p:nvPr/>
        </p:nvSpPr>
        <p:spPr>
          <a:xfrm>
            <a:off x="5830920" y="3429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oper Black"/>
                <a:ea typeface="M 中黑體"/>
              </a:rPr>
              <a:t>in the </a:t>
            </a:r>
            <a:r>
              <a:rPr b="0" lang="zh-CN" sz="2800" spc="-1" strike="noStrike">
                <a:solidFill>
                  <a:srgbClr val="ff0000"/>
                </a:solidFill>
                <a:latin typeface="Cooper Black"/>
                <a:ea typeface="M 中黑體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Cooper Black"/>
                <a:ea typeface="M 中黑體"/>
              </a:rPr>
              <a:t>th grade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2:47:50Z</dcterms:created>
  <dc:creator>DengQijin</dc:creator>
  <dc:description/>
  <cp:keywords/>
  <dc:language>en-US</dc:language>
  <cp:lastModifiedBy>111</cp:lastModifiedBy>
  <dcterms:modified xsi:type="dcterms:W3CDTF">2017-03-17T08:06:19Z</dcterms:modified>
  <cp:revision>6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