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0.gif" ContentType="image/gif"/>
  <Override PartName="/ppt/media/image11.gif" ContentType="image/gif"/>
  <Override PartName="/ppt/media/image14.png" ContentType="image/png"/>
  <Override PartName="/ppt/media/image9.png" ContentType="image/png"/>
  <Override PartName="/ppt/media/image12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10.png" ContentType="image/png"/>
  <Override PartName="/ppt/media/image6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A6D3-9478-464F-A010-066985D55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AE8C-4127-49AC-8A1A-342086C2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6999-375E-4E83-A95D-32C81A7FF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C7F3-E562-4ACE-83E9-79C751C8B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F46B-7939-47F8-BBC9-DA01C49F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C644-54B5-4FB5-84A7-752E5139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822F-1902-4AD0-A44A-970EEB03C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AA73-BEDA-4608-8064-E56AC683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C186-2381-459A-82D1-448F8B67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BF54-E0CD-488A-93BC-D13CAB40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E9DD-A5A3-4D04-94E5-B0C8945A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63DC-94EC-4634-A0EC-A3A8342B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CB66-67EC-4E42-80DA-AF712984E7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image.baidu.com/i?ct=503316480&amp;z=313450953&amp;tn=baiduimagedetail&amp;word=&#31524;&#24090;&amp;in=24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9.png"/><Relationship Id="rId3" Type="http://schemas.openxmlformats.org/officeDocument/2006/relationships/slide" Target="slide1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716360" y="3068640"/>
            <a:ext cx="1930680" cy="321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20000" y="3213000"/>
            <a:ext cx="1868400" cy="3108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995640" y="2349360"/>
            <a:ext cx="1576440" cy="1633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11280" y="4149720"/>
            <a:ext cx="3635280" cy="2255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763640" y="189000"/>
            <a:ext cx="5472360" cy="17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11.3 </a:t>
            </a:r>
            <a:r>
              <a:rPr b="0" lang="zh-CN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功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49280" y="765000"/>
            <a:ext cx="82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一个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力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作用在物体上，物体在这个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力的方向上移动了一段距离，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这个力的作用显示了成效，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力学里就说这个力做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功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266688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做功的两个必要因素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43000" y="335268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物体受到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力的作用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物体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在力的方向上通过一定的距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6520" y="3048120"/>
            <a:ext cx="5461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Arial"/>
                <a:ea typeface="黑体"/>
              </a:rPr>
              <a:t>缺一不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观察下列各图，思考在什么情况下不做功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1295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3629160" cy="38163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5257800"/>
            <a:ext cx="26640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搬而不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572000" y="2286000"/>
            <a:ext cx="4033800" cy="2844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334120" y="518148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Tahoma"/>
                <a:ea typeface="黑体"/>
              </a:rPr>
              <a:t>拉而不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268360" y="1125360"/>
            <a:ext cx="1295640" cy="2662560"/>
            <a:chOff x="2268360" y="1125360"/>
            <a:chExt cx="1295640" cy="2662560"/>
          </a:xfrm>
        </p:grpSpPr>
        <p:sp>
          <p:nvSpPr>
            <p:cNvPr id="126" name=""/>
            <p:cNvSpPr/>
            <p:nvPr/>
          </p:nvSpPr>
          <p:spPr>
            <a:xfrm flipH="1">
              <a:off x="2268360" y="1484280"/>
              <a:ext cx="216000" cy="2303640"/>
            </a:xfrm>
            <a:prstGeom prst="upArrow">
              <a:avLst>
                <a:gd name="adj1" fmla="val 50000"/>
                <a:gd name="adj2" fmla="val 26662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484360" y="1125360"/>
              <a:ext cx="1079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4238640" y="4940280"/>
            <a:ext cx="5493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477120" y="4038480"/>
            <a:ext cx="2449080" cy="835920"/>
            <a:chOff x="6477120" y="4038480"/>
            <a:chExt cx="2449080" cy="835920"/>
          </a:xfrm>
        </p:grpSpPr>
        <p:sp>
          <p:nvSpPr>
            <p:cNvPr id="130" name=""/>
            <p:cNvSpPr/>
            <p:nvPr/>
          </p:nvSpPr>
          <p:spPr>
            <a:xfrm>
              <a:off x="6477120" y="4038480"/>
              <a:ext cx="1944360" cy="289080"/>
            </a:xfrm>
            <a:prstGeom prst="rightArrow">
              <a:avLst>
                <a:gd name="adj1" fmla="val 50000"/>
                <a:gd name="adj2" fmla="val 168151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89840" y="4110120"/>
              <a:ext cx="936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3276720" y="304920"/>
            <a:ext cx="4248000" cy="1152360"/>
          </a:xfrm>
          <a:prstGeom prst="wedgeRectCallout">
            <a:avLst>
              <a:gd name="adj1" fmla="val -26754"/>
              <a:gd name="adj2" fmla="val 15716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没有成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6"/>
          <p:cNvGrpSpPr/>
          <p:nvPr/>
        </p:nvGrpSpPr>
        <p:grpSpPr>
          <a:xfrm>
            <a:off x="0" y="0"/>
            <a:ext cx="2843280" cy="1282680"/>
            <a:chOff x="0" y="0"/>
            <a:chExt cx="2843280" cy="1282680"/>
          </a:xfrm>
        </p:grpSpPr>
        <p:pic>
          <p:nvPicPr>
            <p:cNvPr id="134" name="Picture 17" descr="图片111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2843280" cy="12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WordArt 18"/>
            <p:cNvSpPr txBox="1"/>
            <p:nvPr/>
          </p:nvSpPr>
          <p:spPr>
            <a:xfrm>
              <a:off x="865080" y="0"/>
              <a:ext cx="1655640" cy="1000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1435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判断</a:t>
              </a:r>
              <a:endParaRPr b="0" lang="en-US" sz="4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p:transition spd="med">
    <p:push dir="l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1"/>
          <p:cNvSpPr/>
          <p:nvPr/>
        </p:nvSpPr>
        <p:spPr>
          <a:xfrm>
            <a:off x="0" y="1268280"/>
            <a:ext cx="9144000" cy="5589720"/>
          </a:xfrm>
          <a:prstGeom prst="rect">
            <a:avLst/>
          </a:prstGeom>
          <a:solidFill>
            <a:srgbClr val="0404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6"/>
          <p:cNvSpPr/>
          <p:nvPr/>
        </p:nvSpPr>
        <p:spPr>
          <a:xfrm>
            <a:off x="971640" y="1341360"/>
            <a:ext cx="7092720" cy="1152720"/>
          </a:xfrm>
          <a:prstGeom prst="wedgeRectCallout">
            <a:avLst>
              <a:gd name="adj1" fmla="val -11393"/>
              <a:gd name="adj2" fmla="val 214050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在运动的方向上没有受到力的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7"/>
          <p:cNvGrpSpPr/>
          <p:nvPr/>
        </p:nvGrpSpPr>
        <p:grpSpPr>
          <a:xfrm>
            <a:off x="0" y="0"/>
            <a:ext cx="2843280" cy="1282680"/>
            <a:chOff x="0" y="0"/>
            <a:chExt cx="2843280" cy="1282680"/>
          </a:xfrm>
        </p:grpSpPr>
        <p:pic>
          <p:nvPicPr>
            <p:cNvPr id="139" name="Picture 8" descr="图片11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843280" cy="12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WordArt 9"/>
            <p:cNvSpPr txBox="1"/>
            <p:nvPr/>
          </p:nvSpPr>
          <p:spPr>
            <a:xfrm>
              <a:off x="865080" y="0"/>
              <a:ext cx="1655640" cy="1000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1435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判断</a:t>
              </a:r>
              <a:endParaRPr b="0" lang="en-US" sz="4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graphicFrame>
        <p:nvGraphicFramePr>
          <p:cNvPr id="141" name="ShockwaveFlash1"/>
          <p:cNvGraphicFramePr/>
          <p:nvPr/>
        </p:nvGraphicFramePr>
        <p:xfrm>
          <a:off x="395280" y="2276640"/>
          <a:ext cx="8353440" cy="410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2276640"/>
                    <a:ext cx="8353440" cy="4105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 spd="med">
    <p:push dir="l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劳而无功"/>
          <p:cNvPicPr/>
          <p:nvPr/>
        </p:nvPicPr>
        <p:blipFill>
          <a:blip r:embed="rId1"/>
          <a:stretch/>
        </p:blipFill>
        <p:spPr>
          <a:xfrm>
            <a:off x="5148360" y="1773360"/>
            <a:ext cx="3429000" cy="30049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838080" y="220968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80"/>
                </a:solidFill>
                <a:latin typeface="Tahoma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80"/>
                </a:solidFill>
                <a:latin typeface="Tahoma"/>
                <a:ea typeface="黑体"/>
              </a:rPr>
              <a:t>搬运工在平地上行走，他对货物向上的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  <a:ea typeface="黑体"/>
              </a:rPr>
              <a:t>支持力</a:t>
            </a:r>
            <a:r>
              <a:rPr b="1" lang="zh-CN" sz="3200" spc="-1" strike="noStrike">
                <a:solidFill>
                  <a:srgbClr val="000080"/>
                </a:solidFill>
                <a:latin typeface="Tahoma"/>
                <a:ea typeface="黑体"/>
              </a:rPr>
              <a:t>对货物做功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0" y="0"/>
            <a:ext cx="2843280" cy="1282680"/>
            <a:chOff x="0" y="0"/>
            <a:chExt cx="2843280" cy="1282680"/>
          </a:xfrm>
        </p:grpSpPr>
        <p:pic>
          <p:nvPicPr>
            <p:cNvPr id="146" name="Picture 10" descr="图片111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843280" cy="12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WordArt 11"/>
            <p:cNvSpPr txBox="1"/>
            <p:nvPr/>
          </p:nvSpPr>
          <p:spPr>
            <a:xfrm>
              <a:off x="865080" y="0"/>
              <a:ext cx="1655640" cy="1000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1435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判断</a:t>
              </a:r>
              <a:endParaRPr b="0" lang="en-US" sz="4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p:transition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404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59280" y="333000"/>
            <a:ext cx="54734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叉车载物、提物做功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6"/>
          <p:cNvGrpSpPr/>
          <p:nvPr/>
        </p:nvGrpSpPr>
        <p:grpSpPr>
          <a:xfrm>
            <a:off x="0" y="0"/>
            <a:ext cx="2843280" cy="1282680"/>
            <a:chOff x="0" y="0"/>
            <a:chExt cx="2843280" cy="1282680"/>
          </a:xfrm>
        </p:grpSpPr>
        <p:pic>
          <p:nvPicPr>
            <p:cNvPr id="151" name="Picture 7" descr="图片11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843280" cy="128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WordArt 8"/>
            <p:cNvSpPr txBox="1"/>
            <p:nvPr/>
          </p:nvSpPr>
          <p:spPr>
            <a:xfrm>
              <a:off x="865080" y="0"/>
              <a:ext cx="1655640" cy="1000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14352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53966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判断</a:t>
              </a:r>
              <a:endParaRPr b="0" lang="en-US" sz="4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graphicFrame>
        <p:nvGraphicFramePr>
          <p:cNvPr id="153" name="ShockwaveFlash1"/>
          <p:cNvGraphicFramePr/>
          <p:nvPr/>
        </p:nvGraphicFramePr>
        <p:xfrm>
          <a:off x="0" y="1341360"/>
          <a:ext cx="9144000" cy="525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41360"/>
                    <a:ext cx="9144000" cy="5256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741708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40408"/>
                </a:solidFill>
                <a:latin typeface="Arial"/>
              </a:rPr>
              <a:t>不做功的三种情况</a:t>
            </a:r>
            <a:r>
              <a:rPr b="0" lang="zh-CN" sz="4800" spc="-1" strike="noStrike">
                <a:solidFill>
                  <a:srgbClr val="040408"/>
                </a:solidFill>
                <a:latin typeface="Arial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799308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、有力无距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、有距离无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、有力有距离，但力距垂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0" y="692280"/>
            <a:ext cx="1371600" cy="691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49280" y="765000"/>
            <a:ext cx="82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力与物体在力的方向上通过的距离的乘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18900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机械功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黑体"/>
              </a:rPr>
              <a:t>(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黑体"/>
              </a:rPr>
              <a:t>简称功</a:t>
            </a:r>
            <a:r>
              <a:rPr b="1" lang="zh-CN" sz="3200" spc="-1" strike="noStrike">
                <a:solidFill>
                  <a:srgbClr val="0066cc"/>
                </a:solidFill>
                <a:latin typeface="Arial"/>
                <a:ea typeface="黑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124080"/>
            <a:ext cx="378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黑体"/>
              </a:rPr>
              <a:t>W = F 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342900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计算公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501336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单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5880" y="4114800"/>
            <a:ext cx="0" cy="936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934320" y="4114800"/>
            <a:ext cx="0" cy="936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43280" y="4116240"/>
            <a:ext cx="0" cy="936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34120" y="50292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29400" y="50292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(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28800" y="50292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黑体"/>
              </a:rPr>
              <a:t>焦 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067280" y="5052960"/>
            <a:ext cx="10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5791320"/>
            <a:ext cx="29304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Ｊ＝１Ｎ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·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152388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做功的两个必要因素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198108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物体受到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力的作用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   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物体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在力的方向上通过一定的距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78160" y="0"/>
            <a:ext cx="82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黑体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31000" y="182880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黑体"/>
              </a:rPr>
              <a:t>F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850520" y="220968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黑体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50292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Ｊ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52480" y="5029200"/>
            <a:ext cx="685800" cy="609480"/>
          </a:xfrm>
          <a:prstGeom prst="ellipse">
            <a:avLst/>
          </a:prstGeom>
          <a:noFill/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385120" y="1600200"/>
            <a:ext cx="5461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Arial"/>
                <a:ea typeface="黑体"/>
              </a:rPr>
              <a:t>缺一不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77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6" dur="770" fill="hold"/>
                                        <p:tgtEl>
                                          <p:spTgt spid="1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8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77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770" fill="hold"/>
                                        <p:tgtEl>
                                          <p:spTgt spid="1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9" dur="77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1" dur="77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77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8" dur="770" fill="hold"/>
                                        <p:tgtEl>
                                          <p:spTgt spid="1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0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2" dur="77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9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2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3809880" y="1600200"/>
            <a:ext cx="5334120" cy="5410080"/>
            <a:chOff x="3809880" y="1600200"/>
            <a:chExt cx="5334120" cy="5410080"/>
          </a:xfrm>
        </p:grpSpPr>
        <p:pic>
          <p:nvPicPr>
            <p:cNvPr id="180" name="" descr=""/>
            <p:cNvPicPr/>
            <p:nvPr/>
          </p:nvPicPr>
          <p:blipFill>
            <a:blip r:embed="rId1"/>
            <a:stretch/>
          </p:blipFill>
          <p:spPr>
            <a:xfrm>
              <a:off x="6477120" y="2209680"/>
              <a:ext cx="2666880" cy="464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2"/>
            <a:stretch/>
          </p:blipFill>
          <p:spPr>
            <a:xfrm>
              <a:off x="3809880" y="1600200"/>
              <a:ext cx="2667240" cy="541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Ｊ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的物理意义</a:t>
            </a:r>
            <a:r>
              <a:rPr b="1" lang="zh-CN" sz="3600" spc="-1" strike="noStrike">
                <a:solidFill>
                  <a:srgbClr val="040408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0408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40408"/>
                </a:solidFill>
                <a:latin typeface="Arial"/>
              </a:rPr>
              <a:t>用</a:t>
            </a:r>
            <a:r>
              <a:rPr b="1" lang="zh-CN" sz="3600" spc="-1" strike="noStrike">
                <a:solidFill>
                  <a:srgbClr val="040408"/>
                </a:solidFill>
                <a:latin typeface="Arial"/>
              </a:rPr>
              <a:t>1N</a:t>
            </a:r>
            <a:r>
              <a:rPr b="1" lang="zh-CN" sz="3600" spc="-1" strike="noStrike">
                <a:solidFill>
                  <a:srgbClr val="040408"/>
                </a:solidFill>
                <a:latin typeface="Arial"/>
              </a:rPr>
              <a:t>的力使物体在力的方向上通过</a:t>
            </a:r>
            <a:r>
              <a:rPr b="1" lang="zh-CN" sz="3600" spc="-1" strike="noStrike">
                <a:solidFill>
                  <a:srgbClr val="040408"/>
                </a:solidFill>
                <a:latin typeface="Arial"/>
              </a:rPr>
              <a:t>1m</a:t>
            </a:r>
            <a:r>
              <a:rPr b="1" lang="zh-CN" sz="3600" spc="-1" strike="noStrike">
                <a:solidFill>
                  <a:srgbClr val="040408"/>
                </a:solidFill>
                <a:latin typeface="Arial"/>
              </a:rPr>
              <a:t>距离所做的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380880"/>
            <a:ext cx="29304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Ｊ＝１Ｎ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·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3135240"/>
            <a:ext cx="32004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举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你从地上拿起一只鸡蛋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并把它缓缓举过头顶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在这过程中你对鸡蛋所做的功大约为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J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： 小明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水平力推着一只箱子，在水平地面上前进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米，那么他对箱子做了多少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已知：</a:t>
            </a: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F=10N,  S=5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求：</a:t>
            </a: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解：</a:t>
            </a: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W=FS=10N×5m=50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答：他对箱子做了</a:t>
            </a: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50J</a:t>
            </a: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的功。</a:t>
            </a:r>
            <a:r>
              <a:rPr b="0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8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2449800" cy="3673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8600" y="380880"/>
            <a:ext cx="2665440" cy="642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Black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  <a:ea typeface="黑体"/>
              </a:rPr>
              <a:t>新课导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00600" y="1676520"/>
            <a:ext cx="3240000" cy="3528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19320" y="52578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省力费距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52578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费力省距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9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-76320" y="1447920"/>
            <a:ext cx="9144000" cy="399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．举重运动员举着杠铃不动，举力做了功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．人提着重物沿水平方向匀速移动一段距离，提力对重物做了功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．苹果从树上落下，重力对苹果做了功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．小球在光滑平面上移动一段距离，桌子的支持力对小球做了功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WordArt 3"/>
          <p:cNvSpPr txBox="1"/>
          <p:nvPr/>
        </p:nvSpPr>
        <p:spPr>
          <a:xfrm>
            <a:off x="611280" y="0"/>
            <a:ext cx="1800000" cy="143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试一试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7815240" y="1447920"/>
            <a:ext cx="15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×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7613640" y="3933720"/>
            <a:ext cx="15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√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3851280" y="2924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×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3348000" y="5445000"/>
            <a:ext cx="16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×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324000" y="762120"/>
            <a:ext cx="8820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3600" spc="-1" strike="noStrike">
                <a:solidFill>
                  <a:srgbClr val="0000cc"/>
                </a:solidFill>
                <a:latin typeface="Tahoma"/>
              </a:rPr>
              <a:t>5.</a:t>
            </a:r>
            <a:r>
              <a:rPr b="1" lang="zh-CN" sz="3600" spc="-1" strike="noStrike">
                <a:solidFill>
                  <a:srgbClr val="0000cc"/>
                </a:solidFill>
                <a:latin typeface="Tahoma"/>
              </a:rPr>
              <a:t>下列哪种情况中作用力对物体做功</a:t>
            </a:r>
            <a:r>
              <a:rPr b="1" lang="zh-CN" sz="3600" spc="-1" strike="noStrike">
                <a:solidFill>
                  <a:srgbClr val="0000cc"/>
                </a:solidFill>
                <a:latin typeface="Tahoma"/>
              </a:rPr>
              <a:t>(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762120" y="1828800"/>
            <a:ext cx="794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ahoma"/>
              </a:rPr>
              <a:t>A.  </a:t>
            </a:r>
            <a:r>
              <a:rPr b="1" lang="zh-CN" sz="3200" spc="-1" strike="noStrike">
                <a:solidFill>
                  <a:srgbClr val="0000cc"/>
                </a:solidFill>
                <a:latin typeface="Tahoma"/>
              </a:rPr>
              <a:t>用</a:t>
            </a:r>
            <a:r>
              <a:rPr b="1" lang="zh-CN" sz="3200" spc="-1" strike="noStrike">
                <a:solidFill>
                  <a:srgbClr val="0000cc"/>
                </a:solidFill>
                <a:latin typeface="Tahoma"/>
              </a:rPr>
              <a:t>50N</a:t>
            </a:r>
            <a:r>
              <a:rPr b="1" lang="zh-CN" sz="3200" spc="-1" strike="noStrike">
                <a:solidFill>
                  <a:srgbClr val="0000cc"/>
                </a:solidFill>
                <a:latin typeface="Tahoma"/>
              </a:rPr>
              <a:t>力提着水桶沿水平地面前进</a:t>
            </a:r>
            <a:r>
              <a:rPr b="1" lang="zh-CN" sz="3200" spc="-1" strike="noStrike">
                <a:solidFill>
                  <a:srgbClr val="0000cc"/>
                </a:solidFill>
                <a:latin typeface="Tahoma"/>
              </a:rPr>
              <a:t>10</a:t>
            </a:r>
            <a:r>
              <a:rPr b="1" lang="zh-CN" sz="3200" spc="-1" strike="noStrike">
                <a:solidFill>
                  <a:srgbClr val="0000cc"/>
                </a:solidFill>
                <a:latin typeface="Tahoma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762120" y="274320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ahoma"/>
              </a:rPr>
              <a:t>B.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冰球在光滑的冰面上匀速滑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719280" y="35812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ahoma"/>
              </a:rPr>
              <a:t>C.  </a:t>
            </a:r>
            <a:r>
              <a:rPr b="1" lang="zh-CN" sz="3200" spc="-1" strike="noStrike">
                <a:solidFill>
                  <a:srgbClr val="0000cc"/>
                </a:solidFill>
                <a:latin typeface="Tahoma"/>
              </a:rPr>
              <a:t>用</a:t>
            </a:r>
            <a:r>
              <a:rPr b="1" lang="zh-CN" sz="3200" spc="-1" strike="noStrike">
                <a:solidFill>
                  <a:srgbClr val="0000cc"/>
                </a:solidFill>
                <a:latin typeface="Tahoma"/>
              </a:rPr>
              <a:t>50N</a:t>
            </a:r>
            <a:r>
              <a:rPr b="1" lang="zh-CN" sz="3200" spc="-1" strike="noStrike">
                <a:solidFill>
                  <a:srgbClr val="0000cc"/>
                </a:solidFill>
                <a:latin typeface="Tahoma"/>
              </a:rPr>
              <a:t>的力提着书包从一楼走到三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762120" y="4495680"/>
            <a:ext cx="82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ahoma"/>
              </a:rPr>
              <a:t>D.  </a:t>
            </a:r>
            <a:r>
              <a:rPr b="1" lang="zh-CN" sz="3200" spc="-1" strike="noStrike">
                <a:solidFill>
                  <a:srgbClr val="0000cc"/>
                </a:solidFill>
                <a:latin typeface="Tahoma"/>
              </a:rPr>
              <a:t>推铅球时球离手后继续运动</a:t>
            </a:r>
            <a:r>
              <a:rPr b="1" lang="zh-CN" sz="3200" spc="-1" strike="noStrike">
                <a:solidFill>
                  <a:srgbClr val="0000cc"/>
                </a:solidFill>
                <a:latin typeface="Tahoma"/>
              </a:rPr>
              <a:t>9</a:t>
            </a:r>
            <a:r>
              <a:rPr b="1" lang="zh-CN" sz="3200" spc="-1" strike="noStrike">
                <a:solidFill>
                  <a:srgbClr val="0000cc"/>
                </a:solidFill>
                <a:latin typeface="Tahoma"/>
              </a:rPr>
              <a:t>米距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7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8" name="Text Box 8"/>
          <p:cNvSpPr/>
          <p:nvPr/>
        </p:nvSpPr>
        <p:spPr>
          <a:xfrm>
            <a:off x="8077320" y="76212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宋体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9">
            <a:hlinkClick r:id="rId1" action="ppaction://hlinksldjump"/>
          </p:cNvPr>
          <p:cNvSpPr/>
          <p:nvPr/>
        </p:nvSpPr>
        <p:spPr>
          <a:xfrm>
            <a:off x="8423280" y="6499080"/>
            <a:ext cx="720720" cy="35892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43352" h="21600">
                <a:moveTo>
                  <a:pt x="0" y="0"/>
                </a:moveTo>
                <a:lnTo>
                  <a:pt x="43352" y="0"/>
                </a:lnTo>
                <a:lnTo>
                  <a:pt x="43352" y="21600"/>
                </a:lnTo>
                <a:lnTo>
                  <a:pt x="0" y="21600"/>
                </a:lnTo>
                <a:close/>
              </a:path>
              <a:path fill="lightenLess" w="43352" h="21600">
                <a:moveTo>
                  <a:pt x="0" y="0"/>
                </a:moveTo>
                <a:lnTo>
                  <a:pt x="43352" y="0"/>
                </a:lnTo>
                <a:lnTo>
                  <a:pt x="41952" y="1400"/>
                </a:lnTo>
                <a:lnTo>
                  <a:pt x="1400" y="1400"/>
                </a:lnTo>
                <a:close/>
              </a:path>
              <a:path fill="darken" w="43352" h="21600">
                <a:moveTo>
                  <a:pt x="43352" y="0"/>
                </a:moveTo>
                <a:lnTo>
                  <a:pt x="43352" y="21600"/>
                </a:lnTo>
                <a:lnTo>
                  <a:pt x="41952" y="20200"/>
                </a:lnTo>
                <a:lnTo>
                  <a:pt x="41952" y="1400"/>
                </a:lnTo>
                <a:close/>
              </a:path>
              <a:path fill="darkenLess" w="43352" h="21600">
                <a:moveTo>
                  <a:pt x="43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52" y="20200"/>
                </a:lnTo>
                <a:close/>
              </a:path>
              <a:path fill="lighten" w="43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52" h="21600">
                <a:moveTo>
                  <a:pt x="25175" y="10800"/>
                </a:moveTo>
                <a:lnTo>
                  <a:pt x="14669" y="17806"/>
                </a:lnTo>
                <a:lnTo>
                  <a:pt x="14669" y="3794"/>
                </a:lnTo>
                <a:close/>
              </a:path>
              <a:path fill="darken" w="43352" h="21600">
                <a:moveTo>
                  <a:pt x="27020" y="3794"/>
                </a:moveTo>
                <a:lnTo>
                  <a:pt x="27020" y="17806"/>
                </a:lnTo>
                <a:lnTo>
                  <a:pt x="28682" y="17806"/>
                </a:lnTo>
                <a:lnTo>
                  <a:pt x="28682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5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914400" y="457200"/>
            <a:ext cx="71470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、一个人用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50N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的力沿水平方向匀速推一辆重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200N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的车前进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2m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，求重力对车做功多少？这个人对车做功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8"/>
          <p:cNvSpPr/>
          <p:nvPr/>
        </p:nvSpPr>
        <p:spPr>
          <a:xfrm>
            <a:off x="533520" y="20574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已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ff3399"/>
                </a:solidFill>
                <a:latin typeface="Times New Roman"/>
              </a:rPr>
              <a:t>求：</a:t>
            </a:r>
            <a:r>
              <a:rPr b="0" lang="zh-CN" sz="2400" spc="-1" strike="noStrike">
                <a:solidFill>
                  <a:srgbClr val="ff3399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7"/>
              <p:cNvSpPr txBox="1"/>
              <p:nvPr/>
            </p:nvSpPr>
            <p:spPr>
              <a:xfrm>
                <a:off x="1835280" y="2133720"/>
                <a:ext cx="624204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F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  <m:r>
                            <m:t xml:space="preserve">N</m:t>
                          </m:r>
                        </m:e>
                        <m:e>
                          <m:r>
                            <m:t xml:space="preserve">G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00</m:t>
                          </m:r>
                          <m:r>
                            <m:t xml:space="preserve">N</m:t>
                          </m:r>
                        </m:e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m     h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0m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6"/>
              <p:cNvSpPr txBox="1"/>
              <p:nvPr/>
            </p:nvSpPr>
            <p:spPr>
              <a:xfrm>
                <a:off x="3276720" y="2868480"/>
                <a:ext cx="114300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人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5"/>
              <p:cNvSpPr txBox="1"/>
              <p:nvPr/>
            </p:nvSpPr>
            <p:spPr>
              <a:xfrm>
                <a:off x="1752480" y="2819520"/>
                <a:ext cx="12956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重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Text Box 14"/>
          <p:cNvSpPr/>
          <p:nvPr/>
        </p:nvSpPr>
        <p:spPr>
          <a:xfrm>
            <a:off x="1066680" y="3733920"/>
            <a:ext cx="755964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Tahoma"/>
              </a:rPr>
              <a:t>解：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200N × 0m = 0 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zh-CN" sz="40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50N × 2m = 100 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4300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Arial"/>
              </a:rPr>
              <a:t>答：……</a:t>
            </a:r>
            <a:r>
              <a:rPr b="1" lang="zh-CN" sz="2400" spc="-1" strike="noStrike" u="sng">
                <a:solidFill>
                  <a:srgbClr val="ff3399"/>
                </a:solidFill>
                <a:uFillTx/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3506760" cy="7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练习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68000" y="1219320"/>
            <a:ext cx="77756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下列几种情况中，力对物体做功的是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坐在板凳上用力向下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小孩用力推箱子，箱子未被推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学生背着书包站在水平公路上匀速行驶的汽车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清洁工把一桶水从地上提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0408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40408"/>
                </a:solidFill>
                <a:latin typeface="楷体_GB2312"/>
                <a:ea typeface="楷体_GB2312"/>
              </a:rPr>
              <a:t>、你去爬山，你的体重为 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?</a:t>
            </a:r>
            <a:r>
              <a:rPr b="1" lang="zh-CN" sz="2400" spc="-1" strike="noStrike">
                <a:solidFill>
                  <a:srgbClr val="040408"/>
                </a:solidFill>
                <a:latin typeface="楷体_GB2312"/>
                <a:ea typeface="楷体_GB2312"/>
              </a:rPr>
              <a:t> N</a:t>
            </a:r>
            <a:r>
              <a:rPr b="1" lang="zh-CN" sz="2400" spc="-1" strike="noStrike">
                <a:solidFill>
                  <a:srgbClr val="040408"/>
                </a:solidFill>
                <a:latin typeface="楷体_GB2312"/>
                <a:ea typeface="楷体_GB2312"/>
              </a:rPr>
              <a:t>，山高为</a:t>
            </a:r>
            <a:r>
              <a:rPr b="1" lang="zh-CN" sz="2400" spc="-1" strike="noStrike">
                <a:solidFill>
                  <a:srgbClr val="040408"/>
                </a:solidFill>
                <a:latin typeface="楷体_GB2312"/>
                <a:ea typeface="楷体_GB2312"/>
              </a:rPr>
              <a:t>500m</a:t>
            </a:r>
            <a:r>
              <a:rPr b="1" lang="zh-CN" sz="2400" spc="-1" strike="noStrike">
                <a:solidFill>
                  <a:srgbClr val="040408"/>
                </a:solidFill>
                <a:latin typeface="楷体_GB2312"/>
                <a:ea typeface="楷体_GB2312"/>
              </a:rPr>
              <a:t>，求你对自己做功多少</a:t>
            </a:r>
            <a:r>
              <a:rPr b="1" lang="zh-CN" sz="2400" spc="-1" strike="noStrike">
                <a:solidFill>
                  <a:srgbClr val="040408"/>
                </a:solidFill>
                <a:latin typeface="楷体_GB2312"/>
                <a:ea typeface="楷体_GB2312"/>
              </a:rPr>
              <a:t>J</a:t>
            </a:r>
            <a:r>
              <a:rPr b="1" lang="zh-CN" sz="2400" spc="-1" strike="noStrike">
                <a:solidFill>
                  <a:srgbClr val="040408"/>
                </a:solidFill>
                <a:latin typeface="楷体_GB2312"/>
                <a:ea typeface="楷体_GB2312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1351080" cy="1600200"/>
          </a:xfrm>
          <a:prstGeom prst="rect">
            <a:avLst/>
          </a:prstGeom>
          <a:ln w="0">
            <a:noFill/>
          </a:ln>
        </p:spPr>
      </p:pic>
      <p:grpSp>
        <p:nvGrpSpPr>
          <p:cNvPr id="210" name=""/>
          <p:cNvGrpSpPr/>
          <p:nvPr/>
        </p:nvGrpSpPr>
        <p:grpSpPr>
          <a:xfrm>
            <a:off x="1371600" y="4343400"/>
            <a:ext cx="8534160" cy="1861560"/>
            <a:chOff x="1371600" y="4343400"/>
            <a:chExt cx="8534160" cy="1861560"/>
          </a:xfrm>
        </p:grpSpPr>
        <p:sp>
          <p:nvSpPr>
            <p:cNvPr id="211" name="Text Box 2"/>
            <p:cNvSpPr/>
            <p:nvPr/>
          </p:nvSpPr>
          <p:spPr>
            <a:xfrm>
              <a:off x="1371600" y="4343400"/>
              <a:ext cx="733932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、一个同学用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0N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水平方向的力将一只重为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N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足球沿水平方向踢了出去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足球在地上滚了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0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米才停下来。在球</a:t>
              </a: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滚动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过程中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脚对球做的功是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      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3"/>
            <p:cNvSpPr/>
            <p:nvPr/>
          </p:nvSpPr>
          <p:spPr>
            <a:xfrm>
              <a:off x="1692360" y="5715000"/>
              <a:ext cx="91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.  0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4"/>
            <p:cNvSpPr/>
            <p:nvPr/>
          </p:nvSpPr>
          <p:spPr>
            <a:xfrm>
              <a:off x="2800440" y="5562360"/>
              <a:ext cx="225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. 200J</a:t>
              </a:r>
              <a:r>
                <a:rPr b="1" lang="en-US" sz="3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5"/>
            <p:cNvSpPr/>
            <p:nvPr/>
          </p:nvSpPr>
          <p:spPr>
            <a:xfrm>
              <a:off x="4179240" y="5715000"/>
              <a:ext cx="141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.  2000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6"/>
            <p:cNvSpPr/>
            <p:nvPr/>
          </p:nvSpPr>
          <p:spPr>
            <a:xfrm>
              <a:off x="5726520" y="5715000"/>
              <a:ext cx="417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D.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条件不足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无法计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in"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解： 马拉车所用的力与摩擦力大小相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F=f=800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马移动的距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S=3000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所以马做的功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W=FS=800N×3000m=2.4×10</a:t>
            </a:r>
            <a:r>
              <a:rPr b="1" lang="zh-CN" sz="3200" spc="-1" strike="noStrike" baseline="30000">
                <a:solidFill>
                  <a:srgbClr val="ff33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30492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质量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Kg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雪橇上装载了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50Kg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货 物，一匹马拉着它匀速运到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00m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的货场。如果雪橇行进中受到的摩擦力是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0N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求马运货时做的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AutoShape 8">
            <a:hlinkClick r:id="rId1" action="ppaction://hlinksldjump"/>
          </p:cNvPr>
          <p:cNvSpPr/>
          <p:nvPr/>
        </p:nvSpPr>
        <p:spPr>
          <a:xfrm>
            <a:off x="8423280" y="6499080"/>
            <a:ext cx="720720" cy="35892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43352" h="21600">
                <a:moveTo>
                  <a:pt x="0" y="0"/>
                </a:moveTo>
                <a:lnTo>
                  <a:pt x="43352" y="0"/>
                </a:lnTo>
                <a:lnTo>
                  <a:pt x="43352" y="21600"/>
                </a:lnTo>
                <a:lnTo>
                  <a:pt x="0" y="21600"/>
                </a:lnTo>
                <a:close/>
              </a:path>
              <a:path fill="lightenLess" w="43352" h="21600">
                <a:moveTo>
                  <a:pt x="0" y="0"/>
                </a:moveTo>
                <a:lnTo>
                  <a:pt x="43352" y="0"/>
                </a:lnTo>
                <a:lnTo>
                  <a:pt x="41952" y="1400"/>
                </a:lnTo>
                <a:lnTo>
                  <a:pt x="1400" y="1400"/>
                </a:lnTo>
                <a:close/>
              </a:path>
              <a:path fill="darken" w="43352" h="21600">
                <a:moveTo>
                  <a:pt x="43352" y="0"/>
                </a:moveTo>
                <a:lnTo>
                  <a:pt x="43352" y="21600"/>
                </a:lnTo>
                <a:lnTo>
                  <a:pt x="41952" y="20200"/>
                </a:lnTo>
                <a:lnTo>
                  <a:pt x="41952" y="1400"/>
                </a:lnTo>
                <a:close/>
              </a:path>
              <a:path fill="darkenLess" w="43352" h="21600">
                <a:moveTo>
                  <a:pt x="433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52" y="20200"/>
                </a:lnTo>
                <a:close/>
              </a:path>
              <a:path fill="lighten" w="433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52" h="21600">
                <a:moveTo>
                  <a:pt x="25175" y="10800"/>
                </a:moveTo>
                <a:lnTo>
                  <a:pt x="14669" y="17806"/>
                </a:lnTo>
                <a:lnTo>
                  <a:pt x="14669" y="3794"/>
                </a:lnTo>
                <a:close/>
              </a:path>
              <a:path fill="darken" w="43352" h="21600">
                <a:moveTo>
                  <a:pt x="27020" y="3794"/>
                </a:moveTo>
                <a:lnTo>
                  <a:pt x="27020" y="17806"/>
                </a:lnTo>
                <a:lnTo>
                  <a:pt x="28682" y="17806"/>
                </a:lnTo>
                <a:lnTo>
                  <a:pt x="28682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685800"/>
            <a:ext cx="7467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408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40408"/>
                </a:solidFill>
                <a:latin typeface="楷体_GB2312"/>
                <a:ea typeface="楷体_GB2312"/>
              </a:rPr>
              <a:t>、一台抽水机将</a:t>
            </a:r>
            <a:r>
              <a:rPr b="1" lang="zh-CN" sz="3200" spc="-1" strike="noStrike">
                <a:solidFill>
                  <a:srgbClr val="040408"/>
                </a:solidFill>
                <a:latin typeface="楷体_GB2312"/>
                <a:ea typeface="楷体_GB2312"/>
              </a:rPr>
              <a:t>50m3</a:t>
            </a:r>
            <a:r>
              <a:rPr b="1" lang="zh-CN" sz="3200" spc="-1" strike="noStrike">
                <a:solidFill>
                  <a:srgbClr val="040408"/>
                </a:solidFill>
                <a:latin typeface="楷体_GB2312"/>
                <a:ea typeface="楷体_GB2312"/>
              </a:rPr>
              <a:t>的水抽到</a:t>
            </a:r>
            <a:r>
              <a:rPr b="1" lang="zh-CN" sz="3200" spc="-1" strike="noStrike">
                <a:solidFill>
                  <a:srgbClr val="040408"/>
                </a:solidFill>
                <a:latin typeface="楷体_GB2312"/>
                <a:ea typeface="楷体_GB2312"/>
              </a:rPr>
              <a:t>10m</a:t>
            </a:r>
            <a:r>
              <a:rPr b="1" lang="zh-CN" sz="3200" spc="-1" strike="noStrike">
                <a:solidFill>
                  <a:srgbClr val="040408"/>
                </a:solidFill>
                <a:latin typeface="楷体_GB2312"/>
                <a:ea typeface="楷体_GB2312"/>
              </a:rPr>
              <a:t>高处的水塔上去，这台抽水机对水做功多少</a:t>
            </a:r>
            <a:r>
              <a:rPr b="1" lang="zh-CN" sz="3200" spc="-1" strike="noStrike">
                <a:solidFill>
                  <a:srgbClr val="040408"/>
                </a:solidFill>
                <a:latin typeface="楷体_GB2312"/>
                <a:ea typeface="楷体_GB2312"/>
              </a:rPr>
              <a:t>J</a:t>
            </a:r>
            <a:r>
              <a:rPr b="1" lang="zh-CN" sz="3200" spc="-1" strike="noStrike">
                <a:solidFill>
                  <a:srgbClr val="040408"/>
                </a:solidFill>
                <a:latin typeface="楷体_GB2312"/>
                <a:ea typeface="楷体_GB2312"/>
              </a:rPr>
              <a:t>？（</a:t>
            </a:r>
            <a:r>
              <a:rPr b="1" i="1" lang="zh-CN" sz="3200" spc="-1" strike="noStrike">
                <a:solidFill>
                  <a:srgbClr val="040408"/>
                </a:solidFill>
                <a:latin typeface="楷体_GB2312"/>
                <a:ea typeface="楷体_GB2312"/>
              </a:rPr>
              <a:t>g</a:t>
            </a:r>
            <a:r>
              <a:rPr b="1" lang="zh-CN" sz="3200" spc="-1" strike="noStrike">
                <a:solidFill>
                  <a:srgbClr val="040408"/>
                </a:solidFill>
                <a:latin typeface="楷体_GB2312"/>
                <a:ea typeface="楷体_GB2312"/>
              </a:rPr>
              <a:t>＝</a:t>
            </a:r>
            <a:r>
              <a:rPr b="1" lang="zh-CN" sz="3200" spc="-1" strike="noStrike">
                <a:solidFill>
                  <a:srgbClr val="040408"/>
                </a:solidFill>
                <a:latin typeface="楷体_GB2312"/>
                <a:ea typeface="楷体_GB2312"/>
              </a:rPr>
              <a:t>10</a:t>
            </a:r>
            <a:r>
              <a:rPr b="1" i="1" lang="zh-CN" sz="3200" spc="-1" strike="noStrike">
                <a:solidFill>
                  <a:srgbClr val="040408"/>
                </a:solidFill>
                <a:latin typeface="楷体_GB2312"/>
                <a:ea typeface="楷体_GB2312"/>
              </a:rPr>
              <a:t>N/kg</a:t>
            </a:r>
            <a:r>
              <a:rPr b="1" lang="zh-CN" sz="3200" spc="-1" strike="noStrike">
                <a:solidFill>
                  <a:srgbClr val="040408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</a:t>
            </a:r>
            <a:r>
              <a:rPr b="1" i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W=G h=mgh=</a:t>
            </a:r>
            <a:r>
              <a:rPr b="1" i="1" lang="el-GR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ρ</a:t>
            </a:r>
            <a:r>
              <a:rPr b="1" i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V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025"/>
          <p:cNvPicPr/>
          <p:nvPr/>
        </p:nvPicPr>
        <p:blipFill>
          <a:blip r:embed="rId1"/>
          <a:stretch/>
        </p:blipFill>
        <p:spPr>
          <a:xfrm>
            <a:off x="6948360" y="333360"/>
            <a:ext cx="1722600" cy="172260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6"/>
          <p:cNvSpPr/>
          <p:nvPr/>
        </p:nvSpPr>
        <p:spPr>
          <a:xfrm>
            <a:off x="1835280" y="220500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ahoma"/>
                <a:ea typeface="楷体_GB2312"/>
              </a:rPr>
              <a:t>今天我学到了什么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0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50" dur="1" fill="hold"/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179280" y="0"/>
            <a:ext cx="215928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小结：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3" name=""/>
          <p:cNvSpPr/>
          <p:nvPr/>
        </p:nvSpPr>
        <p:spPr>
          <a:xfrm>
            <a:off x="395280" y="83664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ahoma"/>
              </a:rPr>
              <a:t>一、功：</a:t>
            </a:r>
            <a:r>
              <a:rPr b="1" lang="zh-CN" sz="2000" spc="-1" strike="noStrike">
                <a:solidFill>
                  <a:srgbClr val="000099"/>
                </a:solidFill>
                <a:latin typeface="Tahoma"/>
              </a:rPr>
              <a:t>一个力作用在物体上，物体在这个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力的方向</a:t>
            </a:r>
            <a:r>
              <a:rPr b="1" lang="zh-CN" sz="2000" spc="-1" strike="noStrike">
                <a:solidFill>
                  <a:srgbClr val="000099"/>
                </a:solidFill>
                <a:latin typeface="Tahoma"/>
              </a:rPr>
              <a:t>上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移动了一段距离</a:t>
            </a:r>
            <a:r>
              <a:rPr b="1" lang="zh-CN" sz="2000" spc="-1" strike="noStrike">
                <a:solidFill>
                  <a:srgbClr val="000099"/>
                </a:solidFill>
                <a:latin typeface="Tahoma"/>
              </a:rPr>
              <a:t>，     力学里就说这个力做了机械功，简称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功</a:t>
            </a:r>
            <a:r>
              <a:rPr b="1" lang="zh-CN" sz="2000" spc="-1" strike="noStrike">
                <a:solidFill>
                  <a:srgbClr val="000099"/>
                </a:solidFill>
                <a:latin typeface="Tahoma"/>
              </a:rPr>
              <a:t>（</a:t>
            </a:r>
            <a:r>
              <a:rPr b="1" lang="zh-CN" sz="2000" spc="-1" strike="noStrike">
                <a:solidFill>
                  <a:srgbClr val="000099"/>
                </a:solidFill>
                <a:latin typeface="Tahoma"/>
              </a:rPr>
              <a:t>work</a:t>
            </a:r>
            <a:r>
              <a:rPr b="1" lang="zh-CN" sz="2000" spc="-1" strike="noStrike">
                <a:solidFill>
                  <a:srgbClr val="000099"/>
                </a:solidFill>
                <a:latin typeface="Tahoma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9280" y="1773360"/>
            <a:ext cx="883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华文琥珀"/>
                <a:ea typeface="华文琥珀"/>
              </a:rPr>
              <a:t>二、做功的两个必要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琥珀"/>
                <a:ea typeface="华文琥珀"/>
              </a:rPr>
              <a:t>        </a:t>
            </a:r>
            <a:r>
              <a:rPr b="1" lang="zh-CN" sz="2400" spc="-1" strike="noStrike">
                <a:solidFill>
                  <a:srgbClr val="000099"/>
                </a:solidFill>
                <a:latin typeface="华文琥珀"/>
                <a:ea typeface="华文琥珀"/>
              </a:rPr>
              <a:t>（</a:t>
            </a:r>
            <a:r>
              <a:rPr b="1" lang="zh-CN" sz="2400" spc="-1" strike="noStrike">
                <a:solidFill>
                  <a:srgbClr val="000099"/>
                </a:solidFill>
                <a:latin typeface="华文琥珀"/>
                <a:ea typeface="华文琥珀"/>
              </a:rPr>
              <a:t>1</a:t>
            </a:r>
            <a:r>
              <a:rPr b="1" lang="zh-CN" sz="2400" spc="-1" strike="noStrike">
                <a:solidFill>
                  <a:srgbClr val="000099"/>
                </a:solidFill>
                <a:latin typeface="华文琥珀"/>
                <a:ea typeface="华文琥珀"/>
              </a:rPr>
              <a:t>）作用在物体上的</a:t>
            </a:r>
            <a:r>
              <a:rPr b="1" lang="zh-CN" sz="2400" spc="-1" strike="noStrike">
                <a:solidFill>
                  <a:srgbClr val="ff0000"/>
                </a:solidFill>
                <a:latin typeface="华文琥珀"/>
                <a:ea typeface="华文琥珀"/>
              </a:rPr>
              <a:t>力</a:t>
            </a:r>
            <a:r>
              <a:rPr b="1" lang="zh-CN" sz="2400" spc="-1" strike="noStrike">
                <a:solidFill>
                  <a:srgbClr val="000099"/>
                </a:solidFill>
                <a:latin typeface="华文琥珀"/>
                <a:ea typeface="华文琥珀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琥珀"/>
                <a:ea typeface="华文琥珀"/>
              </a:rPr>
              <a:t>        </a:t>
            </a:r>
            <a:r>
              <a:rPr b="1" lang="zh-CN" sz="2400" spc="-1" strike="noStrike">
                <a:solidFill>
                  <a:srgbClr val="000099"/>
                </a:solidFill>
                <a:latin typeface="华文琥珀"/>
                <a:ea typeface="华文琥珀"/>
              </a:rPr>
              <a:t>（</a:t>
            </a:r>
            <a:r>
              <a:rPr b="1" lang="zh-CN" sz="2400" spc="-1" strike="noStrike">
                <a:solidFill>
                  <a:srgbClr val="000099"/>
                </a:solidFill>
                <a:latin typeface="华文琥珀"/>
                <a:ea typeface="华文琥珀"/>
              </a:rPr>
              <a:t>2</a:t>
            </a:r>
            <a:r>
              <a:rPr b="1" lang="zh-CN" sz="2400" spc="-1" strike="noStrike">
                <a:solidFill>
                  <a:srgbClr val="000099"/>
                </a:solidFill>
                <a:latin typeface="华文琥珀"/>
                <a:ea typeface="华文琥珀"/>
              </a:rPr>
              <a:t>）物体在</a:t>
            </a:r>
            <a:r>
              <a:rPr b="1" lang="zh-CN" sz="2400" spc="-1" strike="noStrike">
                <a:solidFill>
                  <a:srgbClr val="ff0000"/>
                </a:solidFill>
                <a:latin typeface="华文琥珀"/>
                <a:ea typeface="华文琥珀"/>
              </a:rPr>
              <a:t>力的方向</a:t>
            </a:r>
            <a:r>
              <a:rPr b="1" lang="zh-CN" sz="2400" spc="-1" strike="noStrike">
                <a:solidFill>
                  <a:srgbClr val="000099"/>
                </a:solidFill>
                <a:latin typeface="华文琥珀"/>
                <a:ea typeface="华文琥珀"/>
              </a:rPr>
              <a:t>上通过的距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95280" y="2997360"/>
            <a:ext cx="8147160" cy="3473280"/>
            <a:chOff x="395280" y="2997360"/>
            <a:chExt cx="8147160" cy="3473280"/>
          </a:xfrm>
        </p:grpSpPr>
        <p:sp>
          <p:nvSpPr>
            <p:cNvPr id="226" name=""/>
            <p:cNvSpPr/>
            <p:nvPr/>
          </p:nvSpPr>
          <p:spPr>
            <a:xfrm>
              <a:off x="395280" y="2997360"/>
              <a:ext cx="814716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3399"/>
                  </a:solidFill>
                  <a:latin typeface="宋体"/>
                </a:rPr>
                <a:t>三、功的大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.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把力跟物体在力的方向上通过的距离的  </a:t>
              </a:r>
              <a:r>
                <a:rPr b="0" lang="zh-CN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乘积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叫做功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258920" y="5950080"/>
              <a:ext cx="575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W=F 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114200" y="5085000"/>
              <a:ext cx="575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2.</a:t>
              </a:r>
              <a:r>
                <a:rPr b="0" lang="zh-CN" sz="24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功</a:t>
              </a:r>
              <a:r>
                <a:rPr b="0" lang="zh-CN" sz="24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=</a:t>
              </a:r>
              <a:r>
                <a:rPr b="0" lang="zh-CN" sz="24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力</a:t>
              </a:r>
              <a:r>
                <a:rPr b="0" lang="zh-CN" sz="2000" spc="-1" strike="noStrike">
                  <a:solidFill>
                    <a:srgbClr val="000000"/>
                  </a:solidFill>
                  <a:latin typeface="Tahoma"/>
                </a:rPr>
                <a:t>×</a:t>
              </a:r>
              <a:r>
                <a:rPr b="0" lang="zh-CN" sz="2400" spc="-1" strike="noStrike">
                  <a:solidFill>
                    <a:srgbClr val="000000"/>
                  </a:solidFill>
                  <a:latin typeface="Tahoma"/>
                  <a:ea typeface="黑体"/>
                </a:rPr>
                <a:t>力的方向上移动距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3384720" y="6093000"/>
            <a:ext cx="57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单位：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黑体"/>
              </a:rPr>
              <a:t>焦耳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，简称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黑体"/>
              </a:rPr>
              <a:t>焦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，符号是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  <a:ea typeface="黑体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4" descr=""/>
          <p:cNvPicPr/>
          <p:nvPr/>
        </p:nvPicPr>
        <p:blipFill>
          <a:blip r:embed="rId1"/>
          <a:stretch/>
        </p:blipFill>
        <p:spPr>
          <a:xfrm>
            <a:off x="4114800" y="2422440"/>
            <a:ext cx="1905120" cy="10828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1143000" y="380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那么，有没有既省力又省距离的机械呢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28600" y="114300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活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探究斜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2"/>
          <a:stretch/>
        </p:blipFill>
        <p:spPr>
          <a:xfrm>
            <a:off x="4114800" y="2422440"/>
            <a:ext cx="1905120" cy="1082880"/>
          </a:xfrm>
          <a:prstGeom prst="rect">
            <a:avLst/>
          </a:prstGeom>
          <a:ln w="0">
            <a:noFill/>
          </a:ln>
        </p:spPr>
      </p:pic>
      <p:grpSp>
        <p:nvGrpSpPr>
          <p:cNvPr id="55" name="Group 13"/>
          <p:cNvGrpSpPr/>
          <p:nvPr/>
        </p:nvGrpSpPr>
        <p:grpSpPr>
          <a:xfrm>
            <a:off x="3581280" y="2253960"/>
            <a:ext cx="5486400" cy="1500480"/>
            <a:chOff x="3581280" y="2253960"/>
            <a:chExt cx="5486400" cy="1500480"/>
          </a:xfrm>
        </p:grpSpPr>
        <p:sp>
          <p:nvSpPr>
            <p:cNvPr id="56" name="Rectangle 9"/>
            <p:cNvSpPr/>
            <p:nvPr/>
          </p:nvSpPr>
          <p:spPr>
            <a:xfrm rot="20391600">
              <a:off x="4330440" y="2904840"/>
              <a:ext cx="3810240" cy="1522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11" descr=""/>
            <p:cNvPicPr/>
            <p:nvPr/>
          </p:nvPicPr>
          <p:blipFill>
            <a:blip r:embed="rId3"/>
            <a:stretch/>
          </p:blipFill>
          <p:spPr>
            <a:xfrm>
              <a:off x="3581280" y="3581640"/>
              <a:ext cx="5486400" cy="17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Rectangle 12"/>
            <p:cNvSpPr/>
            <p:nvPr/>
          </p:nvSpPr>
          <p:spPr>
            <a:xfrm>
              <a:off x="6858000" y="2819520"/>
              <a:ext cx="1066680" cy="7621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Line 15"/>
          <p:cNvSpPr/>
          <p:nvPr/>
        </p:nvSpPr>
        <p:spPr>
          <a:xfrm>
            <a:off x="5181480" y="3200400"/>
            <a:ext cx="228600" cy="6094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7848720" y="2286000"/>
            <a:ext cx="228600" cy="6858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9"/>
          <p:cNvSpPr/>
          <p:nvPr/>
        </p:nvSpPr>
        <p:spPr>
          <a:xfrm flipV="1">
            <a:off x="5257800" y="2514600"/>
            <a:ext cx="2666880" cy="9907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533520" y="190512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用弹簧测力计测出小车的重力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609480" y="37339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按右上图放好斜面，小车放在斜面上，用弹簧测力计拉动小车，使小车沿斜面方向作匀速直线运动，分别测出拉力的大小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F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小车通过的距离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S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小车上升的高度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h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将数据填入表格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5"/>
          <p:cNvSpPr/>
          <p:nvPr/>
        </p:nvSpPr>
        <p:spPr>
          <a:xfrm>
            <a:off x="6250320" y="2946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6"/>
          <p:cNvSpPr/>
          <p:nvPr/>
        </p:nvSpPr>
        <p:spPr>
          <a:xfrm>
            <a:off x="5105520" y="3276720"/>
            <a:ext cx="3581280" cy="0"/>
          </a:xfrm>
          <a:prstGeom prst="line">
            <a:avLst/>
          </a:prstGeom>
          <a:ln w="381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7"/>
          <p:cNvSpPr/>
          <p:nvPr/>
        </p:nvSpPr>
        <p:spPr>
          <a:xfrm>
            <a:off x="7772400" y="2286000"/>
            <a:ext cx="762120" cy="0"/>
          </a:xfrm>
          <a:prstGeom prst="line">
            <a:avLst/>
          </a:prstGeom>
          <a:ln w="381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9"/>
          <p:cNvSpPr/>
          <p:nvPr/>
        </p:nvSpPr>
        <p:spPr>
          <a:xfrm>
            <a:off x="8229600" y="2286000"/>
            <a:ext cx="0" cy="990720"/>
          </a:xfrm>
          <a:prstGeom prst="line">
            <a:avLst/>
          </a:prstGeom>
          <a:ln w="2844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0"/>
          <p:cNvSpPr/>
          <p:nvPr/>
        </p:nvSpPr>
        <p:spPr>
          <a:xfrm>
            <a:off x="8153280" y="259092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1"/>
          <p:cNvSpPr/>
          <p:nvPr/>
        </p:nvSpPr>
        <p:spPr>
          <a:xfrm>
            <a:off x="533520" y="53341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在小车上分别放上不同数量的钩码，重复上述实验，将数据填入表格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16185E-006 L 0.2875 -0.14312 E">
                                      <p:cBhvr>
                                        <p:cTn id="58" dur="5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250920" y="1484280"/>
          <a:ext cx="5113080" cy="252108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008000"/>
                <a:gridCol w="1008000"/>
              </a:tblGrid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次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/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/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/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5364000" y="1484280"/>
          <a:ext cx="3503520" cy="2521080"/>
        </p:xfrm>
        <a:graphic>
          <a:graphicData uri="http://schemas.openxmlformats.org/drawingml/2006/table">
            <a:tbl>
              <a:tblPr/>
              <a:tblGrid>
                <a:gridCol w="1871640"/>
                <a:gridCol w="1631880"/>
              </a:tblGrid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s/N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h/N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324000" y="47628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实验数据记录表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5181480"/>
            <a:ext cx="69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利用斜面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省力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，但是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费距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419112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分析、比较表中的实验数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你从中得出的结论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579132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楷体_GB2312"/>
              </a:rPr>
              <a:t>力和距离的乘积近似相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599840" y="10663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 S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 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236232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力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和 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物体在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  <a:ea typeface="楷体_GB2312"/>
              </a:rPr>
              <a:t>力的方向上通过的距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的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乘积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叫做机械功，简称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447920" y="1676520"/>
            <a:ext cx="457200" cy="761760"/>
          </a:xfrm>
          <a:prstGeom prst="line">
            <a:avLst/>
          </a:prstGeom>
          <a:ln w="255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38280" y="1676520"/>
            <a:ext cx="2438640" cy="761760"/>
          </a:xfrm>
          <a:prstGeom prst="line">
            <a:avLst/>
          </a:prstGeom>
          <a:ln w="255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1447560" y="1752480"/>
            <a:ext cx="2057400" cy="76212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1676520"/>
            <a:ext cx="1523880" cy="761760"/>
          </a:xfrm>
          <a:prstGeom prst="line">
            <a:avLst/>
          </a:prstGeom>
          <a:ln w="255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6"/>
          <p:cNvGrpSpPr/>
          <p:nvPr/>
        </p:nvGrpSpPr>
        <p:grpSpPr>
          <a:xfrm>
            <a:off x="5580000" y="2133720"/>
            <a:ext cx="3564000" cy="4724280"/>
            <a:chOff x="5580000" y="2133720"/>
            <a:chExt cx="3564000" cy="4724280"/>
          </a:xfrm>
        </p:grpSpPr>
        <p:sp>
          <p:nvSpPr>
            <p:cNvPr id="83" name="Rectangle 7"/>
            <p:cNvSpPr/>
            <p:nvPr/>
          </p:nvSpPr>
          <p:spPr>
            <a:xfrm>
              <a:off x="5580000" y="2133720"/>
              <a:ext cx="3564000" cy="4724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Picture 8" descr="D:\Documents and Settings\Administrator\桌面\功·教案示例之二.files\butu14.jpg">
              <a:hlinkClick r:id="rId1" action="ppaction://hlinksldjump"/>
            </p:cNvPr>
            <p:cNvPicPr/>
            <p:nvPr/>
          </p:nvPicPr>
          <p:blipFill>
            <a:blip r:embed="rId2"/>
            <a:srcRect l="0" t="0" r="0" b="12333"/>
            <a:stretch/>
          </p:blipFill>
          <p:spPr>
            <a:xfrm>
              <a:off x="5580000" y="2163600"/>
              <a:ext cx="3483720" cy="469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5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0"/>
            <a:ext cx="2687760" cy="41148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4038480" cy="63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一个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力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作用在物体上，物体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这个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力的方向上移动了一段距离，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楷体_GB2312"/>
              </a:rPr>
              <a:t>这个力的作用显示了成效，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力学里就说这个力做了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功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下列图中哪几个力的作用取得了效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即做了功？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哪几个图中力的作用没有取得效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即没有做功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1295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3629160" cy="3816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5257800"/>
            <a:ext cx="26640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搬而不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572000" y="2286000"/>
            <a:ext cx="4033800" cy="28447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334120" y="518148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Tahoma"/>
                <a:ea typeface="黑体"/>
              </a:rPr>
              <a:t>拉而不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268360" y="1125360"/>
            <a:ext cx="1295640" cy="2662560"/>
            <a:chOff x="2268360" y="1125360"/>
            <a:chExt cx="1295640" cy="2662560"/>
          </a:xfrm>
        </p:grpSpPr>
        <p:sp>
          <p:nvSpPr>
            <p:cNvPr id="94" name=""/>
            <p:cNvSpPr/>
            <p:nvPr/>
          </p:nvSpPr>
          <p:spPr>
            <a:xfrm flipH="1">
              <a:off x="2268360" y="1484280"/>
              <a:ext cx="216000" cy="2303640"/>
            </a:xfrm>
            <a:prstGeom prst="upArrow">
              <a:avLst>
                <a:gd name="adj1" fmla="val 50000"/>
                <a:gd name="adj2" fmla="val 26662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84360" y="1125360"/>
              <a:ext cx="1079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4238640" y="4940280"/>
            <a:ext cx="54936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477120" y="4038480"/>
            <a:ext cx="2449080" cy="835920"/>
            <a:chOff x="6477120" y="4038480"/>
            <a:chExt cx="2449080" cy="835920"/>
          </a:xfrm>
        </p:grpSpPr>
        <p:sp>
          <p:nvSpPr>
            <p:cNvPr id="98" name=""/>
            <p:cNvSpPr/>
            <p:nvPr/>
          </p:nvSpPr>
          <p:spPr>
            <a:xfrm>
              <a:off x="6477120" y="4038480"/>
              <a:ext cx="1944360" cy="289080"/>
            </a:xfrm>
            <a:prstGeom prst="rightArrow">
              <a:avLst>
                <a:gd name="adj1" fmla="val 50000"/>
                <a:gd name="adj2" fmla="val 168151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89840" y="4110120"/>
              <a:ext cx="936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276720" y="304920"/>
            <a:ext cx="4248000" cy="1152360"/>
          </a:xfrm>
          <a:prstGeom prst="wedgeRectCallout">
            <a:avLst>
              <a:gd name="adj1" fmla="val -26754"/>
              <a:gd name="adj2" fmla="val 15716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没有成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l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11-图片-47 推汽车"/>
          <p:cNvPicPr/>
          <p:nvPr/>
        </p:nvPicPr>
        <p:blipFill>
          <a:blip r:embed="rId1"/>
          <a:stretch/>
        </p:blipFill>
        <p:spPr>
          <a:xfrm>
            <a:off x="5410080" y="1219320"/>
            <a:ext cx="3353040" cy="4114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62120" y="1447920"/>
            <a:ext cx="3970080" cy="403848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2209680" y="2133720"/>
            <a:ext cx="1295640" cy="1671120"/>
            <a:chOff x="2209680" y="2133720"/>
            <a:chExt cx="1295640" cy="1671120"/>
          </a:xfrm>
        </p:grpSpPr>
        <p:sp>
          <p:nvSpPr>
            <p:cNvPr id="104" name=""/>
            <p:cNvSpPr/>
            <p:nvPr/>
          </p:nvSpPr>
          <p:spPr>
            <a:xfrm flipH="1">
              <a:off x="2209680" y="2358720"/>
              <a:ext cx="216000" cy="1446120"/>
            </a:xfrm>
            <a:prstGeom prst="upArrow">
              <a:avLst>
                <a:gd name="adj1" fmla="val 50000"/>
                <a:gd name="adj2" fmla="val 16737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425680" y="2133720"/>
              <a:ext cx="1079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4038120" y="1066680"/>
            <a:ext cx="1371600" cy="1824120"/>
            <a:chOff x="4038120" y="1066680"/>
            <a:chExt cx="1371600" cy="1824120"/>
          </a:xfrm>
        </p:grpSpPr>
        <p:sp>
          <p:nvSpPr>
            <p:cNvPr id="107" name=""/>
            <p:cNvSpPr/>
            <p:nvPr/>
          </p:nvSpPr>
          <p:spPr>
            <a:xfrm flipH="1">
              <a:off x="4037760" y="1312560"/>
              <a:ext cx="228600" cy="1578240"/>
            </a:xfrm>
            <a:prstGeom prst="upArrow">
              <a:avLst>
                <a:gd name="adj1" fmla="val 50000"/>
                <a:gd name="adj2" fmla="val 172598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67080" y="1066680"/>
              <a:ext cx="1142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867280" y="3886200"/>
            <a:ext cx="2449800" cy="835920"/>
            <a:chOff x="5867280" y="3886200"/>
            <a:chExt cx="2449800" cy="835920"/>
          </a:xfrm>
        </p:grpSpPr>
        <p:sp>
          <p:nvSpPr>
            <p:cNvPr id="110" name=""/>
            <p:cNvSpPr/>
            <p:nvPr/>
          </p:nvSpPr>
          <p:spPr>
            <a:xfrm>
              <a:off x="5867280" y="3886200"/>
              <a:ext cx="1944720" cy="289080"/>
            </a:xfrm>
            <a:prstGeom prst="rightArrow">
              <a:avLst>
                <a:gd name="adj1" fmla="val 50000"/>
                <a:gd name="adj2" fmla="val 1681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380360" y="3957840"/>
              <a:ext cx="936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Tahoma"/>
                </a:rPr>
                <a:t>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600200" y="541008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搬起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1320" y="541008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推出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304920"/>
            <a:ext cx="4038840" cy="914400"/>
          </a:xfrm>
          <a:prstGeom prst="wedgeRectCallout">
            <a:avLst>
              <a:gd name="adj1" fmla="val -28106"/>
              <a:gd name="adj2" fmla="val 186634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有成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2-09-18T00:38:01Z</dcterms:modified>
  <cp:revision>9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