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3435-D5E1-4E40-9AB5-942A9D5C7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20F3-38CD-47AF-B4EF-584E40A6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BB13-8AB4-4487-A676-7F9448F97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3DF4-FDEA-4DA7-8DC5-E14F48CE8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DB1F-1469-4CC3-8217-E760A854F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E81C-221E-4D50-8A9C-77F00DDFD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7165-B465-4F52-A2DD-E1B6E521F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71B9-9054-4AE4-AFB3-054F25300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BA4A-DFD9-4B62-87EB-4B50AF3E6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4790-6F22-4B64-9504-E5B116A0E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5AA7-D4C4-4CC2-B35C-F3ED3E0AD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11F8-0020-484F-BFA5-EA8F08537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4119B29-B2DD-41EE-BBED-E35B4A14F73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4EC8284-4444-4250-9076-C9C3C2CD57F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29"/>
          <p:cNvSpPr/>
          <p:nvPr/>
        </p:nvSpPr>
        <p:spPr>
          <a:xfrm>
            <a:off x="714240" y="1214280"/>
            <a:ext cx="771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工管理         文件管理     数据库管理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txl.jpg"/>
          <p:cNvPicPr/>
          <p:nvPr/>
        </p:nvPicPr>
        <p:blipFill>
          <a:blip r:embed="rId1"/>
          <a:stretch/>
        </p:blipFill>
        <p:spPr>
          <a:xfrm>
            <a:off x="785880" y="2286000"/>
            <a:ext cx="259884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txl1.png"/>
          <p:cNvPicPr/>
          <p:nvPr/>
        </p:nvPicPr>
        <p:blipFill>
          <a:blip r:embed="rId2"/>
          <a:stretch/>
        </p:blipFill>
        <p:spPr>
          <a:xfrm>
            <a:off x="4357800" y="3071880"/>
            <a:ext cx="110628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txl2.png"/>
          <p:cNvPicPr/>
          <p:nvPr/>
        </p:nvPicPr>
        <p:blipFill>
          <a:blip r:embed="rId3"/>
          <a:stretch/>
        </p:blipFill>
        <p:spPr>
          <a:xfrm>
            <a:off x="6286680" y="2857680"/>
            <a:ext cx="121428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1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FA085DA-32B9-4A6F-AC95-0AABB9C180B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42960" y="714240"/>
            <a:ext cx="77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图中是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软件创建的数据表，表中的字段数是（    ），一共有（    ）记录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" descr="搜狗截图_2013-10-16_13-36-28.png"/>
          <p:cNvPicPr/>
          <p:nvPr/>
        </p:nvPicPr>
        <p:blipFill>
          <a:blip r:embed="rId1"/>
          <a:stretch/>
        </p:blipFill>
        <p:spPr>
          <a:xfrm>
            <a:off x="2643120" y="1285920"/>
            <a:ext cx="5353200" cy="3095640"/>
          </a:xfrm>
          <a:prstGeom prst="rect">
            <a:avLst/>
          </a:prstGeom>
          <a:ln w="0">
            <a:noFill/>
          </a:ln>
        </p:spPr>
      </p:pic>
      <p:sp>
        <p:nvSpPr>
          <p:cNvPr id="105" name="矩形 4"/>
          <p:cNvSpPr/>
          <p:nvPr/>
        </p:nvSpPr>
        <p:spPr>
          <a:xfrm>
            <a:off x="714240" y="5143680"/>
            <a:ext cx="6572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26420a"/>
                </a:solidFill>
                <a:uFillTx/>
                <a:latin typeface="Arial"/>
                <a:ea typeface="黑体"/>
              </a:rPr>
              <a:t>数据库管理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英文名称缩写（        ）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    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     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500040" y="214200"/>
            <a:ext cx="5700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典型选择题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1365480" y="4500720"/>
            <a:ext cx="406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  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           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194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基本操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立数据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表、设计表字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新记录，删除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主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主关键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存表，保存数据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践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数据库，设计通讯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648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250920" y="0"/>
            <a:ext cx="201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思考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学聚会，需要做个通讯录上传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中，如何收集数据制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0"/>
          <p:cNvSpPr txBox="1"/>
          <p:nvPr/>
        </p:nvSpPr>
        <p:spPr>
          <a:xfrm>
            <a:off x="1332000" y="3213000"/>
            <a:ext cx="481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539016"/>
                </a:solidFill>
                <a:latin typeface="黑体"/>
              </a:rPr>
              <a:t>数据库信息资源管理</a:t>
            </a:r>
            <a:endParaRPr b="1" i="1" lang="en-US" sz="2400" spc="-1" strike="noStrike">
              <a:ln w="0">
                <a:noFill/>
              </a:ln>
              <a:solidFill>
                <a:srgbClr val="539016"/>
              </a:solidFill>
              <a:latin typeface="黑体"/>
              <a:ea typeface="黑体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9280" y="260280"/>
            <a:ext cx="4969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黑体"/>
              </a:rPr>
              <a:t>信息资源管理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914040"/>
            <a:ext cx="820728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签到时大家是排队逐个操作还是多人同时操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28"/>
          <p:cNvSpPr/>
          <p:nvPr/>
        </p:nvSpPr>
        <p:spPr>
          <a:xfrm>
            <a:off x="609480" y="266688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学聚会时，要做个通讯录，是一个一个登记信息还是同时登记呢？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18920" y="1125360"/>
            <a:ext cx="7669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活中数据库技术有哪些应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数据库技术的应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28"/>
          <p:cNvSpPr/>
          <p:nvPr/>
        </p:nvSpPr>
        <p:spPr>
          <a:xfrm>
            <a:off x="928800" y="2286000"/>
            <a:ext cx="7429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：图书馆借、还书籍的管理；网上图书馆；银行储蓄系统；火车售票系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地理信息系统；天气预报系统；网络搜索引擎；网络影院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熟悉数据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0" r="0" b="7378"/>
          <a:stretch/>
        </p:blipFill>
        <p:spPr>
          <a:xfrm>
            <a:off x="468360" y="836640"/>
            <a:ext cx="835344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矩形 5"/>
          <p:cNvSpPr/>
          <p:nvPr/>
        </p:nvSpPr>
        <p:spPr>
          <a:xfrm>
            <a:off x="468360" y="4581360"/>
            <a:ext cx="817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多个相关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组成一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数据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可见数据库与电子表格一样，也是一种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结构化的信息存储和表达方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数据库的类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E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中的表与表是相互关联的，表内部的“关系”与表之间的相互“关系”组成了一个有机的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关系型数据库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分为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关系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层次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和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网络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三大类。目前微型计算机中最常用的是关系型数据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BMS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数据库管理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3857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00080"/>
            <a:ext cx="570060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典型选择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80784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在管理数据库中，选定的一行称为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一个数据库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一个查询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一条记录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一个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下列系统中采用数据库对信息进行管理的是（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电子门锁控制系统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银行储蓄信息系统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音频合成系统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舞台灯光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关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及其组成，下列说法不正确的是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一种结构化的信息存储和表达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属于层次模型的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中表的每一行称为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库中表的每一条记录由若干个字段值构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0:31:14Z</dcterms:created>
  <dc:creator>xq</dc:creator>
  <dc:description/>
  <dc:language>en-US</dc:language>
  <cp:lastModifiedBy>xx-xqzx</cp:lastModifiedBy>
  <dcterms:modified xsi:type="dcterms:W3CDTF">2015-12-30T01:48:47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