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81BC-F7E9-4F7C-A6CD-CD2B4529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7084-F98A-4ABF-8E75-8C946E56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7DE1-A68C-477C-93A3-0D1DD5F4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824E-1E67-4F65-86CB-66B08C18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55C9-BDD9-43BD-B75E-124A757F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89EC-1E8F-4F70-B87D-D96F7FF2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1F0F-7459-4FC2-9A0F-48FE7BC4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707D-B19E-4977-8FE2-1B575842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D287-E9E4-4F55-AE2F-C9B8902E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503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26D1-DE11-40D0-891A-83594177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2A81-490F-449D-B8FC-1F5623F2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E232D-8E1A-4F25-B3AC-1325C99C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257A-8CF5-4C6B-A05F-45025BD2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C2CA-FE43-4860-B51E-8908732F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1800-CA4C-452F-A4B0-9DCE9BC8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5D9C-199B-440D-9F9D-E7D2F223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F764-04F9-4734-ABB0-EEA421E1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67420-84C1-4FAA-AC4C-92497FC2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4E94D-9394-473D-AF3F-FFDBA6B3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250CB-1B97-4827-922C-A4DB8C16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503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98E5-54BE-466D-8526-D6D86812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AF9B7-D8D0-4CBA-A3CC-4FC6D32C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A7E8-C494-408A-9173-FF22886E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C6E9D-8407-4038-BB43-6D1E48E0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6ca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577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552720" y="6505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94BC-CC8E-4F59-8CC7-72132D380E3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72C7-9576-4124-B186-8132D87394AB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77320" y="457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440" y="640044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2EAB-ADAC-440B-A01C-146C679F9B16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5291280" y="6514920"/>
            <a:ext cx="1839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i="1" lang="zh-CN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228600" y="640044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7153-3449-4F4E-8B42-0EFB9932DA2F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86600" y="6445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1066680" y="2666880"/>
            <a:ext cx="64008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0197;&#8220;&#38382;&#39064;&#22330;&#8221;&#20026;&#36733;&#20307;&#30340;&#35838;&#22530;&#25945;&#23398;&#35266;&#23519;&#37327;&#34920;.doc" TargetMode="External"/><Relationship Id="rId3" Type="http://schemas.openxmlformats.org/officeDocument/2006/relationships/hyperlink" Target="file:///&#20197;&#8220;&#38382;&#39064;&#22330;&#8221;&#20026;&#36733;&#20307;&#30340;&#35838;&#22530;&#25945;&#23398;&#35266;&#23519;&#37327;&#34920;.doc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47640" y="2997360"/>
            <a:ext cx="5977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61504"/>
                </a:solidFill>
                <a:latin typeface="方正姚体"/>
                <a:ea typeface="方正姚体"/>
              </a:rPr>
              <a:t>      </a:t>
            </a:r>
            <a:r>
              <a:rPr b="1" lang="zh-CN" sz="6000" spc="-1" strike="noStrike">
                <a:solidFill>
                  <a:srgbClr val="f61504"/>
                </a:solidFill>
                <a:latin typeface="方正姚体"/>
                <a:ea typeface="方正姚体"/>
              </a:rPr>
              <a:t>观课与议课</a:t>
            </a:r>
            <a:r>
              <a:rPr b="1" lang="zh-CN" sz="4400" spc="-1" strike="noStrike">
                <a:solidFill>
                  <a:srgbClr val="f61504"/>
                </a:solidFill>
                <a:latin typeface="方正姚体"/>
                <a:ea typeface="方正姚体"/>
              </a:rPr>
              <a:t> </a:t>
            </a:r>
            <a:r>
              <a:rPr b="1" lang="zh-CN" sz="4400" spc="-1" strike="noStrike">
                <a:solidFill>
                  <a:srgbClr val="f61504"/>
                </a:solidFill>
                <a:latin typeface="方正姚体"/>
                <a:ea typeface="方正姚体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42920" y="134136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心理学的理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40464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、议课的理论支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48280" y="126828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隶书"/>
              </a:rPr>
              <a:t>言传的基本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987560"/>
            <a:ext cx="4343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隶书"/>
                <a:ea typeface="隶书"/>
              </a:rPr>
              <a:t>启发</a:t>
            </a:r>
            <a:r>
              <a:rPr b="0" lang="zh-CN" sz="4000" spc="-1" strike="noStrike">
                <a:solidFill>
                  <a:srgbClr val="a50021"/>
                </a:solidFill>
                <a:latin typeface="Times New Roman"/>
                <a:ea typeface="隶书"/>
              </a:rPr>
              <a:t>默会的技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32640" y="1771560"/>
            <a:ext cx="0" cy="43200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234936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认知心理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3068640"/>
            <a:ext cx="436248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科教学心理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多元智能理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建构主义理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08464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40464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、议课的理论支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134136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教学法的理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1280" y="2565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课程标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1280" y="317484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教材教法、学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87600" y="386064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信息技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63920" y="431784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9640" y="476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、议课的基本理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523880"/>
            <a:ext cx="65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议课的目的在于“增值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24210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评课的主要目的不是水平甄别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华文行楷"/>
              </a:rPr>
              <a:t>，而是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促进教师改进教学实践，促进教师专业发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9640" y="476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、议课的基本理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47640" y="2349360"/>
            <a:ext cx="56883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华文行楷"/>
                <a:ea typeface="华文行楷"/>
              </a:rPr>
              <a:t>     </a:t>
            </a:r>
            <a:r>
              <a:rPr b="0" lang="zh-CN" sz="3200" spc="-1" strike="noStrike">
                <a:solidFill>
                  <a:srgbClr val="990000"/>
                </a:solidFill>
                <a:latin typeface="华文行楷"/>
                <a:ea typeface="华文行楷"/>
              </a:rPr>
              <a:t>什么样的课是一节好课  ？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3284640"/>
            <a:ext cx="129528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扎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充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丰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平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真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19640" y="3284640"/>
            <a:ext cx="2971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有意义的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有效率的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生成性的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常态下的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待完善的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32846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叶澜教授的标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134136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议课的标准趋向“多元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476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、议课的基本理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34136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议课的标准趋向“多元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1989000"/>
            <a:ext cx="882000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按照“以学论教”的思路，实际教学效果的评判标准可简化为三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1. “</a:t>
            </a: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少教多学” ：学生该听的听了没有？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                                     </a:t>
            </a: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该做的做了没有？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                                     </a:t>
            </a: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该想的想了没有？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                                     </a:t>
            </a: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该说的说了没有？</a:t>
            </a:r>
            <a:r>
              <a:rPr b="0" lang="zh-CN" sz="32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465300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2.“</a:t>
            </a: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学得愉快”</a:t>
            </a: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:    </a:t>
            </a: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有多少学生对这节课感兴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                           </a:t>
            </a: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学生兴趣盎然持续时间多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                           </a:t>
            </a: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学生是否体验到学习的成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3.“</a:t>
            </a:r>
            <a:r>
              <a:rPr b="0" lang="zh-CN" sz="2800" spc="-1" strike="noStrike">
                <a:solidFill>
                  <a:srgbClr val="800000"/>
                </a:solidFill>
                <a:latin typeface="华文行楷"/>
                <a:ea typeface="华文行楷"/>
              </a:rPr>
              <a:t>考的满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、议课的基本理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134136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议课的标准趋向“多元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2276640"/>
            <a:ext cx="8567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美国“教育多元化与卓越化研究中心”开发的标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师生共同参与教学活动，以促进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课程发展学习者的语言，提高学习者素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教学联系学生的真实生活，以此创造学习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挑战性的活动、思维发展学生的认知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对话进行教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一条标准还有一些具体的指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42920" y="36450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议课的成效需要“行为跟进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177336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议课的作用重在“诊断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278136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议课的方式强调“对话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4508640"/>
            <a:ext cx="93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行为跟进、改进，才能外显隐性感悟，实现自我超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提倡“知行合一” ，真正体现评课成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8360" y="476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、议课的基本理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5280" y="6922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五、议课的视角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19240" y="15238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教学分析的视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2133720"/>
            <a:ext cx="51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教学目标与效果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8120" y="279864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教学内容与加工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8120" y="346716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教学重点与难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9040" y="416736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教学过程与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474336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教学方法与手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56000" y="213372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起点与最近发展区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14172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基于教材与因班制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445608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教与学的和谐统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140360" y="3051000"/>
            <a:ext cx="287280" cy="849600"/>
          </a:xfrm>
          <a:custGeom>
            <a:avLst/>
            <a:gdLst>
              <a:gd name="textAreaLeft" fmla="*/ 183960 w 287280"/>
              <a:gd name="textAreaRight" fmla="*/ 288000 w 287280"/>
              <a:gd name="textAreaTop" fmla="*/ 21960 h 849600"/>
              <a:gd name="textAreaBottom" fmla="*/ 827640 h 84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140360" y="4365720"/>
            <a:ext cx="287280" cy="849240"/>
          </a:xfrm>
          <a:custGeom>
            <a:avLst/>
            <a:gdLst>
              <a:gd name="textAreaLeft" fmla="*/ 183960 w 287280"/>
              <a:gd name="textAreaRight" fmla="*/ 288000 w 28728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95280" y="3573360"/>
            <a:ext cx="874872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适度的”科学性始终是不可或缺的基本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教师本体性知识的充实、更新是项长期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不少教学困惑、问题源于学科内容知识缺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去学科”现象必须引起警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2360" y="278136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科分析的必要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26920" y="162864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科分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视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6922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五、议课的视角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47640" y="450864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历史性与人文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44640" y="1290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科分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视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206064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科学性与通俗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76360" y="285264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理论性与应用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37162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逻辑性与系统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54936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五、议课的视角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1628640"/>
            <a:ext cx="72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佛像它是借用一个形体来承载一种普遍佛理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‥‥世俗中人并不是直接从佛经，而大多是从佛像中领悟佛理的。                                      ——余秋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067280" y="458136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探究与接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278136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群体与个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62000" y="341316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认知与情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524196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预设与生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62000" y="402264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创新与实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522936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温故与知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11640" y="35002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讲解与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14158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专题分析的视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62000" y="46483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建构与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0360" y="407664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知识与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5280" y="54936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五、议课的视角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278136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习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206064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科观念建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2060640"/>
            <a:ext cx="3456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1a50b2"/>
                </a:solidFill>
                <a:uFillTx/>
                <a:latin typeface="Times New Roman"/>
                <a:ea typeface="华文行楷"/>
                <a:hlinkClick r:id="rId2"/>
              </a:rPr>
              <a:t>问题场为载体</a:t>
            </a:r>
            <a:r>
              <a:rPr b="0" lang="zh-CN" sz="4000" spc="-1" strike="noStrike" u="sng">
                <a:solidFill>
                  <a:srgbClr val="1a50b2"/>
                </a:solidFill>
                <a:uFillTx/>
                <a:latin typeface="Times New Roman"/>
                <a:ea typeface="华文行楷"/>
                <a:hlinkClick r:id="rId3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5280" y="54936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五、议课的视角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92320" y="14130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理论分析的视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2698920"/>
            <a:ext cx="342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学生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教师教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学科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华文行楷"/>
                <a:ea typeface="华文行楷"/>
              </a:rPr>
              <a:t>课堂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42920" y="2122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崔允漷教授的分析框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2736720"/>
            <a:ext cx="673272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：学生是怎样学的？是否有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：教师是如何教的？是否适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：这是一堂什么课？学科性表现在哪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：在课堂呆了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分钟，我整体感受如何？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3" descr="006.jpg"/>
          <p:cNvPicPr/>
          <p:nvPr/>
        </p:nvPicPr>
        <p:blipFill>
          <a:blip r:embed="rId2"/>
          <a:stretch/>
        </p:blipFill>
        <p:spPr>
          <a:xfrm>
            <a:off x="0" y="0"/>
            <a:ext cx="9348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8360" y="1916280"/>
            <a:ext cx="304632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明言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什么、为什么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主要是事实和原理的知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14840" y="1989000"/>
            <a:ext cx="3629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存于书本，可编码（逻辑性）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可传递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共享性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)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、可反思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批判性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仿宋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3500280"/>
            <a:ext cx="3024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默会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怎么想、怎么做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本质上是理解力和领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80000" y="3789360"/>
            <a:ext cx="287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存于个人经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个体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嵌入实践活动（情境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0" t="0" r="0" b="6579"/>
          <a:stretch/>
        </p:blipFill>
        <p:spPr>
          <a:xfrm>
            <a:off x="3348000" y="2276640"/>
            <a:ext cx="2001960" cy="2482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3068640"/>
            <a:ext cx="828036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62064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听课、评课与观课、议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1413000"/>
            <a:ext cx="6696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听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主要指向声音，师生在教学活动中的有声语言往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观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不仅用耳朵，而且用多种感官收集课堂信息。用眼睛观察，用心灵感受、体悟课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评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评价，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议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讨论，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4724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一个“观”字提醒我们全面收集课堂信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一个“议”字凸显出教师的专业主体地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47628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怎样观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6840" y="1268280"/>
            <a:ext cx="2088720" cy="44136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量的课堂观察的技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22042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回应学生问题记录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33360"/>
            <a:ext cx="40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没有参与课堂活动学生人数统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55640" y="2708280"/>
          <a:ext cx="3600360" cy="3349800"/>
        </p:xfrm>
        <a:graphic>
          <a:graphicData uri="http://schemas.openxmlformats.org/drawingml/2006/table">
            <a:tbl>
              <a:tblPr/>
              <a:tblGrid>
                <a:gridCol w="556920"/>
                <a:gridCol w="698400"/>
                <a:gridCol w="976320"/>
                <a:gridCol w="505080"/>
                <a:gridCol w="431640"/>
                <a:gridCol w="432000"/>
              </a:tblGrid>
              <a:tr h="313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反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语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非语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076720" y="2565360"/>
          <a:ext cx="2928960" cy="4016160"/>
        </p:xfrm>
        <a:graphic>
          <a:graphicData uri="http://schemas.openxmlformats.org/drawingml/2006/table">
            <a:tbl>
              <a:tblPr/>
              <a:tblGrid>
                <a:gridCol w="1450800"/>
                <a:gridCol w="1478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Rectangle 8"/>
          <p:cNvSpPr/>
          <p:nvPr/>
        </p:nvSpPr>
        <p:spPr>
          <a:xfrm>
            <a:off x="4932360" y="1197000"/>
            <a:ext cx="278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班人数：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计次数：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课学生参与率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62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1-46/40*12=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33336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怎样观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68640" y="1197000"/>
            <a:ext cx="2009520" cy="45972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性的课堂观察的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133720"/>
            <a:ext cx="352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描述体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类似我们的听课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叙述体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详细记录所有细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图式记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学生答问记录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工艺学记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录音、录像、照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1855" t="2074" r="2349" b="3700"/>
          <a:stretch/>
        </p:blipFill>
        <p:spPr>
          <a:xfrm>
            <a:off x="4140360" y="1916280"/>
            <a:ext cx="4103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3"/>
          <p:cNvGrpSpPr/>
          <p:nvPr/>
        </p:nvGrpSpPr>
        <p:grpSpPr>
          <a:xfrm>
            <a:off x="822240" y="1876320"/>
            <a:ext cx="1912680" cy="3605040"/>
            <a:chOff x="822240" y="1876320"/>
            <a:chExt cx="1912680" cy="3605040"/>
          </a:xfrm>
        </p:grpSpPr>
        <p:sp>
          <p:nvSpPr>
            <p:cNvPr id="108" name="未知"/>
            <p:cNvSpPr/>
            <p:nvPr/>
          </p:nvSpPr>
          <p:spPr>
            <a:xfrm flipV="1">
              <a:off x="1115640" y="3605040"/>
              <a:ext cx="160920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76c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 rot="16200000">
              <a:off x="1539360" y="2671560"/>
              <a:ext cx="478080" cy="191268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76c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1104840" y="1876320"/>
              <a:ext cx="1609200" cy="1876320"/>
            </a:xfrm>
            <a:custGeom>
              <a:avLst/>
              <a:gdLst/>
              <a:ahLst/>
              <a:rect l="l" t="t" r="r" b="b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rgbClr val="76ca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AutoShape 7"/>
          <p:cNvSpPr/>
          <p:nvPr/>
        </p:nvSpPr>
        <p:spPr>
          <a:xfrm>
            <a:off x="3429000" y="3048120"/>
            <a:ext cx="5457960" cy="1304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855ada"/>
              </a:gs>
              <a:gs pos="100000">
                <a:srgbClr val="185e18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4287960" y="347652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429000" y="4572000"/>
            <a:ext cx="5423040" cy="131436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e5772d"/>
              </a:gs>
              <a:gs pos="100000">
                <a:srgbClr val="0020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4260960" y="5018040"/>
            <a:ext cx="376200" cy="347760"/>
          </a:xfrm>
          <a:prstGeom prst="rightArrow">
            <a:avLst>
              <a:gd name="adj1" fmla="val 50000"/>
              <a:gd name="adj2" fmla="val 45074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3429000" y="1523880"/>
            <a:ext cx="5457960" cy="1305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1a50b2">
                  <a:alpha val="80000"/>
                </a:srgbClr>
              </a:gs>
              <a:gs pos="100000">
                <a:srgbClr val="005e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4268880" y="1981080"/>
            <a:ext cx="376200" cy="344520"/>
          </a:xfrm>
          <a:prstGeom prst="rightArrow">
            <a:avLst>
              <a:gd name="adj1" fmla="val 50000"/>
              <a:gd name="adj2" fmla="val 45498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3"/>
          <p:cNvSpPr/>
          <p:nvPr/>
        </p:nvSpPr>
        <p:spPr>
          <a:xfrm>
            <a:off x="2825640" y="1519200"/>
            <a:ext cx="162900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1a50b2"/>
              </a:gs>
              <a:gs pos="100000">
                <a:srgbClr val="008e00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2889360" y="158436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3e683"/>
              </a:gs>
              <a:gs pos="50000">
                <a:srgbClr val="1a50b2">
                  <a:alpha val="0"/>
                </a:srgbClr>
              </a:gs>
              <a:gs pos="100000">
                <a:srgbClr val="83e68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2838600" y="302112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55ada"/>
              </a:gs>
              <a:gs pos="100000">
                <a:srgbClr val="248e24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2892600" y="3086280"/>
            <a:ext cx="811080" cy="64908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9ce69c"/>
              </a:gs>
              <a:gs pos="50000">
                <a:srgbClr val="855ada">
                  <a:alpha val="0"/>
                </a:srgbClr>
              </a:gs>
              <a:gs pos="100000">
                <a:srgbClr val="9ce69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7"/>
          <p:cNvSpPr/>
          <p:nvPr/>
        </p:nvSpPr>
        <p:spPr>
          <a:xfrm>
            <a:off x="2819520" y="4572000"/>
            <a:ext cx="1628640" cy="1298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5772d"/>
              </a:gs>
              <a:gs pos="100000">
                <a:srgbClr val="003100"/>
              </a:gs>
            </a:gsLst>
            <a:lin ang="5400000"/>
          </a:gradFill>
          <a:ln w="25560">
            <a:solidFill>
              <a:srgbClr val="fefefe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>
            <a:off x="2873520" y="4599000"/>
            <a:ext cx="811080" cy="649440"/>
          </a:xfrm>
          <a:custGeom>
            <a:avLst/>
            <a:gdLst/>
            <a:ahLst/>
            <a:rect l="l" t="t" r="r" b="b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83a583"/>
              </a:gs>
              <a:gs pos="50000">
                <a:srgbClr val="e5772d">
                  <a:alpha val="0"/>
                </a:srgbClr>
              </a:gs>
              <a:gs pos="100000">
                <a:srgbClr val="83a58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9" descr="YG_circle001"/>
          <p:cNvPicPr/>
          <p:nvPr/>
        </p:nvPicPr>
        <p:blipFill>
          <a:blip r:embed="rId2"/>
          <a:stretch/>
        </p:blipFill>
        <p:spPr>
          <a:xfrm>
            <a:off x="243000" y="2695680"/>
            <a:ext cx="1882800" cy="18795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0"/>
          <p:cNvSpPr/>
          <p:nvPr/>
        </p:nvSpPr>
        <p:spPr>
          <a:xfrm>
            <a:off x="4610160" y="1905120"/>
            <a:ext cx="33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观察目的和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4678200" y="3429000"/>
            <a:ext cx="33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融入课堂和数据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4678200" y="4952880"/>
            <a:ext cx="39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料分析和结果呈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380880" y="3048120"/>
            <a:ext cx="157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2743200" y="190512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微软雅黑"/>
                <a:ea typeface="微软雅黑"/>
              </a:rPr>
              <a:t>观察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2743200" y="335268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微软雅黑"/>
                <a:ea typeface="微软雅黑"/>
              </a:rPr>
              <a:t>观察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2735280" y="4952880"/>
            <a:ext cx="16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ffff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effff"/>
                </a:solidFill>
                <a:latin typeface="微软雅黑"/>
                <a:ea typeface="微软雅黑"/>
              </a:rPr>
              <a:t>观察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47628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怎样观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0920" y="1341360"/>
            <a:ext cx="84978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不仅要关注教师的教，更要关注学生的学</a:t>
            </a:r>
            <a:r>
              <a:rPr b="1" lang="zh-CN" sz="3200" spc="-1" strike="noStrike">
                <a:solidFill>
                  <a:srgbClr val="e5772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落实；内容处理；过程展开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选择；媒体使用；调控应变；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学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什么？有何指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；发言；作业；氛围；思维；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坐在前面听课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必要时可让技术介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54936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怎样观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5280" y="40464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三、议课的理论支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7240" y="14590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教育学的理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3240" y="2421000"/>
            <a:ext cx="207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德育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32004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程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3240" y="394488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教学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9560" y="447840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421000"/>
            <a:ext cx="570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教学永远具有教育性”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31417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课程的生成性、开放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43280" y="40053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让课堂焕发生命活力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51Z</dcterms:created>
  <dc:creator>周文荣</dc:creator>
  <dc:description/>
  <dc:language>en-US</dc:language>
  <cp:lastModifiedBy>wang</cp:lastModifiedBy>
  <dcterms:modified xsi:type="dcterms:W3CDTF">2007-07-01T16:23:01Z</dcterms:modified>
  <cp:revision>556</cp:revision>
  <dc:subject/>
  <dc:title>艺术特色教育汇报.ppt</dc:title>
</cp:coreProperties>
</file>