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1B59-1A82-42C2-BEB3-3B83B2A2CC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0BDC-A0EF-48D3-8E9D-11680E7B34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6059-AAB6-43A2-A458-3E5757BCCB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0F7-47A4-4F0B-99AC-2A7AA5F6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BD1-9E6D-4979-AFD2-E1ABEAF0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151-CD74-4272-A110-E8244B10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E72-0F3D-4B00-B3AB-6ADBC9E0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9D9-FD6D-4973-BB68-249D832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7AB-2C3F-4B17-AAAF-5A612F42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7BE-FE0D-4EB5-83D7-5A44431D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5C1-ABD5-430D-BE52-E5AB935A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69F-26B5-4D3E-A40C-B6DEF543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06D-81E6-4CF4-A8A5-293A525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C69-DF76-4065-A216-6E8E34EC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E20-697B-4C2F-80B2-C9D23D4D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0725-EB48-4ABC-9A04-D331FD26EE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莲花16"/>
          <p:cNvPicPr/>
          <p:nvPr/>
        </p:nvPicPr>
        <p:blipFill>
          <a:blip r:embed="rId1"/>
          <a:stretch/>
        </p:blipFill>
        <p:spPr>
          <a:xfrm>
            <a:off x="-223920" y="-127080"/>
            <a:ext cx="9367920" cy="6985080"/>
          </a:xfrm>
          <a:prstGeom prst="rect">
            <a:avLst/>
          </a:prstGeom>
          <a:ln w="0">
            <a:noFill/>
          </a:ln>
        </p:spPr>
      </p:pic>
      <p:pic>
        <p:nvPicPr>
          <p:cNvPr id="49" name="Object 20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37720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Object 28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14763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680" y="3284640"/>
            <a:ext cx="118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1116000" y="2349360"/>
            <a:ext cx="533520" cy="37339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19280" y="198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生长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619280" y="3357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体态芳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63640" y="4869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  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3635280" y="2997360"/>
            <a:ext cx="381240" cy="1447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114800" y="112536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出淤泥而不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114800" y="22050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濯清涟而不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3635280" y="134136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211640" y="285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中通外直，不蔓不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191120" y="40766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香远益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276720" y="522936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191120" y="48690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亭亭净植，可远观而不可亵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思考：作者从哪些方面来写莲的？你从中感知到了莲具有哪些品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10526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高洁、洁身自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0360" y="2205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庄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573360"/>
            <a:ext cx="47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豁达正直、不攀附权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1497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美名远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5734080"/>
            <a:ext cx="223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清高、受人敬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76500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49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莲的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557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341360"/>
            <a:ext cx="86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26828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与世俗同流合污、洁身自好、豁达正直、不攀附权贵、美名远扬、清高、受人敬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637000"/>
            <a:ext cx="60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莲的形象也是君子的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357720"/>
            <a:ext cx="446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托物言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14972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22100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4221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托物言志就是通过对物品的描写和叙述，表现自己的志向和意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5640" y="98100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765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体会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77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短文要表现怎样的主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852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篇短文通过对莲的形象和品格的描写，赞美了正直高尚的气节，鄙弃了追名逐利的世风，表现了作者洁身自好的生活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549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思考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1628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章写莲，却三次提到了菊和牡丹，这样写有何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284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菊和牡丹都衬托了莲的高洁品行，写菊花是从正面衬托莲花，写牡丹是从侧面衬托莲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657600" y="914400"/>
            <a:ext cx="5029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周敦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86200" y="2209680"/>
            <a:ext cx="486252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(1017-1073) 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，宋代道州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(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现在湖南省道县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)</a:t>
            </a:r>
            <a:r>
              <a:rPr b="1" lang="zh-CN" sz="4000" spc="-1" strike="noStrike">
                <a:solidFill>
                  <a:srgbClr val="0033cc"/>
                </a:solidFill>
                <a:latin typeface="方正姚体"/>
                <a:ea typeface="方正姚体"/>
              </a:rPr>
              <a:t>人，字茂叔，谥号元公，著名的哲学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周敦颐"/>
          <p:cNvPicPr/>
          <p:nvPr/>
        </p:nvPicPr>
        <p:blipFill>
          <a:blip r:embed="rId1"/>
          <a:stretch/>
        </p:blipFill>
        <p:spPr>
          <a:xfrm>
            <a:off x="457200" y="914400"/>
            <a:ext cx="30481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95280" y="2103120"/>
            <a:ext cx="746784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古代的一种文体，通常借某一事物说明道理，用于阐述作者对问题的见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ackgd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491280" y="969840"/>
            <a:ext cx="18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62720" y="1828800"/>
            <a:ext cx="54100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 )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濯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  )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玩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泥   清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 )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噫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隐逸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)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175760" y="25653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2a73"/>
                </a:solidFill>
                <a:latin typeface="Times New Roman"/>
              </a:rPr>
              <a:t>ｆ</a:t>
            </a:r>
            <a:r>
              <a:rPr b="1" lang="zh-CN" sz="2800" spc="-1" strike="noStrike">
                <a:solidFill>
                  <a:srgbClr val="b62a73"/>
                </a:solidFill>
                <a:latin typeface="Times New Roman"/>
              </a:rPr>
              <a:t>á</a:t>
            </a:r>
            <a:r>
              <a:rPr b="1" lang="zh-CN" sz="2800" spc="-1" strike="noStrike">
                <a:solidFill>
                  <a:srgbClr val="b62a73"/>
                </a:solidFill>
                <a:latin typeface="Times New Roman"/>
              </a:rPr>
              <a:t>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30480" y="263700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ｚｈｕ</a:t>
            </a: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243840" y="25653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ｘｉ</a:t>
            </a: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062360" y="3357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ｙ</a:t>
            </a: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965040" y="328464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ｌｉ</a:t>
            </a: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á</a:t>
            </a: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081200" y="32846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ｙ</a:t>
            </a: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717920" y="40766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ｙ</a:t>
            </a: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534120" y="407664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ｘｉ</a:t>
            </a: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ǎ</a:t>
            </a:r>
            <a:r>
              <a:rPr b="1" lang="zh-CN" sz="2400" spc="-1" strike="noStrike">
                <a:solidFill>
                  <a:srgbClr val="b62a73"/>
                </a:solidFill>
                <a:latin typeface="Times New Roman"/>
              </a:rPr>
              <a:t>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620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准下列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155736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确、流畅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549360"/>
            <a:ext cx="878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陆草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，可爱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甚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晋陶渊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李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，世人甚爱牡丹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爱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淤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清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   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香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益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亭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可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亵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765000"/>
            <a:ext cx="89647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菊，花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隐逸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；牡丹，花之富贵者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莲，花之君子者也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菊之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陶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莲之爱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同予者何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牡丹之爱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宜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众矣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476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巩固练习   翻译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77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于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淤泥而不染，濯（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于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）清涟而不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50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污泥中长出来却不沾染污秽，在清水里洗涤过却并不显得妖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549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齐读课文，找出作者描写莲花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62864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出淤泥而不染，濯清涟而不妖，中通外直，不蔓不枝，香远益清，亭亭净植，可远观而不可亵玩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10:37Z</dcterms:created>
  <dc:creator>deeplm</dc:creator>
  <dc:description/>
  <dc:language>en-US</dc:language>
  <cp:lastModifiedBy>deeplm</cp:lastModifiedBy>
  <dcterms:modified xsi:type="dcterms:W3CDTF">2015-06-09T05:36:55Z</dcterms:modified>
  <cp:revision>4</cp:revision>
  <dc:subject/>
  <dc:title>幻灯片 1</dc:title>
</cp:coreProperties>
</file>