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chimes.wav" ContentType="audio/x-wav"/>
  <Override PartName="/ppt/media/image16.png" ContentType="image/png"/>
  <Override PartName="/ppt/media/image7.png" ContentType="image/png"/>
  <Override PartName="/ppt/media/image22.jpeg" ContentType="image/jpeg"/>
  <Override PartName="/ppt/media/camera.wav" ContentType="audio/x-wav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1.png" ContentType="image/png"/>
  <Override PartName="/ppt/media/image19.jpeg" ContentType="image/jpeg"/>
  <Override PartName="/ppt/media/image17.png" ContentType="image/png"/>
  <Override PartName="/ppt/media/type.wav" ContentType="audio/x-wav"/>
  <Override PartName="/ppt/media/image15.jpeg" ContentType="image/jpeg"/>
  <Override PartName="/ppt/media/image18.gif" ContentType="image/gif"/>
  <Override PartName="/ppt/media/image13.jpeg" ContentType="image/jpeg"/>
  <Override PartName="/ppt/media/image20.gif" ContentType="image/gif"/>
  <Override PartName="/ppt/media/image2.jpeg" ContentType="image/jpeg"/>
  <Override PartName="/ppt/media/image23.jpeg" ContentType="image/jpeg"/>
  <Override PartName="/ppt/media/image12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A3BB-34ED-485B-8446-EEAB638845E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B22F-8A67-407E-834B-126E5461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F2FA-D56C-4DFE-B748-A63C71BA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CBC-2D59-47F8-9184-80182DDC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59B6-3B10-4513-B067-B8347889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5106-7E9A-4720-A30C-880E6517A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9A14-9E42-4F76-A9F2-AEB33A53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4F5D-60CD-49AB-BEAD-D35F831F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70BE-1275-4015-B24A-FF011CB3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062D-C99D-4428-B984-D6581887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124000" y="188640"/>
            <a:ext cx="68407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7488-6D59-40FC-9711-FB9F96BB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1BF2-EE63-42EF-8CA3-CCB0CBC3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7A52-7BDA-4700-A80F-EB3E78FA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F434-8C66-4373-8145-4FD6E343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8A31-747B-469A-BF42-11FA0DA3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1217-EA09-405A-A2D4-17CA316B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F843-2A19-43A4-AF8C-5B9EEB1F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B981-28C7-4D8C-813C-3C48A76F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6BE4-BE60-4201-9B21-4B1443CE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7A8E-FA06-4F08-8A94-D045D5DC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6BDB-0A0C-4AAE-83E7-F3F8CED1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188640"/>
            <a:ext cx="68407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F343-1BD5-42DF-846F-D89EA6FA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1D62-DEF2-473E-8632-5DBF8A93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3F9D-4DF1-4BB5-8D62-00D8DDAB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4022-8A7C-4792-ADF2-09ECFC95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6840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9A14-EB27-4A87-8605-70766BA5DE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54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7231-7C96-4A8C-8787-96239DAAF7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audio" Target="../media/camera.wav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audio" Target="../media/camera.wav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audio" Target="../media/camera.wav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audio" Target="../media/camera.wav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audio" Target="../media/camera.wav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audio" Target="../media/camera.wav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audio" Target="../media/camera.wav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audio" Target="../media/camera.wav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audio" Target="../media/camera.wav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audio" Target="../media/camera.wav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audio" Target="../media/camera.wav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audio" Target="../media/camera.wav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" Target="slide3.xm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slide" Target="slide3.xml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3.xml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audio" Target="../media/chimes.wav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96360" y="6469200"/>
            <a:ext cx="1547640" cy="388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32000" y="189000"/>
            <a:ext cx="5904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木兰诗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（乐府民歌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716360" y="1197000"/>
            <a:ext cx="3816360" cy="5400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39640" y="1197000"/>
            <a:ext cx="4105440" cy="5327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1727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57200" y="21337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唧唧复唧唧，木兰当户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2590920"/>
            <a:ext cx="43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闻机杼声，惟闻女叹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304812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昨夜见军贴，可汗大点兵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350532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愿为市鞍马，从此替爷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9625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旦辞爷娘去，暮宿黄河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44197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里赴戎机，关山度若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4876920"/>
            <a:ext cx="43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朔气传金柝，寒光照铁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2133720"/>
            <a:ext cx="42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策勋十二转，赏赐百千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2057400"/>
            <a:ext cx="0" cy="327672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2590920"/>
            <a:ext cx="42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爷娘闻女来，出郭相扶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3048120"/>
            <a:ext cx="42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磨刀霍霍向猪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3505320"/>
            <a:ext cx="42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脱我战时袍，著我旧时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3962520"/>
            <a:ext cx="42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雄兔脚扑朔，雌兔眼迷离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4419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双兔傍地走，安能辨我是雄雌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21932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15238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82880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281952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2743200" y="34290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8"/>
          <a:stretch/>
        </p:blipFill>
        <p:spPr>
          <a:xfrm>
            <a:off x="3124080" y="34290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9"/>
          <a:stretch/>
        </p:blipFill>
        <p:spPr>
          <a:xfrm>
            <a:off x="1219320" y="3886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0"/>
          <a:stretch/>
        </p:blipFill>
        <p:spPr>
          <a:xfrm>
            <a:off x="91440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1"/>
          <a:stretch/>
        </p:blipFill>
        <p:spPr>
          <a:xfrm>
            <a:off x="28195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2"/>
          <a:stretch/>
        </p:blipFill>
        <p:spPr>
          <a:xfrm>
            <a:off x="190512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3"/>
          <a:stretch/>
        </p:blipFill>
        <p:spPr>
          <a:xfrm>
            <a:off x="213372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4"/>
          <a:stretch/>
        </p:blipFill>
        <p:spPr>
          <a:xfrm>
            <a:off x="342900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5"/>
          <a:stretch/>
        </p:blipFill>
        <p:spPr>
          <a:xfrm>
            <a:off x="182880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6"/>
          <a:stretch/>
        </p:blipFill>
        <p:spPr>
          <a:xfrm>
            <a:off x="213372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7"/>
          <a:stretch/>
        </p:blipFill>
        <p:spPr>
          <a:xfrm>
            <a:off x="373392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8"/>
          <a:stretch/>
        </p:blipFill>
        <p:spPr>
          <a:xfrm>
            <a:off x="4038480" y="5257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9"/>
          <a:stretch/>
        </p:blipFill>
        <p:spPr>
          <a:xfrm>
            <a:off x="480060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0"/>
          <a:stretch/>
        </p:blipFill>
        <p:spPr>
          <a:xfrm>
            <a:off x="510552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1"/>
          <a:stretch/>
        </p:blipFill>
        <p:spPr>
          <a:xfrm>
            <a:off x="6095880" y="2514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2"/>
          <a:stretch/>
        </p:blipFill>
        <p:spPr>
          <a:xfrm>
            <a:off x="7924680" y="2514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3"/>
          <a:stretch/>
        </p:blipFill>
        <p:spPr>
          <a:xfrm>
            <a:off x="70102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4"/>
          <a:stretch/>
        </p:blipFill>
        <p:spPr>
          <a:xfrm>
            <a:off x="762012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5"/>
          <a:stretch/>
        </p:blipFill>
        <p:spPr>
          <a:xfrm>
            <a:off x="79246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6"/>
          <a:stretch/>
        </p:blipFill>
        <p:spPr>
          <a:xfrm>
            <a:off x="5410080" y="34290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7"/>
          <a:stretch/>
        </p:blipFill>
        <p:spPr>
          <a:xfrm>
            <a:off x="5791320" y="34290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8"/>
          <a:stretch/>
        </p:blipFill>
        <p:spPr>
          <a:xfrm>
            <a:off x="6705720" y="3886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9"/>
          <a:stretch/>
        </p:blipFill>
        <p:spPr>
          <a:xfrm>
            <a:off x="57913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0"/>
          <a:stretch/>
        </p:blipFill>
        <p:spPr>
          <a:xfrm>
            <a:off x="6095880" y="43434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1"/>
          <a:stretch/>
        </p:blipFill>
        <p:spPr>
          <a:xfrm>
            <a:off x="76201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2"/>
          <a:stretch/>
        </p:blipFill>
        <p:spPr>
          <a:xfrm>
            <a:off x="7924680" y="43434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3"/>
          <a:stretch/>
        </p:blipFill>
        <p:spPr>
          <a:xfrm>
            <a:off x="5181480" y="4800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4"/>
          <a:stretch/>
        </p:blipFill>
        <p:spPr>
          <a:xfrm>
            <a:off x="640080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5"/>
          <a:stretch/>
        </p:blipFill>
        <p:spPr>
          <a:xfrm>
            <a:off x="6705720" y="48006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39640" y="1484280"/>
            <a:ext cx="2514600" cy="30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Times New Roman"/>
              </a:rPr>
              <a:t>虫叫声，本文指木兰的叹息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6"/>
          <a:stretch/>
        </p:blipFill>
        <p:spPr>
          <a:xfrm>
            <a:off x="1523880" y="38862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7"/>
          <a:stretch/>
        </p:blipFill>
        <p:spPr>
          <a:xfrm>
            <a:off x="914400" y="52578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2627280" y="620640"/>
            <a:ext cx="42339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课文字词解析</a:t>
            </a:r>
            <a:endParaRPr b="0" lang="en-US" sz="4800" spc="-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17272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57200" y="213372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唧唧复唧唧，木兰当户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2590920"/>
            <a:ext cx="43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闻机杼声，惟闻女叹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30481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昨夜见军贴，可汗大点兵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350532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愿为市鞍马，从此替爷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43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旦辞爷娘去，暮宿黄河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4419720"/>
            <a:ext cx="43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里赴戎机，关山度若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87692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朔气传金柝，寒光照铁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43400" y="213372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策勋十二转，赏赐百千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19720" y="2057400"/>
            <a:ext cx="0" cy="327672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43400" y="2590920"/>
            <a:ext cx="42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爷娘闻女来，出郭相扶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3048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磨刀霍霍向猪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505320"/>
            <a:ext cx="42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脱我战时袍，著我旧时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3400" y="3962520"/>
            <a:ext cx="42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雄兔脚扑朔，雌兔眼迷离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43400" y="4419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双兔傍地走，安能辨我是雄雌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121932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15238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182880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281952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2743200" y="34290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8"/>
          <a:stretch/>
        </p:blipFill>
        <p:spPr>
          <a:xfrm>
            <a:off x="3124080" y="34290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9"/>
          <a:stretch/>
        </p:blipFill>
        <p:spPr>
          <a:xfrm>
            <a:off x="1219320" y="3886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0"/>
          <a:stretch/>
        </p:blipFill>
        <p:spPr>
          <a:xfrm>
            <a:off x="91440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1"/>
          <a:stretch/>
        </p:blipFill>
        <p:spPr>
          <a:xfrm>
            <a:off x="28195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2"/>
          <a:stretch/>
        </p:blipFill>
        <p:spPr>
          <a:xfrm>
            <a:off x="190512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3"/>
          <a:stretch/>
        </p:blipFill>
        <p:spPr>
          <a:xfrm>
            <a:off x="213372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4"/>
          <a:stretch/>
        </p:blipFill>
        <p:spPr>
          <a:xfrm>
            <a:off x="342900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5"/>
          <a:stretch/>
        </p:blipFill>
        <p:spPr>
          <a:xfrm>
            <a:off x="182880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6"/>
          <a:stretch/>
        </p:blipFill>
        <p:spPr>
          <a:xfrm>
            <a:off x="213372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7"/>
          <a:stretch/>
        </p:blipFill>
        <p:spPr>
          <a:xfrm>
            <a:off x="373392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8"/>
          <a:stretch/>
        </p:blipFill>
        <p:spPr>
          <a:xfrm>
            <a:off x="4038480" y="5257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9"/>
          <a:stretch/>
        </p:blipFill>
        <p:spPr>
          <a:xfrm>
            <a:off x="480060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0"/>
          <a:stretch/>
        </p:blipFill>
        <p:spPr>
          <a:xfrm>
            <a:off x="510552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1"/>
          <a:stretch/>
        </p:blipFill>
        <p:spPr>
          <a:xfrm>
            <a:off x="6095880" y="2514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2"/>
          <a:stretch/>
        </p:blipFill>
        <p:spPr>
          <a:xfrm>
            <a:off x="7924680" y="2514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3"/>
          <a:stretch/>
        </p:blipFill>
        <p:spPr>
          <a:xfrm>
            <a:off x="70102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4"/>
          <a:stretch/>
        </p:blipFill>
        <p:spPr>
          <a:xfrm>
            <a:off x="762012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5"/>
          <a:stretch/>
        </p:blipFill>
        <p:spPr>
          <a:xfrm>
            <a:off x="79246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6"/>
          <a:stretch/>
        </p:blipFill>
        <p:spPr>
          <a:xfrm>
            <a:off x="5410080" y="34290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7"/>
          <a:stretch/>
        </p:blipFill>
        <p:spPr>
          <a:xfrm>
            <a:off x="5791320" y="34290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8"/>
          <a:stretch/>
        </p:blipFill>
        <p:spPr>
          <a:xfrm>
            <a:off x="6705720" y="3886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9"/>
          <a:stretch/>
        </p:blipFill>
        <p:spPr>
          <a:xfrm>
            <a:off x="57913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0"/>
          <a:stretch/>
        </p:blipFill>
        <p:spPr>
          <a:xfrm>
            <a:off x="6095880" y="43434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1"/>
          <a:stretch/>
        </p:blipFill>
        <p:spPr>
          <a:xfrm>
            <a:off x="76201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2"/>
          <a:stretch/>
        </p:blipFill>
        <p:spPr>
          <a:xfrm>
            <a:off x="7924680" y="43434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3"/>
          <a:stretch/>
        </p:blipFill>
        <p:spPr>
          <a:xfrm>
            <a:off x="5181480" y="4800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4"/>
          <a:stretch/>
        </p:blipFill>
        <p:spPr>
          <a:xfrm>
            <a:off x="640080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5"/>
          <a:stretch/>
        </p:blipFill>
        <p:spPr>
          <a:xfrm>
            <a:off x="6705720" y="48006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700360" y="2276640"/>
            <a:ext cx="1305000" cy="426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6"/>
          <a:stretch/>
        </p:blipFill>
        <p:spPr>
          <a:xfrm>
            <a:off x="1523880" y="38862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7"/>
          <a:stretch/>
        </p:blipFill>
        <p:spPr>
          <a:xfrm>
            <a:off x="914400" y="52578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2627280" y="620640"/>
            <a:ext cx="42339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课文字词解析</a:t>
            </a:r>
            <a:endParaRPr b="0" lang="en-US" sz="4800" spc="-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79" name=""/>
          <p:cNvSpPr/>
          <p:nvPr/>
        </p:nvSpPr>
        <p:spPr>
          <a:xfrm>
            <a:off x="750240" y="15825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织布梭子的声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17272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57200" y="2133720"/>
            <a:ext cx="43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唧唧复唧唧，木兰当户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25909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闻机杼声，惟闻女叹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3048120"/>
            <a:ext cx="43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昨夜见军贴，可汗大点兵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35053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愿为市鞍马，从此替爷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396252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旦辞爷娘去，暮宿黄河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8360" y="443700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里赴戎机，关山度若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4876920"/>
            <a:ext cx="43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朔气传金柝，寒光照铁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43400" y="213372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策勋十二转，赏赐百千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19720" y="2057400"/>
            <a:ext cx="0" cy="327672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43400" y="2590920"/>
            <a:ext cx="42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爷娘闻女来，出郭相扶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43400" y="3048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磨刀霍霍向猪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43400" y="350532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脱我战时袍，著我旧时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43400" y="3962520"/>
            <a:ext cx="42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雄兔脚扑朔，雌兔眼迷离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43400" y="4419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双兔傍地走，安能辨我是雄雌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121932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15238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182880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281952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7"/>
          <a:stretch/>
        </p:blipFill>
        <p:spPr>
          <a:xfrm>
            <a:off x="2743200" y="34290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8"/>
          <a:stretch/>
        </p:blipFill>
        <p:spPr>
          <a:xfrm>
            <a:off x="3124080" y="34290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9"/>
          <a:stretch/>
        </p:blipFill>
        <p:spPr>
          <a:xfrm>
            <a:off x="1219320" y="3886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0"/>
          <a:stretch/>
        </p:blipFill>
        <p:spPr>
          <a:xfrm>
            <a:off x="91440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1"/>
          <a:stretch/>
        </p:blipFill>
        <p:spPr>
          <a:xfrm>
            <a:off x="28195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2"/>
          <a:stretch/>
        </p:blipFill>
        <p:spPr>
          <a:xfrm>
            <a:off x="190512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13"/>
          <a:stretch/>
        </p:blipFill>
        <p:spPr>
          <a:xfrm>
            <a:off x="213372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14"/>
          <a:stretch/>
        </p:blipFill>
        <p:spPr>
          <a:xfrm>
            <a:off x="342900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5"/>
          <a:stretch/>
        </p:blipFill>
        <p:spPr>
          <a:xfrm>
            <a:off x="182880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6"/>
          <a:stretch/>
        </p:blipFill>
        <p:spPr>
          <a:xfrm>
            <a:off x="213372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7"/>
          <a:stretch/>
        </p:blipFill>
        <p:spPr>
          <a:xfrm>
            <a:off x="373392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8"/>
          <a:stretch/>
        </p:blipFill>
        <p:spPr>
          <a:xfrm>
            <a:off x="4038480" y="5257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19"/>
          <a:stretch/>
        </p:blipFill>
        <p:spPr>
          <a:xfrm>
            <a:off x="480060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0"/>
          <a:stretch/>
        </p:blipFill>
        <p:spPr>
          <a:xfrm>
            <a:off x="510552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1"/>
          <a:stretch/>
        </p:blipFill>
        <p:spPr>
          <a:xfrm>
            <a:off x="6095880" y="2514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2"/>
          <a:stretch/>
        </p:blipFill>
        <p:spPr>
          <a:xfrm>
            <a:off x="7924680" y="2514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3"/>
          <a:stretch/>
        </p:blipFill>
        <p:spPr>
          <a:xfrm>
            <a:off x="70102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4"/>
          <a:stretch/>
        </p:blipFill>
        <p:spPr>
          <a:xfrm>
            <a:off x="762012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5"/>
          <a:stretch/>
        </p:blipFill>
        <p:spPr>
          <a:xfrm>
            <a:off x="79246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6"/>
          <a:stretch/>
        </p:blipFill>
        <p:spPr>
          <a:xfrm>
            <a:off x="5410080" y="34290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7"/>
          <a:stretch/>
        </p:blipFill>
        <p:spPr>
          <a:xfrm>
            <a:off x="5791320" y="34290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8"/>
          <a:stretch/>
        </p:blipFill>
        <p:spPr>
          <a:xfrm>
            <a:off x="6705720" y="3886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9"/>
          <a:stretch/>
        </p:blipFill>
        <p:spPr>
          <a:xfrm>
            <a:off x="57913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0"/>
          <a:stretch/>
        </p:blipFill>
        <p:spPr>
          <a:xfrm>
            <a:off x="6095880" y="43434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1"/>
          <a:stretch/>
        </p:blipFill>
        <p:spPr>
          <a:xfrm>
            <a:off x="76201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2"/>
          <a:stretch/>
        </p:blipFill>
        <p:spPr>
          <a:xfrm>
            <a:off x="7924680" y="43434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3"/>
          <a:stretch/>
        </p:blipFill>
        <p:spPr>
          <a:xfrm>
            <a:off x="5181480" y="4800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4"/>
          <a:stretch/>
        </p:blipFill>
        <p:spPr>
          <a:xfrm>
            <a:off x="640080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5"/>
          <a:stretch/>
        </p:blipFill>
        <p:spPr>
          <a:xfrm>
            <a:off x="6705720" y="48006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403280" y="1700280"/>
            <a:ext cx="2519280" cy="426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古代我国某些少数民族君主的称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36"/>
          <a:stretch/>
        </p:blipFill>
        <p:spPr>
          <a:xfrm>
            <a:off x="1523880" y="38862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7"/>
          <a:stretch/>
        </p:blipFill>
        <p:spPr>
          <a:xfrm>
            <a:off x="914400" y="52578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2627280" y="620640"/>
            <a:ext cx="42339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课文字词解析</a:t>
            </a:r>
            <a:endParaRPr b="0" lang="en-US" sz="4800" spc="-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17272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57200" y="213372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唧唧复唧唧，木兰当户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59092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闻机杼声，惟闻女叹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30481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昨夜见军贴，可汗大点兵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3505320"/>
            <a:ext cx="43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愿为市鞍马，从此替爷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39625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旦辞爷娘去，暮宿黄河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" y="4419720"/>
            <a:ext cx="43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里赴戎机，关山度若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48769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朔气传金柝，寒光照铁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133720"/>
            <a:ext cx="41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策勋十二转，赏赐百千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2057400"/>
            <a:ext cx="0" cy="327672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43400" y="2590920"/>
            <a:ext cx="41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爷娘闻女来，出郭相扶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3400" y="3048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磨刀霍霍向猪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505320"/>
            <a:ext cx="41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脱我战时袍，著我旧时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43400" y="3962520"/>
            <a:ext cx="41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雄兔脚扑朔，雌兔眼迷离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343400" y="4419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双兔傍地走，安能辨我是雄雌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121932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15238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182880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>
            <a:off x="281952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>
            <a:off x="2743200" y="34290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8"/>
          <a:stretch/>
        </p:blipFill>
        <p:spPr>
          <a:xfrm>
            <a:off x="3124080" y="34290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9"/>
          <a:stretch/>
        </p:blipFill>
        <p:spPr>
          <a:xfrm>
            <a:off x="1219320" y="3886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0"/>
          <a:stretch/>
        </p:blipFill>
        <p:spPr>
          <a:xfrm>
            <a:off x="91440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1"/>
          <a:stretch/>
        </p:blipFill>
        <p:spPr>
          <a:xfrm>
            <a:off x="28195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12"/>
          <a:stretch/>
        </p:blipFill>
        <p:spPr>
          <a:xfrm>
            <a:off x="190512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3"/>
          <a:stretch/>
        </p:blipFill>
        <p:spPr>
          <a:xfrm>
            <a:off x="213372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4"/>
          <a:stretch/>
        </p:blipFill>
        <p:spPr>
          <a:xfrm>
            <a:off x="342900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5"/>
          <a:stretch/>
        </p:blipFill>
        <p:spPr>
          <a:xfrm>
            <a:off x="182880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6"/>
          <a:stretch/>
        </p:blipFill>
        <p:spPr>
          <a:xfrm>
            <a:off x="213372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7"/>
          <a:stretch/>
        </p:blipFill>
        <p:spPr>
          <a:xfrm>
            <a:off x="373392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8"/>
          <a:stretch/>
        </p:blipFill>
        <p:spPr>
          <a:xfrm>
            <a:off x="4038480" y="5257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9"/>
          <a:stretch/>
        </p:blipFill>
        <p:spPr>
          <a:xfrm>
            <a:off x="480060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0"/>
          <a:stretch/>
        </p:blipFill>
        <p:spPr>
          <a:xfrm>
            <a:off x="510552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1"/>
          <a:stretch/>
        </p:blipFill>
        <p:spPr>
          <a:xfrm>
            <a:off x="6095880" y="2514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2"/>
          <a:stretch/>
        </p:blipFill>
        <p:spPr>
          <a:xfrm>
            <a:off x="7924680" y="2514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3"/>
          <a:stretch/>
        </p:blipFill>
        <p:spPr>
          <a:xfrm>
            <a:off x="70102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4"/>
          <a:stretch/>
        </p:blipFill>
        <p:spPr>
          <a:xfrm>
            <a:off x="762012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5"/>
          <a:stretch/>
        </p:blipFill>
        <p:spPr>
          <a:xfrm>
            <a:off x="79246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6"/>
          <a:stretch/>
        </p:blipFill>
        <p:spPr>
          <a:xfrm>
            <a:off x="5410080" y="34290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7"/>
          <a:stretch/>
        </p:blipFill>
        <p:spPr>
          <a:xfrm>
            <a:off x="5791320" y="34290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8"/>
          <a:stretch/>
        </p:blipFill>
        <p:spPr>
          <a:xfrm>
            <a:off x="6705720" y="3886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9"/>
          <a:stretch/>
        </p:blipFill>
        <p:spPr>
          <a:xfrm>
            <a:off x="57913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0"/>
          <a:stretch/>
        </p:blipFill>
        <p:spPr>
          <a:xfrm>
            <a:off x="6095880" y="43434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1"/>
          <a:stretch/>
        </p:blipFill>
        <p:spPr>
          <a:xfrm>
            <a:off x="76201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2"/>
          <a:stretch/>
        </p:blipFill>
        <p:spPr>
          <a:xfrm>
            <a:off x="7924680" y="43434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3"/>
          <a:stretch/>
        </p:blipFill>
        <p:spPr>
          <a:xfrm>
            <a:off x="5181480" y="4800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4"/>
          <a:stretch/>
        </p:blipFill>
        <p:spPr>
          <a:xfrm>
            <a:off x="640080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5"/>
          <a:stretch/>
        </p:blipFill>
        <p:spPr>
          <a:xfrm>
            <a:off x="6705720" y="48006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684360" y="2205000"/>
            <a:ext cx="2590560" cy="426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为：为此（指替父出征）。市 ：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36"/>
          <a:stretch/>
        </p:blipFill>
        <p:spPr>
          <a:xfrm>
            <a:off x="1523880" y="38862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7"/>
          <a:stretch/>
        </p:blipFill>
        <p:spPr>
          <a:xfrm>
            <a:off x="914400" y="52578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2627280" y="620640"/>
            <a:ext cx="42339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课文字词解析</a:t>
            </a:r>
            <a:endParaRPr b="0" lang="en-US" sz="4800" spc="-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17272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57200" y="21337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唧唧复唧唧，木兰当户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" y="2590920"/>
            <a:ext cx="43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闻机杼声，惟闻女叹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" y="304812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昨夜见军贴，可汗大点兵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35053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愿为市鞍马，从此替爷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" y="3962520"/>
            <a:ext cx="44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旦辞爷娘去，暮宿黄河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8360" y="443700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里赴戎机，关山度若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4876920"/>
            <a:ext cx="43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朔气传金柝，寒光照铁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343400" y="2133720"/>
            <a:ext cx="42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策勋十二转，赏赐百千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19720" y="2057400"/>
            <a:ext cx="0" cy="327672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343400" y="2590920"/>
            <a:ext cx="42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爷娘闻女来，出郭相扶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343400" y="3048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磨刀霍霍向猪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343400" y="3505320"/>
            <a:ext cx="41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脱我战时袍，著我旧时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3962520"/>
            <a:ext cx="42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雄兔脚扑朔，雌兔眼迷离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343400" y="4419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双兔傍地走，安能辨我是雄雌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121932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4"/>
          <a:stretch/>
        </p:blipFill>
        <p:spPr>
          <a:xfrm>
            <a:off x="15238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5"/>
          <a:stretch/>
        </p:blipFill>
        <p:spPr>
          <a:xfrm>
            <a:off x="182880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6"/>
          <a:stretch/>
        </p:blipFill>
        <p:spPr>
          <a:xfrm>
            <a:off x="281952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7"/>
          <a:stretch/>
        </p:blipFill>
        <p:spPr>
          <a:xfrm>
            <a:off x="2743200" y="34290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8"/>
          <a:stretch/>
        </p:blipFill>
        <p:spPr>
          <a:xfrm>
            <a:off x="3124080" y="34290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9"/>
          <a:stretch/>
        </p:blipFill>
        <p:spPr>
          <a:xfrm>
            <a:off x="1219320" y="3886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10"/>
          <a:stretch/>
        </p:blipFill>
        <p:spPr>
          <a:xfrm>
            <a:off x="91440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11"/>
          <a:stretch/>
        </p:blipFill>
        <p:spPr>
          <a:xfrm>
            <a:off x="28195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12"/>
          <a:stretch/>
        </p:blipFill>
        <p:spPr>
          <a:xfrm>
            <a:off x="190512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13"/>
          <a:stretch/>
        </p:blipFill>
        <p:spPr>
          <a:xfrm>
            <a:off x="213372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14"/>
          <a:stretch/>
        </p:blipFill>
        <p:spPr>
          <a:xfrm>
            <a:off x="342900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15"/>
          <a:stretch/>
        </p:blipFill>
        <p:spPr>
          <a:xfrm>
            <a:off x="182880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6"/>
          <a:stretch/>
        </p:blipFill>
        <p:spPr>
          <a:xfrm>
            <a:off x="213372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7"/>
          <a:stretch/>
        </p:blipFill>
        <p:spPr>
          <a:xfrm>
            <a:off x="373392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18"/>
          <a:stretch/>
        </p:blipFill>
        <p:spPr>
          <a:xfrm>
            <a:off x="4038480" y="5257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19"/>
          <a:stretch/>
        </p:blipFill>
        <p:spPr>
          <a:xfrm>
            <a:off x="480060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0"/>
          <a:stretch/>
        </p:blipFill>
        <p:spPr>
          <a:xfrm>
            <a:off x="510552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1"/>
          <a:stretch/>
        </p:blipFill>
        <p:spPr>
          <a:xfrm>
            <a:off x="6095880" y="2514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2"/>
          <a:stretch/>
        </p:blipFill>
        <p:spPr>
          <a:xfrm>
            <a:off x="7924680" y="2514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3"/>
          <a:stretch/>
        </p:blipFill>
        <p:spPr>
          <a:xfrm>
            <a:off x="70102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4"/>
          <a:stretch/>
        </p:blipFill>
        <p:spPr>
          <a:xfrm>
            <a:off x="762012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5"/>
          <a:stretch/>
        </p:blipFill>
        <p:spPr>
          <a:xfrm>
            <a:off x="79246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6"/>
          <a:stretch/>
        </p:blipFill>
        <p:spPr>
          <a:xfrm>
            <a:off x="5410080" y="34290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7"/>
          <a:stretch/>
        </p:blipFill>
        <p:spPr>
          <a:xfrm>
            <a:off x="5791320" y="34290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8"/>
          <a:stretch/>
        </p:blipFill>
        <p:spPr>
          <a:xfrm>
            <a:off x="6705720" y="3886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9"/>
          <a:stretch/>
        </p:blipFill>
        <p:spPr>
          <a:xfrm>
            <a:off x="57913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0"/>
          <a:stretch/>
        </p:blipFill>
        <p:spPr>
          <a:xfrm>
            <a:off x="6095880" y="43434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1"/>
          <a:stretch/>
        </p:blipFill>
        <p:spPr>
          <a:xfrm>
            <a:off x="76201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2"/>
          <a:stretch/>
        </p:blipFill>
        <p:spPr>
          <a:xfrm>
            <a:off x="7924680" y="43434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3"/>
          <a:stretch/>
        </p:blipFill>
        <p:spPr>
          <a:xfrm>
            <a:off x="5181480" y="4800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34"/>
          <a:stretch/>
        </p:blipFill>
        <p:spPr>
          <a:xfrm>
            <a:off x="640080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35"/>
          <a:stretch/>
        </p:blipFill>
        <p:spPr>
          <a:xfrm>
            <a:off x="6705720" y="48006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539640" y="3573360"/>
            <a:ext cx="1873440" cy="426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旦：早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36"/>
          <a:stretch/>
        </p:blipFill>
        <p:spPr>
          <a:xfrm>
            <a:off x="1547640" y="386064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2556000" y="3500280"/>
            <a:ext cx="1693800" cy="426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暮：晚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37"/>
          <a:stretch/>
        </p:blipFill>
        <p:spPr>
          <a:xfrm>
            <a:off x="914400" y="52578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2627280" y="620640"/>
            <a:ext cx="42339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课文字词解析</a:t>
            </a:r>
            <a:endParaRPr b="0" lang="en-US" sz="4800" spc="-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17272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457200" y="21337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唧唧复唧唧，木兰当户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" y="25909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闻机杼声，惟闻女叹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" y="30481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昨夜见军贴，可汗大点兵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57200" y="35053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愿为市鞍马，从此替爷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" y="39625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旦辞爷娘去，暮宿黄河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44197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里赴戎机，关山度若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" y="48769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朔气传金柝，寒光照铁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343400" y="2133720"/>
            <a:ext cx="41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策勋十二转，赏赐百千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19720" y="2057400"/>
            <a:ext cx="0" cy="327672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343400" y="2590920"/>
            <a:ext cx="41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爷娘闻女来，出郭相扶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343400" y="3048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磨刀霍霍向猪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343400" y="3505320"/>
            <a:ext cx="42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脱我战时袍，著我旧时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343400" y="3962520"/>
            <a:ext cx="42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雄兔脚扑朔，雌兔眼迷离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343400" y="4419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双兔傍地走，安能辨我是雄雌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121932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4"/>
          <a:stretch/>
        </p:blipFill>
        <p:spPr>
          <a:xfrm>
            <a:off x="15238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5"/>
          <a:stretch/>
        </p:blipFill>
        <p:spPr>
          <a:xfrm>
            <a:off x="182880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6"/>
          <a:stretch/>
        </p:blipFill>
        <p:spPr>
          <a:xfrm>
            <a:off x="281952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7"/>
          <a:stretch/>
        </p:blipFill>
        <p:spPr>
          <a:xfrm>
            <a:off x="2743200" y="34290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8"/>
          <a:stretch/>
        </p:blipFill>
        <p:spPr>
          <a:xfrm>
            <a:off x="3124080" y="34290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9"/>
          <a:stretch/>
        </p:blipFill>
        <p:spPr>
          <a:xfrm>
            <a:off x="1219320" y="3886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10"/>
          <a:stretch/>
        </p:blipFill>
        <p:spPr>
          <a:xfrm>
            <a:off x="91440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11"/>
          <a:stretch/>
        </p:blipFill>
        <p:spPr>
          <a:xfrm>
            <a:off x="28195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12"/>
          <a:stretch/>
        </p:blipFill>
        <p:spPr>
          <a:xfrm>
            <a:off x="190512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13"/>
          <a:stretch/>
        </p:blipFill>
        <p:spPr>
          <a:xfrm>
            <a:off x="213372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14"/>
          <a:stretch/>
        </p:blipFill>
        <p:spPr>
          <a:xfrm>
            <a:off x="342900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15"/>
          <a:stretch/>
        </p:blipFill>
        <p:spPr>
          <a:xfrm>
            <a:off x="182880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16"/>
          <a:stretch/>
        </p:blipFill>
        <p:spPr>
          <a:xfrm>
            <a:off x="213372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17"/>
          <a:stretch/>
        </p:blipFill>
        <p:spPr>
          <a:xfrm>
            <a:off x="373392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18"/>
          <a:stretch/>
        </p:blipFill>
        <p:spPr>
          <a:xfrm>
            <a:off x="4038480" y="5257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19"/>
          <a:stretch/>
        </p:blipFill>
        <p:spPr>
          <a:xfrm>
            <a:off x="480060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20"/>
          <a:stretch/>
        </p:blipFill>
        <p:spPr>
          <a:xfrm>
            <a:off x="510552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1"/>
          <a:stretch/>
        </p:blipFill>
        <p:spPr>
          <a:xfrm>
            <a:off x="6095880" y="2514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2"/>
          <a:stretch/>
        </p:blipFill>
        <p:spPr>
          <a:xfrm>
            <a:off x="7924680" y="2514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23"/>
          <a:stretch/>
        </p:blipFill>
        <p:spPr>
          <a:xfrm>
            <a:off x="70102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4"/>
          <a:stretch/>
        </p:blipFill>
        <p:spPr>
          <a:xfrm>
            <a:off x="762012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25"/>
          <a:stretch/>
        </p:blipFill>
        <p:spPr>
          <a:xfrm>
            <a:off x="79246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6"/>
          <a:stretch/>
        </p:blipFill>
        <p:spPr>
          <a:xfrm>
            <a:off x="5410080" y="34290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7"/>
          <a:stretch/>
        </p:blipFill>
        <p:spPr>
          <a:xfrm>
            <a:off x="5791320" y="34290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28"/>
          <a:stretch/>
        </p:blipFill>
        <p:spPr>
          <a:xfrm>
            <a:off x="6705720" y="3886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29"/>
          <a:stretch/>
        </p:blipFill>
        <p:spPr>
          <a:xfrm>
            <a:off x="57913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0"/>
          <a:stretch/>
        </p:blipFill>
        <p:spPr>
          <a:xfrm>
            <a:off x="6095880" y="43434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31"/>
          <a:stretch/>
        </p:blipFill>
        <p:spPr>
          <a:xfrm>
            <a:off x="76201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2"/>
          <a:stretch/>
        </p:blipFill>
        <p:spPr>
          <a:xfrm>
            <a:off x="7924680" y="43434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3"/>
          <a:stretch/>
        </p:blipFill>
        <p:spPr>
          <a:xfrm>
            <a:off x="5181480" y="4800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34"/>
          <a:stretch/>
        </p:blipFill>
        <p:spPr>
          <a:xfrm>
            <a:off x="640080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35"/>
          <a:stretch/>
        </p:blipFill>
        <p:spPr>
          <a:xfrm>
            <a:off x="6705720" y="48006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539640" y="3141720"/>
            <a:ext cx="1992600" cy="426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戎机：军机，军事，战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36"/>
          <a:stretch/>
        </p:blipFill>
        <p:spPr>
          <a:xfrm>
            <a:off x="1523880" y="3886200"/>
            <a:ext cx="152640" cy="15228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2700360" y="4005360"/>
            <a:ext cx="3036960" cy="426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度：过，飞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37"/>
          <a:stretch/>
        </p:blipFill>
        <p:spPr>
          <a:xfrm>
            <a:off x="914400" y="52578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 txBox="1"/>
          <p:nvPr/>
        </p:nvSpPr>
        <p:spPr>
          <a:xfrm>
            <a:off x="2627280" y="620640"/>
            <a:ext cx="42339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课文字词解析</a:t>
            </a:r>
            <a:endParaRPr b="0" lang="en-US" sz="4800" spc="-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17272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457200" y="213372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唧唧复唧唧，木兰当户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57200" y="259092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闻机杼声，惟闻女叹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7200" y="304812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昨夜见军贴，可汗大点兵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7200" y="35053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愿为市鞍马，从此替爷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7200" y="3962520"/>
            <a:ext cx="43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旦辞爷娘去，暮宿黄河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57200" y="4419720"/>
            <a:ext cx="43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里赴戎机，关山度若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48769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朔气传金柝，寒光照铁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43400" y="213372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策勋十二转，赏赐百千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19720" y="2057400"/>
            <a:ext cx="0" cy="327672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343400" y="259092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爷娘闻女来，出郭相扶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3400" y="3048120"/>
            <a:ext cx="41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磨刀霍霍向猪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343400" y="3505320"/>
            <a:ext cx="41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脱我战时袍，著我旧时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343400" y="3962520"/>
            <a:ext cx="42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雄兔脚扑朔，雌兔眼迷离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43400" y="4419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双兔傍地走，安能辨我是雄雌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121932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4"/>
          <a:stretch/>
        </p:blipFill>
        <p:spPr>
          <a:xfrm>
            <a:off x="15238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5"/>
          <a:stretch/>
        </p:blipFill>
        <p:spPr>
          <a:xfrm>
            <a:off x="182880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6"/>
          <a:stretch/>
        </p:blipFill>
        <p:spPr>
          <a:xfrm>
            <a:off x="281952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7"/>
          <a:stretch/>
        </p:blipFill>
        <p:spPr>
          <a:xfrm>
            <a:off x="2743200" y="34290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8"/>
          <a:stretch/>
        </p:blipFill>
        <p:spPr>
          <a:xfrm>
            <a:off x="3124080" y="34290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9"/>
          <a:stretch/>
        </p:blipFill>
        <p:spPr>
          <a:xfrm>
            <a:off x="1219320" y="3886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10"/>
          <a:stretch/>
        </p:blipFill>
        <p:spPr>
          <a:xfrm>
            <a:off x="91440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11"/>
          <a:stretch/>
        </p:blipFill>
        <p:spPr>
          <a:xfrm>
            <a:off x="28195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12"/>
          <a:stretch/>
        </p:blipFill>
        <p:spPr>
          <a:xfrm>
            <a:off x="190512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13"/>
          <a:stretch/>
        </p:blipFill>
        <p:spPr>
          <a:xfrm>
            <a:off x="213372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14"/>
          <a:stretch/>
        </p:blipFill>
        <p:spPr>
          <a:xfrm>
            <a:off x="342900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15"/>
          <a:stretch/>
        </p:blipFill>
        <p:spPr>
          <a:xfrm>
            <a:off x="182880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16"/>
          <a:stretch/>
        </p:blipFill>
        <p:spPr>
          <a:xfrm>
            <a:off x="213372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17"/>
          <a:stretch/>
        </p:blipFill>
        <p:spPr>
          <a:xfrm>
            <a:off x="373392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18"/>
          <a:stretch/>
        </p:blipFill>
        <p:spPr>
          <a:xfrm>
            <a:off x="4038480" y="5257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19"/>
          <a:stretch/>
        </p:blipFill>
        <p:spPr>
          <a:xfrm>
            <a:off x="480060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20"/>
          <a:stretch/>
        </p:blipFill>
        <p:spPr>
          <a:xfrm>
            <a:off x="510552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1"/>
          <a:stretch/>
        </p:blipFill>
        <p:spPr>
          <a:xfrm>
            <a:off x="6095880" y="2514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2"/>
          <a:stretch/>
        </p:blipFill>
        <p:spPr>
          <a:xfrm>
            <a:off x="7924680" y="2514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23"/>
          <a:stretch/>
        </p:blipFill>
        <p:spPr>
          <a:xfrm>
            <a:off x="70102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4"/>
          <a:stretch/>
        </p:blipFill>
        <p:spPr>
          <a:xfrm>
            <a:off x="762012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25"/>
          <a:stretch/>
        </p:blipFill>
        <p:spPr>
          <a:xfrm>
            <a:off x="79246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26"/>
          <a:stretch/>
        </p:blipFill>
        <p:spPr>
          <a:xfrm>
            <a:off x="5410080" y="34290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7"/>
          <a:stretch/>
        </p:blipFill>
        <p:spPr>
          <a:xfrm>
            <a:off x="5791320" y="34290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8"/>
          <a:stretch/>
        </p:blipFill>
        <p:spPr>
          <a:xfrm>
            <a:off x="6705720" y="3886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29"/>
          <a:stretch/>
        </p:blipFill>
        <p:spPr>
          <a:xfrm>
            <a:off x="57913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30"/>
          <a:stretch/>
        </p:blipFill>
        <p:spPr>
          <a:xfrm>
            <a:off x="6095880" y="43434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31"/>
          <a:stretch/>
        </p:blipFill>
        <p:spPr>
          <a:xfrm>
            <a:off x="76201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2"/>
          <a:stretch/>
        </p:blipFill>
        <p:spPr>
          <a:xfrm>
            <a:off x="7924680" y="43434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3"/>
          <a:stretch/>
        </p:blipFill>
        <p:spPr>
          <a:xfrm>
            <a:off x="5181480" y="4800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34"/>
          <a:stretch/>
        </p:blipFill>
        <p:spPr>
          <a:xfrm>
            <a:off x="640080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5"/>
          <a:stretch/>
        </p:blipFill>
        <p:spPr>
          <a:xfrm>
            <a:off x="6705720" y="48006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684360" y="4437000"/>
            <a:ext cx="1941480" cy="426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朔：北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36"/>
          <a:stretch/>
        </p:blipFill>
        <p:spPr>
          <a:xfrm>
            <a:off x="1523880" y="3886200"/>
            <a:ext cx="152640" cy="15228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43000" y="5456160"/>
            <a:ext cx="2438280" cy="426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金柝：古时军中守夜打更用的器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37"/>
          <a:stretch/>
        </p:blipFill>
        <p:spPr>
          <a:xfrm>
            <a:off x="914400" y="52578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3203640" y="4437000"/>
            <a:ext cx="3078000" cy="426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铁衣：铠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2627280" y="620640"/>
            <a:ext cx="42339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课文字词解析</a:t>
            </a:r>
            <a:endParaRPr b="0" lang="en-US" sz="4800" spc="-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172728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457200" y="213372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唧唧复唧唧，木兰当户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57200" y="2590920"/>
            <a:ext cx="43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闻机杼声，惟闻女叹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" y="304812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昨夜见军贴，可汗大点兵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57200" y="350532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愿为市鞍马，从此替爷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" y="39625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旦辞爷娘去，暮宿黄河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57200" y="44197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里赴戎机，关山度若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48769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朔气传金柝，寒光照铁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343400" y="213372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策勋十二转，赏赐百千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419720" y="2057400"/>
            <a:ext cx="0" cy="327672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343400" y="2590920"/>
            <a:ext cx="42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爷娘闻女来，出郭相扶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343400" y="3048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磨刀霍霍向猪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43400" y="3505320"/>
            <a:ext cx="41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脱我战时袍，著我旧时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43400" y="3962520"/>
            <a:ext cx="41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雄兔脚扑朔，雌兔眼迷离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4419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双兔傍地走，安能辨我是雄雌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121932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4"/>
          <a:stretch/>
        </p:blipFill>
        <p:spPr>
          <a:xfrm>
            <a:off x="15238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5"/>
          <a:stretch/>
        </p:blipFill>
        <p:spPr>
          <a:xfrm>
            <a:off x="182880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6"/>
          <a:stretch/>
        </p:blipFill>
        <p:spPr>
          <a:xfrm>
            <a:off x="281952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7"/>
          <a:stretch/>
        </p:blipFill>
        <p:spPr>
          <a:xfrm>
            <a:off x="2743200" y="34290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8"/>
          <a:stretch/>
        </p:blipFill>
        <p:spPr>
          <a:xfrm>
            <a:off x="3124080" y="34290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9"/>
          <a:stretch/>
        </p:blipFill>
        <p:spPr>
          <a:xfrm>
            <a:off x="1219320" y="3886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10"/>
          <a:stretch/>
        </p:blipFill>
        <p:spPr>
          <a:xfrm>
            <a:off x="91440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11"/>
          <a:stretch/>
        </p:blipFill>
        <p:spPr>
          <a:xfrm>
            <a:off x="28195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12"/>
          <a:stretch/>
        </p:blipFill>
        <p:spPr>
          <a:xfrm>
            <a:off x="190512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13"/>
          <a:stretch/>
        </p:blipFill>
        <p:spPr>
          <a:xfrm>
            <a:off x="213372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14"/>
          <a:stretch/>
        </p:blipFill>
        <p:spPr>
          <a:xfrm>
            <a:off x="342900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15"/>
          <a:stretch/>
        </p:blipFill>
        <p:spPr>
          <a:xfrm>
            <a:off x="182880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16"/>
          <a:stretch/>
        </p:blipFill>
        <p:spPr>
          <a:xfrm>
            <a:off x="213372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17"/>
          <a:stretch/>
        </p:blipFill>
        <p:spPr>
          <a:xfrm>
            <a:off x="373392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18"/>
          <a:stretch/>
        </p:blipFill>
        <p:spPr>
          <a:xfrm>
            <a:off x="4038480" y="5257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19"/>
          <a:stretch/>
        </p:blipFill>
        <p:spPr>
          <a:xfrm>
            <a:off x="480060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20"/>
          <a:stretch/>
        </p:blipFill>
        <p:spPr>
          <a:xfrm>
            <a:off x="510552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21"/>
          <a:stretch/>
        </p:blipFill>
        <p:spPr>
          <a:xfrm>
            <a:off x="6095880" y="2514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22"/>
          <a:stretch/>
        </p:blipFill>
        <p:spPr>
          <a:xfrm>
            <a:off x="7924680" y="2514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3"/>
          <a:stretch/>
        </p:blipFill>
        <p:spPr>
          <a:xfrm>
            <a:off x="70102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24"/>
          <a:stretch/>
        </p:blipFill>
        <p:spPr>
          <a:xfrm>
            <a:off x="762012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25"/>
          <a:stretch/>
        </p:blipFill>
        <p:spPr>
          <a:xfrm>
            <a:off x="79246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26"/>
          <a:stretch/>
        </p:blipFill>
        <p:spPr>
          <a:xfrm>
            <a:off x="5410080" y="34290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27"/>
          <a:stretch/>
        </p:blipFill>
        <p:spPr>
          <a:xfrm>
            <a:off x="5791320" y="34290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28"/>
          <a:stretch/>
        </p:blipFill>
        <p:spPr>
          <a:xfrm>
            <a:off x="6705720" y="3886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29"/>
          <a:stretch/>
        </p:blipFill>
        <p:spPr>
          <a:xfrm>
            <a:off x="57913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0"/>
          <a:stretch/>
        </p:blipFill>
        <p:spPr>
          <a:xfrm>
            <a:off x="6095880" y="43434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1"/>
          <a:stretch/>
        </p:blipFill>
        <p:spPr>
          <a:xfrm>
            <a:off x="76201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32"/>
          <a:stretch/>
        </p:blipFill>
        <p:spPr>
          <a:xfrm>
            <a:off x="7924680" y="43434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33"/>
          <a:stretch/>
        </p:blipFill>
        <p:spPr>
          <a:xfrm>
            <a:off x="5181480" y="4800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34"/>
          <a:stretch/>
        </p:blipFill>
        <p:spPr>
          <a:xfrm>
            <a:off x="640080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35"/>
          <a:stretch/>
        </p:blipFill>
        <p:spPr>
          <a:xfrm>
            <a:off x="6705720" y="48006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2987640" y="1700280"/>
            <a:ext cx="2422440" cy="426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策勋：记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36"/>
          <a:stretch/>
        </p:blipFill>
        <p:spPr>
          <a:xfrm>
            <a:off x="1523880" y="3886200"/>
            <a:ext cx="152640" cy="15228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5651640" y="1700280"/>
            <a:ext cx="1593720" cy="426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转：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37"/>
          <a:stretch/>
        </p:blipFill>
        <p:spPr>
          <a:xfrm>
            <a:off x="914400" y="52578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7236000" y="1628640"/>
            <a:ext cx="1908000" cy="426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强：有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2627280" y="620640"/>
            <a:ext cx="42339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课文字词解析</a:t>
            </a:r>
            <a:endParaRPr b="0" lang="en-US" sz="4800" spc="-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172728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457200" y="213372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唧唧复唧唧，木兰当户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57200" y="259092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闻机杼声，惟闻女叹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57200" y="30481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昨夜见军贴，可汗大点兵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57200" y="35053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愿为市鞍马，从此替爷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57200" y="39625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旦辞爷娘去，暮宿黄河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57200" y="44197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里赴戎机，关山度若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57200" y="4876920"/>
            <a:ext cx="43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朔气传金柝，寒光照铁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43400" y="2133720"/>
            <a:ext cx="42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策勋十二转，赏赐百千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419720" y="2057400"/>
            <a:ext cx="0" cy="327672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343400" y="2590920"/>
            <a:ext cx="41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爷娘闻女来，出郭相扶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3048120"/>
            <a:ext cx="40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磨刀霍霍向猪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343400" y="3505320"/>
            <a:ext cx="41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脱我战时袍，著我旧时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343400" y="3962520"/>
            <a:ext cx="42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雄兔脚扑朔，雌兔眼迷离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343400" y="4419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双兔傍地走，安能辨我是雄雌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121932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4"/>
          <a:stretch/>
        </p:blipFill>
        <p:spPr>
          <a:xfrm>
            <a:off x="15238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5"/>
          <a:stretch/>
        </p:blipFill>
        <p:spPr>
          <a:xfrm>
            <a:off x="182880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6"/>
          <a:stretch/>
        </p:blipFill>
        <p:spPr>
          <a:xfrm>
            <a:off x="281952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7"/>
          <a:stretch/>
        </p:blipFill>
        <p:spPr>
          <a:xfrm>
            <a:off x="2743200" y="34290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8"/>
          <a:stretch/>
        </p:blipFill>
        <p:spPr>
          <a:xfrm>
            <a:off x="3124080" y="34290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9"/>
          <a:stretch/>
        </p:blipFill>
        <p:spPr>
          <a:xfrm>
            <a:off x="1219320" y="3886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10"/>
          <a:stretch/>
        </p:blipFill>
        <p:spPr>
          <a:xfrm>
            <a:off x="91440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11"/>
          <a:stretch/>
        </p:blipFill>
        <p:spPr>
          <a:xfrm>
            <a:off x="28195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12"/>
          <a:stretch/>
        </p:blipFill>
        <p:spPr>
          <a:xfrm>
            <a:off x="190512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13"/>
          <a:stretch/>
        </p:blipFill>
        <p:spPr>
          <a:xfrm>
            <a:off x="213372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14"/>
          <a:stretch/>
        </p:blipFill>
        <p:spPr>
          <a:xfrm>
            <a:off x="342900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15"/>
          <a:stretch/>
        </p:blipFill>
        <p:spPr>
          <a:xfrm>
            <a:off x="182880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16"/>
          <a:stretch/>
        </p:blipFill>
        <p:spPr>
          <a:xfrm>
            <a:off x="213372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17"/>
          <a:stretch/>
        </p:blipFill>
        <p:spPr>
          <a:xfrm>
            <a:off x="373392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18"/>
          <a:stretch/>
        </p:blipFill>
        <p:spPr>
          <a:xfrm>
            <a:off x="4038480" y="5257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19"/>
          <a:stretch/>
        </p:blipFill>
        <p:spPr>
          <a:xfrm>
            <a:off x="480060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20"/>
          <a:stretch/>
        </p:blipFill>
        <p:spPr>
          <a:xfrm>
            <a:off x="510552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21"/>
          <a:stretch/>
        </p:blipFill>
        <p:spPr>
          <a:xfrm>
            <a:off x="6095880" y="2514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22"/>
          <a:stretch/>
        </p:blipFill>
        <p:spPr>
          <a:xfrm>
            <a:off x="7924680" y="2514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23"/>
          <a:stretch/>
        </p:blipFill>
        <p:spPr>
          <a:xfrm>
            <a:off x="70102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24"/>
          <a:stretch/>
        </p:blipFill>
        <p:spPr>
          <a:xfrm>
            <a:off x="762012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25"/>
          <a:stretch/>
        </p:blipFill>
        <p:spPr>
          <a:xfrm>
            <a:off x="79246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26"/>
          <a:stretch/>
        </p:blipFill>
        <p:spPr>
          <a:xfrm>
            <a:off x="5410080" y="34290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27"/>
          <a:stretch/>
        </p:blipFill>
        <p:spPr>
          <a:xfrm>
            <a:off x="5791320" y="34290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28"/>
          <a:stretch/>
        </p:blipFill>
        <p:spPr>
          <a:xfrm>
            <a:off x="6705720" y="3886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29"/>
          <a:stretch/>
        </p:blipFill>
        <p:spPr>
          <a:xfrm>
            <a:off x="57913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30"/>
          <a:stretch/>
        </p:blipFill>
        <p:spPr>
          <a:xfrm>
            <a:off x="6095880" y="43434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31"/>
          <a:stretch/>
        </p:blipFill>
        <p:spPr>
          <a:xfrm>
            <a:off x="76201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32"/>
          <a:stretch/>
        </p:blipFill>
        <p:spPr>
          <a:xfrm>
            <a:off x="7924680" y="43434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33"/>
          <a:stretch/>
        </p:blipFill>
        <p:spPr>
          <a:xfrm>
            <a:off x="5181480" y="4800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34"/>
          <a:stretch/>
        </p:blipFill>
        <p:spPr>
          <a:xfrm>
            <a:off x="640080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35"/>
          <a:stretch/>
        </p:blipFill>
        <p:spPr>
          <a:xfrm>
            <a:off x="6705720" y="48006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4356000" y="3068640"/>
            <a:ext cx="2448000" cy="426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郭：外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36"/>
          <a:stretch/>
        </p:blipFill>
        <p:spPr>
          <a:xfrm>
            <a:off x="1523880" y="3886200"/>
            <a:ext cx="152640" cy="15228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7020000" y="3170160"/>
            <a:ext cx="2592360" cy="426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扶将：扶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37"/>
          <a:stretch/>
        </p:blipFill>
        <p:spPr>
          <a:xfrm>
            <a:off x="914400" y="52578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 txBox="1"/>
          <p:nvPr/>
        </p:nvSpPr>
        <p:spPr>
          <a:xfrm>
            <a:off x="2627280" y="620640"/>
            <a:ext cx="42339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课文字词解析</a:t>
            </a:r>
            <a:endParaRPr b="0" lang="en-US" sz="4800" spc="-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172728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457200" y="2133720"/>
            <a:ext cx="43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唧唧复唧唧，木兰当户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57200" y="259092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闻机杼声，惟闻女叹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57200" y="304812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昨夜见军贴，可汗大点兵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7200" y="350532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愿为市鞍马，从此替爷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7200" y="396252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旦辞爷娘去，暮宿黄河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57200" y="441972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里赴戎机，关山度若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7200" y="48769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朔气传金柝，寒光照铁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343400" y="2133720"/>
            <a:ext cx="41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策勋十二转，赏赐百千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19720" y="2057400"/>
            <a:ext cx="0" cy="327672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343400" y="259092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爷娘闻女来，出郭相扶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343400" y="3048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磨刀霍霍向猪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343400" y="350532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脱我战时袍，著我旧时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343400" y="3962520"/>
            <a:ext cx="42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雄兔脚扑朔，雌兔眼迷离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43400" y="4419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双兔傍地走，安能辨我是雄雌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3"/>
          <a:stretch/>
        </p:blipFill>
        <p:spPr>
          <a:xfrm>
            <a:off x="121932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4"/>
          <a:stretch/>
        </p:blipFill>
        <p:spPr>
          <a:xfrm>
            <a:off x="15238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5"/>
          <a:stretch/>
        </p:blipFill>
        <p:spPr>
          <a:xfrm>
            <a:off x="182880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6"/>
          <a:stretch/>
        </p:blipFill>
        <p:spPr>
          <a:xfrm>
            <a:off x="281952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7"/>
          <a:stretch/>
        </p:blipFill>
        <p:spPr>
          <a:xfrm>
            <a:off x="2743200" y="34290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8"/>
          <a:stretch/>
        </p:blipFill>
        <p:spPr>
          <a:xfrm>
            <a:off x="3124080" y="34290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9"/>
          <a:stretch/>
        </p:blipFill>
        <p:spPr>
          <a:xfrm>
            <a:off x="1219320" y="3886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10"/>
          <a:stretch/>
        </p:blipFill>
        <p:spPr>
          <a:xfrm>
            <a:off x="91440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11"/>
          <a:stretch/>
        </p:blipFill>
        <p:spPr>
          <a:xfrm>
            <a:off x="28195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12"/>
          <a:stretch/>
        </p:blipFill>
        <p:spPr>
          <a:xfrm>
            <a:off x="190512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13"/>
          <a:stretch/>
        </p:blipFill>
        <p:spPr>
          <a:xfrm>
            <a:off x="213372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14"/>
          <a:stretch/>
        </p:blipFill>
        <p:spPr>
          <a:xfrm>
            <a:off x="342900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15"/>
          <a:stretch/>
        </p:blipFill>
        <p:spPr>
          <a:xfrm>
            <a:off x="182880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16"/>
          <a:stretch/>
        </p:blipFill>
        <p:spPr>
          <a:xfrm>
            <a:off x="213372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17"/>
          <a:stretch/>
        </p:blipFill>
        <p:spPr>
          <a:xfrm>
            <a:off x="373392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18"/>
          <a:stretch/>
        </p:blipFill>
        <p:spPr>
          <a:xfrm>
            <a:off x="4038480" y="5257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19"/>
          <a:stretch/>
        </p:blipFill>
        <p:spPr>
          <a:xfrm>
            <a:off x="480060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20"/>
          <a:stretch/>
        </p:blipFill>
        <p:spPr>
          <a:xfrm>
            <a:off x="510552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21"/>
          <a:stretch/>
        </p:blipFill>
        <p:spPr>
          <a:xfrm>
            <a:off x="6095880" y="2514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22"/>
          <a:stretch/>
        </p:blipFill>
        <p:spPr>
          <a:xfrm>
            <a:off x="7924680" y="2514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23"/>
          <a:stretch/>
        </p:blipFill>
        <p:spPr>
          <a:xfrm>
            <a:off x="70102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24"/>
          <a:stretch/>
        </p:blipFill>
        <p:spPr>
          <a:xfrm>
            <a:off x="762012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25"/>
          <a:stretch/>
        </p:blipFill>
        <p:spPr>
          <a:xfrm>
            <a:off x="79246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26"/>
          <a:stretch/>
        </p:blipFill>
        <p:spPr>
          <a:xfrm>
            <a:off x="5410080" y="34290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698" name="" descr=""/>
          <p:cNvPicPr/>
          <p:nvPr/>
        </p:nvPicPr>
        <p:blipFill>
          <a:blip r:embed="rId27"/>
          <a:stretch/>
        </p:blipFill>
        <p:spPr>
          <a:xfrm>
            <a:off x="5791320" y="34290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28"/>
          <a:stretch/>
        </p:blipFill>
        <p:spPr>
          <a:xfrm>
            <a:off x="6705720" y="3886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9"/>
          <a:stretch/>
        </p:blipFill>
        <p:spPr>
          <a:xfrm>
            <a:off x="57913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0"/>
          <a:stretch/>
        </p:blipFill>
        <p:spPr>
          <a:xfrm>
            <a:off x="6095880" y="43434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31"/>
          <a:stretch/>
        </p:blipFill>
        <p:spPr>
          <a:xfrm>
            <a:off x="76201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32"/>
          <a:stretch/>
        </p:blipFill>
        <p:spPr>
          <a:xfrm>
            <a:off x="7924680" y="43434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3"/>
          <a:stretch/>
        </p:blipFill>
        <p:spPr>
          <a:xfrm>
            <a:off x="5181480" y="4800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34"/>
          <a:stretch/>
        </p:blipFill>
        <p:spPr>
          <a:xfrm>
            <a:off x="640080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35"/>
          <a:stretch/>
        </p:blipFill>
        <p:spPr>
          <a:xfrm>
            <a:off x="6705720" y="48006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7086600" y="3200400"/>
            <a:ext cx="1371600" cy="426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霍霍：磨刀的声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36"/>
          <a:stretch/>
        </p:blipFill>
        <p:spPr>
          <a:xfrm>
            <a:off x="1523880" y="38862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37"/>
          <a:stretch/>
        </p:blipFill>
        <p:spPr>
          <a:xfrm>
            <a:off x="914400" y="52578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 txBox="1"/>
          <p:nvPr/>
        </p:nvSpPr>
        <p:spPr>
          <a:xfrm>
            <a:off x="2627280" y="620640"/>
            <a:ext cx="42339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课文字词解析</a:t>
            </a:r>
            <a:endParaRPr b="0" lang="en-US" sz="4800" spc="-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549360"/>
            <a:ext cx="8713800" cy="55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行楷"/>
              </a:rPr>
              <a:t>花木兰其人</a:t>
            </a:r>
            <a:br>
              <a:rPr sz="40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花木兰是北朝时河南省虞城县营廓人。女扮男装，代父从军，屡立战功。凯旋而归，帝封官嘉奖，木兰不受，辞官回乡。唐初，追封为孝烈将军。人们为纪念她，于唐代修建花木兰祠，祠内现存元代立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孝烈将军祠像辨正记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和清立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孝烈将军祠辨误正名记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石碑，详细记载了花木兰的身世、籍贯、业绩及历代修祠情况。近年来，又修复了木兰祠大殿等一大批景点。花木兰祠已收入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中国名胜词典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 </a:t>
            </a:r>
            <a:br>
              <a:rPr sz="3200"/>
            </a:br>
            <a:r>
              <a:rPr b="1" lang="zh-CN" sz="3200" spc="-1" strike="noStrike">
                <a:solidFill>
                  <a:srgbClr val="99ff33"/>
                </a:solidFill>
                <a:latin typeface="Arial"/>
                <a:ea typeface="黑体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172728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457200" y="213372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唧唧复唧唧，木兰当户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7200" y="25909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闻机杼声，惟闻女叹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57200" y="30481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昨夜见军贴，可汗大点兵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57200" y="3505320"/>
            <a:ext cx="43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愿为市鞍马，从此替爷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57200" y="396252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旦辞爷娘去，暮宿黄河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44197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里赴戎机，关山度若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57200" y="4876920"/>
            <a:ext cx="43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朔气传金柝，寒光照铁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343400" y="2133720"/>
            <a:ext cx="42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策勋十二转，赏赐百千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419720" y="2057400"/>
            <a:ext cx="0" cy="327672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343400" y="2590920"/>
            <a:ext cx="41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爷娘闻女来，出郭相扶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343400" y="3048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磨刀霍霍向猪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343400" y="3505320"/>
            <a:ext cx="42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脱我战时袍，著我旧时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343400" y="3962520"/>
            <a:ext cx="41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雄兔脚扑朔，雌兔眼迷离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343400" y="4419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双兔傍地走，安能辨我是雄雌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3"/>
          <a:stretch/>
        </p:blipFill>
        <p:spPr>
          <a:xfrm>
            <a:off x="121932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4"/>
          <a:stretch/>
        </p:blipFill>
        <p:spPr>
          <a:xfrm>
            <a:off x="15238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5"/>
          <a:stretch/>
        </p:blipFill>
        <p:spPr>
          <a:xfrm>
            <a:off x="182880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6"/>
          <a:stretch/>
        </p:blipFill>
        <p:spPr>
          <a:xfrm>
            <a:off x="281952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7"/>
          <a:stretch/>
        </p:blipFill>
        <p:spPr>
          <a:xfrm>
            <a:off x="2743200" y="34290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8"/>
          <a:stretch/>
        </p:blipFill>
        <p:spPr>
          <a:xfrm>
            <a:off x="3124080" y="34290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9"/>
          <a:stretch/>
        </p:blipFill>
        <p:spPr>
          <a:xfrm>
            <a:off x="1219320" y="3886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10"/>
          <a:stretch/>
        </p:blipFill>
        <p:spPr>
          <a:xfrm>
            <a:off x="91440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11"/>
          <a:stretch/>
        </p:blipFill>
        <p:spPr>
          <a:xfrm>
            <a:off x="28195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12"/>
          <a:stretch/>
        </p:blipFill>
        <p:spPr>
          <a:xfrm>
            <a:off x="190512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13"/>
          <a:stretch/>
        </p:blipFill>
        <p:spPr>
          <a:xfrm>
            <a:off x="213372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14"/>
          <a:stretch/>
        </p:blipFill>
        <p:spPr>
          <a:xfrm>
            <a:off x="342900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15"/>
          <a:stretch/>
        </p:blipFill>
        <p:spPr>
          <a:xfrm>
            <a:off x="182880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16"/>
          <a:stretch/>
        </p:blipFill>
        <p:spPr>
          <a:xfrm>
            <a:off x="213372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17"/>
          <a:stretch/>
        </p:blipFill>
        <p:spPr>
          <a:xfrm>
            <a:off x="373392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18"/>
          <a:stretch/>
        </p:blipFill>
        <p:spPr>
          <a:xfrm>
            <a:off x="4038480" y="5257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19"/>
          <a:stretch/>
        </p:blipFill>
        <p:spPr>
          <a:xfrm>
            <a:off x="480060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20"/>
          <a:stretch/>
        </p:blipFill>
        <p:spPr>
          <a:xfrm>
            <a:off x="510552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21"/>
          <a:stretch/>
        </p:blipFill>
        <p:spPr>
          <a:xfrm>
            <a:off x="6095880" y="2514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22"/>
          <a:stretch/>
        </p:blipFill>
        <p:spPr>
          <a:xfrm>
            <a:off x="7924680" y="2514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23"/>
          <a:stretch/>
        </p:blipFill>
        <p:spPr>
          <a:xfrm>
            <a:off x="70102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4"/>
          <a:stretch/>
        </p:blipFill>
        <p:spPr>
          <a:xfrm>
            <a:off x="762012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5"/>
          <a:stretch/>
        </p:blipFill>
        <p:spPr>
          <a:xfrm>
            <a:off x="79246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26"/>
          <a:stretch/>
        </p:blipFill>
        <p:spPr>
          <a:xfrm>
            <a:off x="5410080" y="34290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27"/>
          <a:stretch/>
        </p:blipFill>
        <p:spPr>
          <a:xfrm>
            <a:off x="5791320" y="34290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28"/>
          <a:stretch/>
        </p:blipFill>
        <p:spPr>
          <a:xfrm>
            <a:off x="6705720" y="3886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29"/>
          <a:stretch/>
        </p:blipFill>
        <p:spPr>
          <a:xfrm>
            <a:off x="57913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30"/>
          <a:stretch/>
        </p:blipFill>
        <p:spPr>
          <a:xfrm>
            <a:off x="6095880" y="43434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31"/>
          <a:stretch/>
        </p:blipFill>
        <p:spPr>
          <a:xfrm>
            <a:off x="76201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32"/>
          <a:stretch/>
        </p:blipFill>
        <p:spPr>
          <a:xfrm>
            <a:off x="7924680" y="43434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33"/>
          <a:stretch/>
        </p:blipFill>
        <p:spPr>
          <a:xfrm>
            <a:off x="5181480" y="4800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34"/>
          <a:stretch/>
        </p:blipFill>
        <p:spPr>
          <a:xfrm>
            <a:off x="640080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35"/>
          <a:stretch/>
        </p:blipFill>
        <p:spPr>
          <a:xfrm>
            <a:off x="670572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36"/>
          <a:stretch/>
        </p:blipFill>
        <p:spPr>
          <a:xfrm>
            <a:off x="1523880" y="3886200"/>
            <a:ext cx="152640" cy="15228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6588000" y="2997360"/>
            <a:ext cx="2340000" cy="426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著：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37"/>
          <a:stretch/>
        </p:blipFill>
        <p:spPr>
          <a:xfrm>
            <a:off x="914400" y="52578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 txBox="1"/>
          <p:nvPr/>
        </p:nvSpPr>
        <p:spPr>
          <a:xfrm>
            <a:off x="2627280" y="620640"/>
            <a:ext cx="42339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课文字词解析</a:t>
            </a:r>
            <a:endParaRPr b="0" lang="en-US" sz="4800" spc="-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2590920" cy="172548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457200" y="208764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唧唧复唧唧，木兰当户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7200" y="254484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闻机杼声，惟闻女叹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57200" y="300204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昨夜见军贴，可汗大点兵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57200" y="3459240"/>
            <a:ext cx="43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愿为市鞍马，从此替爷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7200" y="391644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旦辞爷娘去，暮宿黄河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" y="437364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里赴戎机，关山度若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57200" y="4830840"/>
            <a:ext cx="43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朔气传金柝，寒光照铁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343400" y="20876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策勋十二转，赏赐百千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419720" y="2011320"/>
            <a:ext cx="0" cy="327672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343400" y="254484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爷娘闻女来，出郭相扶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343400" y="300204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磨刀霍霍向猪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343400" y="3459240"/>
            <a:ext cx="44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脱我战时袍，著我旧时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343400" y="3916440"/>
            <a:ext cx="42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雄兔脚扑朔，雌兔眼迷离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43400" y="43736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双兔傍地走，安能辨我是雄雌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2"/>
          <a:stretch/>
        </p:blipFill>
        <p:spPr>
          <a:xfrm>
            <a:off x="914400" y="24685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3"/>
          <a:stretch/>
        </p:blipFill>
        <p:spPr>
          <a:xfrm>
            <a:off x="1219320" y="24685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4"/>
          <a:stretch/>
        </p:blipFill>
        <p:spPr>
          <a:xfrm>
            <a:off x="1523880" y="29257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5"/>
          <a:stretch/>
        </p:blipFill>
        <p:spPr>
          <a:xfrm>
            <a:off x="1828800" y="292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6"/>
          <a:stretch/>
        </p:blipFill>
        <p:spPr>
          <a:xfrm>
            <a:off x="2819520" y="292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7"/>
          <a:stretch/>
        </p:blipFill>
        <p:spPr>
          <a:xfrm>
            <a:off x="2743200" y="33829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8"/>
          <a:stretch/>
        </p:blipFill>
        <p:spPr>
          <a:xfrm>
            <a:off x="3124080" y="33829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9"/>
          <a:stretch/>
        </p:blipFill>
        <p:spPr>
          <a:xfrm>
            <a:off x="1219320" y="38401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10"/>
          <a:stretch/>
        </p:blipFill>
        <p:spPr>
          <a:xfrm>
            <a:off x="914400" y="42973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11"/>
          <a:stretch/>
        </p:blipFill>
        <p:spPr>
          <a:xfrm>
            <a:off x="2819520" y="42973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12"/>
          <a:stretch/>
        </p:blipFill>
        <p:spPr>
          <a:xfrm>
            <a:off x="1905120" y="47545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13"/>
          <a:stretch/>
        </p:blipFill>
        <p:spPr>
          <a:xfrm>
            <a:off x="2133720" y="47545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14"/>
          <a:stretch/>
        </p:blipFill>
        <p:spPr>
          <a:xfrm>
            <a:off x="3429000" y="47545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15"/>
          <a:stretch/>
        </p:blipFill>
        <p:spPr>
          <a:xfrm>
            <a:off x="1828800" y="5211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16"/>
          <a:stretch/>
        </p:blipFill>
        <p:spPr>
          <a:xfrm>
            <a:off x="2133720" y="5211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17"/>
          <a:stretch/>
        </p:blipFill>
        <p:spPr>
          <a:xfrm>
            <a:off x="3733920" y="5211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18"/>
          <a:stretch/>
        </p:blipFill>
        <p:spPr>
          <a:xfrm>
            <a:off x="4038480" y="52117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19"/>
          <a:stretch/>
        </p:blipFill>
        <p:spPr>
          <a:xfrm>
            <a:off x="4800600" y="24685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20"/>
          <a:stretch/>
        </p:blipFill>
        <p:spPr>
          <a:xfrm>
            <a:off x="5105520" y="24685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98" name="" descr=""/>
          <p:cNvPicPr/>
          <p:nvPr/>
        </p:nvPicPr>
        <p:blipFill>
          <a:blip r:embed="rId21"/>
          <a:stretch/>
        </p:blipFill>
        <p:spPr>
          <a:xfrm>
            <a:off x="6095880" y="24685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22"/>
          <a:stretch/>
        </p:blipFill>
        <p:spPr>
          <a:xfrm>
            <a:off x="7924680" y="24685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23"/>
          <a:stretch/>
        </p:blipFill>
        <p:spPr>
          <a:xfrm>
            <a:off x="7010280" y="29257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24"/>
          <a:stretch/>
        </p:blipFill>
        <p:spPr>
          <a:xfrm>
            <a:off x="7620120" y="292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25"/>
          <a:stretch/>
        </p:blipFill>
        <p:spPr>
          <a:xfrm>
            <a:off x="7924680" y="29257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26"/>
          <a:stretch/>
        </p:blipFill>
        <p:spPr>
          <a:xfrm>
            <a:off x="5410080" y="33829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27"/>
          <a:stretch/>
        </p:blipFill>
        <p:spPr>
          <a:xfrm>
            <a:off x="5791320" y="33829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28"/>
          <a:stretch/>
        </p:blipFill>
        <p:spPr>
          <a:xfrm>
            <a:off x="6705720" y="38401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29"/>
          <a:stretch/>
        </p:blipFill>
        <p:spPr>
          <a:xfrm>
            <a:off x="5791320" y="42973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30"/>
          <a:stretch/>
        </p:blipFill>
        <p:spPr>
          <a:xfrm>
            <a:off x="6095880" y="42973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31"/>
          <a:stretch/>
        </p:blipFill>
        <p:spPr>
          <a:xfrm>
            <a:off x="7620120" y="42973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32"/>
          <a:stretch/>
        </p:blipFill>
        <p:spPr>
          <a:xfrm>
            <a:off x="7924680" y="42973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33"/>
          <a:stretch/>
        </p:blipFill>
        <p:spPr>
          <a:xfrm>
            <a:off x="5181480" y="47545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34"/>
          <a:stretch/>
        </p:blipFill>
        <p:spPr>
          <a:xfrm>
            <a:off x="6400800" y="47545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35"/>
          <a:stretch/>
        </p:blipFill>
        <p:spPr>
          <a:xfrm>
            <a:off x="6705720" y="47545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2556000" y="3357720"/>
            <a:ext cx="2663640" cy="426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扑朔：爬、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36"/>
          <a:stretch/>
        </p:blipFill>
        <p:spPr>
          <a:xfrm>
            <a:off x="1523880" y="3840120"/>
            <a:ext cx="152640" cy="15228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6300720" y="3429000"/>
            <a:ext cx="2843280" cy="426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迷离：眯着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37"/>
          <a:stretch/>
        </p:blipFill>
        <p:spPr>
          <a:xfrm>
            <a:off x="914400" y="5211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4427640" y="5157720"/>
            <a:ext cx="1800000" cy="426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傍：贴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084720" y="5013360"/>
            <a:ext cx="2590920" cy="426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安能：怎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68360" y="4941720"/>
            <a:ext cx="3886200" cy="426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雄雌两兔一起贴着地面跑，怎能辨别哪个是雄兔，哪个是雌兔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2627280" y="620640"/>
            <a:ext cx="42339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课文字词解析</a:t>
            </a:r>
            <a:endParaRPr b="0" lang="en-US" sz="4800" spc="-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96360" y="6469200"/>
            <a:ext cx="1547640" cy="38880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>
            <a:off x="1332000" y="189000"/>
            <a:ext cx="5904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木兰诗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（乐府民歌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3"/>
          <a:stretch/>
        </p:blipFill>
        <p:spPr>
          <a:xfrm>
            <a:off x="4716360" y="1197000"/>
            <a:ext cx="3816360" cy="540072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4"/>
          <a:stretch/>
        </p:blipFill>
        <p:spPr>
          <a:xfrm>
            <a:off x="539640" y="1197000"/>
            <a:ext cx="4105440" cy="5327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指出下列诗句使用的修辞手法。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6" name=""/>
          <p:cNvSpPr/>
          <p:nvPr/>
        </p:nvSpPr>
        <p:spPr>
          <a:xfrm>
            <a:off x="1311120" y="1905120"/>
            <a:ext cx="61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排比、互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895480" y="1752480"/>
            <a:ext cx="5410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市买骏马，西市买鞍鞯，南市买辔头，北市买长鞭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398560" y="48769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军百战死，壮士十年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80880" y="48769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互文、对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432800" y="33526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偶、互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971800" y="3200400"/>
            <a:ext cx="5345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我东阁门，坐我西阁床，脱我战时袍，著我旧时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指出这首诗使用的修辞手法。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3" name=""/>
          <p:cNvSpPr/>
          <p:nvPr/>
        </p:nvSpPr>
        <p:spPr>
          <a:xfrm>
            <a:off x="931320" y="1828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夸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89240" y="2666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夸张、对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941360" y="18288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军书十二卷，卷卷有爷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941360" y="26668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策勋十二转，赏赐百千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748680" y="4149720"/>
            <a:ext cx="3106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楷体_GB2312"/>
              </a:rPr>
              <a:t>当窗理云鬓，对镜帖花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127880" y="4005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偶、互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826920" y="22050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尝试用自己的语言简要讲述花木兰女扮男装，替父从军的故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0" y="476280"/>
            <a:ext cx="54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请概括本诗主要情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666800" y="1413000"/>
            <a:ext cx="14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代父从军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踏上征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666800" y="2637000"/>
            <a:ext cx="14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奔赴前线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十年征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595160" y="3860640"/>
            <a:ext cx="14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还朝辞官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亲人团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595160" y="5157720"/>
            <a:ext cx="14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比喻赞美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讴歌英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93560" y="148428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一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44120" y="27813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二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815400" y="39337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三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815400" y="52293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四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5796000" y="907920"/>
            <a:ext cx="2438280" cy="533412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>
            <a:off x="6557760" y="1557360"/>
            <a:ext cx="72936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诗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611280" y="213372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觉得花木兰是一个怎样的女子，你从课文中的哪些语句可以看出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68360" y="62064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人物赏析：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3" name=""/>
          <p:cNvSpPr/>
          <p:nvPr/>
        </p:nvSpPr>
        <p:spPr>
          <a:xfrm>
            <a:off x="468360" y="4037760"/>
            <a:ext cx="84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830880" y="404640"/>
            <a:ext cx="1155240" cy="50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唧唧复唧唧，木兰当户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不闻机杼声，惟闻女叹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28000" y="5516640"/>
            <a:ext cx="14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勤劳孝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2916360" y="476280"/>
            <a:ext cx="5976720" cy="496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567080" y="189000"/>
            <a:ext cx="347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隶书"/>
              </a:rPr>
              <a:t>旦辞爷娘去，暮宿黄河边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不闻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隶书"/>
              </a:rPr>
              <a:t>爷娘唤女声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但闻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隶书"/>
              </a:rPr>
              <a:t>黄河流水鸣溅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隶书"/>
              </a:rPr>
              <a:t>旦辞黄河去，暮至黑山头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不闻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隶书"/>
              </a:rPr>
              <a:t>黄河流水声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但闻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隶书"/>
              </a:rPr>
              <a:t>燕山胡骑鸣啾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12000" y="260280"/>
            <a:ext cx="28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表现木兰离家愈远思亲愈切的女儿情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208720" cy="4392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427640" y="189000"/>
            <a:ext cx="47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木兰诗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简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1052640"/>
            <a:ext cx="43923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                                                                           </a:t>
            </a:r>
            <a:r>
              <a:rPr b="1" lang="en-US" sz="2800" spc="-1" strike="noStrike">
                <a:solidFill>
                  <a:srgbClr val="996600"/>
                </a:solidFill>
                <a:latin typeface="幼圆"/>
                <a:ea typeface="幼圆"/>
              </a:rPr>
              <a:t>《</a:t>
            </a:r>
            <a:r>
              <a:rPr b="1" lang="zh-CN" sz="2800" spc="-1" strike="noStrike">
                <a:solidFill>
                  <a:srgbClr val="996600"/>
                </a:solidFill>
                <a:latin typeface="幼圆"/>
                <a:ea typeface="幼圆"/>
              </a:rPr>
              <a:t>木兰诗</a:t>
            </a:r>
            <a:r>
              <a:rPr b="1" lang="en-US" sz="2800" spc="-1" strike="noStrike">
                <a:solidFill>
                  <a:srgbClr val="996600"/>
                </a:solidFill>
                <a:latin typeface="幼圆"/>
                <a:ea typeface="幼圆"/>
              </a:rPr>
              <a:t>》</a:t>
            </a:r>
            <a:r>
              <a:rPr b="1" lang="zh-CN" sz="2800" spc="-1" strike="noStrike">
                <a:solidFill>
                  <a:srgbClr val="996600"/>
                </a:solidFill>
                <a:latin typeface="幼圆"/>
                <a:ea typeface="幼圆"/>
              </a:rPr>
              <a:t>又叫</a:t>
            </a:r>
            <a:r>
              <a:rPr b="1" lang="en-US" sz="2800" spc="-1" strike="noStrike">
                <a:solidFill>
                  <a:srgbClr val="996600"/>
                </a:solidFill>
                <a:latin typeface="幼圆"/>
                <a:ea typeface="幼圆"/>
              </a:rPr>
              <a:t>《</a:t>
            </a:r>
            <a:r>
              <a:rPr b="1" lang="zh-CN" sz="2800" spc="-1" strike="noStrike">
                <a:solidFill>
                  <a:srgbClr val="996600"/>
                </a:solidFill>
                <a:latin typeface="幼圆"/>
                <a:ea typeface="幼圆"/>
              </a:rPr>
              <a:t>木兰辞</a:t>
            </a:r>
            <a:r>
              <a:rPr b="1" lang="en-US" sz="2800" spc="-1" strike="noStrike">
                <a:solidFill>
                  <a:srgbClr val="996600"/>
                </a:solidFill>
                <a:latin typeface="幼圆"/>
                <a:ea typeface="幼圆"/>
              </a:rPr>
              <a:t>》</a:t>
            </a:r>
            <a:r>
              <a:rPr b="1" lang="zh-CN" sz="2800" spc="-1" strike="noStrike">
                <a:solidFill>
                  <a:srgbClr val="996600"/>
                </a:solidFill>
                <a:latin typeface="幼圆"/>
                <a:ea typeface="幼圆"/>
              </a:rPr>
              <a:t>，选自宋朝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郭茂倩</a:t>
            </a:r>
            <a:r>
              <a:rPr b="1" lang="zh-CN" sz="2800" spc="-1" strike="noStrike">
                <a:solidFill>
                  <a:srgbClr val="996600"/>
                </a:solidFill>
                <a:latin typeface="幼圆"/>
                <a:ea typeface="幼圆"/>
              </a:rPr>
              <a:t>编的</a:t>
            </a:r>
            <a:r>
              <a:rPr b="1" lang="en-US" sz="2800" spc="-1" strike="noStrike">
                <a:solidFill>
                  <a:srgbClr val="996600"/>
                </a:solidFill>
                <a:latin typeface="幼圆"/>
                <a:ea typeface="幼圆"/>
              </a:rPr>
              <a:t>《</a:t>
            </a:r>
            <a:r>
              <a:rPr b="1" lang="zh-CN" sz="2800" spc="-1" strike="noStrike">
                <a:solidFill>
                  <a:srgbClr val="996600"/>
                </a:solidFill>
                <a:latin typeface="幼圆"/>
                <a:ea typeface="幼圆"/>
              </a:rPr>
              <a:t>乐府诗集</a:t>
            </a:r>
            <a:r>
              <a:rPr b="1" lang="en-US" sz="2800" spc="-1" strike="noStrike">
                <a:solidFill>
                  <a:srgbClr val="996600"/>
                </a:solidFill>
                <a:latin typeface="幼圆"/>
                <a:ea typeface="幼圆"/>
              </a:rPr>
              <a:t>》</a:t>
            </a:r>
            <a:r>
              <a:rPr b="1" lang="zh-CN" sz="2800" spc="-1" strike="noStrike">
                <a:solidFill>
                  <a:srgbClr val="996600"/>
                </a:solidFill>
                <a:latin typeface="幼圆"/>
                <a:ea typeface="幼圆"/>
              </a:rPr>
              <a:t>。</a:t>
            </a:r>
            <a:r>
              <a:rPr b="1" lang="en-US" sz="2800" spc="-1" strike="noStrike">
                <a:solidFill>
                  <a:srgbClr val="996600"/>
                </a:solidFill>
                <a:latin typeface="幼圆"/>
                <a:ea typeface="幼圆"/>
              </a:rPr>
              <a:t>《</a:t>
            </a:r>
            <a:r>
              <a:rPr b="1" lang="zh-CN" sz="2800" spc="-1" strike="noStrike">
                <a:solidFill>
                  <a:srgbClr val="996600"/>
                </a:solidFill>
                <a:latin typeface="幼圆"/>
                <a:ea typeface="幼圆"/>
              </a:rPr>
              <a:t>木兰诗</a:t>
            </a:r>
            <a:r>
              <a:rPr b="1" lang="en-US" sz="2800" spc="-1" strike="noStrike">
                <a:solidFill>
                  <a:srgbClr val="996600"/>
                </a:solidFill>
                <a:latin typeface="幼圆"/>
                <a:ea typeface="幼圆"/>
              </a:rPr>
              <a:t>》</a:t>
            </a:r>
            <a:r>
              <a:rPr b="1" lang="zh-CN" sz="2800" spc="-1" strike="noStrike">
                <a:solidFill>
                  <a:srgbClr val="996600"/>
                </a:solidFill>
                <a:latin typeface="幼圆"/>
                <a:ea typeface="幼圆"/>
              </a:rPr>
              <a:t>是北朝民歌的代表作，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属于叙事诗，叙述了古代女英雄木兰代父从军、建功立业的传奇故事。</a:t>
            </a:r>
            <a:r>
              <a:rPr b="0" lang="zh-CN" sz="28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  <a:ea typeface="幼圆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木兰诗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  <a:ea typeface="幼圆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与南朝的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  <a:ea typeface="幼圆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孔雀东南飞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  <a:ea typeface="幼圆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合称“乐府双璧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4222800" cy="5445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9640" y="558972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河南虞城花木兰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2372040" y="333360"/>
            <a:ext cx="35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开我东阁门，坐我西阁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脱我战时袍，著我旧时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当窗理云鬓，对镜帖花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935960" y="692280"/>
            <a:ext cx="325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渲染归家及恢复女儿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的喜悦，突出女儿情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280360" cy="4537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6789960" y="981000"/>
            <a:ext cx="1643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阿爷无大儿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木兰无长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愿为市鞍马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从此替爷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516720" y="3716280"/>
            <a:ext cx="262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深明大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勇敢坚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对父母的孝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对国家的忠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6121440" cy="4897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0" dur="1" fill="hold"/>
                                  <p:tgtEl>
                                    <p:spTgt spid="8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2732400" y="476280"/>
            <a:ext cx="35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万里赴戎机，关山度若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朔气传金柝，寒光照铁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将军百战死，壮士十年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090200" y="189000"/>
            <a:ext cx="1034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征途之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生活之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战斗之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时间之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战况之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760440" y="3645000"/>
            <a:ext cx="197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勇敢坚强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英雄气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6120000" cy="4359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250920" y="836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归来见天子，天子坐明堂。策勋十二转，赏赐百千强。木兰不用尚书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11280" y="33354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不慕荣华富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4572000" y="692280"/>
            <a:ext cx="4175280" cy="5761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4" dur="1" fill="hold"/>
                                  <p:tgtEl>
                                    <p:spTgt spid="8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900000" y="1557360"/>
            <a:ext cx="253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隶书"/>
              </a:rPr>
              <a:t>出门看火伴，火伴皆惊忙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隶书"/>
              </a:rPr>
              <a:t>同行十二年，不知木兰是女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64560" y="45799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机智、谨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1"/>
          <a:stretch/>
        </p:blipFill>
        <p:spPr>
          <a:xfrm>
            <a:off x="3708360" y="1413000"/>
            <a:ext cx="4392720" cy="4902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" descr=""/>
          <p:cNvPicPr/>
          <p:nvPr/>
        </p:nvPicPr>
        <p:blipFill>
          <a:blip r:embed="rId1"/>
          <a:stretch/>
        </p:blipFill>
        <p:spPr>
          <a:xfrm>
            <a:off x="-1981080" y="1066680"/>
            <a:ext cx="6476760" cy="5791320"/>
          </a:xfrm>
          <a:prstGeom prst="rect">
            <a:avLst/>
          </a:prstGeom>
          <a:ln w="0">
            <a:noFill/>
          </a:ln>
        </p:spPr>
      </p:pic>
      <p:pic>
        <p:nvPicPr>
          <p:cNvPr id="877" name="" descr=""/>
          <p:cNvPicPr/>
          <p:nvPr/>
        </p:nvPicPr>
        <p:blipFill>
          <a:blip r:embed="rId2"/>
          <a:stretch/>
        </p:blipFill>
        <p:spPr>
          <a:xfrm>
            <a:off x="4572000" y="1066680"/>
            <a:ext cx="4570560" cy="579132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669960" y="6541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495080" y="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既有女儿情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067080" y="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更具英雄气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22360" y="4572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古代杰出的巾帼英雄形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565840" y="55404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468360" y="155736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你觉得花木兰是一个怎样的女子，你从课文中的哪些语句可以看出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468360" y="62064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人物赏析：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5" name=""/>
          <p:cNvSpPr/>
          <p:nvPr/>
        </p:nvSpPr>
        <p:spPr>
          <a:xfrm>
            <a:off x="468360" y="4037760"/>
            <a:ext cx="84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花木兰形象：美丽，勤劳，孝顺，深明大义、果敢坚强、 英勇善战、不慕名利、谨慎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机智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79704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0" y="1028880"/>
            <a:ext cx="91440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900" spc="-1" strike="noStrike">
                <a:solidFill>
                  <a:srgbClr val="000000"/>
                </a:solidFill>
                <a:latin typeface="幼圆"/>
                <a:ea typeface="幼圆"/>
              </a:rPr>
              <a:t>《</a:t>
            </a:r>
            <a:r>
              <a:rPr b="1" lang="zh-CN" sz="2900" spc="-1" strike="noStrike">
                <a:solidFill>
                  <a:srgbClr val="000000"/>
                </a:solidFill>
                <a:latin typeface="幼圆"/>
                <a:ea typeface="幼圆"/>
              </a:rPr>
              <a:t>木兰诗</a:t>
            </a:r>
            <a:r>
              <a:rPr b="1" lang="en-US" sz="2900" spc="-1" strike="noStrike">
                <a:solidFill>
                  <a:srgbClr val="000000"/>
                </a:solidFill>
                <a:latin typeface="幼圆"/>
                <a:ea typeface="幼圆"/>
              </a:rPr>
              <a:t>》</a:t>
            </a:r>
            <a:r>
              <a:rPr b="1" lang="zh-CN" sz="2900" spc="-1" strike="noStrike">
                <a:solidFill>
                  <a:srgbClr val="000000"/>
                </a:solidFill>
                <a:latin typeface="幼圆"/>
                <a:ea typeface="幼圆"/>
              </a:rPr>
              <a:t>这首叙事诗塑造了花木兰这个不朽的女英雄形象。她既是一个云鬓花黄的少女，又是一个金戈铁马的战士。在国家需要的时候，她挺身而出，驰骋沙场，立下汗马功劳。得胜归来之后，她又谢绝高官，返回家园，重新从事和平劳动。她爱亲人也爱国家，把对国家对亲人的责任感融合在一起。木兰的形象，集中体现出中华民族的勤劳、善良机智、勇敢、刚毅、敦朴的优秀品质。</a:t>
            </a:r>
            <a:br>
              <a:rPr sz="2900"/>
            </a:br>
            <a:r>
              <a:rPr b="1" lang="zh-CN" sz="2900" spc="-1" strike="noStrike">
                <a:solidFill>
                  <a:srgbClr val="000000"/>
                </a:solidFill>
                <a:latin typeface="幼圆"/>
                <a:ea typeface="幼圆"/>
              </a:rPr>
              <a:t>        这首诗在叙事上有详有略，对木兰从军缘由、恋别、辞官和还家写得比较详细，淋漓尽致地写出人物的思想感情；对出征前的准备和军旅生活则写得比较简略，前者只有四句，后者也仅有六句，详略得当，是这</a:t>
            </a:r>
            <a:br>
              <a:rPr sz="2900"/>
            </a:br>
            <a:r>
              <a:rPr b="1" lang="zh-CN" sz="2900" spc="-1" strike="noStrike">
                <a:solidFill>
                  <a:srgbClr val="000000"/>
                </a:solidFill>
                <a:latin typeface="幼圆"/>
                <a:ea typeface="幼圆"/>
              </a:rPr>
              <a:t>首诗写作上的一个显著特点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457200" y="304920"/>
            <a:ext cx="2314440" cy="46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新魏"/>
              </a:rPr>
              <a:t>小结</a:t>
            </a:r>
            <a:r>
              <a:rPr b="1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新魏"/>
              </a:rPr>
              <a:t>: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89" name="">
            <a:hlinkClick r:id="" action="ppaction://hlinkshowjump?jump=endshow"/>
          </p:cNvPr>
          <p:cNvSpPr/>
          <p:nvPr/>
        </p:nvSpPr>
        <p:spPr>
          <a:xfrm>
            <a:off x="8229600" y="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12957" y="3837"/>
                </a:moveTo>
                <a:lnTo>
                  <a:pt x="15533" y="6448"/>
                </a:ln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lnTo>
                  <a:pt x="19920" y="10800"/>
                </a:lnTo>
                <a:lnTo>
                  <a:pt x="18266" y="10800"/>
                </a:lnTo>
                <a:lnTo>
                  <a:pt x="18266" y="17989"/>
                </a:lnTo>
                <a:lnTo>
                  <a:pt x="7648" y="17989"/>
                </a:lnTo>
                <a:lnTo>
                  <a:pt x="7648" y="10800"/>
                </a:lnTo>
                <a:lnTo>
                  <a:pt x="5994" y="10800"/>
                </a:lnTo>
                <a:close/>
              </a:path>
              <a:path fill="darkenLess" w="25914" h="21600">
                <a:moveTo>
                  <a:pt x="15533" y="6448"/>
                </a:move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close/>
              </a:path>
              <a:path fill="darkenLess" w="25914" h="21600">
                <a:moveTo>
                  <a:pt x="12034" y="14299"/>
                </a:moveTo>
                <a:lnTo>
                  <a:pt x="13880" y="14299"/>
                </a:lnTo>
                <a:lnTo>
                  <a:pt x="13880" y="17989"/>
                </a:lnTo>
                <a:lnTo>
                  <a:pt x="18266" y="17989"/>
                </a:lnTo>
                <a:lnTo>
                  <a:pt x="18266" y="10800"/>
                </a:lnTo>
                <a:lnTo>
                  <a:pt x="7648" y="10800"/>
                </a:lnTo>
                <a:lnTo>
                  <a:pt x="7648" y="17989"/>
                </a:lnTo>
                <a:lnTo>
                  <a:pt x="12034" y="1798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26560" y="907920"/>
            <a:ext cx="518508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 Rounded MT Bold"/>
                <a:ea typeface="微软简行楷"/>
              </a:rPr>
              <a:t>木兰的可敬可爱之处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1" name=""/>
          <p:cNvSpPr/>
          <p:nvPr/>
        </p:nvSpPr>
        <p:spPr>
          <a:xfrm>
            <a:off x="827640" y="289548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微软简行楷"/>
                <a:ea typeface="微软简行楷"/>
              </a:rPr>
              <a:t>女扮男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微软简行楷"/>
                <a:ea typeface="微软简行楷"/>
              </a:rPr>
              <a:t>替父从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743200" y="23623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既有女孩的勤劳善良，美丽可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666880" y="3809880"/>
            <a:ext cx="6324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又有男儿的勇敢善战，豪迈气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343400" y="5105520"/>
            <a:ext cx="4267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巾帼英雄形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6840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6" name=""/>
          <p:cNvSpPr/>
          <p:nvPr/>
        </p:nvSpPr>
        <p:spPr>
          <a:xfrm>
            <a:off x="179280" y="33336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诗中哪些地方写得详细？哪些地言写得简略？这样写有什么好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613160" y="1628640"/>
            <a:ext cx="2100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从军缘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出征前的准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出征中的思亲心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关山飞度，征战沙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凯旋辞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家人迎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木兰改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356000" y="1628640"/>
            <a:ext cx="1816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详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略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详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略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详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详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详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815880" y="24922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详写女儿情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略写英雄气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95280" y="4941720"/>
            <a:ext cx="856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（在内容上）突出木兰的儿女情态，丰富了木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的英雄性格，使得人物形象真实感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（在结构上）详略得当，使全诗显得简洁紧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3124080"/>
            <a:ext cx="85345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>
            <a:off x="7620120" y="64771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72960" y="404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请读准字音噢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0160" y="1844640"/>
            <a:ext cx="89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唧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唧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   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杼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  军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帖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可汗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鞍鞯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辔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1200" y="3357720"/>
            <a:ext cx="75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鸣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溅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溅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燕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山 鸣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啾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啾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戎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机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朔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气   金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47973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红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妆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著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帖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花黄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傍     姊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妹   云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1413000"/>
            <a:ext cx="7632720" cy="33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jī         zhù       tiě       kèhán       ānjiān     pèi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jiān        yān          ji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ū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   róng        shuò           tuò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zhuāng   zhuó      tiē            bàng     zǐ              bì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5280" y="765000"/>
            <a:ext cx="82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文鼎特圆简"/>
                <a:ea typeface="文鼎特圆简"/>
              </a:rPr>
              <a:t>6.</a:t>
            </a:r>
            <a:r>
              <a:rPr b="1" lang="zh-CN" sz="4200" spc="-1" strike="noStrike">
                <a:solidFill>
                  <a:srgbClr val="000000"/>
                </a:solidFill>
                <a:latin typeface="文鼎特圆简"/>
                <a:ea typeface="文鼎特圆简"/>
              </a:rPr>
              <a:t>这首诗的中心思想是什么？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68360" y="206064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幼圆"/>
                <a:ea typeface="幼圆"/>
              </a:rPr>
              <a:t>答：这首诗通过木兰女扮男装、替父从军的故事，表现了古代劳动人民乐观勇敢的爱国精神，以及对和平劳动生活的向往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685800" y="37332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对镜</a:t>
            </a:r>
            <a:r>
              <a:rPr b="1" lang="zh-CN" sz="36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帖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花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114800" y="36576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帖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贴，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tiē,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粘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049760" y="5029200"/>
            <a:ext cx="22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出门看</a:t>
            </a:r>
            <a:r>
              <a:rPr b="1" lang="zh-CN" sz="36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火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69920" y="5025960"/>
            <a:ext cx="34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火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伙，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huǒ,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伙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124280" y="2438280"/>
            <a:ext cx="22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著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旧时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617720" y="2438280"/>
            <a:ext cx="30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著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着，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zhuó,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600200" y="91440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诗中的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通假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44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50920" y="1628640"/>
            <a:ext cx="8583480" cy="29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军壮士百战死，将军壮士十年归。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译为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士们（“将军”、“壮士”）身经百战，有的战死在沙场（“百战死”），有的多年后重返故乡。（“十年归”）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互文修辞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330360" y="549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军百战死，壮士十年归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Rounded MT Bold"/>
                <a:ea typeface="华文中宋"/>
              </a:rPr>
              <a:t>关于“互文”</a:t>
            </a:r>
            <a:r>
              <a:rPr b="0" lang="zh-CN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5" name=""/>
          <p:cNvSpPr/>
          <p:nvPr/>
        </p:nvSpPr>
        <p:spPr>
          <a:xfrm>
            <a:off x="179280" y="153864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互文是指一联中的两句词语意思互相补充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结合起来表示一个完整意思的修辞手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上下两句或一句话中的两个部分，看似各说一件事，实则是互相呼应，互相阐发，互相补充，说的是一件事。）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：东西植松柏，左右种梧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雀东南飞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理解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西左右都种植了松柏和梧桐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38188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你能找出几个使用了“互文”修辞的诗句？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7" name=""/>
          <p:cNvSpPr/>
          <p:nvPr/>
        </p:nvSpPr>
        <p:spPr>
          <a:xfrm>
            <a:off x="533520" y="109656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东市买骏马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西市买鞍鞯，南市买辔头，北市买长鞭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57200" y="3991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意思是，每间房子都要开了门进去坐坐，不是开了东阁门而不进去，却转身跑到西阁的床上坐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491120" y="2924280"/>
            <a:ext cx="365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开我东阁门，坐我西阁床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79280" y="223164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意思是跑遍了许多市集，购齐了出征所需之物，而不是在某一个集市上只买某一样东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583236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意思是当着窗子，对着镜子，先理云鬓，后贴花黄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342080" y="4981680"/>
            <a:ext cx="377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当窗理云鬓，对镜帖花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/>
          <p:nvPr/>
        </p:nvSpPr>
        <p:spPr>
          <a:xfrm>
            <a:off x="838080" y="1557360"/>
            <a:ext cx="718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花木兰的故事源于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《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木兰诗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》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，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《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木兰诗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》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选自                     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编的                          ，这是南北朝时北方的一首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民歌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2590920" cy="172728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6237360"/>
            <a:ext cx="1143000" cy="365040"/>
          </a:xfrm>
          <a:prstGeom prst="rect">
            <a:avLst/>
          </a:prstGeom>
          <a:ln w="0">
            <a:noFill/>
          </a:ln>
        </p:spPr>
      </p:pic>
      <p:sp>
        <p:nvSpPr>
          <p:cNvPr id="927" name=""/>
          <p:cNvSpPr txBox="1"/>
          <p:nvPr/>
        </p:nvSpPr>
        <p:spPr>
          <a:xfrm>
            <a:off x="539640" y="333360"/>
            <a:ext cx="2160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考考你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28" name=""/>
          <p:cNvSpPr/>
          <p:nvPr/>
        </p:nvSpPr>
        <p:spPr>
          <a:xfrm>
            <a:off x="1547640" y="270828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《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乐府诗集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067280" y="213372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宋朝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·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郭茂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93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99440" y="6181560"/>
            <a:ext cx="844560" cy="67644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 txBox="1"/>
          <p:nvPr/>
        </p:nvSpPr>
        <p:spPr>
          <a:xfrm>
            <a:off x="395280" y="333360"/>
            <a:ext cx="216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会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1341360"/>
            <a:ext cx="91440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1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、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《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木兰诗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》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讲述了木兰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________  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的故事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2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、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_____________,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寒光照铁衣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3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、万里赴戎机，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____________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4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、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__________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，对镜帖花黄。</a:t>
            </a:r>
            <a:r>
              <a:rPr b="1" lang="zh-CN" sz="4800" spc="-1" strike="noStrike">
                <a:solidFill>
                  <a:srgbClr val="990099"/>
                </a:solidFill>
                <a:latin typeface="Times New Roman"/>
                <a:ea typeface="华文行楷"/>
              </a:rPr>
              <a:t>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0" y="206064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替父从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403280" y="306864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朔气传金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003640" y="4221000"/>
            <a:ext cx="331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关山度若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900000" y="522936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当窗理云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6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6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0" dur="2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5" dur="2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0" dur="2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2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7761240" y="1006560"/>
            <a:ext cx="914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Rounded MT Bold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24000" y="475920"/>
            <a:ext cx="8820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对“昨夜见军帖，可汗大点兵”一句中的“大”字的理解准确的一项（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表明了可汗的积极性很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“大”就是大规模的意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显现战争紧张、频繁、涉及范围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意思是非常、十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1"/>
          <a:stretch/>
        </p:blipFill>
        <p:spPr>
          <a:xfrm>
            <a:off x="8675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940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940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4745" fill="hold"/>
                                        <p:tgtEl>
                                          <p:spTgt spid="9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选出对“将军百战死，壮士十年归”翻译正确的一项是（　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将军和壮士从军十年，经历了千百战斗。有的死了，有的胜利归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将军和壮士战斗死去了，壮士从军十年胜利归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将军在千百次战斗中死去了，木兰却在十年后回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从军十年，经历了千百次战斗，将军死去了，壮士归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643280" y="9079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7" dur="3992" fill="hold"/>
                                        <p:tgtEl>
                                          <p:spTgt spid="9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/>
          </p:nvPr>
        </p:nvSpPr>
        <p:spPr>
          <a:xfrm>
            <a:off x="609120" y="6858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段中的“不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但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析正确的一项是（　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采用对比手法，反映战争紧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采用反复手法，表达了木兰对亲人的深切怀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采用对比手法，表达了木兰对亲人的深刻思念，极大地丰富了女英雄的形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采用反复手法，表达了木兰与亲人分离极其悲痛的心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title"/>
          </p:nvPr>
        </p:nvSpPr>
        <p:spPr>
          <a:xfrm>
            <a:off x="4788000" y="1052640"/>
            <a:ext cx="504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 Rounded MT Bold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1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946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946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9" dur="9225" fill="hold"/>
                                        <p:tgtEl>
                                          <p:spTgt spid="9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71640" y="836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朗读课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2492280"/>
            <a:ext cx="82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要求：正确、流畅、朗朗上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/>
          </p:nvPr>
        </p:nvSpPr>
        <p:spPr>
          <a:xfrm>
            <a:off x="394920" y="838080"/>
            <a:ext cx="81392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“但闻黄河流水鸣溅溅”“但闻燕山胡骑鸣啾啾”两句理解正确的一项是（　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写征程的遥远和军情的急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写战争到来的悲凉气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以宿营地空旷寂凉烘托木兰离家思亲的情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写行军旅途的欢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title"/>
          </p:nvPr>
        </p:nvSpPr>
        <p:spPr>
          <a:xfrm>
            <a:off x="1258920" y="1844640"/>
            <a:ext cx="914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1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9" dur="8147" fill="hold"/>
                                        <p:tgtEl>
                                          <p:spTgt spid="9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/>
          </p:nvPr>
        </p:nvSpPr>
        <p:spPr>
          <a:xfrm>
            <a:off x="324000" y="1066680"/>
            <a:ext cx="842472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朗读下列语句停顿恰当的一项是（　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不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爷娘唤女声，但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燕山胡骑鸣啾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双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傍地走，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能辨我是雄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万里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戎机，关山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若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爷娘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女来，出郭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扶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title"/>
          </p:nvPr>
        </p:nvSpPr>
        <p:spPr>
          <a:xfrm>
            <a:off x="7811640" y="981000"/>
            <a:ext cx="8082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1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952"/>
                    </p:tgtEl>
                  </p:cond>
                </p:stCondLst>
                <p:childTnLst>
                  <p:par>
                    <p:cTn id="448" fill="hold">
                      <p:stCondLst>
                        <p:cond evt="onClick">
                          <p:tgtEl>
                            <p:spTgt spid="952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1" dur="4970" fill="hold"/>
                                        <p:tgtEl>
                                          <p:spTgt spid="9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2399040" y="2728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你还知道我国历史上有哪些著名的女英雄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4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42920" y="69228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理解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21337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结合页下注释，理解文章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Rounded MT Bold"/>
                <a:ea typeface="华文中宋"/>
              </a:rPr>
              <a:t>关于“互文”</a:t>
            </a:r>
            <a:r>
              <a:rPr b="0" lang="zh-CN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53864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互文是指一联中的两句词语意思互相补充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结合起来表示一个完整意思的修辞手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上下两句或一句话中的两个部分，看似各说一件事，实则是互相呼应，互相阐发，互相补充，说的是一件事。）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：东西植松柏，左右种梧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雀东南飞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理解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西左右都种植了松柏和梧桐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37332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对镜</a:t>
            </a:r>
            <a:r>
              <a:rPr b="1" lang="zh-CN" sz="36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帖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花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36576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帖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贴，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tiē,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粘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49760" y="5029200"/>
            <a:ext cx="22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出门看</a:t>
            </a:r>
            <a:r>
              <a:rPr b="1" lang="zh-CN" sz="36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火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69920" y="5025960"/>
            <a:ext cx="34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火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伙，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huǒ,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伙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24280" y="2438280"/>
            <a:ext cx="22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著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旧时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17720" y="2438280"/>
            <a:ext cx="30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著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着，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zhuó,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91440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诗中的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通假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2590920" cy="1727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57200" y="2133720"/>
            <a:ext cx="45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唧唧复唧唧，木兰当户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2590920"/>
            <a:ext cx="43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闻机杼声，惟闻女叹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048120"/>
            <a:ext cx="43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昨夜见军贴，可汗大点兵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3505320"/>
            <a:ext cx="43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愿为市鞍马，从此替爷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96252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旦辞爷娘去，暮宿黄河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41972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里赴戎机，关山度若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4876920"/>
            <a:ext cx="43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朔气传金柝，寒光照铁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213372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策勋十二转，赏赐百千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2057400"/>
            <a:ext cx="0" cy="327672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259092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爷娘闻女来，出郭相扶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3048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磨刀霍霍向猪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56000" y="350028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脱我战时袍，著我旧时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3962520"/>
            <a:ext cx="42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雄兔脚扑朔，雌兔眼迷离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4419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双兔傍地走，安能辨我是雄雌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21932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5238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82880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281952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2743200" y="34290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3124080" y="34290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1219320" y="3886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91440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28195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2"/>
          <a:stretch/>
        </p:blipFill>
        <p:spPr>
          <a:xfrm>
            <a:off x="190512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3"/>
          <a:stretch/>
        </p:blipFill>
        <p:spPr>
          <a:xfrm>
            <a:off x="213372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4"/>
          <a:stretch/>
        </p:blipFill>
        <p:spPr>
          <a:xfrm>
            <a:off x="342900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5"/>
          <a:stretch/>
        </p:blipFill>
        <p:spPr>
          <a:xfrm>
            <a:off x="182880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6"/>
          <a:stretch/>
        </p:blipFill>
        <p:spPr>
          <a:xfrm>
            <a:off x="213372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7"/>
          <a:stretch/>
        </p:blipFill>
        <p:spPr>
          <a:xfrm>
            <a:off x="3733920" y="5257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8"/>
          <a:stretch/>
        </p:blipFill>
        <p:spPr>
          <a:xfrm>
            <a:off x="4038480" y="5257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9"/>
          <a:stretch/>
        </p:blipFill>
        <p:spPr>
          <a:xfrm>
            <a:off x="480060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0"/>
          <a:stretch/>
        </p:blipFill>
        <p:spPr>
          <a:xfrm>
            <a:off x="5105520" y="2514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1"/>
          <a:stretch/>
        </p:blipFill>
        <p:spPr>
          <a:xfrm>
            <a:off x="6095880" y="2514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2"/>
          <a:stretch/>
        </p:blipFill>
        <p:spPr>
          <a:xfrm>
            <a:off x="7924680" y="2514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3"/>
          <a:stretch/>
        </p:blipFill>
        <p:spPr>
          <a:xfrm>
            <a:off x="70102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4"/>
          <a:stretch/>
        </p:blipFill>
        <p:spPr>
          <a:xfrm>
            <a:off x="762012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5"/>
          <a:stretch/>
        </p:blipFill>
        <p:spPr>
          <a:xfrm>
            <a:off x="7924680" y="2971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6"/>
          <a:stretch/>
        </p:blipFill>
        <p:spPr>
          <a:xfrm>
            <a:off x="5410080" y="34290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7"/>
          <a:stretch/>
        </p:blipFill>
        <p:spPr>
          <a:xfrm>
            <a:off x="5791320" y="34290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8"/>
          <a:stretch/>
        </p:blipFill>
        <p:spPr>
          <a:xfrm>
            <a:off x="6705720" y="3886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9"/>
          <a:stretch/>
        </p:blipFill>
        <p:spPr>
          <a:xfrm>
            <a:off x="57913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0"/>
          <a:stretch/>
        </p:blipFill>
        <p:spPr>
          <a:xfrm>
            <a:off x="6095880" y="43434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1"/>
          <a:stretch/>
        </p:blipFill>
        <p:spPr>
          <a:xfrm>
            <a:off x="7620120" y="43434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2"/>
          <a:stretch/>
        </p:blipFill>
        <p:spPr>
          <a:xfrm>
            <a:off x="7924680" y="43434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3"/>
          <a:stretch/>
        </p:blipFill>
        <p:spPr>
          <a:xfrm>
            <a:off x="5181480" y="4800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4"/>
          <a:stretch/>
        </p:blipFill>
        <p:spPr>
          <a:xfrm>
            <a:off x="640080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5"/>
          <a:stretch/>
        </p:blipFill>
        <p:spPr>
          <a:xfrm>
            <a:off x="6705720" y="4800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6"/>
          <a:stretch/>
        </p:blipFill>
        <p:spPr>
          <a:xfrm>
            <a:off x="1523880" y="38862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7"/>
          <a:stretch/>
        </p:blipFill>
        <p:spPr>
          <a:xfrm>
            <a:off x="914400" y="52578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2627280" y="620640"/>
            <a:ext cx="42339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课文字词解析</a:t>
            </a:r>
            <a:endParaRPr b="0" lang="en-US" sz="4800" spc="-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diamond/>
    <p:sndAc>
      <p:stSnd>
        <p:snd r:embed="rId38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2T09:42:20Z</dcterms:created>
  <dc:creator/>
  <dc:description/>
  <cp:keywords/>
  <dc:language>en-US</dc:language>
  <cp:lastModifiedBy>deeplm</cp:lastModifiedBy>
  <cp:lastPrinted>1899-12-30T00:00:00Z</cp:lastPrinted>
  <dcterms:modified xsi:type="dcterms:W3CDTF">2015-05-25T00:40:29Z</dcterms:modified>
  <cp:revision>3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