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E43D-6685-4A25-851F-3CFA52DC1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316B-AD7C-4791-816A-9CAC50B3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070F-75AA-48B4-9B06-83DFB245B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4598-9AA8-4A14-9B8C-C2A640ADE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050F-26AA-4A87-849A-CE41B5F51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1659-EA7E-4F0D-99DF-B43D1583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7E9C-1A44-4F56-BF57-DBB50EDF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EF1E-58B9-4C82-8A3C-4A283A10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3570-A689-473C-B9BE-D2BAC6AE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68CE-A47F-4C89-B103-685E58EB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B22F-9709-4C63-B940-018C8F03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E751-EC16-4106-BD48-C4DAB241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AF81-9EE3-440A-A0D6-4ADCAF8A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4050-69D7-44A5-8984-8A632577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4739F-976C-4B6B-A667-AED274F1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7063-6C87-491D-870F-8A3F8795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7C2D-F602-4128-A7F8-CDEFD65C6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3853-06E0-4366-B75D-C71587D0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CD34-9AB2-4715-B056-F872F3C1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F830-8BE9-46EB-891D-9CF2E26A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1112-C608-4F37-82CE-B2CD8504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D582-B7EC-4686-8727-A6307411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2099-92F8-41DB-83AD-49B52924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FDCE-08A3-4A1B-9F94-B537ADFE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2BAA-C5F2-44B1-AA87-ECE3FB501143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6F40-0193-42A2-AE7B-8FBA2C57AE92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方正姚体"/>
              </a:rPr>
              <a:t>醉翁亭记</a:t>
            </a:r>
            <a:br>
              <a:rPr sz="4400"/>
            </a:b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欧阳修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54100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979a5"/>
                </a:solidFill>
                <a:latin typeface="Arial"/>
                <a:ea typeface="黑体"/>
              </a:rPr>
              <a:t>请同学们读准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红字</a:t>
            </a:r>
            <a:r>
              <a:rPr b="1" lang="zh-CN" sz="2800" spc="-1" strike="noStrike">
                <a:solidFill>
                  <a:srgbClr val="7979a5"/>
                </a:solidFill>
                <a:latin typeface="Arial"/>
                <a:ea typeface="黑体"/>
              </a:rPr>
              <a:t>的字音</a:t>
            </a:r>
            <a:r>
              <a:rPr b="1" lang="zh-CN" sz="2800" spc="-1" strike="noStrike">
                <a:solidFill>
                  <a:srgbClr val="7979a5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7979a5"/>
                </a:solidFill>
                <a:latin typeface="Arial"/>
                <a:ea typeface="黑体"/>
              </a:rPr>
              <a:t>其中有一个错误读音指出）</a:t>
            </a:r>
            <a:r>
              <a:rPr b="1" lang="zh-CN" sz="2800" spc="-1" strike="noStrike">
                <a:solidFill>
                  <a:srgbClr val="7979a5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滁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ch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ú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）州   林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壑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h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è)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琅琊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l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á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ng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）（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y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á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）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潺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潺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ch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á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n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）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酿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ni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à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ng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）泉   山之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僧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s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ē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ng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）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辄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zh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é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）醉     林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霏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f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ē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i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）开   岩穴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暝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m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í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ng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朝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zh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ā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o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）而往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伛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y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ǔ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）（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l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ǚ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）酒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洌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li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è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山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肴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y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á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o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）野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蔌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s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ù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）    射者中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(zh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ò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ng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弈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y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ì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）者胜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觥筹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g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ō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ng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）（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cho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ú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）交错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树林阴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翳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y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ì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学习第二部分（描写、抒情）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979a5"/>
                </a:solidFill>
                <a:latin typeface="Arial"/>
              </a:rPr>
              <a:t>写朝暮之景：晦明变化，以动写静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979a5"/>
                </a:solidFill>
                <a:latin typeface="Arial"/>
              </a:rPr>
              <a:t>写四时之景：抓住四季最典型的特征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979a5"/>
                </a:solidFill>
                <a:latin typeface="Arial"/>
              </a:rPr>
              <a:t>          ——</a:t>
            </a:r>
            <a:r>
              <a:rPr b="1" lang="zh-CN" sz="2800" spc="-1" strike="noStrike">
                <a:solidFill>
                  <a:srgbClr val="7979a5"/>
                </a:solidFill>
                <a:latin typeface="Arial"/>
              </a:rPr>
              <a:t>写醉翁亭周围的秀丽景色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979a5"/>
                </a:solidFill>
                <a:latin typeface="Arial"/>
              </a:rPr>
              <a:t>人的活动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979a5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7979a5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7979a5"/>
                </a:solidFill>
                <a:latin typeface="Arial"/>
              </a:rPr>
              <a:t>、滁人游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979a5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7979a5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7979a5"/>
                </a:solidFill>
                <a:latin typeface="Arial"/>
              </a:rPr>
              <a:t>、太守宴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979a5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7979a5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7979a5"/>
                </a:solidFill>
                <a:latin typeface="Arial"/>
              </a:rPr>
              <a:t>、众宾欢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979a5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7979a5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7979a5"/>
                </a:solidFill>
                <a:latin typeface="Arial"/>
              </a:rPr>
              <a:t>、太守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979a5"/>
                </a:solidFill>
                <a:latin typeface="Arial"/>
              </a:rPr>
              <a:t>          ——</a:t>
            </a:r>
            <a:r>
              <a:rPr b="1" lang="zh-CN" sz="2800" spc="-1" strike="noStrike">
                <a:solidFill>
                  <a:srgbClr val="7979a5"/>
                </a:solidFill>
                <a:latin typeface="Arial"/>
              </a:rPr>
              <a:t>滁州人的欢乐图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第二部分中有个四字成语，</a:t>
            </a:r>
            <a:br>
              <a:rPr sz="4400"/>
            </a:b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你能找到吗？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背会第二部分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362320" y="3124080"/>
            <a:ext cx="41148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开始！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学习第三部分（记叙和议论）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宴罢归去有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感”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禽鸟不知人的快乐，人不知太守的快乐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2924280"/>
            <a:ext cx="9144000" cy="33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与民同乐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太守“与民同乐”，乐在何处？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乐在：老百姓有个幸福快乐的生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为何有如此幸福生活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太守励精图治，把滁州治理得好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为官一任，造福一方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乐在：自己政绩卓著，难免喜上眉梢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还要学习他：有一种被贬后的旷达情怀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不让不良情绪影响工作和学习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3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8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3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8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3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太守醉卧亭中、笑看生活的情景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看出作者被贬后悠然自得、与民同乐的旷达情怀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8893080" cy="5516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11280" y="450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Verdana"/>
              </a:rPr>
              <a:t>滁人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44000" y="5516640"/>
            <a:ext cx="900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Verdana"/>
              </a:rPr>
              <a:t>太守宴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Verdana"/>
              </a:rPr>
              <a:t>众宾欢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Verdana"/>
              </a:rPr>
              <a:t>太守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24360" y="5661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Verdana"/>
              </a:rPr>
              <a:t>临溪而渔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5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4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背诵第三部分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Arial"/>
              </a:rPr>
              <a:t>背诵整篇文章</a:t>
            </a:r>
            <a:endParaRPr b="0" lang="en-US" sz="9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隶书"/>
              </a:rPr>
              <a:t>思  考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755640" y="1484280"/>
            <a:ext cx="7561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翻译下面的句子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峰回路转，有亭翼然临于泉上者，醉翁亭也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）醉翁之意不在酒，在乎水山之间也。山水之乐，  得之心而寓之酒也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）醉能同其乐，醒能述以文者，太守也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）然而禽鸟知山林之乐，而不知人之乐；     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人知从太守游而乐，而不知太守之乐其乐也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）山水之乐，得之心而寓之酒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想一想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如何理解“太守之乐其乐”？选出分析恰当的几项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 “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太守之乐其乐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”是点睛之笔。作者在这里含蓄地抒发了自己复杂的感情：既包含寄情山水、排遣郁闷的欢乐，也包含看到自己的政绩——政通人和、百姓安居乐业后的欣慰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 “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太守之乐其乐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”是衬托前面的“山林之乐”和“人之乐”的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太守之乐其乐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”是作者“与民同乐”的政治理想的反映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“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太守之乐其乐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”是作者被贬滁州后一种苦闷抑郁的扭曲反映，作者是以乐写哀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7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0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3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6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9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再想想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）贯穿全文的主线是什么？作者是如何围绕它层层展开的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）作者在写朝暮图及四时景时各抓住了什么特点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）完成课本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134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页，三四题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1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4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7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欧阳修简介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欧阳修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(1007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～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1072) 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北宋时期政治家、文学家。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欧阳修是北宋诗文革新运动的领袖。他的文学成就以散文最高，影响也最大。他是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唐宋古文八大家之一。字永叔，号醉翁，晚号六一居士（客有问曰：“六一，何谓也？”居士曰：“吾家藏书一万卷，集录三代以来金石遗文一千卷，有琴一张，有棋一局，而常置酒一壶。”客曰：“是为五一尔，奈何？”居士曰：“以吾一翁，老于此五物之间，是岂不为六一乎？”）。谥号“文忠”著有《欧阳文忠公集》吉州永丰（今属江西）人。欧阳修自称庐陵人，因为吉州原属庐陵郡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924360" y="0"/>
            <a:ext cx="13716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欧阳修与滁州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欧阳修知滁，于庆历五年十月二十二日到任，庆历八年闰正月朝廷诏徙知扬州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二月离开滁州，前后在滁州计约两年零四个月的时间。时间虽然不长，却给滁州留下了极其深远的影响。 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今说到滁州，人们自然会想到琅琊山，想到醉翁亭，想到欧阳修。琅琊山的自然风光、人文景观，都远近闻名。琅琊山最有名的景点是醉翁亭，被誉为全国“四大名亭”之首，名扬海内外。与醉翁亭隔山相望的丰乐亭，也是令许多探幽访古之士向往的胜迹，与醉翁亭一起被称为“姊妹亭”。丰乐亭下的“紫薇泉”，则与醉翁亭的让泉合称为“姊妹泉”。这些，都是欧阳修知滁时开发、建设而遗留下来的。正是这些建筑，加上他亲自撰写的《丰乐亭记》、《醉翁亭记》，才使滁州琅琊山的名声大震起来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欧阳修知滁的第二年夏，一个偶然的机会使他发现了丰山脚下幽谷中的一眼泉水，经过实地察看“俯仰左右，顾而乐之，于是疏泉凿石，辟地以为亭”，开始在这里进行美景胜地的建设。他很快修好了泉眼，建好了亭子，泉取名“幽谷泉”，亭取名为“丰乐亭”，并亲自撰文作记。同年，与丰乐亭一山之隔的醉翁亭亦建成，他取名“醉翁亭”，作《醉翁亭记》记之。两亭的建成与《两记》的问世，迅速在全国引起轰动。可以说，没有欧阳修，就没有滁州琅琊山之今日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欧阳修在滁州时，除了开发幽谷泉，兴建丰乐亭及醉翁亭以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外，还进行了其他一些建设，如在丰乐亭景区建设了醒心亭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请曾巩作《醒心亭记》；在丰乐亭附近辟建练兵场，作训练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民兵之用，以保卫地方；又维修损毁严重的滁城，使滁州之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更加坚固和壮观。有人读了欧阳修的《醉翁亭记》，从他悠游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山水、饮酒作乐的表现，以为他因受贬守滁，是处于不问政事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消沉状态，显然是不正确的。欧阳修在滁州，对于政事实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是“宽简”政策。所谓宽简，顾名思义就是宽容和简化，办事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遵循人情事理，不求搏取声誉，只要把事情办好就行了。这是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他一生为政的风格。他后来曾权知开封府，前任是有名的“铁面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老包”，即包拯，威严得很；而他则持以宽简，办事往往不动声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色，同样把开封府治理得井井有条。清朝时，有人曾将他与包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拯相比较，在开封府衙东西侧各树一座牌坊，一边写着“包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严”，一边写着“欧宽”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醉翁亭自欧阳修知滁时建成后，历经沧桑，但屡废屡兴，数百年不败。醉翁亭大门原有一副对联，写道：“翁去八百载，醉乡犹在；山行六七里，亭影不孤。”联中的“翁”即指欧阳修。当时制作这个大门及其对联的时间，是清光绪七年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公元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1881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离欧阳修知滁已经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800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多年，人们没有忘记他。至今日则已千余年，人们依然没有忘记他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研讨课文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学习第一部分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（记叙、抒情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、“醉翁”是谁？他为什么叫“醉翁”？谁给亭子起的名字？用什么做亭子的名 字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         ——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醉翁亭名字的由来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、醉翁亭在那里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（在酿泉的边上、在琅玡山上、在滁州城西南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里 、安徽省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        ——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醉翁亭的自然环境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在第一部分中，</a:t>
            </a: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哪句话可以看出作者很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得意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哪一句是名句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你想一下，能否用“醉翁之意不在酒”造个句子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哪位同学知道，根据《鸿门宴》的故事也流传出一个类似这个意思的俗语，叫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项庄舞剑，意在沛公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523880" y="1828800"/>
            <a:ext cx="571500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开始背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11:39:11Z</dcterms:created>
  <dc:creator>吕善景</dc:creator>
  <dc:description/>
  <dc:language>en-US</dc:language>
  <cp:lastModifiedBy>lenovo</cp:lastModifiedBy>
  <dcterms:modified xsi:type="dcterms:W3CDTF">2011-12-19T12:40:04Z</dcterms:modified>
  <cp:revision>23</cp:revision>
  <dc:subject/>
  <dc:title>幻灯片 1</dc:title>
</cp:coreProperties>
</file>