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4.jpeg" ContentType="image/jpeg"/>
  <Override PartName="/ppt/media/image8.jpeg" ContentType="image/jpeg"/>
  <Override PartName="/ppt/media/image10.jpeg" ContentType="image/jpeg"/>
  <Override PartName="/ppt/media/whoosh.wav" ContentType="audio/x-wav"/>
  <Override PartName="/ppt/media/image13.jpeg" ContentType="image/jpeg"/>
  <Override PartName="/ppt/media/image1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wind.wav" ContentType="audio/x-wav"/>
  <Override PartName="/ppt/media/image6.png" ContentType="image/png"/>
  <Override PartName="/ppt/media/image7.png" ContentType="image/png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F08E-A214-4122-9416-410E111BA64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A0F3-3282-4DE7-BBBD-F71B2646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5293-DA5D-48DE-B861-B31BF92B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C0ED-2771-4450-A316-18B7952D4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FCB9-931B-4ADE-9541-C20F50B9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E8AE-3FA8-436F-89A0-7E98E8F21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CA83-B8B6-4FA9-BAA1-07AC9583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058D-193B-40AE-BBB3-6A667304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7926-93F5-41B4-8198-0B047596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88BE-5692-4025-8E8F-BFD0624B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2B42-F230-490B-A6CE-0FC347D7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15AD-1E21-40D3-8936-C5F235EA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EAD1-9E71-4B4A-A823-3B458711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C997-0B80-435D-82A4-B28DEBCD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E092-C003-4D0C-A91A-4BB145ED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81EF-56CE-4FA3-BD56-782B0FA5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A634-6C4B-4026-A561-8076348CE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B8E9-4C8D-4287-9D57-DCBCA3C94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53770-4960-421B-A336-09FC13F5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2C870-3FB8-4050-8182-23844657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07E5F-6702-48A0-A29D-52C0C882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C05E5-A34D-43DE-9669-367424EB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16E0A-E8F7-4689-BD58-0C7348DB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00FF-5ACF-4C96-9285-92054136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95E61-6FDA-47FC-AA1F-7A9F5563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4D193-D794-4D5A-8C14-3FE68B5A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5B286-8B76-4A7D-9B76-A0C5B749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F4F16-9B4F-4FF1-B42C-5445A583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14134-125E-4913-A928-8845C4DA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5F70C-8476-4AC1-9096-E5E1B8E2E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6224F-3BEE-4625-9007-FE7FAD637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3C23-FFF6-4795-8704-6AB25058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2E4A-9ACD-4F21-B559-53A409D4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5C2D-FF0C-4A00-993B-FEEC9CD8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84DE-659F-4987-B87A-46543880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5A03-00B3-482E-B7D8-0810498B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CCF0-B332-4DB5-BFCF-66183A7A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AEBA-EF22-41D6-ABE1-EDB697FD30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2ACF-604A-4314-AF14-DD9CA1F3A7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EB16-7DD4-42F0-8D58-444C203AE3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C2%C0%B2%BC&#932;&amp;in=419&amp;cl=2&amp;cm=1&amp;sc=0&amp;lm=-1&amp;pn=6&amp;rn=1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14600" y="1905120"/>
            <a:ext cx="3809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黑体"/>
                <a:ea typeface="黑体"/>
              </a:rPr>
              <a:t>滥竽充数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黑体"/>
                <a:ea typeface="黑体"/>
              </a:rPr>
              <a:t>自相矛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黑体"/>
                <a:ea typeface="黑体"/>
              </a:rPr>
              <a:t>守株待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黑体"/>
                <a:ea typeface="黑体"/>
              </a:rPr>
              <a:t>买椟还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8320" y="4572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寓言故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4560" y="228564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对照文中注解弄清重点词语的含义并翻译全文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解决不了的问题自己记下来 等待全班讨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28600" y="304920"/>
            <a:ext cx="4267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读课文，理解文意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1219320"/>
            <a:ext cx="533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合作探究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分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300" spc="-1" strike="noStrike">
                <a:solidFill>
                  <a:srgbClr val="660066"/>
                </a:solidFill>
                <a:latin typeface="隶书"/>
                <a:ea typeface="隶书"/>
              </a:rPr>
              <a:t>郑人买</a:t>
            </a:r>
            <a:r>
              <a:rPr b="0" lang="zh-CN" sz="6300" spc="-1" strike="noStrike">
                <a:solidFill>
                  <a:srgbClr val="d60093"/>
                </a:solidFill>
                <a:latin typeface="隶书"/>
                <a:ea typeface="隶书"/>
              </a:rPr>
              <a:t>履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03280" y="1268280"/>
            <a:ext cx="410544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郑人有欲买履者，先自</a:t>
            </a:r>
            <a:r>
              <a:rPr b="1" lang="zh-CN" sz="3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度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足，而置</a:t>
            </a:r>
            <a:r>
              <a:rPr b="1" lang="zh-CN" sz="3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之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</a:t>
            </a:r>
            <a:r>
              <a:rPr b="1" lang="zh-CN" sz="3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坐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3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至</a:t>
            </a:r>
            <a:r>
              <a:rPr b="1" lang="zh-CN" sz="3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之</a:t>
            </a:r>
            <a:r>
              <a:rPr b="1" lang="zh-CN" sz="3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市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而忘操之。已得履，乃曰：“吾忘持</a:t>
            </a:r>
            <a:r>
              <a:rPr b="1" lang="zh-CN" sz="3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度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”</a:t>
            </a:r>
            <a:r>
              <a:rPr b="1" lang="zh-CN" sz="3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反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归取之。</a:t>
            </a:r>
            <a:r>
              <a:rPr b="1" lang="zh-CN" sz="3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及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反，市</a:t>
            </a:r>
            <a:r>
              <a:rPr b="1" lang="zh-CN" sz="3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罢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遂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得履。人曰：“何不试</a:t>
            </a:r>
            <a:r>
              <a:rPr b="1" lang="zh-CN" sz="3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之</a:t>
            </a:r>
            <a:r>
              <a:rPr b="1" lang="zh-CN" sz="3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以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足？”曰：“</a:t>
            </a:r>
            <a:r>
              <a:rPr b="1" lang="zh-CN" sz="3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宁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信度，无</a:t>
            </a:r>
            <a:r>
              <a:rPr b="1" lang="zh-CN" sz="3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自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信也。”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914400"/>
            <a:ext cx="1905120" cy="457200"/>
          </a:xfrm>
          <a:prstGeom prst="wedgeRectCallout">
            <a:avLst>
              <a:gd name="adj1" fmla="val 111250"/>
              <a:gd name="adj2" fmla="val 20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duó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，量长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00800" y="228600"/>
            <a:ext cx="1727280" cy="576360"/>
          </a:xfrm>
          <a:prstGeom prst="wedgeRectCallout">
            <a:avLst>
              <a:gd name="adj1" fmla="val -65259"/>
              <a:gd name="adj2" fmla="val 8581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lǚ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，鞋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657600"/>
            <a:ext cx="1441440" cy="576360"/>
          </a:xfrm>
          <a:prstGeom prst="wedgeRectCallout">
            <a:avLst>
              <a:gd name="adj1" fmla="val -130615"/>
              <a:gd name="adj2" fmla="val 676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散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1371600"/>
            <a:ext cx="1819440" cy="433440"/>
          </a:xfrm>
          <a:prstGeom prst="wedgeRectCallout">
            <a:avLst>
              <a:gd name="adj1" fmla="val -80541"/>
              <a:gd name="adj2" fmla="val 223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到……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657600"/>
            <a:ext cx="1828800" cy="457200"/>
          </a:xfrm>
          <a:prstGeom prst="wedgeRectCallout">
            <a:avLst>
              <a:gd name="adj1" fmla="val 111893"/>
              <a:gd name="adj2" fmla="val -142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量好的尺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5734080"/>
            <a:ext cx="990720" cy="438120"/>
          </a:xfrm>
          <a:prstGeom prst="wedgeRectCallout">
            <a:avLst>
              <a:gd name="adj1" fmla="val 246634"/>
              <a:gd name="adj2" fmla="val -4565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宁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4724280"/>
            <a:ext cx="1260720" cy="576360"/>
          </a:xfrm>
          <a:prstGeom prst="wedgeRectCallout">
            <a:avLst>
              <a:gd name="adj1" fmla="val -198111"/>
              <a:gd name="adj2" fmla="val 411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676520"/>
            <a:ext cx="2016000" cy="431640"/>
          </a:xfrm>
          <a:prstGeom prst="wedgeRectCallout">
            <a:avLst>
              <a:gd name="adj1" fmla="val 139763"/>
              <a:gd name="adj2" fmla="val 1224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同“座”，座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209680"/>
            <a:ext cx="2133720" cy="576360"/>
          </a:xfrm>
          <a:prstGeom prst="wedgeRectCallout">
            <a:avLst>
              <a:gd name="adj1" fmla="val 84375"/>
              <a:gd name="adj2" fmla="val -56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指量好的尺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19920" y="2743200"/>
            <a:ext cx="2057400" cy="431640"/>
          </a:xfrm>
          <a:prstGeom prst="wedgeRectCallout">
            <a:avLst>
              <a:gd name="adj1" fmla="val -147995"/>
              <a:gd name="adj2" fmla="val 2198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同“返”，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2280" y="2971800"/>
            <a:ext cx="1222560" cy="457200"/>
          </a:xfrm>
          <a:prstGeom prst="wedgeRectCallout">
            <a:avLst>
              <a:gd name="adj1" fmla="val 105194"/>
              <a:gd name="adj2" fmla="val -503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集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4648320"/>
            <a:ext cx="914400" cy="457200"/>
          </a:xfrm>
          <a:prstGeom prst="wedgeRectCallout">
            <a:avLst>
              <a:gd name="adj1" fmla="val 139759"/>
              <a:gd name="adj2" fmla="val -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终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03840" y="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华文行楷"/>
              </a:rPr>
              <a:t>说说红字的意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182880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反馈交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74" name=""/>
          <p:cNvSpPr/>
          <p:nvPr/>
        </p:nvSpPr>
        <p:spPr>
          <a:xfrm>
            <a:off x="6095880" y="5791320"/>
            <a:ext cx="914400" cy="609480"/>
          </a:xfrm>
          <a:prstGeom prst="wedgeRectCallout">
            <a:avLst>
              <a:gd name="adj1" fmla="val -325694"/>
              <a:gd name="adj2" fmla="val -1320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指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772400" y="1828800"/>
            <a:ext cx="1066680" cy="457200"/>
          </a:xfrm>
          <a:prstGeom prst="wedgeRectCallout">
            <a:avLst>
              <a:gd name="adj1" fmla="val -335861"/>
              <a:gd name="adj2" fmla="val 1003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等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43800" y="4419720"/>
            <a:ext cx="914400" cy="457200"/>
          </a:xfrm>
          <a:prstGeom prst="wedgeRectCallout">
            <a:avLst>
              <a:gd name="adj1" fmla="val -537500"/>
              <a:gd name="adj2" fmla="val -47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等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62520" y="6095880"/>
            <a:ext cx="1371600" cy="609840"/>
          </a:xfrm>
          <a:prstGeom prst="wedgeRectCallout">
            <a:avLst>
              <a:gd name="adj1" fmla="val -184837"/>
              <a:gd name="adj2" fmla="val -4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代自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3300"/>
                </a:solidFill>
                <a:latin typeface="黑体"/>
                <a:ea typeface="黑体"/>
              </a:rPr>
              <a:t>请用现代汉语翻译下列句子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4920" y="1904760"/>
            <a:ext cx="8443800" cy="32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自度其足，而置之其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至之市，而忘操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吾忘持度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反，市罢，遂不得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宁信度，无自信也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0"/>
            <a:ext cx="182880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反馈交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2895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课文翻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个郑国人，想去买鞋子，事先量了自己的脚，把量好的尺寸放在自己的座位上。到了前往集市的时候，却忘了带上它。已经拿到鞋子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才发现忘了带尺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就对卖鞋子的人说：“我忘了带尺寸。”就返回家拿尺寸。等到他又返回集市时，集市已经散了，终于没有买到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人问：“为什么不用脚试一试鞋的大小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?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回答说：“我宁可相信尺码，也不相信自己的脚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8748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合作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484000" y="1341360"/>
            <a:ext cx="4319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找出文中能反映郑人思想性格的语句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就寓言的内容来看，你认为郑人是一个什么样的人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郑人买履的故事蕴含着一个什么道理？有什么现实意义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438280" y="609480"/>
            <a:ext cx="4496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三读课文，分析人物形象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276720" y="685800"/>
            <a:ext cx="5029200" cy="4114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04920" y="2057400"/>
            <a:ext cx="2895480" cy="1295280"/>
          </a:xfrm>
          <a:prstGeom prst="wedgeRectCallout">
            <a:avLst>
              <a:gd name="adj1" fmla="val 125439"/>
              <a:gd name="adj2" fmla="val 7267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曰：“宁信度，无自信也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502920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固执，迂腐，愚蠢，可笑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68580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寓意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讽刺那些做事不注意从实际出发，墨守成规，因循守旧的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现实意义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在处理实际问题时，不能盲目照搬照抄现成的东西，而要注意一切从实际出发，以免出现不应该的失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找出句中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通假字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，并加以解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360" y="2437920"/>
            <a:ext cx="83818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置之其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反归取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2514600"/>
            <a:ext cx="533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（坐通“座”，座位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09880" y="335268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（反通“返”，返回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0"/>
            <a:ext cx="182880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反馈交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762120" y="1447920"/>
            <a:ext cx="76197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坐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同“座”，座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一种古文通假现象。在战国末期，还没有表示“座位”这个意思的“座”字，就借用同音字“坐”来代 替，直至后来有了“座”字为止。这就叫通假（借）现象。其中，“坐”就叫做“座”的通假字，“座”为本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注意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通假字要读本字的音，解释为本字的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380880"/>
            <a:ext cx="814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小提示：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隶书"/>
              </a:rPr>
              <a:t>认识通假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previousslide"/>
          </p:cNvPr>
          <p:cNvSpPr/>
          <p:nvPr/>
        </p:nvSpPr>
        <p:spPr>
          <a:xfrm>
            <a:off x="7848720" y="5791320"/>
            <a:ext cx="662040" cy="73800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000"/>
              <a:gd name="textAreaBottom" fmla="*/ 695160 h 738000"/>
            </a:gdLst>
            <a:ahLst/>
            <a:rect l="textAreaLeft" t="textAreaTop" r="textAreaRight" b="textAreaBottom"/>
            <a:pathLst>
              <a:path w="21600" h="24077">
                <a:moveTo>
                  <a:pt x="0" y="0"/>
                </a:moveTo>
                <a:lnTo>
                  <a:pt x="21600" y="0"/>
                </a:lnTo>
                <a:lnTo>
                  <a:pt x="21600" y="24077"/>
                </a:lnTo>
                <a:lnTo>
                  <a:pt x="0" y="24077"/>
                </a:lnTo>
                <a:close/>
              </a:path>
              <a:path fill="lightenLess" w="21600" h="240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77">
                <a:moveTo>
                  <a:pt x="21600" y="0"/>
                </a:moveTo>
                <a:lnTo>
                  <a:pt x="21600" y="24077"/>
                </a:lnTo>
                <a:lnTo>
                  <a:pt x="20200" y="22677"/>
                </a:lnTo>
                <a:lnTo>
                  <a:pt x="20200" y="1400"/>
                </a:lnTo>
                <a:close/>
              </a:path>
              <a:path fill="darkenLess" w="21600" h="24077">
                <a:moveTo>
                  <a:pt x="21600" y="24077"/>
                </a:moveTo>
                <a:lnTo>
                  <a:pt x="0" y="24077"/>
                </a:lnTo>
                <a:lnTo>
                  <a:pt x="1400" y="22677"/>
                </a:lnTo>
                <a:lnTo>
                  <a:pt x="20200" y="22677"/>
                </a:lnTo>
                <a:close/>
              </a:path>
              <a:path fill="lighten" w="21600" h="24077">
                <a:moveTo>
                  <a:pt x="0" y="240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77"/>
                </a:lnTo>
                <a:close/>
              </a:path>
              <a:path fill="darken" w="21600" h="24077">
                <a:moveTo>
                  <a:pt x="3794" y="12038"/>
                </a:moveTo>
                <a:lnTo>
                  <a:pt x="17806" y="5032"/>
                </a:lnTo>
                <a:lnTo>
                  <a:pt x="17806" y="1904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请指出“之”“而”在下列词语中的意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 至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而忘操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何不试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以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置之其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忘操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46760" y="220968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（代词，指量好的尺码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41320" y="16002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（动词，到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67080" y="28954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（代词，指“鞋”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0"/>
            <a:ext cx="182880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反馈交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05" name=""/>
          <p:cNvSpPr/>
          <p:nvPr/>
        </p:nvSpPr>
        <p:spPr>
          <a:xfrm>
            <a:off x="4870440" y="35812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（连词，表示承接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794120" y="42670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（连词，表示转折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791320" y="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郑人买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00800" y="9907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黑体"/>
              </a:rPr>
              <a:t>《韩非子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布 置 作 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背诵、默写《郑人买履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预习、背诵《刻舟求剑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252120" y="1523880"/>
            <a:ext cx="200916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刻舟求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80720" y="2590920"/>
            <a:ext cx="667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《吕氏春秋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838080" y="1523880"/>
            <a:ext cx="521172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学习目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积累文言词汇，掌握重点词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对照注释翻译课文，理解文意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理解寓意，并指导实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124080" y="228600"/>
            <a:ext cx="57913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吕不韦，战国末期政治家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秦庄襄王及秦王嬴政时，为丞相，封文信侯，门下有宾客三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《刻舟求剑》出自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《吕氏春秋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察今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《吕氏春秋》，也称《吕览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是吕不韦使其门客各著所闻，集论成书。书写成后，“布咸阳市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悬千金其上，延诸侯游士宾客能增损一字者，予千金”。所以后人用“一字千金”来形容文辞高妙，不可更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828800"/>
            <a:ext cx="2895480" cy="40384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0" y="228600"/>
            <a:ext cx="2133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检查预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14400" y="3733920"/>
            <a:ext cx="715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涉   遽   契   矣   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91800" y="297180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16400" y="2971800"/>
            <a:ext cx="4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j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11320" y="29718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q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39440" y="2895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y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478200" y="29718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ru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228600"/>
            <a:ext cx="2133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检查预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514600" y="1295280"/>
            <a:ext cx="4343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你能读准吗？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762120" y="533520"/>
            <a:ext cx="3429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初读课文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2133720"/>
            <a:ext cx="83059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要求：读准字音，读出节奏和感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分钟后期待你带给大家的精彩朗读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57800" y="4495680"/>
            <a:ext cx="304812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9144000" cy="63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刻舟求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楚人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涉江者，其剑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舟中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于水。遽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契其舟，曰：“是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吾剑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所从坠。”舟止，从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其所契者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入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求之。舟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已行矣，而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剑不行。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剑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若此，不亦惑乎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295280" y="1447920"/>
            <a:ext cx="4953240" cy="42717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858000" y="19051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是吾剑之所从坠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315200" y="3962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3962520"/>
            <a:ext cx="293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楚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不慌不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十分自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629400" y="1828800"/>
            <a:ext cx="2286000" cy="1219320"/>
          </a:xfrm>
          <a:prstGeom prst="wedgeRectCallout">
            <a:avLst>
              <a:gd name="adj1" fmla="val -160347"/>
              <a:gd name="adj2" fmla="val 1113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28240" y="2590560"/>
            <a:ext cx="8534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对照文中注解翻译全文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解决不了的问题记下来等待全班讨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480" y="228600"/>
            <a:ext cx="47246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读课文，理解文意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6" name=""/>
          <p:cNvSpPr/>
          <p:nvPr/>
        </p:nvSpPr>
        <p:spPr>
          <a:xfrm>
            <a:off x="2921040" y="1600200"/>
            <a:ext cx="30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合作探究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分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4354560" cy="3759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643280" y="981000"/>
            <a:ext cx="3241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楚人有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江者，</a:t>
            </a: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剑</a:t>
            </a: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自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舟中坠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。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遽契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舟，曰：“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吾剑</a:t>
            </a: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坠。”舟止，从其</a:t>
            </a: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所契者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入水求之。舟已行矣，而剑不行。求剑若此，不亦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惑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乎！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-304920" y="380880"/>
            <a:ext cx="579132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600" spc="-1" strike="noStrike">
                <a:solidFill>
                  <a:srgbClr val="0000ff"/>
                </a:solidFill>
                <a:latin typeface="隶书"/>
                <a:ea typeface="隶书"/>
              </a:rPr>
              <a:t>刻舟求剑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488360" y="549360"/>
            <a:ext cx="969840" cy="517320"/>
          </a:xfrm>
          <a:prstGeom prst="wedgeRectCallout">
            <a:avLst>
              <a:gd name="adj1" fmla="val -99425"/>
              <a:gd name="adj2" fmla="val 8190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渡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00400" y="1905120"/>
            <a:ext cx="1405080" cy="504720"/>
          </a:xfrm>
          <a:prstGeom prst="wedgeRectCallout">
            <a:avLst>
              <a:gd name="adj1" fmla="val 188870"/>
              <a:gd name="adj2" fmla="val 13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jù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立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15000" y="380880"/>
            <a:ext cx="685800" cy="457200"/>
          </a:xfrm>
          <a:prstGeom prst="wedgeRectCallout">
            <a:avLst>
              <a:gd name="adj1" fmla="val 58333"/>
              <a:gd name="adj2" fmla="val 21458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6095880"/>
            <a:ext cx="1405080" cy="457200"/>
          </a:xfrm>
          <a:prstGeom prst="wedgeRectCallout">
            <a:avLst>
              <a:gd name="adj1" fmla="val -29773"/>
              <a:gd name="adj2" fmla="val -1079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糊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96080" y="1219320"/>
            <a:ext cx="1176480" cy="380880"/>
          </a:xfrm>
          <a:prstGeom prst="wedgeRectCallout">
            <a:avLst>
              <a:gd name="adj1" fmla="val -114777"/>
              <a:gd name="adj2" fmla="val 20708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qì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雕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077320" y="1828800"/>
            <a:ext cx="685800" cy="380880"/>
          </a:xfrm>
          <a:prstGeom prst="wedgeRectCallout">
            <a:avLst>
              <a:gd name="adj1" fmla="val -150925"/>
              <a:gd name="adj2" fmla="val 558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495680" y="1066680"/>
            <a:ext cx="1024200" cy="457200"/>
          </a:xfrm>
          <a:prstGeom prst="wedgeRectCallout">
            <a:avLst>
              <a:gd name="adj1" fmla="val 65037"/>
              <a:gd name="adj2" fmla="val 10208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他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924680" y="2438280"/>
            <a:ext cx="1067040" cy="457200"/>
          </a:xfrm>
          <a:prstGeom prst="wedgeRectCallout">
            <a:avLst>
              <a:gd name="adj1" fmla="val -154763"/>
              <a:gd name="adj2" fmla="val 3194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这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514600" y="2514600"/>
            <a:ext cx="1938240" cy="504720"/>
          </a:xfrm>
          <a:prstGeom prst="wedgeRectCallout">
            <a:avLst>
              <a:gd name="adj1" fmla="val 66870"/>
              <a:gd name="adj2" fmla="val 600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助词，不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077320" y="3429000"/>
            <a:ext cx="838080" cy="1600200"/>
          </a:xfrm>
          <a:prstGeom prst="wedgeRectCallout">
            <a:avLst>
              <a:gd name="adj1" fmla="val -108523"/>
              <a:gd name="adj2" fmla="val -310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雕刻记号的地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00400" y="152280"/>
            <a:ext cx="609480" cy="457200"/>
          </a:xfrm>
          <a:prstGeom prst="wedgeRectCallout">
            <a:avLst>
              <a:gd name="adj1" fmla="val 301041"/>
              <a:gd name="adj2" fmla="val 3902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寓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寓言是一种历史悠久的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新魏"/>
              </a:rPr>
              <a:t>文学体裁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它通常是通过短小精悍而又富于风趣的动物故事或人物故事，采用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新魏"/>
              </a:rPr>
              <a:t>象征、拟人、夸张、讽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等表现手法或修辞手法寄寓一种思想、哲理或经验教训，给人以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新魏"/>
              </a:rPr>
              <a:t>劝诫作用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简言之：通过短小的故事，表达深刻的道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新魏"/>
              </a:rPr>
              <a:t>如：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华文新魏"/>
              </a:rPr>
              <a:t>自相矛盾，守株待兔，亡羊补牢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914400" y="2057400"/>
            <a:ext cx="7416720" cy="34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剑自舟中坠于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遽契其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吾剑之所从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其所契者入水求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剑若此，不亦惑乎！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15228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zh-CN" sz="4600" spc="-1" strike="noStrike">
                <a:solidFill>
                  <a:srgbClr val="000099"/>
                </a:solidFill>
                <a:latin typeface="黑体"/>
                <a:ea typeface="黑体"/>
              </a:rPr>
              <a:t>请用现代汉语解释下列句子。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个楚国人渡江，他的剑从船中掉到水里，急忙在船边上刻下记号，说：“这儿是我的剑掉下去的地方。”船停了，从他刻记号的地方下水找剑。船已经前进了，但是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落在江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会随船前进，像这样找剑，不是很糊涂吗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266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课文翻译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90720" y="266688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船靠岸以后，楚人没捞到剑可能会想些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文中哪句话表达了作者对这件事的看法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3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如果你是和他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一起坐船过江的人看到整个情景想对楚人说些什么？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708560" y="16765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合作探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514600" y="838080"/>
            <a:ext cx="5029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三读课文  讨论问题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33520" y="1371600"/>
            <a:ext cx="8229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懂得随着形势的变化而变更自己的观念和方法，就不会获得预期的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现实意义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界上的事物，总是在不断地发展变化，人们想问题、办事情，都应当考虑到这种变化，适合于这种变化的需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81120" y="380880"/>
            <a:ext cx="158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寓意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07732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小组讨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175840" y="2590920"/>
            <a:ext cx="487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这两则寓意有什么共同的寓意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揭示寓意的方法上有何不同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152280" y="38088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共同的寓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讽刺了那些因循守旧、固执己见，不知变通，不懂得根据客观实际采取灵活对策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写法评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郑人买履》通过人物对话，使故事的讽刺效果大大增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刻舟求剑》通过对比、反问揭示其错误实质。结尾“舟行”与“剑止”对比，指出“求剑若此”不仅找不到剑，而且太糊涂了，对比议论发人深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作  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熟背并默写《刻舟求剑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完成课后练习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预习并背诵《古诗词三首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学习目标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熟读并背诵这两则寓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积累文言词汇，能准确翻译全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分析人物形象，理解寓意，并用  来指导现实生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34048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韩非：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战国末年著名的哲学家，法家的主要代表人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，出身于韩国贵族家庭。在政治上主张变法图强，积极向韩国君主献计献策，却不被采用，于是他转而埋头著述之中。他的作品传到秦国后，受到了秦王的高度重视。继而受到秦王的重用。他的著作后人称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《韩非子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。本篇出自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《韩非子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.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外储说左上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8120" y="685800"/>
            <a:ext cx="3124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作者简介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0" y="228600"/>
            <a:ext cx="2133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检查预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80880" y="2057400"/>
            <a:ext cx="7925040" cy="36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履          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先自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其足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吾忘持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度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信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2286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9810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l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uì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u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30360" y="3929040"/>
            <a:ext cx="441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ù            nìng     d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0"/>
            <a:ext cx="2133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检查预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14600" y="762120"/>
            <a:ext cx="4343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你能读准吗？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762120" y="533520"/>
            <a:ext cx="4190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初读课文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2133720"/>
            <a:ext cx="76201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要求：读准字音，读出节奏和感情，注意人物的语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分钟后期待你带给大家的精彩朗读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7010280" y="4773600"/>
            <a:ext cx="213372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4920" y="914400"/>
            <a:ext cx="883908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郑人买</a:t>
            </a:r>
            <a:r>
              <a:rPr b="1" i="1" lang="zh-CN" sz="3600" spc="-1" strike="noStrike">
                <a:solidFill>
                  <a:srgbClr val="ff3300"/>
                </a:solidFill>
                <a:latin typeface="Arial"/>
              </a:rPr>
              <a:t>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郑人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有欲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买履者，先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自</a:t>
            </a:r>
            <a:r>
              <a:rPr b="1" i="1" lang="zh-CN" sz="3600" spc="-1" strike="noStrike">
                <a:solidFill>
                  <a:srgbClr val="ff3300"/>
                </a:solidFill>
                <a:latin typeface="Arial"/>
              </a:rPr>
              <a:t>度</a:t>
            </a:r>
            <a:r>
              <a:rPr b="1" i="1" lang="zh-CN" sz="36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其足，而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置之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其坐。至之市，而忘操之。已得履，乃曰：“吾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忘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持</a:t>
            </a:r>
            <a:r>
              <a:rPr b="1" i="1" lang="zh-CN" sz="3600" spc="-1" strike="noStrike">
                <a:solidFill>
                  <a:srgbClr val="ff3300"/>
                </a:solidFill>
                <a:latin typeface="Arial"/>
              </a:rPr>
              <a:t>度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。”反归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取之。及反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市罢，</a:t>
            </a:r>
            <a:r>
              <a:rPr b="1" i="1" lang="zh-CN" sz="3600" spc="-1" strike="noStrike">
                <a:solidFill>
                  <a:srgbClr val="ff3300"/>
                </a:solidFill>
                <a:latin typeface="Arial"/>
              </a:rPr>
              <a:t>遂</a:t>
            </a:r>
            <a:r>
              <a:rPr b="1" i="1" lang="zh-CN" sz="36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不得履。人曰：“何不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试之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以足？”曰：“</a:t>
            </a:r>
            <a:r>
              <a:rPr b="1" i="1" lang="zh-CN" sz="3600" spc="-1" strike="noStrike">
                <a:solidFill>
                  <a:srgbClr val="ff3300"/>
                </a:solidFill>
                <a:latin typeface="Arial"/>
              </a:rPr>
              <a:t>宁</a:t>
            </a:r>
            <a:r>
              <a:rPr b="1" i="1" lang="zh-CN" sz="36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信度，无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自信也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</a:rPr>
              <a:t>小帮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隶书"/>
              </a:rPr>
              <a:t>有感情、有节奏地朗读全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762480" y="1981080"/>
            <a:ext cx="8915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要读出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郑人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忘持度的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懊恼之情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和回答别人时的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执迷不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神气，另外还要表现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别人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问话时的应表现出的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疑惑之情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9-17T23:10:55Z</dcterms:modified>
  <cp:revision>1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